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0E87-A9A6-435D-A279-D081CDBC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7110-52DA-4B8F-B125-A624CE1B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4197-FF77-4BC4-9EF2-8067E210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E46B-767F-4947-B3CC-7FA61E01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5D12-247C-4B23-9F1F-F7B1B8EE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E98C-70A0-4BB6-9359-C12ED100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0F63-3222-41FC-AC04-35698768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AFE8-C6F5-4C54-8DA5-FFC99361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2237-4023-405C-9CC1-F7E59692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C7A3-A100-4A22-9843-A5739CE9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6CD1-F62A-4618-82D2-4B6B8F05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2DD3-41FA-4E94-BB55-897CDA47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A4BF-E1EC-41D9-A947-4367F1E9292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7FAB-0738-4E47-861E-ED669B27CBA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slide-1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slide-10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slide-11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slide-12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slide-13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slide-14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slide-15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slide-16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slide-17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slide-18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slide-19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slide-2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" descr="slide-20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slide-21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slide-22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" descr="slide-23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slide-24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" descr="slide-25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" descr="slide-26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" descr="slide-27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" descr="slide-28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" descr="slide-29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slide-3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" descr="slide-30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slide-31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" descr="slide-32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" descr="slide-33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slide-4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slide-5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slide-6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slide-7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slide-8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slide-9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0T16:10:00Z</dcterms:created>
  <dc:creator>陈魁</dc:creator>
  <dc:description/>
  <dc:language>en-US</dc:language>
  <cp:lastModifiedBy>for_yang@qq.com</cp:lastModifiedBy>
  <dcterms:modified xsi:type="dcterms:W3CDTF">2014-07-19T08:04:59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