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539-C209-4890-A532-FCBBADA7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BA9-6766-4CFF-8D19-B7A950C0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74A-8371-4574-B1F5-224E6545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84C-5E77-43EF-82FE-BFEB8DB8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584-1265-4F23-AD93-4E0B6FC0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670-DE63-4BEC-A3AF-E2AF6FE0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3E3-93B0-4E51-BAA5-A2B04BA6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4B5-A598-4A4E-8510-FA90CE63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9E7-59FF-43DE-AA67-121AD0AD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2EC-F409-428B-AE33-7BDBFA79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2D4-F0EC-4DE5-B853-B1B36733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E4F-C948-490E-B023-5C96E419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0EDF-06EF-4D9E-8D49-D9477E612E2D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D4FF-A390-4CE5-B743-58FCBED5CA6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488160"/>
            <a:chOff x="2916360" y="1522440"/>
            <a:chExt cx="1206360" cy="48816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77948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清风素材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" name="[][好歌推荐]首首令你惊艳的极品音乐精选_自定义转码_纯音频输出.WMA" descr=""/>
          <p:cNvPicPr/>
          <p:nvPr/>
        </p:nvPicPr>
        <p:blipFill>
          <a:blip r:embed="rId1"/>
          <a:stretch/>
        </p:blipFill>
        <p:spPr>
          <a:xfrm>
            <a:off x="-584280" y="1359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4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5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5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8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1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4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6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2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2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5" dur="21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250" autoRev="1" fill="hold"/>
                                        <p:tgtEl>
                                          <p:spTgt spid="4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250" autoRev="1" fill="hold"/>
                                        <p:tgtEl>
                                          <p:spTgt spid="4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7" dur="25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8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9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3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7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8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80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2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3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4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8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1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9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0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6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2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2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72" dur="21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5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0" dur="250" autoRev="1" fill="hold"/>
                                        <p:tgtEl>
                                          <p:spTgt spid="5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9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4" dur="250" autoRev="1" fill="hold"/>
                                        <p:tgtEl>
                                          <p:spTgt spid="5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8" dur="250" autoRev="1" fill="hold"/>
                                        <p:tgtEl>
                                          <p:spTgt spid="5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1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2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7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8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0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6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9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1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2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0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5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0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0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2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8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8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1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4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7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2" dur="21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8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9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3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7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0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1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0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0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3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4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7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8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0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7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2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nodeType="clickEffect" fill="hold">
                      <p:stCondLst>
                        <p:cond delay="0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1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1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1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1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7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8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9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00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2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3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4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7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9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20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3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6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7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9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30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3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7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9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40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3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6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0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6" dur="250" autoRev="1" fill="hold"/>
                                        <p:tgtEl>
                                          <p:spTgt spid="9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0" dur="250" autoRev="1" fill="hold"/>
                                        <p:tgtEl>
                                          <p:spTgt spid="9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4" dur="250" autoRev="1" fill="hold"/>
                                        <p:tgtEl>
                                          <p:spTgt spid="9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8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9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8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9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1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2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4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5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7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8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0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6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6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2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2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5" dur="21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8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9" dur="250" autoRev="1" fill="hold"/>
                                        <p:tgtEl>
                                          <p:spTgt spid="9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3" dur="250" autoRev="1" fill="hold"/>
                                        <p:tgtEl>
                                          <p:spTgt spid="9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7" dur="250" autoRev="1" fill="hold"/>
                                        <p:tgtEl>
                                          <p:spTgt spid="9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1" dur="250" autoRev="1" fill="hold"/>
                                        <p:tgtEl>
                                          <p:spTgt spid="9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2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1000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0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4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5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6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9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2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5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6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8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0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4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5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7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8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0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1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4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6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7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9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2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3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5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6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8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9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1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nodeType="clickEffect" fill="hold">
                      <p:stCondLst>
                        <p:cond delay="0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7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8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9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00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3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4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6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7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8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0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1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3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4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5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6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8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9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40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1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4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5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8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9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50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3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4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7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nodeType="clickEffect" fill="hold">
                      <p:stCondLst>
                        <p:cond delay="0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1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3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4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5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7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8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9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2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3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6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nodeType="clickEffect" fill="hold">
                      <p:stCondLst>
                        <p:cond delay="0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2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3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9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10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6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7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8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5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6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3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9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30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2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3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5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6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8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nodeType="clickEffect" fill="hold">
                      <p:stCondLst>
                        <p:cond delay="0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3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nodeType="clickEffect" fill="hold">
                      <p:stCondLst>
                        <p:cond delay="0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4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8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3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4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6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7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8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9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2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3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6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7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0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1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4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nodeType="clickEffect" fill="hold">
                      <p:stCondLst>
                        <p:cond delay="0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8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9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凡商务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1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2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3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nodeType="clickEffect" fill="hold">
                      <p:stCondLst>
                        <p:cond delay="0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6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6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8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801" dur="2100" fill="hold"/>
                                        <p:tgtEl>
                                          <p:spTgt spid="1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4" dur="18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8" dur="12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7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9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9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8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9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4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60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1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5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6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9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2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3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6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1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0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1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4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7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30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4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dc:language>en-US</dc:language>
  <cp:lastModifiedBy>admin</cp:lastModifiedBy>
  <dcterms:modified xsi:type="dcterms:W3CDTF">2016-05-09T00:43:50Z</dcterms:modified>
  <cp:revision>8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