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608-F906-4E0E-A0B4-08345334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1C1-86E0-46DF-827B-DDF2A18F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1B8-595C-4115-AF0D-3E4CC181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259-C577-4A99-ADF1-ED6C7CF8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AAE-A3B8-4CD0-AB30-0B5EF80B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3FC-15D1-4DE9-AE59-4E16A299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EB7-F216-42AA-9DD6-E756F80D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C4F-A945-4FFF-9787-2E89D18F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37A-27B9-4DF8-B18A-920E71F6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0DF-2071-4EC0-B666-5186F8D5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EE6-C094-4901-89E3-408383A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3990-9D31-4A32-A70B-B56575C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7E85-9175-4E6B-8F70-421907BD08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0163-A002-49E6-B5D2-8313CF43BA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960560" y="209376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762280" y="320184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59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68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7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7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85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29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93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0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0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0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1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1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1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2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2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328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3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4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4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4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354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6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7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7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8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385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39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39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0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0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0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1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5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8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8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49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0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0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1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2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9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52"/>
          <p:cNvSpPr/>
          <p:nvPr/>
        </p:nvSpPr>
        <p:spPr>
          <a:xfrm>
            <a:off x="-382680" y="4489560"/>
            <a:ext cx="696924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6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6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7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43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5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6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6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71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6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6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80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8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59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0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4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5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5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5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663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6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8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9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9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9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0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0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0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11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29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5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6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6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90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4"/>
          <p:cNvSpPr/>
          <p:nvPr/>
        </p:nvSpPr>
        <p:spPr>
          <a:xfrm rot="5400000">
            <a:off x="3357720" y="-1957320"/>
            <a:ext cx="5448240" cy="121824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1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21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2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2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3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3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4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4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48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</cp:lastModifiedBy>
  <dcterms:modified xsi:type="dcterms:W3CDTF">2017-05-29T10:31:44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