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0.png" ContentType="image/png"/>
  <Override PartName="/ppt/media/image8.jpeg" ContentType="image/jpeg"/>
  <Override PartName="/ppt/media/image5.png" ContentType="image/png"/>
  <Override PartName="/ppt/media/image2.jpeg" ContentType="image/jpeg"/>
  <Override PartName="/ppt/media/image3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6147-AB93-48FF-A4F9-5623F0583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C6F5-1EB2-4451-9E2E-83026B77C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C12CEE-58DC-4BB3-B4BE-D587A7EC0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BF4E3E-F6A7-4C94-B657-B2EA7A9CD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84CB33-1C0C-4694-943C-BB1DC9314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442C38-323F-4343-A73B-A37705969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5A506F-FB81-4644-83B9-4E4ADE0E6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6A211B-1766-42DB-B685-178D2D909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F79385-FA56-41ED-8DC1-A6354455D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FF728A-8030-4C93-A423-B2ADFFB93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0B98D6-35E0-45C4-8AB1-9157809BC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DEF11E-5B83-4E3F-80BA-5B9F6F22B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EAFE-28EC-435A-884F-E7D82E8C5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FE3C42-E3FC-4E0B-BBFF-235516B21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60C154-BCDB-4E33-A779-6A148C270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8C94ED-E45C-447A-B00A-982B53C5C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868A2F-F93B-4355-ACDD-8B843B446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2D7A8D-5D14-4908-8F4A-290837F1F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68BCD8-FB2B-4639-931C-830924845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6C5579-72AA-4F17-A822-E261A3BD2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B149C7-0B23-4B1A-80C9-96070220D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264918-FC79-4BE6-8236-0071709B7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3B3669-070D-4AA0-BE23-5B367D985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EE81-AE7F-4C79-9B03-9A404F774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64B248-F73B-44CC-AFED-70D9E92C6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FE0093-4405-4488-A246-83F0353D1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F6A9BC-62D1-454C-B2D7-179889AEC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7A6EDA-5D98-4CFC-B904-79CA78C9B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13F0A6-5EA6-49B9-8C2B-700337400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4284D9-F1CB-40E3-9C78-5E8C6AEC0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B2E06D-B41A-4C90-B966-C67231A82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8FCE07-2262-40CC-AEAE-4313A494B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8DA2CB-CF69-4CE9-BA84-5C0F6A57C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6D691E-7F91-460C-B13C-32D7C7847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B5487-BA48-426E-9AFD-BF858483F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A9EE9B-84CC-4580-B762-7CF390959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115CE8-2690-47D5-BD9F-4D3E2F5F4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1C43CD-7C4F-40F3-8116-F09073C9F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0DAFD2-EBE6-4514-A45D-946468768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ED20C2-953F-4C34-BEED-D56AC2026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417CA6-E116-44CD-B025-933DD40AE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B8A729-1670-4934-A760-E92CBFE34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F72AFE-38B9-4546-A539-3AAF9A507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197955-63E5-4FB8-B721-4B7EB9C88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70210D-B637-462C-82FA-257452FF2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764B1-DF1C-4E84-9B92-BE65E606B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981195-51E9-41EE-B010-45D5F5ECD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9BAC09-EF10-4929-8478-CA0CCC8D7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D955C7-C0EB-4703-B3E9-1CA468736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05494B-791D-486B-AB1B-41BBB99FC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32AD3B-CE6E-4D71-B162-7FDE98389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6A8106-7D57-49C9-9C98-32CD96DC2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24F68F-3267-47DC-81F2-B7FD5DB58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32CCDE-0152-41F3-9EFD-D1FD309EA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4CFA9C-E49C-46F6-98A8-4A6055BB0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CC0545-5947-486B-8B5A-39FEF38F7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85CCD-A9FA-453D-BA43-DC0443CAD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B6A3D9-2566-4A37-9CC2-E3C35EFF5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BBBE46-33D3-49A0-A011-605A8B0DA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E16BC8-D324-4287-9495-FB3998791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2AEA4E-8C6D-4A02-BF10-0B48BB146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54969B-097B-4903-81D1-48E37DD5B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C16800-1452-4812-BCBA-D8EE3D85C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4AE341-D76B-436C-900F-B939963BA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3CB44-E19E-45F3-BB58-F6D1129EC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401E0-F6B2-4D11-9B85-3C83AF7BE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9C6C3-03D4-4B36-8C0F-A417CD7BE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60B01-131B-4A18-8319-75783BB4E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D2B3-EE60-4865-8C5C-6D7166533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9AD06-7E75-4292-B336-E3C7B2C9A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6E44D-36C6-447C-B613-D02F3737F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44172-8851-4ED1-94E5-713EB0A7E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D79FD-2E97-4DCE-8143-F96381371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46132-4C69-4962-B2D2-18210A004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D39F74-E61E-40C8-807F-F75F3AE47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A3EFC2-91F1-4BB4-AF49-1A517AA36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47EEB3-A7BC-4622-A32E-2B57EF5A9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C0F957-F419-40BA-A705-3EBC41B50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8FAE65-6114-445A-90D4-0C479CCE9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AB2F-190E-4BBB-A57B-8FE072FC7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E7B991-308D-4756-A84A-397735A23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C51117-75B3-4FCB-B89E-D353C311A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C80BDA-1860-4167-B668-875C682DF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B30001-30A5-4264-9928-34E50533B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95AC05-A1F1-4FC7-A706-FEC4DA657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AF1919-557B-410E-AD0F-0F7704F3E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7A41BF-D752-4C0B-9524-3665DC09D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F4D8AB-DF6F-492C-A0F0-AB0ADDD45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7D0A13-3121-4177-BC8F-A16D43948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42F126-5218-4D44-8161-672A931A3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9AD9-430E-4459-9092-20ED31492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6A6108-7E7E-4208-B258-FABE48D36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20E9B1-1EDB-4C1B-9290-DF0F6E18B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3F2CAC-46D8-42D3-9E5E-778478282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4865A5-B0BD-45D7-965C-9C47B831E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41B0A0-F8DB-4507-8553-C3A2B4041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57AE95-677C-41C2-B0E6-5CF785B60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02D11E-6FB7-4369-8FC4-4F95EE7AF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E1140F-92AD-48A4-B7E9-0AE4F997C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3D377A-BDD3-4365-854E-EB4720F19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CBC0F3-3267-4B08-B55D-104D69664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8624-1543-4B01-97C1-9C90CDF0B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D7F6FB-8C76-49F2-8878-86CEB930A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EDDB87-BC8B-4007-9FFB-B370D2943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41A36C-D402-41B7-B8EF-52E6A3D60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0FD446-8F3F-404E-80F9-363B60358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AB9201-0B4B-464A-847D-A84A9F00F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879E28-5B6F-4C0A-9000-5DBE4DF0A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B86118-54AE-4E0C-A32C-DF8889C02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2C32CC-069E-411B-B4C2-ED7C71344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515D12-B1C8-4DEF-A779-7598BC676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15135F-3B52-4CBC-BD32-25ED32F4D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5453-C1A1-470B-8DD2-10E836866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FA3917-8C54-4810-8FA6-D9C19376F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45793F-1EDE-4E28-A983-FFABBD3A2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652F62-69D2-4F3A-9978-4DA8F0A4A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00FF38-C318-4816-B558-4175CDF36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909929-8FD8-42C8-B3FE-B0D7500AA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14E59D-8EDE-4268-B0AF-A23746341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42AA5C-869C-4BCF-B471-904A822EA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B63684-D7B7-4077-8516-94319622A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D70162-2DE1-495C-AD84-7DE1F50E9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D1A9AB-58E8-4537-AA52-E176B3F7F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3A14-BFB5-4501-91CB-151FDD712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9CE3C9-7FCD-4A25-BB01-D31B40E6E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4C3F3C-B8AA-4A8D-B555-35B9388BF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E2B1C2-6819-4B4C-A52C-9D40E07C6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D509F2-8CB4-44F3-B411-45F2234D6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09ACDD-766E-4B76-90C3-6517DAD28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CFEEC8-B9D9-4C62-B029-A1E0C7FCB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3F66BA-D37E-4BF9-BC01-092A9C8B5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D24411-75F1-4A5E-83C9-DA6BAA72A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3D34B3-6F8B-41E0-942B-29CB1E7C1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80FF6D-08BF-4AF3-8B2C-F6260F1B9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2AF3-8DBF-43E3-B713-D9B3DE40C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AD8817-6193-4345-9D47-FD4D8B854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28C98C-144D-4A97-BFC2-83881517A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61D97C-44CB-4EAA-A73E-63EDD8777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E9CF67-1831-4241-91AB-A67855077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9FFD48-19CC-4A93-8393-DFFBF5C2E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6B952B-FDAC-47F2-A89B-C7075C319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9E0AC7-4BC8-4D50-BAEA-CED7E9ECA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10F3D4-EC0A-42FD-AC1A-BFD819FE1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6AD948-99B6-4AD2-998D-9F260FDAD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C38969-5A33-4A29-8A70-32427C2C6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BB30-B04D-45B5-BFA6-84FB1F815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CB28C3-65AC-4F51-B49C-F086C5EC0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7B9FC4-413E-42F6-8FF5-337378C08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312FDD-2B02-42D2-9463-63BD3B0F3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6B220C-4667-443B-9985-A9C53CE95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4D60CB-68E7-4BEA-8D86-D083D2690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E4E552-8B0B-4DE2-BF1F-557FBD33E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2689E0-1857-4277-AAD3-A3B806865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D4356C-A884-4245-98B6-E3E4BCC7E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F99616-1501-401C-AD25-F4F2CDACD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8A14E3-B705-492F-AAD2-F05DCBFD4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B5BC0-ADC4-4883-83A6-3BCE0576052D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AD5DE-A4AB-43E0-B813-60E46220271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5143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图片 6" descr=""/>
          <p:cNvPicPr/>
          <p:nvPr/>
        </p:nvPicPr>
        <p:blipFill>
          <a:blip r:embed="rId2"/>
          <a:stretch/>
        </p:blipFill>
        <p:spPr>
          <a:xfrm>
            <a:off x="625320" y="237960"/>
            <a:ext cx="8194680" cy="3597480"/>
          </a:xfrm>
          <a:prstGeom prst="rect">
            <a:avLst/>
          </a:prstGeom>
          <a:ln w="0">
            <a:noFill/>
          </a:ln>
        </p:spPr>
      </p:pic>
      <p:sp>
        <p:nvSpPr>
          <p:cNvPr id="435" name="直接连接符 7"/>
          <p:cNvSpPr/>
          <p:nvPr/>
        </p:nvSpPr>
        <p:spPr>
          <a:xfrm>
            <a:off x="0" y="3867120"/>
            <a:ext cx="914400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Picture 2" descr=""/>
          <p:cNvPicPr/>
          <p:nvPr/>
        </p:nvPicPr>
        <p:blipFill>
          <a:blip r:embed="rId3"/>
          <a:stretch/>
        </p:blipFill>
        <p:spPr>
          <a:xfrm>
            <a:off x="2730600" y="3998880"/>
            <a:ext cx="3773520" cy="582480"/>
          </a:xfrm>
          <a:prstGeom prst="rect">
            <a:avLst/>
          </a:prstGeom>
          <a:ln w="0">
            <a:noFill/>
          </a:ln>
        </p:spPr>
      </p:pic>
      <p:grpSp>
        <p:nvGrpSpPr>
          <p:cNvPr id="437" name="组合 9"/>
          <p:cNvGrpSpPr/>
          <p:nvPr/>
        </p:nvGrpSpPr>
        <p:grpSpPr>
          <a:xfrm>
            <a:off x="2987640" y="4562640"/>
            <a:ext cx="2952720" cy="212400"/>
            <a:chOff x="2987640" y="4562640"/>
            <a:chExt cx="2952720" cy="212400"/>
          </a:xfrm>
        </p:grpSpPr>
        <p:grpSp>
          <p:nvGrpSpPr>
            <p:cNvPr id="438" name="圆角矩形 10"/>
            <p:cNvGrpSpPr/>
            <p:nvPr/>
          </p:nvGrpSpPr>
          <p:grpSpPr>
            <a:xfrm>
              <a:off x="2987640" y="4562640"/>
              <a:ext cx="2073960" cy="212400"/>
              <a:chOff x="2987640" y="4562640"/>
              <a:chExt cx="2073960" cy="212400"/>
            </a:xfrm>
          </p:grpSpPr>
          <p:pic>
            <p:nvPicPr>
              <p:cNvPr id="439" name="圆角矩形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2987640" y="4562640"/>
                <a:ext cx="2073960" cy="212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0" name=""/>
              <p:cNvSpPr/>
              <p:nvPr/>
            </p:nvSpPr>
            <p:spPr>
              <a:xfrm>
                <a:off x="2994120" y="4570560"/>
                <a:ext cx="20624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2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教程网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1" name="矩形 11"/>
            <p:cNvSpPr/>
            <p:nvPr/>
          </p:nvSpPr>
          <p:spPr>
            <a:xfrm>
              <a:off x="5173920" y="4570560"/>
              <a:ext cx="766440" cy="200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9d9d9"/>
                </a:gs>
              </a:gsLst>
              <a:lin ang="5400000"/>
            </a:gradFill>
            <a:ln w="12600">
              <a:solidFill>
                <a:srgbClr val="a6a6a6"/>
              </a:solidFill>
              <a:miter/>
            </a:ln>
            <a:effectLst>
              <a:outerShdw dist="12600" dir="5400000" blurRad="0" rotWithShape="0">
                <a:srgbClr val="000000">
                  <a:alpha val="11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百度一下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 type="dt" idx="28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85F70-468C-4F6E-9466-C04A7CCCED63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 type="ftr" idx="29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 type="sldNum" idx="30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11F51-49B7-47DF-90D0-64B905A5BE3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图片 6" descr=""/>
          <p:cNvPicPr/>
          <p:nvPr/>
        </p:nvPicPr>
        <p:blipFill>
          <a:blip r:embed="rId2"/>
          <a:stretch/>
        </p:blipFill>
        <p:spPr>
          <a:xfrm>
            <a:off x="625320" y="237960"/>
            <a:ext cx="8194680" cy="3597480"/>
          </a:xfrm>
          <a:prstGeom prst="rect">
            <a:avLst/>
          </a:prstGeom>
          <a:ln w="0">
            <a:noFill/>
          </a:ln>
        </p:spPr>
      </p:pic>
      <p:sp>
        <p:nvSpPr>
          <p:cNvPr id="484" name="直接连接符 7"/>
          <p:cNvSpPr/>
          <p:nvPr/>
        </p:nvSpPr>
        <p:spPr>
          <a:xfrm>
            <a:off x="0" y="3867120"/>
            <a:ext cx="914400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5" name="Picture 2" descr=""/>
          <p:cNvPicPr/>
          <p:nvPr/>
        </p:nvPicPr>
        <p:blipFill>
          <a:blip r:embed="rId3"/>
          <a:stretch/>
        </p:blipFill>
        <p:spPr>
          <a:xfrm>
            <a:off x="2730600" y="3998880"/>
            <a:ext cx="3773520" cy="582480"/>
          </a:xfrm>
          <a:prstGeom prst="rect">
            <a:avLst/>
          </a:prstGeom>
          <a:ln w="0">
            <a:noFill/>
          </a:ln>
        </p:spPr>
      </p:pic>
      <p:grpSp>
        <p:nvGrpSpPr>
          <p:cNvPr id="486" name="组合 9"/>
          <p:cNvGrpSpPr/>
          <p:nvPr/>
        </p:nvGrpSpPr>
        <p:grpSpPr>
          <a:xfrm>
            <a:off x="2987640" y="4562640"/>
            <a:ext cx="2952720" cy="212400"/>
            <a:chOff x="2987640" y="4562640"/>
            <a:chExt cx="2952720" cy="212400"/>
          </a:xfrm>
        </p:grpSpPr>
        <p:grpSp>
          <p:nvGrpSpPr>
            <p:cNvPr id="487" name="圆角矩形 10"/>
            <p:cNvGrpSpPr/>
            <p:nvPr/>
          </p:nvGrpSpPr>
          <p:grpSpPr>
            <a:xfrm>
              <a:off x="2987640" y="4562640"/>
              <a:ext cx="2073960" cy="212400"/>
              <a:chOff x="2987640" y="4562640"/>
              <a:chExt cx="2073960" cy="212400"/>
            </a:xfrm>
          </p:grpSpPr>
          <p:pic>
            <p:nvPicPr>
              <p:cNvPr id="488" name="圆角矩形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2987640" y="4562640"/>
                <a:ext cx="2073960" cy="212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9" name=""/>
              <p:cNvSpPr/>
              <p:nvPr/>
            </p:nvSpPr>
            <p:spPr>
              <a:xfrm>
                <a:off x="2994120" y="4570560"/>
                <a:ext cx="20624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2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教程网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0" name="矩形 11"/>
            <p:cNvSpPr/>
            <p:nvPr/>
          </p:nvSpPr>
          <p:spPr>
            <a:xfrm>
              <a:off x="5173920" y="4570560"/>
              <a:ext cx="766440" cy="200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9d9d9"/>
                </a:gs>
              </a:gsLst>
              <a:lin ang="5400000"/>
            </a:gradFill>
            <a:ln w="12600">
              <a:solidFill>
                <a:srgbClr val="a6a6a6"/>
              </a:solidFill>
              <a:miter/>
            </a:ln>
            <a:effectLst>
              <a:outerShdw dist="12600" dir="5400000" blurRad="0" rotWithShape="0">
                <a:srgbClr val="000000">
                  <a:alpha val="11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百度一下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 type="dt" idx="3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36C5E-F445-45E7-A13E-F0C84F19C84D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 type="ftr" idx="3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 type="sldNum" idx="3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49470-5A40-48D7-8244-F4160AA7B26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图片 6" descr=""/>
          <p:cNvPicPr/>
          <p:nvPr/>
        </p:nvPicPr>
        <p:blipFill>
          <a:blip r:embed="rId2"/>
          <a:stretch/>
        </p:blipFill>
        <p:spPr>
          <a:xfrm>
            <a:off x="625320" y="237960"/>
            <a:ext cx="8194680" cy="3597480"/>
          </a:xfrm>
          <a:prstGeom prst="rect">
            <a:avLst/>
          </a:prstGeom>
          <a:ln w="0">
            <a:noFill/>
          </a:ln>
        </p:spPr>
      </p:pic>
      <p:sp>
        <p:nvSpPr>
          <p:cNvPr id="533" name="直接连接符 7"/>
          <p:cNvSpPr/>
          <p:nvPr/>
        </p:nvSpPr>
        <p:spPr>
          <a:xfrm>
            <a:off x="0" y="3867120"/>
            <a:ext cx="914400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4" name="Picture 2" descr=""/>
          <p:cNvPicPr/>
          <p:nvPr/>
        </p:nvPicPr>
        <p:blipFill>
          <a:blip r:embed="rId3"/>
          <a:stretch/>
        </p:blipFill>
        <p:spPr>
          <a:xfrm>
            <a:off x="2730600" y="3998880"/>
            <a:ext cx="3773520" cy="582480"/>
          </a:xfrm>
          <a:prstGeom prst="rect">
            <a:avLst/>
          </a:prstGeom>
          <a:ln w="0">
            <a:noFill/>
          </a:ln>
        </p:spPr>
      </p:pic>
      <p:grpSp>
        <p:nvGrpSpPr>
          <p:cNvPr id="535" name="组合 9"/>
          <p:cNvGrpSpPr/>
          <p:nvPr/>
        </p:nvGrpSpPr>
        <p:grpSpPr>
          <a:xfrm>
            <a:off x="2987640" y="4562640"/>
            <a:ext cx="2952720" cy="212400"/>
            <a:chOff x="2987640" y="4562640"/>
            <a:chExt cx="2952720" cy="212400"/>
          </a:xfrm>
        </p:grpSpPr>
        <p:grpSp>
          <p:nvGrpSpPr>
            <p:cNvPr id="536" name="圆角矩形 10"/>
            <p:cNvGrpSpPr/>
            <p:nvPr/>
          </p:nvGrpSpPr>
          <p:grpSpPr>
            <a:xfrm>
              <a:off x="2987640" y="4562640"/>
              <a:ext cx="2073960" cy="212400"/>
              <a:chOff x="2987640" y="4562640"/>
              <a:chExt cx="2073960" cy="212400"/>
            </a:xfrm>
          </p:grpSpPr>
          <p:pic>
            <p:nvPicPr>
              <p:cNvPr id="537" name="圆角矩形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2987640" y="4562640"/>
                <a:ext cx="2073960" cy="212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8" name=""/>
              <p:cNvSpPr/>
              <p:nvPr/>
            </p:nvSpPr>
            <p:spPr>
              <a:xfrm>
                <a:off x="2994120" y="4570560"/>
                <a:ext cx="20624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2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教程网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9" name="矩形 11"/>
            <p:cNvSpPr/>
            <p:nvPr/>
          </p:nvSpPr>
          <p:spPr>
            <a:xfrm>
              <a:off x="5173920" y="4570560"/>
              <a:ext cx="766440" cy="200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9d9d9"/>
                </a:gs>
              </a:gsLst>
              <a:lin ang="5400000"/>
            </a:gradFill>
            <a:ln w="12600">
              <a:solidFill>
                <a:srgbClr val="a6a6a6"/>
              </a:solidFill>
              <a:miter/>
            </a:ln>
            <a:effectLst>
              <a:outerShdw dist="12600" dir="5400000" blurRad="0" rotWithShape="0">
                <a:srgbClr val="000000">
                  <a:alpha val="11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百度一下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 type="dt" idx="3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CA02B-E4DD-4FB8-B3C1-A0DF90E540C0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 type="ftr" idx="3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 type="sldNum" idx="3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92EB9-B5F3-4797-AE3D-62E33A480FC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图片 6" descr=""/>
          <p:cNvPicPr/>
          <p:nvPr/>
        </p:nvPicPr>
        <p:blipFill>
          <a:blip r:embed="rId2"/>
          <a:stretch/>
        </p:blipFill>
        <p:spPr>
          <a:xfrm>
            <a:off x="625320" y="237960"/>
            <a:ext cx="8194680" cy="3597480"/>
          </a:xfrm>
          <a:prstGeom prst="rect">
            <a:avLst/>
          </a:prstGeom>
          <a:ln w="0">
            <a:noFill/>
          </a:ln>
        </p:spPr>
      </p:pic>
      <p:sp>
        <p:nvSpPr>
          <p:cNvPr id="582" name="直接连接符 7"/>
          <p:cNvSpPr/>
          <p:nvPr/>
        </p:nvSpPr>
        <p:spPr>
          <a:xfrm>
            <a:off x="0" y="3867120"/>
            <a:ext cx="914400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3" name="Picture 2" descr=""/>
          <p:cNvPicPr/>
          <p:nvPr/>
        </p:nvPicPr>
        <p:blipFill>
          <a:blip r:embed="rId3"/>
          <a:stretch/>
        </p:blipFill>
        <p:spPr>
          <a:xfrm>
            <a:off x="2730600" y="3998880"/>
            <a:ext cx="3773520" cy="582480"/>
          </a:xfrm>
          <a:prstGeom prst="rect">
            <a:avLst/>
          </a:prstGeom>
          <a:ln w="0">
            <a:noFill/>
          </a:ln>
        </p:spPr>
      </p:pic>
      <p:grpSp>
        <p:nvGrpSpPr>
          <p:cNvPr id="584" name="组合 9"/>
          <p:cNvGrpSpPr/>
          <p:nvPr/>
        </p:nvGrpSpPr>
        <p:grpSpPr>
          <a:xfrm>
            <a:off x="2987640" y="4562640"/>
            <a:ext cx="2952720" cy="212400"/>
            <a:chOff x="2987640" y="4562640"/>
            <a:chExt cx="2952720" cy="212400"/>
          </a:xfrm>
        </p:grpSpPr>
        <p:grpSp>
          <p:nvGrpSpPr>
            <p:cNvPr id="585" name="圆角矩形 10"/>
            <p:cNvGrpSpPr/>
            <p:nvPr/>
          </p:nvGrpSpPr>
          <p:grpSpPr>
            <a:xfrm>
              <a:off x="2987640" y="4562640"/>
              <a:ext cx="2073960" cy="212400"/>
              <a:chOff x="2987640" y="4562640"/>
              <a:chExt cx="2073960" cy="212400"/>
            </a:xfrm>
          </p:grpSpPr>
          <p:pic>
            <p:nvPicPr>
              <p:cNvPr id="586" name="圆角矩形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2987640" y="4562640"/>
                <a:ext cx="2073960" cy="212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7" name=""/>
              <p:cNvSpPr/>
              <p:nvPr/>
            </p:nvSpPr>
            <p:spPr>
              <a:xfrm>
                <a:off x="2994120" y="4570560"/>
                <a:ext cx="20624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2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教程网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8" name="矩形 11"/>
            <p:cNvSpPr/>
            <p:nvPr/>
          </p:nvSpPr>
          <p:spPr>
            <a:xfrm>
              <a:off x="5173920" y="4570560"/>
              <a:ext cx="766440" cy="200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9d9d9"/>
                </a:gs>
              </a:gsLst>
              <a:lin ang="5400000"/>
            </a:gradFill>
            <a:ln w="12600">
              <a:solidFill>
                <a:srgbClr val="a6a6a6"/>
              </a:solidFill>
              <a:miter/>
            </a:ln>
            <a:effectLst>
              <a:outerShdw dist="12600" dir="5400000" blurRad="0" rotWithShape="0">
                <a:srgbClr val="000000">
                  <a:alpha val="11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百度一下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 type="dt" idx="37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07066-F9FD-4307-84AF-81AC29AB2D41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 type="ftr" idx="38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 type="sldNum" idx="39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02B9D-E312-4608-9574-199511C4DF5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E36A1-F56B-4E8D-87EE-22FED0293A38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19B78-9E6D-4081-96ED-A30B7991EE5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图片 6" descr=""/>
          <p:cNvPicPr/>
          <p:nvPr/>
        </p:nvPicPr>
        <p:blipFill>
          <a:blip r:embed="rId2"/>
          <a:stretch/>
        </p:blipFill>
        <p:spPr>
          <a:xfrm>
            <a:off x="625320" y="237960"/>
            <a:ext cx="8194680" cy="3597480"/>
          </a:xfrm>
          <a:prstGeom prst="rect">
            <a:avLst/>
          </a:prstGeom>
          <a:ln w="0">
            <a:noFill/>
          </a:ln>
        </p:spPr>
      </p:pic>
      <p:sp>
        <p:nvSpPr>
          <p:cNvPr id="48" name="直接连接符 7"/>
          <p:cNvSpPr/>
          <p:nvPr/>
        </p:nvSpPr>
        <p:spPr>
          <a:xfrm>
            <a:off x="0" y="3867120"/>
            <a:ext cx="914400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3"/>
          <a:stretch/>
        </p:blipFill>
        <p:spPr>
          <a:xfrm>
            <a:off x="2730600" y="3998880"/>
            <a:ext cx="3773520" cy="582480"/>
          </a:xfrm>
          <a:prstGeom prst="rect">
            <a:avLst/>
          </a:prstGeom>
          <a:ln w="0">
            <a:noFill/>
          </a:ln>
        </p:spPr>
      </p:pic>
      <p:grpSp>
        <p:nvGrpSpPr>
          <p:cNvPr id="50" name="组合 9"/>
          <p:cNvGrpSpPr/>
          <p:nvPr/>
        </p:nvGrpSpPr>
        <p:grpSpPr>
          <a:xfrm>
            <a:off x="2987640" y="4562640"/>
            <a:ext cx="2952720" cy="212400"/>
            <a:chOff x="2987640" y="4562640"/>
            <a:chExt cx="2952720" cy="212400"/>
          </a:xfrm>
        </p:grpSpPr>
        <p:grpSp>
          <p:nvGrpSpPr>
            <p:cNvPr id="51" name="圆角矩形 10"/>
            <p:cNvGrpSpPr/>
            <p:nvPr/>
          </p:nvGrpSpPr>
          <p:grpSpPr>
            <a:xfrm>
              <a:off x="2987640" y="4562640"/>
              <a:ext cx="2073960" cy="212400"/>
              <a:chOff x="2987640" y="4562640"/>
              <a:chExt cx="2073960" cy="212400"/>
            </a:xfrm>
          </p:grpSpPr>
          <p:pic>
            <p:nvPicPr>
              <p:cNvPr id="52" name="圆角矩形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2987640" y="4562640"/>
                <a:ext cx="2073960" cy="212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2994120" y="4570560"/>
                <a:ext cx="20624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2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教程网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" name="矩形 11"/>
            <p:cNvSpPr/>
            <p:nvPr/>
          </p:nvSpPr>
          <p:spPr>
            <a:xfrm>
              <a:off x="5173920" y="4570560"/>
              <a:ext cx="766440" cy="200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9d9d9"/>
                </a:gs>
              </a:gsLst>
              <a:lin ang="5400000"/>
            </a:gradFill>
            <a:ln w="12600">
              <a:solidFill>
                <a:srgbClr val="a6a6a6"/>
              </a:solidFill>
              <a:miter/>
            </a:ln>
            <a:effectLst>
              <a:outerShdw dist="12600" dir="5400000" blurRad="0" rotWithShape="0">
                <a:srgbClr val="000000">
                  <a:alpha val="11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百度一下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图片 6" descr=""/>
          <p:cNvPicPr/>
          <p:nvPr/>
        </p:nvPicPr>
        <p:blipFill>
          <a:blip r:embed="rId2"/>
          <a:stretch/>
        </p:blipFill>
        <p:spPr>
          <a:xfrm>
            <a:off x="625320" y="237960"/>
            <a:ext cx="8194680" cy="3597480"/>
          </a:xfrm>
          <a:prstGeom prst="rect">
            <a:avLst/>
          </a:prstGeom>
          <a:ln w="0">
            <a:noFill/>
          </a:ln>
        </p:spPr>
      </p:pic>
      <p:sp>
        <p:nvSpPr>
          <p:cNvPr id="92" name="直接连接符 7"/>
          <p:cNvSpPr/>
          <p:nvPr/>
        </p:nvSpPr>
        <p:spPr>
          <a:xfrm>
            <a:off x="0" y="3867120"/>
            <a:ext cx="914400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3"/>
          <a:stretch/>
        </p:blipFill>
        <p:spPr>
          <a:xfrm>
            <a:off x="2730600" y="3998880"/>
            <a:ext cx="3773520" cy="582480"/>
          </a:xfrm>
          <a:prstGeom prst="rect">
            <a:avLst/>
          </a:prstGeom>
          <a:ln w="0">
            <a:noFill/>
          </a:ln>
        </p:spPr>
      </p:pic>
      <p:grpSp>
        <p:nvGrpSpPr>
          <p:cNvPr id="94" name="组合 9"/>
          <p:cNvGrpSpPr/>
          <p:nvPr/>
        </p:nvGrpSpPr>
        <p:grpSpPr>
          <a:xfrm>
            <a:off x="2987640" y="4562640"/>
            <a:ext cx="2952720" cy="212400"/>
            <a:chOff x="2987640" y="4562640"/>
            <a:chExt cx="2952720" cy="212400"/>
          </a:xfrm>
        </p:grpSpPr>
        <p:grpSp>
          <p:nvGrpSpPr>
            <p:cNvPr id="95" name="圆角矩形 10"/>
            <p:cNvGrpSpPr/>
            <p:nvPr/>
          </p:nvGrpSpPr>
          <p:grpSpPr>
            <a:xfrm>
              <a:off x="2987640" y="4562640"/>
              <a:ext cx="2073960" cy="212400"/>
              <a:chOff x="2987640" y="4562640"/>
              <a:chExt cx="2073960" cy="212400"/>
            </a:xfrm>
          </p:grpSpPr>
          <p:pic>
            <p:nvPicPr>
              <p:cNvPr id="96" name="圆角矩形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2987640" y="4562640"/>
                <a:ext cx="2073960" cy="212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" name=""/>
              <p:cNvSpPr/>
              <p:nvPr/>
            </p:nvSpPr>
            <p:spPr>
              <a:xfrm>
                <a:off x="2994120" y="4570560"/>
                <a:ext cx="20624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2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教程网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" name="矩形 11"/>
            <p:cNvSpPr/>
            <p:nvPr/>
          </p:nvSpPr>
          <p:spPr>
            <a:xfrm>
              <a:off x="5173920" y="4570560"/>
              <a:ext cx="766440" cy="200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9d9d9"/>
                </a:gs>
              </a:gsLst>
              <a:lin ang="5400000"/>
            </a:gradFill>
            <a:ln w="12600">
              <a:solidFill>
                <a:srgbClr val="a6a6a6"/>
              </a:solidFill>
              <a:miter/>
            </a:ln>
            <a:effectLst>
              <a:outerShdw dist="12600" dir="5400000" blurRad="0" rotWithShape="0">
                <a:srgbClr val="000000">
                  <a:alpha val="11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百度一下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7EF34-345F-4CFE-846D-BA3F7AF94A5F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CC8A5-8FCD-49F2-8235-7E192FE3E3C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图片 6" descr=""/>
          <p:cNvPicPr/>
          <p:nvPr/>
        </p:nvPicPr>
        <p:blipFill>
          <a:blip r:embed="rId2"/>
          <a:stretch/>
        </p:blipFill>
        <p:spPr>
          <a:xfrm>
            <a:off x="625320" y="237960"/>
            <a:ext cx="8194680" cy="3597480"/>
          </a:xfrm>
          <a:prstGeom prst="rect">
            <a:avLst/>
          </a:prstGeom>
          <a:ln w="0">
            <a:noFill/>
          </a:ln>
        </p:spPr>
      </p:pic>
      <p:sp>
        <p:nvSpPr>
          <p:cNvPr id="141" name="直接连接符 7"/>
          <p:cNvSpPr/>
          <p:nvPr/>
        </p:nvSpPr>
        <p:spPr>
          <a:xfrm>
            <a:off x="0" y="3867120"/>
            <a:ext cx="914400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2" descr=""/>
          <p:cNvPicPr/>
          <p:nvPr/>
        </p:nvPicPr>
        <p:blipFill>
          <a:blip r:embed="rId3"/>
          <a:stretch/>
        </p:blipFill>
        <p:spPr>
          <a:xfrm>
            <a:off x="2730600" y="3998880"/>
            <a:ext cx="3773520" cy="582480"/>
          </a:xfrm>
          <a:prstGeom prst="rect">
            <a:avLst/>
          </a:prstGeom>
          <a:ln w="0">
            <a:noFill/>
          </a:ln>
        </p:spPr>
      </p:pic>
      <p:grpSp>
        <p:nvGrpSpPr>
          <p:cNvPr id="143" name="组合 9"/>
          <p:cNvGrpSpPr/>
          <p:nvPr/>
        </p:nvGrpSpPr>
        <p:grpSpPr>
          <a:xfrm>
            <a:off x="2987640" y="4562640"/>
            <a:ext cx="2952720" cy="212400"/>
            <a:chOff x="2987640" y="4562640"/>
            <a:chExt cx="2952720" cy="212400"/>
          </a:xfrm>
        </p:grpSpPr>
        <p:grpSp>
          <p:nvGrpSpPr>
            <p:cNvPr id="144" name="圆角矩形 10"/>
            <p:cNvGrpSpPr/>
            <p:nvPr/>
          </p:nvGrpSpPr>
          <p:grpSpPr>
            <a:xfrm>
              <a:off x="2987640" y="4562640"/>
              <a:ext cx="2073960" cy="212400"/>
              <a:chOff x="2987640" y="4562640"/>
              <a:chExt cx="2073960" cy="212400"/>
            </a:xfrm>
          </p:grpSpPr>
          <p:pic>
            <p:nvPicPr>
              <p:cNvPr id="145" name="圆角矩形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2987640" y="4562640"/>
                <a:ext cx="2073960" cy="212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6" name=""/>
              <p:cNvSpPr/>
              <p:nvPr/>
            </p:nvSpPr>
            <p:spPr>
              <a:xfrm>
                <a:off x="2994120" y="4570560"/>
                <a:ext cx="20624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2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教程网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" name="矩形 11"/>
            <p:cNvSpPr/>
            <p:nvPr/>
          </p:nvSpPr>
          <p:spPr>
            <a:xfrm>
              <a:off x="5173920" y="4570560"/>
              <a:ext cx="766440" cy="200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9d9d9"/>
                </a:gs>
              </a:gsLst>
              <a:lin ang="5400000"/>
            </a:gradFill>
            <a:ln w="12600">
              <a:solidFill>
                <a:srgbClr val="a6a6a6"/>
              </a:solidFill>
              <a:miter/>
            </a:ln>
            <a:effectLst>
              <a:outerShdw dist="12600" dir="5400000" blurRad="0" rotWithShape="0">
                <a:srgbClr val="000000">
                  <a:alpha val="11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百度一下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dt" idx="10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3EA88-EF46-442E-9C5C-8B1A627C77E6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ftr" idx="11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sldNum" idx="12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3263A-2130-4AE1-86ED-85590EA10DE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图片 6" descr=""/>
          <p:cNvPicPr/>
          <p:nvPr/>
        </p:nvPicPr>
        <p:blipFill>
          <a:blip r:embed="rId2"/>
          <a:stretch/>
        </p:blipFill>
        <p:spPr>
          <a:xfrm>
            <a:off x="625320" y="237960"/>
            <a:ext cx="8194680" cy="3597480"/>
          </a:xfrm>
          <a:prstGeom prst="rect">
            <a:avLst/>
          </a:prstGeom>
          <a:ln w="0">
            <a:noFill/>
          </a:ln>
        </p:spPr>
      </p:pic>
      <p:sp>
        <p:nvSpPr>
          <p:cNvPr id="190" name="直接连接符 7"/>
          <p:cNvSpPr/>
          <p:nvPr/>
        </p:nvSpPr>
        <p:spPr>
          <a:xfrm>
            <a:off x="0" y="3867120"/>
            <a:ext cx="914400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3"/>
          <a:stretch/>
        </p:blipFill>
        <p:spPr>
          <a:xfrm>
            <a:off x="2730600" y="3998880"/>
            <a:ext cx="3773520" cy="582480"/>
          </a:xfrm>
          <a:prstGeom prst="rect">
            <a:avLst/>
          </a:prstGeom>
          <a:ln w="0">
            <a:noFill/>
          </a:ln>
        </p:spPr>
      </p:pic>
      <p:grpSp>
        <p:nvGrpSpPr>
          <p:cNvPr id="192" name="组合 9"/>
          <p:cNvGrpSpPr/>
          <p:nvPr/>
        </p:nvGrpSpPr>
        <p:grpSpPr>
          <a:xfrm>
            <a:off x="2987640" y="4562640"/>
            <a:ext cx="2952720" cy="212400"/>
            <a:chOff x="2987640" y="4562640"/>
            <a:chExt cx="2952720" cy="212400"/>
          </a:xfrm>
        </p:grpSpPr>
        <p:grpSp>
          <p:nvGrpSpPr>
            <p:cNvPr id="193" name="圆角矩形 10"/>
            <p:cNvGrpSpPr/>
            <p:nvPr/>
          </p:nvGrpSpPr>
          <p:grpSpPr>
            <a:xfrm>
              <a:off x="2987640" y="4562640"/>
              <a:ext cx="2073960" cy="212400"/>
              <a:chOff x="2987640" y="4562640"/>
              <a:chExt cx="2073960" cy="212400"/>
            </a:xfrm>
          </p:grpSpPr>
          <p:pic>
            <p:nvPicPr>
              <p:cNvPr id="194" name="圆角矩形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2987640" y="4562640"/>
                <a:ext cx="2073960" cy="212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5" name=""/>
              <p:cNvSpPr/>
              <p:nvPr/>
            </p:nvSpPr>
            <p:spPr>
              <a:xfrm>
                <a:off x="2994120" y="4570560"/>
                <a:ext cx="20624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2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教程网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6" name="矩形 11"/>
            <p:cNvSpPr/>
            <p:nvPr/>
          </p:nvSpPr>
          <p:spPr>
            <a:xfrm>
              <a:off x="5173920" y="4570560"/>
              <a:ext cx="766440" cy="200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9d9d9"/>
                </a:gs>
              </a:gsLst>
              <a:lin ang="5400000"/>
            </a:gradFill>
            <a:ln w="12600">
              <a:solidFill>
                <a:srgbClr val="a6a6a6"/>
              </a:solidFill>
              <a:miter/>
            </a:ln>
            <a:effectLst>
              <a:outerShdw dist="12600" dir="5400000" blurRad="0" rotWithShape="0">
                <a:srgbClr val="000000">
                  <a:alpha val="11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百度一下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13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A2512-3378-48C2-91AE-DFD927FADF77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ftr" idx="14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sldNum" idx="15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0BB1D-F709-49B8-9ABD-0BD8AF326D1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图片 6" descr=""/>
          <p:cNvPicPr/>
          <p:nvPr/>
        </p:nvPicPr>
        <p:blipFill>
          <a:blip r:embed="rId2"/>
          <a:stretch/>
        </p:blipFill>
        <p:spPr>
          <a:xfrm>
            <a:off x="625320" y="237960"/>
            <a:ext cx="8194680" cy="3597480"/>
          </a:xfrm>
          <a:prstGeom prst="rect">
            <a:avLst/>
          </a:prstGeom>
          <a:ln w="0">
            <a:noFill/>
          </a:ln>
        </p:spPr>
      </p:pic>
      <p:sp>
        <p:nvSpPr>
          <p:cNvPr id="239" name="直接连接符 7"/>
          <p:cNvSpPr/>
          <p:nvPr/>
        </p:nvSpPr>
        <p:spPr>
          <a:xfrm>
            <a:off x="0" y="3867120"/>
            <a:ext cx="914400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2" descr=""/>
          <p:cNvPicPr/>
          <p:nvPr/>
        </p:nvPicPr>
        <p:blipFill>
          <a:blip r:embed="rId3"/>
          <a:stretch/>
        </p:blipFill>
        <p:spPr>
          <a:xfrm>
            <a:off x="2730600" y="3998880"/>
            <a:ext cx="3773520" cy="582480"/>
          </a:xfrm>
          <a:prstGeom prst="rect">
            <a:avLst/>
          </a:prstGeom>
          <a:ln w="0">
            <a:noFill/>
          </a:ln>
        </p:spPr>
      </p:pic>
      <p:grpSp>
        <p:nvGrpSpPr>
          <p:cNvPr id="241" name="组合 9"/>
          <p:cNvGrpSpPr/>
          <p:nvPr/>
        </p:nvGrpSpPr>
        <p:grpSpPr>
          <a:xfrm>
            <a:off x="2987640" y="4562640"/>
            <a:ext cx="2952720" cy="212400"/>
            <a:chOff x="2987640" y="4562640"/>
            <a:chExt cx="2952720" cy="212400"/>
          </a:xfrm>
        </p:grpSpPr>
        <p:grpSp>
          <p:nvGrpSpPr>
            <p:cNvPr id="242" name="圆角矩形 10"/>
            <p:cNvGrpSpPr/>
            <p:nvPr/>
          </p:nvGrpSpPr>
          <p:grpSpPr>
            <a:xfrm>
              <a:off x="2987640" y="4562640"/>
              <a:ext cx="2073960" cy="212400"/>
              <a:chOff x="2987640" y="4562640"/>
              <a:chExt cx="2073960" cy="212400"/>
            </a:xfrm>
          </p:grpSpPr>
          <p:pic>
            <p:nvPicPr>
              <p:cNvPr id="243" name="圆角矩形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2987640" y="4562640"/>
                <a:ext cx="2073960" cy="212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4" name=""/>
              <p:cNvSpPr/>
              <p:nvPr/>
            </p:nvSpPr>
            <p:spPr>
              <a:xfrm>
                <a:off x="2994120" y="4570560"/>
                <a:ext cx="20624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2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教程网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5" name="矩形 11"/>
            <p:cNvSpPr/>
            <p:nvPr/>
          </p:nvSpPr>
          <p:spPr>
            <a:xfrm>
              <a:off x="5173920" y="4570560"/>
              <a:ext cx="766440" cy="200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9d9d9"/>
                </a:gs>
              </a:gsLst>
              <a:lin ang="5400000"/>
            </a:gradFill>
            <a:ln w="12600">
              <a:solidFill>
                <a:srgbClr val="a6a6a6"/>
              </a:solidFill>
              <a:miter/>
            </a:ln>
            <a:effectLst>
              <a:outerShdw dist="12600" dir="5400000" blurRad="0" rotWithShape="0">
                <a:srgbClr val="000000">
                  <a:alpha val="11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百度一下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1C83F-7DE1-4211-9600-20176CD5136F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EE1E9-8771-4439-931F-00ECD50EC6B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图片 6" descr=""/>
          <p:cNvPicPr/>
          <p:nvPr/>
        </p:nvPicPr>
        <p:blipFill>
          <a:blip r:embed="rId2"/>
          <a:stretch/>
        </p:blipFill>
        <p:spPr>
          <a:xfrm>
            <a:off x="625320" y="237960"/>
            <a:ext cx="8194680" cy="3597480"/>
          </a:xfrm>
          <a:prstGeom prst="rect">
            <a:avLst/>
          </a:prstGeom>
          <a:ln w="0">
            <a:noFill/>
          </a:ln>
        </p:spPr>
      </p:pic>
      <p:sp>
        <p:nvSpPr>
          <p:cNvPr id="288" name="直接连接符 7"/>
          <p:cNvSpPr/>
          <p:nvPr/>
        </p:nvSpPr>
        <p:spPr>
          <a:xfrm>
            <a:off x="0" y="3867120"/>
            <a:ext cx="914400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2" descr=""/>
          <p:cNvPicPr/>
          <p:nvPr/>
        </p:nvPicPr>
        <p:blipFill>
          <a:blip r:embed="rId3"/>
          <a:stretch/>
        </p:blipFill>
        <p:spPr>
          <a:xfrm>
            <a:off x="2730600" y="3998880"/>
            <a:ext cx="3773520" cy="582480"/>
          </a:xfrm>
          <a:prstGeom prst="rect">
            <a:avLst/>
          </a:prstGeom>
          <a:ln w="0">
            <a:noFill/>
          </a:ln>
        </p:spPr>
      </p:pic>
      <p:grpSp>
        <p:nvGrpSpPr>
          <p:cNvPr id="290" name="组合 9"/>
          <p:cNvGrpSpPr/>
          <p:nvPr/>
        </p:nvGrpSpPr>
        <p:grpSpPr>
          <a:xfrm>
            <a:off x="2987640" y="4562640"/>
            <a:ext cx="2952720" cy="212400"/>
            <a:chOff x="2987640" y="4562640"/>
            <a:chExt cx="2952720" cy="212400"/>
          </a:xfrm>
        </p:grpSpPr>
        <p:grpSp>
          <p:nvGrpSpPr>
            <p:cNvPr id="291" name="圆角矩形 10"/>
            <p:cNvGrpSpPr/>
            <p:nvPr/>
          </p:nvGrpSpPr>
          <p:grpSpPr>
            <a:xfrm>
              <a:off x="2987640" y="4562640"/>
              <a:ext cx="2073960" cy="212400"/>
              <a:chOff x="2987640" y="4562640"/>
              <a:chExt cx="2073960" cy="212400"/>
            </a:xfrm>
          </p:grpSpPr>
          <p:pic>
            <p:nvPicPr>
              <p:cNvPr id="292" name="圆角矩形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2987640" y="4562640"/>
                <a:ext cx="2073960" cy="212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3" name=""/>
              <p:cNvSpPr/>
              <p:nvPr/>
            </p:nvSpPr>
            <p:spPr>
              <a:xfrm>
                <a:off x="2994120" y="4570560"/>
                <a:ext cx="20624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2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教程网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4" name="矩形 11"/>
            <p:cNvSpPr/>
            <p:nvPr/>
          </p:nvSpPr>
          <p:spPr>
            <a:xfrm>
              <a:off x="5173920" y="4570560"/>
              <a:ext cx="766440" cy="200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9d9d9"/>
                </a:gs>
              </a:gsLst>
              <a:lin ang="5400000"/>
            </a:gradFill>
            <a:ln w="12600">
              <a:solidFill>
                <a:srgbClr val="a6a6a6"/>
              </a:solidFill>
              <a:miter/>
            </a:ln>
            <a:effectLst>
              <a:outerShdw dist="12600" dir="5400000" blurRad="0" rotWithShape="0">
                <a:srgbClr val="000000">
                  <a:alpha val="11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百度一下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9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47110-BA21-4784-8A88-427D8DAF49FA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0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1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5F28F-B722-4DFD-B6E7-C18820A9EE1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图片 6" descr=""/>
          <p:cNvPicPr/>
          <p:nvPr/>
        </p:nvPicPr>
        <p:blipFill>
          <a:blip r:embed="rId2"/>
          <a:stretch/>
        </p:blipFill>
        <p:spPr>
          <a:xfrm>
            <a:off x="625320" y="237960"/>
            <a:ext cx="8194680" cy="3597480"/>
          </a:xfrm>
          <a:prstGeom prst="rect">
            <a:avLst/>
          </a:prstGeom>
          <a:ln w="0">
            <a:noFill/>
          </a:ln>
        </p:spPr>
      </p:pic>
      <p:sp>
        <p:nvSpPr>
          <p:cNvPr id="337" name="直接连接符 7"/>
          <p:cNvSpPr/>
          <p:nvPr/>
        </p:nvSpPr>
        <p:spPr>
          <a:xfrm>
            <a:off x="0" y="3867120"/>
            <a:ext cx="914400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2" descr=""/>
          <p:cNvPicPr/>
          <p:nvPr/>
        </p:nvPicPr>
        <p:blipFill>
          <a:blip r:embed="rId3"/>
          <a:stretch/>
        </p:blipFill>
        <p:spPr>
          <a:xfrm>
            <a:off x="2730600" y="3998880"/>
            <a:ext cx="3773520" cy="582480"/>
          </a:xfrm>
          <a:prstGeom prst="rect">
            <a:avLst/>
          </a:prstGeom>
          <a:ln w="0">
            <a:noFill/>
          </a:ln>
        </p:spPr>
      </p:pic>
      <p:grpSp>
        <p:nvGrpSpPr>
          <p:cNvPr id="339" name="组合 9"/>
          <p:cNvGrpSpPr/>
          <p:nvPr/>
        </p:nvGrpSpPr>
        <p:grpSpPr>
          <a:xfrm>
            <a:off x="2987640" y="4562640"/>
            <a:ext cx="2952720" cy="212400"/>
            <a:chOff x="2987640" y="4562640"/>
            <a:chExt cx="2952720" cy="212400"/>
          </a:xfrm>
        </p:grpSpPr>
        <p:grpSp>
          <p:nvGrpSpPr>
            <p:cNvPr id="340" name="圆角矩形 10"/>
            <p:cNvGrpSpPr/>
            <p:nvPr/>
          </p:nvGrpSpPr>
          <p:grpSpPr>
            <a:xfrm>
              <a:off x="2987640" y="4562640"/>
              <a:ext cx="2073960" cy="212400"/>
              <a:chOff x="2987640" y="4562640"/>
              <a:chExt cx="2073960" cy="212400"/>
            </a:xfrm>
          </p:grpSpPr>
          <p:pic>
            <p:nvPicPr>
              <p:cNvPr id="341" name="圆角矩形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2987640" y="4562640"/>
                <a:ext cx="2073960" cy="212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2" name=""/>
              <p:cNvSpPr/>
              <p:nvPr/>
            </p:nvSpPr>
            <p:spPr>
              <a:xfrm>
                <a:off x="2994120" y="4570560"/>
                <a:ext cx="20624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2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教程网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3" name="矩形 11"/>
            <p:cNvSpPr/>
            <p:nvPr/>
          </p:nvSpPr>
          <p:spPr>
            <a:xfrm>
              <a:off x="5173920" y="4570560"/>
              <a:ext cx="766440" cy="200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9d9d9"/>
                </a:gs>
              </a:gsLst>
              <a:lin ang="5400000"/>
            </a:gradFill>
            <a:ln w="12600">
              <a:solidFill>
                <a:srgbClr val="a6a6a6"/>
              </a:solidFill>
              <a:miter/>
            </a:ln>
            <a:effectLst>
              <a:outerShdw dist="12600" dir="5400000" blurRad="0" rotWithShape="0">
                <a:srgbClr val="000000">
                  <a:alpha val="11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百度一下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dt" idx="22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74262-B267-4E07-B46A-7D1CBF4824FA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 type="ftr" idx="23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 type="sldNum" idx="24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E1679-C570-4553-B9D9-3D963034D76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图片 6" descr=""/>
          <p:cNvPicPr/>
          <p:nvPr/>
        </p:nvPicPr>
        <p:blipFill>
          <a:blip r:embed="rId2"/>
          <a:stretch/>
        </p:blipFill>
        <p:spPr>
          <a:xfrm>
            <a:off x="625320" y="237960"/>
            <a:ext cx="8194680" cy="3597480"/>
          </a:xfrm>
          <a:prstGeom prst="rect">
            <a:avLst/>
          </a:prstGeom>
          <a:ln w="0">
            <a:noFill/>
          </a:ln>
        </p:spPr>
      </p:pic>
      <p:sp>
        <p:nvSpPr>
          <p:cNvPr id="386" name="直接连接符 7"/>
          <p:cNvSpPr/>
          <p:nvPr/>
        </p:nvSpPr>
        <p:spPr>
          <a:xfrm>
            <a:off x="0" y="3867120"/>
            <a:ext cx="914400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2" descr=""/>
          <p:cNvPicPr/>
          <p:nvPr/>
        </p:nvPicPr>
        <p:blipFill>
          <a:blip r:embed="rId3"/>
          <a:stretch/>
        </p:blipFill>
        <p:spPr>
          <a:xfrm>
            <a:off x="2730600" y="3998880"/>
            <a:ext cx="3773520" cy="582480"/>
          </a:xfrm>
          <a:prstGeom prst="rect">
            <a:avLst/>
          </a:prstGeom>
          <a:ln w="0">
            <a:noFill/>
          </a:ln>
        </p:spPr>
      </p:pic>
      <p:grpSp>
        <p:nvGrpSpPr>
          <p:cNvPr id="388" name="组合 9"/>
          <p:cNvGrpSpPr/>
          <p:nvPr/>
        </p:nvGrpSpPr>
        <p:grpSpPr>
          <a:xfrm>
            <a:off x="2987640" y="4562640"/>
            <a:ext cx="2952720" cy="212400"/>
            <a:chOff x="2987640" y="4562640"/>
            <a:chExt cx="2952720" cy="212400"/>
          </a:xfrm>
        </p:grpSpPr>
        <p:grpSp>
          <p:nvGrpSpPr>
            <p:cNvPr id="389" name="圆角矩形 10"/>
            <p:cNvGrpSpPr/>
            <p:nvPr/>
          </p:nvGrpSpPr>
          <p:grpSpPr>
            <a:xfrm>
              <a:off x="2987640" y="4562640"/>
              <a:ext cx="2073960" cy="212400"/>
              <a:chOff x="2987640" y="4562640"/>
              <a:chExt cx="2073960" cy="212400"/>
            </a:xfrm>
          </p:grpSpPr>
          <p:pic>
            <p:nvPicPr>
              <p:cNvPr id="390" name="圆角矩形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2987640" y="4562640"/>
                <a:ext cx="2073960" cy="212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1" name=""/>
              <p:cNvSpPr/>
              <p:nvPr/>
            </p:nvSpPr>
            <p:spPr>
              <a:xfrm>
                <a:off x="2994120" y="4570560"/>
                <a:ext cx="20624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2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教程网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2" name="矩形 11"/>
            <p:cNvSpPr/>
            <p:nvPr/>
          </p:nvSpPr>
          <p:spPr>
            <a:xfrm>
              <a:off x="5173920" y="4570560"/>
              <a:ext cx="766440" cy="200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9d9d9"/>
                </a:gs>
              </a:gsLst>
              <a:lin ang="5400000"/>
            </a:gradFill>
            <a:ln w="12600">
              <a:solidFill>
                <a:srgbClr val="a6a6a6"/>
              </a:solidFill>
              <a:miter/>
            </a:ln>
            <a:effectLst>
              <a:outerShdw dist="12600" dir="5400000" blurRad="0" rotWithShape="0">
                <a:srgbClr val="000000">
                  <a:alpha val="11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百度一下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36976-7FF6-41C0-87CF-47C4FDCA15CF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FE018-1FFF-4987-81A2-24DCD2223F3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image" Target="../media/image8.jpe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0" name="media1.mp3" descr=""/>
          <p:cNvPicPr/>
          <p:nvPr/>
        </p:nvPicPr>
        <p:blipFill>
          <a:blip r:embed="rId1"/>
          <a:stretch/>
        </p:blipFill>
        <p:spPr>
          <a:xfrm>
            <a:off x="9683640" y="28440"/>
            <a:ext cx="609840" cy="609840"/>
          </a:xfrm>
          <a:prstGeom prst="rect">
            <a:avLst/>
          </a:prstGeom>
          <a:ln w="0">
            <a:noFill/>
          </a:ln>
        </p:spPr>
      </p:pic>
      <p:grpSp>
        <p:nvGrpSpPr>
          <p:cNvPr id="631" name="Group 3"/>
          <p:cNvGrpSpPr/>
          <p:nvPr/>
        </p:nvGrpSpPr>
        <p:grpSpPr>
          <a:xfrm>
            <a:off x="2837160" y="1225440"/>
            <a:ext cx="3469680" cy="2636640"/>
            <a:chOff x="2837160" y="1225440"/>
            <a:chExt cx="3469680" cy="2636640"/>
          </a:xfrm>
        </p:grpSpPr>
        <p:sp>
          <p:nvSpPr>
            <p:cNvPr id="632" name="矩形 9"/>
            <p:cNvSpPr/>
            <p:nvPr/>
          </p:nvSpPr>
          <p:spPr>
            <a:xfrm>
              <a:off x="2908800" y="1225440"/>
              <a:ext cx="332640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>
                  <a:solidFill>
                    <a:srgbClr val="000000"/>
                  </a:solidFill>
                  <a:latin typeface="Calibri"/>
                </a:rPr>
                <a:t>A PROFIL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矩形 10"/>
            <p:cNvSpPr/>
            <p:nvPr/>
          </p:nvSpPr>
          <p:spPr>
            <a:xfrm>
              <a:off x="2837160" y="1722960"/>
              <a:ext cx="346968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800" spc="-1" strike="noStrike">
                  <a:solidFill>
                    <a:srgbClr val="c00000"/>
                  </a:solidFill>
                  <a:latin typeface="Calibri"/>
                </a:rPr>
                <a:t>INSERT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矩形 11"/>
            <p:cNvSpPr/>
            <p:nvPr/>
          </p:nvSpPr>
          <p:spPr>
            <a:xfrm>
              <a:off x="2877480" y="2626560"/>
              <a:ext cx="33886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e36c09"/>
                  </a:solidFill>
                  <a:latin typeface="Calibri"/>
                </a:rPr>
                <a:t>YOUR NAME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矩形 12"/>
            <p:cNvSpPr/>
            <p:nvPr/>
          </p:nvSpPr>
          <p:spPr>
            <a:xfrm>
              <a:off x="2869200" y="3097800"/>
              <a:ext cx="3405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Calibri"/>
                </a:rPr>
                <a:t>FOR EXEMPLE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6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3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3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" dur="3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3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3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17" dur="2200" fill="hold"/>
                                        <p:tgtEl>
                                          <p:spTgt spid="631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2" name="Group 2"/>
          <p:cNvGrpSpPr/>
          <p:nvPr/>
        </p:nvGrpSpPr>
        <p:grpSpPr>
          <a:xfrm>
            <a:off x="2340000" y="482760"/>
            <a:ext cx="144360" cy="3384360"/>
            <a:chOff x="2340000" y="482760"/>
            <a:chExt cx="144360" cy="3384360"/>
          </a:xfrm>
        </p:grpSpPr>
        <p:sp>
          <p:nvSpPr>
            <p:cNvPr id="813" name="矩形 3"/>
            <p:cNvSpPr/>
            <p:nvPr/>
          </p:nvSpPr>
          <p:spPr>
            <a:xfrm>
              <a:off x="2340000" y="482760"/>
              <a:ext cx="46440" cy="3384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矩形 4"/>
            <p:cNvSpPr/>
            <p:nvPr/>
          </p:nvSpPr>
          <p:spPr>
            <a:xfrm>
              <a:off x="2340720" y="482760"/>
              <a:ext cx="143640" cy="7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矩形 5"/>
            <p:cNvSpPr/>
            <p:nvPr/>
          </p:nvSpPr>
          <p:spPr>
            <a:xfrm>
              <a:off x="2340720" y="2141280"/>
              <a:ext cx="143640" cy="7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矩形 6"/>
            <p:cNvSpPr/>
            <p:nvPr/>
          </p:nvSpPr>
          <p:spPr>
            <a:xfrm>
              <a:off x="2340720" y="3795120"/>
              <a:ext cx="143640" cy="7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7" name="矩形 8"/>
          <p:cNvSpPr/>
          <p:nvPr/>
        </p:nvSpPr>
        <p:spPr>
          <a:xfrm>
            <a:off x="2581560" y="3795840"/>
            <a:ext cx="400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CREASE YOUR S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10"/>
          <p:cNvSpPr/>
          <p:nvPr/>
        </p:nvSpPr>
        <p:spPr>
          <a:xfrm>
            <a:off x="2728800" y="-736560"/>
            <a:ext cx="48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20"/>
          <p:cNvSpPr/>
          <p:nvPr/>
        </p:nvSpPr>
        <p:spPr>
          <a:xfrm>
            <a:off x="3351240" y="-1244520"/>
            <a:ext cx="48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30"/>
          <p:cNvSpPr/>
          <p:nvPr/>
        </p:nvSpPr>
        <p:spPr>
          <a:xfrm>
            <a:off x="4007880" y="-1528920"/>
            <a:ext cx="48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40"/>
          <p:cNvSpPr/>
          <p:nvPr/>
        </p:nvSpPr>
        <p:spPr>
          <a:xfrm>
            <a:off x="4647600" y="-1886040"/>
            <a:ext cx="48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50"/>
          <p:cNvSpPr/>
          <p:nvPr/>
        </p:nvSpPr>
        <p:spPr>
          <a:xfrm>
            <a:off x="5295960" y="-2347920"/>
            <a:ext cx="48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60"/>
          <p:cNvSpPr/>
          <p:nvPr/>
        </p:nvSpPr>
        <p:spPr>
          <a:xfrm>
            <a:off x="5933520" y="-2681280"/>
            <a:ext cx="48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1"/>
          <p:cNvSpPr/>
          <p:nvPr/>
        </p:nvSpPr>
        <p:spPr>
          <a:xfrm>
            <a:off x="2725560" y="3363840"/>
            <a:ext cx="503280" cy="4683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2"/>
          <p:cNvSpPr/>
          <p:nvPr/>
        </p:nvSpPr>
        <p:spPr>
          <a:xfrm>
            <a:off x="3348000" y="2860560"/>
            <a:ext cx="503280" cy="97164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3"/>
          <p:cNvSpPr/>
          <p:nvPr/>
        </p:nvSpPr>
        <p:spPr>
          <a:xfrm>
            <a:off x="3995640" y="2571840"/>
            <a:ext cx="505080" cy="126036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4"/>
          <p:cNvSpPr/>
          <p:nvPr/>
        </p:nvSpPr>
        <p:spPr>
          <a:xfrm>
            <a:off x="4643280" y="2214720"/>
            <a:ext cx="505080" cy="161748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5"/>
          <p:cNvSpPr/>
          <p:nvPr/>
        </p:nvSpPr>
        <p:spPr>
          <a:xfrm>
            <a:off x="5292720" y="1779480"/>
            <a:ext cx="503280" cy="205272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6"/>
          <p:cNvSpPr/>
          <p:nvPr/>
        </p:nvSpPr>
        <p:spPr>
          <a:xfrm>
            <a:off x="5940360" y="1419120"/>
            <a:ext cx="504720" cy="2413080"/>
          </a:xfrm>
          <a:prstGeom prst="rect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16" dur="indefinite" restart="never" nodeType="tmRoot">
          <p:childTnLst>
            <p:seq>
              <p:cTn id="917" dur="indefinite" nodeType="mainSeq">
                <p:childTnLst>
                  <p:par>
                    <p:cTn id="918" nodeType="clickEffect" fill="hold">
                      <p:stCondLst>
                        <p:cond delay="0"/>
                      </p:stCondLst>
                      <p:childTnLst>
                        <p:par>
                          <p:cTn id="9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2" dur="2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3" nodeType="withEffect" fill="hold" presetClass="entr" presetID="2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5" dur="2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2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8" dur="2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9" nodeType="withEffect" fill="hold" presetClass="entr" presetID="2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1" dur="2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2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4" dur="2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5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7" dur="2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8" nodeType="withEffect" fill="hold" presetClass="path" presetID="42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3.61111E-006 0.70802 L 0.00052 0.79506 E">
                                      <p:cBhvr>
                                        <p:cTn id="939" dur="100" fill="hold"/>
                                        <p:tgtEl>
                                          <p:spTgt spid="8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40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941" dur="200" fill="hold"/>
                                        <p:tgtEl>
                                          <p:spTgt spid="818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942" nodeType="with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943" dur="100" fill="hold"/>
                                        <p:tgtEl>
                                          <p:spTgt spid="818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  <p:par>
                                <p:cTn id="944" nodeType="withEffect" fill="hold" presetClass="path" presetID="42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8.33333E-007 0.70802 L 0.00052 0.79506 E">
                                      <p:cBhvr>
                                        <p:cTn id="945" dur="100" fill="hold"/>
                                        <p:tgtEl>
                                          <p:spTgt spid="8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46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947" dur="200" fill="hold"/>
                                        <p:tgtEl>
                                          <p:spTgt spid="819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948" nodeType="withEffect" fill="hold" presetClass="emph" presetID="6">
                                  <p:stCondLst>
                                    <p:cond delay="600"/>
                                  </p:stCondLst>
                                  <p:childTnLst>
                                    <p:animScale>
                                      <p:cBhvr>
                                        <p:cTn id="949" dur="100" fill="hold"/>
                                        <p:tgtEl>
                                          <p:spTgt spid="819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  <p:par>
                                <p:cTn id="950" nodeType="withEffect" fill="hold" presetClass="path" presetID="42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-5.55556E-007 0.70803 L 0.00052 0.79507 E">
                                      <p:cBhvr>
                                        <p:cTn id="951" dur="100" fill="hold"/>
                                        <p:tgtEl>
                                          <p:spTgt spid="8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2" nodeType="with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953" dur="200" fill="hold"/>
                                        <p:tgtEl>
                                          <p:spTgt spid="820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954" nodeType="withEffect" fill="hold" presetClass="emph" presetID="6">
                                  <p:stCondLst>
                                    <p:cond delay="700"/>
                                  </p:stCondLst>
                                  <p:childTnLst>
                                    <p:animScale>
                                      <p:cBhvr>
                                        <p:cTn id="955" dur="100" fill="hold"/>
                                        <p:tgtEl>
                                          <p:spTgt spid="820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  <p:par>
                                <p:cTn id="956" nodeType="with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4.16667E-006 0.70802 L 0.00052 0.79506 E">
                                      <p:cBhvr>
                                        <p:cTn id="957" dur="100" fill="hold"/>
                                        <p:tgtEl>
                                          <p:spTgt spid="8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8" nodeType="withEffect" fill="hold" presetClass="emph" presetID="6">
                                  <p:stCondLst>
                                    <p:cond delay="600"/>
                                  </p:stCondLst>
                                  <p:childTnLst>
                                    <p:animScale>
                                      <p:cBhvr>
                                        <p:cTn id="959" dur="200" fill="hold"/>
                                        <p:tgtEl>
                                          <p:spTgt spid="821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960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961" dur="100" fill="hold"/>
                                        <p:tgtEl>
                                          <p:spTgt spid="821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  <p:par>
                                <p:cTn id="962" nodeType="withEffect" fill="hold" presetClass="path" presetID="42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-2.77778E-006 0.70803 L 0.00052 0.79507 E">
                                      <p:cBhvr>
                                        <p:cTn id="963" dur="100" fill="hold"/>
                                        <p:tgtEl>
                                          <p:spTgt spid="8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64" nodeType="withEffect" fill="hold" presetClass="emph" presetID="6">
                                  <p:stCondLst>
                                    <p:cond delay="700"/>
                                  </p:stCondLst>
                                  <p:childTnLst>
                                    <p:animScale>
                                      <p:cBhvr>
                                        <p:cTn id="965" dur="200" fill="hold"/>
                                        <p:tgtEl>
                                          <p:spTgt spid="822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966" nodeType="withEffect" fill="hold" presetClass="emph" presetID="6">
                                  <p:stCondLst>
                                    <p:cond delay="900"/>
                                  </p:stCondLst>
                                  <p:childTnLst>
                                    <p:animScale>
                                      <p:cBhvr>
                                        <p:cTn id="967" dur="100" fill="hold"/>
                                        <p:tgtEl>
                                          <p:spTgt spid="822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  <p:par>
                                <p:cTn id="968" nodeType="withEffect" fill="hold" presetClass="path" presetID="42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-8.33333E-007 0.70802 L 0.00052 0.79506 E">
                                      <p:cBhvr>
                                        <p:cTn id="969" dur="100" fill="hold"/>
                                        <p:tgtEl>
                                          <p:spTgt spid="8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70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971" dur="200" fill="hold"/>
                                        <p:tgtEl>
                                          <p:spTgt spid="823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972" nodeType="with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973" dur="100" fill="hold"/>
                                        <p:tgtEl>
                                          <p:spTgt spid="823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6" dur="1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1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78" dur="1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9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980" dur="300" fill="hold"/>
                                        <p:tgtEl>
                                          <p:spTgt spid="817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981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982" dur="200" fill="hold"/>
                                        <p:tgtEl>
                                          <p:spTgt spid="817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  <p:par>
                                <p:cTn id="983" nodeType="withEffect" fill="hold" presetClass="emph" presetID="6">
                                  <p:stCondLst>
                                    <p:cond delay="600"/>
                                  </p:stCondLst>
                                  <p:childTnLst>
                                    <p:animScale>
                                      <p:cBhvr>
                                        <p:cTn id="984" dur="200" fill="hold"/>
                                        <p:tgtEl>
                                          <p:spTgt spid="81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985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986" dur="100" fill="hold"/>
                                        <p:tgtEl>
                                          <p:spTgt spid="817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9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矩形 1"/>
          <p:cNvSpPr/>
          <p:nvPr/>
        </p:nvSpPr>
        <p:spPr>
          <a:xfrm>
            <a:off x="495360" y="1509840"/>
            <a:ext cx="81435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alibri"/>
              </a:rPr>
              <a:t>NEED TO KNOW MOR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alibri"/>
              </a:rPr>
              <a:t>ABOUT ME 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fade/>
  </p:transition>
  <p:timing>
    <p:tnLst>
      <p:par>
        <p:cTn id="990" dur="indefinite" restart="never" nodeType="tmRoot">
          <p:childTnLst>
            <p:seq>
              <p:cTn id="991" dur="indefinite" nodeType="mainSeq">
                <p:childTnLst>
                  <p:par>
                    <p:cTn id="992" nodeType="clickEffect" fill="hold">
                      <p:stCondLst>
                        <p:cond delay="0"/>
                      </p:stCondLst>
                      <p:childTnLst>
                        <p:par>
                          <p:cTn id="9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6" dur="1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1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98" dur="1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9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1000" dur="200" fill="hold"/>
                                        <p:tgtEl>
                                          <p:spTgt spid="830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  <p:par>
                                <p:cTn id="1001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1002" dur="1200" fill="hold"/>
                                        <p:tgtEl>
                                          <p:spTgt spid="830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矩形 1"/>
          <p:cNvSpPr/>
          <p:nvPr/>
        </p:nvSpPr>
        <p:spPr>
          <a:xfrm>
            <a:off x="1752840" y="2017800"/>
            <a:ext cx="5638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alibri"/>
              </a:rPr>
              <a:t>CONTACT ME 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3" dur="indefinite" restart="never" nodeType="tmRoot">
          <p:childTnLst>
            <p:seq>
              <p:cTn id="1004" dur="indefinite" nodeType="mainSeq">
                <p:childTnLst>
                  <p:par>
                    <p:cTn id="1005" nodeType="clickEffect" fill="hold">
                      <p:stCondLst>
                        <p:cond delay="0"/>
                      </p:stCondLst>
                      <p:childTnLst>
                        <p:par>
                          <p:cTn id="10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9" dur="1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1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11" dur="1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2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1013" dur="200" fill="hold"/>
                                        <p:tgtEl>
                                          <p:spTgt spid="831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  <p:par>
                                <p:cTn id="1014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1015" dur="1200" fill="hold"/>
                                        <p:tgtEl>
                                          <p:spTgt spid="831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矩形 1"/>
          <p:cNvSpPr/>
          <p:nvPr/>
        </p:nvSpPr>
        <p:spPr>
          <a:xfrm>
            <a:off x="1022760" y="2109960"/>
            <a:ext cx="709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wangpengsos@126.com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16" dur="indefinite" restart="never" nodeType="tmRoot">
          <p:childTnLst>
            <p:seq>
              <p:cTn id="1017" dur="indefinite" nodeType="mainSeq">
                <p:childTnLst>
                  <p:par>
                    <p:cTn id="1018" nodeType="clickEffect" fill="hold">
                      <p:stCondLst>
                        <p:cond delay="0"/>
                      </p:stCondLst>
                      <p:childTnLst>
                        <p:par>
                          <p:cTn id="10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withEffect" fill="hold" presetClass="entr" presetID="17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2" dur="300" fill="hold"/>
                                        <p:tgtEl>
                                          <p:spTgt spid="8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300" fill="hold"/>
                                        <p:tgtEl>
                                          <p:spTgt spid="8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300" fill="hold"/>
                                        <p:tgtEl>
                                          <p:spTgt spid="8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300" fill="hold"/>
                                        <p:tgtEl>
                                          <p:spTgt spid="8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6" nodeType="withEffect" fill="hold" presetClass="path" presetID="64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0.00018 -0.01296 L 0.00087 0.00093 E">
                                      <p:cBhvr>
                                        <p:cTn id="1027" dur="300" fill="hold"/>
                                        <p:tgtEl>
                                          <p:spTgt spid="8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矩形 1"/>
          <p:cNvSpPr/>
          <p:nvPr/>
        </p:nvSpPr>
        <p:spPr>
          <a:xfrm>
            <a:off x="2369160" y="2109960"/>
            <a:ext cx="4405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QQ 36343961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矩形 2"/>
          <p:cNvSpPr/>
          <p:nvPr/>
        </p:nvSpPr>
        <p:spPr>
          <a:xfrm>
            <a:off x="1022760" y="2109960"/>
            <a:ext cx="709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wangpengsos@126.com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同心圆 3"/>
          <p:cNvSpPr/>
          <p:nvPr/>
        </p:nvSpPr>
        <p:spPr>
          <a:xfrm>
            <a:off x="5435640" y="1060560"/>
            <a:ext cx="1103400" cy="1101600"/>
          </a:xfrm>
          <a:custGeom>
            <a:avLst/>
            <a:gdLst>
              <a:gd name="textAreaLeft" fmla="*/ 161280 w 1103400"/>
              <a:gd name="textAreaRight" fmla="*/ 942120 w 1103400"/>
              <a:gd name="textAreaTop" fmla="*/ 161280 h 1101600"/>
              <a:gd name="textAreaBottom" fmla="*/ 940320 h 1101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039" y="10800"/>
                </a:moveTo>
                <a:cubicBezTo>
                  <a:pt x="1039" y="16191"/>
                  <a:pt x="5409" y="20561"/>
                  <a:pt x="10800" y="20561"/>
                </a:cubicBezTo>
                <a:cubicBezTo>
                  <a:pt x="16191" y="20561"/>
                  <a:pt x="20561" y="16191"/>
                  <a:pt x="20561" y="10800"/>
                </a:cubicBezTo>
                <a:cubicBezTo>
                  <a:pt x="20561" y="5409"/>
                  <a:pt x="16191" y="1039"/>
                  <a:pt x="10800" y="1039"/>
                </a:cubicBezTo>
                <a:cubicBezTo>
                  <a:pt x="5409" y="1039"/>
                  <a:pt x="1039" y="5409"/>
                  <a:pt x="1039" y="1080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同心圆 4"/>
          <p:cNvSpPr/>
          <p:nvPr/>
        </p:nvSpPr>
        <p:spPr>
          <a:xfrm>
            <a:off x="3635280" y="1611360"/>
            <a:ext cx="1513080" cy="1511280"/>
          </a:xfrm>
          <a:custGeom>
            <a:avLst/>
            <a:gdLst>
              <a:gd name="textAreaLeft" fmla="*/ 221400 w 1513080"/>
              <a:gd name="textAreaRight" fmla="*/ 1291680 w 1513080"/>
              <a:gd name="textAreaTop" fmla="*/ 221040 h 1511280"/>
              <a:gd name="textAreaBottom" fmla="*/ 1290240 h 1511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039" y="10800"/>
                </a:moveTo>
                <a:cubicBezTo>
                  <a:pt x="1039" y="16191"/>
                  <a:pt x="5409" y="20561"/>
                  <a:pt x="10800" y="20561"/>
                </a:cubicBezTo>
                <a:cubicBezTo>
                  <a:pt x="16191" y="20561"/>
                  <a:pt x="20561" y="16191"/>
                  <a:pt x="20561" y="10800"/>
                </a:cubicBezTo>
                <a:cubicBezTo>
                  <a:pt x="20561" y="5409"/>
                  <a:pt x="16191" y="1039"/>
                  <a:pt x="10800" y="1039"/>
                </a:cubicBezTo>
                <a:cubicBezTo>
                  <a:pt x="5409" y="1039"/>
                  <a:pt x="1039" y="5409"/>
                  <a:pt x="1039" y="1080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同心圆 5"/>
          <p:cNvSpPr/>
          <p:nvPr/>
        </p:nvSpPr>
        <p:spPr>
          <a:xfrm>
            <a:off x="1581120" y="2109960"/>
            <a:ext cx="1109520" cy="1109520"/>
          </a:xfrm>
          <a:custGeom>
            <a:avLst/>
            <a:gdLst>
              <a:gd name="textAreaLeft" fmla="*/ 162360 w 1109520"/>
              <a:gd name="textAreaRight" fmla="*/ 947160 w 1109520"/>
              <a:gd name="textAreaTop" fmla="*/ 162360 h 1109520"/>
              <a:gd name="textAreaBottom" fmla="*/ 947160 h 1109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039" y="10800"/>
                </a:moveTo>
                <a:cubicBezTo>
                  <a:pt x="1039" y="16191"/>
                  <a:pt x="5409" y="20561"/>
                  <a:pt x="10800" y="20561"/>
                </a:cubicBezTo>
                <a:cubicBezTo>
                  <a:pt x="16191" y="20561"/>
                  <a:pt x="20561" y="16191"/>
                  <a:pt x="20561" y="10800"/>
                </a:cubicBezTo>
                <a:cubicBezTo>
                  <a:pt x="20561" y="5409"/>
                  <a:pt x="16191" y="1039"/>
                  <a:pt x="10800" y="1039"/>
                </a:cubicBezTo>
                <a:cubicBezTo>
                  <a:pt x="5409" y="1039"/>
                  <a:pt x="1039" y="5409"/>
                  <a:pt x="1039" y="1080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同心圆 6"/>
          <p:cNvSpPr/>
          <p:nvPr/>
        </p:nvSpPr>
        <p:spPr>
          <a:xfrm>
            <a:off x="990720" y="2874960"/>
            <a:ext cx="1512720" cy="1512720"/>
          </a:xfrm>
          <a:custGeom>
            <a:avLst/>
            <a:gdLst>
              <a:gd name="textAreaLeft" fmla="*/ 221400 w 1512720"/>
              <a:gd name="textAreaRight" fmla="*/ 1291320 w 1512720"/>
              <a:gd name="textAreaTop" fmla="*/ 221400 h 1512720"/>
              <a:gd name="textAreaBottom" fmla="*/ 1291320 h 1512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039" y="10800"/>
                </a:moveTo>
                <a:cubicBezTo>
                  <a:pt x="1039" y="16191"/>
                  <a:pt x="5409" y="20561"/>
                  <a:pt x="10800" y="20561"/>
                </a:cubicBezTo>
                <a:cubicBezTo>
                  <a:pt x="16191" y="20561"/>
                  <a:pt x="20561" y="16191"/>
                  <a:pt x="20561" y="10800"/>
                </a:cubicBezTo>
                <a:cubicBezTo>
                  <a:pt x="20561" y="5409"/>
                  <a:pt x="16191" y="1039"/>
                  <a:pt x="10800" y="1039"/>
                </a:cubicBezTo>
                <a:cubicBezTo>
                  <a:pt x="5409" y="1039"/>
                  <a:pt x="1039" y="5409"/>
                  <a:pt x="1039" y="1080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同心圆 7"/>
          <p:cNvSpPr/>
          <p:nvPr/>
        </p:nvSpPr>
        <p:spPr>
          <a:xfrm>
            <a:off x="2411280" y="2181240"/>
            <a:ext cx="1908360" cy="1908000"/>
          </a:xfrm>
          <a:custGeom>
            <a:avLst/>
            <a:gdLst>
              <a:gd name="textAreaLeft" fmla="*/ 279360 w 1908360"/>
              <a:gd name="textAreaRight" fmla="*/ 1629000 w 1908360"/>
              <a:gd name="textAreaTop" fmla="*/ 279360 h 1908000"/>
              <a:gd name="textAreaBottom" fmla="*/ 1628640 h 190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039" y="10800"/>
                </a:moveTo>
                <a:cubicBezTo>
                  <a:pt x="1039" y="16191"/>
                  <a:pt x="5409" y="20561"/>
                  <a:pt x="10800" y="20561"/>
                </a:cubicBezTo>
                <a:cubicBezTo>
                  <a:pt x="16191" y="20561"/>
                  <a:pt x="20561" y="16191"/>
                  <a:pt x="20561" y="10800"/>
                </a:cubicBezTo>
                <a:cubicBezTo>
                  <a:pt x="20561" y="5409"/>
                  <a:pt x="16191" y="1039"/>
                  <a:pt x="10800" y="1039"/>
                </a:cubicBezTo>
                <a:cubicBezTo>
                  <a:pt x="5409" y="1039"/>
                  <a:pt x="1039" y="5409"/>
                  <a:pt x="1039" y="1080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同心圆 8"/>
          <p:cNvSpPr/>
          <p:nvPr/>
        </p:nvSpPr>
        <p:spPr>
          <a:xfrm>
            <a:off x="6108840" y="1060560"/>
            <a:ext cx="1325520" cy="1323720"/>
          </a:xfrm>
          <a:custGeom>
            <a:avLst/>
            <a:gdLst>
              <a:gd name="textAreaLeft" fmla="*/ 194040 w 1325520"/>
              <a:gd name="textAreaRight" fmla="*/ 1131480 w 1325520"/>
              <a:gd name="textAreaTop" fmla="*/ 193680 h 1323720"/>
              <a:gd name="textAreaBottom" fmla="*/ 1130040 h 1323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039" y="10800"/>
                </a:moveTo>
                <a:cubicBezTo>
                  <a:pt x="1039" y="16191"/>
                  <a:pt x="5409" y="20561"/>
                  <a:pt x="10800" y="20561"/>
                </a:cubicBezTo>
                <a:cubicBezTo>
                  <a:pt x="16191" y="20561"/>
                  <a:pt x="20561" y="16191"/>
                  <a:pt x="20561" y="10800"/>
                </a:cubicBezTo>
                <a:cubicBezTo>
                  <a:pt x="20561" y="5409"/>
                  <a:pt x="16191" y="1039"/>
                  <a:pt x="10800" y="1039"/>
                </a:cubicBezTo>
                <a:cubicBezTo>
                  <a:pt x="5409" y="1039"/>
                  <a:pt x="1039" y="5409"/>
                  <a:pt x="1039" y="1080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同心圆 9"/>
          <p:cNvSpPr/>
          <p:nvPr/>
        </p:nvSpPr>
        <p:spPr>
          <a:xfrm>
            <a:off x="4861080" y="1541520"/>
            <a:ext cx="1677960" cy="1677960"/>
          </a:xfrm>
          <a:custGeom>
            <a:avLst/>
            <a:gdLst>
              <a:gd name="textAreaLeft" fmla="*/ 245520 w 1677960"/>
              <a:gd name="textAreaRight" fmla="*/ 1432440 w 1677960"/>
              <a:gd name="textAreaTop" fmla="*/ 245520 h 1677960"/>
              <a:gd name="textAreaBottom" fmla="*/ 1432440 h 1677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039" y="10800"/>
                </a:moveTo>
                <a:cubicBezTo>
                  <a:pt x="1039" y="16191"/>
                  <a:pt x="5409" y="20561"/>
                  <a:pt x="10800" y="20561"/>
                </a:cubicBezTo>
                <a:cubicBezTo>
                  <a:pt x="16191" y="20561"/>
                  <a:pt x="20561" y="16191"/>
                  <a:pt x="20561" y="10800"/>
                </a:cubicBezTo>
                <a:cubicBezTo>
                  <a:pt x="20561" y="5409"/>
                  <a:pt x="16191" y="1039"/>
                  <a:pt x="10800" y="1039"/>
                </a:cubicBezTo>
                <a:cubicBezTo>
                  <a:pt x="5409" y="1039"/>
                  <a:pt x="1039" y="5409"/>
                  <a:pt x="1039" y="1080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同心圆 10"/>
          <p:cNvSpPr/>
          <p:nvPr/>
        </p:nvSpPr>
        <p:spPr>
          <a:xfrm>
            <a:off x="623880" y="1251000"/>
            <a:ext cx="1511280" cy="1512720"/>
          </a:xfrm>
          <a:custGeom>
            <a:avLst/>
            <a:gdLst>
              <a:gd name="textAreaLeft" fmla="*/ 221040 w 1511280"/>
              <a:gd name="textAreaRight" fmla="*/ 1290240 w 1511280"/>
              <a:gd name="textAreaTop" fmla="*/ 221400 h 1512720"/>
              <a:gd name="textAreaBottom" fmla="*/ 1291320 h 1512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039" y="10800"/>
                </a:moveTo>
                <a:cubicBezTo>
                  <a:pt x="1039" y="16191"/>
                  <a:pt x="5409" y="20561"/>
                  <a:pt x="10800" y="20561"/>
                </a:cubicBezTo>
                <a:cubicBezTo>
                  <a:pt x="16191" y="20561"/>
                  <a:pt x="20561" y="16191"/>
                  <a:pt x="20561" y="10800"/>
                </a:cubicBezTo>
                <a:cubicBezTo>
                  <a:pt x="20561" y="5409"/>
                  <a:pt x="16191" y="1039"/>
                  <a:pt x="10800" y="1039"/>
                </a:cubicBezTo>
                <a:cubicBezTo>
                  <a:pt x="5409" y="1039"/>
                  <a:pt x="1039" y="5409"/>
                  <a:pt x="1039" y="1080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同心圆 11"/>
          <p:cNvSpPr/>
          <p:nvPr/>
        </p:nvSpPr>
        <p:spPr>
          <a:xfrm>
            <a:off x="6099120" y="2006640"/>
            <a:ext cx="1511280" cy="1512720"/>
          </a:xfrm>
          <a:custGeom>
            <a:avLst/>
            <a:gdLst>
              <a:gd name="textAreaLeft" fmla="*/ 221040 w 1511280"/>
              <a:gd name="textAreaRight" fmla="*/ 1290240 w 1511280"/>
              <a:gd name="textAreaTop" fmla="*/ 221400 h 1512720"/>
              <a:gd name="textAreaBottom" fmla="*/ 1291320 h 1512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039" y="10800"/>
                </a:moveTo>
                <a:cubicBezTo>
                  <a:pt x="1039" y="16191"/>
                  <a:pt x="5409" y="20561"/>
                  <a:pt x="10800" y="20561"/>
                </a:cubicBezTo>
                <a:cubicBezTo>
                  <a:pt x="16191" y="20561"/>
                  <a:pt x="20561" y="16191"/>
                  <a:pt x="20561" y="10800"/>
                </a:cubicBezTo>
                <a:cubicBezTo>
                  <a:pt x="20561" y="5409"/>
                  <a:pt x="16191" y="1039"/>
                  <a:pt x="10800" y="1039"/>
                </a:cubicBezTo>
                <a:cubicBezTo>
                  <a:pt x="5409" y="1039"/>
                  <a:pt x="1039" y="5409"/>
                  <a:pt x="1039" y="1080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28" dur="indefinite" restart="never" nodeType="tmRoot">
          <p:childTnLst>
            <p:seq>
              <p:cTn id="1029" dur="indefinite" nodeType="mainSeq">
                <p:childTnLst>
                  <p:par>
                    <p:cTn id="1030" nodeType="clickEffect" fill="hold">
                      <p:stCondLst>
                        <p:cond delay="0"/>
                      </p:stCondLst>
                      <p:childTnLst>
                        <p:par>
                          <p:cTn id="10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withEffect" fill="hold" presetClass="entr" presetID="17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4" dur="300" fill="hold"/>
                                        <p:tgtEl>
                                          <p:spTgt spid="8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300" fill="hold"/>
                                        <p:tgtEl>
                                          <p:spTgt spid="8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300" fill="hold"/>
                                        <p:tgtEl>
                                          <p:spTgt spid="8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300" fill="hold"/>
                                        <p:tgtEl>
                                          <p:spTgt spid="8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8" nodeType="withEffect" fill="hold" presetClass="exit" presetID="17" presetSubtype="4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39" dur="300"/>
                                        <p:tgtEl>
                                          <p:spTgt spid="8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300"/>
                                        <p:tgtEl>
                                          <p:spTgt spid="8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300"/>
                                        <p:tgtEl>
                                          <p:spTgt spid="8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300"/>
                                        <p:tgtEl>
                                          <p:spTgt spid="8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8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4" nodeType="withEffect" fill="hold" presetClass="path" presetID="64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0.00069 0.00093 L -0.0007 0.02902 E">
                                      <p:cBhvr>
                                        <p:cTn id="1045" dur="300" fill="hold"/>
                                        <p:tgtEl>
                                          <p:spTgt spid="8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46" nodeType="withEffect" fill="hold" presetClass="path" presetID="64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0.00018 -0.01296 L 0.00087 0.00093 E">
                                      <p:cBhvr>
                                        <p:cTn id="1047" dur="300" fill="hold"/>
                                        <p:tgtEl>
                                          <p:spTgt spid="8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48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0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52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3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54" dur="2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6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8" dur="5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5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60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1" nodeType="withEffect" fill="hold" presetClass="exit" presetID="10">
                                  <p:stCondLst>
                                    <p:cond delay="9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62" dur="2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4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6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68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9" nodeType="withEffect" fill="hold" presetClass="exit" presetID="10">
                                  <p:stCondLst>
                                    <p:cond delay="11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70" dur="2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2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4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76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78" dur="2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0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2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84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86" dur="2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8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0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92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3" nodeType="withEffect" fill="hold" presetClass="exit" presetID="10">
                                  <p:stCondLst>
                                    <p:cond delay="9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94" dur="2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6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8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00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1" nodeType="withEffect" fill="hold" presetClass="exit" presetID="10">
                                  <p:stCondLst>
                                    <p:cond delay="11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02" dur="2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4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6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08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9" nodeType="withEffect" fill="hold" presetClass="exit" presetID="10">
                                  <p:stCondLst>
                                    <p:cond delay="9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10" dur="2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4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16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7" nodeType="withEffect" fill="hold" presetClass="exit" presetID="10">
                                  <p:stCondLst>
                                    <p:cond delay="11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18" dur="2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矩形 1"/>
          <p:cNvSpPr/>
          <p:nvPr/>
        </p:nvSpPr>
        <p:spPr>
          <a:xfrm>
            <a:off x="2369160" y="2109960"/>
            <a:ext cx="4405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QQ 36343961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矩形 2"/>
          <p:cNvSpPr/>
          <p:nvPr/>
        </p:nvSpPr>
        <p:spPr>
          <a:xfrm>
            <a:off x="1851840" y="2109960"/>
            <a:ext cx="5439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Calibri"/>
              </a:rPr>
              <a:t>本视频由</a:t>
            </a: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PPT2010</a:t>
            </a:r>
            <a:r>
              <a:rPr b="1" lang="zh-CN" sz="5400" spc="-1" strike="noStrike">
                <a:solidFill>
                  <a:srgbClr val="000000"/>
                </a:solidFill>
                <a:latin typeface="Calibri"/>
              </a:rPr>
              <a:t>制作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20" dur="indefinite" restart="never" nodeType="tmRoot">
          <p:childTnLst>
            <p:seq>
              <p:cTn id="1121" dur="indefinite" nodeType="mainSeq">
                <p:childTnLst>
                  <p:par>
                    <p:cTn id="1122" nodeType="clickEffect" fill="hold">
                      <p:stCondLst>
                        <p:cond delay="0"/>
                      </p:stCondLst>
                      <p:childTnLst>
                        <p:par>
                          <p:cTn id="1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withEffect" fill="hold" presetClass="exit" presetID="17" presetSubtype="4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25" dur="300"/>
                                        <p:tgtEl>
                                          <p:spTgt spid="8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300"/>
                                        <p:tgtEl>
                                          <p:spTgt spid="8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300"/>
                                        <p:tgtEl>
                                          <p:spTgt spid="8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300"/>
                                        <p:tgtEl>
                                          <p:spTgt spid="8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8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0" nodeType="withEffect" fill="hold" presetClass="path" presetID="64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0.00069 0.00093 L -0.0007 0.02902 E">
                                      <p:cBhvr>
                                        <p:cTn id="1131" dur="300" fill="hold"/>
                                        <p:tgtEl>
                                          <p:spTgt spid="8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32" nodeType="withEffect" fill="hold" presetClass="entr" presetID="17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4" dur="300" fill="hold"/>
                                        <p:tgtEl>
                                          <p:spTgt spid="8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5" dur="300" fill="hold"/>
                                        <p:tgtEl>
                                          <p:spTgt spid="8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300" fill="hold"/>
                                        <p:tgtEl>
                                          <p:spTgt spid="8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300" fill="hold"/>
                                        <p:tgtEl>
                                          <p:spTgt spid="8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8" nodeType="withEffect" fill="hold" presetClass="path" presetID="64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0.00018 -0.01296 L 0.00087 0.00093 E">
                                      <p:cBhvr>
                                        <p:cTn id="1139" dur="300" fill="hold"/>
                                        <p:tgtEl>
                                          <p:spTgt spid="8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矩形 1"/>
          <p:cNvSpPr/>
          <p:nvPr/>
        </p:nvSpPr>
        <p:spPr>
          <a:xfrm>
            <a:off x="1851840" y="2109960"/>
            <a:ext cx="5439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Calibri"/>
              </a:rPr>
              <a:t>本视频由</a:t>
            </a: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PPT2010</a:t>
            </a:r>
            <a:r>
              <a:rPr b="1" lang="zh-CN" sz="5400" spc="-1" strike="noStrike">
                <a:solidFill>
                  <a:srgbClr val="000000"/>
                </a:solidFill>
                <a:latin typeface="Calibri"/>
              </a:rPr>
              <a:t>制作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矩形 2"/>
          <p:cNvSpPr/>
          <p:nvPr/>
        </p:nvSpPr>
        <p:spPr>
          <a:xfrm>
            <a:off x="2405880" y="2109960"/>
            <a:ext cx="433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Calibri"/>
              </a:rPr>
              <a:t>欢迎</a:t>
            </a: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QQ</a:t>
            </a:r>
            <a:r>
              <a:rPr b="1" lang="zh-CN" sz="5400" spc="-1" strike="noStrike">
                <a:solidFill>
                  <a:srgbClr val="000000"/>
                </a:solidFill>
                <a:latin typeface="Calibri"/>
              </a:rPr>
              <a:t>，邮件骚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8" name="Group 4"/>
          <p:cNvGrpSpPr/>
          <p:nvPr/>
        </p:nvGrpSpPr>
        <p:grpSpPr>
          <a:xfrm>
            <a:off x="1471680" y="2017800"/>
            <a:ext cx="5158440" cy="1099440"/>
            <a:chOff x="1471680" y="2017800"/>
            <a:chExt cx="5158440" cy="1099440"/>
          </a:xfrm>
        </p:grpSpPr>
        <p:pic>
          <p:nvPicPr>
            <p:cNvPr id="849" name="图片 5" descr=""/>
            <p:cNvPicPr/>
            <p:nvPr/>
          </p:nvPicPr>
          <p:blipFill>
            <a:blip r:embed="rId1"/>
            <a:srcRect l="0" t="10745" r="0" b="10745"/>
            <a:stretch/>
          </p:blipFill>
          <p:spPr>
            <a:xfrm>
              <a:off x="1471680" y="2111760"/>
              <a:ext cx="919800" cy="92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0" name="矩形 6"/>
            <p:cNvSpPr/>
            <p:nvPr/>
          </p:nvSpPr>
          <p:spPr>
            <a:xfrm>
              <a:off x="3431880" y="2017800"/>
              <a:ext cx="31982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600" spc="-1" strike="noStrike">
                  <a:solidFill>
                    <a:srgbClr val="000000"/>
                  </a:solidFill>
                  <a:latin typeface="Calibri"/>
                </a:rPr>
                <a:t>毛主席说我帅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0" dur="indefinite" restart="never" nodeType="tmRoot">
          <p:childTnLst>
            <p:seq>
              <p:cTn id="1141" dur="indefinite" nodeType="mainSeq">
                <p:childTnLst>
                  <p:par>
                    <p:cTn id="1142" nodeType="clickEffect" fill="hold">
                      <p:stCondLst>
                        <p:cond delay="0"/>
                      </p:stCondLst>
                      <p:childTnLst>
                        <p:par>
                          <p:cTn id="1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withEffect" fill="hold" presetClass="exit" presetID="17" presetSubtype="4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45" dur="300"/>
                                        <p:tgtEl>
                                          <p:spTgt spid="8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300"/>
                                        <p:tgtEl>
                                          <p:spTgt spid="8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7" dur="300"/>
                                        <p:tgtEl>
                                          <p:spTgt spid="8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300"/>
                                        <p:tgtEl>
                                          <p:spTgt spid="8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8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0" nodeType="withEffect" fill="hold" presetClass="path" presetID="64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0.00069 0.00093 L -0.0007 0.02902 E">
                                      <p:cBhvr>
                                        <p:cTn id="1151" dur="300" fill="hold"/>
                                        <p:tgtEl>
                                          <p:spTgt spid="8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2" nodeType="withEffect" fill="hold" presetClass="entr" presetID="17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4" dur="300" fill="hold"/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300" fill="hold"/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300" fill="hold"/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300" fill="hold"/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8" nodeType="withEffect" fill="hold" presetClass="path" presetID="64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0.00018 -0.01296 L 0.00087 0.00093 E">
                                      <p:cBhvr>
                                        <p:cTn id="1159" dur="300" fill="hold"/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60" nodeType="withEffect" fill="hold" presetClass="exit" presetID="2" presetSubtype="4">
                                  <p:stCondLst>
                                    <p:cond delay="1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61" dur="300"/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300"/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4" nodeType="withEffect" fill="hold" presetClass="entr" presetID="10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6" dur="1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1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68" dur="1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9" nodeType="withEffect" fill="hold" presetClass="emph" presetID="6">
                                  <p:stCondLst>
                                    <p:cond delay="2500"/>
                                  </p:stCondLst>
                                  <p:childTnLst>
                                    <p:animScale>
                                      <p:cBhvr>
                                        <p:cTn id="1170" dur="200" fill="hold"/>
                                        <p:tgtEl>
                                          <p:spTgt spid="848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  <p:par>
                                <p:cTn id="1171" nodeType="withEffect" fill="hold" presetClass="emph" presetID="6">
                                  <p:stCondLst>
                                    <p:cond delay="2700"/>
                                  </p:stCondLst>
                                  <p:childTnLst>
                                    <p:animScale>
                                      <p:cBhvr>
                                        <p:cTn id="1172" dur="1200" fill="hold"/>
                                        <p:tgtEl>
                                          <p:spTgt spid="848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1" name="Picture 2" descr="E:\小小草店铺中的素材\Y3030-30套合集+文艺唯美风格（把时间改成了2016）\扫一扫更多惊喜等着您.jpg"/>
          <p:cNvPicPr/>
          <p:nvPr/>
        </p:nvPicPr>
        <p:blipFill>
          <a:blip r:embed="rId1"/>
          <a:stretch/>
        </p:blipFill>
        <p:spPr>
          <a:xfrm>
            <a:off x="103320" y="42840"/>
            <a:ext cx="8937360" cy="50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6" name="Group 2"/>
          <p:cNvGrpSpPr/>
          <p:nvPr/>
        </p:nvGrpSpPr>
        <p:grpSpPr>
          <a:xfrm>
            <a:off x="3008880" y="1758960"/>
            <a:ext cx="3126600" cy="1641240"/>
            <a:chOff x="3008880" y="1758960"/>
            <a:chExt cx="3126600" cy="1641240"/>
          </a:xfrm>
        </p:grpSpPr>
        <p:sp>
          <p:nvSpPr>
            <p:cNvPr id="637" name="矩形 4"/>
            <p:cNvSpPr/>
            <p:nvPr/>
          </p:nvSpPr>
          <p:spPr>
            <a:xfrm>
              <a:off x="3008880" y="1758960"/>
              <a:ext cx="31266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800" spc="-1" strike="noStrike">
                  <a:solidFill>
                    <a:srgbClr val="000000"/>
                  </a:solidFill>
                  <a:latin typeface="Calibri"/>
                </a:rPr>
                <a:t>WHAT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矩形 6"/>
            <p:cNvSpPr/>
            <p:nvPr/>
          </p:nvSpPr>
          <p:spPr>
            <a:xfrm>
              <a:off x="3274200" y="2757600"/>
              <a:ext cx="2590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e36c09"/>
                  </a:solidFill>
                  <a:latin typeface="Calibri"/>
                </a:rPr>
                <a:t>ABOUT ME ?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9" name="同心圆 5"/>
          <p:cNvSpPr/>
          <p:nvPr/>
        </p:nvSpPr>
        <p:spPr>
          <a:xfrm>
            <a:off x="3713040" y="1722600"/>
            <a:ext cx="1702080" cy="1701720"/>
          </a:xfrm>
          <a:custGeom>
            <a:avLst/>
            <a:gdLst>
              <a:gd name="textAreaLeft" fmla="*/ 249120 w 1702080"/>
              <a:gd name="textAreaRight" fmla="*/ 1452960 w 1702080"/>
              <a:gd name="textAreaTop" fmla="*/ 249120 h 1701720"/>
              <a:gd name="textAreaBottom" fmla="*/ 1452600 h 1701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823" y="10800"/>
                </a:moveTo>
                <a:cubicBezTo>
                  <a:pt x="1823" y="15758"/>
                  <a:pt x="5842" y="19777"/>
                  <a:pt x="10800" y="19777"/>
                </a:cubicBezTo>
                <a:cubicBezTo>
                  <a:pt x="15758" y="19777"/>
                  <a:pt x="19777" y="15758"/>
                  <a:pt x="19777" y="10800"/>
                </a:cubicBezTo>
                <a:cubicBezTo>
                  <a:pt x="19777" y="5842"/>
                  <a:pt x="15758" y="1823"/>
                  <a:pt x="10800" y="1823"/>
                </a:cubicBezTo>
                <a:cubicBezTo>
                  <a:pt x="5842" y="1823"/>
                  <a:pt x="1823" y="5842"/>
                  <a:pt x="1823" y="10800"/>
                </a:cubicBezTo>
                <a:close/>
              </a:path>
            </a:pathLst>
          </a:custGeom>
          <a:solidFill>
            <a:srgbClr val="00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同心圆 9"/>
          <p:cNvSpPr/>
          <p:nvPr/>
        </p:nvSpPr>
        <p:spPr>
          <a:xfrm>
            <a:off x="3635280" y="1644480"/>
            <a:ext cx="1855800" cy="1854360"/>
          </a:xfrm>
          <a:custGeom>
            <a:avLst/>
            <a:gdLst>
              <a:gd name="textAreaLeft" fmla="*/ 271800 w 1855800"/>
              <a:gd name="textAreaRight" fmla="*/ 1584000 w 1855800"/>
              <a:gd name="textAreaTop" fmla="*/ 271440 h 1854360"/>
              <a:gd name="textAreaBottom" fmla="*/ 1582920 h 1854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82" y="10800"/>
                </a:moveTo>
                <a:cubicBezTo>
                  <a:pt x="82" y="16719"/>
                  <a:pt x="4881" y="21518"/>
                  <a:pt x="10800" y="21518"/>
                </a:cubicBezTo>
                <a:cubicBezTo>
                  <a:pt x="16719" y="21518"/>
                  <a:pt x="21518" y="16719"/>
                  <a:pt x="21518" y="10800"/>
                </a:cubicBezTo>
                <a:cubicBezTo>
                  <a:pt x="21518" y="4881"/>
                  <a:pt x="16719" y="82"/>
                  <a:pt x="10800" y="82"/>
                </a:cubicBezTo>
                <a:cubicBezTo>
                  <a:pt x="4881" y="82"/>
                  <a:pt x="82" y="4881"/>
                  <a:pt x="82" y="10800"/>
                </a:cubicBezTo>
                <a:close/>
              </a:path>
            </a:pathLst>
          </a:custGeom>
          <a:solidFill>
            <a:srgbClr val="00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1" name="图片 11" descr=""/>
          <p:cNvPicPr/>
          <p:nvPr/>
        </p:nvPicPr>
        <p:blipFill>
          <a:blip r:embed="rId1"/>
          <a:stretch/>
        </p:blipFill>
        <p:spPr>
          <a:xfrm>
            <a:off x="3708360" y="1652760"/>
            <a:ext cx="1806480" cy="2287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2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6" dur="2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28" dur="200" fill="hold"/>
                                        <p:tgtEl>
                                          <p:spTgt spid="636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29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30" dur="1300" fill="hold"/>
                                        <p:tgtEl>
                                          <p:spTgt spid="636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  <p:par>
                                <p:cTn id="31" nodeType="withEffect" fill="hold" presetClass="exit" presetID="45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2" dur="11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100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100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1099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xit" presetID="10">
                                  <p:stCondLst>
                                    <p:cond delay="1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" dur="100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9" dur="1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5" dur="1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mph" presetID="6">
                                  <p:stCondLst>
                                    <p:cond delay="2100"/>
                                  </p:stCondLst>
                                  <p:childTnLst>
                                    <p:animScale>
                                      <p:cBhvr>
                                        <p:cTn id="47" dur="200" fill="hold"/>
                                        <p:tgtEl>
                                          <p:spTgt spid="641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  <p:par>
                                <p:cTn id="48" nodeType="withEffect" fill="hold" presetClass="emph" presetID="6">
                                  <p:stCondLst>
                                    <p:cond delay="2300"/>
                                  </p:stCondLst>
                                  <p:childTnLst>
                                    <p:animScale>
                                      <p:cBhvr>
                                        <p:cTn id="49" dur="100" fill="hold"/>
                                        <p:tgtEl>
                                          <p:spTgt spid="641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3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3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4" dur="3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0">
                                  <p:stCondLst>
                                    <p:cond delay="2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6" dur="2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3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3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2" dur="3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xit" presetID="10">
                                  <p:stCondLst>
                                    <p:cond delay="2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4" dur="2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2" name="Group 2"/>
          <p:cNvGrpSpPr/>
          <p:nvPr/>
        </p:nvGrpSpPr>
        <p:grpSpPr>
          <a:xfrm>
            <a:off x="4930200" y="-1282680"/>
            <a:ext cx="1659600" cy="1163880"/>
            <a:chOff x="4930200" y="-1282680"/>
            <a:chExt cx="1659600" cy="1163880"/>
          </a:xfrm>
        </p:grpSpPr>
        <p:grpSp>
          <p:nvGrpSpPr>
            <p:cNvPr id="643" name="Group 3"/>
            <p:cNvGrpSpPr/>
            <p:nvPr/>
          </p:nvGrpSpPr>
          <p:grpSpPr>
            <a:xfrm>
              <a:off x="5068080" y="-1282680"/>
              <a:ext cx="1338480" cy="1163880"/>
              <a:chOff x="5068080" y="-1282680"/>
              <a:chExt cx="1338480" cy="1163880"/>
            </a:xfrm>
          </p:grpSpPr>
          <p:sp>
            <p:nvSpPr>
              <p:cNvPr id="644" name="等腰三角形 4"/>
              <p:cNvSpPr/>
              <p:nvPr/>
            </p:nvSpPr>
            <p:spPr>
              <a:xfrm rot="14711400">
                <a:off x="5458320" y="-794880"/>
                <a:ext cx="362520" cy="72108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圆角矩形 3"/>
              <p:cNvSpPr/>
              <p:nvPr/>
            </p:nvSpPr>
            <p:spPr>
              <a:xfrm rot="1297800">
                <a:off x="5159880" y="-1095120"/>
                <a:ext cx="1154160" cy="72108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3f3f3f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6" name="矩形 21"/>
            <p:cNvSpPr/>
            <p:nvPr/>
          </p:nvSpPr>
          <p:spPr>
            <a:xfrm rot="1297800">
              <a:off x="4946040" y="-934920"/>
              <a:ext cx="162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Text O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7" name="Group 7"/>
          <p:cNvGrpSpPr/>
          <p:nvPr/>
        </p:nvGrpSpPr>
        <p:grpSpPr>
          <a:xfrm>
            <a:off x="5226480" y="-1382760"/>
            <a:ext cx="1180800" cy="1298160"/>
            <a:chOff x="5226480" y="-1382760"/>
            <a:chExt cx="1180800" cy="1298160"/>
          </a:xfrm>
        </p:grpSpPr>
        <p:grpSp>
          <p:nvGrpSpPr>
            <p:cNvPr id="648" name="Group 8"/>
            <p:cNvGrpSpPr/>
            <p:nvPr/>
          </p:nvGrpSpPr>
          <p:grpSpPr>
            <a:xfrm>
              <a:off x="5226480" y="-1382760"/>
              <a:ext cx="1180800" cy="1281240"/>
              <a:chOff x="5226480" y="-1382760"/>
              <a:chExt cx="1180800" cy="1281240"/>
            </a:xfrm>
          </p:grpSpPr>
          <p:sp>
            <p:nvSpPr>
              <p:cNvPr id="649" name="等腰三角形 7"/>
              <p:cNvSpPr/>
              <p:nvPr/>
            </p:nvSpPr>
            <p:spPr>
              <a:xfrm rot="18075600">
                <a:off x="5447160" y="-1015920"/>
                <a:ext cx="362520" cy="72108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圆角矩形 8"/>
              <p:cNvSpPr/>
              <p:nvPr/>
            </p:nvSpPr>
            <p:spPr>
              <a:xfrm rot="4662000">
                <a:off x="5354640" y="-1102320"/>
                <a:ext cx="1154160" cy="72108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3f3f3f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1" name="矩形 22"/>
            <p:cNvSpPr/>
            <p:nvPr/>
          </p:nvSpPr>
          <p:spPr>
            <a:xfrm rot="4662000">
              <a:off x="5220360" y="-1061280"/>
              <a:ext cx="1125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Text Tw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2" name="Group 12"/>
          <p:cNvGrpSpPr/>
          <p:nvPr/>
        </p:nvGrpSpPr>
        <p:grpSpPr>
          <a:xfrm>
            <a:off x="4004640" y="6329160"/>
            <a:ext cx="1422720" cy="1189080"/>
            <a:chOff x="4004640" y="6329160"/>
            <a:chExt cx="1422720" cy="1189080"/>
          </a:xfrm>
        </p:grpSpPr>
        <p:grpSp>
          <p:nvGrpSpPr>
            <p:cNvPr id="653" name="Group 13"/>
            <p:cNvGrpSpPr/>
            <p:nvPr/>
          </p:nvGrpSpPr>
          <p:grpSpPr>
            <a:xfrm>
              <a:off x="4123800" y="6329160"/>
              <a:ext cx="1292400" cy="1189080"/>
              <a:chOff x="4123800" y="6329160"/>
              <a:chExt cx="1292400" cy="1189080"/>
            </a:xfrm>
          </p:grpSpPr>
          <p:sp>
            <p:nvSpPr>
              <p:cNvPr id="654" name="等腰三角形 10"/>
              <p:cNvSpPr/>
              <p:nvPr/>
            </p:nvSpPr>
            <p:spPr>
              <a:xfrm rot="1785600">
                <a:off x="4494960" y="6371640"/>
                <a:ext cx="362520" cy="7200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圆角矩形 11"/>
              <p:cNvSpPr/>
              <p:nvPr/>
            </p:nvSpPr>
            <p:spPr>
              <a:xfrm rot="9972000">
                <a:off x="4192920" y="6671160"/>
                <a:ext cx="1153800" cy="7200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3f3f3f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6" name="矩形 23"/>
            <p:cNvSpPr/>
            <p:nvPr/>
          </p:nvSpPr>
          <p:spPr>
            <a:xfrm rot="9972000">
              <a:off x="4069800" y="6545160"/>
              <a:ext cx="1292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Text Thre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7" name="Group 17"/>
          <p:cNvGrpSpPr/>
          <p:nvPr/>
        </p:nvGrpSpPr>
        <p:grpSpPr>
          <a:xfrm>
            <a:off x="2734920" y="5931360"/>
            <a:ext cx="1411560" cy="1321200"/>
            <a:chOff x="2734920" y="5931360"/>
            <a:chExt cx="1411560" cy="1321200"/>
          </a:xfrm>
        </p:grpSpPr>
        <p:grpSp>
          <p:nvGrpSpPr>
            <p:cNvPr id="658" name="Group 18"/>
            <p:cNvGrpSpPr/>
            <p:nvPr/>
          </p:nvGrpSpPr>
          <p:grpSpPr>
            <a:xfrm>
              <a:off x="2734920" y="6068880"/>
              <a:ext cx="1357920" cy="1183680"/>
              <a:chOff x="2734920" y="6068880"/>
              <a:chExt cx="1357920" cy="1183680"/>
            </a:xfrm>
          </p:grpSpPr>
          <p:sp>
            <p:nvSpPr>
              <p:cNvPr id="659" name="等腰三角形 13"/>
              <p:cNvSpPr/>
              <p:nvPr/>
            </p:nvSpPr>
            <p:spPr>
              <a:xfrm rot="4326600">
                <a:off x="3364560" y="6015960"/>
                <a:ext cx="362520" cy="71964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圆角矩形 14"/>
              <p:cNvSpPr/>
              <p:nvPr/>
            </p:nvSpPr>
            <p:spPr>
              <a:xfrm rot="12512400">
                <a:off x="2836440" y="6300720"/>
                <a:ext cx="1154520" cy="7196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3f3f3f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1" name="矩形 24"/>
            <p:cNvSpPr/>
            <p:nvPr/>
          </p:nvSpPr>
          <p:spPr>
            <a:xfrm rot="12512400">
              <a:off x="2887560" y="6165720"/>
              <a:ext cx="1161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Text Fou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2" name="Group 22"/>
          <p:cNvGrpSpPr/>
          <p:nvPr/>
        </p:nvGrpSpPr>
        <p:grpSpPr>
          <a:xfrm>
            <a:off x="2714760" y="-1454760"/>
            <a:ext cx="1344960" cy="1403280"/>
            <a:chOff x="2714760" y="-1454760"/>
            <a:chExt cx="1344960" cy="1403280"/>
          </a:xfrm>
        </p:grpSpPr>
        <p:grpSp>
          <p:nvGrpSpPr>
            <p:cNvPr id="663" name="Group 23"/>
            <p:cNvGrpSpPr/>
            <p:nvPr/>
          </p:nvGrpSpPr>
          <p:grpSpPr>
            <a:xfrm>
              <a:off x="2714760" y="-1454760"/>
              <a:ext cx="1216080" cy="1360440"/>
              <a:chOff x="2714760" y="-1454760"/>
              <a:chExt cx="1216080" cy="1360440"/>
            </a:xfrm>
          </p:grpSpPr>
          <p:sp>
            <p:nvSpPr>
              <p:cNvPr id="664" name="等腰三角形 16"/>
              <p:cNvSpPr/>
              <p:nvPr/>
            </p:nvSpPr>
            <p:spPr>
              <a:xfrm rot="9899400">
                <a:off x="3419640" y="-987840"/>
                <a:ext cx="362520" cy="7200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圆角矩形 17"/>
              <p:cNvSpPr/>
              <p:nvPr/>
            </p:nvSpPr>
            <p:spPr>
              <a:xfrm rot="18085800">
                <a:off x="2745720" y="-1134360"/>
                <a:ext cx="1154160" cy="7200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3f3f3f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6" name="矩形 25"/>
            <p:cNvSpPr/>
            <p:nvPr/>
          </p:nvSpPr>
          <p:spPr>
            <a:xfrm rot="18085800">
              <a:off x="2916000" y="-1059480"/>
              <a:ext cx="1108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Text Fiv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7" name="Group 27"/>
          <p:cNvGrpSpPr/>
          <p:nvPr/>
        </p:nvGrpSpPr>
        <p:grpSpPr>
          <a:xfrm>
            <a:off x="3716280" y="-1170000"/>
            <a:ext cx="1279440" cy="1179000"/>
            <a:chOff x="3716280" y="-1170000"/>
            <a:chExt cx="1279440" cy="1179000"/>
          </a:xfrm>
        </p:grpSpPr>
        <p:grpSp>
          <p:nvGrpSpPr>
            <p:cNvPr id="668" name="Group 28"/>
            <p:cNvGrpSpPr/>
            <p:nvPr/>
          </p:nvGrpSpPr>
          <p:grpSpPr>
            <a:xfrm>
              <a:off x="3716280" y="-1170000"/>
              <a:ext cx="1279440" cy="1179000"/>
              <a:chOff x="3716280" y="-1170000"/>
              <a:chExt cx="1279440" cy="1179000"/>
            </a:xfrm>
          </p:grpSpPr>
          <p:sp>
            <p:nvSpPr>
              <p:cNvPr id="669" name="等腰三角形 19"/>
              <p:cNvSpPr/>
              <p:nvPr/>
            </p:nvSpPr>
            <p:spPr>
              <a:xfrm rot="12688800">
                <a:off x="4259880" y="-753480"/>
                <a:ext cx="362520" cy="72108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圆角矩形 20"/>
              <p:cNvSpPr/>
              <p:nvPr/>
            </p:nvSpPr>
            <p:spPr>
              <a:xfrm rot="20875200">
                <a:off x="3778920" y="-1056960"/>
                <a:ext cx="1154160" cy="72108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3f3f3f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1" name="矩形 26"/>
            <p:cNvSpPr/>
            <p:nvPr/>
          </p:nvSpPr>
          <p:spPr>
            <a:xfrm rot="20875200">
              <a:off x="3896280" y="-899640"/>
              <a:ext cx="982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Text Si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2" name="椭圆 33"/>
          <p:cNvSpPr/>
          <p:nvPr/>
        </p:nvSpPr>
        <p:spPr>
          <a:xfrm>
            <a:off x="3780000" y="1781280"/>
            <a:ext cx="1584000" cy="1582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3" name="图片 2" descr=""/>
          <p:cNvPicPr/>
          <p:nvPr/>
        </p:nvPicPr>
        <p:blipFill>
          <a:blip r:embed="rId1"/>
          <a:srcRect l="12510" t="12150" r="17060" b="32196"/>
          <a:stretch/>
        </p:blipFill>
        <p:spPr>
          <a:xfrm>
            <a:off x="3933720" y="1930320"/>
            <a:ext cx="1273320" cy="1273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1" dur="200" fill="hold"/>
                                        <p:tgtEl>
                                          <p:spTgt spid="673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  <p:par>
                                <p:cTn id="72" nodeType="withEffect" fill="hold" presetClass="path" presetID="13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-2.5E-006 2.71605E-006 L -0.02326 -0.01729 L 0.00903 -0.04013 L -2.5E-006 2.71605E-006 Z">
                                      <p:cBhvr>
                                        <p:cTn id="73" dur="400" fill="hold"/>
                                        <p:tgtEl>
                                          <p:spTgt spid="6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4" nodeType="withEffect" fill="hold" presetClass="path" presetID="42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-0.00017 0.73673 L -0.13211 0.63889 E">
                                      <p:cBhvr>
                                        <p:cTn id="75" dur="200" fill="hold"/>
                                        <p:tgtEl>
                                          <p:spTgt spid="6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6" nodeType="withEffect" fill="hold" presetClass="path" presetID="42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-0.00035 -0.58943 L -0.01545 -0.83905 E">
                                      <p:cBhvr>
                                        <p:cTn id="77" dur="200" fill="hold"/>
                                        <p:tgtEl>
                                          <p:spTgt spid="6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8" nodeType="withEffect" fill="hold" presetClass="path" presetID="42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-0.00035 0.47778 L -0.12326 0.61358 E">
                                      <p:cBhvr>
                                        <p:cTn id="79" dur="200" fill="hold"/>
                                        <p:tgtEl>
                                          <p:spTgt spid="6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0" nodeType="with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0.00035 -0.62284 L 0.11945 -0.76698 E">
                                      <p:cBhvr>
                                        <p:cTn id="81" dur="200" fill="hold"/>
                                        <p:tgtEl>
                                          <p:spTgt spid="6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2" nodeType="withEffect" fill="hold" presetClass="path" presetID="42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-0.00035 0.55895 L 0.12188 0.6358 E">
                                      <p:cBhvr>
                                        <p:cTn id="83" dur="200" fill="hold"/>
                                        <p:tgtEl>
                                          <p:spTgt spid="6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4" nodeType="withEffect" fill="hold" presetClass="path" presetID="42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-0.00035 0.36049 L 0.01997 0.60617 E">
                                      <p:cBhvr>
                                        <p:cTn id="85" dur="200" fill="hold"/>
                                        <p:tgtEl>
                                          <p:spTgt spid="6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R"/>
          <p:cNvSpPr/>
          <p:nvPr/>
        </p:nvSpPr>
        <p:spPr>
          <a:xfrm rot="20626800">
            <a:off x="4187880" y="-120312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Y"/>
          <p:cNvSpPr/>
          <p:nvPr/>
        </p:nvSpPr>
        <p:spPr>
          <a:xfrm rot="18677400">
            <a:off x="3781080" y="-933120"/>
            <a:ext cx="31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N"/>
          <p:cNvSpPr/>
          <p:nvPr/>
        </p:nvSpPr>
        <p:spPr>
          <a:xfrm rot="1252800">
            <a:off x="4694400" y="-1188720"/>
            <a:ext cx="34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A"/>
          <p:cNvSpPr/>
          <p:nvPr/>
        </p:nvSpPr>
        <p:spPr>
          <a:xfrm rot="1890000">
            <a:off x="4860360" y="-1098360"/>
            <a:ext cx="33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M"/>
          <p:cNvSpPr/>
          <p:nvPr/>
        </p:nvSpPr>
        <p:spPr>
          <a:xfrm rot="2767200">
            <a:off x="4983480" y="-962280"/>
            <a:ext cx="4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E"/>
          <p:cNvSpPr/>
          <p:nvPr/>
        </p:nvSpPr>
        <p:spPr>
          <a:xfrm rot="3528000">
            <a:off x="5142600" y="-831960"/>
            <a:ext cx="30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O"/>
          <p:cNvSpPr/>
          <p:nvPr/>
        </p:nvSpPr>
        <p:spPr>
          <a:xfrm rot="19320600">
            <a:off x="3867480" y="-1045800"/>
            <a:ext cx="35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U"/>
          <p:cNvSpPr/>
          <p:nvPr/>
        </p:nvSpPr>
        <p:spPr>
          <a:xfrm rot="19938600">
            <a:off x="4019040" y="-1143000"/>
            <a:ext cx="34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2" name="图片 2" descr=""/>
          <p:cNvPicPr/>
          <p:nvPr/>
        </p:nvPicPr>
        <p:blipFill>
          <a:blip r:embed="rId1"/>
          <a:stretch/>
        </p:blipFill>
        <p:spPr>
          <a:xfrm>
            <a:off x="2544840" y="558720"/>
            <a:ext cx="4054320" cy="4025880"/>
          </a:xfrm>
          <a:prstGeom prst="rect">
            <a:avLst/>
          </a:prstGeom>
          <a:ln w="0">
            <a:noFill/>
          </a:ln>
        </p:spPr>
      </p:pic>
      <p:pic>
        <p:nvPicPr>
          <p:cNvPr id="683" name="遮挡" descr=""/>
          <p:cNvPicPr/>
          <p:nvPr/>
        </p:nvPicPr>
        <p:blipFill>
          <a:blip r:embed="rId2"/>
          <a:srcRect l="46921" t="39035" r="47011" b="39349"/>
          <a:stretch/>
        </p:blipFill>
        <p:spPr>
          <a:xfrm>
            <a:off x="4311720" y="2009880"/>
            <a:ext cx="557280" cy="1112760"/>
          </a:xfrm>
          <a:prstGeom prst="rect">
            <a:avLst/>
          </a:prstGeom>
          <a:ln w="0">
            <a:noFill/>
          </a:ln>
        </p:spPr>
      </p:pic>
      <p:pic>
        <p:nvPicPr>
          <p:cNvPr id="684" name="图片 1" descr=""/>
          <p:cNvPicPr/>
          <p:nvPr/>
        </p:nvPicPr>
        <p:blipFill>
          <a:blip r:embed="rId3"/>
          <a:srcRect l="12510" t="12150" r="17060" b="32196"/>
          <a:stretch/>
        </p:blipFill>
        <p:spPr>
          <a:xfrm>
            <a:off x="3755880" y="1774800"/>
            <a:ext cx="1594080" cy="1593720"/>
          </a:xfrm>
          <a:prstGeom prst="rect">
            <a:avLst/>
          </a:prstGeom>
          <a:ln w="0">
            <a:noFill/>
          </a:ln>
        </p:spPr>
      </p:pic>
      <p:pic>
        <p:nvPicPr>
          <p:cNvPr id="685" name="ren" descr=""/>
          <p:cNvPicPr/>
          <p:nvPr/>
        </p:nvPicPr>
        <p:blipFill>
          <a:blip r:embed="rId4"/>
          <a:srcRect l="14259" t="16041" r="18144" b="24448"/>
          <a:stretch/>
        </p:blipFill>
        <p:spPr>
          <a:xfrm>
            <a:off x="3728880" y="1720800"/>
            <a:ext cx="1690920" cy="1690560"/>
          </a:xfrm>
          <a:prstGeom prst="rect">
            <a:avLst/>
          </a:prstGeom>
          <a:ln w="0">
            <a:noFill/>
          </a:ln>
        </p:spPr>
      </p:pic>
      <p:sp>
        <p:nvSpPr>
          <p:cNvPr id="686" name="内圆"/>
          <p:cNvSpPr/>
          <p:nvPr/>
        </p:nvSpPr>
        <p:spPr>
          <a:xfrm>
            <a:off x="3610080" y="1601640"/>
            <a:ext cx="1927080" cy="1927440"/>
          </a:xfrm>
          <a:custGeom>
            <a:avLst/>
            <a:gdLst>
              <a:gd name="textAreaLeft" fmla="*/ 282240 w 1927080"/>
              <a:gd name="textAreaRight" fmla="*/ 1644840 w 1927080"/>
              <a:gd name="textAreaTop" fmla="*/ 282240 h 1927440"/>
              <a:gd name="textAreaBottom" fmla="*/ 1645200 h 1927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286" y="10800"/>
                </a:moveTo>
                <a:cubicBezTo>
                  <a:pt x="286" y="16607"/>
                  <a:pt x="4993" y="21314"/>
                  <a:pt x="10800" y="21314"/>
                </a:cubicBezTo>
                <a:cubicBezTo>
                  <a:pt x="16607" y="21314"/>
                  <a:pt x="21314" y="16607"/>
                  <a:pt x="21314" y="10800"/>
                </a:cubicBezTo>
                <a:cubicBezTo>
                  <a:pt x="21314" y="4993"/>
                  <a:pt x="16607" y="286"/>
                  <a:pt x="10800" y="286"/>
                </a:cubicBezTo>
                <a:cubicBezTo>
                  <a:pt x="4993" y="286"/>
                  <a:pt x="286" y="4993"/>
                  <a:pt x="286" y="10800"/>
                </a:cubicBezTo>
                <a:close/>
              </a:path>
            </a:pathLst>
          </a:custGeom>
          <a:solidFill>
            <a:srgbClr val="00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外圆"/>
          <p:cNvSpPr/>
          <p:nvPr/>
        </p:nvSpPr>
        <p:spPr>
          <a:xfrm>
            <a:off x="3419640" y="1413000"/>
            <a:ext cx="2304720" cy="2305080"/>
          </a:xfrm>
          <a:custGeom>
            <a:avLst/>
            <a:gdLst>
              <a:gd name="textAreaLeft" fmla="*/ 337320 w 2304720"/>
              <a:gd name="textAreaRight" fmla="*/ 1967400 w 2304720"/>
              <a:gd name="textAreaTop" fmla="*/ 337320 h 2305080"/>
              <a:gd name="textAreaBottom" fmla="*/ 1967760 h 2305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256" y="10800"/>
                </a:moveTo>
                <a:cubicBezTo>
                  <a:pt x="1256" y="16071"/>
                  <a:pt x="5529" y="20344"/>
                  <a:pt x="10800" y="20344"/>
                </a:cubicBezTo>
                <a:cubicBezTo>
                  <a:pt x="16071" y="20344"/>
                  <a:pt x="20344" y="16071"/>
                  <a:pt x="20344" y="10800"/>
                </a:cubicBezTo>
                <a:cubicBezTo>
                  <a:pt x="20344" y="5529"/>
                  <a:pt x="16071" y="1256"/>
                  <a:pt x="10800" y="1256"/>
                </a:cubicBezTo>
                <a:cubicBezTo>
                  <a:pt x="5529" y="1256"/>
                  <a:pt x="1256" y="5529"/>
                  <a:pt x="1256" y="10800"/>
                </a:cubicBezTo>
                <a:close/>
              </a:path>
            </a:pathLst>
          </a:custGeom>
          <a:solidFill>
            <a:srgbClr val="00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mption"/>
          <p:cNvSpPr/>
          <p:nvPr/>
        </p:nvSpPr>
        <p:spPr>
          <a:xfrm>
            <a:off x="3546720" y="320976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OTION DESIG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同心圆 4"/>
          <p:cNvSpPr/>
          <p:nvPr/>
        </p:nvSpPr>
        <p:spPr>
          <a:xfrm>
            <a:off x="3705120" y="1698480"/>
            <a:ext cx="1737000" cy="1735200"/>
          </a:xfrm>
          <a:custGeom>
            <a:avLst/>
            <a:gdLst>
              <a:gd name="textAreaLeft" fmla="*/ 254160 w 1737000"/>
              <a:gd name="textAreaRight" fmla="*/ 1482840 w 1737000"/>
              <a:gd name="textAreaTop" fmla="*/ 253800 h 1735200"/>
              <a:gd name="textAreaBottom" fmla="*/ 1481400 h 1735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391" y="10800"/>
                </a:moveTo>
                <a:cubicBezTo>
                  <a:pt x="1391" y="15996"/>
                  <a:pt x="5604" y="20209"/>
                  <a:pt x="10800" y="20209"/>
                </a:cubicBezTo>
                <a:cubicBezTo>
                  <a:pt x="15996" y="20209"/>
                  <a:pt x="20209" y="15996"/>
                  <a:pt x="20209" y="10800"/>
                </a:cubicBezTo>
                <a:cubicBezTo>
                  <a:pt x="20209" y="5604"/>
                  <a:pt x="15996" y="1391"/>
                  <a:pt x="10800" y="1391"/>
                </a:cubicBezTo>
                <a:cubicBezTo>
                  <a:pt x="5604" y="1391"/>
                  <a:pt x="1391" y="5604"/>
                  <a:pt x="1391" y="10800"/>
                </a:cubicBezTo>
                <a:close/>
              </a:path>
            </a:pathLst>
          </a:custGeom>
          <a:solidFill>
            <a:srgbClr val="00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0" name="Picture 2" descr=""/>
          <p:cNvPicPr/>
          <p:nvPr/>
        </p:nvPicPr>
        <p:blipFill>
          <a:blip r:embed="rId5"/>
          <a:stretch/>
        </p:blipFill>
        <p:spPr>
          <a:xfrm>
            <a:off x="3589200" y="1596960"/>
            <a:ext cx="1951200" cy="1949400"/>
          </a:xfrm>
          <a:prstGeom prst="rect">
            <a:avLst/>
          </a:prstGeom>
          <a:ln w="0">
            <a:noFill/>
          </a:ln>
        </p:spPr>
      </p:pic>
      <p:grpSp>
        <p:nvGrpSpPr>
          <p:cNvPr id="691" name="Group 19"/>
          <p:cNvGrpSpPr/>
          <p:nvPr/>
        </p:nvGrpSpPr>
        <p:grpSpPr>
          <a:xfrm>
            <a:off x="3928680" y="1935000"/>
            <a:ext cx="1262520" cy="1262160"/>
            <a:chOff x="3928680" y="1935000"/>
            <a:chExt cx="1262520" cy="1262160"/>
          </a:xfrm>
        </p:grpSpPr>
        <p:sp>
          <p:nvSpPr>
            <p:cNvPr id="692" name="椭圆 5"/>
            <p:cNvSpPr/>
            <p:nvPr/>
          </p:nvSpPr>
          <p:spPr>
            <a:xfrm>
              <a:off x="3928680" y="1935000"/>
              <a:ext cx="1262520" cy="1262160"/>
            </a:xfrm>
            <a:prstGeom prst="ellipse">
              <a:avLst/>
            </a:prstGeom>
            <a:gradFill rotWithShape="0">
              <a:gsLst>
                <a:gs pos="0">
                  <a:srgbClr val="3f3f3f"/>
                </a:gs>
                <a:gs pos="100000">
                  <a:srgbClr val="0c0c0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矩形 6"/>
            <p:cNvSpPr/>
            <p:nvPr/>
          </p:nvSpPr>
          <p:spPr>
            <a:xfrm>
              <a:off x="3987360" y="2374920"/>
              <a:ext cx="114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8f8f8"/>
                  </a:solidFill>
                  <a:latin typeface="Calibri"/>
                </a:rPr>
                <a:t>MY SKILL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4" name="flash"/>
          <p:cNvSpPr/>
          <p:nvPr/>
        </p:nvSpPr>
        <p:spPr>
          <a:xfrm>
            <a:off x="2678040" y="179280"/>
            <a:ext cx="136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FLA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s"/>
          <p:cNvSpPr/>
          <p:nvPr/>
        </p:nvSpPr>
        <p:spPr>
          <a:xfrm>
            <a:off x="4862160" y="565200"/>
            <a:ext cx="207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HOTOSH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ae"/>
          <p:cNvSpPr/>
          <p:nvPr/>
        </p:nvSpPr>
        <p:spPr>
          <a:xfrm>
            <a:off x="495000" y="1349280"/>
            <a:ext cx="271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TFER EFF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3D"/>
          <p:cNvSpPr/>
          <p:nvPr/>
        </p:nvSpPr>
        <p:spPr>
          <a:xfrm>
            <a:off x="6066720" y="2374920"/>
            <a:ext cx="21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3D ANI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AI"/>
          <p:cNvSpPr/>
          <p:nvPr/>
        </p:nvSpPr>
        <p:spPr>
          <a:xfrm>
            <a:off x="673200" y="3197160"/>
            <a:ext cx="218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LLUSTR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COOK"/>
          <p:cNvSpPr/>
          <p:nvPr/>
        </p:nvSpPr>
        <p:spPr>
          <a:xfrm>
            <a:off x="2503440" y="4032360"/>
            <a:ext cx="10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O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WEB"/>
          <p:cNvSpPr/>
          <p:nvPr/>
        </p:nvSpPr>
        <p:spPr>
          <a:xfrm>
            <a:off x="5798160" y="3570120"/>
            <a:ext cx="180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EB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JAVA"/>
          <p:cNvSpPr/>
          <p:nvPr/>
        </p:nvSpPr>
        <p:spPr>
          <a:xfrm>
            <a:off x="4376160" y="4516560"/>
            <a:ext cx="170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JAVA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1" dur="11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2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3" dur="600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600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5" dur="6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599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8" dur="600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600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0" dur="6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599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103" dur="600" fill="hold"/>
                                        <p:tgtEl>
                                          <p:spTgt spid="684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104" nodeType="withEffect" fill="hold" presetClass="exit" presetID="45">
                                  <p:stCondLst>
                                    <p:cond delay="11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5" dur="8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800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800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0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1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0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4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4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8" dur="4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xit" presetID="10">
                                  <p:stCondLst>
                                    <p:cond delay="21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0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6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xit" presetID="6" presetSubtype="32">
                                  <p:stCondLst>
                                    <p:cond delay="21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8" dur="3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42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3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3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3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mph" presetID="6">
                                  <p:stCondLst>
                                    <p:cond delay="2100"/>
                                  </p:stCondLst>
                                  <p:childTnLst>
                                    <p:animScale>
                                      <p:cBhvr>
                                        <p:cTn id="136" dur="200" fill="hold"/>
                                        <p:tgtEl>
                                          <p:spTgt spid="685"/>
                                        </p:tgtEl>
                                      </p:cBhvr>
                                      <p:to x="85000" y="85000"/>
                                    </p:animScale>
                                  </p:childTnLst>
                                </p:cTn>
                              </p:par>
                              <p:par>
                                <p:cTn id="137" nodeType="withEffect" fill="hold" presetClass="path" presetID="42">
                                  <p:stCondLst>
                                    <p:cond delay="2100"/>
                                  </p:stCondLst>
                                  <p:childTnLst>
                                    <p:animMotion origin="layout" path="M 8.33333E-007 0.54167 L 0.06927 0.64445 E">
                                      <p:cBhvr>
                                        <p:cTn id="138" dur="100" fill="hold"/>
                                        <p:tgtEl>
                                          <p:spTgt spid="6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9" nodeType="withEffect" fill="hold" presetClass="path" presetID="42">
                                  <p:stCondLst>
                                    <p:cond delay="2200"/>
                                  </p:stCondLst>
                                  <p:childTnLst>
                                    <p:animMotion origin="layout" path="M 2.5E-006 0.54166 L 0.05781 0.66605 E">
                                      <p:cBhvr>
                                        <p:cTn id="140" dur="100" fill="hold"/>
                                        <p:tgtEl>
                                          <p:spTgt spid="6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1" nodeType="withEffect" fill="hold" presetClass="path" presetID="42">
                                  <p:stCondLst>
                                    <p:cond delay="2300"/>
                                  </p:stCondLst>
                                  <p:childTnLst>
                                    <p:animMotion origin="layout" path="M 3.05556E-006 0.54167 L 0.04149 0.68488 E">
                                      <p:cBhvr>
                                        <p:cTn id="142" dur="100" fill="hold"/>
                                        <p:tgtEl>
                                          <p:spTgt spid="6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3" nodeType="withEffect" fill="hold" presetClass="path" presetID="42">
                                  <p:stCondLst>
                                    <p:cond delay="2400"/>
                                  </p:stCondLst>
                                  <p:childTnLst>
                                    <p:animMotion origin="layout" path="M 1.94444E-006 0.54167 L 0.02413 0.69661 E">
                                      <p:cBhvr>
                                        <p:cTn id="144" dur="100" fill="hold"/>
                                        <p:tgtEl>
                                          <p:spTgt spid="6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5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4.72222E-006 0.54167 L -0.03247 0.69383 E">
                                      <p:cBhvr>
                                        <p:cTn id="146" dur="100" fill="hold"/>
                                        <p:tgtEl>
                                          <p:spTgt spid="6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7" nodeType="withEffect" fill="hold" presetClass="path" presetID="42">
                                  <p:stCondLst>
                                    <p:cond delay="2600"/>
                                  </p:stCondLst>
                                  <p:childTnLst>
                                    <p:animMotion origin="layout" path="M 3.61111E-006 0.54167 L -0.04983 0.67624 E">
                                      <p:cBhvr>
                                        <p:cTn id="148" dur="100" fill="hold"/>
                                        <p:tgtEl>
                                          <p:spTgt spid="6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9" nodeType="withEffect" fill="hold" presetClass="path" presetID="42">
                                  <p:stCondLst>
                                    <p:cond delay="2700"/>
                                  </p:stCondLst>
                                  <p:childTnLst>
                                    <p:animMotion origin="layout" path="M -2.77778E-007 0.54166 L -0.06684 0.65031 E">
                                      <p:cBhvr>
                                        <p:cTn id="150" dur="100" fill="hold"/>
                                        <p:tgtEl>
                                          <p:spTgt spid="6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1" nodeType="withEffect" fill="hold" presetClass="path" presetID="42">
                                  <p:stCondLst>
                                    <p:cond delay="2800"/>
                                  </p:stCondLst>
                                  <p:childTnLst>
                                    <p:animMotion origin="layout" path="M -3.05556E-006 0.54167 L -0.07899 0.6247 E">
                                      <p:cBhvr>
                                        <p:cTn id="152" dur="100" fill="hold"/>
                                        <p:tgtEl>
                                          <p:spTgt spid="6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3" nodeType="withEffect" fill="hold" presetClass="exit" presetID="42">
                                  <p:stCondLst>
                                    <p:cond delay="32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4" dur="3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300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300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xit" presetID="22" presetSubtype="8">
                                  <p:stCondLst>
                                    <p:cond delay="32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9" dur="1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xit" presetID="22" presetSubtype="8">
                                  <p:stCondLst>
                                    <p:cond delay="32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2" dur="1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xit" presetID="22" presetSubtype="8">
                                  <p:stCondLst>
                                    <p:cond delay="32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5" dur="1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xit" presetID="22" presetSubtype="8">
                                  <p:stCondLst>
                                    <p:cond delay="32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8" dur="1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xit" presetID="22" presetSubtype="8">
                                  <p:stCondLst>
                                    <p:cond delay="3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1" dur="1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xit" presetID="22" presetSubtype="8">
                                  <p:stCondLst>
                                    <p:cond delay="3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4" dur="1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xit" presetID="22" presetSubtype="8">
                                  <p:stCondLst>
                                    <p:cond delay="3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7" dur="1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xit" presetID="22" presetSubtype="8">
                                  <p:stCondLst>
                                    <p:cond delay="3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80" dur="1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xit" presetID="45">
                                  <p:stCondLst>
                                    <p:cond delay="31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83" dur="1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500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500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xit" presetID="1">
                                  <p:stCondLst>
                                    <p:cond delay="34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0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3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3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93" dur="3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0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98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xit" presetID="10">
                                  <p:stCondLst>
                                    <p:cond delay="37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0" dur="2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xit" presetID="10">
                                  <p:stCondLst>
                                    <p:cond delay="3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3" dur="2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0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3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3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09" dur="3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mph" presetID="6">
                                  <p:stCondLst>
                                    <p:cond delay="3500"/>
                                  </p:stCondLst>
                                  <p:childTnLst>
                                    <p:animScale>
                                      <p:cBhvr>
                                        <p:cTn id="211" dur="200" fill="hold"/>
                                        <p:tgtEl>
                                          <p:spTgt spid="691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212" nodeType="withEffect" fill="hold" presetClass="emph" presetID="6">
                                  <p:stCondLst>
                                    <p:cond delay="3700"/>
                                  </p:stCondLst>
                                  <p:childTnLst>
                                    <p:animScale>
                                      <p:cBhvr>
                                        <p:cTn id="213" dur="300" fill="hold"/>
                                        <p:tgtEl>
                                          <p:spTgt spid="691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0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3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3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18" dur="3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mph" presetID="6">
                                  <p:stCondLst>
                                    <p:cond delay="3600"/>
                                  </p:stCondLst>
                                  <p:childTnLst>
                                    <p:animScale>
                                      <p:cBhvr>
                                        <p:cTn id="220" dur="200" fill="hold"/>
                                        <p:tgtEl>
                                          <p:spTgt spid="694"/>
                                        </p:tgtEl>
                                      </p:cBhvr>
                                      <p:to x="108000" y="108000"/>
                                    </p:animScale>
                                  </p:childTnLst>
                                </p:cTn>
                              </p:par>
                              <p:par>
                                <p:cTn id="221" nodeType="withEffect" fill="hold" presetClass="emph" presetID="6">
                                  <p:stCondLst>
                                    <p:cond delay="3800"/>
                                  </p:stCondLst>
                                  <p:childTnLst>
                                    <p:animScale>
                                      <p:cBhvr>
                                        <p:cTn id="222" dur="300" fill="hold"/>
                                        <p:tgtEl>
                                          <p:spTgt spid="694"/>
                                        </p:tgtEl>
                                      </p:cBhvr>
                                      <p:to x="92000" y="92000"/>
                                    </p:animScale>
                                  </p:childTnLst>
                                </p:cTn>
                              </p:par>
                              <p:par>
                                <p:cTn id="223" nodeType="withEffect" fill="hold" presetClass="emph" presetID="6">
                                  <p:stCondLst>
                                    <p:cond delay="4100"/>
                                  </p:stCondLst>
                                  <p:childTnLst>
                                    <p:animScale>
                                      <p:cBhvr>
                                        <p:cTn id="224" dur="200" fill="hold"/>
                                        <p:tgtEl>
                                          <p:spTgt spid="69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25" nodeType="withEffect" fill="hold" presetClass="emph" presetID="6">
                                  <p:stCondLst>
                                    <p:cond delay="4300"/>
                                  </p:stCondLst>
                                  <p:childTnLst>
                                    <p:animScale>
                                      <p:cBhvr>
                                        <p:cTn id="226" dur="300" fill="hold"/>
                                        <p:tgtEl>
                                          <p:spTgt spid="694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0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3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3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31" dur="3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mph" presetID="6">
                                  <p:stCondLst>
                                    <p:cond delay="3600"/>
                                  </p:stCondLst>
                                  <p:childTnLst>
                                    <p:animScale>
                                      <p:cBhvr>
                                        <p:cTn id="233" dur="200" fill="hold"/>
                                        <p:tgtEl>
                                          <p:spTgt spid="695"/>
                                        </p:tgtEl>
                                      </p:cBhvr>
                                      <p:to x="108000" y="108000"/>
                                    </p:animScale>
                                  </p:childTnLst>
                                </p:cTn>
                              </p:par>
                              <p:par>
                                <p:cTn id="234" nodeType="withEffect" fill="hold" presetClass="emph" presetID="6">
                                  <p:stCondLst>
                                    <p:cond delay="3800"/>
                                  </p:stCondLst>
                                  <p:childTnLst>
                                    <p:animScale>
                                      <p:cBhvr>
                                        <p:cTn id="235" dur="300" fill="hold"/>
                                        <p:tgtEl>
                                          <p:spTgt spid="695"/>
                                        </p:tgtEl>
                                      </p:cBhvr>
                                      <p:to x="92000" y="92000"/>
                                    </p:animScale>
                                  </p:childTnLst>
                                </p:cTn>
                              </p:par>
                              <p:par>
                                <p:cTn id="236" nodeType="withEffect" fill="hold" presetClass="emph" presetID="6">
                                  <p:stCondLst>
                                    <p:cond delay="4100"/>
                                  </p:stCondLst>
                                  <p:childTnLst>
                                    <p:animScale>
                                      <p:cBhvr>
                                        <p:cTn id="237" dur="200" fill="hold"/>
                                        <p:tgtEl>
                                          <p:spTgt spid="69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38" nodeType="withEffect" fill="hold" presetClass="emph" presetID="6">
                                  <p:stCondLst>
                                    <p:cond delay="4300"/>
                                  </p:stCondLst>
                                  <p:childTnLst>
                                    <p:animScale>
                                      <p:cBhvr>
                                        <p:cTn id="239" dur="300" fill="hold"/>
                                        <p:tgtEl>
                                          <p:spTgt spid="695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0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3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3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44" dur="3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6">
                                  <p:stCondLst>
                                    <p:cond delay="3500"/>
                                  </p:stCondLst>
                                  <p:childTnLst>
                                    <p:animScale>
                                      <p:cBhvr>
                                        <p:cTn id="246" dur="200" fill="hold"/>
                                        <p:tgtEl>
                                          <p:spTgt spid="697"/>
                                        </p:tgtEl>
                                      </p:cBhvr>
                                      <p:to x="108000" y="108000"/>
                                    </p:animScale>
                                  </p:childTnLst>
                                </p:cTn>
                              </p:par>
                              <p:par>
                                <p:cTn id="247" nodeType="withEffect" fill="hold" presetClass="emph" presetID="6">
                                  <p:stCondLst>
                                    <p:cond delay="3700"/>
                                  </p:stCondLst>
                                  <p:childTnLst>
                                    <p:animScale>
                                      <p:cBhvr>
                                        <p:cTn id="248" dur="300" fill="hold"/>
                                        <p:tgtEl>
                                          <p:spTgt spid="697"/>
                                        </p:tgtEl>
                                      </p:cBhvr>
                                      <p:to x="92000" y="92000"/>
                                    </p:animScale>
                                  </p:childTnLst>
                                </p:cTn>
                              </p:par>
                              <p:par>
                                <p:cTn id="249" nodeType="withEffect" fill="hold" presetClass="emph" presetID="6">
                                  <p:stCondLst>
                                    <p:cond delay="4000"/>
                                  </p:stCondLst>
                                  <p:childTnLst>
                                    <p:animScale>
                                      <p:cBhvr>
                                        <p:cTn id="250" dur="200" fill="hold"/>
                                        <p:tgtEl>
                                          <p:spTgt spid="69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51" nodeType="withEffect" fill="hold" presetClass="emph" presetID="6">
                                  <p:stCondLst>
                                    <p:cond delay="4200"/>
                                  </p:stCondLst>
                                  <p:childTnLst>
                                    <p:animScale>
                                      <p:cBhvr>
                                        <p:cTn id="252" dur="300" fill="hold"/>
                                        <p:tgtEl>
                                          <p:spTgt spid="697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0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3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3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57" dur="3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mph" presetID="6">
                                  <p:stCondLst>
                                    <p:cond delay="3500"/>
                                  </p:stCondLst>
                                  <p:childTnLst>
                                    <p:animScale>
                                      <p:cBhvr>
                                        <p:cTn id="259" dur="200" fill="hold"/>
                                        <p:tgtEl>
                                          <p:spTgt spid="700"/>
                                        </p:tgtEl>
                                      </p:cBhvr>
                                      <p:to x="108000" y="108000"/>
                                    </p:animScale>
                                  </p:childTnLst>
                                </p:cTn>
                              </p:par>
                              <p:par>
                                <p:cTn id="260" nodeType="withEffect" fill="hold" presetClass="emph" presetID="6">
                                  <p:stCondLst>
                                    <p:cond delay="3700"/>
                                  </p:stCondLst>
                                  <p:childTnLst>
                                    <p:animScale>
                                      <p:cBhvr>
                                        <p:cTn id="261" dur="300" fill="hold"/>
                                        <p:tgtEl>
                                          <p:spTgt spid="700"/>
                                        </p:tgtEl>
                                      </p:cBhvr>
                                      <p:to x="92000" y="92000"/>
                                    </p:animScale>
                                  </p:childTnLst>
                                </p:cTn>
                              </p:par>
                              <p:par>
                                <p:cTn id="262" nodeType="withEffect" fill="hold" presetClass="emph" presetID="6">
                                  <p:stCondLst>
                                    <p:cond delay="4000"/>
                                  </p:stCondLst>
                                  <p:childTnLst>
                                    <p:animScale>
                                      <p:cBhvr>
                                        <p:cTn id="263" dur="200" fill="hold"/>
                                        <p:tgtEl>
                                          <p:spTgt spid="70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64" nodeType="withEffect" fill="hold" presetClass="emph" presetID="6">
                                  <p:stCondLst>
                                    <p:cond delay="4200"/>
                                  </p:stCondLst>
                                  <p:childTnLst>
                                    <p:animScale>
                                      <p:cBhvr>
                                        <p:cTn id="265" dur="300" fill="hold"/>
                                        <p:tgtEl>
                                          <p:spTgt spid="700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0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3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3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70" dur="3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mph" presetID="6">
                                  <p:stCondLst>
                                    <p:cond delay="3500"/>
                                  </p:stCondLst>
                                  <p:childTnLst>
                                    <p:animScale>
                                      <p:cBhvr>
                                        <p:cTn id="272" dur="200" fill="hold"/>
                                        <p:tgtEl>
                                          <p:spTgt spid="696"/>
                                        </p:tgtEl>
                                      </p:cBhvr>
                                      <p:to x="115000" y="115000"/>
                                    </p:animScale>
                                  </p:childTnLst>
                                </p:cTn>
                              </p:par>
                              <p:par>
                                <p:cTn id="273" nodeType="withEffect" fill="hold" presetClass="emph" presetID="6">
                                  <p:stCondLst>
                                    <p:cond delay="3700"/>
                                  </p:stCondLst>
                                  <p:childTnLst>
                                    <p:animScale>
                                      <p:cBhvr>
                                        <p:cTn id="274" dur="300" fill="hold"/>
                                        <p:tgtEl>
                                          <p:spTgt spid="696"/>
                                        </p:tgtEl>
                                      </p:cBhvr>
                                      <p:to x="85000" y="85000"/>
                                    </p:animScale>
                                  </p:childTnLst>
                                </p:cTn>
                              </p:par>
                              <p:par>
                                <p:cTn id="275" nodeType="withEffect" fill="hold" presetClass="emph" presetID="6">
                                  <p:stCondLst>
                                    <p:cond delay="4000"/>
                                  </p:stCondLst>
                                  <p:childTnLst>
                                    <p:animScale>
                                      <p:cBhvr>
                                        <p:cTn id="276" dur="200" fill="hold"/>
                                        <p:tgtEl>
                                          <p:spTgt spid="69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77" nodeType="withEffect" fill="hold" presetClass="emph" presetID="6">
                                  <p:stCondLst>
                                    <p:cond delay="4200"/>
                                  </p:stCondLst>
                                  <p:childTnLst>
                                    <p:animScale>
                                      <p:cBhvr>
                                        <p:cTn id="278" dur="300" fill="hold"/>
                                        <p:tgtEl>
                                          <p:spTgt spid="696"/>
                                        </p:tgtEl>
                                      </p:cBhvr>
                                      <p:to x="97000" y="97000"/>
                                    </p:animScale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0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3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3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83" dur="3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mph" presetID="6">
                                  <p:stCondLst>
                                    <p:cond delay="3600"/>
                                  </p:stCondLst>
                                  <p:childTnLst>
                                    <p:animScale>
                                      <p:cBhvr>
                                        <p:cTn id="285" dur="200" fill="hold"/>
                                        <p:tgtEl>
                                          <p:spTgt spid="698"/>
                                        </p:tgtEl>
                                      </p:cBhvr>
                                      <p:to x="108000" y="108000"/>
                                    </p:animScale>
                                  </p:childTnLst>
                                </p:cTn>
                              </p:par>
                              <p:par>
                                <p:cTn id="286" nodeType="withEffect" fill="hold" presetClass="emph" presetID="6">
                                  <p:stCondLst>
                                    <p:cond delay="3800"/>
                                  </p:stCondLst>
                                  <p:childTnLst>
                                    <p:animScale>
                                      <p:cBhvr>
                                        <p:cTn id="287" dur="200" fill="hold"/>
                                        <p:tgtEl>
                                          <p:spTgt spid="698"/>
                                        </p:tgtEl>
                                      </p:cBhvr>
                                      <p:to x="92000" y="92000"/>
                                    </p:animScale>
                                  </p:childTnLst>
                                </p:cTn>
                              </p:par>
                              <p:par>
                                <p:cTn id="288" nodeType="withEffect" fill="hold" presetClass="emph" presetID="6">
                                  <p:stCondLst>
                                    <p:cond delay="4000"/>
                                  </p:stCondLst>
                                  <p:childTnLst>
                                    <p:animScale>
                                      <p:cBhvr>
                                        <p:cTn id="289" dur="200" fill="hold"/>
                                        <p:tgtEl>
                                          <p:spTgt spid="69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90" nodeType="withEffect" fill="hold" presetClass="emph" presetID="6">
                                  <p:stCondLst>
                                    <p:cond delay="4200"/>
                                  </p:stCondLst>
                                  <p:childTnLst>
                                    <p:animScale>
                                      <p:cBhvr>
                                        <p:cTn id="291" dur="200" fill="hold"/>
                                        <p:tgtEl>
                                          <p:spTgt spid="698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0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3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3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96" dur="3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mph" presetID="6">
                                  <p:stCondLst>
                                    <p:cond delay="3600"/>
                                  </p:stCondLst>
                                  <p:childTnLst>
                                    <p:animScale>
                                      <p:cBhvr>
                                        <p:cTn id="298" dur="200" fill="hold"/>
                                        <p:tgtEl>
                                          <p:spTgt spid="699"/>
                                        </p:tgtEl>
                                      </p:cBhvr>
                                      <p:to x="108000" y="108000"/>
                                    </p:animScale>
                                  </p:childTnLst>
                                </p:cTn>
                              </p:par>
                              <p:par>
                                <p:cTn id="299" nodeType="withEffect" fill="hold" presetClass="emph" presetID="6">
                                  <p:stCondLst>
                                    <p:cond delay="3800"/>
                                  </p:stCondLst>
                                  <p:childTnLst>
                                    <p:animScale>
                                      <p:cBhvr>
                                        <p:cTn id="300" dur="300" fill="hold"/>
                                        <p:tgtEl>
                                          <p:spTgt spid="699"/>
                                        </p:tgtEl>
                                      </p:cBhvr>
                                      <p:to x="92000" y="92000"/>
                                    </p:animScale>
                                  </p:childTnLst>
                                </p:cTn>
                              </p:par>
                              <p:par>
                                <p:cTn id="301" nodeType="withEffect" fill="hold" presetClass="emph" presetID="6">
                                  <p:stCondLst>
                                    <p:cond delay="4100"/>
                                  </p:stCondLst>
                                  <p:childTnLst>
                                    <p:animScale>
                                      <p:cBhvr>
                                        <p:cTn id="302" dur="200" fill="hold"/>
                                        <p:tgtEl>
                                          <p:spTgt spid="69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03" nodeType="withEffect" fill="hold" presetClass="emph" presetID="6">
                                  <p:stCondLst>
                                    <p:cond delay="4300"/>
                                  </p:stCondLst>
                                  <p:childTnLst>
                                    <p:animScale>
                                      <p:cBhvr>
                                        <p:cTn id="304" dur="300" fill="hold"/>
                                        <p:tgtEl>
                                          <p:spTgt spid="699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0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3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3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09" dur="3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mph" presetID="6">
                                  <p:stCondLst>
                                    <p:cond delay="3600"/>
                                  </p:stCondLst>
                                  <p:childTnLst>
                                    <p:animScale>
                                      <p:cBhvr>
                                        <p:cTn id="311" dur="200" fill="hold"/>
                                        <p:tgtEl>
                                          <p:spTgt spid="701"/>
                                        </p:tgtEl>
                                      </p:cBhvr>
                                      <p:to x="108000" y="108000"/>
                                    </p:animScale>
                                  </p:childTnLst>
                                </p:cTn>
                              </p:par>
                              <p:par>
                                <p:cTn id="312" nodeType="withEffect" fill="hold" presetClass="emph" presetID="6">
                                  <p:stCondLst>
                                    <p:cond delay="3800"/>
                                  </p:stCondLst>
                                  <p:childTnLst>
                                    <p:animScale>
                                      <p:cBhvr>
                                        <p:cTn id="313" dur="200" fill="hold"/>
                                        <p:tgtEl>
                                          <p:spTgt spid="701"/>
                                        </p:tgtEl>
                                      </p:cBhvr>
                                      <p:to x="92000" y="92000"/>
                                    </p:animScale>
                                  </p:childTnLst>
                                </p:cTn>
                              </p:par>
                              <p:par>
                                <p:cTn id="314" nodeType="withEffect" fill="hold" presetClass="emph" presetID="6">
                                  <p:stCondLst>
                                    <p:cond delay="4000"/>
                                  </p:stCondLst>
                                  <p:childTnLst>
                                    <p:animScale>
                                      <p:cBhvr>
                                        <p:cTn id="315" dur="200" fill="hold"/>
                                        <p:tgtEl>
                                          <p:spTgt spid="70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16" nodeType="withEffect" fill="hold" presetClass="emph" presetID="6">
                                  <p:stCondLst>
                                    <p:cond delay="4200"/>
                                  </p:stCondLst>
                                  <p:childTnLst>
                                    <p:animScale>
                                      <p:cBhvr>
                                        <p:cTn id="317" dur="200" fill="hold"/>
                                        <p:tgtEl>
                                          <p:spTgt spid="701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flash"/>
          <p:cNvSpPr/>
          <p:nvPr/>
        </p:nvSpPr>
        <p:spPr>
          <a:xfrm>
            <a:off x="2678040" y="179280"/>
            <a:ext cx="136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FLA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s"/>
          <p:cNvSpPr/>
          <p:nvPr/>
        </p:nvSpPr>
        <p:spPr>
          <a:xfrm>
            <a:off x="4862160" y="565200"/>
            <a:ext cx="207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HOTOSH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ae"/>
          <p:cNvSpPr/>
          <p:nvPr/>
        </p:nvSpPr>
        <p:spPr>
          <a:xfrm>
            <a:off x="495000" y="1349280"/>
            <a:ext cx="271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TFER EFF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3D"/>
          <p:cNvSpPr/>
          <p:nvPr/>
        </p:nvSpPr>
        <p:spPr>
          <a:xfrm>
            <a:off x="6066720" y="2374920"/>
            <a:ext cx="21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3D ANI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AI"/>
          <p:cNvSpPr/>
          <p:nvPr/>
        </p:nvSpPr>
        <p:spPr>
          <a:xfrm>
            <a:off x="673200" y="3197160"/>
            <a:ext cx="218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LLUSTR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COOK"/>
          <p:cNvSpPr/>
          <p:nvPr/>
        </p:nvSpPr>
        <p:spPr>
          <a:xfrm>
            <a:off x="2503440" y="4032360"/>
            <a:ext cx="10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O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WEB"/>
          <p:cNvSpPr/>
          <p:nvPr/>
        </p:nvSpPr>
        <p:spPr>
          <a:xfrm>
            <a:off x="5798160" y="3570120"/>
            <a:ext cx="180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EB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JAVA"/>
          <p:cNvSpPr/>
          <p:nvPr/>
        </p:nvSpPr>
        <p:spPr>
          <a:xfrm>
            <a:off x="4376160" y="4516560"/>
            <a:ext cx="170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JAVA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0" name="Group 10"/>
          <p:cNvGrpSpPr/>
          <p:nvPr/>
        </p:nvGrpSpPr>
        <p:grpSpPr>
          <a:xfrm>
            <a:off x="3930480" y="1928880"/>
            <a:ext cx="1262160" cy="1262160"/>
            <a:chOff x="3930480" y="1928880"/>
            <a:chExt cx="1262160" cy="1262160"/>
          </a:xfrm>
        </p:grpSpPr>
        <p:sp>
          <p:nvSpPr>
            <p:cNvPr id="711" name="椭圆 15"/>
            <p:cNvSpPr/>
            <p:nvPr/>
          </p:nvSpPr>
          <p:spPr>
            <a:xfrm>
              <a:off x="3930480" y="1928880"/>
              <a:ext cx="1262160" cy="1262160"/>
            </a:xfrm>
            <a:prstGeom prst="ellipse">
              <a:avLst/>
            </a:prstGeom>
            <a:gradFill rotWithShape="0">
              <a:gsLst>
                <a:gs pos="0">
                  <a:srgbClr val="3f3f3f"/>
                </a:gs>
                <a:gs pos="100000">
                  <a:srgbClr val="0c0c0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矩形 16"/>
            <p:cNvSpPr/>
            <p:nvPr/>
          </p:nvSpPr>
          <p:spPr>
            <a:xfrm>
              <a:off x="4218120" y="2368800"/>
              <a:ext cx="68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8f8f8"/>
                  </a:solidFill>
                  <a:latin typeface="Calibri"/>
                </a:rPr>
                <a:t>I LIK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3" name="Group 13"/>
          <p:cNvGrpSpPr/>
          <p:nvPr/>
        </p:nvGrpSpPr>
        <p:grpSpPr>
          <a:xfrm>
            <a:off x="3928680" y="1935000"/>
            <a:ext cx="1262520" cy="1262160"/>
            <a:chOff x="3928680" y="1935000"/>
            <a:chExt cx="1262520" cy="1262160"/>
          </a:xfrm>
        </p:grpSpPr>
        <p:sp>
          <p:nvSpPr>
            <p:cNvPr id="714" name="椭圆 10"/>
            <p:cNvSpPr/>
            <p:nvPr/>
          </p:nvSpPr>
          <p:spPr>
            <a:xfrm>
              <a:off x="3928680" y="1935000"/>
              <a:ext cx="1262520" cy="1262160"/>
            </a:xfrm>
            <a:prstGeom prst="ellipse">
              <a:avLst/>
            </a:prstGeom>
            <a:gradFill rotWithShape="0">
              <a:gsLst>
                <a:gs pos="0">
                  <a:srgbClr val="3f3f3f"/>
                </a:gs>
                <a:gs pos="100000">
                  <a:srgbClr val="0c0c0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矩形 11"/>
            <p:cNvSpPr/>
            <p:nvPr/>
          </p:nvSpPr>
          <p:spPr>
            <a:xfrm>
              <a:off x="3987360" y="2374920"/>
              <a:ext cx="114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8f8f8"/>
                  </a:solidFill>
                  <a:latin typeface="Calibri"/>
                </a:rPr>
                <a:t>MY SKILL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6" name="8"/>
          <p:cNvSpPr/>
          <p:nvPr/>
        </p:nvSpPr>
        <p:spPr>
          <a:xfrm>
            <a:off x="6631200" y="2374920"/>
            <a:ext cx="102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EXT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4"/>
          <p:cNvSpPr/>
          <p:nvPr/>
        </p:nvSpPr>
        <p:spPr>
          <a:xfrm>
            <a:off x="6190560" y="3570120"/>
            <a:ext cx="102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EXT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1"/>
          <p:cNvSpPr/>
          <p:nvPr/>
        </p:nvSpPr>
        <p:spPr>
          <a:xfrm>
            <a:off x="1200600" y="1349280"/>
            <a:ext cx="130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EXT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2"/>
          <p:cNvSpPr/>
          <p:nvPr/>
        </p:nvSpPr>
        <p:spPr>
          <a:xfrm>
            <a:off x="2638800" y="179280"/>
            <a:ext cx="144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EXT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5"/>
          <p:cNvSpPr/>
          <p:nvPr/>
        </p:nvSpPr>
        <p:spPr>
          <a:xfrm>
            <a:off x="5317920" y="565200"/>
            <a:ext cx="11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EXT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7"/>
          <p:cNvSpPr/>
          <p:nvPr/>
        </p:nvSpPr>
        <p:spPr>
          <a:xfrm>
            <a:off x="1271520" y="3197160"/>
            <a:ext cx="11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EXT 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6"/>
          <p:cNvSpPr/>
          <p:nvPr/>
        </p:nvSpPr>
        <p:spPr>
          <a:xfrm>
            <a:off x="2643480" y="403236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矩形 22"/>
          <p:cNvSpPr/>
          <p:nvPr/>
        </p:nvSpPr>
        <p:spPr>
          <a:xfrm>
            <a:off x="4715640" y="4516560"/>
            <a:ext cx="102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EXT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0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withEffect" fill="hold" presetClass="exit" presetID="10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3" dur="100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25" dur="1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8" dur="100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30" dur="1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3" dur="100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35" dur="1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8" dur="100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40" dur="1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xit" presetID="10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3" dur="100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45" dur="1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xit" presetID="10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8" dur="100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50" dur="1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nodeType="withEffect" fill="hold" presetClass="exit" presetID="10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3" dur="100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55" dur="1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0">
                                  <p:stCondLst>
                                    <p:cond delay="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8" dur="100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60" dur="1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66" dur="1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368" dur="200" fill="hold"/>
                                        <p:tgtEl>
                                          <p:spTgt spid="716"/>
                                        </p:tgtEl>
                                      </p:cBhvr>
                                      <p:to x="108000" y="108000"/>
                                    </p:animScale>
                                  </p:childTnLst>
                                </p:cTn>
                              </p:par>
                              <p:par>
                                <p:cTn id="369" nodeType="withEffect" fill="hold" presetClass="emph" presetID="6">
                                  <p:stCondLst>
                                    <p:cond delay="600"/>
                                  </p:stCondLst>
                                  <p:childTnLst>
                                    <p:animScale>
                                      <p:cBhvr>
                                        <p:cTn id="370" dur="300" fill="hold"/>
                                        <p:tgtEl>
                                          <p:spTgt spid="716"/>
                                        </p:tgtEl>
                                      </p:cBhvr>
                                      <p:to x="92000" y="92000"/>
                                    </p:animScale>
                                  </p:childTnLst>
                                </p:cTn>
                              </p:par>
                              <p:par>
                                <p:cTn id="371" nodeType="withEffect" fill="hold" presetClass="emph" presetID="6">
                                  <p:stCondLst>
                                    <p:cond delay="900"/>
                                  </p:stCondLst>
                                  <p:childTnLst>
                                    <p:animScale>
                                      <p:cBhvr>
                                        <p:cTn id="372" dur="200" fill="hold"/>
                                        <p:tgtEl>
                                          <p:spTgt spid="71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73" nodeType="withEffect" fill="hold" presetClass="emph" presetID="6">
                                  <p:stCondLst>
                                    <p:cond delay="1100"/>
                                  </p:stCondLst>
                                  <p:childTnLst>
                                    <p:animScale>
                                      <p:cBhvr>
                                        <p:cTn id="374" dur="300" fill="hold"/>
                                        <p:tgtEl>
                                          <p:spTgt spid="716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79" dur="1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381" dur="200" fill="hold"/>
                                        <p:tgtEl>
                                          <p:spTgt spid="717"/>
                                        </p:tgtEl>
                                      </p:cBhvr>
                                      <p:to x="108000" y="108000"/>
                                    </p:animScale>
                                  </p:childTnLst>
                                </p:cTn>
                              </p:par>
                              <p:par>
                                <p:cTn id="382" nodeType="withEffect" fill="hold" presetClass="emph" presetID="6">
                                  <p:stCondLst>
                                    <p:cond delay="700"/>
                                  </p:stCondLst>
                                  <p:childTnLst>
                                    <p:animScale>
                                      <p:cBhvr>
                                        <p:cTn id="383" dur="300" fill="hold"/>
                                        <p:tgtEl>
                                          <p:spTgt spid="717"/>
                                        </p:tgtEl>
                                      </p:cBhvr>
                                      <p:to x="92000" y="92000"/>
                                    </p:animScale>
                                  </p:childTnLst>
                                </p:cTn>
                              </p:par>
                              <p:par>
                                <p:cTn id="384" nodeType="with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385" dur="200" fill="hold"/>
                                        <p:tgtEl>
                                          <p:spTgt spid="71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86" nodeType="withEffect" fill="hold" presetClass="emph" presetID="6">
                                  <p:stCondLst>
                                    <p:cond delay="1200"/>
                                  </p:stCondLst>
                                  <p:childTnLst>
                                    <p:animScale>
                                      <p:cBhvr>
                                        <p:cTn id="387" dur="300" fill="hold"/>
                                        <p:tgtEl>
                                          <p:spTgt spid="717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  <p:par>
                                <p:cTn id="388" nodeType="withEffect" fill="hold" presetClass="exit" presetID="10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9" dur="200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200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91" dur="2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4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4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97" dur="4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399" dur="200" fill="hold"/>
                                        <p:tgtEl>
                                          <p:spTgt spid="710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400" nodeType="with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401" dur="300" fill="hold"/>
                                        <p:tgtEl>
                                          <p:spTgt spid="710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06" dur="1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408" dur="200" fill="hold"/>
                                        <p:tgtEl>
                                          <p:spTgt spid="718"/>
                                        </p:tgtEl>
                                      </p:cBhvr>
                                      <p:to x="108000" y="108000"/>
                                    </p:animScale>
                                  </p:childTnLst>
                                </p:cTn>
                              </p:par>
                              <p:par>
                                <p:cTn id="409" nodeType="withEffect" fill="hold" presetClass="emph" presetID="6">
                                  <p:stCondLst>
                                    <p:cond delay="700"/>
                                  </p:stCondLst>
                                  <p:childTnLst>
                                    <p:animScale>
                                      <p:cBhvr>
                                        <p:cTn id="410" dur="300" fill="hold"/>
                                        <p:tgtEl>
                                          <p:spTgt spid="718"/>
                                        </p:tgtEl>
                                      </p:cBhvr>
                                      <p:to x="92000" y="92000"/>
                                    </p:animScale>
                                  </p:childTnLst>
                                </p:cTn>
                              </p:par>
                              <p:par>
                                <p:cTn id="411" nodeType="with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412" dur="200" fill="hold"/>
                                        <p:tgtEl>
                                          <p:spTgt spid="71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13" nodeType="withEffect" fill="hold" presetClass="emph" presetID="6">
                                  <p:stCondLst>
                                    <p:cond delay="1200"/>
                                  </p:stCondLst>
                                  <p:childTnLst>
                                    <p:animScale>
                                      <p:cBhvr>
                                        <p:cTn id="414" dur="300" fill="hold"/>
                                        <p:tgtEl>
                                          <p:spTgt spid="718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19" dur="1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mph" presetID="6">
                                  <p:stCondLst>
                                    <p:cond delay="1100"/>
                                  </p:stCondLst>
                                  <p:childTnLst>
                                    <p:animScale>
                                      <p:cBhvr>
                                        <p:cTn id="421" dur="200" fill="hold"/>
                                        <p:tgtEl>
                                          <p:spTgt spid="719"/>
                                        </p:tgtEl>
                                      </p:cBhvr>
                                      <p:to x="108000" y="108000"/>
                                    </p:animScale>
                                  </p:childTnLst>
                                </p:cTn>
                              </p:par>
                              <p:par>
                                <p:cTn id="422" nodeType="withEffect" fill="hold" presetClass="emph" presetID="6">
                                  <p:stCondLst>
                                    <p:cond delay="1300"/>
                                  </p:stCondLst>
                                  <p:childTnLst>
                                    <p:animScale>
                                      <p:cBhvr>
                                        <p:cTn id="423" dur="300" fill="hold"/>
                                        <p:tgtEl>
                                          <p:spTgt spid="719"/>
                                        </p:tgtEl>
                                      </p:cBhvr>
                                      <p:to x="92000" y="92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mph" presetID="6">
                                  <p:stCondLst>
                                    <p:cond delay="1600"/>
                                  </p:stCondLst>
                                  <p:childTnLst>
                                    <p:animScale>
                                      <p:cBhvr>
                                        <p:cTn id="425" dur="200" fill="hold"/>
                                        <p:tgtEl>
                                          <p:spTgt spid="71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26" nodeType="withEffect" fill="hold" presetClass="emph" presetID="6">
                                  <p:stCondLst>
                                    <p:cond delay="1800"/>
                                  </p:stCondLst>
                                  <p:childTnLst>
                                    <p:animScale>
                                      <p:cBhvr>
                                        <p:cTn id="427" dur="300" fill="hold"/>
                                        <p:tgtEl>
                                          <p:spTgt spid="719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1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32" dur="1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mph" presetID="6">
                                  <p:stCondLst>
                                    <p:cond delay="700"/>
                                  </p:stCondLst>
                                  <p:childTnLst>
                                    <p:animScale>
                                      <p:cBhvr>
                                        <p:cTn id="434" dur="200" fill="hold"/>
                                        <p:tgtEl>
                                          <p:spTgt spid="720"/>
                                        </p:tgtEl>
                                      </p:cBhvr>
                                      <p:to x="108000" y="108000"/>
                                    </p:animScale>
                                  </p:childTnLst>
                                </p:cTn>
                              </p:par>
                              <p:par>
                                <p:cTn id="435" nodeType="withEffect" fill="hold" presetClass="emph" presetID="6">
                                  <p:stCondLst>
                                    <p:cond delay="900"/>
                                  </p:stCondLst>
                                  <p:childTnLst>
                                    <p:animScale>
                                      <p:cBhvr>
                                        <p:cTn id="436" dur="300" fill="hold"/>
                                        <p:tgtEl>
                                          <p:spTgt spid="720"/>
                                        </p:tgtEl>
                                      </p:cBhvr>
                                      <p:to x="92000" y="92000"/>
                                    </p:animScale>
                                  </p:childTnLst>
                                </p:cTn>
                              </p:par>
                              <p:par>
                                <p:cTn id="437" nodeType="withEffect" fill="hold" presetClass="emph" presetID="6">
                                  <p:stCondLst>
                                    <p:cond delay="1200"/>
                                  </p:stCondLst>
                                  <p:childTnLst>
                                    <p:animScale>
                                      <p:cBhvr>
                                        <p:cTn id="438" dur="200" fill="hold"/>
                                        <p:tgtEl>
                                          <p:spTgt spid="72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39" nodeType="withEffect" fill="hold" presetClass="emph" presetID="6">
                                  <p:stCondLst>
                                    <p:cond delay="1400"/>
                                  </p:stCondLst>
                                  <p:childTnLst>
                                    <p:animScale>
                                      <p:cBhvr>
                                        <p:cTn id="440" dur="300" fill="hold"/>
                                        <p:tgtEl>
                                          <p:spTgt spid="720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45" dur="1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447" dur="200" fill="hold"/>
                                        <p:tgtEl>
                                          <p:spTgt spid="721"/>
                                        </p:tgtEl>
                                      </p:cBhvr>
                                      <p:to x="108000" y="108000"/>
                                    </p:animScale>
                                  </p:childTnLst>
                                </p:cTn>
                              </p:par>
                              <p:par>
                                <p:cTn id="448" nodeType="withEffect" fill="hold" presetClass="emph" presetID="6">
                                  <p:stCondLst>
                                    <p:cond delay="700"/>
                                  </p:stCondLst>
                                  <p:childTnLst>
                                    <p:animScale>
                                      <p:cBhvr>
                                        <p:cTn id="449" dur="300" fill="hold"/>
                                        <p:tgtEl>
                                          <p:spTgt spid="721"/>
                                        </p:tgtEl>
                                      </p:cBhvr>
                                      <p:to x="92000" y="92000"/>
                                    </p:animScale>
                                  </p:childTnLst>
                                </p:cTn>
                              </p:par>
                              <p:par>
                                <p:cTn id="450" nodeType="with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451" dur="200" fill="hold"/>
                                        <p:tgtEl>
                                          <p:spTgt spid="72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52" nodeType="withEffect" fill="hold" presetClass="emph" presetID="6">
                                  <p:stCondLst>
                                    <p:cond delay="1200"/>
                                  </p:stCondLst>
                                  <p:childTnLst>
                                    <p:animScale>
                                      <p:cBhvr>
                                        <p:cTn id="453" dur="300" fill="hold"/>
                                        <p:tgtEl>
                                          <p:spTgt spid="721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1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58" dur="1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mph" presetID="6">
                                  <p:stCondLst>
                                    <p:cond delay="600"/>
                                  </p:stCondLst>
                                  <p:childTnLst>
                                    <p:animScale>
                                      <p:cBhvr>
                                        <p:cTn id="460" dur="200" fill="hold"/>
                                        <p:tgtEl>
                                          <p:spTgt spid="722"/>
                                        </p:tgtEl>
                                      </p:cBhvr>
                                      <p:to x="108000" y="108000"/>
                                    </p:animScale>
                                  </p:childTnLst>
                                </p:cTn>
                              </p:par>
                              <p:par>
                                <p:cTn id="461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462" dur="300" fill="hold"/>
                                        <p:tgtEl>
                                          <p:spTgt spid="722"/>
                                        </p:tgtEl>
                                      </p:cBhvr>
                                      <p:to x="92000" y="92000"/>
                                    </p:animScale>
                                  </p:childTnLst>
                                </p:cTn>
                              </p:par>
                              <p:par>
                                <p:cTn id="463" nodeType="withEffect" fill="hold" presetClass="emph" presetID="6">
                                  <p:stCondLst>
                                    <p:cond delay="1100"/>
                                  </p:stCondLst>
                                  <p:childTnLst>
                                    <p:animScale>
                                      <p:cBhvr>
                                        <p:cTn id="464" dur="200" fill="hold"/>
                                        <p:tgtEl>
                                          <p:spTgt spid="72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65" nodeType="withEffect" fill="hold" presetClass="emph" presetID="6">
                                  <p:stCondLst>
                                    <p:cond delay="1300"/>
                                  </p:stCondLst>
                                  <p:childTnLst>
                                    <p:animScale>
                                      <p:cBhvr>
                                        <p:cTn id="466" dur="300" fill="hold"/>
                                        <p:tgtEl>
                                          <p:spTgt spid="722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1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71" dur="1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473" dur="200" fill="hold"/>
                                        <p:tgtEl>
                                          <p:spTgt spid="723"/>
                                        </p:tgtEl>
                                      </p:cBhvr>
                                      <p:to x="108000" y="108000"/>
                                    </p:animScale>
                                  </p:childTnLst>
                                </p:cTn>
                              </p:par>
                              <p:par>
                                <p:cTn id="474" nodeType="with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475" dur="300" fill="hold"/>
                                        <p:tgtEl>
                                          <p:spTgt spid="723"/>
                                        </p:tgtEl>
                                      </p:cBhvr>
                                      <p:to x="92000" y="92000"/>
                                    </p:animScale>
                                  </p:childTnLst>
                                </p:cTn>
                              </p:par>
                              <p:par>
                                <p:cTn id="476" nodeType="withEffect" fill="hold" presetClass="emph" presetID="6">
                                  <p:stCondLst>
                                    <p:cond delay="1300"/>
                                  </p:stCondLst>
                                  <p:childTnLst>
                                    <p:animScale>
                                      <p:cBhvr>
                                        <p:cTn id="477" dur="200" fill="hold"/>
                                        <p:tgtEl>
                                          <p:spTgt spid="72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78" nodeType="with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479" dur="300" fill="hold"/>
                                        <p:tgtEl>
                                          <p:spTgt spid="723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  <p:par>
                                <p:cTn id="480" nodeType="withEffect" fill="hold" presetClass="exit" presetID="10">
                                  <p:stCondLst>
                                    <p:cond delay="2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1" dur="100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83" dur="1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xit" presetID="10">
                                  <p:stCondLst>
                                    <p:cond delay="2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6" dur="200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200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88" dur="2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0" nodeType="withEffect" fill="hold" presetClass="exit" presetID="10">
                                  <p:stCondLst>
                                    <p:cond delay="2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1" dur="100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93" dur="1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5" nodeType="withEffect" fill="hold" presetClass="exit" presetID="10">
                                  <p:stCondLst>
                                    <p:cond delay="2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6" dur="100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98" dur="1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0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1" dur="200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200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03" dur="2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5" nodeType="withEffect" fill="hold" presetClass="exit" presetID="10">
                                  <p:stCondLst>
                                    <p:cond delay="3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6" dur="100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08" dur="1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0" nodeType="withEffect" fill="hold" presetClass="exit" presetID="10">
                                  <p:stCondLst>
                                    <p:cond delay="3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1" dur="100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13" dur="1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5" nodeType="withEffect" fill="hold" presetClass="exit" presetID="10">
                                  <p:stCondLst>
                                    <p:cond delay="3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6" dur="100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18" dur="1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4" name="Group 2"/>
          <p:cNvGrpSpPr/>
          <p:nvPr/>
        </p:nvGrpSpPr>
        <p:grpSpPr>
          <a:xfrm>
            <a:off x="3930480" y="1928880"/>
            <a:ext cx="1262160" cy="1262160"/>
            <a:chOff x="3930480" y="1928880"/>
            <a:chExt cx="1262160" cy="1262160"/>
          </a:xfrm>
        </p:grpSpPr>
        <p:sp>
          <p:nvSpPr>
            <p:cNvPr id="725" name="椭圆 8"/>
            <p:cNvSpPr/>
            <p:nvPr/>
          </p:nvSpPr>
          <p:spPr>
            <a:xfrm>
              <a:off x="3930480" y="1928880"/>
              <a:ext cx="1262160" cy="1262160"/>
            </a:xfrm>
            <a:prstGeom prst="ellipse">
              <a:avLst/>
            </a:prstGeom>
            <a:gradFill rotWithShape="0">
              <a:gsLst>
                <a:gs pos="0">
                  <a:srgbClr val="3f3f3f"/>
                </a:gs>
                <a:gs pos="100000">
                  <a:srgbClr val="0c0c0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矩形 9"/>
            <p:cNvSpPr/>
            <p:nvPr/>
          </p:nvSpPr>
          <p:spPr>
            <a:xfrm>
              <a:off x="4218120" y="2368800"/>
              <a:ext cx="68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8f8f8"/>
                  </a:solidFill>
                  <a:latin typeface="Calibri"/>
                </a:rPr>
                <a:t>I LIK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7" name="0"/>
          <p:cNvSpPr/>
          <p:nvPr/>
        </p:nvSpPr>
        <p:spPr>
          <a:xfrm>
            <a:off x="1836720" y="1847880"/>
            <a:ext cx="5470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Calibri"/>
              </a:rPr>
              <a:t>WHAT ELS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矩形 1"/>
          <p:cNvSpPr/>
          <p:nvPr/>
        </p:nvSpPr>
        <p:spPr>
          <a:xfrm>
            <a:off x="1564920" y="1787400"/>
            <a:ext cx="5991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"/>
              </a:rPr>
              <a:t>PORTFOLIO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9" name="Group 7"/>
          <p:cNvGrpSpPr/>
          <p:nvPr/>
        </p:nvGrpSpPr>
        <p:grpSpPr>
          <a:xfrm>
            <a:off x="395280" y="3098880"/>
            <a:ext cx="2521080" cy="1554120"/>
            <a:chOff x="395280" y="3098880"/>
            <a:chExt cx="2521080" cy="1554120"/>
          </a:xfrm>
        </p:grpSpPr>
        <p:sp>
          <p:nvSpPr>
            <p:cNvPr id="730" name="矩形 15"/>
            <p:cNvSpPr/>
            <p:nvPr/>
          </p:nvSpPr>
          <p:spPr>
            <a:xfrm>
              <a:off x="395280" y="3098880"/>
              <a:ext cx="2521080" cy="155412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矩形 3"/>
            <p:cNvSpPr/>
            <p:nvPr/>
          </p:nvSpPr>
          <p:spPr>
            <a:xfrm>
              <a:off x="725760" y="3546000"/>
              <a:ext cx="1859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MEDIA 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IMAGE</a:t>
              </a:r>
              <a:r>
                <a:rPr b="1" lang="zh-CN" sz="2000" spc="-1" strike="noStrike">
                  <a:solidFill>
                    <a:srgbClr val="000000"/>
                  </a:solidFill>
                  <a:latin typeface="Calibri"/>
                </a:rPr>
                <a:t>｜</a:t>
              </a: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VIDE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2" name="Group 10"/>
          <p:cNvGrpSpPr/>
          <p:nvPr/>
        </p:nvGrpSpPr>
        <p:grpSpPr>
          <a:xfrm>
            <a:off x="395280" y="434880"/>
            <a:ext cx="2521080" cy="1555920"/>
            <a:chOff x="395280" y="434880"/>
            <a:chExt cx="2521080" cy="1555920"/>
          </a:xfrm>
        </p:grpSpPr>
        <p:sp>
          <p:nvSpPr>
            <p:cNvPr id="733" name="矩形 11"/>
            <p:cNvSpPr/>
            <p:nvPr/>
          </p:nvSpPr>
          <p:spPr>
            <a:xfrm>
              <a:off x="395280" y="434880"/>
              <a:ext cx="2521080" cy="155592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矩形 16"/>
            <p:cNvSpPr/>
            <p:nvPr/>
          </p:nvSpPr>
          <p:spPr>
            <a:xfrm>
              <a:off x="725760" y="858600"/>
              <a:ext cx="1859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MEDIA 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IMAGE</a:t>
              </a:r>
              <a:r>
                <a:rPr b="1" lang="zh-CN" sz="2000" spc="-1" strike="noStrike">
                  <a:solidFill>
                    <a:srgbClr val="000000"/>
                  </a:solidFill>
                  <a:latin typeface="Calibri"/>
                </a:rPr>
                <a:t>｜</a:t>
              </a: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VIDE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5" name="Group 13"/>
          <p:cNvGrpSpPr/>
          <p:nvPr/>
        </p:nvGrpSpPr>
        <p:grpSpPr>
          <a:xfrm>
            <a:off x="3311640" y="434880"/>
            <a:ext cx="2520720" cy="1555920"/>
            <a:chOff x="3311640" y="434880"/>
            <a:chExt cx="2520720" cy="1555920"/>
          </a:xfrm>
        </p:grpSpPr>
        <p:sp>
          <p:nvSpPr>
            <p:cNvPr id="736" name="矩形 2"/>
            <p:cNvSpPr/>
            <p:nvPr/>
          </p:nvSpPr>
          <p:spPr>
            <a:xfrm>
              <a:off x="3311640" y="434880"/>
              <a:ext cx="2520720" cy="155592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矩形 17"/>
            <p:cNvSpPr/>
            <p:nvPr/>
          </p:nvSpPr>
          <p:spPr>
            <a:xfrm>
              <a:off x="3631320" y="858600"/>
              <a:ext cx="1859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MEDIA 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IMAGE</a:t>
              </a:r>
              <a:r>
                <a:rPr b="1" lang="zh-CN" sz="2000" spc="-1" strike="noStrike">
                  <a:solidFill>
                    <a:srgbClr val="000000"/>
                  </a:solidFill>
                  <a:latin typeface="Calibri"/>
                </a:rPr>
                <a:t>｜</a:t>
              </a: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VIDE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8" name="Group 16"/>
          <p:cNvGrpSpPr/>
          <p:nvPr/>
        </p:nvGrpSpPr>
        <p:grpSpPr>
          <a:xfrm>
            <a:off x="6227640" y="434880"/>
            <a:ext cx="2521080" cy="1555920"/>
            <a:chOff x="6227640" y="434880"/>
            <a:chExt cx="2521080" cy="1555920"/>
          </a:xfrm>
        </p:grpSpPr>
        <p:sp>
          <p:nvSpPr>
            <p:cNvPr id="739" name="矩形 12"/>
            <p:cNvSpPr/>
            <p:nvPr/>
          </p:nvSpPr>
          <p:spPr>
            <a:xfrm>
              <a:off x="6227640" y="434880"/>
              <a:ext cx="2521080" cy="155592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矩形 18"/>
            <p:cNvSpPr/>
            <p:nvPr/>
          </p:nvSpPr>
          <p:spPr>
            <a:xfrm>
              <a:off x="6558120" y="858600"/>
              <a:ext cx="1859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MEDIA 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IMAGE</a:t>
              </a:r>
              <a:r>
                <a:rPr b="1" lang="zh-CN" sz="2000" spc="-1" strike="noStrike">
                  <a:solidFill>
                    <a:srgbClr val="000000"/>
                  </a:solidFill>
                  <a:latin typeface="Calibri"/>
                </a:rPr>
                <a:t>｜</a:t>
              </a: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VIDE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1" name="Group 19"/>
          <p:cNvGrpSpPr/>
          <p:nvPr/>
        </p:nvGrpSpPr>
        <p:grpSpPr>
          <a:xfrm>
            <a:off x="6227640" y="3122640"/>
            <a:ext cx="2521080" cy="1554120"/>
            <a:chOff x="6227640" y="3122640"/>
            <a:chExt cx="2521080" cy="1554120"/>
          </a:xfrm>
        </p:grpSpPr>
        <p:sp>
          <p:nvSpPr>
            <p:cNvPr id="742" name="矩形 14"/>
            <p:cNvSpPr/>
            <p:nvPr/>
          </p:nvSpPr>
          <p:spPr>
            <a:xfrm>
              <a:off x="6227640" y="3122640"/>
              <a:ext cx="2521080" cy="155412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矩形 19"/>
            <p:cNvSpPr/>
            <p:nvPr/>
          </p:nvSpPr>
          <p:spPr>
            <a:xfrm>
              <a:off x="6558120" y="3521880"/>
              <a:ext cx="1859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MEDIA 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IMAGE</a:t>
              </a:r>
              <a:r>
                <a:rPr b="1" lang="zh-CN" sz="2000" spc="-1" strike="noStrike">
                  <a:solidFill>
                    <a:srgbClr val="000000"/>
                  </a:solidFill>
                  <a:latin typeface="Calibri"/>
                </a:rPr>
                <a:t>｜</a:t>
              </a: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VIDE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4" name="Group 22"/>
          <p:cNvGrpSpPr/>
          <p:nvPr/>
        </p:nvGrpSpPr>
        <p:grpSpPr>
          <a:xfrm>
            <a:off x="3300480" y="3122640"/>
            <a:ext cx="2520720" cy="1554120"/>
            <a:chOff x="3300480" y="3122640"/>
            <a:chExt cx="2520720" cy="1554120"/>
          </a:xfrm>
        </p:grpSpPr>
        <p:sp>
          <p:nvSpPr>
            <p:cNvPr id="745" name="矩形 13"/>
            <p:cNvSpPr/>
            <p:nvPr/>
          </p:nvSpPr>
          <p:spPr>
            <a:xfrm>
              <a:off x="3300480" y="3122640"/>
              <a:ext cx="2520720" cy="155412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矩形 20"/>
            <p:cNvSpPr/>
            <p:nvPr/>
          </p:nvSpPr>
          <p:spPr>
            <a:xfrm>
              <a:off x="3641760" y="3521880"/>
              <a:ext cx="1859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MEDIA 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IMAGE</a:t>
              </a:r>
              <a:r>
                <a:rPr b="1" lang="zh-CN" sz="2000" spc="-1" strike="noStrike">
                  <a:solidFill>
                    <a:srgbClr val="000000"/>
                  </a:solidFill>
                  <a:latin typeface="Calibri"/>
                </a:rPr>
                <a:t>｜</a:t>
              </a: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VIDE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7" name="Group 25"/>
          <p:cNvGrpSpPr/>
          <p:nvPr/>
        </p:nvGrpSpPr>
        <p:grpSpPr>
          <a:xfrm>
            <a:off x="395280" y="6051600"/>
            <a:ext cx="2521080" cy="1555560"/>
            <a:chOff x="395280" y="6051600"/>
            <a:chExt cx="2521080" cy="1555560"/>
          </a:xfrm>
        </p:grpSpPr>
        <p:sp>
          <p:nvSpPr>
            <p:cNvPr id="748" name="矩形 28"/>
            <p:cNvSpPr/>
            <p:nvPr/>
          </p:nvSpPr>
          <p:spPr>
            <a:xfrm>
              <a:off x="395280" y="6051600"/>
              <a:ext cx="2521080" cy="155556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矩形 29"/>
            <p:cNvSpPr/>
            <p:nvPr/>
          </p:nvSpPr>
          <p:spPr>
            <a:xfrm>
              <a:off x="725760" y="6475320"/>
              <a:ext cx="1859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MEDIA 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IMAGE</a:t>
              </a:r>
              <a:r>
                <a:rPr b="1" lang="zh-CN" sz="2000" spc="-1" strike="noStrike">
                  <a:solidFill>
                    <a:srgbClr val="000000"/>
                  </a:solidFill>
                  <a:latin typeface="Calibri"/>
                </a:rPr>
                <a:t>｜</a:t>
              </a: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VIDE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0" name="Group 28"/>
          <p:cNvGrpSpPr/>
          <p:nvPr/>
        </p:nvGrpSpPr>
        <p:grpSpPr>
          <a:xfrm>
            <a:off x="3300480" y="6051600"/>
            <a:ext cx="2520720" cy="1555560"/>
            <a:chOff x="3300480" y="6051600"/>
            <a:chExt cx="2520720" cy="1555560"/>
          </a:xfrm>
        </p:grpSpPr>
        <p:sp>
          <p:nvSpPr>
            <p:cNvPr id="751" name="矩形 31"/>
            <p:cNvSpPr/>
            <p:nvPr/>
          </p:nvSpPr>
          <p:spPr>
            <a:xfrm>
              <a:off x="3300480" y="6051600"/>
              <a:ext cx="2520720" cy="155556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矩形 32"/>
            <p:cNvSpPr/>
            <p:nvPr/>
          </p:nvSpPr>
          <p:spPr>
            <a:xfrm>
              <a:off x="3630960" y="6475320"/>
              <a:ext cx="1859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MEDIA 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IMAGE</a:t>
              </a:r>
              <a:r>
                <a:rPr b="1" lang="zh-CN" sz="2000" spc="-1" strike="noStrike">
                  <a:solidFill>
                    <a:srgbClr val="000000"/>
                  </a:solidFill>
                  <a:latin typeface="Calibri"/>
                </a:rPr>
                <a:t>｜</a:t>
              </a: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VIDE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3" name="Group 31"/>
          <p:cNvGrpSpPr/>
          <p:nvPr/>
        </p:nvGrpSpPr>
        <p:grpSpPr>
          <a:xfrm>
            <a:off x="6227640" y="6027840"/>
            <a:ext cx="2521080" cy="1555560"/>
            <a:chOff x="6227640" y="6027840"/>
            <a:chExt cx="2521080" cy="1555560"/>
          </a:xfrm>
        </p:grpSpPr>
        <p:sp>
          <p:nvSpPr>
            <p:cNvPr id="754" name="矩形 34"/>
            <p:cNvSpPr/>
            <p:nvPr/>
          </p:nvSpPr>
          <p:spPr>
            <a:xfrm>
              <a:off x="6227640" y="6027840"/>
              <a:ext cx="2521080" cy="155556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矩形 35"/>
            <p:cNvSpPr/>
            <p:nvPr/>
          </p:nvSpPr>
          <p:spPr>
            <a:xfrm>
              <a:off x="6558120" y="6451560"/>
              <a:ext cx="1859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MEDIA 9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IMAGE</a:t>
              </a:r>
              <a:r>
                <a:rPr b="1" lang="zh-CN" sz="2000" spc="-1" strike="noStrike">
                  <a:solidFill>
                    <a:srgbClr val="000000"/>
                  </a:solidFill>
                  <a:latin typeface="Calibri"/>
                </a:rPr>
                <a:t>｜</a:t>
              </a: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VIDE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6" name="Group 34"/>
          <p:cNvGrpSpPr/>
          <p:nvPr/>
        </p:nvGrpSpPr>
        <p:grpSpPr>
          <a:xfrm>
            <a:off x="6245280" y="8836200"/>
            <a:ext cx="2519280" cy="1555560"/>
            <a:chOff x="6245280" y="8836200"/>
            <a:chExt cx="2519280" cy="1555560"/>
          </a:xfrm>
        </p:grpSpPr>
        <p:sp>
          <p:nvSpPr>
            <p:cNvPr id="757" name="矩形 37"/>
            <p:cNvSpPr/>
            <p:nvPr/>
          </p:nvSpPr>
          <p:spPr>
            <a:xfrm>
              <a:off x="6245280" y="8836200"/>
              <a:ext cx="2519280" cy="155556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矩形 38"/>
            <p:cNvSpPr/>
            <p:nvPr/>
          </p:nvSpPr>
          <p:spPr>
            <a:xfrm>
              <a:off x="6575040" y="9259920"/>
              <a:ext cx="1859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MEDIA 1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IMAGE</a:t>
              </a:r>
              <a:r>
                <a:rPr b="1" lang="zh-CN" sz="2000" spc="-1" strike="noStrike">
                  <a:solidFill>
                    <a:srgbClr val="000000"/>
                  </a:solidFill>
                  <a:latin typeface="Calibri"/>
                </a:rPr>
                <a:t>｜</a:t>
              </a: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VIDE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9" name="Group 37"/>
          <p:cNvGrpSpPr/>
          <p:nvPr/>
        </p:nvGrpSpPr>
        <p:grpSpPr>
          <a:xfrm>
            <a:off x="3313080" y="8834400"/>
            <a:ext cx="2519280" cy="1555920"/>
            <a:chOff x="3313080" y="8834400"/>
            <a:chExt cx="2519280" cy="1555920"/>
          </a:xfrm>
        </p:grpSpPr>
        <p:sp>
          <p:nvSpPr>
            <p:cNvPr id="760" name="矩形 40"/>
            <p:cNvSpPr/>
            <p:nvPr/>
          </p:nvSpPr>
          <p:spPr>
            <a:xfrm>
              <a:off x="3313080" y="8834400"/>
              <a:ext cx="2519280" cy="155592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矩形 41"/>
            <p:cNvSpPr/>
            <p:nvPr/>
          </p:nvSpPr>
          <p:spPr>
            <a:xfrm>
              <a:off x="3642840" y="9258120"/>
              <a:ext cx="1859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MEDIA 1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IMAGE</a:t>
              </a:r>
              <a:r>
                <a:rPr b="1" lang="zh-CN" sz="2000" spc="-1" strike="noStrike">
                  <a:solidFill>
                    <a:srgbClr val="000000"/>
                  </a:solidFill>
                  <a:latin typeface="Calibri"/>
                </a:rPr>
                <a:t>｜</a:t>
              </a: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VIDE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2" name="Group 40"/>
          <p:cNvGrpSpPr/>
          <p:nvPr/>
        </p:nvGrpSpPr>
        <p:grpSpPr>
          <a:xfrm>
            <a:off x="395280" y="8834400"/>
            <a:ext cx="2521080" cy="1555920"/>
            <a:chOff x="395280" y="8834400"/>
            <a:chExt cx="2521080" cy="1555920"/>
          </a:xfrm>
        </p:grpSpPr>
        <p:sp>
          <p:nvSpPr>
            <p:cNvPr id="763" name="矩形 43"/>
            <p:cNvSpPr/>
            <p:nvPr/>
          </p:nvSpPr>
          <p:spPr>
            <a:xfrm>
              <a:off x="395280" y="8834400"/>
              <a:ext cx="2521080" cy="155592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矩形 44"/>
            <p:cNvSpPr/>
            <p:nvPr/>
          </p:nvSpPr>
          <p:spPr>
            <a:xfrm>
              <a:off x="725760" y="9258120"/>
              <a:ext cx="1859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MEDIA 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IMAGE</a:t>
              </a:r>
              <a:r>
                <a:rPr b="1" lang="zh-CN" sz="2000" spc="-1" strike="noStrike">
                  <a:solidFill>
                    <a:srgbClr val="000000"/>
                  </a:solidFill>
                  <a:latin typeface="Calibri"/>
                </a:rPr>
                <a:t>｜</a:t>
              </a: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VIDE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nodeType="clickEffect" fill="hold">
                      <p:stCondLst>
                        <p:cond delay="0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withEffect" fill="hold" presetClass="exit" presetID="45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25" dur="24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6" dur="2400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2400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2399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9" nodeType="with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35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nodeType="withEffect" fill="hold" presetClass="exit" presetID="45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37" dur="20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8" dur="2000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2000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xit" presetID="1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5" nodeType="withEffect" fill="hold" presetClass="exit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45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9" dur="20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0" dur="2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2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2" nodeType="withEffect" fill="hold" presetClass="emph" presetID="6">
                                  <p:stCondLst>
                                    <p:cond delay="2600"/>
                                  </p:stCondLst>
                                  <p:childTnLst>
                                    <p:animScale>
                                      <p:cBhvr>
                                        <p:cTn id="553" dur="100" fill="hold"/>
                                        <p:tgtEl>
                                          <p:spTgt spid="728"/>
                                        </p:tgtEl>
                                      </p:cBhvr>
                                      <p:to x="30000" y="30000"/>
                                    </p:animScale>
                                  </p:childTnLst>
                                </p:cTn>
                              </p:par>
                              <p:par>
                                <p:cTn id="554" nodeType="withEffect" fill="hold" presetClass="path" presetID="42">
                                  <p:stCondLst>
                                    <p:cond delay="2600"/>
                                  </p:stCondLst>
                                  <p:childTnLst>
                                    <p:animMotion origin="layout" path="M 0.00122 0 L 0.00122 -0.02809 E">
                                      <p:cBhvr>
                                        <p:cTn id="555" dur="100" fill="hold"/>
                                        <p:tgtEl>
                                          <p:spTgt spid="7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10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1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60" dur="1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mph" presetID="6">
                                  <p:stCondLst>
                                    <p:cond delay="2700"/>
                                  </p:stCondLst>
                                  <p:childTnLst>
                                    <p:animScale>
                                      <p:cBhvr>
                                        <p:cTn id="562" dur="100" fill="hold"/>
                                        <p:tgtEl>
                                          <p:spTgt spid="732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563" nodeType="withEffect" fill="hold" presetClass="emph" presetID="6">
                                  <p:stCondLst>
                                    <p:cond delay="2800"/>
                                  </p:stCondLst>
                                  <p:childTnLst>
                                    <p:animScale>
                                      <p:cBhvr>
                                        <p:cTn id="564" dur="200" fill="hold"/>
                                        <p:tgtEl>
                                          <p:spTgt spid="732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  <p:par>
                                <p:cTn id="565" nodeType="withEffect" fill="hold" presetClass="emph" presetID="6">
                                  <p:stCondLst>
                                    <p:cond delay="3000"/>
                                  </p:stCondLst>
                                  <p:childTnLst>
                                    <p:animScale>
                                      <p:cBhvr>
                                        <p:cTn id="566" dur="100" fill="hold"/>
                                        <p:tgtEl>
                                          <p:spTgt spid="73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67" nodeType="withEffect" fill="hold" presetClass="emph" presetID="6">
                                  <p:stCondLst>
                                    <p:cond delay="3100"/>
                                  </p:stCondLst>
                                  <p:childTnLst>
                                    <p:animScale>
                                      <p:cBhvr>
                                        <p:cTn id="568" dur="200" fill="hold"/>
                                        <p:tgtEl>
                                          <p:spTgt spid="732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1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73" dur="1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mph" presetID="6">
                                  <p:stCondLst>
                                    <p:cond delay="2700"/>
                                  </p:stCondLst>
                                  <p:childTnLst>
                                    <p:animScale>
                                      <p:cBhvr>
                                        <p:cTn id="575" dur="100" fill="hold"/>
                                        <p:tgtEl>
                                          <p:spTgt spid="729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576" nodeType="withEffect" fill="hold" presetClass="emph" presetID="6">
                                  <p:stCondLst>
                                    <p:cond delay="2800"/>
                                  </p:stCondLst>
                                  <p:childTnLst>
                                    <p:animScale>
                                      <p:cBhvr>
                                        <p:cTn id="577" dur="200" fill="hold"/>
                                        <p:tgtEl>
                                          <p:spTgt spid="729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  <p:par>
                                <p:cTn id="578" nodeType="withEffect" fill="hold" presetClass="emph" presetID="6">
                                  <p:stCondLst>
                                    <p:cond delay="3000"/>
                                  </p:stCondLst>
                                  <p:childTnLst>
                                    <p:animScale>
                                      <p:cBhvr>
                                        <p:cTn id="579" dur="100" fill="hold"/>
                                        <p:tgtEl>
                                          <p:spTgt spid="72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80" nodeType="withEffect" fill="hold" presetClass="emph" presetID="6">
                                  <p:stCondLst>
                                    <p:cond delay="3100"/>
                                  </p:stCondLst>
                                  <p:childTnLst>
                                    <p:animScale>
                                      <p:cBhvr>
                                        <p:cTn id="581" dur="200" fill="hold"/>
                                        <p:tgtEl>
                                          <p:spTgt spid="729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10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1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86" dur="1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" nodeType="withEffect" fill="hold" presetClass="emph" presetID="6">
                                  <p:stCondLst>
                                    <p:cond delay="2800"/>
                                  </p:stCondLst>
                                  <p:childTnLst>
                                    <p:animScale>
                                      <p:cBhvr>
                                        <p:cTn id="588" dur="100" fill="hold"/>
                                        <p:tgtEl>
                                          <p:spTgt spid="738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589" nodeType="withEffect" fill="hold" presetClass="emph" presetID="6">
                                  <p:stCondLst>
                                    <p:cond delay="2900"/>
                                  </p:stCondLst>
                                  <p:childTnLst>
                                    <p:animScale>
                                      <p:cBhvr>
                                        <p:cTn id="590" dur="200" fill="hold"/>
                                        <p:tgtEl>
                                          <p:spTgt spid="738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  <p:par>
                                <p:cTn id="591" nodeType="withEffect" fill="hold" presetClass="emph" presetID="6">
                                  <p:stCondLst>
                                    <p:cond delay="3100"/>
                                  </p:stCondLst>
                                  <p:childTnLst>
                                    <p:animScale>
                                      <p:cBhvr>
                                        <p:cTn id="592" dur="100" fill="hold"/>
                                        <p:tgtEl>
                                          <p:spTgt spid="73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93" nodeType="withEffect" fill="hold" presetClass="emph" presetID="6">
                                  <p:stCondLst>
                                    <p:cond delay="3200"/>
                                  </p:stCondLst>
                                  <p:childTnLst>
                                    <p:animScale>
                                      <p:cBhvr>
                                        <p:cTn id="594" dur="200" fill="hold"/>
                                        <p:tgtEl>
                                          <p:spTgt spid="738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0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1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99" dur="1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" nodeType="withEffect" fill="hold" presetClass="emph" presetID="6">
                                  <p:stCondLst>
                                    <p:cond delay="2800"/>
                                  </p:stCondLst>
                                  <p:childTnLst>
                                    <p:animScale>
                                      <p:cBhvr>
                                        <p:cTn id="601" dur="100" fill="hold"/>
                                        <p:tgtEl>
                                          <p:spTgt spid="735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602" nodeType="withEffect" fill="hold" presetClass="emph" presetID="6">
                                  <p:stCondLst>
                                    <p:cond delay="3000"/>
                                  </p:stCondLst>
                                  <p:childTnLst>
                                    <p:animScale>
                                      <p:cBhvr>
                                        <p:cTn id="603" dur="200" fill="hold"/>
                                        <p:tgtEl>
                                          <p:spTgt spid="735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  <p:par>
                                <p:cTn id="604" nodeType="withEffect" fill="hold" presetClass="emph" presetID="6">
                                  <p:stCondLst>
                                    <p:cond delay="3200"/>
                                  </p:stCondLst>
                                  <p:childTnLst>
                                    <p:animScale>
                                      <p:cBhvr>
                                        <p:cTn id="605" dur="100" fill="hold"/>
                                        <p:tgtEl>
                                          <p:spTgt spid="73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06" nodeType="withEffect" fill="hold" presetClass="emph" presetID="6">
                                  <p:stCondLst>
                                    <p:cond delay="3300"/>
                                  </p:stCondLst>
                                  <p:childTnLst>
                                    <p:animScale>
                                      <p:cBhvr>
                                        <p:cTn id="607" dur="200" fill="hold"/>
                                        <p:tgtEl>
                                          <p:spTgt spid="735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10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1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12" dur="1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nodeType="withEffect" fill="hold" presetClass="emph" presetID="6">
                                  <p:stCondLst>
                                    <p:cond delay="2800"/>
                                  </p:stCondLst>
                                  <p:childTnLst>
                                    <p:animScale>
                                      <p:cBhvr>
                                        <p:cTn id="614" dur="100" fill="hold"/>
                                        <p:tgtEl>
                                          <p:spTgt spid="744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615" nodeType="withEffect" fill="hold" presetClass="emph" presetID="6">
                                  <p:stCondLst>
                                    <p:cond delay="2900"/>
                                  </p:stCondLst>
                                  <p:childTnLst>
                                    <p:animScale>
                                      <p:cBhvr>
                                        <p:cTn id="616" dur="200" fill="hold"/>
                                        <p:tgtEl>
                                          <p:spTgt spid="744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  <p:par>
                                <p:cTn id="617" nodeType="withEffect" fill="hold" presetClass="emph" presetID="6">
                                  <p:stCondLst>
                                    <p:cond delay="3100"/>
                                  </p:stCondLst>
                                  <p:childTnLst>
                                    <p:animScale>
                                      <p:cBhvr>
                                        <p:cTn id="618" dur="100" fill="hold"/>
                                        <p:tgtEl>
                                          <p:spTgt spid="74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19" nodeType="withEffect" fill="hold" presetClass="emph" presetID="6">
                                  <p:stCondLst>
                                    <p:cond delay="3200"/>
                                  </p:stCondLst>
                                  <p:childTnLst>
                                    <p:animScale>
                                      <p:cBhvr>
                                        <p:cTn id="620" dur="200" fill="hold"/>
                                        <p:tgtEl>
                                          <p:spTgt spid="744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10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1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25" dur="1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6" nodeType="withEffect" fill="hold" presetClass="emph" presetID="6">
                                  <p:stCondLst>
                                    <p:cond delay="3000"/>
                                  </p:stCondLst>
                                  <p:childTnLst>
                                    <p:animScale>
                                      <p:cBhvr>
                                        <p:cTn id="627" dur="100" fill="hold"/>
                                        <p:tgtEl>
                                          <p:spTgt spid="741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628" nodeType="withEffect" fill="hold" presetClass="emph" presetID="6">
                                  <p:stCondLst>
                                    <p:cond delay="3100"/>
                                  </p:stCondLst>
                                  <p:childTnLst>
                                    <p:animScale>
                                      <p:cBhvr>
                                        <p:cTn id="629" dur="200" fill="hold"/>
                                        <p:tgtEl>
                                          <p:spTgt spid="741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  <p:par>
                                <p:cTn id="630" nodeType="withEffect" fill="hold" presetClass="emph" presetID="6">
                                  <p:stCondLst>
                                    <p:cond delay="3300"/>
                                  </p:stCondLst>
                                  <p:childTnLst>
                                    <p:animScale>
                                      <p:cBhvr>
                                        <p:cTn id="631" dur="100" fill="hold"/>
                                        <p:tgtEl>
                                          <p:spTgt spid="74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32" nodeType="withEffect" fill="hold" presetClass="emph" presetID="6">
                                  <p:stCondLst>
                                    <p:cond delay="3400"/>
                                  </p:stCondLst>
                                  <p:childTnLst>
                                    <p:animScale>
                                      <p:cBhvr>
                                        <p:cTn id="633" dur="200" fill="hold"/>
                                        <p:tgtEl>
                                          <p:spTgt spid="741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  <p:par>
                                <p:cTn id="634" nodeType="withEffect" fill="hold" presetClass="emph" presetID="8">
                                  <p:stCondLst>
                                    <p:cond delay="4500"/>
                                  </p:stCondLst>
                                  <p:childTnLst>
                                    <p:animRot by="5400000">
                                      <p:cBhvr>
                                        <p:cTn id="635" dur="30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36" nodeType="withEffect" fill="hold" presetClass="path" presetID="42">
                                  <p:stCondLst>
                                    <p:cond delay="4500"/>
                                  </p:stCondLst>
                                  <p:childTnLst>
                                    <p:animMotion origin="layout" path="M 3.61111E-006 -3.82716E-006 L -0.004 1.09044 E">
                                      <p:cBhvr>
                                        <p:cTn id="637" dur="500" fill="hold"/>
                                        <p:tgtEl>
                                          <p:spTgt spid="7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8" nodeType="withEffect" fill="hold" presetClass="emph" presetID="8">
                                  <p:stCondLst>
                                    <p:cond delay="4500"/>
                                  </p:stCondLst>
                                  <p:childTnLst>
                                    <p:animRot by="5400000">
                                      <p:cBhvr>
                                        <p:cTn id="639" dur="30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40" nodeType="withEffect" fill="hold" presetClass="path" presetID="42">
                                  <p:stCondLst>
                                    <p:cond delay="4500"/>
                                  </p:stCondLst>
                                  <p:childTnLst>
                                    <p:animMotion origin="layout" path="M 3.61111E-006 -3.29626E-006 L 3.61111E-006 1.11956 E">
                                      <p:cBhvr>
                                        <p:cTn id="641" dur="500" fill="hold"/>
                                        <p:tgtEl>
                                          <p:spTgt spid="7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2" nodeType="withEffect" fill="hold" presetClass="emph" presetID="8">
                                  <p:stCondLst>
                                    <p:cond delay="4500"/>
                                  </p:stCondLst>
                                  <p:childTnLst>
                                    <p:animRot by="-5399940">
                                      <p:cBhvr>
                                        <p:cTn id="643" dur="30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44" nodeType="withEffect" fill="hold" presetClass="path" presetID="42">
                                  <p:stCondLst>
                                    <p:cond delay="4500"/>
                                  </p:stCondLst>
                                  <p:childTnLst>
                                    <p:animMotion origin="layout" path="M -3.61111E-006 -2.07909E-006 L -3.61111E-006 1.09144 E">
                                      <p:cBhvr>
                                        <p:cTn id="645" dur="500" fill="hold"/>
                                        <p:tgtEl>
                                          <p:spTgt spid="7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6" nodeType="withEffect" fill="hold" presetClass="emph" presetID="8">
                                  <p:stCondLst>
                                    <p:cond delay="4500"/>
                                  </p:stCondLst>
                                  <p:childTnLst>
                                    <p:animRot by="-5399940">
                                      <p:cBhvr>
                                        <p:cTn id="647" dur="30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48" nodeType="withEffect" fill="hold" presetClass="path" presetID="42">
                                  <p:stCondLst>
                                    <p:cond delay="4500"/>
                                  </p:stCondLst>
                                  <p:childTnLst>
                                    <p:animMotion origin="layout" path="M -3.61111E-006 2.78344E-006 L -3.61111E-006 1.11492 E">
                                      <p:cBhvr>
                                        <p:cTn id="649" dur="500" fill="hold"/>
                                        <p:tgtEl>
                                          <p:spTgt spid="7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0" nodeType="withEffect" fill="hold" presetClass="emph" presetID="8">
                                  <p:stCondLst>
                                    <p:cond delay="4500"/>
                                  </p:stCondLst>
                                  <p:childTnLst>
                                    <p:animRot by="5400000">
                                      <p:cBhvr>
                                        <p:cTn id="651" dur="30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52" nodeType="withEffect" fill="hold" presetClass="path" presetID="42">
                                  <p:stCondLst>
                                    <p:cond delay="4500"/>
                                  </p:stCondLst>
                                  <p:childTnLst>
                                    <p:animMotion origin="layout" path="M 0 -2.07909E-006 L 0 1.07754 E">
                                      <p:cBhvr>
                                        <p:cTn id="653" dur="500" fill="hold"/>
                                        <p:tgtEl>
                                          <p:spTgt spid="7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4" nodeType="withEffect" fill="hold" presetClass="emph" presetID="8">
                                  <p:stCondLst>
                                    <p:cond delay="4500"/>
                                  </p:stCondLst>
                                  <p:childTnLst>
                                    <p:animRot by="-5399940">
                                      <p:cBhvr>
                                        <p:cTn id="655" dur="30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56" nodeType="withEffect" fill="hold" presetClass="path" presetID="42">
                                  <p:stCondLst>
                                    <p:cond delay="4500"/>
                                  </p:stCondLst>
                                  <p:childTnLst>
                                    <p:animMotion origin="layout" path="M -4.72222E-006 2.78344E-006 L 0.00122 1.11492 E">
                                      <p:cBhvr>
                                        <p:cTn id="657" dur="500" fill="hold"/>
                                        <p:tgtEl>
                                          <p:spTgt spid="7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8" nodeType="withEffect" fill="hold" presetClass="path" presetID="64">
                                  <p:stCondLst>
                                    <p:cond delay="5000"/>
                                  </p:stCondLst>
                                  <p:childTnLst>
                                    <p:animMotion origin="layout" path="M -3.33333E-006 4.07407E-006 L 0.00018 -1.12007 E">
                                      <p:cBhvr>
                                        <p:cTn id="659" dur="500" fill="hold"/>
                                        <p:tgtEl>
                                          <p:spTgt spid="7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0" nodeType="withEffect" fill="hold" presetClass="path" presetID="42">
                                  <p:stCondLst>
                                    <p:cond delay="5400"/>
                                  </p:stCondLst>
                                  <p:childTnLst>
                                    <p:animMotion origin="layout" path="M 0.00017 -1.12007 L 3.61111E-006 -1.09198 E">
                                      <p:cBhvr>
                                        <p:cTn id="661" dur="300" fill="hold"/>
                                        <p:tgtEl>
                                          <p:spTgt spid="7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2" nodeType="withEffect" fill="hold" presetClass="path" presetID="42">
                                  <p:stCondLst>
                                    <p:cond delay="9900"/>
                                  </p:stCondLst>
                                  <p:childTnLst>
                                    <p:animMotion origin="layout" path="M -3.33333E-006 4.07407E-006 L -3.33333E-006 -1.09198 E">
                                      <p:cBhvr>
                                        <p:cTn id="663" dur="400" fill="hold"/>
                                        <p:tgtEl>
                                          <p:spTgt spid="7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4" nodeType="withEffect" fill="hold" presetClass="path" presetID="64">
                                  <p:stCondLst>
                                    <p:cond delay="5700"/>
                                  </p:stCondLst>
                                  <p:childTnLst>
                                    <p:animMotion origin="layout" path="M -3.33333E-006 4.07407E-006 L 0.00018 -1.12007 E">
                                      <p:cBhvr>
                                        <p:cTn id="665" dur="500" fill="hold"/>
                                        <p:tgtEl>
                                          <p:spTgt spid="7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6" nodeType="withEffect" fill="hold" presetClass="path" presetID="42">
                                  <p:stCondLst>
                                    <p:cond delay="6200"/>
                                  </p:stCondLst>
                                  <p:childTnLst>
                                    <p:animMotion origin="layout" path="M 0.00017 -1.12007 L 3.61111E-006 -1.09198 E">
                                      <p:cBhvr>
                                        <p:cTn id="667" dur="300" fill="hold"/>
                                        <p:tgtEl>
                                          <p:spTgt spid="7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8" nodeType="withEffect" fill="hold" presetClass="path" presetID="42">
                                  <p:stCondLst>
                                    <p:cond delay="9900"/>
                                  </p:stCondLst>
                                  <p:childTnLst>
                                    <p:animMotion origin="layout" path="M -3.33333E-006 4.07407E-006 L -3.33333E-006 -1.09198 E">
                                      <p:cBhvr>
                                        <p:cTn id="669" dur="400" fill="hold"/>
                                        <p:tgtEl>
                                          <p:spTgt spid="7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0" nodeType="withEffect" fill="hold" presetClass="path" presetID="64">
                                  <p:stCondLst>
                                    <p:cond delay="6500"/>
                                  </p:stCondLst>
                                  <p:childTnLst>
                                    <p:animMotion origin="layout" path="M -3.33333E-006 4.07407E-006 L 0.00018 -1.12007 E">
                                      <p:cBhvr>
                                        <p:cTn id="671" dur="500" fill="hold"/>
                                        <p:tgtEl>
                                          <p:spTgt spid="7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2" nodeType="withEffect" fill="hold" presetClass="path" presetID="42">
                                  <p:stCondLst>
                                    <p:cond delay="7000"/>
                                  </p:stCondLst>
                                  <p:childTnLst>
                                    <p:animMotion origin="layout" path="M 0.00017 -1.12007 L 3.61111E-006 -1.09198 E">
                                      <p:cBhvr>
                                        <p:cTn id="673" dur="300" fill="hold"/>
                                        <p:tgtEl>
                                          <p:spTgt spid="7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4" nodeType="withEffect" fill="hold" presetClass="path" presetID="42">
                                  <p:stCondLst>
                                    <p:cond delay="9900"/>
                                  </p:stCondLst>
                                  <p:childTnLst>
                                    <p:animMotion origin="layout" path="M -3.33333E-006 4.07407E-006 L -3.33333E-006 -1.09198 E">
                                      <p:cBhvr>
                                        <p:cTn id="675" dur="400" fill="hold"/>
                                        <p:tgtEl>
                                          <p:spTgt spid="7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6" nodeType="withEffect" fill="hold" presetClass="path" presetID="64">
                                  <p:stCondLst>
                                    <p:cond delay="7300"/>
                                  </p:stCondLst>
                                  <p:childTnLst>
                                    <p:animMotion origin="layout" path="M -3.33333E-006 4.07407E-006 L 0.00018 -1.12007 E">
                                      <p:cBhvr>
                                        <p:cTn id="677" dur="500" fill="hold"/>
                                        <p:tgtEl>
                                          <p:spTgt spid="7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8" nodeType="withEffect" fill="hold" presetClass="path" presetID="42">
                                  <p:stCondLst>
                                    <p:cond delay="7800"/>
                                  </p:stCondLst>
                                  <p:childTnLst>
                                    <p:animMotion origin="layout" path="M 0.00017 -1.12007 L 3.61111E-006 -1.09198 E">
                                      <p:cBhvr>
                                        <p:cTn id="679" dur="300" fill="hold"/>
                                        <p:tgtEl>
                                          <p:spTgt spid="7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0" nodeType="withEffect" fill="hold" presetClass="path" presetID="42">
                                  <p:stCondLst>
                                    <p:cond delay="9900"/>
                                  </p:stCondLst>
                                  <p:childTnLst>
                                    <p:animMotion origin="layout" path="M -3.33333E-006 4.07407E-006 L -3.33333E-006 -1.09198 E">
                                      <p:cBhvr>
                                        <p:cTn id="681" dur="400" fill="hold"/>
                                        <p:tgtEl>
                                          <p:spTgt spid="7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2" nodeType="withEffect" fill="hold" presetClass="exit" presetID="45">
                                  <p:stCondLst>
                                    <p:cond delay="8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83" dur="20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4" dur="2000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2000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7" nodeType="withEffect" fill="hold" presetClass="path" presetID="64">
                                  <p:stCondLst>
                                    <p:cond delay="8100"/>
                                  </p:stCondLst>
                                  <p:childTnLst>
                                    <p:animMotion origin="layout" path="M -3.33333E-006 4.07407E-006 L 0.00018 -1.12007 E">
                                      <p:cBhvr>
                                        <p:cTn id="688" dur="500" fill="hold"/>
                                        <p:tgtEl>
                                          <p:spTgt spid="7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9" nodeType="withEffect" fill="hold" presetClass="path" presetID="42">
                                  <p:stCondLst>
                                    <p:cond delay="8600"/>
                                  </p:stCondLst>
                                  <p:childTnLst>
                                    <p:animMotion origin="layout" path="M 0.00017 -1.12007 L 3.61111E-006 -1.09198 E">
                                      <p:cBhvr>
                                        <p:cTn id="690" dur="300" fill="hold"/>
                                        <p:tgtEl>
                                          <p:spTgt spid="7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1" nodeType="withEffect" fill="hold" presetClass="path" presetID="42">
                                  <p:stCondLst>
                                    <p:cond delay="9900"/>
                                  </p:stCondLst>
                                  <p:childTnLst>
                                    <p:animMotion origin="layout" path="M -3.33333E-006 4.07407E-006 L -3.33333E-006 -1.09198 E">
                                      <p:cBhvr>
                                        <p:cTn id="692" dur="400" fill="hold"/>
                                        <p:tgtEl>
                                          <p:spTgt spid="7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3" nodeType="withEffect" fill="hold" presetClass="path" presetID="64">
                                  <p:stCondLst>
                                    <p:cond delay="8900"/>
                                  </p:stCondLst>
                                  <p:childTnLst>
                                    <p:animMotion origin="layout" path="M -3.33333E-006 4.07407E-006 L 0.00018 -1.12007 E">
                                      <p:cBhvr>
                                        <p:cTn id="694" dur="500" fill="hold"/>
                                        <p:tgtEl>
                                          <p:spTgt spid="7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5" nodeType="withEffect" fill="hold" presetClass="path" presetID="42">
                                  <p:stCondLst>
                                    <p:cond delay="9400"/>
                                  </p:stCondLst>
                                  <p:childTnLst>
                                    <p:animMotion origin="layout" path="M 0.00017 -1.12007 L 3.61111E-006 -1.09198 E">
                                      <p:cBhvr>
                                        <p:cTn id="696" dur="300" fill="hold"/>
                                        <p:tgtEl>
                                          <p:spTgt spid="7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7" nodeType="withEffect" fill="hold" presetClass="path" presetID="42">
                                  <p:stCondLst>
                                    <p:cond delay="9900"/>
                                  </p:stCondLst>
                                  <p:childTnLst>
                                    <p:animMotion origin="layout" path="M -3.33333E-006 4.07407E-006 L -3.33333E-006 -1.09198 E">
                                      <p:cBhvr>
                                        <p:cTn id="698" dur="400" fill="hold"/>
                                        <p:tgtEl>
                                          <p:spTgt spid="7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Group 2"/>
          <p:cNvGrpSpPr/>
          <p:nvPr/>
        </p:nvGrpSpPr>
        <p:grpSpPr>
          <a:xfrm>
            <a:off x="842040" y="1708200"/>
            <a:ext cx="7473240" cy="1727280"/>
            <a:chOff x="842040" y="1708200"/>
            <a:chExt cx="7473240" cy="1727280"/>
          </a:xfrm>
        </p:grpSpPr>
        <p:sp>
          <p:nvSpPr>
            <p:cNvPr id="766" name="矩形 1"/>
            <p:cNvSpPr/>
            <p:nvPr/>
          </p:nvSpPr>
          <p:spPr>
            <a:xfrm>
              <a:off x="842040" y="2310480"/>
              <a:ext cx="4039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An illustration goes here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梯形 3"/>
            <p:cNvSpPr/>
            <p:nvPr/>
          </p:nvSpPr>
          <p:spPr>
            <a:xfrm flipV="1" rot="16200000">
              <a:off x="6119640" y="1239840"/>
              <a:ext cx="1727280" cy="2664000"/>
            </a:xfrm>
            <a:custGeom>
              <a:avLst/>
              <a:gdLst>
                <a:gd name="textAreaLeft" fmla="*/ 207360 w 1727280"/>
                <a:gd name="textAreaRight" fmla="*/ 1519920 w 1727280"/>
                <a:gd name="textAreaTop" fmla="*/ 320040 h 2664000"/>
                <a:gd name="textAreaBottom" fmla="*/ 2343960 h 266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590" y="21600"/>
                  </a:lnTo>
                  <a:lnTo>
                    <a:pt x="2001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矩形 4"/>
            <p:cNvSpPr/>
            <p:nvPr/>
          </p:nvSpPr>
          <p:spPr>
            <a:xfrm>
              <a:off x="5887080" y="2156400"/>
              <a:ext cx="2192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ILLYSTRATION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IMAGE</a:t>
              </a:r>
              <a:r>
                <a:rPr b="1" lang="zh-CN" sz="2400" spc="-1" strike="noStrike">
                  <a:solidFill>
                    <a:srgbClr val="000000"/>
                  </a:solidFill>
                  <a:latin typeface="Calibri"/>
                </a:rPr>
                <a:t>｜</a:t>
              </a: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VIDE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9" name="Group 6"/>
          <p:cNvGrpSpPr/>
          <p:nvPr/>
        </p:nvGrpSpPr>
        <p:grpSpPr>
          <a:xfrm>
            <a:off x="6561000" y="-2176560"/>
            <a:ext cx="2665440" cy="1728720"/>
            <a:chOff x="6561000" y="-2176560"/>
            <a:chExt cx="2665440" cy="1728720"/>
          </a:xfrm>
        </p:grpSpPr>
        <p:sp>
          <p:nvSpPr>
            <p:cNvPr id="770" name="梯形 6"/>
            <p:cNvSpPr/>
            <p:nvPr/>
          </p:nvSpPr>
          <p:spPr>
            <a:xfrm flipV="1" rot="5400000">
              <a:off x="7029360" y="-2644920"/>
              <a:ext cx="1728720" cy="2665440"/>
            </a:xfrm>
            <a:custGeom>
              <a:avLst/>
              <a:gdLst>
                <a:gd name="textAreaLeft" fmla="*/ 207720 w 1728720"/>
                <a:gd name="textAreaRight" fmla="*/ 1521000 w 1728720"/>
                <a:gd name="textAreaTop" fmla="*/ 320040 h 2665440"/>
                <a:gd name="textAreaBottom" fmla="*/ 2345400 h 2665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590" y="21600"/>
                  </a:lnTo>
                  <a:lnTo>
                    <a:pt x="2001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矩形 7"/>
            <p:cNvSpPr/>
            <p:nvPr/>
          </p:nvSpPr>
          <p:spPr>
            <a:xfrm>
              <a:off x="6797520" y="-1721880"/>
              <a:ext cx="2192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ILLYSTRATION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IMAGE</a:t>
              </a:r>
              <a:r>
                <a:rPr b="1" lang="zh-CN" sz="2400" spc="-1" strike="noStrike">
                  <a:solidFill>
                    <a:srgbClr val="000000"/>
                  </a:solidFill>
                  <a:latin typeface="Calibri"/>
                </a:rPr>
                <a:t>｜</a:t>
              </a: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VIDE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2" name="矩形 2"/>
          <p:cNvSpPr/>
          <p:nvPr/>
        </p:nvSpPr>
        <p:spPr>
          <a:xfrm>
            <a:off x="9243000" y="2309760"/>
            <a:ext cx="278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nother one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nodeType="clickEffect" fill="hold">
                      <p:stCondLst>
                        <p:cond delay="0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12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12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7" nodeType="withEffect" fill="hold" presetClass="emph" presetID="6">
                                  <p:stCondLst>
                                    <p:cond delay="1200"/>
                                  </p:stCondLst>
                                  <p:childTnLst>
                                    <p:animScale>
                                      <p:cBhvr>
                                        <p:cTn id="708" dur="1300" fill="hold"/>
                                        <p:tgtEl>
                                          <p:spTgt spid="765"/>
                                        </p:tgtEl>
                                      </p:cBhvr>
                                      <p:to x="97000" y="97000"/>
                                    </p:animScale>
                                  </p:childTnLst>
                                </p:cTn>
                              </p:par>
                              <p:par>
                                <p:cTn id="709" nodeType="withEffect" fill="hold" presetClass="exit" presetID="2" presetSubtype="8">
                                  <p:stCondLst>
                                    <p:cond delay="2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10" dur="500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3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.06997 0.05591 L -0.60729 0.75656 E">
                                      <p:cBhvr>
                                        <p:cTn id="714" dur="900" fill="hold"/>
                                        <p:tgtEl>
                                          <p:spTgt spid="7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5" nodeType="withEffect" fill="hold" presetClass="path" presetID="35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-4.44444E-006 -3.39203E-006 L -0.48993 -3.39203E-006 E">
                                      <p:cBhvr>
                                        <p:cTn id="716" dur="900" fill="hold"/>
                                        <p:tgtEl>
                                          <p:spTgt spid="7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7" nodeType="withEffect" fill="hold" presetClass="emph" presetID="6">
                                  <p:stCondLst>
                                    <p:cond delay="3400"/>
                                  </p:stCondLst>
                                  <p:childTnLst>
                                    <p:animScale>
                                      <p:cBhvr>
                                        <p:cTn id="718" dur="1300" fill="hold"/>
                                        <p:tgtEl>
                                          <p:spTgt spid="769"/>
                                        </p:tgtEl>
                                      </p:cBhvr>
                                      <p:to x="97000" y="97000"/>
                                    </p:animScale>
                                  </p:childTnLst>
                                </p:cTn>
                              </p:par>
                              <p:par>
                                <p:cTn id="719" nodeType="withEffect" fill="hold" presetClass="emph" presetID="6">
                                  <p:stCondLst>
                                    <p:cond delay="3400"/>
                                  </p:stCondLst>
                                  <p:childTnLst>
                                    <p:animScale>
                                      <p:cBhvr>
                                        <p:cTn id="720" dur="1300" fill="hold"/>
                                        <p:tgtEl>
                                          <p:spTgt spid="772"/>
                                        </p:tgtEl>
                                      </p:cBhvr>
                                      <p:to x="97000" y="97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3" name="Group 2"/>
          <p:cNvGrpSpPr/>
          <p:nvPr/>
        </p:nvGrpSpPr>
        <p:grpSpPr>
          <a:xfrm>
            <a:off x="1986120" y="5388120"/>
            <a:ext cx="5173200" cy="2643840"/>
            <a:chOff x="1986120" y="5388120"/>
            <a:chExt cx="5173200" cy="2643840"/>
          </a:xfrm>
        </p:grpSpPr>
        <p:sp>
          <p:nvSpPr>
            <p:cNvPr id="774" name="矩形 4"/>
            <p:cNvSpPr/>
            <p:nvPr/>
          </p:nvSpPr>
          <p:spPr>
            <a:xfrm>
              <a:off x="2058480" y="5480280"/>
              <a:ext cx="5028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6600"/>
                  </a:solidFill>
                  <a:latin typeface="Calibri"/>
                </a:rPr>
                <a:t>THIS PROJECT WAS MADE WITH THE VERS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矩形 5"/>
            <p:cNvSpPr/>
            <p:nvPr/>
          </p:nvSpPr>
          <p:spPr>
            <a:xfrm>
              <a:off x="1992960" y="5388120"/>
              <a:ext cx="2384280" cy="18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500" spc="-1" strike="noStrike">
                  <a:solidFill>
                    <a:srgbClr val="000000"/>
                  </a:solidFill>
                  <a:latin typeface="Calibri"/>
                </a:rPr>
                <a:t>CS4</a:t>
              </a: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矩形 6"/>
            <p:cNvSpPr/>
            <p:nvPr/>
          </p:nvSpPr>
          <p:spPr>
            <a:xfrm>
              <a:off x="4201560" y="5866920"/>
              <a:ext cx="2876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OF AFTER EFFECT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矩形 7"/>
            <p:cNvSpPr/>
            <p:nvPr/>
          </p:nvSpPr>
          <p:spPr>
            <a:xfrm>
              <a:off x="4318920" y="6360120"/>
              <a:ext cx="262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7f7f"/>
                  </a:solidFill>
                  <a:latin typeface="Calibri"/>
                </a:rPr>
                <a:t>IN HD RESOLU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矩形 8"/>
            <p:cNvSpPr/>
            <p:nvPr/>
          </p:nvSpPr>
          <p:spPr>
            <a:xfrm>
              <a:off x="1986120" y="6474960"/>
              <a:ext cx="51732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-1" strike="noStrike">
                  <a:solidFill>
                    <a:srgbClr val="d00000"/>
                  </a:solidFill>
                  <a:latin typeface="Calibri"/>
                </a:rPr>
                <a:t>1280X720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9" name="Group 8"/>
          <p:cNvGrpSpPr/>
          <p:nvPr/>
        </p:nvGrpSpPr>
        <p:grpSpPr>
          <a:xfrm>
            <a:off x="1206360" y="2120760"/>
            <a:ext cx="6730920" cy="880200"/>
            <a:chOff x="1206360" y="2120760"/>
            <a:chExt cx="6730920" cy="880200"/>
          </a:xfrm>
        </p:grpSpPr>
        <p:sp>
          <p:nvSpPr>
            <p:cNvPr id="780" name="矩形 1"/>
            <p:cNvSpPr/>
            <p:nvPr/>
          </p:nvSpPr>
          <p:spPr>
            <a:xfrm>
              <a:off x="1206360" y="2120760"/>
              <a:ext cx="67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HERE YOU CAN PLACE YOUR OWN MESSAG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矩形 2"/>
            <p:cNvSpPr/>
            <p:nvPr/>
          </p:nvSpPr>
          <p:spPr>
            <a:xfrm>
              <a:off x="2378520" y="2480400"/>
              <a:ext cx="4386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7f7f7f"/>
                  </a:solidFill>
                  <a:latin typeface="Calibri"/>
                </a:rPr>
                <a:t>OR INSERT ANOTHER MED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2" name="t"/>
          <p:cNvSpPr/>
          <p:nvPr/>
        </p:nvSpPr>
        <p:spPr>
          <a:xfrm>
            <a:off x="2057760" y="1276200"/>
            <a:ext cx="502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6600"/>
                </a:solidFill>
                <a:latin typeface="Calibri"/>
              </a:rPr>
              <a:t>THIS PROJECT WAS MADE WITH THE VER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c"/>
          <p:cNvSpPr/>
          <p:nvPr/>
        </p:nvSpPr>
        <p:spPr>
          <a:xfrm>
            <a:off x="1992240" y="1203480"/>
            <a:ext cx="238428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000000"/>
                </a:solidFill>
                <a:latin typeface="Calibri"/>
              </a:rPr>
              <a:t>CS4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o"/>
          <p:cNvSpPr/>
          <p:nvPr/>
        </p:nvSpPr>
        <p:spPr>
          <a:xfrm>
            <a:off x="4201200" y="1635120"/>
            <a:ext cx="287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F AFTER EFF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i"/>
          <p:cNvSpPr/>
          <p:nvPr/>
        </p:nvSpPr>
        <p:spPr>
          <a:xfrm>
            <a:off x="4318200" y="2139840"/>
            <a:ext cx="26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Calibri"/>
              </a:rPr>
              <a:t>IN HD RE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1"/>
          <p:cNvSpPr/>
          <p:nvPr/>
        </p:nvSpPr>
        <p:spPr>
          <a:xfrm>
            <a:off x="1986120" y="2298600"/>
            <a:ext cx="5173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d00000"/>
                </a:solidFill>
                <a:latin typeface="Calibri"/>
              </a:rPr>
              <a:t>1280X72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7" name="Picture 2" descr=""/>
          <p:cNvPicPr/>
          <p:nvPr/>
        </p:nvPicPr>
        <p:blipFill>
          <a:blip r:embed="rId1"/>
          <a:stretch/>
        </p:blipFill>
        <p:spPr>
          <a:xfrm>
            <a:off x="1192320" y="777960"/>
            <a:ext cx="6602400" cy="3730680"/>
          </a:xfrm>
          <a:prstGeom prst="rect">
            <a:avLst/>
          </a:prstGeom>
          <a:ln w="0">
            <a:noFill/>
          </a:ln>
        </p:spPr>
      </p:pic>
      <p:grpSp>
        <p:nvGrpSpPr>
          <p:cNvPr id="788" name="Group 17"/>
          <p:cNvGrpSpPr/>
          <p:nvPr/>
        </p:nvGrpSpPr>
        <p:grpSpPr>
          <a:xfrm>
            <a:off x="1137240" y="1874880"/>
            <a:ext cx="6870960" cy="1335960"/>
            <a:chOff x="1137240" y="1874880"/>
            <a:chExt cx="6870960" cy="1335960"/>
          </a:xfrm>
        </p:grpSpPr>
        <p:sp>
          <p:nvSpPr>
            <p:cNvPr id="789" name="矩形 9"/>
            <p:cNvSpPr/>
            <p:nvPr/>
          </p:nvSpPr>
          <p:spPr>
            <a:xfrm>
              <a:off x="1137240" y="1874880"/>
              <a:ext cx="6870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9933"/>
                  </a:solidFill>
                  <a:latin typeface="Calibri"/>
                </a:rPr>
                <a:t>THIS IS ANOTHER P LACE FOR YOU TEX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矩形 11"/>
            <p:cNvSpPr/>
            <p:nvPr/>
          </p:nvSpPr>
          <p:spPr>
            <a:xfrm>
              <a:off x="2908800" y="2019600"/>
              <a:ext cx="3308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000000"/>
                  </a:solidFill>
                  <a:latin typeface="Calibri"/>
                </a:rPr>
                <a:t>EDIT IT !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advTm="0">
    <p:fade/>
  </p:transition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nodeType="clickEffect" fill="hold">
                      <p:stCondLst>
                        <p:cond delay="0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withEffect" fill="hold" presetClass="entr" presetID="17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7" dur="3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3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3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3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1" nodeType="withEffect" fill="hold" presetClass="path" presetID="42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0 0 E">
                                      <p:cBhvr>
                                        <p:cTn id="732" dur="300" fill="hold"/>
                                        <p:tgtEl>
                                          <p:spTgt spid="7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45">
                                  <p:stCondLst>
                                    <p:cond delay="1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34" dur="20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5" dur="2000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2000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8" nodeType="withEffect" fill="hold" presetClass="exit" presetID="1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1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2" nodeType="withEffect" fill="hold" presetClass="path" presetID="42">
                                  <p:stCondLst>
                                    <p:cond delay="1700"/>
                                  </p:stCondLst>
                                  <p:childTnLst>
                                    <p:animMotion origin="layout" path="M 0 -0.82593 L 0 -0.81945 E">
                                      <p:cBhvr>
                                        <p:cTn id="743" dur="100" fill="hold"/>
                                        <p:tgtEl>
                                          <p:spTgt spid="7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45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6" dur="20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7" dur="20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20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9" nodeType="withEffect" fill="hold" presetClass="exit" presetID="1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3" nodeType="withEffect" fill="hold" presetClass="entr" presetID="1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1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1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1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mph" presetID="6">
                                  <p:stCondLst>
                                    <p:cond delay="2100"/>
                                  </p:stCondLst>
                                  <p:childTnLst>
                                    <p:animScale>
                                      <p:cBhvr>
                                        <p:cTn id="762" dur="200" fill="hold"/>
                                        <p:tgtEl>
                                          <p:spTgt spid="783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763" nodeType="withEffect" fill="hold" presetClass="emph" presetID="6">
                                  <p:stCondLst>
                                    <p:cond delay="2300"/>
                                  </p:stCondLst>
                                  <p:childTnLst>
                                    <p:animScale>
                                      <p:cBhvr>
                                        <p:cTn id="764" dur="100" fill="hold"/>
                                        <p:tgtEl>
                                          <p:spTgt spid="783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  <p:par>
                                <p:cTn id="765" nodeType="withEffect" fill="hold" presetClass="emph" presetID="6">
                                  <p:stCondLst>
                                    <p:cond delay="2100"/>
                                  </p:stCondLst>
                                  <p:childTnLst>
                                    <p:animScale>
                                      <p:cBhvr>
                                        <p:cTn id="766" dur="200" fill="hold"/>
                                        <p:tgtEl>
                                          <p:spTgt spid="782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767" nodeType="withEffect" fill="hold" presetClass="emph" presetID="6">
                                  <p:stCondLst>
                                    <p:cond delay="2300"/>
                                  </p:stCondLst>
                                  <p:childTnLst>
                                    <p:animScale>
                                      <p:cBhvr>
                                        <p:cTn id="768" dur="100" fill="hold"/>
                                        <p:tgtEl>
                                          <p:spTgt spid="782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  <p:par>
                                <p:cTn id="769" nodeType="withEffect" fill="hold" presetClass="emph" presetID="6">
                                  <p:stCondLst>
                                    <p:cond delay="2300"/>
                                  </p:stCondLst>
                                  <p:childTnLst>
                                    <p:animScale>
                                      <p:cBhvr>
                                        <p:cTn id="770" dur="200" fill="hold"/>
                                        <p:tgtEl>
                                          <p:spTgt spid="784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771" nodeType="withEffect" fill="hold" presetClass="emph" presetID="6">
                                  <p:stCondLst>
                                    <p:cond delay="2500"/>
                                  </p:stCondLst>
                                  <p:childTnLst>
                                    <p:animScale>
                                      <p:cBhvr>
                                        <p:cTn id="772" dur="100" fill="hold"/>
                                        <p:tgtEl>
                                          <p:spTgt spid="784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  <p:par>
                                <p:cTn id="773" nodeType="withEffect" fill="hold" presetClass="emph" presetID="6">
                                  <p:stCondLst>
                                    <p:cond delay="2200"/>
                                  </p:stCondLst>
                                  <p:childTnLst>
                                    <p:animScale>
                                      <p:cBhvr>
                                        <p:cTn id="774" dur="200" fill="hold"/>
                                        <p:tgtEl>
                                          <p:spTgt spid="785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775" nodeType="withEffect" fill="hold" presetClass="emph" presetID="6">
                                  <p:stCondLst>
                                    <p:cond delay="2400"/>
                                  </p:stCondLst>
                                  <p:childTnLst>
                                    <p:animScale>
                                      <p:cBhvr>
                                        <p:cTn id="776" dur="100" fill="hold"/>
                                        <p:tgtEl>
                                          <p:spTgt spid="785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  <p:par>
                                <p:cTn id="777" nodeType="withEffect" fill="hold" presetClass="emph" presetID="6">
                                  <p:stCondLst>
                                    <p:cond delay="2400"/>
                                  </p:stCondLst>
                                  <p:childTnLst>
                                    <p:animScale>
                                      <p:cBhvr>
                                        <p:cTn id="778" dur="200" fill="hold"/>
                                        <p:tgtEl>
                                          <p:spTgt spid="786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779" nodeType="withEffect" fill="hold" presetClass="emph" presetID="6">
                                  <p:stCondLst>
                                    <p:cond delay="2600"/>
                                  </p:stCondLst>
                                  <p:childTnLst>
                                    <p:animScale>
                                      <p:cBhvr>
                                        <p:cTn id="780" dur="100" fill="hold"/>
                                        <p:tgtEl>
                                          <p:spTgt spid="786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  <p:par>
                                <p:cTn id="781" nodeType="withEffect" fill="hold" presetClass="exit" presetID="1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3" nodeType="withEffect" fill="hold" presetClass="exit" presetID="1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5" nodeType="withEffect" fill="hold" presetClass="exit" presetID="1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7" nodeType="withEffect" fill="hold" presetClass="exit" presetID="1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9" nodeType="withEffect" fill="hold" presetClass="exit" presetID="1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1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xit" presetID="45">
                                  <p:stCondLst>
                                    <p:cond delay="2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94" dur="20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5" dur="2000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2000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8" nodeType="withEffect" fill="hold" presetClass="exit" presetID="1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1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2" nodeType="withEffect" fill="hold" presetClass="exit" presetID="1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45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6" dur="20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7" dur="20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20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9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10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1" name="Group 2"/>
          <p:cNvGrpSpPr/>
          <p:nvPr/>
        </p:nvGrpSpPr>
        <p:grpSpPr>
          <a:xfrm>
            <a:off x="3995640" y="1995480"/>
            <a:ext cx="1152720" cy="1152360"/>
            <a:chOff x="3995640" y="1995480"/>
            <a:chExt cx="1152720" cy="1152360"/>
          </a:xfrm>
        </p:grpSpPr>
        <p:sp>
          <p:nvSpPr>
            <p:cNvPr id="792" name="椭圆 1"/>
            <p:cNvSpPr/>
            <p:nvPr/>
          </p:nvSpPr>
          <p:spPr>
            <a:xfrm>
              <a:off x="3995640" y="1995480"/>
              <a:ext cx="1152720" cy="115236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矩形 2"/>
            <p:cNvSpPr/>
            <p:nvPr/>
          </p:nvSpPr>
          <p:spPr>
            <a:xfrm>
              <a:off x="4030560" y="2217600"/>
              <a:ext cx="1089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FOLLOW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ME 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4" name="Group 5"/>
          <p:cNvGrpSpPr/>
          <p:nvPr/>
        </p:nvGrpSpPr>
        <p:grpSpPr>
          <a:xfrm>
            <a:off x="2463840" y="2217600"/>
            <a:ext cx="4216320" cy="703440"/>
            <a:chOff x="2463840" y="2217600"/>
            <a:chExt cx="4216320" cy="703440"/>
          </a:xfrm>
        </p:grpSpPr>
        <p:sp>
          <p:nvSpPr>
            <p:cNvPr id="795" name="矩形 11"/>
            <p:cNvSpPr/>
            <p:nvPr/>
          </p:nvSpPr>
          <p:spPr>
            <a:xfrm>
              <a:off x="5148000" y="2217600"/>
              <a:ext cx="1532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Calibri"/>
                </a:rPr>
                <a:t>LINK 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矩形 12"/>
            <p:cNvSpPr/>
            <p:nvPr/>
          </p:nvSpPr>
          <p:spPr>
            <a:xfrm>
              <a:off x="2463840" y="2217600"/>
              <a:ext cx="1532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LINK 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7" name="Group 8"/>
          <p:cNvGrpSpPr/>
          <p:nvPr/>
        </p:nvGrpSpPr>
        <p:grpSpPr>
          <a:xfrm>
            <a:off x="2463840" y="2217600"/>
            <a:ext cx="4216320" cy="703440"/>
            <a:chOff x="2463840" y="2217600"/>
            <a:chExt cx="4216320" cy="703440"/>
          </a:xfrm>
        </p:grpSpPr>
        <p:sp>
          <p:nvSpPr>
            <p:cNvPr id="798" name="矩形 17"/>
            <p:cNvSpPr/>
            <p:nvPr/>
          </p:nvSpPr>
          <p:spPr>
            <a:xfrm>
              <a:off x="5148000" y="2217600"/>
              <a:ext cx="1532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Calibri"/>
                </a:rPr>
                <a:t>LINK 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矩形 18"/>
            <p:cNvSpPr/>
            <p:nvPr/>
          </p:nvSpPr>
          <p:spPr>
            <a:xfrm>
              <a:off x="2463840" y="2217600"/>
              <a:ext cx="1532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LINK 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0" name="Group 11"/>
          <p:cNvGrpSpPr/>
          <p:nvPr/>
        </p:nvGrpSpPr>
        <p:grpSpPr>
          <a:xfrm>
            <a:off x="2463840" y="2217600"/>
            <a:ext cx="4216320" cy="703440"/>
            <a:chOff x="2463840" y="2217600"/>
            <a:chExt cx="4216320" cy="703440"/>
          </a:xfrm>
        </p:grpSpPr>
        <p:sp>
          <p:nvSpPr>
            <p:cNvPr id="801" name="矩形 20"/>
            <p:cNvSpPr/>
            <p:nvPr/>
          </p:nvSpPr>
          <p:spPr>
            <a:xfrm>
              <a:off x="5148000" y="2217600"/>
              <a:ext cx="1532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Calibri"/>
                </a:rPr>
                <a:t>LINK 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矩形 21"/>
            <p:cNvSpPr/>
            <p:nvPr/>
          </p:nvSpPr>
          <p:spPr>
            <a:xfrm>
              <a:off x="2463840" y="2217600"/>
              <a:ext cx="1532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LINK 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3" name="Group 14"/>
          <p:cNvGrpSpPr/>
          <p:nvPr/>
        </p:nvGrpSpPr>
        <p:grpSpPr>
          <a:xfrm>
            <a:off x="2463840" y="2217600"/>
            <a:ext cx="4216320" cy="703440"/>
            <a:chOff x="2463840" y="2217600"/>
            <a:chExt cx="4216320" cy="703440"/>
          </a:xfrm>
        </p:grpSpPr>
        <p:sp>
          <p:nvSpPr>
            <p:cNvPr id="804" name="矩形 23"/>
            <p:cNvSpPr/>
            <p:nvPr/>
          </p:nvSpPr>
          <p:spPr>
            <a:xfrm>
              <a:off x="5148000" y="2217600"/>
              <a:ext cx="1532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Calibri"/>
                </a:rPr>
                <a:t>LINK 4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矩形 24"/>
            <p:cNvSpPr/>
            <p:nvPr/>
          </p:nvSpPr>
          <p:spPr>
            <a:xfrm>
              <a:off x="2463840" y="2217600"/>
              <a:ext cx="1532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LINK 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6" name="Group 17"/>
          <p:cNvGrpSpPr/>
          <p:nvPr/>
        </p:nvGrpSpPr>
        <p:grpSpPr>
          <a:xfrm>
            <a:off x="2463840" y="2217600"/>
            <a:ext cx="4216320" cy="703440"/>
            <a:chOff x="2463840" y="2217600"/>
            <a:chExt cx="4216320" cy="703440"/>
          </a:xfrm>
        </p:grpSpPr>
        <p:sp>
          <p:nvSpPr>
            <p:cNvPr id="807" name="矩形 26"/>
            <p:cNvSpPr/>
            <p:nvPr/>
          </p:nvSpPr>
          <p:spPr>
            <a:xfrm>
              <a:off x="5148000" y="2217600"/>
              <a:ext cx="1532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Calibri"/>
                </a:rPr>
                <a:t>LINK 5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矩形 27"/>
            <p:cNvSpPr/>
            <p:nvPr/>
          </p:nvSpPr>
          <p:spPr>
            <a:xfrm>
              <a:off x="2463840" y="2217600"/>
              <a:ext cx="1532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LINK 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9" name="Group 20"/>
          <p:cNvGrpSpPr/>
          <p:nvPr/>
        </p:nvGrpSpPr>
        <p:grpSpPr>
          <a:xfrm>
            <a:off x="2463840" y="2217600"/>
            <a:ext cx="4216320" cy="703440"/>
            <a:chOff x="2463840" y="2217600"/>
            <a:chExt cx="4216320" cy="703440"/>
          </a:xfrm>
        </p:grpSpPr>
        <p:sp>
          <p:nvSpPr>
            <p:cNvPr id="810" name="矩形 29"/>
            <p:cNvSpPr/>
            <p:nvPr/>
          </p:nvSpPr>
          <p:spPr>
            <a:xfrm>
              <a:off x="5148000" y="2217600"/>
              <a:ext cx="1532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Calibri"/>
                </a:rPr>
                <a:t>LINK 6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矩形 30"/>
            <p:cNvSpPr/>
            <p:nvPr/>
          </p:nvSpPr>
          <p:spPr>
            <a:xfrm>
              <a:off x="2463840" y="2217600"/>
              <a:ext cx="1532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LINK 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812" dur="indefinite" restart="never" nodeType="tmRoot">
          <p:childTnLst>
            <p:seq>
              <p:cTn id="813" dur="indefinite" nodeType="mainSeq">
                <p:childTnLst>
                  <p:par>
                    <p:cTn id="814" nodeType="clickEffect" fill="hold">
                      <p:stCondLst>
                        <p:cond delay="0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2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2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20" dur="2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1" nodeType="withEffect" fill="hold" presetClass="emph" presetID="6">
                                  <p:stCondLst>
                                    <p:cond delay="700"/>
                                  </p:stCondLst>
                                  <p:childTnLst>
                                    <p:animScale>
                                      <p:cBhvr>
                                        <p:cTn id="822" dur="200" fill="hold"/>
                                        <p:tgtEl>
                                          <p:spTgt spid="791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823" nodeType="withEffect" fill="hold" presetClass="emph" presetID="6">
                                  <p:stCondLst>
                                    <p:cond delay="900"/>
                                  </p:stCondLst>
                                  <p:childTnLst>
                                    <p:animScale>
                                      <p:cBhvr>
                                        <p:cTn id="824" dur="100" fill="hold"/>
                                        <p:tgtEl>
                                          <p:spTgt spid="791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  <p:par>
                                <p:cTn id="825" nodeType="withEffect" fill="hold" presetClass="entr" presetID="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7" nodeType="withEffect" fill="hold" presetClass="emph" presetID="8">
                                  <p:stCondLst>
                                    <p:cond delay="1400"/>
                                  </p:stCondLst>
                                  <p:childTnLst>
                                    <p:animRot by="2700000">
                                      <p:cBhvr>
                                        <p:cTn id="828" dur="1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29" nodeType="withEffect" fill="hold" presetClass="emph" presetID="8">
                                  <p:stCondLst>
                                    <p:cond delay="1700"/>
                                  </p:stCondLst>
                                  <p:childTnLst>
                                    <p:animRot by="2700000">
                                      <p:cBhvr>
                                        <p:cTn id="830" dur="1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31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2700000">
                                      <p:cBhvr>
                                        <p:cTn id="832" dur="1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33" nodeType="withEffect" fill="hold" presetClass="emph" presetID="8">
                                  <p:stCondLst>
                                    <p:cond delay="2300"/>
                                  </p:stCondLst>
                                  <p:childTnLst>
                                    <p:animRot by="2700000">
                                      <p:cBhvr>
                                        <p:cTn id="834" dur="1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35" nodeType="withEffect" fill="hold" presetClass="emph" presetID="8">
                                  <p:stCondLst>
                                    <p:cond delay="2600"/>
                                  </p:stCondLst>
                                  <p:childTnLst>
                                    <p:animRot by="2700000">
                                      <p:cBhvr>
                                        <p:cTn id="836" dur="1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9" nodeType="withEffect" fill="hold" presetClass="emph" presetID="8">
                                  <p:stCondLst>
                                    <p:cond delay="1700"/>
                                  </p:stCondLst>
                                  <p:childTnLst>
                                    <p:animRot by="2700000">
                                      <p:cBhvr>
                                        <p:cTn id="840" dur="1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41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2700000">
                                      <p:cBhvr>
                                        <p:cTn id="842" dur="1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43" nodeType="withEffect" fill="hold" presetClass="emph" presetID="8">
                                  <p:stCondLst>
                                    <p:cond delay="2300"/>
                                  </p:stCondLst>
                                  <p:childTnLst>
                                    <p:animRot by="2700000">
                                      <p:cBhvr>
                                        <p:cTn id="844" dur="1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45" nodeType="withEffect" fill="hold" presetClass="emph" presetID="8">
                                  <p:stCondLst>
                                    <p:cond delay="2600"/>
                                  </p:stCondLst>
                                  <p:childTnLst>
                                    <p:animRot by="2700000">
                                      <p:cBhvr>
                                        <p:cTn id="846" dur="1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9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2700000">
                                      <p:cBhvr>
                                        <p:cTn id="850" dur="1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51" nodeType="withEffect" fill="hold" presetClass="emph" presetID="8">
                                  <p:stCondLst>
                                    <p:cond delay="2300"/>
                                  </p:stCondLst>
                                  <p:childTnLst>
                                    <p:animRot by="2700000">
                                      <p:cBhvr>
                                        <p:cTn id="852" dur="1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53" nodeType="withEffect" fill="hold" presetClass="emph" presetID="8">
                                  <p:stCondLst>
                                    <p:cond delay="2600"/>
                                  </p:stCondLst>
                                  <p:childTnLst>
                                    <p:animRot by="2700000">
                                      <p:cBhvr>
                                        <p:cTn id="854" dur="1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55" nodeType="withEffect" fill="hold" presetClass="entr" presetID="1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7" nodeType="withEffect" fill="hold" presetClass="emph" presetID="8">
                                  <p:stCondLst>
                                    <p:cond delay="2300"/>
                                  </p:stCondLst>
                                  <p:childTnLst>
                                    <p:animRot by="2700000">
                                      <p:cBhvr>
                                        <p:cTn id="858" dur="1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59" nodeType="withEffect" fill="hold" presetClass="emph" presetID="8">
                                  <p:stCondLst>
                                    <p:cond delay="2600"/>
                                  </p:stCondLst>
                                  <p:childTnLst>
                                    <p:animRot by="2700000">
                                      <p:cBhvr>
                                        <p:cTn id="860" dur="1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61" nodeType="withEffect" fill="hold" presetClass="entr" presetID="1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3" nodeType="withEffect" fill="hold" presetClass="emph" presetID="8">
                                  <p:stCondLst>
                                    <p:cond delay="2600"/>
                                  </p:stCondLst>
                                  <p:childTnLst>
                                    <p:animRot by="2700000">
                                      <p:cBhvr>
                                        <p:cTn id="864" dur="1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65" nodeType="withEffect" fill="hold" presetClass="entr" presetID="1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mph" presetID="8">
                                  <p:stCondLst>
                                    <p:cond delay="3000"/>
                                  </p:stCondLst>
                                  <p:childTnLst>
                                    <p:animRot by="43200000">
                                      <p:cBhvr>
                                        <p:cTn id="868" dur="4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69" nodeType="withEffect" fill="hold" presetClass="emph" presetID="8">
                                  <p:stCondLst>
                                    <p:cond delay="3000"/>
                                  </p:stCondLst>
                                  <p:childTnLst>
                                    <p:animRot by="43200000">
                                      <p:cBhvr>
                                        <p:cTn id="870" dur="4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71" nodeType="withEffect" fill="hold" presetClass="emph" presetID="8">
                                  <p:stCondLst>
                                    <p:cond delay="3000"/>
                                  </p:stCondLst>
                                  <p:childTnLst>
                                    <p:animRot by="43200000">
                                      <p:cBhvr>
                                        <p:cTn id="872" dur="4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73" nodeType="withEffect" fill="hold" presetClass="emph" presetID="8">
                                  <p:stCondLst>
                                    <p:cond delay="3000"/>
                                  </p:stCondLst>
                                  <p:childTnLst>
                                    <p:animRot by="43200000">
                                      <p:cBhvr>
                                        <p:cTn id="874" dur="4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75" nodeType="withEffect" fill="hold" presetClass="emph" presetID="8">
                                  <p:stCondLst>
                                    <p:cond delay="3000"/>
                                  </p:stCondLst>
                                  <p:childTnLst>
                                    <p:animRot by="43200000">
                                      <p:cBhvr>
                                        <p:cTn id="876" dur="4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77" nodeType="withEffect" fill="hold" presetClass="emph" presetID="8">
                                  <p:stCondLst>
                                    <p:cond delay="3000"/>
                                  </p:stCondLst>
                                  <p:childTnLst>
                                    <p:animRot by="43200000">
                                      <p:cBhvr>
                                        <p:cTn id="878" dur="4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79" nodeType="withEffect" fill="hold" presetClass="emph" presetID="8">
                                  <p:stCondLst>
                                    <p:cond delay="3000"/>
                                  </p:stCondLst>
                                  <p:childTnLst>
                                    <p:animRot by="43200000">
                                      <p:cBhvr>
                                        <p:cTn id="880" dur="4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81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82" dur="400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400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84" dur="4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6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87" dur="400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400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89" dur="4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1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92" dur="400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400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94" dur="4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6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97" dur="400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400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99" dur="4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02" dur="400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400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04" dur="4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6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07" dur="400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400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09" dur="4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1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12" dur="400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400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14" dur="4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2T01:58:00Z</dcterms:created>
  <dc:creator>Microsoft</dc:creator>
  <dc:description/>
  <cp:keywords/>
  <dc:language>en-US</dc:language>
  <cp:lastModifiedBy>Administrator</cp:lastModifiedBy>
  <dcterms:modified xsi:type="dcterms:W3CDTF">2016-08-10T05:39:54Z</dcterms:modified>
  <cp:revision>15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05</vt:lpwstr>
  </property>
</Properties>
</file>