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886-58F3-48C6-B615-863098A7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7B0-CE70-4E6A-B490-451D2945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97A-9C81-4D43-B8AC-2A5FE30B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253-4BFB-4C36-AE43-8A59F9E6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561-FB00-4A9E-98F9-47B2058F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3A7-3D22-4207-B344-6685CC5C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45B-832B-4F8D-B1E1-37B358D3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73B-BB5A-40DD-8E26-1D9F89E3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316-D8A5-4F5A-934D-09528AFC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5B16-2728-417D-8DE2-42A6D5FE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EBC-F398-4D2B-A986-27758096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377-33AF-479E-8374-48EB425F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84B0-9703-4151-8B37-22F2E879D9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51640" y="2700360"/>
            <a:ext cx="2620800" cy="14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2960" y="-22320"/>
            <a:ext cx="18226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1024"/>
          <p:cNvGrpSpPr/>
          <p:nvPr/>
        </p:nvGrpSpPr>
        <p:grpSpPr>
          <a:xfrm>
            <a:off x="628200" y="211680"/>
            <a:ext cx="1360800" cy="1572480"/>
            <a:chOff x="628200" y="211680"/>
            <a:chExt cx="1360800" cy="1572480"/>
          </a:xfrm>
        </p:grpSpPr>
        <p:sp>
          <p:nvSpPr>
            <p:cNvPr id="51" name="矩形 16"/>
            <p:cNvSpPr/>
            <p:nvPr/>
          </p:nvSpPr>
          <p:spPr>
            <a:xfrm>
              <a:off x="722880" y="1489320"/>
              <a:ext cx="115920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y:@</a:t>
              </a: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花生</a:t>
              </a: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e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组合 21"/>
            <p:cNvGrpSpPr/>
            <p:nvPr/>
          </p:nvGrpSpPr>
          <p:grpSpPr>
            <a:xfrm>
              <a:off x="628200" y="211680"/>
              <a:ext cx="1360800" cy="1361160"/>
              <a:chOff x="628200" y="211680"/>
              <a:chExt cx="1360800" cy="1361160"/>
            </a:xfrm>
          </p:grpSpPr>
          <p:pic>
            <p:nvPicPr>
              <p:cNvPr id="53" name="TextBox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1380600" y="591120"/>
                <a:ext cx="412560" cy="68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4" descr="c:\DOCUME~1\ADMINI~1\APPLIC~1\360se6\USERDA~1\Temp\DNZDYP~1.JPG"/>
              <p:cNvPicPr/>
              <p:nvPr/>
            </p:nvPicPr>
            <p:blipFill>
              <a:blip r:embed="rId5"/>
              <a:stretch/>
            </p:blipFill>
            <p:spPr>
              <a:xfrm>
                <a:off x="907200" y="487800"/>
                <a:ext cx="80100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空心弧 24"/>
              <p:cNvSpPr/>
              <p:nvPr/>
            </p:nvSpPr>
            <p:spPr>
              <a:xfrm rot="18770400">
                <a:off x="825840" y="411480"/>
                <a:ext cx="965160" cy="960840"/>
              </a:xfrm>
              <a:custGeom>
                <a:avLst/>
                <a:gdLst/>
                <a:ahLst/>
                <a:rect l="l" t="t" r="r" b="b"/>
                <a:pathLst>
                  <a:path w="1931538" h="1931076">
                    <a:moveTo>
                      <a:pt x="1257264" y="1886046"/>
                    </a:moveTo>
                    <a:cubicBezTo>
                      <a:pt x="859077" y="2012079"/>
                      <a:pt x="424973" y="1867926"/>
                      <a:pt x="181336" y="1528763"/>
                    </a:cubicBezTo>
                    <a:cubicBezTo>
                      <a:pt x="-62385" y="1189482"/>
                      <a:pt x="-60245" y="731988"/>
                      <a:pt x="186640" y="395001"/>
                    </a:cubicBezTo>
                    <a:cubicBezTo>
                      <a:pt x="433438" y="58132"/>
                      <a:pt x="868871" y="-81955"/>
                      <a:pt x="1265861" y="47795"/>
                    </a:cubicBezTo>
                    <a:cubicBezTo>
                      <a:pt x="1662937" y="177573"/>
                      <a:pt x="1931538" y="547882"/>
                      <a:pt x="1931538" y="965538"/>
                    </a:cubicBezTo>
                    <a:lnTo>
                      <a:pt x="1846783" y="965538"/>
                    </a:lnTo>
                    <a:cubicBezTo>
                      <a:pt x="1846783" y="584542"/>
                      <a:pt x="1601752" y="246737"/>
                      <a:pt x="1239519" y="128353"/>
                    </a:cubicBezTo>
                    <a:cubicBezTo>
                      <a:pt x="877373" y="9997"/>
                      <a:pt x="480160" y="137784"/>
                      <a:pt x="255021" y="445076"/>
                    </a:cubicBezTo>
                    <a:cubicBezTo>
                      <a:pt x="29795" y="752485"/>
                      <a:pt x="27843" y="1169829"/>
                      <a:pt x="250183" y="1479331"/>
                    </a:cubicBezTo>
                    <a:cubicBezTo>
                      <a:pt x="472438" y="1788715"/>
                      <a:pt x="868439" y="1920211"/>
                      <a:pt x="1231677" y="1805245"/>
                    </a:cubicBezTo>
                    <a:lnTo>
                      <a:pt x="1257264" y="188604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20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50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5346720" y="254016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7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60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61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5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71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4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组合 37" descr=""/>
          <p:cNvPicPr/>
          <p:nvPr/>
        </p:nvPicPr>
        <p:blipFill>
          <a:blip r:embed="rId2"/>
          <a:stretch/>
        </p:blipFill>
        <p:spPr>
          <a:xfrm>
            <a:off x="2590920" y="15476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1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组合 43" descr=""/>
          <p:cNvPicPr/>
          <p:nvPr/>
        </p:nvPicPr>
        <p:blipFill>
          <a:blip r:embed="rId3"/>
          <a:stretch/>
        </p:blipFill>
        <p:spPr>
          <a:xfrm>
            <a:off x="3164040" y="2798640"/>
            <a:ext cx="981000" cy="54000"/>
          </a:xfrm>
          <a:prstGeom prst="rect">
            <a:avLst/>
          </a:prstGeom>
          <a:ln w="0">
            <a:noFill/>
          </a:ln>
        </p:spPr>
      </p:pic>
      <p:sp>
        <p:nvSpPr>
          <p:cNvPr id="84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组合 52" descr=""/>
          <p:cNvPicPr/>
          <p:nvPr/>
        </p:nvPicPr>
        <p:blipFill>
          <a:blip r:embed="rId4"/>
          <a:stretch/>
        </p:blipFill>
        <p:spPr>
          <a:xfrm>
            <a:off x="4992840" y="33764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8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/>
            <a:ahLst/>
            <a:rect l="l" t="t" r="r" b="b"/>
            <a:pathLst>
              <a:path w="2501900" h="2501900">
                <a:moveTo>
                  <a:pt x="2480021" y="1483888"/>
                </a:moveTo>
                <a:cubicBezTo>
                  <a:pt x="2379276" y="2015457"/>
                  <a:pt x="1948222" y="2422019"/>
                  <a:pt x="1411675" y="2491532"/>
                </a:cubicBezTo>
                <a:cubicBezTo>
                  <a:pt x="875128" y="2561045"/>
                  <a:pt x="354699" y="2277753"/>
                  <a:pt x="121818" y="1789407"/>
                </a:cubicBezTo>
                <a:cubicBezTo>
                  <a:pt x="-111063" y="1301061"/>
                  <a:pt x="-3612" y="718348"/>
                  <a:pt x="388130" y="345181"/>
                </a:cubicBezTo>
                <a:cubicBezTo>
                  <a:pt x="779872" y="-27986"/>
                  <a:pt x="1367114" y="-107025"/>
                  <a:pt x="1843580" y="149285"/>
                </a:cubicBezTo>
                <a:lnTo>
                  <a:pt x="1788596" y="251498"/>
                </a:lnTo>
                <a:cubicBezTo>
                  <a:pt x="1356336" y="18968"/>
                  <a:pt x="823578" y="90675"/>
                  <a:pt x="468182" y="429219"/>
                </a:cubicBezTo>
                <a:cubicBezTo>
                  <a:pt x="112786" y="767763"/>
                  <a:pt x="15304" y="1296413"/>
                  <a:pt x="226578" y="1739450"/>
                </a:cubicBezTo>
                <a:cubicBezTo>
                  <a:pt x="437852" y="2182487"/>
                  <a:pt x="909996" y="2439495"/>
                  <a:pt x="1396762" y="2376432"/>
                </a:cubicBezTo>
                <a:cubicBezTo>
                  <a:pt x="1883528" y="2313368"/>
                  <a:pt x="2274590" y="1944527"/>
                  <a:pt x="2365987" y="1462277"/>
                </a:cubicBezTo>
                <a:lnTo>
                  <a:pt x="2480021" y="1483888"/>
                </a:lnTo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64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94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6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9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6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C:\Documents and Settings\Administrator\桌面\6abd5d45tw1e98zcq1behj20zk1o07mv.jpg"/>
          <p:cNvPicPr/>
          <p:nvPr/>
        </p:nvPicPr>
        <p:blipFill>
          <a:blip r:embed="rId1"/>
          <a:stretch/>
        </p:blipFill>
        <p:spPr>
          <a:xfrm>
            <a:off x="-6516720" y="-1808280"/>
            <a:ext cx="4802040" cy="8101080"/>
          </a:xfrm>
          <a:prstGeom prst="rect">
            <a:avLst/>
          </a:prstGeom>
          <a:ln w="0">
            <a:noFill/>
          </a:ln>
        </p:spPr>
      </p:pic>
      <p:sp>
        <p:nvSpPr>
          <p:cNvPr id="140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9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/>
            <a:ahLst/>
            <a:rect l="l" t="t" r="r" b="b"/>
            <a:pathLst>
              <a:path w="1304925" h="1304925">
                <a:moveTo>
                  <a:pt x="0" y="652463"/>
                </a:moveTo>
                <a:cubicBezTo>
                  <a:pt x="0" y="292118"/>
                  <a:pt x="292118" y="0"/>
                  <a:pt x="652463" y="0"/>
                </a:cubicBezTo>
                <a:lnTo>
                  <a:pt x="1304925" y="0"/>
                </a:lnTo>
                <a:lnTo>
                  <a:pt x="1304925" y="652463"/>
                </a:lnTo>
                <a:cubicBezTo>
                  <a:pt x="1304925" y="1012808"/>
                  <a:pt x="1012807" y="1304926"/>
                  <a:pt x="652462" y="1304926"/>
                </a:cubicBezTo>
                <a:cubicBezTo>
                  <a:pt x="292117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/>
            <a:ahLst/>
            <a:rect l="l" t="t" r="r" b="b"/>
            <a:pathLst>
              <a:path w="1303338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8" y="0"/>
                </a:lnTo>
                <a:lnTo>
                  <a:pt x="1303338" y="652463"/>
                </a:lnTo>
                <a:cubicBezTo>
                  <a:pt x="1303338" y="1012808"/>
                  <a:pt x="1011576" y="1304926"/>
                  <a:pt x="651669" y="1304926"/>
                </a:cubicBezTo>
                <a:cubicBezTo>
                  <a:pt x="291762" y="1304926"/>
                  <a:pt x="0" y="1012808"/>
                  <a:pt x="0" y="65246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3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7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75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23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pica.nipic.com/2008-07-03/200873171818123_2.jpg"/>
          <p:cNvPicPr/>
          <p:nvPr/>
        </p:nvPicPr>
        <p:blipFill>
          <a:blip r:embed="rId1"/>
          <a:stretch/>
        </p:blipFill>
        <p:spPr>
          <a:xfrm>
            <a:off x="3645000" y="2322360"/>
            <a:ext cx="1579320" cy="1584360"/>
          </a:xfrm>
          <a:prstGeom prst="rect">
            <a:avLst/>
          </a:prstGeom>
          <a:ln w="0">
            <a:noFill/>
          </a:ln>
        </p:spPr>
      </p:pic>
      <p:sp>
        <p:nvSpPr>
          <p:cNvPr id="182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/>
            <a:ahLst/>
            <a:rect l="l" t="t" r="r" b="b"/>
            <a:pathLst>
              <a:path w="1924050" h="1924050">
                <a:moveTo>
                  <a:pt x="1603243" y="1679194"/>
                </a:moveTo>
                <a:cubicBezTo>
                  <a:pt x="1264861" y="1981740"/>
                  <a:pt x="761045" y="2006600"/>
                  <a:pt x="394523" y="1738835"/>
                </a:cubicBezTo>
                <a:cubicBezTo>
                  <a:pt x="28000" y="1471070"/>
                  <a:pt x="-101491" y="983546"/>
                  <a:pt x="83856" y="569199"/>
                </a:cubicBezTo>
                <a:cubicBezTo>
                  <a:pt x="269203" y="154852"/>
                  <a:pt x="718952" y="-73564"/>
                  <a:pt x="1162863" y="21198"/>
                </a:cubicBezTo>
                <a:cubicBezTo>
                  <a:pt x="1606774" y="115960"/>
                  <a:pt x="1924050" y="508113"/>
                  <a:pt x="1924050" y="962025"/>
                </a:cubicBezTo>
                <a:lnTo>
                  <a:pt x="1839603" y="962025"/>
                </a:lnTo>
                <a:cubicBezTo>
                  <a:pt x="1839603" y="547957"/>
                  <a:pt x="1550178" y="190227"/>
                  <a:pt x="1145234" y="103784"/>
                </a:cubicBezTo>
                <a:cubicBezTo>
                  <a:pt x="740290" y="17341"/>
                  <a:pt x="330020" y="225707"/>
                  <a:pt x="160943" y="603682"/>
                </a:cubicBezTo>
                <a:cubicBezTo>
                  <a:pt x="-8134" y="981657"/>
                  <a:pt x="109990" y="1426386"/>
                  <a:pt x="444339" y="1670647"/>
                </a:cubicBezTo>
                <a:cubicBezTo>
                  <a:pt x="778688" y="1914907"/>
                  <a:pt x="1238278" y="1892230"/>
                  <a:pt x="1546957" y="1616241"/>
                </a:cubicBezTo>
                <a:lnTo>
                  <a:pt x="1603243" y="16791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0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2-08T02:09:50Z</dcterms:modified>
  <cp:revision>15</cp:revision>
  <dc:subject/>
  <dc:title>PowerPoint 演示文稿</dc:title>
</cp:coreProperties>
</file>