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7.png" ContentType="image/png"/>
  <Override PartName="/ppt/media/image45.jpeg" ContentType="image/jpeg"/>
  <Override PartName="/ppt/media/image30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4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1CD-42CA-4641-ACF8-448269FB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80A-DD86-4866-B581-6B2DFC38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200-9528-4131-A74F-0A8816D7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686-B864-4497-8C0B-299ABE15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C57-26D6-4D08-8E4B-A735DD99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418-2BE1-44C0-96F0-AF73BFB8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B48-2AF1-4E53-B00A-1FC92E40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76A-1958-49E7-BF08-8A8DBE78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F7E-FD1F-49A4-B386-DD59BC64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2FC-1277-4DEC-9507-6CCEF18F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896-7889-4008-B7F3-E950D4AF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EF4-AA35-4788-B1E9-DAEC4A8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A15D-A281-4721-A854-8A3330476E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34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接连接符 7"/>
            <p:cNvSpPr/>
            <p:nvPr/>
          </p:nvSpPr>
          <p:spPr>
            <a:xfrm flipH="1">
              <a:off x="2732040" y="313380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64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5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66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0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74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0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83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85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89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393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02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3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04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6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17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0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23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26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28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0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32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42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45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7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48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51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54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5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56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8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72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3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74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6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3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4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5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1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7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8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23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24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25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35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37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5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9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4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5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5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6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6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6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/>
            <a:ahLst/>
            <a:rect l="l" t="t" r="r" b="b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0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83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6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7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8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89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3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94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96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8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29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31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7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34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36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39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41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7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48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0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6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08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11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14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0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1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22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4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38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0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2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64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66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6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6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6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11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14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17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2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25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7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29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35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Group 17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741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5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5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Text Box 30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68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71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74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77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0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1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82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Text Box 2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89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3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6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01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5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06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7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08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0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14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19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1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3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24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6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0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1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32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4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5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46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0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54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7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58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1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62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71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2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73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 Box 4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6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7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7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8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8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8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7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78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194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197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0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02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1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06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09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12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15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18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29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0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31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Text Box 2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3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57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8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59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63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74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76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1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8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29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29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29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0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0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0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13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15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7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19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21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3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25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28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9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0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Text Box 2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Administrator</cp:lastModifiedBy>
  <dcterms:modified xsi:type="dcterms:W3CDTF">2016-08-02T03:45:47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