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7553-FC72-4577-BD92-016C29D0A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13FE-BCA5-4648-A730-0FC7F3D4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B98F-DDB6-434D-A1C1-B0EDB270A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6EF3-EC35-4FA6-9F6F-D10347464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5714-571E-43E7-914D-98FFBB00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196F-F168-4B68-B73D-3EBD7DCE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9387-CA1E-4C4E-80C4-8959FC0A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80B2-C840-49AA-8F14-8F2B7808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490A-6384-40C1-9A00-76F0AC55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9DCD-18F8-4A99-A278-1912CAEC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D985-1EBD-4345-83C8-E8070F88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A38B-0495-4FB4-B4F4-B6CC289D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04A3-A9F1-479B-A87D-9399660D70F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6"/>
          <p:cNvSpPr/>
          <p:nvPr/>
        </p:nvSpPr>
        <p:spPr>
          <a:xfrm>
            <a:off x="3898800" y="857160"/>
            <a:ext cx="2514600" cy="4943520"/>
          </a:xfrm>
          <a:custGeom>
            <a:avLst/>
            <a:gdLst/>
            <a:ahLst/>
            <a:rect l="l" t="t" r="r" b="b"/>
            <a:pathLst>
              <a:path w="2514348" h="4943621">
                <a:moveTo>
                  <a:pt x="50740" y="410100"/>
                </a:moveTo>
                <a:cubicBezTo>
                  <a:pt x="142298" y="416049"/>
                  <a:pt x="881992" y="670043"/>
                  <a:pt x="1267681" y="601993"/>
                </a:cubicBezTo>
                <a:cubicBezTo>
                  <a:pt x="1653370" y="533943"/>
                  <a:pt x="2369176" y="-36007"/>
                  <a:pt x="2364873" y="1798"/>
                </a:cubicBezTo>
                <a:cubicBezTo>
                  <a:pt x="2360570" y="39603"/>
                  <a:pt x="2711707" y="4479423"/>
                  <a:pt x="2352203" y="4943621"/>
                </a:cubicBezTo>
                <a:cubicBezTo>
                  <a:pt x="2349636" y="4934576"/>
                  <a:pt x="692256" y="4357059"/>
                  <a:pt x="195817" y="2786984"/>
                </a:cubicBezTo>
                <a:cubicBezTo>
                  <a:pt x="-17593" y="1772081"/>
                  <a:pt x="-40818" y="404151"/>
                  <a:pt x="50740" y="4101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46"/>
          <p:cNvSpPr/>
          <p:nvPr/>
        </p:nvSpPr>
        <p:spPr>
          <a:xfrm flipH="1">
            <a:off x="6239880" y="852480"/>
            <a:ext cx="2352600" cy="4940280"/>
          </a:xfrm>
          <a:custGeom>
            <a:avLst/>
            <a:gdLst/>
            <a:ahLst/>
            <a:rect l="l" t="t" r="r" b="b"/>
            <a:pathLst>
              <a:path w="2352204" h="4940539">
                <a:moveTo>
                  <a:pt x="50740" y="406100"/>
                </a:moveTo>
                <a:cubicBezTo>
                  <a:pt x="142298" y="412049"/>
                  <a:pt x="886003" y="665375"/>
                  <a:pt x="1267681" y="597993"/>
                </a:cubicBezTo>
                <a:cubicBezTo>
                  <a:pt x="1649359" y="530611"/>
                  <a:pt x="2345113" y="-35996"/>
                  <a:pt x="2340810" y="1809"/>
                </a:cubicBezTo>
                <a:cubicBezTo>
                  <a:pt x="2336507" y="39614"/>
                  <a:pt x="2350473" y="4911521"/>
                  <a:pt x="2352203" y="4939621"/>
                </a:cubicBezTo>
                <a:cubicBezTo>
                  <a:pt x="2353933" y="4967721"/>
                  <a:pt x="692256" y="4353059"/>
                  <a:pt x="195817" y="2782984"/>
                </a:cubicBezTo>
                <a:cubicBezTo>
                  <a:pt x="-17593" y="1768081"/>
                  <a:pt x="-40818" y="400151"/>
                  <a:pt x="50740" y="4061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任意多边形 54"/>
          <p:cNvSpPr/>
          <p:nvPr/>
        </p:nvSpPr>
        <p:spPr>
          <a:xfrm>
            <a:off x="3983040" y="963720"/>
            <a:ext cx="4525920" cy="4775040"/>
          </a:xfrm>
          <a:custGeom>
            <a:avLst/>
            <a:gdLst/>
            <a:ahLst/>
            <a:rect l="l" t="t" r="r" b="b"/>
            <a:pathLst>
              <a:path w="4526314" h="4775275">
                <a:moveTo>
                  <a:pt x="2255599" y="1483"/>
                </a:moveTo>
                <a:cubicBezTo>
                  <a:pt x="2260386" y="-537"/>
                  <a:pt x="2262769" y="-535"/>
                  <a:pt x="2262509" y="1749"/>
                </a:cubicBezTo>
                <a:cubicBezTo>
                  <a:pt x="2261210" y="13167"/>
                  <a:pt x="2261634" y="480875"/>
                  <a:pt x="2262884" y="1119405"/>
                </a:cubicBezTo>
                <a:lnTo>
                  <a:pt x="2263157" y="1254214"/>
                </a:lnTo>
                <a:lnTo>
                  <a:pt x="2263431" y="1119405"/>
                </a:lnTo>
                <a:cubicBezTo>
                  <a:pt x="2264680" y="480875"/>
                  <a:pt x="2265105" y="13167"/>
                  <a:pt x="2263805" y="1749"/>
                </a:cubicBezTo>
                <a:cubicBezTo>
                  <a:pt x="2259646" y="-34792"/>
                  <a:pt x="2932126" y="512862"/>
                  <a:pt x="3301037" y="577990"/>
                </a:cubicBezTo>
                <a:cubicBezTo>
                  <a:pt x="3669948" y="643118"/>
                  <a:pt x="4388775" y="398266"/>
                  <a:pt x="4477271" y="392516"/>
                </a:cubicBezTo>
                <a:cubicBezTo>
                  <a:pt x="4565766" y="386766"/>
                  <a:pt x="4543318" y="1708938"/>
                  <a:pt x="4337046" y="2689892"/>
                </a:cubicBezTo>
                <a:cubicBezTo>
                  <a:pt x="3902198" y="4065176"/>
                  <a:pt x="2542365" y="4682038"/>
                  <a:pt x="2292463" y="4765397"/>
                </a:cubicBezTo>
                <a:lnTo>
                  <a:pt x="2273484" y="4771253"/>
                </a:lnTo>
                <a:lnTo>
                  <a:pt x="2273521" y="4774388"/>
                </a:lnTo>
                <a:cubicBezTo>
                  <a:pt x="2273574" y="4775236"/>
                  <a:pt x="2272056" y="4775479"/>
                  <a:pt x="2269051" y="4775105"/>
                </a:cubicBezTo>
                <a:lnTo>
                  <a:pt x="2263157" y="4773794"/>
                </a:lnTo>
                <a:lnTo>
                  <a:pt x="2257263" y="4775105"/>
                </a:lnTo>
                <a:cubicBezTo>
                  <a:pt x="2254259" y="4775479"/>
                  <a:pt x="2252741" y="4775236"/>
                  <a:pt x="2252793" y="4774388"/>
                </a:cubicBezTo>
                <a:lnTo>
                  <a:pt x="2252831" y="4771253"/>
                </a:lnTo>
                <a:lnTo>
                  <a:pt x="2233852" y="4765397"/>
                </a:lnTo>
                <a:cubicBezTo>
                  <a:pt x="1983950" y="4682038"/>
                  <a:pt x="624116" y="4065176"/>
                  <a:pt x="189268" y="2689892"/>
                </a:cubicBezTo>
                <a:cubicBezTo>
                  <a:pt x="-17004" y="1708938"/>
                  <a:pt x="-39452" y="386766"/>
                  <a:pt x="49044" y="392516"/>
                </a:cubicBezTo>
                <a:cubicBezTo>
                  <a:pt x="137539" y="398266"/>
                  <a:pt x="856367" y="643118"/>
                  <a:pt x="1225277" y="577990"/>
                </a:cubicBezTo>
                <a:cubicBezTo>
                  <a:pt x="1571131" y="516932"/>
                  <a:pt x="2183794" y="31780"/>
                  <a:pt x="2255599" y="1483"/>
                </a:cubicBezTo>
                <a:close/>
              </a:path>
            </a:pathLst>
          </a:custGeom>
          <a:solidFill>
            <a:srgbClr val="ebea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58"/>
          <p:cNvSpPr/>
          <p:nvPr/>
        </p:nvSpPr>
        <p:spPr>
          <a:xfrm>
            <a:off x="8959680" y="2859120"/>
            <a:ext cx="1717920" cy="880920"/>
          </a:xfrm>
          <a:custGeom>
            <a:avLst/>
            <a:gdLst/>
            <a:ahLst/>
            <a:rect l="l" t="t" r="r" b="b"/>
            <a:pathLst>
              <a:path w="1294338" h="539674">
                <a:moveTo>
                  <a:pt x="0" y="0"/>
                </a:moveTo>
                <a:lnTo>
                  <a:pt x="1294338" y="0"/>
                </a:lnTo>
                <a:lnTo>
                  <a:pt x="817038" y="271362"/>
                </a:lnTo>
                <a:lnTo>
                  <a:pt x="1294338" y="539674"/>
                </a:lnTo>
                <a:lnTo>
                  <a:pt x="0" y="539674"/>
                </a:lnTo>
                <a:lnTo>
                  <a:pt x="0" y="0"/>
                </a:lnTo>
                <a:close/>
              </a:path>
            </a:pathLst>
          </a:custGeom>
          <a:solidFill>
            <a:srgbClr val="d8a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矩形 56"/>
          <p:cNvSpPr/>
          <p:nvPr/>
        </p:nvSpPr>
        <p:spPr>
          <a:xfrm>
            <a:off x="8958240" y="3546360"/>
            <a:ext cx="566640" cy="195480"/>
          </a:xfrm>
          <a:custGeom>
            <a:avLst/>
            <a:gdLst/>
            <a:ahLst/>
            <a:rect l="l" t="t" r="r" b="b"/>
            <a:pathLst>
              <a:path w="566057" h="289692">
                <a:moveTo>
                  <a:pt x="0" y="0"/>
                </a:moveTo>
                <a:lnTo>
                  <a:pt x="566057" y="0"/>
                </a:lnTo>
                <a:lnTo>
                  <a:pt x="0" y="289692"/>
                </a:lnTo>
                <a:lnTo>
                  <a:pt x="0" y="0"/>
                </a:ln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58"/>
          <p:cNvSpPr/>
          <p:nvPr/>
        </p:nvSpPr>
        <p:spPr>
          <a:xfrm flipH="1">
            <a:off x="1993320" y="2862360"/>
            <a:ext cx="1717560" cy="880920"/>
          </a:xfrm>
          <a:custGeom>
            <a:avLst/>
            <a:gdLst/>
            <a:ahLst/>
            <a:rect l="l" t="t" r="r" b="b"/>
            <a:pathLst>
              <a:path w="1294338" h="539674">
                <a:moveTo>
                  <a:pt x="0" y="0"/>
                </a:moveTo>
                <a:lnTo>
                  <a:pt x="1294338" y="0"/>
                </a:lnTo>
                <a:lnTo>
                  <a:pt x="817038" y="271362"/>
                </a:lnTo>
                <a:lnTo>
                  <a:pt x="1294338" y="539674"/>
                </a:lnTo>
                <a:lnTo>
                  <a:pt x="0" y="539674"/>
                </a:lnTo>
                <a:lnTo>
                  <a:pt x="0" y="0"/>
                </a:lnTo>
                <a:close/>
              </a:path>
            </a:pathLst>
          </a:custGeom>
          <a:solidFill>
            <a:srgbClr val="d8a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56"/>
          <p:cNvSpPr/>
          <p:nvPr/>
        </p:nvSpPr>
        <p:spPr>
          <a:xfrm flipH="1">
            <a:off x="3146400" y="3551400"/>
            <a:ext cx="565200" cy="195120"/>
          </a:xfrm>
          <a:custGeom>
            <a:avLst/>
            <a:gdLst/>
            <a:ahLst/>
            <a:rect l="l" t="t" r="r" b="b"/>
            <a:pathLst>
              <a:path w="566057" h="289692">
                <a:moveTo>
                  <a:pt x="0" y="0"/>
                </a:moveTo>
                <a:lnTo>
                  <a:pt x="566057" y="0"/>
                </a:lnTo>
                <a:lnTo>
                  <a:pt x="0" y="289692"/>
                </a:lnTo>
                <a:lnTo>
                  <a:pt x="0" y="0"/>
                </a:ln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zhongjian"/>
          <p:cNvSpPr/>
          <p:nvPr/>
        </p:nvSpPr>
        <p:spPr>
          <a:xfrm>
            <a:off x="3162240" y="2368440"/>
            <a:ext cx="6343560" cy="1195560"/>
          </a:xfrm>
          <a:prstGeom prst="rect">
            <a:avLst/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文本框 4"/>
          <p:cNvSpPr/>
          <p:nvPr/>
        </p:nvSpPr>
        <p:spPr>
          <a:xfrm>
            <a:off x="5124600" y="3892680"/>
            <a:ext cx="21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7b76"/>
                </a:solidFill>
                <a:latin typeface="微软雅黑"/>
                <a:ea typeface="微软雅黑"/>
              </a:rPr>
              <a:t>2015.10.0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文本框 42"/>
          <p:cNvSpPr/>
          <p:nvPr/>
        </p:nvSpPr>
        <p:spPr>
          <a:xfrm>
            <a:off x="4092480" y="2476440"/>
            <a:ext cx="44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47b76"/>
                </a:solidFill>
                <a:latin typeface="微软雅黑"/>
                <a:ea typeface="微软雅黑"/>
              </a:rPr>
              <a:t>月末汇报模板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43"/>
          <p:cNvSpPr/>
          <p:nvPr/>
        </p:nvSpPr>
        <p:spPr>
          <a:xfrm>
            <a:off x="5568840" y="4416480"/>
            <a:ext cx="12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47b76"/>
                </a:solidFill>
                <a:latin typeface="微软雅黑"/>
                <a:ea typeface="微软雅黑"/>
              </a:rPr>
              <a:t>某某某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椭圆 45" descr=""/>
          <p:cNvPicPr/>
          <p:nvPr/>
        </p:nvPicPr>
        <p:blipFill>
          <a:blip r:embed="rId1"/>
          <a:stretch/>
        </p:blipFill>
        <p:spPr>
          <a:xfrm>
            <a:off x="4681440" y="890640"/>
            <a:ext cx="3303720" cy="329868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14"/>
          <p:cNvGrpSpPr/>
          <p:nvPr/>
        </p:nvGrpSpPr>
        <p:grpSpPr>
          <a:xfrm>
            <a:off x="4898880" y="2147760"/>
            <a:ext cx="2675160" cy="122400"/>
            <a:chOff x="4898880" y="2147760"/>
            <a:chExt cx="2675160" cy="122400"/>
          </a:xfrm>
        </p:grpSpPr>
        <p:sp>
          <p:nvSpPr>
            <p:cNvPr id="54" name="椭圆 7"/>
            <p:cNvSpPr/>
            <p:nvPr/>
          </p:nvSpPr>
          <p:spPr>
            <a:xfrm>
              <a:off x="489888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椭圆 8"/>
            <p:cNvSpPr/>
            <p:nvPr/>
          </p:nvSpPr>
          <p:spPr>
            <a:xfrm>
              <a:off x="509364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椭圆 9"/>
            <p:cNvSpPr/>
            <p:nvPr/>
          </p:nvSpPr>
          <p:spPr>
            <a:xfrm>
              <a:off x="528840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椭圆 10"/>
            <p:cNvSpPr/>
            <p:nvPr/>
          </p:nvSpPr>
          <p:spPr>
            <a:xfrm>
              <a:off x="548316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椭圆 11"/>
            <p:cNvSpPr/>
            <p:nvPr/>
          </p:nvSpPr>
          <p:spPr>
            <a:xfrm>
              <a:off x="567828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椭圆 12"/>
            <p:cNvSpPr/>
            <p:nvPr/>
          </p:nvSpPr>
          <p:spPr>
            <a:xfrm>
              <a:off x="587304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椭圆 13"/>
            <p:cNvSpPr/>
            <p:nvPr/>
          </p:nvSpPr>
          <p:spPr>
            <a:xfrm>
              <a:off x="606780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椭圆 14"/>
            <p:cNvSpPr/>
            <p:nvPr/>
          </p:nvSpPr>
          <p:spPr>
            <a:xfrm>
              <a:off x="626256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椭圆 15"/>
            <p:cNvSpPr/>
            <p:nvPr/>
          </p:nvSpPr>
          <p:spPr>
            <a:xfrm>
              <a:off x="645768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椭圆 17"/>
            <p:cNvSpPr/>
            <p:nvPr/>
          </p:nvSpPr>
          <p:spPr>
            <a:xfrm>
              <a:off x="667296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椭圆 18"/>
            <p:cNvSpPr/>
            <p:nvPr/>
          </p:nvSpPr>
          <p:spPr>
            <a:xfrm>
              <a:off x="686772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椭圆 19"/>
            <p:cNvSpPr/>
            <p:nvPr/>
          </p:nvSpPr>
          <p:spPr>
            <a:xfrm>
              <a:off x="706248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椭圆 20"/>
            <p:cNvSpPr/>
            <p:nvPr/>
          </p:nvSpPr>
          <p:spPr>
            <a:xfrm>
              <a:off x="725760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椭圆 21"/>
            <p:cNvSpPr/>
            <p:nvPr/>
          </p:nvSpPr>
          <p:spPr>
            <a:xfrm>
              <a:off x="745236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29"/>
          <p:cNvGrpSpPr/>
          <p:nvPr/>
        </p:nvGrpSpPr>
        <p:grpSpPr>
          <a:xfrm>
            <a:off x="4898880" y="3662280"/>
            <a:ext cx="2675160" cy="120600"/>
            <a:chOff x="4898880" y="3662280"/>
            <a:chExt cx="2675160" cy="120600"/>
          </a:xfrm>
        </p:grpSpPr>
        <p:sp>
          <p:nvSpPr>
            <p:cNvPr id="69" name="椭圆 28"/>
            <p:cNvSpPr/>
            <p:nvPr/>
          </p:nvSpPr>
          <p:spPr>
            <a:xfrm>
              <a:off x="489888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椭圆 29"/>
            <p:cNvSpPr/>
            <p:nvPr/>
          </p:nvSpPr>
          <p:spPr>
            <a:xfrm>
              <a:off x="509364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椭圆 30"/>
            <p:cNvSpPr/>
            <p:nvPr/>
          </p:nvSpPr>
          <p:spPr>
            <a:xfrm>
              <a:off x="528840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椭圆 31"/>
            <p:cNvSpPr/>
            <p:nvPr/>
          </p:nvSpPr>
          <p:spPr>
            <a:xfrm>
              <a:off x="548316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椭圆 32"/>
            <p:cNvSpPr/>
            <p:nvPr/>
          </p:nvSpPr>
          <p:spPr>
            <a:xfrm>
              <a:off x="567828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椭圆 33"/>
            <p:cNvSpPr/>
            <p:nvPr/>
          </p:nvSpPr>
          <p:spPr>
            <a:xfrm>
              <a:off x="587304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椭圆 34"/>
            <p:cNvSpPr/>
            <p:nvPr/>
          </p:nvSpPr>
          <p:spPr>
            <a:xfrm>
              <a:off x="606780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椭圆 35"/>
            <p:cNvSpPr/>
            <p:nvPr/>
          </p:nvSpPr>
          <p:spPr>
            <a:xfrm>
              <a:off x="626256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椭圆 36"/>
            <p:cNvSpPr/>
            <p:nvPr/>
          </p:nvSpPr>
          <p:spPr>
            <a:xfrm>
              <a:off x="645768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椭圆 37"/>
            <p:cNvSpPr/>
            <p:nvPr/>
          </p:nvSpPr>
          <p:spPr>
            <a:xfrm>
              <a:off x="667296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椭圆 38"/>
            <p:cNvSpPr/>
            <p:nvPr/>
          </p:nvSpPr>
          <p:spPr>
            <a:xfrm>
              <a:off x="686772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椭圆 39"/>
            <p:cNvSpPr/>
            <p:nvPr/>
          </p:nvSpPr>
          <p:spPr>
            <a:xfrm>
              <a:off x="706248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椭圆 40"/>
            <p:cNvSpPr/>
            <p:nvPr/>
          </p:nvSpPr>
          <p:spPr>
            <a:xfrm>
              <a:off x="725760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椭圆 41"/>
            <p:cNvSpPr/>
            <p:nvPr/>
          </p:nvSpPr>
          <p:spPr>
            <a:xfrm>
              <a:off x="745236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58"/>
          <p:cNvSpPr/>
          <p:nvPr/>
        </p:nvSpPr>
        <p:spPr>
          <a:xfrm>
            <a:off x="8840880" y="1158840"/>
            <a:ext cx="1717560" cy="880920"/>
          </a:xfrm>
          <a:custGeom>
            <a:avLst/>
            <a:gdLst/>
            <a:ahLst/>
            <a:rect l="l" t="t" r="r" b="b"/>
            <a:pathLst>
              <a:path w="1294338" h="539674">
                <a:moveTo>
                  <a:pt x="0" y="0"/>
                </a:moveTo>
                <a:lnTo>
                  <a:pt x="1294338" y="0"/>
                </a:lnTo>
                <a:lnTo>
                  <a:pt x="817038" y="271362"/>
                </a:lnTo>
                <a:lnTo>
                  <a:pt x="1294338" y="539674"/>
                </a:lnTo>
                <a:lnTo>
                  <a:pt x="0" y="539674"/>
                </a:lnTo>
                <a:lnTo>
                  <a:pt x="0" y="0"/>
                </a:lnTo>
                <a:close/>
              </a:path>
            </a:pathLst>
          </a:custGeom>
          <a:solidFill>
            <a:srgbClr val="d8a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56"/>
          <p:cNvSpPr/>
          <p:nvPr/>
        </p:nvSpPr>
        <p:spPr>
          <a:xfrm>
            <a:off x="8840880" y="1846440"/>
            <a:ext cx="565200" cy="196560"/>
          </a:xfrm>
          <a:custGeom>
            <a:avLst/>
            <a:gdLst/>
            <a:ahLst/>
            <a:rect l="l" t="t" r="r" b="b"/>
            <a:pathLst>
              <a:path w="566057" h="289692">
                <a:moveTo>
                  <a:pt x="0" y="0"/>
                </a:moveTo>
                <a:lnTo>
                  <a:pt x="566057" y="0"/>
                </a:lnTo>
                <a:lnTo>
                  <a:pt x="0" y="289692"/>
                </a:lnTo>
                <a:lnTo>
                  <a:pt x="0" y="0"/>
                </a:ln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58"/>
          <p:cNvSpPr/>
          <p:nvPr/>
        </p:nvSpPr>
        <p:spPr>
          <a:xfrm flipH="1">
            <a:off x="1874160" y="1163520"/>
            <a:ext cx="1717560" cy="881280"/>
          </a:xfrm>
          <a:custGeom>
            <a:avLst/>
            <a:gdLst/>
            <a:ahLst/>
            <a:rect l="l" t="t" r="r" b="b"/>
            <a:pathLst>
              <a:path w="1294338" h="539674">
                <a:moveTo>
                  <a:pt x="0" y="0"/>
                </a:moveTo>
                <a:lnTo>
                  <a:pt x="1294338" y="0"/>
                </a:lnTo>
                <a:lnTo>
                  <a:pt x="817038" y="271362"/>
                </a:lnTo>
                <a:lnTo>
                  <a:pt x="1294338" y="539674"/>
                </a:lnTo>
                <a:lnTo>
                  <a:pt x="0" y="539674"/>
                </a:lnTo>
                <a:lnTo>
                  <a:pt x="0" y="0"/>
                </a:lnTo>
                <a:close/>
              </a:path>
            </a:pathLst>
          </a:custGeom>
          <a:solidFill>
            <a:srgbClr val="d8a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56"/>
          <p:cNvSpPr/>
          <p:nvPr/>
        </p:nvSpPr>
        <p:spPr>
          <a:xfrm flipH="1">
            <a:off x="3026520" y="1851120"/>
            <a:ext cx="567000" cy="195120"/>
          </a:xfrm>
          <a:custGeom>
            <a:avLst/>
            <a:gdLst/>
            <a:ahLst/>
            <a:rect l="l" t="t" r="r" b="b"/>
            <a:pathLst>
              <a:path w="566057" h="289692">
                <a:moveTo>
                  <a:pt x="0" y="0"/>
                </a:moveTo>
                <a:lnTo>
                  <a:pt x="566057" y="0"/>
                </a:lnTo>
                <a:lnTo>
                  <a:pt x="0" y="289692"/>
                </a:lnTo>
                <a:lnTo>
                  <a:pt x="0" y="0"/>
                </a:ln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zhongjian"/>
          <p:cNvSpPr/>
          <p:nvPr/>
        </p:nvSpPr>
        <p:spPr>
          <a:xfrm>
            <a:off x="3044880" y="668160"/>
            <a:ext cx="6342120" cy="1195560"/>
          </a:xfrm>
          <a:prstGeom prst="rect">
            <a:avLst/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图片 5" descr=""/>
          <p:cNvPicPr/>
          <p:nvPr/>
        </p:nvPicPr>
        <p:blipFill>
          <a:blip r:embed="rId1"/>
          <a:stretch/>
        </p:blipFill>
        <p:spPr>
          <a:xfrm>
            <a:off x="7500960" y="-246240"/>
            <a:ext cx="4848120" cy="685656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4"/>
          <p:cNvSpPr/>
          <p:nvPr/>
        </p:nvSpPr>
        <p:spPr>
          <a:xfrm>
            <a:off x="5191200" y="638280"/>
            <a:ext cx="20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767171"/>
                </a:solidFill>
                <a:latin typeface="微软雅黑"/>
                <a:ea typeface="微软雅黑"/>
              </a:rPr>
              <a:t>目录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等腰三角形 22"/>
          <p:cNvSpPr/>
          <p:nvPr/>
        </p:nvSpPr>
        <p:spPr>
          <a:xfrm rot="16200000">
            <a:off x="5570640" y="2596680"/>
            <a:ext cx="485640" cy="343080"/>
          </a:xfrm>
          <a:prstGeom prst="triangle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等腰三角形 51"/>
          <p:cNvSpPr/>
          <p:nvPr/>
        </p:nvSpPr>
        <p:spPr>
          <a:xfrm rot="5400000">
            <a:off x="6246720" y="3498840"/>
            <a:ext cx="509400" cy="360360"/>
          </a:xfrm>
          <a:prstGeom prst="triangle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直接连接符 16"/>
          <p:cNvSpPr/>
          <p:nvPr/>
        </p:nvSpPr>
        <p:spPr>
          <a:xfrm>
            <a:off x="6016680" y="2398680"/>
            <a:ext cx="0" cy="3571920"/>
          </a:xfrm>
          <a:prstGeom prst="line">
            <a:avLst/>
          </a:prstGeom>
          <a:ln w="1908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直接连接符 53"/>
          <p:cNvSpPr/>
          <p:nvPr/>
        </p:nvSpPr>
        <p:spPr>
          <a:xfrm>
            <a:off x="6286680" y="2398680"/>
            <a:ext cx="0" cy="3571920"/>
          </a:xfrm>
          <a:prstGeom prst="line">
            <a:avLst/>
          </a:prstGeom>
          <a:ln w="1908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等腰三角形 57"/>
          <p:cNvSpPr/>
          <p:nvPr/>
        </p:nvSpPr>
        <p:spPr>
          <a:xfrm rot="16200000">
            <a:off x="5566680" y="4416840"/>
            <a:ext cx="485640" cy="344520"/>
          </a:xfrm>
          <a:prstGeom prst="triangle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等腰三角形 59"/>
          <p:cNvSpPr/>
          <p:nvPr/>
        </p:nvSpPr>
        <p:spPr>
          <a:xfrm rot="5400000">
            <a:off x="6242400" y="5320440"/>
            <a:ext cx="511200" cy="360360"/>
          </a:xfrm>
          <a:prstGeom prst="triangle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文本框 24"/>
          <p:cNvSpPr/>
          <p:nvPr/>
        </p:nvSpPr>
        <p:spPr>
          <a:xfrm>
            <a:off x="3336840" y="2449440"/>
            <a:ext cx="2051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小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文本框 60"/>
          <p:cNvSpPr/>
          <p:nvPr/>
        </p:nvSpPr>
        <p:spPr>
          <a:xfrm>
            <a:off x="6915240" y="3309840"/>
            <a:ext cx="2052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小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63"/>
          <p:cNvSpPr/>
          <p:nvPr/>
        </p:nvSpPr>
        <p:spPr>
          <a:xfrm>
            <a:off x="3363840" y="4221000"/>
            <a:ext cx="2051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小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64"/>
          <p:cNvSpPr/>
          <p:nvPr/>
        </p:nvSpPr>
        <p:spPr>
          <a:xfrm>
            <a:off x="6915240" y="5132520"/>
            <a:ext cx="2052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小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5" descr=""/>
          <p:cNvPicPr/>
          <p:nvPr/>
        </p:nvPicPr>
        <p:blipFill>
          <a:blip r:embed="rId1"/>
          <a:stretch/>
        </p:blipFill>
        <p:spPr>
          <a:xfrm>
            <a:off x="7500960" y="-246240"/>
            <a:ext cx="4848120" cy="6856560"/>
          </a:xfrm>
          <a:prstGeom prst="rect">
            <a:avLst/>
          </a:prstGeom>
          <a:ln w="0">
            <a:noFill/>
          </a:ln>
        </p:spPr>
      </p:pic>
      <p:sp>
        <p:nvSpPr>
          <p:cNvPr id="101" name="等腰三角形 22"/>
          <p:cNvSpPr/>
          <p:nvPr/>
        </p:nvSpPr>
        <p:spPr>
          <a:xfrm rot="5400000">
            <a:off x="1470600" y="1023120"/>
            <a:ext cx="485640" cy="344520"/>
          </a:xfrm>
          <a:prstGeom prst="triangle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24"/>
          <p:cNvSpPr/>
          <p:nvPr/>
        </p:nvSpPr>
        <p:spPr>
          <a:xfrm>
            <a:off x="2249640" y="828720"/>
            <a:ext cx="2052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小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剪去对角的矩形 1"/>
          <p:cNvSpPr/>
          <p:nvPr/>
        </p:nvSpPr>
        <p:spPr>
          <a:xfrm>
            <a:off x="1542960" y="1806480"/>
            <a:ext cx="9267840" cy="3648240"/>
          </a:xfrm>
          <a:custGeom>
            <a:avLst/>
            <a:gdLst/>
            <a:ahLst/>
            <a:rect l="l" t="t" r="r" b="b"/>
            <a:pathLst>
              <a:path w="9268118" h="3646843">
                <a:moveTo>
                  <a:pt x="0" y="0"/>
                </a:moveTo>
                <a:lnTo>
                  <a:pt x="8660299" y="0"/>
                </a:lnTo>
                <a:lnTo>
                  <a:pt x="9268118" y="607819"/>
                </a:lnTo>
                <a:lnTo>
                  <a:pt x="9268118" y="3646843"/>
                </a:lnTo>
                <a:lnTo>
                  <a:pt x="607819" y="3646843"/>
                </a:lnTo>
                <a:lnTo>
                  <a:pt x="0" y="3039024"/>
                </a:lnTo>
                <a:lnTo>
                  <a:pt x="0" y="0"/>
                </a:lnTo>
                <a:close/>
              </a:path>
            </a:pathLst>
          </a:cu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文本框 2"/>
          <p:cNvSpPr/>
          <p:nvPr/>
        </p:nvSpPr>
        <p:spPr>
          <a:xfrm>
            <a:off x="2249640" y="2238480"/>
            <a:ext cx="76593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5" descr=""/>
          <p:cNvPicPr/>
          <p:nvPr/>
        </p:nvPicPr>
        <p:blipFill>
          <a:blip r:embed="rId1"/>
          <a:stretch/>
        </p:blipFill>
        <p:spPr>
          <a:xfrm>
            <a:off x="7500960" y="-246240"/>
            <a:ext cx="4848120" cy="6856560"/>
          </a:xfrm>
          <a:prstGeom prst="rect">
            <a:avLst/>
          </a:prstGeom>
          <a:ln w="0">
            <a:noFill/>
          </a:ln>
        </p:spPr>
      </p:pic>
      <p:sp>
        <p:nvSpPr>
          <p:cNvPr id="106" name="矩形 4"/>
          <p:cNvSpPr/>
          <p:nvPr/>
        </p:nvSpPr>
        <p:spPr>
          <a:xfrm>
            <a:off x="0" y="3765600"/>
            <a:ext cx="12192120" cy="3092400"/>
          </a:xfrm>
          <a:prstGeom prst="rect">
            <a:avLst/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等腰三角形 6"/>
          <p:cNvSpPr/>
          <p:nvPr/>
        </p:nvSpPr>
        <p:spPr>
          <a:xfrm>
            <a:off x="4471920" y="1333440"/>
            <a:ext cx="3527640" cy="2432160"/>
          </a:xfrm>
          <a:prstGeom prst="triangle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文本框 7"/>
          <p:cNvSpPr/>
          <p:nvPr/>
        </p:nvSpPr>
        <p:spPr>
          <a:xfrm>
            <a:off x="5270400" y="2841480"/>
            <a:ext cx="209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0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等腰三角形 10"/>
          <p:cNvSpPr/>
          <p:nvPr/>
        </p:nvSpPr>
        <p:spPr>
          <a:xfrm rot="10800000">
            <a:off x="5497200" y="4363560"/>
            <a:ext cx="1476360" cy="1017720"/>
          </a:xfrm>
          <a:prstGeom prst="triangle">
            <a:avLst>
              <a:gd name="adj" fmla="val 50000"/>
            </a:avLst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文本框 8"/>
          <p:cNvSpPr/>
          <p:nvPr/>
        </p:nvSpPr>
        <p:spPr>
          <a:xfrm>
            <a:off x="5805360" y="443088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文本框 9"/>
          <p:cNvSpPr/>
          <p:nvPr/>
        </p:nvSpPr>
        <p:spPr>
          <a:xfrm>
            <a:off x="1301760" y="1670040"/>
            <a:ext cx="243036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文本框 13"/>
          <p:cNvSpPr/>
          <p:nvPr/>
        </p:nvSpPr>
        <p:spPr>
          <a:xfrm>
            <a:off x="9004320" y="1670040"/>
            <a:ext cx="243036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5" descr=""/>
          <p:cNvPicPr/>
          <p:nvPr/>
        </p:nvPicPr>
        <p:blipFill>
          <a:blip r:embed="rId1"/>
          <a:stretch/>
        </p:blipFill>
        <p:spPr>
          <a:xfrm>
            <a:off x="7500960" y="-246240"/>
            <a:ext cx="4848120" cy="6856560"/>
          </a:xfrm>
          <a:prstGeom prst="rect">
            <a:avLst/>
          </a:prstGeom>
          <a:ln w="0">
            <a:noFill/>
          </a:ln>
        </p:spPr>
      </p:pic>
      <p:sp>
        <p:nvSpPr>
          <p:cNvPr id="114" name="任意多边形 54"/>
          <p:cNvSpPr/>
          <p:nvPr/>
        </p:nvSpPr>
        <p:spPr>
          <a:xfrm>
            <a:off x="6307200" y="1185840"/>
            <a:ext cx="1449360" cy="2773440"/>
          </a:xfrm>
          <a:custGeom>
            <a:avLst/>
            <a:gdLst/>
            <a:ahLst/>
            <a:rect l="l" t="t" r="r" b="b"/>
            <a:pathLst>
              <a:path w="1448715" h="2772808">
                <a:moveTo>
                  <a:pt x="724358" y="0"/>
                </a:moveTo>
                <a:lnTo>
                  <a:pt x="833316" y="81478"/>
                </a:lnTo>
                <a:cubicBezTo>
                  <a:pt x="1209156" y="391648"/>
                  <a:pt x="1448715" y="861050"/>
                  <a:pt x="1448715" y="1386404"/>
                </a:cubicBezTo>
                <a:cubicBezTo>
                  <a:pt x="1448715" y="1911758"/>
                  <a:pt x="1209156" y="2381160"/>
                  <a:pt x="833316" y="2691331"/>
                </a:cubicBezTo>
                <a:lnTo>
                  <a:pt x="724358" y="2772808"/>
                </a:lnTo>
                <a:lnTo>
                  <a:pt x="615399" y="2691331"/>
                </a:lnTo>
                <a:cubicBezTo>
                  <a:pt x="239560" y="2381160"/>
                  <a:pt x="0" y="1911758"/>
                  <a:pt x="0" y="1386404"/>
                </a:cubicBezTo>
                <a:cubicBezTo>
                  <a:pt x="0" y="861050"/>
                  <a:pt x="239560" y="391648"/>
                  <a:pt x="615399" y="81478"/>
                </a:cubicBezTo>
                <a:lnTo>
                  <a:pt x="724358" y="0"/>
                </a:lnTo>
                <a:close/>
              </a:path>
            </a:pathLst>
          </a:cu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任意多边形 55"/>
          <p:cNvSpPr/>
          <p:nvPr/>
        </p:nvSpPr>
        <p:spPr>
          <a:xfrm>
            <a:off x="4362480" y="880920"/>
            <a:ext cx="2603520" cy="3383280"/>
          </a:xfrm>
          <a:custGeom>
            <a:avLst/>
            <a:gdLst/>
            <a:ahLst/>
            <a:rect l="l" t="t" r="r" b="b"/>
            <a:pathLst>
              <a:path w="2602735" h="3382178">
                <a:moveTo>
                  <a:pt x="1691089" y="0"/>
                </a:moveTo>
                <a:cubicBezTo>
                  <a:pt x="1982953" y="0"/>
                  <a:pt x="2257547" y="73938"/>
                  <a:pt x="2497163" y="204105"/>
                </a:cubicBezTo>
                <a:lnTo>
                  <a:pt x="2602735" y="268242"/>
                </a:lnTo>
                <a:lnTo>
                  <a:pt x="2568876" y="288811"/>
                </a:lnTo>
                <a:cubicBezTo>
                  <a:pt x="2119044" y="592712"/>
                  <a:pt x="1823291" y="1107362"/>
                  <a:pt x="1823291" y="1691089"/>
                </a:cubicBezTo>
                <a:cubicBezTo>
                  <a:pt x="1823291" y="2274816"/>
                  <a:pt x="2119044" y="2789466"/>
                  <a:pt x="2568876" y="3093367"/>
                </a:cubicBezTo>
                <a:lnTo>
                  <a:pt x="2602735" y="3113937"/>
                </a:lnTo>
                <a:lnTo>
                  <a:pt x="2497163" y="3178073"/>
                </a:lnTo>
                <a:cubicBezTo>
                  <a:pt x="2257547" y="3308240"/>
                  <a:pt x="1982953" y="3382178"/>
                  <a:pt x="1691089" y="3382178"/>
                </a:cubicBezTo>
                <a:cubicBezTo>
                  <a:pt x="757126" y="3382178"/>
                  <a:pt x="0" y="2625052"/>
                  <a:pt x="0" y="1691089"/>
                </a:cubicBezTo>
                <a:cubicBezTo>
                  <a:pt x="0" y="757126"/>
                  <a:pt x="757126" y="0"/>
                  <a:pt x="1691089" y="0"/>
                </a:cubicBez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文本框 16"/>
          <p:cNvSpPr/>
          <p:nvPr/>
        </p:nvSpPr>
        <p:spPr>
          <a:xfrm>
            <a:off x="4587840" y="2111400"/>
            <a:ext cx="146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70%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文本框 17"/>
          <p:cNvSpPr/>
          <p:nvPr/>
        </p:nvSpPr>
        <p:spPr>
          <a:xfrm>
            <a:off x="6519960" y="2249640"/>
            <a:ext cx="102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直接连接符 58"/>
          <p:cNvSpPr/>
          <p:nvPr/>
        </p:nvSpPr>
        <p:spPr>
          <a:xfrm flipH="1">
            <a:off x="3263760" y="2571840"/>
            <a:ext cx="1098720" cy="0"/>
          </a:xfrm>
          <a:prstGeom prst="line">
            <a:avLst/>
          </a:prstGeom>
          <a:ln w="28440">
            <a:solidFill>
              <a:srgbClr val="bf9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椭圆 59"/>
          <p:cNvSpPr/>
          <p:nvPr/>
        </p:nvSpPr>
        <p:spPr>
          <a:xfrm>
            <a:off x="3009960" y="2446200"/>
            <a:ext cx="253800" cy="252720"/>
          </a:xfrm>
          <a:prstGeom prst="ellipse">
            <a:avLst/>
          </a:prstGeom>
          <a:solidFill>
            <a:srgbClr val="bf9000"/>
          </a:solidFill>
          <a:ln w="12600">
            <a:solidFill>
              <a:srgbClr val="bf9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直接连接符 60"/>
          <p:cNvSpPr/>
          <p:nvPr/>
        </p:nvSpPr>
        <p:spPr>
          <a:xfrm flipH="1">
            <a:off x="7683480" y="2571840"/>
            <a:ext cx="1100160" cy="0"/>
          </a:xfrm>
          <a:prstGeom prst="line">
            <a:avLst/>
          </a:prstGeom>
          <a:ln w="28440">
            <a:solidFill>
              <a:srgbClr val="ffc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椭圆 61"/>
          <p:cNvSpPr/>
          <p:nvPr/>
        </p:nvSpPr>
        <p:spPr>
          <a:xfrm>
            <a:off x="8656560" y="2446200"/>
            <a:ext cx="254160" cy="252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文本框 62"/>
          <p:cNvSpPr/>
          <p:nvPr/>
        </p:nvSpPr>
        <p:spPr>
          <a:xfrm>
            <a:off x="1297080" y="2021040"/>
            <a:ext cx="17780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f9000"/>
                </a:solidFill>
                <a:latin typeface="微软雅黑"/>
                <a:ea typeface="微软雅黑"/>
              </a:rPr>
              <a:t>小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PS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演示助您快速创建极具感染力的演示文稿，打造令人震撼的影院效果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63"/>
          <p:cNvSpPr/>
          <p:nvPr/>
        </p:nvSpPr>
        <p:spPr>
          <a:xfrm>
            <a:off x="9034560" y="2044800"/>
            <a:ext cx="17636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小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PS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演示助您快速创建极具感染力的演示文稿，打造令人震撼的影院效果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圆角矩形 64"/>
          <p:cNvSpPr/>
          <p:nvPr/>
        </p:nvSpPr>
        <p:spPr>
          <a:xfrm>
            <a:off x="4348080" y="4944960"/>
            <a:ext cx="4299120" cy="43812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圆角矩形 65"/>
          <p:cNvSpPr/>
          <p:nvPr/>
        </p:nvSpPr>
        <p:spPr>
          <a:xfrm>
            <a:off x="4348080" y="4944960"/>
            <a:ext cx="3083040" cy="438120"/>
          </a:xfrm>
          <a:prstGeom prst="roundRect">
            <a:avLst>
              <a:gd name="adj" fmla="val 50000"/>
            </a:avLst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圆角矩形 66"/>
          <p:cNvSpPr/>
          <p:nvPr/>
        </p:nvSpPr>
        <p:spPr>
          <a:xfrm>
            <a:off x="4357800" y="5492880"/>
            <a:ext cx="4298760" cy="43812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圆角矩形 67"/>
          <p:cNvSpPr/>
          <p:nvPr/>
        </p:nvSpPr>
        <p:spPr>
          <a:xfrm>
            <a:off x="4357800" y="5492880"/>
            <a:ext cx="1387440" cy="438120"/>
          </a:xfrm>
          <a:prstGeom prst="roundRect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组合 68" descr=""/>
          <p:cNvPicPr/>
          <p:nvPr/>
        </p:nvPicPr>
        <p:blipFill>
          <a:blip r:embed="rId2"/>
          <a:stretch/>
        </p:blipFill>
        <p:spPr>
          <a:xfrm>
            <a:off x="4022640" y="4943520"/>
            <a:ext cx="220680" cy="366840"/>
          </a:xfrm>
          <a:prstGeom prst="rect">
            <a:avLst/>
          </a:prstGeom>
          <a:ln w="0">
            <a:noFill/>
          </a:ln>
        </p:spPr>
      </p:pic>
      <p:pic>
        <p:nvPicPr>
          <p:cNvPr id="129" name="组合 71" descr=""/>
          <p:cNvPicPr/>
          <p:nvPr/>
        </p:nvPicPr>
        <p:blipFill>
          <a:blip r:embed="rId3"/>
          <a:stretch/>
        </p:blipFill>
        <p:spPr>
          <a:xfrm>
            <a:off x="3790800" y="4943520"/>
            <a:ext cx="214560" cy="366840"/>
          </a:xfrm>
          <a:prstGeom prst="rect">
            <a:avLst/>
          </a:prstGeom>
          <a:ln w="0">
            <a:noFill/>
          </a:ln>
        </p:spPr>
      </p:pic>
      <p:pic>
        <p:nvPicPr>
          <p:cNvPr id="130" name="组合 74" descr=""/>
          <p:cNvPicPr/>
          <p:nvPr/>
        </p:nvPicPr>
        <p:blipFill>
          <a:blip r:embed="rId4"/>
          <a:stretch/>
        </p:blipFill>
        <p:spPr>
          <a:xfrm>
            <a:off x="3548160" y="4943520"/>
            <a:ext cx="212760" cy="366840"/>
          </a:xfrm>
          <a:prstGeom prst="rect">
            <a:avLst/>
          </a:prstGeom>
          <a:ln w="0">
            <a:noFill/>
          </a:ln>
        </p:spPr>
      </p:pic>
      <p:pic>
        <p:nvPicPr>
          <p:cNvPr id="131" name="组合 77" descr=""/>
          <p:cNvPicPr/>
          <p:nvPr/>
        </p:nvPicPr>
        <p:blipFill>
          <a:blip r:embed="rId5"/>
          <a:stretch/>
        </p:blipFill>
        <p:spPr>
          <a:xfrm>
            <a:off x="3309840" y="4943520"/>
            <a:ext cx="219240" cy="366840"/>
          </a:xfrm>
          <a:prstGeom prst="rect">
            <a:avLst/>
          </a:prstGeom>
          <a:ln w="0">
            <a:noFill/>
          </a:ln>
        </p:spPr>
      </p:pic>
      <p:pic>
        <p:nvPicPr>
          <p:cNvPr id="132" name="组合 80" descr=""/>
          <p:cNvPicPr/>
          <p:nvPr/>
        </p:nvPicPr>
        <p:blipFill>
          <a:blip r:embed="rId6"/>
          <a:stretch/>
        </p:blipFill>
        <p:spPr>
          <a:xfrm>
            <a:off x="3078000" y="4943520"/>
            <a:ext cx="214560" cy="366840"/>
          </a:xfrm>
          <a:prstGeom prst="rect">
            <a:avLst/>
          </a:prstGeom>
          <a:ln w="0">
            <a:noFill/>
          </a:ln>
        </p:spPr>
      </p:pic>
      <p:pic>
        <p:nvPicPr>
          <p:cNvPr id="133" name="组合 83" descr=""/>
          <p:cNvPicPr/>
          <p:nvPr/>
        </p:nvPicPr>
        <p:blipFill>
          <a:blip r:embed="rId7"/>
          <a:stretch/>
        </p:blipFill>
        <p:spPr>
          <a:xfrm>
            <a:off x="2835360" y="4943520"/>
            <a:ext cx="212760" cy="366840"/>
          </a:xfrm>
          <a:prstGeom prst="rect">
            <a:avLst/>
          </a:prstGeom>
          <a:ln w="0">
            <a:noFill/>
          </a:ln>
        </p:spPr>
      </p:pic>
      <p:pic>
        <p:nvPicPr>
          <p:cNvPr id="134" name="组合 86" descr=""/>
          <p:cNvPicPr/>
          <p:nvPr/>
        </p:nvPicPr>
        <p:blipFill>
          <a:blip r:embed="rId8"/>
          <a:stretch/>
        </p:blipFill>
        <p:spPr>
          <a:xfrm>
            <a:off x="2597040" y="4943520"/>
            <a:ext cx="219240" cy="366840"/>
          </a:xfrm>
          <a:prstGeom prst="rect">
            <a:avLst/>
          </a:prstGeom>
          <a:ln w="0">
            <a:noFill/>
          </a:ln>
        </p:spPr>
      </p:pic>
      <p:pic>
        <p:nvPicPr>
          <p:cNvPr id="135" name="组合 89" descr=""/>
          <p:cNvPicPr/>
          <p:nvPr/>
        </p:nvPicPr>
        <p:blipFill>
          <a:blip r:embed="rId9"/>
          <a:stretch/>
        </p:blipFill>
        <p:spPr>
          <a:xfrm>
            <a:off x="4022640" y="5510160"/>
            <a:ext cx="214560" cy="366840"/>
          </a:xfrm>
          <a:prstGeom prst="rect">
            <a:avLst/>
          </a:prstGeom>
          <a:ln w="0">
            <a:noFill/>
          </a:ln>
        </p:spPr>
      </p:pic>
      <p:sp>
        <p:nvSpPr>
          <p:cNvPr id="136" name="椭圆 92"/>
          <p:cNvSpPr/>
          <p:nvPr/>
        </p:nvSpPr>
        <p:spPr>
          <a:xfrm>
            <a:off x="3057480" y="2490840"/>
            <a:ext cx="154080" cy="154080"/>
          </a:xfrm>
          <a:prstGeom prst="ellipse">
            <a:avLst/>
          </a:prstGeom>
          <a:solidFill>
            <a:srgbClr val="7f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椭圆 93"/>
          <p:cNvSpPr/>
          <p:nvPr/>
        </p:nvSpPr>
        <p:spPr>
          <a:xfrm>
            <a:off x="8705880" y="2490840"/>
            <a:ext cx="154080" cy="154080"/>
          </a:xfrm>
          <a:prstGeom prst="ellipse">
            <a:avLst/>
          </a:prstGeom>
          <a:solidFill>
            <a:srgbClr val="b0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任意多边形 94"/>
          <p:cNvSpPr/>
          <p:nvPr/>
        </p:nvSpPr>
        <p:spPr>
          <a:xfrm>
            <a:off x="4348080" y="4944960"/>
            <a:ext cx="3083040" cy="219240"/>
          </a:xfrm>
          <a:custGeom>
            <a:avLst/>
            <a:gdLst/>
            <a:ahLst/>
            <a:rect l="l" t="t" r="r" b="b"/>
            <a:pathLst>
              <a:path w="3083561" h="219304">
                <a:moveTo>
                  <a:pt x="219304" y="0"/>
                </a:moveTo>
                <a:lnTo>
                  <a:pt x="2864257" y="0"/>
                </a:lnTo>
                <a:cubicBezTo>
                  <a:pt x="2985375" y="0"/>
                  <a:pt x="3083561" y="98186"/>
                  <a:pt x="3083561" y="219304"/>
                </a:cubicBezTo>
                <a:lnTo>
                  <a:pt x="0" y="219304"/>
                </a:lnTo>
                <a:cubicBezTo>
                  <a:pt x="0" y="98186"/>
                  <a:pt x="98186" y="0"/>
                  <a:pt x="219304" y="0"/>
                </a:cubicBezTo>
                <a:close/>
              </a:path>
            </a:pathLst>
          </a:cu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任意多边形 95"/>
          <p:cNvSpPr/>
          <p:nvPr/>
        </p:nvSpPr>
        <p:spPr>
          <a:xfrm>
            <a:off x="4357800" y="5495760"/>
            <a:ext cx="1390680" cy="236880"/>
          </a:xfrm>
          <a:custGeom>
            <a:avLst/>
            <a:gdLst/>
            <a:ahLst/>
            <a:rect l="l" t="t" r="r" b="b"/>
            <a:pathLst>
              <a:path w="3167128" h="235990">
                <a:moveTo>
                  <a:pt x="394035" y="0"/>
                </a:moveTo>
                <a:lnTo>
                  <a:pt x="2788288" y="3337"/>
                </a:lnTo>
                <a:cubicBezTo>
                  <a:pt x="2909406" y="3337"/>
                  <a:pt x="3167128" y="111534"/>
                  <a:pt x="3167128" y="232652"/>
                </a:cubicBezTo>
                <a:lnTo>
                  <a:pt x="0" y="235990"/>
                </a:lnTo>
                <a:cubicBezTo>
                  <a:pt x="0" y="114872"/>
                  <a:pt x="196946" y="10012"/>
                  <a:pt x="394035" y="0"/>
                </a:cubicBezTo>
                <a:close/>
              </a:path>
            </a:pathLst>
          </a:cu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片 5" descr=""/>
          <p:cNvPicPr/>
          <p:nvPr/>
        </p:nvPicPr>
        <p:blipFill>
          <a:blip r:embed="rId1"/>
          <a:stretch/>
        </p:blipFill>
        <p:spPr>
          <a:xfrm>
            <a:off x="7500960" y="-246240"/>
            <a:ext cx="4848120" cy="6856560"/>
          </a:xfrm>
          <a:prstGeom prst="rect">
            <a:avLst/>
          </a:prstGeom>
          <a:ln w="0">
            <a:noFill/>
          </a:ln>
        </p:spPr>
      </p:pic>
      <p:sp>
        <p:nvSpPr>
          <p:cNvPr id="141" name="矩形 44"/>
          <p:cNvSpPr/>
          <p:nvPr/>
        </p:nvSpPr>
        <p:spPr>
          <a:xfrm>
            <a:off x="0" y="3382920"/>
            <a:ext cx="12192120" cy="185760"/>
          </a:xfrm>
          <a:prstGeom prst="rect">
            <a:avLst/>
          </a:prstGeom>
          <a:gradFill rotWithShape="0">
            <a:gsLst>
              <a:gs pos="0">
                <a:srgbClr val="bf9000"/>
              </a:gs>
              <a:gs pos="50000">
                <a:srgbClr val="bf9000"/>
              </a:gs>
              <a:gs pos="100000">
                <a:srgbClr val="bf9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2" name="Group 4"/>
          <p:cNvGrpSpPr/>
          <p:nvPr/>
        </p:nvGrpSpPr>
        <p:grpSpPr>
          <a:xfrm>
            <a:off x="583200" y="488520"/>
            <a:ext cx="2617560" cy="3251520"/>
            <a:chOff x="583200" y="488520"/>
            <a:chExt cx="2617560" cy="3251520"/>
          </a:xfrm>
        </p:grpSpPr>
        <p:sp>
          <p:nvSpPr>
            <p:cNvPr id="143" name="泪滴形 46"/>
            <p:cNvSpPr/>
            <p:nvPr/>
          </p:nvSpPr>
          <p:spPr>
            <a:xfrm rot="8100000">
              <a:off x="966240" y="871560"/>
              <a:ext cx="1850760" cy="1851120"/>
            </a:xfrm>
            <a:custGeom>
              <a:avLst/>
              <a:gdLst/>
              <a:ahLst/>
              <a:rect l="l" t="t" r="r" b="b"/>
              <a:pathLst>
                <a:path w="1850834" h="1850980">
                  <a:moveTo>
                    <a:pt x="0" y="925490"/>
                  </a:moveTo>
                  <a:cubicBezTo>
                    <a:pt x="0" y="414356"/>
                    <a:pt x="414323" y="0"/>
                    <a:pt x="925417" y="0"/>
                  </a:cubicBezTo>
                  <a:lnTo>
                    <a:pt x="1850834" y="0"/>
                  </a:lnTo>
                  <a:lnTo>
                    <a:pt x="1850834" y="925490"/>
                  </a:lnTo>
                  <a:cubicBezTo>
                    <a:pt x="1850834" y="1436624"/>
                    <a:pt x="1436511" y="1850980"/>
                    <a:pt x="925417" y="1850980"/>
                  </a:cubicBezTo>
                  <a:cubicBezTo>
                    <a:pt x="414323" y="1850980"/>
                    <a:pt x="0" y="1436624"/>
                    <a:pt x="0" y="92549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椭圆 47"/>
            <p:cNvSpPr/>
            <p:nvPr/>
          </p:nvSpPr>
          <p:spPr>
            <a:xfrm>
              <a:off x="1627200" y="3211560"/>
              <a:ext cx="529920" cy="528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椭圆 48"/>
            <p:cNvSpPr/>
            <p:nvPr/>
          </p:nvSpPr>
          <p:spPr>
            <a:xfrm>
              <a:off x="1703520" y="3287880"/>
              <a:ext cx="377640" cy="376200"/>
            </a:xfrm>
            <a:prstGeom prst="ellipse">
              <a:avLst/>
            </a:prstGeom>
            <a:solidFill>
              <a:srgbClr val="76a636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椭圆 49"/>
            <p:cNvSpPr/>
            <p:nvPr/>
          </p:nvSpPr>
          <p:spPr>
            <a:xfrm>
              <a:off x="1082520" y="976320"/>
              <a:ext cx="1601640" cy="16016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Group 9"/>
          <p:cNvGrpSpPr/>
          <p:nvPr/>
        </p:nvGrpSpPr>
        <p:grpSpPr>
          <a:xfrm>
            <a:off x="3337560" y="488160"/>
            <a:ext cx="2617920" cy="3251880"/>
            <a:chOff x="3337560" y="488160"/>
            <a:chExt cx="2617920" cy="3251880"/>
          </a:xfrm>
        </p:grpSpPr>
        <p:sp>
          <p:nvSpPr>
            <p:cNvPr id="148" name="泪滴形 51"/>
            <p:cNvSpPr/>
            <p:nvPr/>
          </p:nvSpPr>
          <p:spPr>
            <a:xfrm rot="8100000">
              <a:off x="3720960" y="871200"/>
              <a:ext cx="1851120" cy="1851120"/>
            </a:xfrm>
            <a:custGeom>
              <a:avLst/>
              <a:gdLst/>
              <a:ahLst/>
              <a:rect l="l" t="t" r="r" b="b"/>
              <a:pathLst>
                <a:path w="1850834" h="1850980">
                  <a:moveTo>
                    <a:pt x="0" y="925490"/>
                  </a:moveTo>
                  <a:cubicBezTo>
                    <a:pt x="0" y="414356"/>
                    <a:pt x="414323" y="0"/>
                    <a:pt x="925417" y="0"/>
                  </a:cubicBezTo>
                  <a:lnTo>
                    <a:pt x="1850834" y="0"/>
                  </a:lnTo>
                  <a:lnTo>
                    <a:pt x="1850834" y="925490"/>
                  </a:lnTo>
                  <a:cubicBezTo>
                    <a:pt x="1850834" y="1436624"/>
                    <a:pt x="1436511" y="1850980"/>
                    <a:pt x="925417" y="1850980"/>
                  </a:cubicBezTo>
                  <a:cubicBezTo>
                    <a:pt x="414323" y="1850980"/>
                    <a:pt x="0" y="1436624"/>
                    <a:pt x="0" y="92549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椭圆 52"/>
            <p:cNvSpPr/>
            <p:nvPr/>
          </p:nvSpPr>
          <p:spPr>
            <a:xfrm>
              <a:off x="4381200" y="3211560"/>
              <a:ext cx="530280" cy="528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椭圆 53"/>
            <p:cNvSpPr/>
            <p:nvPr/>
          </p:nvSpPr>
          <p:spPr>
            <a:xfrm>
              <a:off x="4457520" y="3287880"/>
              <a:ext cx="377640" cy="376200"/>
            </a:xfrm>
            <a:prstGeom prst="ellipse">
              <a:avLst/>
            </a:prstGeom>
            <a:solidFill>
              <a:srgbClr val="76a636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椭圆 96"/>
            <p:cNvSpPr/>
            <p:nvPr/>
          </p:nvSpPr>
          <p:spPr>
            <a:xfrm>
              <a:off x="3836520" y="976320"/>
              <a:ext cx="1602000" cy="16016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Group 14"/>
          <p:cNvGrpSpPr/>
          <p:nvPr/>
        </p:nvGrpSpPr>
        <p:grpSpPr>
          <a:xfrm>
            <a:off x="6091920" y="488160"/>
            <a:ext cx="2617920" cy="3251880"/>
            <a:chOff x="6091920" y="488160"/>
            <a:chExt cx="2617920" cy="3251880"/>
          </a:xfrm>
        </p:grpSpPr>
        <p:sp>
          <p:nvSpPr>
            <p:cNvPr id="153" name="泪滴形 98"/>
            <p:cNvSpPr/>
            <p:nvPr/>
          </p:nvSpPr>
          <p:spPr>
            <a:xfrm rot="8100000">
              <a:off x="6475320" y="871200"/>
              <a:ext cx="1851120" cy="1851120"/>
            </a:xfrm>
            <a:custGeom>
              <a:avLst/>
              <a:gdLst/>
              <a:ahLst/>
              <a:rect l="l" t="t" r="r" b="b"/>
              <a:pathLst>
                <a:path w="1850834" h="1850980">
                  <a:moveTo>
                    <a:pt x="0" y="925490"/>
                  </a:moveTo>
                  <a:cubicBezTo>
                    <a:pt x="0" y="414356"/>
                    <a:pt x="414323" y="0"/>
                    <a:pt x="925417" y="0"/>
                  </a:cubicBezTo>
                  <a:lnTo>
                    <a:pt x="1850834" y="0"/>
                  </a:lnTo>
                  <a:lnTo>
                    <a:pt x="1850834" y="925490"/>
                  </a:lnTo>
                  <a:cubicBezTo>
                    <a:pt x="1850834" y="1436624"/>
                    <a:pt x="1436511" y="1850980"/>
                    <a:pt x="925417" y="1850980"/>
                  </a:cubicBezTo>
                  <a:cubicBezTo>
                    <a:pt x="414323" y="1850980"/>
                    <a:pt x="0" y="1436624"/>
                    <a:pt x="0" y="92549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椭圆 99"/>
            <p:cNvSpPr/>
            <p:nvPr/>
          </p:nvSpPr>
          <p:spPr>
            <a:xfrm>
              <a:off x="7135560" y="3211560"/>
              <a:ext cx="530280" cy="528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椭圆 100"/>
            <p:cNvSpPr/>
            <p:nvPr/>
          </p:nvSpPr>
          <p:spPr>
            <a:xfrm>
              <a:off x="7211880" y="3287880"/>
              <a:ext cx="377640" cy="376200"/>
            </a:xfrm>
            <a:prstGeom prst="ellipse">
              <a:avLst/>
            </a:prstGeom>
            <a:solidFill>
              <a:srgbClr val="76a636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椭圆 101"/>
            <p:cNvSpPr/>
            <p:nvPr/>
          </p:nvSpPr>
          <p:spPr>
            <a:xfrm>
              <a:off x="6590880" y="976320"/>
              <a:ext cx="1602000" cy="16016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7" name="Group 19"/>
          <p:cNvGrpSpPr/>
          <p:nvPr/>
        </p:nvGrpSpPr>
        <p:grpSpPr>
          <a:xfrm>
            <a:off x="8846280" y="488160"/>
            <a:ext cx="2617920" cy="3251880"/>
            <a:chOff x="8846280" y="488160"/>
            <a:chExt cx="2617920" cy="3251880"/>
          </a:xfrm>
        </p:grpSpPr>
        <p:sp>
          <p:nvSpPr>
            <p:cNvPr id="158" name="泪滴形 103"/>
            <p:cNvSpPr/>
            <p:nvPr/>
          </p:nvSpPr>
          <p:spPr>
            <a:xfrm rot="8100000">
              <a:off x="9229680" y="871200"/>
              <a:ext cx="1851120" cy="1851120"/>
            </a:xfrm>
            <a:custGeom>
              <a:avLst/>
              <a:gdLst/>
              <a:ahLst/>
              <a:rect l="l" t="t" r="r" b="b"/>
              <a:pathLst>
                <a:path w="1850834" h="1850980">
                  <a:moveTo>
                    <a:pt x="0" y="925490"/>
                  </a:moveTo>
                  <a:cubicBezTo>
                    <a:pt x="0" y="414356"/>
                    <a:pt x="414323" y="0"/>
                    <a:pt x="925417" y="0"/>
                  </a:cubicBezTo>
                  <a:lnTo>
                    <a:pt x="1850834" y="0"/>
                  </a:lnTo>
                  <a:lnTo>
                    <a:pt x="1850834" y="925490"/>
                  </a:lnTo>
                  <a:cubicBezTo>
                    <a:pt x="1850834" y="1436624"/>
                    <a:pt x="1436511" y="1850980"/>
                    <a:pt x="925417" y="1850980"/>
                  </a:cubicBezTo>
                  <a:cubicBezTo>
                    <a:pt x="414323" y="1850980"/>
                    <a:pt x="0" y="1436624"/>
                    <a:pt x="0" y="92549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椭圆 104"/>
            <p:cNvSpPr/>
            <p:nvPr/>
          </p:nvSpPr>
          <p:spPr>
            <a:xfrm>
              <a:off x="9889920" y="3211560"/>
              <a:ext cx="530280" cy="528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椭圆 105"/>
            <p:cNvSpPr/>
            <p:nvPr/>
          </p:nvSpPr>
          <p:spPr>
            <a:xfrm>
              <a:off x="9966240" y="3287880"/>
              <a:ext cx="377640" cy="376200"/>
            </a:xfrm>
            <a:prstGeom prst="ellipse">
              <a:avLst/>
            </a:prstGeom>
            <a:solidFill>
              <a:srgbClr val="76a636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椭圆 106"/>
            <p:cNvSpPr/>
            <p:nvPr/>
          </p:nvSpPr>
          <p:spPr>
            <a:xfrm>
              <a:off x="9345240" y="976320"/>
              <a:ext cx="1602000" cy="16016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2" name="矩形 107"/>
          <p:cNvSpPr/>
          <p:nvPr/>
        </p:nvSpPr>
        <p:spPr>
          <a:xfrm>
            <a:off x="550800" y="4024440"/>
            <a:ext cx="11082240" cy="2295360"/>
          </a:xfrm>
          <a:prstGeom prst="rect">
            <a:avLst/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椭圆形标注 108"/>
          <p:cNvSpPr/>
          <p:nvPr/>
        </p:nvSpPr>
        <p:spPr>
          <a:xfrm>
            <a:off x="1422360" y="1266840"/>
            <a:ext cx="561960" cy="3859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>
              <a:alpha val="62000"/>
            </a:srgbClr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椭圆形标注 109"/>
          <p:cNvSpPr/>
          <p:nvPr/>
        </p:nvSpPr>
        <p:spPr>
          <a:xfrm flipH="1">
            <a:off x="1702800" y="1273320"/>
            <a:ext cx="561960" cy="3855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>
              <a:alpha val="58000"/>
            </a:srgbClr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文本框 27"/>
          <p:cNvSpPr/>
          <p:nvPr/>
        </p:nvSpPr>
        <p:spPr>
          <a:xfrm>
            <a:off x="1173240" y="179856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 to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6" name="Group 28"/>
          <p:cNvGrpSpPr/>
          <p:nvPr/>
        </p:nvGrpSpPr>
        <p:grpSpPr>
          <a:xfrm>
            <a:off x="4246920" y="1185840"/>
            <a:ext cx="663840" cy="560880"/>
            <a:chOff x="4246920" y="1185840"/>
            <a:chExt cx="663840" cy="560880"/>
          </a:xfrm>
        </p:grpSpPr>
        <p:sp>
          <p:nvSpPr>
            <p:cNvPr id="167" name="矩形 112"/>
            <p:cNvSpPr/>
            <p:nvPr/>
          </p:nvSpPr>
          <p:spPr>
            <a:xfrm rot="3120000">
              <a:off x="4588200" y="1139400"/>
              <a:ext cx="140760" cy="529200"/>
            </a:xfrm>
            <a:prstGeom prst="rect">
              <a:avLst/>
            </a:prstGeom>
            <a:solidFill>
              <a:srgbClr val="ffffff">
                <a:alpha val="67000"/>
              </a:srgbClr>
            </a:solidFill>
            <a:ln w="12600">
              <a:solidFill>
                <a:srgbClr val="7f7f7f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等腰三角形 113"/>
            <p:cNvSpPr/>
            <p:nvPr/>
          </p:nvSpPr>
          <p:spPr>
            <a:xfrm flipV="1" rot="3120000">
              <a:off x="4297680" y="1530720"/>
              <a:ext cx="140760" cy="1980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61000"/>
              </a:srgbClr>
            </a:solidFill>
            <a:ln w="12600">
              <a:solidFill>
                <a:srgbClr val="7f7f7f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直接连接符 114"/>
            <p:cNvSpPr/>
            <p:nvPr/>
          </p:nvSpPr>
          <p:spPr>
            <a:xfrm>
              <a:off x="4714560" y="1271880"/>
              <a:ext cx="2808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直接连接符 115"/>
            <p:cNvSpPr/>
            <p:nvPr/>
          </p:nvSpPr>
          <p:spPr>
            <a:xfrm>
              <a:off x="4741560" y="1249560"/>
              <a:ext cx="2808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等腰三角形 116"/>
            <p:cNvSpPr/>
            <p:nvPr/>
          </p:nvSpPr>
          <p:spPr>
            <a:xfrm flipH="1" flipV="1" rot="3120000">
              <a:off x="4301640" y="1651320"/>
              <a:ext cx="33120" cy="33120"/>
            </a:xfrm>
            <a:prstGeom prst="triangle">
              <a:avLst>
                <a:gd name="adj" fmla="val 50000"/>
              </a:avLst>
            </a:prstGeom>
            <a:solidFill>
              <a:srgbClr val="7f7f7f"/>
            </a:solidFill>
            <a:ln w="12600">
              <a:solidFill>
                <a:srgbClr val="7f7f7f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直接连接符 117"/>
            <p:cNvSpPr/>
            <p:nvPr/>
          </p:nvSpPr>
          <p:spPr>
            <a:xfrm>
              <a:off x="4659120" y="1314360"/>
              <a:ext cx="2844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直接连接符 118"/>
            <p:cNvSpPr/>
            <p:nvPr/>
          </p:nvSpPr>
          <p:spPr>
            <a:xfrm>
              <a:off x="4686480" y="1292400"/>
              <a:ext cx="2808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直接连接符 119"/>
            <p:cNvSpPr/>
            <p:nvPr/>
          </p:nvSpPr>
          <p:spPr>
            <a:xfrm>
              <a:off x="4609800" y="1352520"/>
              <a:ext cx="2844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直接连接符 120"/>
            <p:cNvSpPr/>
            <p:nvPr/>
          </p:nvSpPr>
          <p:spPr>
            <a:xfrm>
              <a:off x="4636800" y="1332000"/>
              <a:ext cx="2808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直接连接符 121"/>
            <p:cNvSpPr/>
            <p:nvPr/>
          </p:nvSpPr>
          <p:spPr>
            <a:xfrm>
              <a:off x="4556160" y="1395360"/>
              <a:ext cx="2808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直接连接符 122"/>
            <p:cNvSpPr/>
            <p:nvPr/>
          </p:nvSpPr>
          <p:spPr>
            <a:xfrm>
              <a:off x="4583160" y="1373040"/>
              <a:ext cx="2808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文本框 41"/>
          <p:cNvSpPr/>
          <p:nvPr/>
        </p:nvSpPr>
        <p:spPr>
          <a:xfrm>
            <a:off x="4003560" y="1797120"/>
            <a:ext cx="14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 to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文本框 42"/>
          <p:cNvSpPr/>
          <p:nvPr/>
        </p:nvSpPr>
        <p:spPr>
          <a:xfrm>
            <a:off x="6729480" y="1797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 to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文本框 49"/>
          <p:cNvSpPr/>
          <p:nvPr/>
        </p:nvSpPr>
        <p:spPr>
          <a:xfrm>
            <a:off x="9520200" y="178596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 to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1" name="Group 43"/>
          <p:cNvGrpSpPr/>
          <p:nvPr/>
        </p:nvGrpSpPr>
        <p:grpSpPr>
          <a:xfrm>
            <a:off x="7069680" y="1111680"/>
            <a:ext cx="662400" cy="664200"/>
            <a:chOff x="7069680" y="1111680"/>
            <a:chExt cx="662400" cy="664200"/>
          </a:xfrm>
        </p:grpSpPr>
        <p:grpSp>
          <p:nvGrpSpPr>
            <p:cNvPr id="182" name="Group 44"/>
            <p:cNvGrpSpPr/>
            <p:nvPr/>
          </p:nvGrpSpPr>
          <p:grpSpPr>
            <a:xfrm>
              <a:off x="7069680" y="1111680"/>
              <a:ext cx="662400" cy="664200"/>
              <a:chOff x="7069680" y="1111680"/>
              <a:chExt cx="662400" cy="664200"/>
            </a:xfrm>
          </p:grpSpPr>
          <p:sp>
            <p:nvSpPr>
              <p:cNvPr id="183" name="矩形 129"/>
              <p:cNvSpPr/>
              <p:nvPr/>
            </p:nvSpPr>
            <p:spPr>
              <a:xfrm rot="2662200">
                <a:off x="7197480" y="1177920"/>
                <a:ext cx="406440" cy="531720"/>
              </a:xfrm>
              <a:prstGeom prst="rect">
                <a:avLst/>
              </a:prstGeom>
              <a:solidFill>
                <a:srgbClr val="ffffff">
                  <a:alpha val="88000"/>
                </a:srgbClr>
              </a:solidFill>
              <a:ln w="19080">
                <a:solidFill>
                  <a:srgbClr val="7f7f7f">
                    <a:alpha val="6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直接连接符 130"/>
              <p:cNvSpPr/>
              <p:nvPr/>
            </p:nvSpPr>
            <p:spPr>
              <a:xfrm>
                <a:off x="7338240" y="1269000"/>
                <a:ext cx="218880" cy="21420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直接连接符 131"/>
              <p:cNvSpPr/>
              <p:nvPr/>
            </p:nvSpPr>
            <p:spPr>
              <a:xfrm>
                <a:off x="7313040" y="1293840"/>
                <a:ext cx="165960" cy="16200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直接连接符 132"/>
              <p:cNvSpPr/>
              <p:nvPr/>
            </p:nvSpPr>
            <p:spPr>
              <a:xfrm>
                <a:off x="7285680" y="1323720"/>
                <a:ext cx="146160" cy="14328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直接连接符 133"/>
              <p:cNvSpPr/>
              <p:nvPr/>
            </p:nvSpPr>
            <p:spPr>
              <a:xfrm>
                <a:off x="7257960" y="1350360"/>
                <a:ext cx="192960" cy="1886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直接连接符 134"/>
              <p:cNvSpPr/>
              <p:nvPr/>
            </p:nvSpPr>
            <p:spPr>
              <a:xfrm>
                <a:off x="7237800" y="1370880"/>
                <a:ext cx="219240" cy="21420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直接连接符 135"/>
              <p:cNvSpPr/>
              <p:nvPr/>
            </p:nvSpPr>
            <p:spPr>
              <a:xfrm>
                <a:off x="7214040" y="1396440"/>
                <a:ext cx="192960" cy="1886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直接连接符 136"/>
              <p:cNvSpPr/>
              <p:nvPr/>
            </p:nvSpPr>
            <p:spPr>
              <a:xfrm>
                <a:off x="7185600" y="1425240"/>
                <a:ext cx="146520" cy="14328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直接连接符 137"/>
              <p:cNvSpPr/>
              <p:nvPr/>
            </p:nvSpPr>
            <p:spPr>
              <a:xfrm>
                <a:off x="7158240" y="1451880"/>
                <a:ext cx="192960" cy="1886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直接连接符 138"/>
              <p:cNvSpPr/>
              <p:nvPr/>
            </p:nvSpPr>
            <p:spPr>
              <a:xfrm>
                <a:off x="7437960" y="1304640"/>
                <a:ext cx="123840" cy="12132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直接连接符 139"/>
              <p:cNvSpPr/>
              <p:nvPr/>
            </p:nvSpPr>
            <p:spPr>
              <a:xfrm>
                <a:off x="7462440" y="1280880"/>
                <a:ext cx="149760" cy="14652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直接连接符 140"/>
              <p:cNvSpPr/>
              <p:nvPr/>
            </p:nvSpPr>
            <p:spPr>
              <a:xfrm>
                <a:off x="7484040" y="1258560"/>
                <a:ext cx="123840" cy="12132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直接连接符 141"/>
              <p:cNvSpPr/>
              <p:nvPr/>
            </p:nvSpPr>
            <p:spPr>
              <a:xfrm>
                <a:off x="7133040" y="1477440"/>
                <a:ext cx="219240" cy="21420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6" name="矩形 128"/>
            <p:cNvSpPr/>
            <p:nvPr/>
          </p:nvSpPr>
          <p:spPr>
            <a:xfrm rot="2662200">
              <a:off x="7394040" y="1159920"/>
              <a:ext cx="68040" cy="112680"/>
            </a:xfrm>
            <a:prstGeom prst="rect">
              <a:avLst/>
            </a:prstGeom>
            <a:solidFill>
              <a:srgbClr val="a6a6a6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7" name="Group 59"/>
          <p:cNvGrpSpPr/>
          <p:nvPr/>
        </p:nvGrpSpPr>
        <p:grpSpPr>
          <a:xfrm>
            <a:off x="7017120" y="1040400"/>
            <a:ext cx="630720" cy="667440"/>
            <a:chOff x="7017120" y="1040400"/>
            <a:chExt cx="630720" cy="667440"/>
          </a:xfrm>
        </p:grpSpPr>
        <p:grpSp>
          <p:nvGrpSpPr>
            <p:cNvPr id="198" name="Group 60"/>
            <p:cNvGrpSpPr/>
            <p:nvPr/>
          </p:nvGrpSpPr>
          <p:grpSpPr>
            <a:xfrm>
              <a:off x="7017120" y="1040400"/>
              <a:ext cx="630720" cy="667440"/>
              <a:chOff x="7017120" y="1040400"/>
              <a:chExt cx="630720" cy="667440"/>
            </a:xfrm>
          </p:grpSpPr>
          <p:sp>
            <p:nvSpPr>
              <p:cNvPr id="199" name="矩形 145"/>
              <p:cNvSpPr/>
              <p:nvPr/>
            </p:nvSpPr>
            <p:spPr>
              <a:xfrm rot="1981800">
                <a:off x="7129080" y="1108080"/>
                <a:ext cx="406440" cy="531720"/>
              </a:xfrm>
              <a:prstGeom prst="rect">
                <a:avLst/>
              </a:prstGeom>
              <a:solidFill>
                <a:srgbClr val="ffffff">
                  <a:alpha val="88000"/>
                </a:srgbClr>
              </a:solidFill>
              <a:ln w="19080">
                <a:solidFill>
                  <a:srgbClr val="7f7f7f">
                    <a:alpha val="6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直接连接符 146"/>
              <p:cNvSpPr/>
              <p:nvPr/>
            </p:nvSpPr>
            <p:spPr>
              <a:xfrm>
                <a:off x="7236360" y="1215000"/>
                <a:ext cx="257040" cy="1670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直接连接符 147"/>
              <p:cNvSpPr/>
              <p:nvPr/>
            </p:nvSpPr>
            <p:spPr>
              <a:xfrm>
                <a:off x="7216200" y="1244880"/>
                <a:ext cx="194400" cy="12636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直接连接符 148"/>
              <p:cNvSpPr/>
              <p:nvPr/>
            </p:nvSpPr>
            <p:spPr>
              <a:xfrm>
                <a:off x="7194960" y="1277640"/>
                <a:ext cx="171720" cy="11160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直接连接符 149"/>
              <p:cNvSpPr/>
              <p:nvPr/>
            </p:nvSpPr>
            <p:spPr>
              <a:xfrm>
                <a:off x="7174800" y="1308960"/>
                <a:ext cx="226440" cy="1472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直接连接符 150"/>
              <p:cNvSpPr/>
              <p:nvPr/>
            </p:nvSpPr>
            <p:spPr>
              <a:xfrm>
                <a:off x="7158600" y="1334160"/>
                <a:ext cx="256680" cy="1670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直接连接符 151"/>
              <p:cNvSpPr/>
              <p:nvPr/>
            </p:nvSpPr>
            <p:spPr>
              <a:xfrm>
                <a:off x="7138440" y="1364760"/>
                <a:ext cx="226080" cy="1472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直接连接符 152"/>
              <p:cNvSpPr/>
              <p:nvPr/>
            </p:nvSpPr>
            <p:spPr>
              <a:xfrm>
                <a:off x="7117200" y="1398240"/>
                <a:ext cx="171720" cy="11160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直接连接符 153"/>
              <p:cNvSpPr/>
              <p:nvPr/>
            </p:nvSpPr>
            <p:spPr>
              <a:xfrm>
                <a:off x="7097040" y="1429560"/>
                <a:ext cx="226080" cy="1472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" name="直接连接符 154"/>
              <p:cNvSpPr/>
              <p:nvPr/>
            </p:nvSpPr>
            <p:spPr>
              <a:xfrm>
                <a:off x="7341840" y="1229040"/>
                <a:ext cx="145080" cy="9468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直接连接符 155"/>
              <p:cNvSpPr/>
              <p:nvPr/>
            </p:nvSpPr>
            <p:spPr>
              <a:xfrm>
                <a:off x="7360560" y="1201680"/>
                <a:ext cx="175680" cy="11448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直接连接符 156"/>
              <p:cNvSpPr/>
              <p:nvPr/>
            </p:nvSpPr>
            <p:spPr>
              <a:xfrm>
                <a:off x="7378200" y="1175040"/>
                <a:ext cx="145440" cy="9432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直接连接符 157"/>
              <p:cNvSpPr/>
              <p:nvPr/>
            </p:nvSpPr>
            <p:spPr>
              <a:xfrm>
                <a:off x="7077600" y="1459800"/>
                <a:ext cx="257040" cy="1670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2" name="矩形 144"/>
            <p:cNvSpPr/>
            <p:nvPr/>
          </p:nvSpPr>
          <p:spPr>
            <a:xfrm rot="1981800">
              <a:off x="7281360" y="1089000"/>
              <a:ext cx="68040" cy="112680"/>
            </a:xfrm>
            <a:prstGeom prst="rect">
              <a:avLst/>
            </a:prstGeom>
            <a:solidFill>
              <a:srgbClr val="a6a6a6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3" name="笑脸 158"/>
          <p:cNvSpPr/>
          <p:nvPr/>
        </p:nvSpPr>
        <p:spPr>
          <a:xfrm>
            <a:off x="9871200" y="1127160"/>
            <a:ext cx="566640" cy="566640"/>
          </a:xfrm>
          <a:prstGeom prst="smileyFace">
            <a:avLst>
              <a:gd name="adj" fmla="val 4653"/>
            </a:avLst>
          </a:prstGeom>
          <a:solidFill>
            <a:srgbClr val="ffffff"/>
          </a:solidFill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文本框 97"/>
          <p:cNvSpPr/>
          <p:nvPr/>
        </p:nvSpPr>
        <p:spPr>
          <a:xfrm flipH="1">
            <a:off x="1228680" y="4686480"/>
            <a:ext cx="474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文本框 160"/>
          <p:cNvSpPr/>
          <p:nvPr/>
        </p:nvSpPr>
        <p:spPr>
          <a:xfrm>
            <a:off x="5810400" y="488628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WPS</a:t>
            </a: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文本框 100"/>
          <p:cNvSpPr/>
          <p:nvPr/>
        </p:nvSpPr>
        <p:spPr>
          <a:xfrm>
            <a:off x="1733400" y="3287880"/>
            <a:ext cx="3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文本框 101"/>
          <p:cNvSpPr/>
          <p:nvPr/>
        </p:nvSpPr>
        <p:spPr>
          <a:xfrm>
            <a:off x="4495680" y="329400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文本框 102"/>
          <p:cNvSpPr/>
          <p:nvPr/>
        </p:nvSpPr>
        <p:spPr>
          <a:xfrm>
            <a:off x="7245360" y="329400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文本框 103"/>
          <p:cNvSpPr/>
          <p:nvPr/>
        </p:nvSpPr>
        <p:spPr>
          <a:xfrm>
            <a:off x="10004400" y="329400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4"/>
          <p:cNvSpPr/>
          <p:nvPr/>
        </p:nvSpPr>
        <p:spPr>
          <a:xfrm>
            <a:off x="0" y="3259080"/>
            <a:ext cx="12192120" cy="3598920"/>
          </a:xfrm>
          <a:prstGeom prst="rect">
            <a:avLst/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图片 5" descr=""/>
          <p:cNvPicPr/>
          <p:nvPr/>
        </p:nvPicPr>
        <p:blipFill>
          <a:blip r:embed="rId1"/>
          <a:stretch/>
        </p:blipFill>
        <p:spPr>
          <a:xfrm>
            <a:off x="7500960" y="-246240"/>
            <a:ext cx="4848120" cy="6856560"/>
          </a:xfrm>
          <a:prstGeom prst="rect">
            <a:avLst/>
          </a:prstGeom>
          <a:ln w="0">
            <a:noFill/>
          </a:ln>
        </p:spPr>
      </p:pic>
      <p:pic>
        <p:nvPicPr>
          <p:cNvPr id="222" name="文本框 1" descr=""/>
          <p:cNvPicPr/>
          <p:nvPr/>
        </p:nvPicPr>
        <p:blipFill>
          <a:blip r:embed="rId2"/>
          <a:stretch/>
        </p:blipFill>
        <p:spPr>
          <a:xfrm>
            <a:off x="4413240" y="2700360"/>
            <a:ext cx="3451320" cy="1017720"/>
          </a:xfrm>
          <a:prstGeom prst="rect">
            <a:avLst/>
          </a:prstGeom>
          <a:ln w="0">
            <a:noFill/>
          </a:ln>
        </p:spPr>
      </p:pic>
      <p:sp>
        <p:nvSpPr>
          <p:cNvPr id="223" name="文本框 6"/>
          <p:cNvSpPr/>
          <p:nvPr/>
        </p:nvSpPr>
        <p:spPr>
          <a:xfrm>
            <a:off x="5450040" y="3821040"/>
            <a:ext cx="129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达人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素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文本框 7"/>
          <p:cNvSpPr/>
          <p:nvPr/>
        </p:nvSpPr>
        <p:spPr>
          <a:xfrm>
            <a:off x="4886280" y="4191120"/>
            <a:ext cx="24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.10.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0T06:25:10Z</dcterms:created>
  <dc:creator>哎呀小小草</dc:creator>
  <dc:description/>
  <dc:language>en-US</dc:language>
  <cp:lastModifiedBy>Administrator</cp:lastModifiedBy>
  <dcterms:modified xsi:type="dcterms:W3CDTF">2016-08-02T08:04:43Z</dcterms:modified>
  <cp:revision>1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