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93DA-EE57-4BB6-A310-DF3A01B6F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E9B8-6B09-4AF0-AAA2-EF73A778A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C42626-605A-43B9-99CE-8746DB547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57208C-7D56-433A-AC74-812C38F02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C22B92-2247-4B77-8695-500835275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E07F71-CD9B-499F-B49E-135498BCA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EDA964-E825-45CE-9347-2F1B2FF64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9B1E01-7C6C-4CDA-8AD6-FD2F16367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FDC138-620D-4869-A6F1-9D26ED4D3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4D25F8-D1CF-47A0-9BE1-E8CA61007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A1A347-E278-463D-9F5E-E324E2E29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4AEEF5-C3A8-480B-9220-2F52D7ADF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F9F9-471D-485A-BC44-241599A39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79885C-4F2D-4B00-897A-AE3D224D9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767242-07BA-4203-94F0-71B600C61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A8EA2C-3A5A-40EB-8816-0F875C858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8B60F0-157B-4DA3-BFAC-8D2024762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F8B266-F423-4D4C-8EF5-6D13D4B1E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773FF2-BFBF-4738-BC08-AAC92CC58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0E5172-0144-4318-B1C0-906DAF158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8CF970-7051-4DDC-8948-BFF50E243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20684E-F42A-4089-80C8-6BD7EC296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D0109A-7A3B-4CC9-B243-65FB45C26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FDCF-C462-4F73-A16F-8C6C39322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2FA45C-98A3-4122-AB39-4F97C64A6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B4FF17-AC57-4A89-BE00-B02D70F2E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74323F-944E-482D-9DBE-57016156B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2D90A1-0431-4D9F-89AA-D45B23A1E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01D558-1B76-4F73-B72A-F4D7AF425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32AEC4-83B5-49EC-9EAA-14317C96B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7471E1-AC42-41A5-A008-7EE65AF1E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F2942E-4B88-4A74-B4E0-C3E210F40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F800DF-DFAA-40B2-8C9B-1E4F18D9B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C223F0-4B3A-48A9-A89E-5879D9E36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78C74-5D5A-4129-8B57-08E233FFF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7BA4D3-EFC9-4D35-AC10-5994B3229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C9DE02-C90D-4708-AB07-424BAB891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5A8366-84D8-4DF8-9D67-7777520C7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07EE97-6783-446A-A78B-925B8FCB2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611E93-E910-41ED-BAAE-6197BBDA3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DC8E7E-2714-416D-AAD2-BE491DC64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87C87B-7ACA-43FE-88A2-491203863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8D7538-AE68-4755-9E73-29274237D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D6F87E-866D-4EFE-B2FD-62213C670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1D2C7D-2CF4-429C-99BD-21D05636A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C7AAF-E285-4700-86F3-2677EB983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D16B15-D053-411C-9E35-37B0074D0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AFBBA3-D3B2-48C4-80FD-907ADF96B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08450B-F138-46F5-8DD7-C536C37F7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9EDC07-CC78-447F-81D0-46D5C605B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A06F59-082A-4182-AE60-DF40B9310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7094C4-DC1D-41E5-BC0B-8041BF27E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5E45F8-A28D-45DB-913A-5663C228F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ABFEB9-28EA-4387-B9FC-FAEDE04D6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B81F68-AEC9-4E59-945E-BC9A056ED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9FB7FA-EB6F-45F3-8DE0-793028CB6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167BC-B224-4772-A335-7A85D15FB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53096E-8D71-47B3-9406-556276542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FE1A35-4CB5-40A7-AA0F-2E291157C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1BDA6D-0882-4D01-BA5D-D60FE3164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F87E27-89A0-4A8C-A37D-3920C9CC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7A986B-7B87-43DB-B196-12912E837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09053B-37BB-40B7-AD3A-938549D7A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46BA05-32BD-4864-9088-CF4616BD7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404C7-1A1D-4C70-A201-F6FAC94DC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81678-9923-4DD9-896F-7582E510D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CEBDD-A4B0-447F-A24F-A2AC1633C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F9511-1C05-422B-86DF-ACEA4B041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DB13-37F2-419A-828D-F55A28450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BE270-2B84-40CD-9958-5B34009C0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C75AA-362F-4F84-B456-EF02ED6A6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9B70B-E20E-4607-97D2-ABC8E501D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277FE-6679-4C76-8E63-2158B9BE2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ECE29-8889-4484-9A49-F03D64C78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23C94-38E2-493B-9555-F643EAB9E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CF67B-AB9B-455E-B040-57E6EDD8E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B2B31-CF61-4F43-AD61-2EC070654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2FD8A-5E8F-4BAF-B564-C62259E1E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46773-465A-494B-8266-BC9BA5289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CA15-9E50-457D-9CDB-EC651AC6F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2A8D8-1794-4C38-833A-BC2D51FBF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E44A9-951A-4C1E-9EBA-DD30DE65D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23DD1-7629-435F-837D-123BD57D7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013D7-1ED8-44CE-9EF5-CEE291693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3D66E-F983-402C-A89C-512F263BF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D0FD1-5696-40D9-AB52-34357584E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2E25D-A5F8-4111-B14C-5F2B94624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F11FC-ADC5-4B19-B9F8-D1ED24EB8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C3A0D-0161-4544-833C-37CEFF8D1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D7AB6-80BC-4F56-8645-B0F305548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6E3D-E2AC-443B-A974-C1ACE3422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4688B-1301-4005-84A2-00C6AA860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97E81-F20D-46E2-91C8-0087C9E00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E2285-CFAA-44E1-A8E9-B9B770F21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47E5D-F363-4E06-8BD8-28ECA7548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EC94C-8D9E-4019-9183-F70D139A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043E0-9B02-4D13-9788-959032DC0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4B12B0-E61A-408A-870A-866448FF9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16DBE-6B21-43EB-A789-1E5A35890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D5940-EEDD-4859-A935-C564A4F65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3516F4-8DA9-4318-A410-D92924EF4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D87F-FA00-4ECD-8263-C7090CC7A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2001F3-49A2-41F3-8662-47C464303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831C10-C17C-4590-A6AF-BFB33759A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8C2306-3391-44B3-BED8-65B14C5B7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004A16-E87A-4B93-A508-BBCBE4132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E2B31-AF97-4DD8-A655-2C11C11DC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DBC547-48EF-46A5-985C-7A3CEF98E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E37D64-8D7C-490B-AB3C-1A3201058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808529-964B-4297-BE7B-BC6743841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08B345-F78B-4C1F-A0A2-ECC97E5C7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F0FCAE-2FA9-45F7-B4EE-5C38BD93C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6B9B-E427-400D-870C-35C0E6708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38F968-1CBF-47BF-A152-6CBFCD68D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A9C49F-8CBC-4866-B1DC-932203E0A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2FFF3E-493C-4B9A-8B86-0674E9119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61C7E4-5911-4317-AF23-C52331FC9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F9D0A2-C284-403F-AFCC-8D89A9A69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7C0CAF-0510-4202-B9A6-E4793A8F5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422C60-9CF7-4BD5-87D3-E376096F6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4860B6-26F0-4691-AA32-6C935F7BF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011110-8B94-431B-BE13-7F2F7D1ED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51CFC4-4623-4837-B27B-6CD76A42D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A3FF-85E0-4EC4-A19F-984828AB8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ABA173-6766-44C6-A132-FF90C98F0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6347E8-7F9D-43C3-88A4-4686B9C88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15DBD6-1B28-4353-AA79-2B5AA7041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43C485-F3C8-4FA4-9FD2-FB3D069C8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A08B7B-3AAB-43C6-B952-AAF827268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992878-2F39-4B37-B5A4-4D5FB79FF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93EF7F-67AE-419D-BE29-87E412C8A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23D32B-0990-411B-A222-A2001AB00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866BCF-FE5A-45F6-8F2E-7F0E70239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D5AE38-320E-4452-8E6B-7D21489CC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63A1-19C9-4B12-81A6-30592D3E2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1EB23D-7889-4596-ABBB-6B22A4FC6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30354A-6F63-4D66-BF1A-3999FAF58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E3FA1A-6086-473C-B4DB-EA89B4128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6ADBAF-9179-43E6-A94A-C44E57BCC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749690-0DC2-4BB8-9CEA-CDB643BAF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673439-2A2F-45BC-9A34-D796C2148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E871ED-A01D-4CD7-A41F-A69EEB1E0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9B96FB-B91A-46C9-89B4-CE512C160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0E5880-6CED-4BE3-A897-B8655C1A7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B2858E-22ED-4BBC-9D65-7D08A91B6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7B2A-DC59-44DD-BD1D-19EB1D0D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1920CA-3C81-4C6C-9F2E-893DE41EF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55F05B-EB3C-4FD7-8AB8-690FDF56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FD72D6-A927-4844-BE61-15DAF9E79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228776-098F-4351-B9B5-E422935FB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D066E9-40A8-445E-B10F-D54429D0A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2F42D0-01E1-4E1C-A374-9E374BA90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51C8B0-25B1-4711-AE25-E3B983A05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E43477-1D40-4A9D-8836-A6928A85B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16033A-4847-455F-BEA6-7D3BB9D3A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03170D-EA0E-4460-AF9C-FDC5FC5B9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BE08A-59A3-4C37-A06B-C4B43921DE2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DE7BC-4EAC-4151-9C92-D8242DA8F4E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B3C11-3CA7-43F4-B367-7D9DE96E893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E38F1-5769-4874-A8C8-C380E175A81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5B73F-7DD7-4527-B10D-E5BB021CD51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451CD-B223-4EA6-9AA1-7DABD7AACA5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D7E20-FF28-407C-A145-3ECD216FE13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D183F-14E0-4A51-A578-51813F6C6F4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7DDB6-BE31-4984-91D6-ED05D831231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63CA3-FA69-4C5B-89BD-2A143627D2F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3F02E-CB73-42DF-BF02-EEDAC1A5B3A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195A6-ECCC-4BCC-B808-0A4304C450D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DDF81-CB89-458C-A3E5-492BADA006A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772A5-769F-45CE-86AF-45740DAC240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DB0EC-32A7-4B92-9E8C-B22C5A5AAB8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6EF97-7CA1-425F-9A63-E0A10805534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8FCFD-A03D-4242-802A-853FD9797687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A6934-0CB5-4D1F-9C41-4AD72418853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074B0-BAC6-4FC6-B9FC-3AE87868F84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23CFB-C40E-4443-B67F-6E3F3B875F9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2BC3F-578D-4BA0-B021-C6BA04A567E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EEFAD-EA23-49C8-98CE-7FDCBE36A85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C7336-FDCA-4BB6-A519-2088CEFADE1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761DA-F26D-4F44-81A3-CD6D831A2C2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6A9CC-B65B-47FA-97D4-9958921E217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1C2F1-3BBB-4F87-88C9-A1F5220FF23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矩形 7"/>
          <p:cNvSpPr/>
          <p:nvPr/>
        </p:nvSpPr>
        <p:spPr>
          <a:xfrm>
            <a:off x="331920" y="270000"/>
            <a:ext cx="11528280" cy="5897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任意多边形 10"/>
          <p:cNvSpPr/>
          <p:nvPr/>
        </p:nvSpPr>
        <p:spPr>
          <a:xfrm>
            <a:off x="331920" y="270000"/>
            <a:ext cx="11528280" cy="5897520"/>
          </a:xfrm>
          <a:custGeom>
            <a:avLst/>
            <a:gdLst/>
            <a:ahLst/>
            <a:rect l="l" t="t" r="r" b="b"/>
            <a:pathLst>
              <a:path w="3314024" h="5048561">
                <a:moveTo>
                  <a:pt x="0" y="0"/>
                </a:moveTo>
                <a:lnTo>
                  <a:pt x="3314024" y="0"/>
                </a:lnTo>
                <a:lnTo>
                  <a:pt x="3229234" y="305327"/>
                </a:lnTo>
                <a:cubicBezTo>
                  <a:pt x="2584124" y="2484885"/>
                  <a:pt x="1434854" y="4194527"/>
                  <a:pt x="27719" y="5033291"/>
                </a:cubicBezTo>
                <a:lnTo>
                  <a:pt x="0" y="5048561"/>
                </a:lnTo>
                <a:lnTo>
                  <a:pt x="0" y="0"/>
                </a:lnTo>
                <a:close/>
              </a:path>
            </a:pathLst>
          </a:custGeom>
          <a:solidFill>
            <a:srgbClr val="ffd44b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任意多边形 9"/>
          <p:cNvSpPr/>
          <p:nvPr/>
        </p:nvSpPr>
        <p:spPr>
          <a:xfrm>
            <a:off x="331920" y="270000"/>
            <a:ext cx="8478720" cy="5921280"/>
          </a:xfrm>
          <a:custGeom>
            <a:avLst/>
            <a:gdLst/>
            <a:ahLst/>
            <a:rect l="l" t="t" r="r" b="b"/>
            <a:pathLst>
              <a:path w="3314024" h="5048561">
                <a:moveTo>
                  <a:pt x="0" y="0"/>
                </a:moveTo>
                <a:lnTo>
                  <a:pt x="3314024" y="0"/>
                </a:lnTo>
                <a:lnTo>
                  <a:pt x="3229234" y="305327"/>
                </a:lnTo>
                <a:cubicBezTo>
                  <a:pt x="2584124" y="2484885"/>
                  <a:pt x="1434854" y="4194527"/>
                  <a:pt x="27719" y="5033291"/>
                </a:cubicBezTo>
                <a:lnTo>
                  <a:pt x="0" y="5048561"/>
                </a:lnTo>
                <a:lnTo>
                  <a:pt x="0" y="0"/>
                </a:lnTo>
                <a:close/>
              </a:path>
            </a:pathLst>
          </a:custGeom>
          <a:solidFill>
            <a:srgbClr val="ffc715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任意多边形 8"/>
          <p:cNvSpPr/>
          <p:nvPr/>
        </p:nvSpPr>
        <p:spPr>
          <a:xfrm>
            <a:off x="331920" y="270000"/>
            <a:ext cx="3028680" cy="5897520"/>
          </a:xfrm>
          <a:custGeom>
            <a:avLst/>
            <a:gdLst/>
            <a:ahLst/>
            <a:rect l="l" t="t" r="r" b="b"/>
            <a:pathLst>
              <a:path w="3314024" h="5048561">
                <a:moveTo>
                  <a:pt x="0" y="0"/>
                </a:moveTo>
                <a:lnTo>
                  <a:pt x="3314024" y="0"/>
                </a:lnTo>
                <a:lnTo>
                  <a:pt x="3229234" y="305327"/>
                </a:lnTo>
                <a:cubicBezTo>
                  <a:pt x="2584124" y="2484885"/>
                  <a:pt x="1434854" y="4194527"/>
                  <a:pt x="27719" y="5033291"/>
                </a:cubicBezTo>
                <a:lnTo>
                  <a:pt x="0" y="5048561"/>
                </a:lnTo>
                <a:lnTo>
                  <a:pt x="0" y="0"/>
                </a:lnTo>
                <a:close/>
              </a:path>
            </a:pathLst>
          </a:custGeom>
          <a:solidFill>
            <a:srgbClr val="fed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文本框 25"/>
          <p:cNvSpPr/>
          <p:nvPr/>
        </p:nvSpPr>
        <p:spPr>
          <a:xfrm>
            <a:off x="3537000" y="1812960"/>
            <a:ext cx="5118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262626"/>
                </a:solidFill>
                <a:latin typeface="方正中等线简体"/>
                <a:ea typeface="方正中等线简体"/>
              </a:rPr>
              <a:t>一个</a:t>
            </a:r>
            <a:r>
              <a:rPr b="0" lang="en-US" sz="6600" spc="-1" strike="noStrike">
                <a:solidFill>
                  <a:srgbClr val="262626"/>
                </a:solidFill>
                <a:latin typeface="方正中等线简体"/>
                <a:ea typeface="方正中等线简体"/>
              </a:rPr>
              <a:t>PPT</a:t>
            </a:r>
            <a:r>
              <a:rPr b="0" lang="zh-CN" sz="6600" spc="-1" strike="noStrike">
                <a:solidFill>
                  <a:srgbClr val="262626"/>
                </a:solidFill>
                <a:latin typeface="方正中等线简体"/>
                <a:ea typeface="方正中等线简体"/>
              </a:rPr>
              <a:t>模版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文本框 26"/>
          <p:cNvSpPr/>
          <p:nvPr/>
        </p:nvSpPr>
        <p:spPr>
          <a:xfrm>
            <a:off x="3813120" y="3000240"/>
            <a:ext cx="456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方正中等线简体"/>
                <a:ea typeface="方正中等线简体"/>
              </a:rPr>
              <a:t>-</a:t>
            </a:r>
            <a:r>
              <a:rPr b="0" lang="zh-CN" sz="2400" spc="-1" strike="noStrike">
                <a:solidFill>
                  <a:srgbClr val="262626"/>
                </a:solidFill>
                <a:latin typeface="方正中等线简体"/>
                <a:ea typeface="方正中等线简体"/>
              </a:rPr>
              <a:t>请在这里输入副标题</a:t>
            </a:r>
            <a:r>
              <a:rPr b="0" lang="en-US" sz="2400" spc="-1" strike="noStrike">
                <a:solidFill>
                  <a:srgbClr val="262626"/>
                </a:solidFill>
                <a:latin typeface="方正中等线简体"/>
                <a:ea typeface="方正中等线简体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文本框 28"/>
          <p:cNvSpPr/>
          <p:nvPr/>
        </p:nvSpPr>
        <p:spPr>
          <a:xfrm>
            <a:off x="5048280" y="38419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中等线简体"/>
                <a:ea typeface="方正中等线简体"/>
              </a:rPr>
              <a:t>作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矩形 30"/>
          <p:cNvSpPr/>
          <p:nvPr/>
        </p:nvSpPr>
        <p:spPr>
          <a:xfrm>
            <a:off x="5840640" y="3841920"/>
            <a:ext cx="152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中等线简体"/>
                <a:ea typeface="方正中等线简体"/>
              </a:rPr>
              <a:t>达人</a:t>
            </a:r>
            <a:r>
              <a:rPr b="0" lang="zh-CN" sz="1800" spc="-1" strike="noStrike">
                <a:solidFill>
                  <a:srgbClr val="3f3f3f"/>
                </a:solidFill>
                <a:latin typeface="方正中等线简体"/>
                <a:ea typeface="方正中等线简体"/>
              </a:rPr>
              <a:t>ppt</a:t>
            </a:r>
            <a:r>
              <a:rPr b="0" lang="zh-CN" sz="1800" spc="-1" strike="noStrike">
                <a:solidFill>
                  <a:srgbClr val="3f3f3f"/>
                </a:solidFill>
                <a:latin typeface="方正中等线简体"/>
                <a:ea typeface="方正中等线简体"/>
              </a:rPr>
              <a:t>模板素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矩形 31"/>
          <p:cNvSpPr/>
          <p:nvPr/>
        </p:nvSpPr>
        <p:spPr>
          <a:xfrm>
            <a:off x="5319720" y="50054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方正中等线简体"/>
                <a:ea typeface="方正中等线简体"/>
              </a:rPr>
              <a:t>2014.03.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文本框 32"/>
          <p:cNvSpPr/>
          <p:nvPr/>
        </p:nvSpPr>
        <p:spPr>
          <a:xfrm>
            <a:off x="244440" y="6191280"/>
            <a:ext cx="117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Segoe UI Light"/>
                <a:ea typeface="方正中等线简体"/>
              </a:rPr>
              <a:t>PowerPoint leads to a better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7" name="组合 19"/>
          <p:cNvGrpSpPr/>
          <p:nvPr/>
        </p:nvGrpSpPr>
        <p:grpSpPr>
          <a:xfrm>
            <a:off x="1415520" y="1109520"/>
            <a:ext cx="5205240" cy="4406040"/>
            <a:chOff x="1415520" y="1109520"/>
            <a:chExt cx="5205240" cy="4406040"/>
          </a:xfrm>
        </p:grpSpPr>
        <p:grpSp>
          <p:nvGrpSpPr>
            <p:cNvPr id="858" name="组合 1"/>
            <p:cNvGrpSpPr/>
            <p:nvPr/>
          </p:nvGrpSpPr>
          <p:grpSpPr>
            <a:xfrm>
              <a:off x="2293560" y="1635840"/>
              <a:ext cx="3367440" cy="3364560"/>
              <a:chOff x="2293560" y="1635840"/>
              <a:chExt cx="3367440" cy="3364560"/>
            </a:xfrm>
          </p:grpSpPr>
          <p:sp>
            <p:nvSpPr>
              <p:cNvPr id="859" name="燕尾形 3"/>
              <p:cNvSpPr/>
              <p:nvPr/>
            </p:nvSpPr>
            <p:spPr>
              <a:xfrm rot="16200000">
                <a:off x="3596040" y="1635480"/>
                <a:ext cx="761400" cy="761760"/>
              </a:xfrm>
              <a:custGeom>
                <a:avLst/>
                <a:gdLst/>
                <a:ahLst/>
                <a:rect l="l" t="t" r="r" b="b"/>
                <a:pathLst>
                  <a:path w="1368152" h="1368152">
                    <a:moveTo>
                      <a:pt x="0" y="0"/>
                    </a:moveTo>
                    <a:lnTo>
                      <a:pt x="1368152" y="684076"/>
                    </a:lnTo>
                    <a:lnTo>
                      <a:pt x="0" y="1368152"/>
                    </a:lnTo>
                    <a:lnTo>
                      <a:pt x="684076" y="68407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燕尾形 3"/>
              <p:cNvSpPr/>
              <p:nvPr/>
            </p:nvSpPr>
            <p:spPr>
              <a:xfrm>
                <a:off x="4899240" y="2939040"/>
                <a:ext cx="761760" cy="761400"/>
              </a:xfrm>
              <a:custGeom>
                <a:avLst/>
                <a:gdLst/>
                <a:ahLst/>
                <a:rect l="l" t="t" r="r" b="b"/>
                <a:pathLst>
                  <a:path w="1368152" h="1368152">
                    <a:moveTo>
                      <a:pt x="0" y="0"/>
                    </a:moveTo>
                    <a:lnTo>
                      <a:pt x="1368152" y="684076"/>
                    </a:lnTo>
                    <a:lnTo>
                      <a:pt x="0" y="1368152"/>
                    </a:lnTo>
                    <a:lnTo>
                      <a:pt x="684076" y="68407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燕尾形 3"/>
              <p:cNvSpPr/>
              <p:nvPr/>
            </p:nvSpPr>
            <p:spPr>
              <a:xfrm flipH="1" flipV="1" rot="16200000">
                <a:off x="3596040" y="4238280"/>
                <a:ext cx="761400" cy="761760"/>
              </a:xfrm>
              <a:custGeom>
                <a:avLst/>
                <a:gdLst/>
                <a:ahLst/>
                <a:rect l="l" t="t" r="r" b="b"/>
                <a:pathLst>
                  <a:path w="1368152" h="1368152">
                    <a:moveTo>
                      <a:pt x="0" y="0"/>
                    </a:moveTo>
                    <a:lnTo>
                      <a:pt x="1368152" y="684076"/>
                    </a:lnTo>
                    <a:lnTo>
                      <a:pt x="0" y="1368152"/>
                    </a:lnTo>
                    <a:lnTo>
                      <a:pt x="684076" y="68407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燕尾形 3"/>
              <p:cNvSpPr/>
              <p:nvPr/>
            </p:nvSpPr>
            <p:spPr>
              <a:xfrm flipH="1">
                <a:off x="2293560" y="2936520"/>
                <a:ext cx="761760" cy="761400"/>
              </a:xfrm>
              <a:custGeom>
                <a:avLst/>
                <a:gdLst/>
                <a:ahLst/>
                <a:rect l="l" t="t" r="r" b="b"/>
                <a:pathLst>
                  <a:path w="1368152" h="1368152">
                    <a:moveTo>
                      <a:pt x="0" y="0"/>
                    </a:moveTo>
                    <a:lnTo>
                      <a:pt x="1368152" y="684076"/>
                    </a:lnTo>
                    <a:lnTo>
                      <a:pt x="0" y="1368152"/>
                    </a:lnTo>
                    <a:lnTo>
                      <a:pt x="684076" y="68407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燕尾形 3"/>
              <p:cNvSpPr/>
              <p:nvPr/>
            </p:nvSpPr>
            <p:spPr>
              <a:xfrm rot="13500000">
                <a:off x="2674080" y="2014920"/>
                <a:ext cx="761400" cy="761760"/>
              </a:xfrm>
              <a:custGeom>
                <a:avLst/>
                <a:gdLst/>
                <a:ahLst/>
                <a:rect l="l" t="t" r="r" b="b"/>
                <a:pathLst>
                  <a:path w="1368152" h="1368152">
                    <a:moveTo>
                      <a:pt x="0" y="0"/>
                    </a:moveTo>
                    <a:lnTo>
                      <a:pt x="1368152" y="684076"/>
                    </a:lnTo>
                    <a:lnTo>
                      <a:pt x="0" y="1368152"/>
                    </a:lnTo>
                    <a:lnTo>
                      <a:pt x="684076" y="68407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328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燕尾形 3"/>
              <p:cNvSpPr/>
              <p:nvPr/>
            </p:nvSpPr>
            <p:spPr>
              <a:xfrm flipH="1" rot="8100000">
                <a:off x="4515480" y="2016000"/>
                <a:ext cx="761760" cy="761760"/>
              </a:xfrm>
              <a:custGeom>
                <a:avLst/>
                <a:gdLst/>
                <a:ahLst/>
                <a:rect l="l" t="t" r="r" b="b"/>
                <a:pathLst>
                  <a:path w="1368152" h="1368152">
                    <a:moveTo>
                      <a:pt x="0" y="0"/>
                    </a:moveTo>
                    <a:lnTo>
                      <a:pt x="1368152" y="684076"/>
                    </a:lnTo>
                    <a:lnTo>
                      <a:pt x="0" y="1368152"/>
                    </a:lnTo>
                    <a:lnTo>
                      <a:pt x="684076" y="68407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328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燕尾形 3"/>
              <p:cNvSpPr/>
              <p:nvPr/>
            </p:nvSpPr>
            <p:spPr>
              <a:xfrm flipV="1" rot="8100000">
                <a:off x="2674080" y="3858120"/>
                <a:ext cx="761760" cy="761760"/>
              </a:xfrm>
              <a:custGeom>
                <a:avLst/>
                <a:gdLst/>
                <a:ahLst/>
                <a:rect l="l" t="t" r="r" b="b"/>
                <a:pathLst>
                  <a:path w="1368152" h="1368152">
                    <a:moveTo>
                      <a:pt x="0" y="0"/>
                    </a:moveTo>
                    <a:lnTo>
                      <a:pt x="1368152" y="684076"/>
                    </a:lnTo>
                    <a:lnTo>
                      <a:pt x="0" y="1368152"/>
                    </a:lnTo>
                    <a:lnTo>
                      <a:pt x="684076" y="68407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328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燕尾形 3"/>
              <p:cNvSpPr/>
              <p:nvPr/>
            </p:nvSpPr>
            <p:spPr>
              <a:xfrm flipH="1" flipV="1" rot="13500000">
                <a:off x="4515480" y="3858120"/>
                <a:ext cx="761760" cy="761760"/>
              </a:xfrm>
              <a:custGeom>
                <a:avLst/>
                <a:gdLst/>
                <a:ahLst/>
                <a:rect l="l" t="t" r="r" b="b"/>
                <a:pathLst>
                  <a:path w="1368152" h="1368152">
                    <a:moveTo>
                      <a:pt x="0" y="0"/>
                    </a:moveTo>
                    <a:lnTo>
                      <a:pt x="1368152" y="684076"/>
                    </a:lnTo>
                    <a:lnTo>
                      <a:pt x="0" y="1368152"/>
                    </a:lnTo>
                    <a:lnTo>
                      <a:pt x="684076" y="68407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328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7" name="矩形 10"/>
            <p:cNvSpPr/>
            <p:nvPr/>
          </p:nvSpPr>
          <p:spPr>
            <a:xfrm>
              <a:off x="3612240" y="30877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Segoe UI Light"/>
                  <a:ea typeface="方正中等线简体"/>
                </a:rPr>
                <a:t>总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文本框 11"/>
            <p:cNvSpPr/>
            <p:nvPr/>
          </p:nvSpPr>
          <p:spPr>
            <a:xfrm>
              <a:off x="3759120" y="110952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Segoe UI Light"/>
                  <a:ea typeface="方正中等线简体"/>
                </a:rPr>
                <a:t>内容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文本框 12"/>
            <p:cNvSpPr/>
            <p:nvPr/>
          </p:nvSpPr>
          <p:spPr>
            <a:xfrm>
              <a:off x="5400720" y="181692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Segoe UI Light"/>
                  <a:ea typeface="方正中等线简体"/>
                </a:rPr>
                <a:t>内容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文本框 13"/>
            <p:cNvSpPr/>
            <p:nvPr/>
          </p:nvSpPr>
          <p:spPr>
            <a:xfrm>
              <a:off x="5982840" y="3122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Segoe UI Light"/>
                  <a:ea typeface="方正中等线简体"/>
                </a:rPr>
                <a:t>内容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文本框 14"/>
            <p:cNvSpPr/>
            <p:nvPr/>
          </p:nvSpPr>
          <p:spPr>
            <a:xfrm>
              <a:off x="5400720" y="44204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Segoe UI Light"/>
                  <a:ea typeface="方正中等线简体"/>
                </a:rPr>
                <a:t>内容四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文本框 15"/>
            <p:cNvSpPr/>
            <p:nvPr/>
          </p:nvSpPr>
          <p:spPr>
            <a:xfrm>
              <a:off x="3657960" y="51166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Segoe UI Light"/>
                  <a:ea typeface="方正中等线简体"/>
                </a:rPr>
                <a:t>内容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文本框 16"/>
            <p:cNvSpPr/>
            <p:nvPr/>
          </p:nvSpPr>
          <p:spPr>
            <a:xfrm>
              <a:off x="1910520" y="44204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Segoe UI Light"/>
                  <a:ea typeface="方正中等线简体"/>
                </a:rPr>
                <a:t>内容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文本框 17"/>
            <p:cNvSpPr/>
            <p:nvPr/>
          </p:nvSpPr>
          <p:spPr>
            <a:xfrm>
              <a:off x="1415520" y="311580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Segoe UI Light"/>
                  <a:ea typeface="方正中等线简体"/>
                </a:rPr>
                <a:t>内容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文本框 18"/>
            <p:cNvSpPr/>
            <p:nvPr/>
          </p:nvSpPr>
          <p:spPr>
            <a:xfrm>
              <a:off x="1789920" y="181692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Segoe UI Light"/>
                  <a:ea typeface="方正中等线简体"/>
                </a:rPr>
                <a:t>内容八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6" name="矩形 20"/>
          <p:cNvSpPr/>
          <p:nvPr/>
        </p:nvSpPr>
        <p:spPr>
          <a:xfrm>
            <a:off x="0" y="1440"/>
            <a:ext cx="12192120" cy="460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21"/>
          <p:cNvSpPr/>
          <p:nvPr/>
        </p:nvSpPr>
        <p:spPr>
          <a:xfrm>
            <a:off x="0" y="6811920"/>
            <a:ext cx="12192120" cy="4608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文本框 22"/>
          <p:cNvSpPr/>
          <p:nvPr/>
        </p:nvSpPr>
        <p:spPr>
          <a:xfrm>
            <a:off x="5955120" y="6283440"/>
            <a:ext cx="27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Segoe UI Light"/>
                <a:ea typeface="方正中等线简体"/>
              </a:rPr>
              <a:t>注：该页用于展示该模版的使用时的排版方式，具体使用时请替换文字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9" name="组合 23"/>
          <p:cNvGrpSpPr/>
          <p:nvPr/>
        </p:nvGrpSpPr>
        <p:grpSpPr>
          <a:xfrm>
            <a:off x="7274880" y="2039760"/>
            <a:ext cx="2401200" cy="520560"/>
            <a:chOff x="7274880" y="2039760"/>
            <a:chExt cx="2401200" cy="520560"/>
          </a:xfrm>
        </p:grpSpPr>
        <p:sp>
          <p:nvSpPr>
            <p:cNvPr id="880" name="矩形 24"/>
            <p:cNvSpPr/>
            <p:nvPr/>
          </p:nvSpPr>
          <p:spPr>
            <a:xfrm rot="21413400">
              <a:off x="7278480" y="2269800"/>
              <a:ext cx="2393640" cy="20700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文本框 25"/>
            <p:cNvSpPr/>
            <p:nvPr/>
          </p:nvSpPr>
          <p:spPr>
            <a:xfrm>
              <a:off x="7701840" y="20397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Segoe UI Light"/>
                  <a:ea typeface="方正中等线简体"/>
                </a:rPr>
                <a:t>总分关系示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2" name="矩形 26"/>
          <p:cNvSpPr/>
          <p:nvPr/>
        </p:nvSpPr>
        <p:spPr>
          <a:xfrm>
            <a:off x="7256520" y="2577960"/>
            <a:ext cx="386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在改变内容的层次数目时，建议使用偶数的数量，并仍然保持一黑一黄的对比关系。当然，也可以考虑使用简便的配色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矩形 7"/>
          <p:cNvSpPr/>
          <p:nvPr/>
        </p:nvSpPr>
        <p:spPr>
          <a:xfrm>
            <a:off x="331920" y="270000"/>
            <a:ext cx="11528280" cy="5897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任意多边形 10"/>
          <p:cNvSpPr/>
          <p:nvPr/>
        </p:nvSpPr>
        <p:spPr>
          <a:xfrm>
            <a:off x="331920" y="270000"/>
            <a:ext cx="11528280" cy="5897520"/>
          </a:xfrm>
          <a:custGeom>
            <a:avLst/>
            <a:gdLst/>
            <a:ahLst/>
            <a:rect l="l" t="t" r="r" b="b"/>
            <a:pathLst>
              <a:path w="3314024" h="5048561">
                <a:moveTo>
                  <a:pt x="0" y="0"/>
                </a:moveTo>
                <a:lnTo>
                  <a:pt x="3314024" y="0"/>
                </a:lnTo>
                <a:lnTo>
                  <a:pt x="3229234" y="305327"/>
                </a:lnTo>
                <a:cubicBezTo>
                  <a:pt x="2584124" y="2484885"/>
                  <a:pt x="1434854" y="4194527"/>
                  <a:pt x="27719" y="5033291"/>
                </a:cubicBezTo>
                <a:lnTo>
                  <a:pt x="0" y="5048561"/>
                </a:lnTo>
                <a:lnTo>
                  <a:pt x="0" y="0"/>
                </a:lnTo>
                <a:close/>
              </a:path>
            </a:pathLst>
          </a:custGeom>
          <a:solidFill>
            <a:srgbClr val="ffd44b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任意多边形 9"/>
          <p:cNvSpPr/>
          <p:nvPr/>
        </p:nvSpPr>
        <p:spPr>
          <a:xfrm>
            <a:off x="331920" y="270000"/>
            <a:ext cx="8478720" cy="5921280"/>
          </a:xfrm>
          <a:custGeom>
            <a:avLst/>
            <a:gdLst/>
            <a:ahLst/>
            <a:rect l="l" t="t" r="r" b="b"/>
            <a:pathLst>
              <a:path w="3314024" h="5048561">
                <a:moveTo>
                  <a:pt x="0" y="0"/>
                </a:moveTo>
                <a:lnTo>
                  <a:pt x="3314024" y="0"/>
                </a:lnTo>
                <a:lnTo>
                  <a:pt x="3229234" y="305327"/>
                </a:lnTo>
                <a:cubicBezTo>
                  <a:pt x="2584124" y="2484885"/>
                  <a:pt x="1434854" y="4194527"/>
                  <a:pt x="27719" y="5033291"/>
                </a:cubicBezTo>
                <a:lnTo>
                  <a:pt x="0" y="5048561"/>
                </a:lnTo>
                <a:lnTo>
                  <a:pt x="0" y="0"/>
                </a:lnTo>
                <a:close/>
              </a:path>
            </a:pathLst>
          </a:custGeom>
          <a:solidFill>
            <a:srgbClr val="ffc715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任意多边形 8"/>
          <p:cNvSpPr/>
          <p:nvPr/>
        </p:nvSpPr>
        <p:spPr>
          <a:xfrm>
            <a:off x="331920" y="270000"/>
            <a:ext cx="3028680" cy="5897520"/>
          </a:xfrm>
          <a:custGeom>
            <a:avLst/>
            <a:gdLst/>
            <a:ahLst/>
            <a:rect l="l" t="t" r="r" b="b"/>
            <a:pathLst>
              <a:path w="3314024" h="5048561">
                <a:moveTo>
                  <a:pt x="0" y="0"/>
                </a:moveTo>
                <a:lnTo>
                  <a:pt x="3314024" y="0"/>
                </a:lnTo>
                <a:lnTo>
                  <a:pt x="3229234" y="305327"/>
                </a:lnTo>
                <a:cubicBezTo>
                  <a:pt x="2584124" y="2484885"/>
                  <a:pt x="1434854" y="4194527"/>
                  <a:pt x="27719" y="5033291"/>
                </a:cubicBezTo>
                <a:lnTo>
                  <a:pt x="0" y="5048561"/>
                </a:lnTo>
                <a:lnTo>
                  <a:pt x="0" y="0"/>
                </a:lnTo>
                <a:close/>
              </a:path>
            </a:pathLst>
          </a:custGeom>
          <a:solidFill>
            <a:srgbClr val="fed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文本框 25"/>
          <p:cNvSpPr/>
          <p:nvPr/>
        </p:nvSpPr>
        <p:spPr>
          <a:xfrm>
            <a:off x="3695760" y="1982880"/>
            <a:ext cx="4802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262626"/>
                </a:solidFill>
                <a:latin typeface="方正中等线简体"/>
                <a:ea typeface="方正中等线简体"/>
              </a:rPr>
              <a:t>Thank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文本框 26"/>
          <p:cNvSpPr/>
          <p:nvPr/>
        </p:nvSpPr>
        <p:spPr>
          <a:xfrm>
            <a:off x="3813120" y="3000240"/>
            <a:ext cx="456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方正中等线简体"/>
                <a:ea typeface="方正中等线简体"/>
              </a:rPr>
              <a:t>For Your At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9" name="组合 27"/>
          <p:cNvGrpSpPr/>
          <p:nvPr/>
        </p:nvGrpSpPr>
        <p:grpSpPr>
          <a:xfrm>
            <a:off x="5183280" y="3841920"/>
            <a:ext cx="2318400" cy="368280"/>
            <a:chOff x="5183280" y="3841920"/>
            <a:chExt cx="2318400" cy="368280"/>
          </a:xfrm>
        </p:grpSpPr>
        <p:sp>
          <p:nvSpPr>
            <p:cNvPr id="890" name="文本框 28"/>
            <p:cNvSpPr/>
            <p:nvPr/>
          </p:nvSpPr>
          <p:spPr>
            <a:xfrm>
              <a:off x="5183280" y="38419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3f3f3f"/>
                  </a:solidFill>
                  <a:latin typeface="方正中等线简体"/>
                  <a:ea typeface="方正中等线简体"/>
                </a:rPr>
                <a:t>作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矩形 30"/>
            <p:cNvSpPr/>
            <p:nvPr/>
          </p:nvSpPr>
          <p:spPr>
            <a:xfrm>
              <a:off x="5977080" y="3841920"/>
              <a:ext cx="152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3f3f3f"/>
                  </a:solidFill>
                  <a:latin typeface="方正中等线简体"/>
                  <a:ea typeface="方正中等线简体"/>
                </a:rPr>
                <a:t>达人</a:t>
              </a:r>
              <a:r>
                <a:rPr b="0" lang="zh-CN" sz="1800" spc="-1" strike="noStrike">
                  <a:solidFill>
                    <a:srgbClr val="3f3f3f"/>
                  </a:solidFill>
                  <a:latin typeface="方正中等线简体"/>
                  <a:ea typeface="方正中等线简体"/>
                </a:rPr>
                <a:t>ppt</a:t>
              </a:r>
              <a:r>
                <a:rPr b="0" lang="zh-CN" sz="1800" spc="-1" strike="noStrike">
                  <a:solidFill>
                    <a:srgbClr val="3f3f3f"/>
                  </a:solidFill>
                  <a:latin typeface="方正中等线简体"/>
                  <a:ea typeface="方正中等线简体"/>
                </a:rPr>
                <a:t>模板素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2" name="文本框 32"/>
          <p:cNvSpPr/>
          <p:nvPr/>
        </p:nvSpPr>
        <p:spPr>
          <a:xfrm>
            <a:off x="244440" y="6191280"/>
            <a:ext cx="117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Segoe UI Light"/>
                <a:ea typeface="方正中等线简体"/>
              </a:rPr>
              <a:t>PowerPoint leads to a better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图片 1" descr=""/>
          <p:cNvPicPr/>
          <p:nvPr/>
        </p:nvPicPr>
        <p:blipFill>
          <a:blip r:embed="rId1"/>
          <a:stretch/>
        </p:blipFill>
        <p:spPr>
          <a:xfrm>
            <a:off x="23760" y="0"/>
            <a:ext cx="12168360" cy="6870600"/>
          </a:xfrm>
          <a:prstGeom prst="rect">
            <a:avLst/>
          </a:prstGeom>
          <a:ln w="0">
            <a:noFill/>
          </a:ln>
        </p:spPr>
      </p:pic>
      <p:sp>
        <p:nvSpPr>
          <p:cNvPr id="544" name="矩形 6"/>
          <p:cNvSpPr/>
          <p:nvPr/>
        </p:nvSpPr>
        <p:spPr>
          <a:xfrm rot="20974800">
            <a:off x="863280" y="1630440"/>
            <a:ext cx="1798560" cy="350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矩形 2"/>
          <p:cNvSpPr/>
          <p:nvPr/>
        </p:nvSpPr>
        <p:spPr>
          <a:xfrm>
            <a:off x="861840" y="0"/>
            <a:ext cx="4019760" cy="233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文本框 4"/>
          <p:cNvSpPr/>
          <p:nvPr/>
        </p:nvSpPr>
        <p:spPr>
          <a:xfrm>
            <a:off x="720720" y="214200"/>
            <a:ext cx="22924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595959"/>
                </a:solidFill>
                <a:latin typeface="Segoe UI Light"/>
                <a:ea typeface="方正中等线简体"/>
              </a:rPr>
              <a:t>01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文本框 5"/>
          <p:cNvSpPr/>
          <p:nvPr/>
        </p:nvSpPr>
        <p:spPr>
          <a:xfrm>
            <a:off x="2886120" y="676440"/>
            <a:ext cx="184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bf9000"/>
                </a:solidFill>
                <a:latin typeface="方正中等线简体"/>
                <a:ea typeface="方正中等线简体"/>
              </a:rPr>
              <a:t>部分标题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矩形 7"/>
          <p:cNvSpPr/>
          <p:nvPr/>
        </p:nvSpPr>
        <p:spPr>
          <a:xfrm>
            <a:off x="847800" y="2430360"/>
            <a:ext cx="403200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Segoe UI Light"/>
                <a:ea typeface="方正中等线简体"/>
              </a:rPr>
              <a:t>请在这里输入该部分的简介，以让观众有大概的了解，长短则建议如此文本框，作者多次试验，这样效果最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矩形 8"/>
          <p:cNvSpPr/>
          <p:nvPr/>
        </p:nvSpPr>
        <p:spPr>
          <a:xfrm>
            <a:off x="861840" y="4019400"/>
            <a:ext cx="4019760" cy="44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图片 13" descr=""/>
          <p:cNvPicPr/>
          <p:nvPr/>
        </p:nvPicPr>
        <p:blipFill>
          <a:blip r:embed="rId1"/>
          <a:srcRect l="47576" t="20227" r="28066" b="57217"/>
          <a:stretch/>
        </p:blipFill>
        <p:spPr>
          <a:xfrm>
            <a:off x="396720" y="5334120"/>
            <a:ext cx="654120" cy="579240"/>
          </a:xfrm>
          <a:prstGeom prst="rect">
            <a:avLst/>
          </a:prstGeom>
          <a:ln w="0">
            <a:noFill/>
          </a:ln>
        </p:spPr>
      </p:pic>
      <p:pic>
        <p:nvPicPr>
          <p:cNvPr id="551" name="图片 3" descr=""/>
          <p:cNvPicPr/>
          <p:nvPr/>
        </p:nvPicPr>
        <p:blipFill>
          <a:blip r:embed="rId2"/>
          <a:srcRect l="0" t="22707" r="0" b="37166"/>
          <a:stretch/>
        </p:blipFill>
        <p:spPr>
          <a:xfrm>
            <a:off x="538200" y="393840"/>
            <a:ext cx="11115720" cy="2976480"/>
          </a:xfrm>
          <a:prstGeom prst="rect">
            <a:avLst/>
          </a:prstGeom>
          <a:ln w="0">
            <a:noFill/>
          </a:ln>
        </p:spPr>
      </p:pic>
      <p:sp>
        <p:nvSpPr>
          <p:cNvPr id="552" name="矩形 1"/>
          <p:cNvSpPr/>
          <p:nvPr/>
        </p:nvSpPr>
        <p:spPr>
          <a:xfrm>
            <a:off x="5557680" y="3743280"/>
            <a:ext cx="60962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62626"/>
                </a:solidFill>
                <a:latin typeface="Segoe UI Light"/>
                <a:ea typeface="方正中等线简体"/>
              </a:rPr>
              <a:t>这是范例文字，具体输入时可根据长短调节上下矩形的位置，以看起来更精致美观。另外，图片也建议根据具体使用情况替换，具体操作为：插入一张图片，然后裁剪到如图大小，最后右键，把它“置于底层”。这样即可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矩形 5"/>
          <p:cNvSpPr/>
          <p:nvPr/>
        </p:nvSpPr>
        <p:spPr>
          <a:xfrm>
            <a:off x="5557680" y="3357720"/>
            <a:ext cx="6096240" cy="242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矩形 6"/>
          <p:cNvSpPr/>
          <p:nvPr/>
        </p:nvSpPr>
        <p:spPr>
          <a:xfrm>
            <a:off x="5557680" y="6340320"/>
            <a:ext cx="6096240" cy="60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5" name="组合 10"/>
          <p:cNvGrpSpPr/>
          <p:nvPr/>
        </p:nvGrpSpPr>
        <p:grpSpPr>
          <a:xfrm>
            <a:off x="538200" y="393840"/>
            <a:ext cx="4246560" cy="2976480"/>
            <a:chOff x="538200" y="393840"/>
            <a:chExt cx="4246560" cy="2976480"/>
          </a:xfrm>
        </p:grpSpPr>
        <p:sp>
          <p:nvSpPr>
            <p:cNvPr id="556" name="任意多边形 8"/>
            <p:cNvSpPr/>
            <p:nvPr/>
          </p:nvSpPr>
          <p:spPr>
            <a:xfrm>
              <a:off x="538200" y="393840"/>
              <a:ext cx="4246560" cy="2963520"/>
            </a:xfrm>
            <a:custGeom>
              <a:avLst/>
              <a:gdLst/>
              <a:ahLst/>
              <a:rect l="l" t="t" r="r" b="b"/>
              <a:pathLst>
                <a:path w="3314024" h="5048561">
                  <a:moveTo>
                    <a:pt x="0" y="0"/>
                  </a:moveTo>
                  <a:lnTo>
                    <a:pt x="3314024" y="0"/>
                  </a:lnTo>
                  <a:lnTo>
                    <a:pt x="3229234" y="305327"/>
                  </a:lnTo>
                  <a:cubicBezTo>
                    <a:pt x="2584124" y="2484885"/>
                    <a:pt x="1434854" y="4194527"/>
                    <a:pt x="27719" y="5033291"/>
                  </a:cubicBezTo>
                  <a:lnTo>
                    <a:pt x="0" y="50485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715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任意多边形 7"/>
            <p:cNvSpPr/>
            <p:nvPr/>
          </p:nvSpPr>
          <p:spPr>
            <a:xfrm>
              <a:off x="538200" y="393840"/>
              <a:ext cx="3790440" cy="2976480"/>
            </a:xfrm>
            <a:custGeom>
              <a:avLst/>
              <a:gdLst/>
              <a:ahLst/>
              <a:rect l="l" t="t" r="r" b="b"/>
              <a:pathLst>
                <a:path w="3314024" h="5048561">
                  <a:moveTo>
                    <a:pt x="0" y="0"/>
                  </a:moveTo>
                  <a:lnTo>
                    <a:pt x="3314024" y="0"/>
                  </a:lnTo>
                  <a:lnTo>
                    <a:pt x="3229234" y="305327"/>
                  </a:lnTo>
                  <a:cubicBezTo>
                    <a:pt x="2584124" y="2484885"/>
                    <a:pt x="1434854" y="4194527"/>
                    <a:pt x="27719" y="5033291"/>
                  </a:cubicBezTo>
                  <a:lnTo>
                    <a:pt x="0" y="50485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75c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8" name="矩形 9"/>
          <p:cNvSpPr/>
          <p:nvPr/>
        </p:nvSpPr>
        <p:spPr>
          <a:xfrm>
            <a:off x="1148760" y="523800"/>
            <a:ext cx="164376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62626"/>
                </a:solidFill>
                <a:latin typeface="Segoe UI Light"/>
                <a:ea typeface="方正中等线简体"/>
              </a:rPr>
              <a:t>请输入该部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62626"/>
                </a:solidFill>
                <a:latin typeface="Segoe UI Light"/>
                <a:ea typeface="方正中等线简体"/>
              </a:rPr>
              <a:t>的子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矩形 11"/>
          <p:cNvSpPr/>
          <p:nvPr/>
        </p:nvSpPr>
        <p:spPr>
          <a:xfrm>
            <a:off x="538200" y="5608800"/>
            <a:ext cx="3967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Segoe UI Light"/>
                <a:ea typeface="方正中等线简体"/>
              </a:rPr>
              <a:t>这里可以加一句引用的话，或者是右边文字的补充观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矩形 14"/>
          <p:cNvSpPr/>
          <p:nvPr/>
        </p:nvSpPr>
        <p:spPr>
          <a:xfrm>
            <a:off x="0" y="1440"/>
            <a:ext cx="12192120" cy="460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矩形 15"/>
          <p:cNvSpPr/>
          <p:nvPr/>
        </p:nvSpPr>
        <p:spPr>
          <a:xfrm>
            <a:off x="0" y="6811920"/>
            <a:ext cx="12192120" cy="4608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矩形 56"/>
          <p:cNvSpPr/>
          <p:nvPr/>
        </p:nvSpPr>
        <p:spPr>
          <a:xfrm rot="21413400">
            <a:off x="4536720" y="1060200"/>
            <a:ext cx="3117960" cy="198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矩形 12"/>
          <p:cNvSpPr/>
          <p:nvPr/>
        </p:nvSpPr>
        <p:spPr>
          <a:xfrm>
            <a:off x="0" y="1440"/>
            <a:ext cx="12192120" cy="460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矩形 14"/>
          <p:cNvSpPr/>
          <p:nvPr/>
        </p:nvSpPr>
        <p:spPr>
          <a:xfrm>
            <a:off x="0" y="6811920"/>
            <a:ext cx="12192120" cy="4608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文本框 2"/>
          <p:cNvSpPr/>
          <p:nvPr/>
        </p:nvSpPr>
        <p:spPr>
          <a:xfrm>
            <a:off x="5008680" y="865080"/>
            <a:ext cx="217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PPT</a:t>
            </a:r>
            <a:r>
              <a:rPr b="0" lang="zh-CN" sz="28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重要程度排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矩形 65"/>
          <p:cNvSpPr/>
          <p:nvPr/>
        </p:nvSpPr>
        <p:spPr>
          <a:xfrm rot="21413400">
            <a:off x="1622160" y="4586040"/>
            <a:ext cx="739800" cy="218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Oval 5574"/>
          <p:cNvSpPr/>
          <p:nvPr/>
        </p:nvSpPr>
        <p:spPr>
          <a:xfrm>
            <a:off x="1241280" y="2847960"/>
            <a:ext cx="384480" cy="3859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Freeform 5575"/>
          <p:cNvSpPr/>
          <p:nvPr/>
        </p:nvSpPr>
        <p:spPr>
          <a:xfrm>
            <a:off x="1455840" y="2284560"/>
            <a:ext cx="436320" cy="426960"/>
          </a:xfrm>
          <a:custGeom>
            <a:avLst/>
            <a:gdLst/>
            <a:ahLst/>
            <a:rect l="l" t="t" r="r" b="b"/>
            <a:pathLst>
              <a:path w="44" h="43">
                <a:moveTo>
                  <a:pt x="36" y="36"/>
                </a:moveTo>
                <a:cubicBezTo>
                  <a:pt x="28" y="43"/>
                  <a:pt x="16" y="43"/>
                  <a:pt x="8" y="36"/>
                </a:cubicBezTo>
                <a:cubicBezTo>
                  <a:pt x="0" y="28"/>
                  <a:pt x="0" y="15"/>
                  <a:pt x="8" y="8"/>
                </a:cubicBezTo>
                <a:cubicBezTo>
                  <a:pt x="16" y="0"/>
                  <a:pt x="28" y="0"/>
                  <a:pt x="36" y="8"/>
                </a:cubicBezTo>
                <a:cubicBezTo>
                  <a:pt x="44" y="15"/>
                  <a:pt x="44" y="28"/>
                  <a:pt x="36" y="36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Oval 5576"/>
          <p:cNvSpPr/>
          <p:nvPr/>
        </p:nvSpPr>
        <p:spPr>
          <a:xfrm>
            <a:off x="2033640" y="2087640"/>
            <a:ext cx="393480" cy="3952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reeform 5577"/>
          <p:cNvSpPr/>
          <p:nvPr/>
        </p:nvSpPr>
        <p:spPr>
          <a:xfrm>
            <a:off x="2556000" y="2317680"/>
            <a:ext cx="434880" cy="420840"/>
          </a:xfrm>
          <a:custGeom>
            <a:avLst/>
            <a:gdLst/>
            <a:ahLst/>
            <a:rect l="l" t="t" r="r" b="b"/>
            <a:pathLst>
              <a:path w="44" h="43">
                <a:moveTo>
                  <a:pt x="8" y="35"/>
                </a:moveTo>
                <a:cubicBezTo>
                  <a:pt x="0" y="28"/>
                  <a:pt x="0" y="15"/>
                  <a:pt x="8" y="7"/>
                </a:cubicBezTo>
                <a:cubicBezTo>
                  <a:pt x="16" y="0"/>
                  <a:pt x="28" y="0"/>
                  <a:pt x="36" y="7"/>
                </a:cubicBezTo>
                <a:cubicBezTo>
                  <a:pt x="44" y="15"/>
                  <a:pt x="44" y="28"/>
                  <a:pt x="36" y="35"/>
                </a:cubicBezTo>
                <a:cubicBezTo>
                  <a:pt x="28" y="43"/>
                  <a:pt x="16" y="43"/>
                  <a:pt x="8" y="35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Oval 5578"/>
          <p:cNvSpPr/>
          <p:nvPr/>
        </p:nvSpPr>
        <p:spPr>
          <a:xfrm>
            <a:off x="2793960" y="2889360"/>
            <a:ext cx="384120" cy="3855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Freeform 5579"/>
          <p:cNvSpPr/>
          <p:nvPr/>
        </p:nvSpPr>
        <p:spPr>
          <a:xfrm>
            <a:off x="2536920" y="3411360"/>
            <a:ext cx="426960" cy="427320"/>
          </a:xfrm>
          <a:custGeom>
            <a:avLst/>
            <a:gdLst/>
            <a:ahLst/>
            <a:rect l="l" t="t" r="r" b="b"/>
            <a:pathLst>
              <a:path w="43" h="43">
                <a:moveTo>
                  <a:pt x="7" y="8"/>
                </a:moveTo>
                <a:cubicBezTo>
                  <a:pt x="15" y="0"/>
                  <a:pt x="28" y="0"/>
                  <a:pt x="35" y="8"/>
                </a:cubicBezTo>
                <a:cubicBezTo>
                  <a:pt x="43" y="15"/>
                  <a:pt x="43" y="28"/>
                  <a:pt x="35" y="35"/>
                </a:cubicBezTo>
                <a:cubicBezTo>
                  <a:pt x="28" y="43"/>
                  <a:pt x="15" y="43"/>
                  <a:pt x="7" y="35"/>
                </a:cubicBezTo>
                <a:cubicBezTo>
                  <a:pt x="0" y="28"/>
                  <a:pt x="0" y="15"/>
                  <a:pt x="7" y="8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Oval 5580"/>
          <p:cNvSpPr/>
          <p:nvPr/>
        </p:nvSpPr>
        <p:spPr>
          <a:xfrm>
            <a:off x="1992240" y="3641760"/>
            <a:ext cx="393840" cy="3938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Freeform 5581"/>
          <p:cNvSpPr/>
          <p:nvPr/>
        </p:nvSpPr>
        <p:spPr>
          <a:xfrm>
            <a:off x="1428840" y="3384720"/>
            <a:ext cx="434880" cy="425160"/>
          </a:xfrm>
          <a:custGeom>
            <a:avLst/>
            <a:gdLst/>
            <a:ahLst/>
            <a:rect l="l" t="t" r="r" b="b"/>
            <a:pathLst>
              <a:path w="44" h="43">
                <a:moveTo>
                  <a:pt x="36" y="8"/>
                </a:moveTo>
                <a:cubicBezTo>
                  <a:pt x="44" y="15"/>
                  <a:pt x="44" y="28"/>
                  <a:pt x="36" y="36"/>
                </a:cubicBezTo>
                <a:cubicBezTo>
                  <a:pt x="28" y="43"/>
                  <a:pt x="16" y="43"/>
                  <a:pt x="8" y="36"/>
                </a:cubicBezTo>
                <a:cubicBezTo>
                  <a:pt x="0" y="28"/>
                  <a:pt x="0" y="15"/>
                  <a:pt x="8" y="8"/>
                </a:cubicBezTo>
                <a:cubicBezTo>
                  <a:pt x="16" y="0"/>
                  <a:pt x="28" y="0"/>
                  <a:pt x="36" y="8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文本框 20"/>
          <p:cNvSpPr/>
          <p:nvPr/>
        </p:nvSpPr>
        <p:spPr>
          <a:xfrm>
            <a:off x="1822680" y="2847960"/>
            <a:ext cx="7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825"/>
                </a:solidFill>
                <a:latin typeface="Segoe UI Light"/>
                <a:ea typeface="方正中等线简体"/>
              </a:rPr>
              <a:t>100</a:t>
            </a:r>
            <a:r>
              <a:rPr b="0" lang="en-US" sz="1600" spc="-1" strike="noStrike">
                <a:solidFill>
                  <a:srgbClr val="232825"/>
                </a:solidFill>
                <a:latin typeface="Segoe UI Light"/>
                <a:ea typeface="方正中等线简体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文本框 57"/>
          <p:cNvSpPr/>
          <p:nvPr/>
        </p:nvSpPr>
        <p:spPr>
          <a:xfrm>
            <a:off x="1785960" y="4429080"/>
            <a:ext cx="86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Segoe UI Light"/>
                <a:ea typeface="方正中等线简体"/>
              </a:rPr>
              <a:t>A</a:t>
            </a:r>
            <a:r>
              <a:rPr b="0" lang="zh-CN" sz="2000" spc="-1" strike="noStrike">
                <a:solidFill>
                  <a:srgbClr val="262626"/>
                </a:solidFill>
                <a:latin typeface="Segoe UI Light"/>
                <a:ea typeface="方正中等线简体"/>
              </a:rPr>
              <a:t>型角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文本框 61"/>
          <p:cNvSpPr/>
          <p:nvPr/>
        </p:nvSpPr>
        <p:spPr>
          <a:xfrm>
            <a:off x="1485360" y="4968720"/>
            <a:ext cx="148824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Segoe UI Light"/>
                <a:ea typeface="方正中等线简体"/>
              </a:rPr>
              <a:t>无时无刻需要</a:t>
            </a:r>
            <a:r>
              <a:rPr b="0" lang="en-US" sz="1600" spc="-1" strike="noStrike">
                <a:solidFill>
                  <a:srgbClr val="262626"/>
                </a:solidFill>
                <a:latin typeface="Segoe UI Light"/>
                <a:ea typeface="方正中等线简体"/>
              </a:rPr>
              <a:t>PPT</a:t>
            </a:r>
            <a:r>
              <a:rPr b="0" lang="zh-CN" sz="1600" spc="-1" strike="noStrike">
                <a:solidFill>
                  <a:srgbClr val="262626"/>
                </a:solidFill>
                <a:latin typeface="Segoe UI Light"/>
                <a:ea typeface="方正中等线简体"/>
              </a:rPr>
              <a:t>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Segoe UI Light"/>
                <a:ea typeface="方正中等线简体"/>
              </a:rPr>
              <a:t>一切都要用</a:t>
            </a:r>
            <a:r>
              <a:rPr b="0" lang="en-US" sz="1600" spc="-1" strike="noStrike">
                <a:solidFill>
                  <a:srgbClr val="262626"/>
                </a:solidFill>
                <a:latin typeface="Segoe UI Light"/>
                <a:ea typeface="方正中等线简体"/>
              </a:rPr>
              <a:t>PPT</a:t>
            </a:r>
            <a:r>
              <a:rPr b="0" lang="zh-CN" sz="1600" spc="-1" strike="noStrike">
                <a:solidFill>
                  <a:srgbClr val="262626"/>
                </a:solidFill>
                <a:latin typeface="Segoe UI Light"/>
                <a:ea typeface="方正中等线简体"/>
              </a:rPr>
              <a:t>完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矩形 66"/>
          <p:cNvSpPr/>
          <p:nvPr/>
        </p:nvSpPr>
        <p:spPr>
          <a:xfrm rot="21413400">
            <a:off x="4177800" y="4586040"/>
            <a:ext cx="739800" cy="218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Oval 5586"/>
          <p:cNvSpPr/>
          <p:nvPr/>
        </p:nvSpPr>
        <p:spPr>
          <a:xfrm>
            <a:off x="3843360" y="2847960"/>
            <a:ext cx="385920" cy="3859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Freeform 5587"/>
          <p:cNvSpPr/>
          <p:nvPr/>
        </p:nvSpPr>
        <p:spPr>
          <a:xfrm>
            <a:off x="4064040" y="2284560"/>
            <a:ext cx="425520" cy="426960"/>
          </a:xfrm>
          <a:custGeom>
            <a:avLst/>
            <a:gdLst/>
            <a:ahLst/>
            <a:rect l="l" t="t" r="r" b="b"/>
            <a:pathLst>
              <a:path w="43" h="43">
                <a:moveTo>
                  <a:pt x="36" y="36"/>
                </a:moveTo>
                <a:cubicBezTo>
                  <a:pt x="28" y="43"/>
                  <a:pt x="15" y="43"/>
                  <a:pt x="8" y="36"/>
                </a:cubicBezTo>
                <a:cubicBezTo>
                  <a:pt x="0" y="28"/>
                  <a:pt x="0" y="15"/>
                  <a:pt x="8" y="8"/>
                </a:cubicBezTo>
                <a:cubicBezTo>
                  <a:pt x="15" y="0"/>
                  <a:pt x="28" y="0"/>
                  <a:pt x="36" y="8"/>
                </a:cubicBezTo>
                <a:cubicBezTo>
                  <a:pt x="43" y="15"/>
                  <a:pt x="43" y="28"/>
                  <a:pt x="36" y="36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Oval 5588"/>
          <p:cNvSpPr/>
          <p:nvPr/>
        </p:nvSpPr>
        <p:spPr>
          <a:xfrm>
            <a:off x="4637160" y="2087640"/>
            <a:ext cx="393480" cy="3952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Freeform 5589"/>
          <p:cNvSpPr/>
          <p:nvPr/>
        </p:nvSpPr>
        <p:spPr>
          <a:xfrm>
            <a:off x="5159520" y="2317680"/>
            <a:ext cx="434880" cy="420840"/>
          </a:xfrm>
          <a:custGeom>
            <a:avLst/>
            <a:gdLst/>
            <a:ahLst/>
            <a:rect l="l" t="t" r="r" b="b"/>
            <a:pathLst>
              <a:path w="44" h="43">
                <a:moveTo>
                  <a:pt x="8" y="35"/>
                </a:moveTo>
                <a:cubicBezTo>
                  <a:pt x="0" y="28"/>
                  <a:pt x="0" y="15"/>
                  <a:pt x="8" y="7"/>
                </a:cubicBezTo>
                <a:cubicBezTo>
                  <a:pt x="16" y="0"/>
                  <a:pt x="28" y="0"/>
                  <a:pt x="36" y="7"/>
                </a:cubicBezTo>
                <a:cubicBezTo>
                  <a:pt x="44" y="15"/>
                  <a:pt x="44" y="28"/>
                  <a:pt x="36" y="35"/>
                </a:cubicBezTo>
                <a:cubicBezTo>
                  <a:pt x="28" y="43"/>
                  <a:pt x="16" y="43"/>
                  <a:pt x="8" y="35"/>
                </a:cubicBezTo>
                <a:close/>
              </a:path>
            </a:pathLst>
          </a:custGeom>
          <a:solidFill>
            <a:srgbClr val="232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Oval 5590"/>
          <p:cNvSpPr/>
          <p:nvPr/>
        </p:nvSpPr>
        <p:spPr>
          <a:xfrm>
            <a:off x="5397480" y="2889360"/>
            <a:ext cx="384120" cy="385560"/>
          </a:xfrm>
          <a:prstGeom prst="ellipse">
            <a:avLst/>
          </a:prstGeom>
          <a:solidFill>
            <a:srgbClr val="232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Freeform 5591"/>
          <p:cNvSpPr/>
          <p:nvPr/>
        </p:nvSpPr>
        <p:spPr>
          <a:xfrm>
            <a:off x="5130720" y="3411360"/>
            <a:ext cx="436680" cy="427320"/>
          </a:xfrm>
          <a:custGeom>
            <a:avLst/>
            <a:gdLst/>
            <a:ahLst/>
            <a:rect l="l" t="t" r="r" b="b"/>
            <a:pathLst>
              <a:path w="44" h="43">
                <a:moveTo>
                  <a:pt x="8" y="8"/>
                </a:moveTo>
                <a:cubicBezTo>
                  <a:pt x="16" y="0"/>
                  <a:pt x="28" y="0"/>
                  <a:pt x="36" y="8"/>
                </a:cubicBezTo>
                <a:cubicBezTo>
                  <a:pt x="44" y="15"/>
                  <a:pt x="44" y="28"/>
                  <a:pt x="36" y="35"/>
                </a:cubicBezTo>
                <a:cubicBezTo>
                  <a:pt x="28" y="43"/>
                  <a:pt x="16" y="43"/>
                  <a:pt x="8" y="35"/>
                </a:cubicBezTo>
                <a:cubicBezTo>
                  <a:pt x="0" y="28"/>
                  <a:pt x="0" y="15"/>
                  <a:pt x="8" y="8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Oval 5592"/>
          <p:cNvSpPr/>
          <p:nvPr/>
        </p:nvSpPr>
        <p:spPr>
          <a:xfrm>
            <a:off x="4595760" y="3641760"/>
            <a:ext cx="398520" cy="3938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Freeform 5593"/>
          <p:cNvSpPr/>
          <p:nvPr/>
        </p:nvSpPr>
        <p:spPr>
          <a:xfrm>
            <a:off x="4032360" y="3384720"/>
            <a:ext cx="434880" cy="425160"/>
          </a:xfrm>
          <a:custGeom>
            <a:avLst/>
            <a:gdLst/>
            <a:ahLst/>
            <a:rect l="l" t="t" r="r" b="b"/>
            <a:pathLst>
              <a:path w="44" h="43">
                <a:moveTo>
                  <a:pt x="36" y="8"/>
                </a:moveTo>
                <a:cubicBezTo>
                  <a:pt x="44" y="15"/>
                  <a:pt x="44" y="28"/>
                  <a:pt x="36" y="36"/>
                </a:cubicBezTo>
                <a:cubicBezTo>
                  <a:pt x="28" y="43"/>
                  <a:pt x="16" y="43"/>
                  <a:pt x="8" y="36"/>
                </a:cubicBezTo>
                <a:cubicBezTo>
                  <a:pt x="0" y="28"/>
                  <a:pt x="0" y="15"/>
                  <a:pt x="8" y="8"/>
                </a:cubicBezTo>
                <a:cubicBezTo>
                  <a:pt x="16" y="0"/>
                  <a:pt x="28" y="0"/>
                  <a:pt x="36" y="8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文本框 21"/>
          <p:cNvSpPr/>
          <p:nvPr/>
        </p:nvSpPr>
        <p:spPr>
          <a:xfrm>
            <a:off x="4484880" y="2847960"/>
            <a:ext cx="64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825"/>
                </a:solidFill>
                <a:latin typeface="Segoe UI Light"/>
                <a:ea typeface="方正中等线简体"/>
              </a:rPr>
              <a:t>75</a:t>
            </a:r>
            <a:r>
              <a:rPr b="0" lang="en-US" sz="1600" spc="-1" strike="noStrike">
                <a:solidFill>
                  <a:srgbClr val="232825"/>
                </a:solidFill>
                <a:latin typeface="Segoe UI Light"/>
                <a:ea typeface="方正中等线简体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文本框 58"/>
          <p:cNvSpPr/>
          <p:nvPr/>
        </p:nvSpPr>
        <p:spPr>
          <a:xfrm>
            <a:off x="4357800" y="4429080"/>
            <a:ext cx="86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Segoe UI Light"/>
                <a:ea typeface="方正中等线简体"/>
              </a:rPr>
              <a:t>B</a:t>
            </a:r>
            <a:r>
              <a:rPr b="0" lang="zh-CN" sz="2000" spc="-1" strike="noStrike">
                <a:solidFill>
                  <a:srgbClr val="262626"/>
                </a:solidFill>
                <a:latin typeface="Segoe UI Light"/>
                <a:ea typeface="方正中等线简体"/>
              </a:rPr>
              <a:t>型角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文本框 62"/>
          <p:cNvSpPr/>
          <p:nvPr/>
        </p:nvSpPr>
        <p:spPr>
          <a:xfrm>
            <a:off x="4255920" y="4968720"/>
            <a:ext cx="11559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Segoe UI Light"/>
                <a:ea typeface="方正中等线简体"/>
              </a:rPr>
              <a:t>PPT</a:t>
            </a:r>
            <a:r>
              <a:rPr b="0" lang="zh-CN" sz="1600" spc="-1" strike="noStrike">
                <a:solidFill>
                  <a:srgbClr val="262626"/>
                </a:solidFill>
                <a:latin typeface="Segoe UI Light"/>
                <a:ea typeface="方正中等线简体"/>
              </a:rPr>
              <a:t>很有用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Segoe UI Light"/>
                <a:ea typeface="方正中等线简体"/>
              </a:rPr>
              <a:t>但也没那么有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矩形 67"/>
          <p:cNvSpPr/>
          <p:nvPr/>
        </p:nvSpPr>
        <p:spPr>
          <a:xfrm rot="21413400">
            <a:off x="6845040" y="4586040"/>
            <a:ext cx="739800" cy="218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Oval 5552"/>
          <p:cNvSpPr/>
          <p:nvPr/>
        </p:nvSpPr>
        <p:spPr>
          <a:xfrm>
            <a:off x="6480000" y="2847960"/>
            <a:ext cx="398520" cy="3859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Freeform 5553"/>
          <p:cNvSpPr/>
          <p:nvPr/>
        </p:nvSpPr>
        <p:spPr>
          <a:xfrm>
            <a:off x="6708600" y="2284560"/>
            <a:ext cx="425520" cy="426960"/>
          </a:xfrm>
          <a:custGeom>
            <a:avLst/>
            <a:gdLst/>
            <a:ahLst/>
            <a:rect l="l" t="t" r="r" b="b"/>
            <a:pathLst>
              <a:path w="43" h="43">
                <a:moveTo>
                  <a:pt x="35" y="36"/>
                </a:moveTo>
                <a:cubicBezTo>
                  <a:pt x="28" y="43"/>
                  <a:pt x="15" y="43"/>
                  <a:pt x="8" y="36"/>
                </a:cubicBezTo>
                <a:cubicBezTo>
                  <a:pt x="0" y="28"/>
                  <a:pt x="0" y="15"/>
                  <a:pt x="8" y="8"/>
                </a:cubicBezTo>
                <a:cubicBezTo>
                  <a:pt x="15" y="0"/>
                  <a:pt x="28" y="0"/>
                  <a:pt x="35" y="8"/>
                </a:cubicBezTo>
                <a:cubicBezTo>
                  <a:pt x="43" y="15"/>
                  <a:pt x="43" y="28"/>
                  <a:pt x="35" y="36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Oval 5554"/>
          <p:cNvSpPr/>
          <p:nvPr/>
        </p:nvSpPr>
        <p:spPr>
          <a:xfrm>
            <a:off x="7281720" y="2087640"/>
            <a:ext cx="384480" cy="3952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Freeform 5555"/>
          <p:cNvSpPr/>
          <p:nvPr/>
        </p:nvSpPr>
        <p:spPr>
          <a:xfrm>
            <a:off x="7808760" y="2317680"/>
            <a:ext cx="420840" cy="420840"/>
          </a:xfrm>
          <a:custGeom>
            <a:avLst/>
            <a:gdLst/>
            <a:ahLst/>
            <a:rect l="l" t="t" r="r" b="b"/>
            <a:pathLst>
              <a:path w="43" h="43">
                <a:moveTo>
                  <a:pt x="8" y="35"/>
                </a:moveTo>
                <a:cubicBezTo>
                  <a:pt x="0" y="28"/>
                  <a:pt x="0" y="15"/>
                  <a:pt x="8" y="7"/>
                </a:cubicBezTo>
                <a:cubicBezTo>
                  <a:pt x="15" y="0"/>
                  <a:pt x="28" y="0"/>
                  <a:pt x="36" y="7"/>
                </a:cubicBezTo>
                <a:cubicBezTo>
                  <a:pt x="43" y="15"/>
                  <a:pt x="43" y="28"/>
                  <a:pt x="36" y="35"/>
                </a:cubicBezTo>
                <a:cubicBezTo>
                  <a:pt x="28" y="43"/>
                  <a:pt x="15" y="43"/>
                  <a:pt x="8" y="35"/>
                </a:cubicBezTo>
                <a:close/>
              </a:path>
            </a:pathLst>
          </a:custGeom>
          <a:solidFill>
            <a:srgbClr val="232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Oval 5556"/>
          <p:cNvSpPr/>
          <p:nvPr/>
        </p:nvSpPr>
        <p:spPr>
          <a:xfrm>
            <a:off x="8042400" y="2889360"/>
            <a:ext cx="388800" cy="385560"/>
          </a:xfrm>
          <a:prstGeom prst="ellipse">
            <a:avLst/>
          </a:prstGeom>
          <a:solidFill>
            <a:srgbClr val="232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Freeform 5557"/>
          <p:cNvSpPr/>
          <p:nvPr/>
        </p:nvSpPr>
        <p:spPr>
          <a:xfrm>
            <a:off x="7775640" y="3411360"/>
            <a:ext cx="436320" cy="427320"/>
          </a:xfrm>
          <a:custGeom>
            <a:avLst/>
            <a:gdLst/>
            <a:ahLst/>
            <a:rect l="l" t="t" r="r" b="b"/>
            <a:pathLst>
              <a:path w="44" h="43">
                <a:moveTo>
                  <a:pt x="8" y="8"/>
                </a:moveTo>
                <a:cubicBezTo>
                  <a:pt x="16" y="0"/>
                  <a:pt x="28" y="0"/>
                  <a:pt x="36" y="8"/>
                </a:cubicBezTo>
                <a:cubicBezTo>
                  <a:pt x="44" y="15"/>
                  <a:pt x="44" y="28"/>
                  <a:pt x="36" y="35"/>
                </a:cubicBezTo>
                <a:cubicBezTo>
                  <a:pt x="28" y="43"/>
                  <a:pt x="16" y="43"/>
                  <a:pt x="8" y="35"/>
                </a:cubicBezTo>
                <a:cubicBezTo>
                  <a:pt x="0" y="28"/>
                  <a:pt x="0" y="15"/>
                  <a:pt x="8" y="8"/>
                </a:cubicBezTo>
                <a:close/>
              </a:path>
            </a:pathLst>
          </a:custGeom>
          <a:solidFill>
            <a:srgbClr val="232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Oval 5558"/>
          <p:cNvSpPr/>
          <p:nvPr/>
        </p:nvSpPr>
        <p:spPr>
          <a:xfrm>
            <a:off x="7245360" y="3641760"/>
            <a:ext cx="384120" cy="393840"/>
          </a:xfrm>
          <a:prstGeom prst="ellipse">
            <a:avLst/>
          </a:prstGeom>
          <a:solidFill>
            <a:srgbClr val="232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Freeform 5559"/>
          <p:cNvSpPr/>
          <p:nvPr/>
        </p:nvSpPr>
        <p:spPr>
          <a:xfrm>
            <a:off x="6676920" y="3384720"/>
            <a:ext cx="425520" cy="425160"/>
          </a:xfrm>
          <a:custGeom>
            <a:avLst/>
            <a:gdLst/>
            <a:ahLst/>
            <a:rect l="l" t="t" r="r" b="b"/>
            <a:pathLst>
              <a:path w="43" h="43">
                <a:moveTo>
                  <a:pt x="36" y="8"/>
                </a:moveTo>
                <a:cubicBezTo>
                  <a:pt x="43" y="15"/>
                  <a:pt x="43" y="28"/>
                  <a:pt x="36" y="36"/>
                </a:cubicBezTo>
                <a:cubicBezTo>
                  <a:pt x="28" y="43"/>
                  <a:pt x="15" y="43"/>
                  <a:pt x="8" y="36"/>
                </a:cubicBezTo>
                <a:cubicBezTo>
                  <a:pt x="0" y="28"/>
                  <a:pt x="0" y="15"/>
                  <a:pt x="8" y="8"/>
                </a:cubicBezTo>
                <a:cubicBezTo>
                  <a:pt x="15" y="0"/>
                  <a:pt x="28" y="0"/>
                  <a:pt x="36" y="8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文本框 22"/>
          <p:cNvSpPr/>
          <p:nvPr/>
        </p:nvSpPr>
        <p:spPr>
          <a:xfrm>
            <a:off x="7161120" y="2847960"/>
            <a:ext cx="64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825"/>
                </a:solidFill>
                <a:latin typeface="Segoe UI Light"/>
                <a:ea typeface="方正中等线简体"/>
              </a:rPr>
              <a:t>50</a:t>
            </a:r>
            <a:r>
              <a:rPr b="0" lang="en-US" sz="1600" spc="-1" strike="noStrike">
                <a:solidFill>
                  <a:srgbClr val="232825"/>
                </a:solidFill>
                <a:latin typeface="Segoe UI Light"/>
                <a:ea typeface="方正中等线简体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文本框 59"/>
          <p:cNvSpPr/>
          <p:nvPr/>
        </p:nvSpPr>
        <p:spPr>
          <a:xfrm>
            <a:off x="7011360" y="4429080"/>
            <a:ext cx="86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Segoe UI Light"/>
                <a:ea typeface="方正中等线简体"/>
              </a:rPr>
              <a:t>C</a:t>
            </a:r>
            <a:r>
              <a:rPr b="0" lang="zh-CN" sz="2000" spc="-1" strike="noStrike">
                <a:solidFill>
                  <a:srgbClr val="262626"/>
                </a:solidFill>
                <a:latin typeface="Segoe UI Light"/>
                <a:ea typeface="方正中等线简体"/>
              </a:rPr>
              <a:t>型角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文本框 63"/>
          <p:cNvSpPr/>
          <p:nvPr/>
        </p:nvSpPr>
        <p:spPr>
          <a:xfrm>
            <a:off x="6936480" y="4968720"/>
            <a:ext cx="100044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Segoe UI Light"/>
                <a:ea typeface="方正中等线简体"/>
              </a:rPr>
              <a:t>借助</a:t>
            </a:r>
            <a:r>
              <a:rPr b="0" lang="en-US" sz="1600" spc="-1" strike="noStrike">
                <a:solidFill>
                  <a:srgbClr val="262626"/>
                </a:solidFill>
                <a:latin typeface="Segoe UI Light"/>
                <a:ea typeface="方正中等线简体"/>
              </a:rPr>
              <a:t>PPT</a:t>
            </a:r>
            <a:r>
              <a:rPr b="0" lang="zh-CN" sz="1600" spc="-1" strike="noStrike">
                <a:solidFill>
                  <a:srgbClr val="262626"/>
                </a:solidFill>
                <a:latin typeface="Segoe UI Light"/>
                <a:ea typeface="方正中等线简体"/>
              </a:rPr>
              <a:t>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Segoe UI Light"/>
                <a:ea typeface="方正中等线简体"/>
              </a:rPr>
              <a:t>可以让工作效率提升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矩形 68"/>
          <p:cNvSpPr/>
          <p:nvPr/>
        </p:nvSpPr>
        <p:spPr>
          <a:xfrm rot="21413400">
            <a:off x="9432720" y="4586040"/>
            <a:ext cx="739800" cy="218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Oval 5563"/>
          <p:cNvSpPr/>
          <p:nvPr/>
        </p:nvSpPr>
        <p:spPr>
          <a:xfrm>
            <a:off x="9091440" y="2847960"/>
            <a:ext cx="395640" cy="385920"/>
          </a:xfrm>
          <a:prstGeom prst="ellipse">
            <a:avLst/>
          </a:prstGeom>
          <a:solidFill>
            <a:srgbClr val="232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Freeform 5564"/>
          <p:cNvSpPr/>
          <p:nvPr/>
        </p:nvSpPr>
        <p:spPr>
          <a:xfrm>
            <a:off x="9317160" y="2284560"/>
            <a:ext cx="425160" cy="426960"/>
          </a:xfrm>
          <a:custGeom>
            <a:avLst/>
            <a:gdLst/>
            <a:ahLst/>
            <a:rect l="l" t="t" r="r" b="b"/>
            <a:pathLst>
              <a:path w="43" h="43">
                <a:moveTo>
                  <a:pt x="35" y="36"/>
                </a:moveTo>
                <a:cubicBezTo>
                  <a:pt x="28" y="43"/>
                  <a:pt x="15" y="43"/>
                  <a:pt x="7" y="36"/>
                </a:cubicBezTo>
                <a:cubicBezTo>
                  <a:pt x="0" y="28"/>
                  <a:pt x="0" y="15"/>
                  <a:pt x="7" y="8"/>
                </a:cubicBezTo>
                <a:cubicBezTo>
                  <a:pt x="15" y="0"/>
                  <a:pt x="28" y="0"/>
                  <a:pt x="35" y="8"/>
                </a:cubicBezTo>
                <a:cubicBezTo>
                  <a:pt x="43" y="15"/>
                  <a:pt x="43" y="28"/>
                  <a:pt x="35" y="36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Oval 5565"/>
          <p:cNvSpPr/>
          <p:nvPr/>
        </p:nvSpPr>
        <p:spPr>
          <a:xfrm>
            <a:off x="9890280" y="2087640"/>
            <a:ext cx="388800" cy="3952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Freeform 5566"/>
          <p:cNvSpPr/>
          <p:nvPr/>
        </p:nvSpPr>
        <p:spPr>
          <a:xfrm>
            <a:off x="10417320" y="2317680"/>
            <a:ext cx="425160" cy="420840"/>
          </a:xfrm>
          <a:custGeom>
            <a:avLst/>
            <a:gdLst/>
            <a:ahLst/>
            <a:rect l="l" t="t" r="r" b="b"/>
            <a:pathLst>
              <a:path w="43" h="43">
                <a:moveTo>
                  <a:pt x="7" y="35"/>
                </a:moveTo>
                <a:cubicBezTo>
                  <a:pt x="0" y="28"/>
                  <a:pt x="0" y="15"/>
                  <a:pt x="7" y="7"/>
                </a:cubicBezTo>
                <a:cubicBezTo>
                  <a:pt x="15" y="0"/>
                  <a:pt x="28" y="0"/>
                  <a:pt x="35" y="7"/>
                </a:cubicBezTo>
                <a:cubicBezTo>
                  <a:pt x="43" y="15"/>
                  <a:pt x="43" y="28"/>
                  <a:pt x="35" y="35"/>
                </a:cubicBezTo>
                <a:cubicBezTo>
                  <a:pt x="28" y="43"/>
                  <a:pt x="15" y="43"/>
                  <a:pt x="7" y="35"/>
                </a:cubicBezTo>
                <a:close/>
              </a:path>
            </a:pathLst>
          </a:custGeom>
          <a:solidFill>
            <a:srgbClr val="232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Oval 5567"/>
          <p:cNvSpPr/>
          <p:nvPr/>
        </p:nvSpPr>
        <p:spPr>
          <a:xfrm>
            <a:off x="10640880" y="2889360"/>
            <a:ext cx="398520" cy="385560"/>
          </a:xfrm>
          <a:prstGeom prst="ellipse">
            <a:avLst/>
          </a:prstGeom>
          <a:solidFill>
            <a:srgbClr val="232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Freeform 5568"/>
          <p:cNvSpPr/>
          <p:nvPr/>
        </p:nvSpPr>
        <p:spPr>
          <a:xfrm>
            <a:off x="10383840" y="3411360"/>
            <a:ext cx="426960" cy="427320"/>
          </a:xfrm>
          <a:custGeom>
            <a:avLst/>
            <a:gdLst/>
            <a:ahLst/>
            <a:rect l="l" t="t" r="r" b="b"/>
            <a:pathLst>
              <a:path w="43" h="43">
                <a:moveTo>
                  <a:pt x="8" y="8"/>
                </a:moveTo>
                <a:cubicBezTo>
                  <a:pt x="15" y="0"/>
                  <a:pt x="28" y="0"/>
                  <a:pt x="36" y="8"/>
                </a:cubicBezTo>
                <a:cubicBezTo>
                  <a:pt x="43" y="15"/>
                  <a:pt x="43" y="28"/>
                  <a:pt x="36" y="35"/>
                </a:cubicBezTo>
                <a:cubicBezTo>
                  <a:pt x="28" y="43"/>
                  <a:pt x="15" y="43"/>
                  <a:pt x="8" y="35"/>
                </a:cubicBezTo>
                <a:cubicBezTo>
                  <a:pt x="0" y="28"/>
                  <a:pt x="0" y="15"/>
                  <a:pt x="8" y="8"/>
                </a:cubicBezTo>
                <a:close/>
              </a:path>
            </a:pathLst>
          </a:custGeom>
          <a:solidFill>
            <a:srgbClr val="232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Oval 5569"/>
          <p:cNvSpPr/>
          <p:nvPr/>
        </p:nvSpPr>
        <p:spPr>
          <a:xfrm>
            <a:off x="9852120" y="3641760"/>
            <a:ext cx="385560" cy="393840"/>
          </a:xfrm>
          <a:prstGeom prst="ellipse">
            <a:avLst/>
          </a:prstGeom>
          <a:solidFill>
            <a:srgbClr val="232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Freeform 5570"/>
          <p:cNvSpPr/>
          <p:nvPr/>
        </p:nvSpPr>
        <p:spPr>
          <a:xfrm>
            <a:off x="9290160" y="3384720"/>
            <a:ext cx="425520" cy="425160"/>
          </a:xfrm>
          <a:custGeom>
            <a:avLst/>
            <a:gdLst/>
            <a:ahLst/>
            <a:rect l="l" t="t" r="r" b="b"/>
            <a:pathLst>
              <a:path w="43" h="43">
                <a:moveTo>
                  <a:pt x="35" y="8"/>
                </a:moveTo>
                <a:cubicBezTo>
                  <a:pt x="43" y="15"/>
                  <a:pt x="43" y="28"/>
                  <a:pt x="35" y="36"/>
                </a:cubicBezTo>
                <a:cubicBezTo>
                  <a:pt x="28" y="43"/>
                  <a:pt x="15" y="43"/>
                  <a:pt x="8" y="36"/>
                </a:cubicBezTo>
                <a:cubicBezTo>
                  <a:pt x="0" y="28"/>
                  <a:pt x="0" y="15"/>
                  <a:pt x="8" y="8"/>
                </a:cubicBezTo>
                <a:cubicBezTo>
                  <a:pt x="15" y="0"/>
                  <a:pt x="28" y="0"/>
                  <a:pt x="35" y="8"/>
                </a:cubicBezTo>
                <a:close/>
              </a:path>
            </a:pathLst>
          </a:custGeom>
          <a:solidFill>
            <a:srgbClr val="232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文本框 23"/>
          <p:cNvSpPr/>
          <p:nvPr/>
        </p:nvSpPr>
        <p:spPr>
          <a:xfrm>
            <a:off x="9774360" y="2859120"/>
            <a:ext cx="64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825"/>
                </a:solidFill>
                <a:latin typeface="Segoe UI Light"/>
                <a:ea typeface="方正中等线简体"/>
              </a:rPr>
              <a:t>25</a:t>
            </a:r>
            <a:r>
              <a:rPr b="0" lang="en-US" sz="1600" spc="-1" strike="noStrike">
                <a:solidFill>
                  <a:srgbClr val="232825"/>
                </a:solidFill>
                <a:latin typeface="Segoe UI Light"/>
                <a:ea typeface="方正中等线简体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文本框 60"/>
          <p:cNvSpPr/>
          <p:nvPr/>
        </p:nvSpPr>
        <p:spPr>
          <a:xfrm>
            <a:off x="9608040" y="4429080"/>
            <a:ext cx="8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Segoe UI Light"/>
                <a:ea typeface="方正中等线简体"/>
              </a:rPr>
              <a:t>D</a:t>
            </a:r>
            <a:r>
              <a:rPr b="0" lang="zh-CN" sz="2000" spc="-1" strike="noStrike">
                <a:solidFill>
                  <a:srgbClr val="262626"/>
                </a:solidFill>
                <a:latin typeface="Segoe UI Light"/>
                <a:ea typeface="方正中等线简体"/>
              </a:rPr>
              <a:t>型角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文本框 64"/>
          <p:cNvSpPr/>
          <p:nvPr/>
        </p:nvSpPr>
        <p:spPr>
          <a:xfrm>
            <a:off x="9689400" y="4968720"/>
            <a:ext cx="79020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Segoe UI Light"/>
                <a:ea typeface="方正中等线简体"/>
              </a:rPr>
              <a:t>偶尔用用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Segoe UI Light"/>
                <a:ea typeface="方正中等线简体"/>
              </a:rPr>
              <a:t>多是用模版完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文本框 69"/>
          <p:cNvSpPr/>
          <p:nvPr/>
        </p:nvSpPr>
        <p:spPr>
          <a:xfrm>
            <a:off x="5955120" y="6283440"/>
            <a:ext cx="27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Segoe UI Light"/>
                <a:ea typeface="方正中等线简体"/>
              </a:rPr>
              <a:t>注：该页用于展示该模版的使用时的排版方式，具体使用时请替换文字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矩形 161"/>
          <p:cNvSpPr/>
          <p:nvPr/>
        </p:nvSpPr>
        <p:spPr>
          <a:xfrm rot="21413400">
            <a:off x="4559040" y="2680920"/>
            <a:ext cx="3117600" cy="198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矩形 12"/>
          <p:cNvSpPr/>
          <p:nvPr/>
        </p:nvSpPr>
        <p:spPr>
          <a:xfrm>
            <a:off x="0" y="1440"/>
            <a:ext cx="12192120" cy="460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矩形 14"/>
          <p:cNvSpPr/>
          <p:nvPr/>
        </p:nvSpPr>
        <p:spPr>
          <a:xfrm>
            <a:off x="0" y="6811920"/>
            <a:ext cx="12192120" cy="4608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5675"/>
          <p:cNvSpPr/>
          <p:nvPr/>
        </p:nvSpPr>
        <p:spPr>
          <a:xfrm>
            <a:off x="3228840" y="4038480"/>
            <a:ext cx="812880" cy="812880"/>
          </a:xfrm>
          <a:prstGeom prst="rect">
            <a:avLst/>
          </a:prstGeom>
          <a:solidFill>
            <a:srgbClr val="232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5676"/>
          <p:cNvSpPr/>
          <p:nvPr/>
        </p:nvSpPr>
        <p:spPr>
          <a:xfrm>
            <a:off x="3228840" y="3238560"/>
            <a:ext cx="812880" cy="799920"/>
          </a:xfrm>
          <a:prstGeom prst="rect">
            <a:avLst/>
          </a:prstGeom>
          <a:solidFill>
            <a:srgbClr val="232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5677"/>
          <p:cNvSpPr/>
          <p:nvPr/>
        </p:nvSpPr>
        <p:spPr>
          <a:xfrm>
            <a:off x="3228840" y="2436840"/>
            <a:ext cx="812880" cy="801720"/>
          </a:xfrm>
          <a:prstGeom prst="rect">
            <a:avLst/>
          </a:prstGeom>
          <a:solidFill>
            <a:srgbClr val="232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5678"/>
          <p:cNvSpPr/>
          <p:nvPr/>
        </p:nvSpPr>
        <p:spPr>
          <a:xfrm rot="427200">
            <a:off x="3435480" y="1440000"/>
            <a:ext cx="812520" cy="812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5679"/>
          <p:cNvSpPr/>
          <p:nvPr/>
        </p:nvSpPr>
        <p:spPr>
          <a:xfrm>
            <a:off x="2428920" y="4038480"/>
            <a:ext cx="799920" cy="812880"/>
          </a:xfrm>
          <a:prstGeom prst="rect">
            <a:avLst/>
          </a:prstGeom>
          <a:solidFill>
            <a:srgbClr val="232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5680"/>
          <p:cNvSpPr/>
          <p:nvPr/>
        </p:nvSpPr>
        <p:spPr>
          <a:xfrm>
            <a:off x="2428920" y="3238560"/>
            <a:ext cx="799920" cy="799920"/>
          </a:xfrm>
          <a:prstGeom prst="rect">
            <a:avLst/>
          </a:prstGeom>
          <a:solidFill>
            <a:srgbClr val="232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5681"/>
          <p:cNvSpPr/>
          <p:nvPr/>
        </p:nvSpPr>
        <p:spPr>
          <a:xfrm>
            <a:off x="2428920" y="2436840"/>
            <a:ext cx="799920" cy="801720"/>
          </a:xfrm>
          <a:prstGeom prst="rect">
            <a:avLst/>
          </a:prstGeom>
          <a:solidFill>
            <a:srgbClr val="232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5682"/>
          <p:cNvSpPr/>
          <p:nvPr/>
        </p:nvSpPr>
        <p:spPr>
          <a:xfrm>
            <a:off x="2428920" y="1623960"/>
            <a:ext cx="799920" cy="812880"/>
          </a:xfrm>
          <a:prstGeom prst="rect">
            <a:avLst/>
          </a:prstGeom>
          <a:solidFill>
            <a:srgbClr val="232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5683"/>
          <p:cNvSpPr/>
          <p:nvPr/>
        </p:nvSpPr>
        <p:spPr>
          <a:xfrm>
            <a:off x="1616040" y="4038480"/>
            <a:ext cx="812880" cy="812880"/>
          </a:xfrm>
          <a:prstGeom prst="rect">
            <a:avLst/>
          </a:prstGeom>
          <a:solidFill>
            <a:srgbClr val="232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5684"/>
          <p:cNvSpPr/>
          <p:nvPr/>
        </p:nvSpPr>
        <p:spPr>
          <a:xfrm>
            <a:off x="1616040" y="3238560"/>
            <a:ext cx="812880" cy="799920"/>
          </a:xfrm>
          <a:prstGeom prst="rect">
            <a:avLst/>
          </a:prstGeom>
          <a:solidFill>
            <a:srgbClr val="232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5685"/>
          <p:cNvSpPr/>
          <p:nvPr/>
        </p:nvSpPr>
        <p:spPr>
          <a:xfrm>
            <a:off x="1616040" y="2436840"/>
            <a:ext cx="812880" cy="801720"/>
          </a:xfrm>
          <a:prstGeom prst="rect">
            <a:avLst/>
          </a:prstGeom>
          <a:solidFill>
            <a:srgbClr val="232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5686"/>
          <p:cNvSpPr/>
          <p:nvPr/>
        </p:nvSpPr>
        <p:spPr>
          <a:xfrm>
            <a:off x="1616040" y="1623960"/>
            <a:ext cx="812880" cy="812880"/>
          </a:xfrm>
          <a:prstGeom prst="rect">
            <a:avLst/>
          </a:prstGeom>
          <a:solidFill>
            <a:srgbClr val="232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5687"/>
          <p:cNvSpPr/>
          <p:nvPr/>
        </p:nvSpPr>
        <p:spPr>
          <a:xfrm>
            <a:off x="814320" y="4038480"/>
            <a:ext cx="801720" cy="812880"/>
          </a:xfrm>
          <a:prstGeom prst="rect">
            <a:avLst/>
          </a:prstGeom>
          <a:solidFill>
            <a:srgbClr val="232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5688"/>
          <p:cNvSpPr/>
          <p:nvPr/>
        </p:nvSpPr>
        <p:spPr>
          <a:xfrm>
            <a:off x="814320" y="3238560"/>
            <a:ext cx="801720" cy="799920"/>
          </a:xfrm>
          <a:prstGeom prst="rect">
            <a:avLst/>
          </a:prstGeom>
          <a:solidFill>
            <a:srgbClr val="232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5689"/>
          <p:cNvSpPr/>
          <p:nvPr/>
        </p:nvSpPr>
        <p:spPr>
          <a:xfrm>
            <a:off x="814320" y="2436840"/>
            <a:ext cx="801720" cy="801720"/>
          </a:xfrm>
          <a:prstGeom prst="rect">
            <a:avLst/>
          </a:prstGeom>
          <a:solidFill>
            <a:srgbClr val="232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5690"/>
          <p:cNvSpPr/>
          <p:nvPr/>
        </p:nvSpPr>
        <p:spPr>
          <a:xfrm>
            <a:off x="814320" y="1623960"/>
            <a:ext cx="801720" cy="812880"/>
          </a:xfrm>
          <a:prstGeom prst="rect">
            <a:avLst/>
          </a:prstGeom>
          <a:solidFill>
            <a:srgbClr val="232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5692"/>
          <p:cNvSpPr/>
          <p:nvPr/>
        </p:nvSpPr>
        <p:spPr>
          <a:xfrm>
            <a:off x="814320" y="4017960"/>
            <a:ext cx="3227400" cy="5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5693"/>
          <p:cNvSpPr/>
          <p:nvPr/>
        </p:nvSpPr>
        <p:spPr>
          <a:xfrm>
            <a:off x="814320" y="3216240"/>
            <a:ext cx="3227400" cy="4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5694"/>
          <p:cNvSpPr/>
          <p:nvPr/>
        </p:nvSpPr>
        <p:spPr>
          <a:xfrm>
            <a:off x="814320" y="2403360"/>
            <a:ext cx="3227400" cy="5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5695"/>
          <p:cNvSpPr/>
          <p:nvPr/>
        </p:nvSpPr>
        <p:spPr>
          <a:xfrm>
            <a:off x="3206880" y="1623960"/>
            <a:ext cx="44280" cy="322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5696"/>
          <p:cNvSpPr/>
          <p:nvPr/>
        </p:nvSpPr>
        <p:spPr>
          <a:xfrm>
            <a:off x="2406600" y="1623960"/>
            <a:ext cx="42840" cy="322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5697"/>
          <p:cNvSpPr/>
          <p:nvPr/>
        </p:nvSpPr>
        <p:spPr>
          <a:xfrm>
            <a:off x="1593720" y="1623960"/>
            <a:ext cx="54000" cy="322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矩形 3"/>
          <p:cNvSpPr/>
          <p:nvPr/>
        </p:nvSpPr>
        <p:spPr>
          <a:xfrm>
            <a:off x="4557600" y="3051000"/>
            <a:ext cx="6793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PowerPoint</a:t>
            </a:r>
            <a:r>
              <a:rPr b="0" lang="zh-CN" sz="20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分开来说就是“有能量的观点”，所以没必要让它复杂累赘，简洁大方是它的“立身之本”。初学者难免喜欢将各种新技巧堆砌到</a:t>
            </a:r>
            <a:r>
              <a:rPr b="0" lang="en-US" sz="20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中，结果成品没有统一风格，观者也在胡乱的排版中找不到“</a:t>
            </a:r>
            <a:r>
              <a:rPr b="0" lang="en-US" sz="20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PowerPoint”</a:t>
            </a:r>
            <a:r>
              <a:rPr b="0" lang="zh-CN" sz="20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矩形 4"/>
          <p:cNvSpPr/>
          <p:nvPr/>
        </p:nvSpPr>
        <p:spPr>
          <a:xfrm>
            <a:off x="5142600" y="243684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版式</a:t>
            </a:r>
            <a:r>
              <a:rPr b="0" lang="en-US" sz="28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简洁大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文本框 28"/>
          <p:cNvSpPr/>
          <p:nvPr/>
        </p:nvSpPr>
        <p:spPr>
          <a:xfrm>
            <a:off x="5955120" y="6283440"/>
            <a:ext cx="27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Segoe UI Light"/>
                <a:ea typeface="方正中等线简体"/>
              </a:rPr>
              <a:t>注：该页用于展示该模版的使用时的排版方式，具体使用时请替换文字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矩形 12"/>
          <p:cNvSpPr/>
          <p:nvPr/>
        </p:nvSpPr>
        <p:spPr>
          <a:xfrm>
            <a:off x="0" y="1440"/>
            <a:ext cx="12192120" cy="460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矩形 14"/>
          <p:cNvSpPr/>
          <p:nvPr/>
        </p:nvSpPr>
        <p:spPr>
          <a:xfrm>
            <a:off x="0" y="6811920"/>
            <a:ext cx="12192120" cy="4608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5" name="组合 2"/>
          <p:cNvGrpSpPr/>
          <p:nvPr/>
        </p:nvGrpSpPr>
        <p:grpSpPr>
          <a:xfrm>
            <a:off x="709560" y="552600"/>
            <a:ext cx="9009720" cy="4741560"/>
            <a:chOff x="709560" y="552600"/>
            <a:chExt cx="9009720" cy="4741560"/>
          </a:xfrm>
        </p:grpSpPr>
        <p:sp>
          <p:nvSpPr>
            <p:cNvPr id="646" name="矩形 68"/>
            <p:cNvSpPr/>
            <p:nvPr/>
          </p:nvSpPr>
          <p:spPr>
            <a:xfrm rot="21413400">
              <a:off x="714960" y="650520"/>
              <a:ext cx="920520" cy="22860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Rectangle 2"/>
            <p:cNvSpPr/>
            <p:nvPr/>
          </p:nvSpPr>
          <p:spPr>
            <a:xfrm>
              <a:off x="741600" y="1107000"/>
              <a:ext cx="1235160" cy="131760"/>
            </a:xfrm>
            <a:prstGeom prst="rect">
              <a:avLst/>
            </a:prstGeom>
            <a:solidFill>
              <a:srgbClr val="232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6480" rIns="186480" tIns="-17280" bIns="-1728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Right Triangle 9"/>
            <p:cNvSpPr/>
            <p:nvPr/>
          </p:nvSpPr>
          <p:spPr>
            <a:xfrm flipH="1" flipV="1" rot="10800000">
              <a:off x="1975680" y="557280"/>
              <a:ext cx="676440" cy="681120"/>
            </a:xfrm>
            <a:prstGeom prst="rtTriangle">
              <a:avLst/>
            </a:prstGeom>
            <a:solidFill>
              <a:srgbClr val="232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Rectangle 10"/>
            <p:cNvSpPr/>
            <p:nvPr/>
          </p:nvSpPr>
          <p:spPr>
            <a:xfrm>
              <a:off x="709560" y="709200"/>
              <a:ext cx="1370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32825"/>
                  </a:solidFill>
                  <a:latin typeface="Segoe UI Light"/>
                  <a:ea typeface="方正中等线简体"/>
                </a:rPr>
                <a:t>19:00-21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Rectangle 13"/>
            <p:cNvSpPr/>
            <p:nvPr/>
          </p:nvSpPr>
          <p:spPr>
            <a:xfrm>
              <a:off x="2803320" y="1107000"/>
              <a:ext cx="1235160" cy="131760"/>
            </a:xfrm>
            <a:prstGeom prst="rect">
              <a:avLst/>
            </a:prstGeom>
            <a:solidFill>
              <a:srgbClr val="232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6480" rIns="186480" tIns="-17280" bIns="-1728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Right Triangle 14"/>
            <p:cNvSpPr/>
            <p:nvPr/>
          </p:nvSpPr>
          <p:spPr>
            <a:xfrm flipH="1" flipV="1" rot="10800000">
              <a:off x="4037760" y="557280"/>
              <a:ext cx="676440" cy="681120"/>
            </a:xfrm>
            <a:prstGeom prst="rtTriangle">
              <a:avLst/>
            </a:prstGeom>
            <a:solidFill>
              <a:srgbClr val="232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Rectangle 17"/>
            <p:cNvSpPr/>
            <p:nvPr/>
          </p:nvSpPr>
          <p:spPr>
            <a:xfrm>
              <a:off x="4865400" y="1107000"/>
              <a:ext cx="1235160" cy="131760"/>
            </a:xfrm>
            <a:prstGeom prst="rect">
              <a:avLst/>
            </a:prstGeom>
            <a:solidFill>
              <a:srgbClr val="232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6480" rIns="186480" tIns="-17280" bIns="-1728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Right Triangle 18"/>
            <p:cNvSpPr/>
            <p:nvPr/>
          </p:nvSpPr>
          <p:spPr>
            <a:xfrm flipH="1" flipV="1" rot="10800000">
              <a:off x="6099480" y="557280"/>
              <a:ext cx="676440" cy="681120"/>
            </a:xfrm>
            <a:prstGeom prst="rtTriangle">
              <a:avLst/>
            </a:prstGeom>
            <a:solidFill>
              <a:srgbClr val="232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Rectangle 21"/>
            <p:cNvSpPr/>
            <p:nvPr/>
          </p:nvSpPr>
          <p:spPr>
            <a:xfrm>
              <a:off x="7753680" y="1107000"/>
              <a:ext cx="1235160" cy="131760"/>
            </a:xfrm>
            <a:prstGeom prst="rect">
              <a:avLst/>
            </a:prstGeom>
            <a:solidFill>
              <a:srgbClr val="232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6480" rIns="186480" tIns="-17280" bIns="-1728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Right Triangle 22"/>
            <p:cNvSpPr/>
            <p:nvPr/>
          </p:nvSpPr>
          <p:spPr>
            <a:xfrm flipH="1" flipV="1" rot="10800000">
              <a:off x="8988120" y="557280"/>
              <a:ext cx="676440" cy="681120"/>
            </a:xfrm>
            <a:prstGeom prst="rtTriangle">
              <a:avLst/>
            </a:prstGeom>
            <a:solidFill>
              <a:srgbClr val="232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Chevron 28"/>
            <p:cNvSpPr/>
            <p:nvPr/>
          </p:nvSpPr>
          <p:spPr>
            <a:xfrm flipH="1" flipV="1" rot="10800000">
              <a:off x="6926040" y="552600"/>
              <a:ext cx="676440" cy="681120"/>
            </a:xfrm>
            <a:custGeom>
              <a:avLst/>
              <a:gdLst>
                <a:gd name="textAreaLeft" fmla="*/ -360 w 676440"/>
                <a:gd name="textAreaRight" fmla="*/ 676440 w 676440"/>
                <a:gd name="textAreaTop" fmla="*/ 360 h 681120"/>
                <a:gd name="textAreaBottom" fmla="*/ 681840 h 68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7" name="Picture 68" descr="C:\Users\mflorida.REDMOND\AppData\Local\Microsoft\Windows\Temporary Internet Files\Content.Outlook\CJ3SCPD3\SysCnt12-ConfigMgr_h_rgb_r.png"/>
            <p:cNvPicPr/>
            <p:nvPr/>
          </p:nvPicPr>
          <p:blipFill>
            <a:blip r:embed="rId1">
              <a:biLevel thresh="50000"/>
            </a:blip>
            <a:stretch/>
          </p:blipFill>
          <p:spPr>
            <a:xfrm>
              <a:off x="7714080" y="1370160"/>
              <a:ext cx="1653480" cy="43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Rectangle 4"/>
            <p:cNvSpPr/>
            <p:nvPr/>
          </p:nvSpPr>
          <p:spPr>
            <a:xfrm>
              <a:off x="9272160" y="1599480"/>
              <a:ext cx="447120" cy="25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P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9" name="组合 43"/>
            <p:cNvGrpSpPr/>
            <p:nvPr/>
          </p:nvGrpSpPr>
          <p:grpSpPr>
            <a:xfrm>
              <a:off x="741600" y="1329840"/>
              <a:ext cx="1911960" cy="1321200"/>
              <a:chOff x="741600" y="1329840"/>
              <a:chExt cx="1911960" cy="1321200"/>
            </a:xfrm>
          </p:grpSpPr>
          <p:grpSp>
            <p:nvGrpSpPr>
              <p:cNvPr id="660" name="Group 3"/>
              <p:cNvGrpSpPr/>
              <p:nvPr/>
            </p:nvGrpSpPr>
            <p:grpSpPr>
              <a:xfrm>
                <a:off x="741600" y="1329840"/>
                <a:ext cx="1911960" cy="1321200"/>
                <a:chOff x="741600" y="1329840"/>
                <a:chExt cx="1911960" cy="1321200"/>
              </a:xfrm>
            </p:grpSpPr>
            <p:sp>
              <p:nvSpPr>
                <p:cNvPr id="661" name="Rectangle 30"/>
                <p:cNvSpPr/>
                <p:nvPr/>
              </p:nvSpPr>
              <p:spPr>
                <a:xfrm>
                  <a:off x="741600" y="1329840"/>
                  <a:ext cx="1911960" cy="1321200"/>
                </a:xfrm>
                <a:prstGeom prst="rect">
                  <a:avLst/>
                </a:prstGeom>
                <a:solidFill>
                  <a:srgbClr val="ffc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240" rIns="93240" tIns="93240" bIns="93240" anchor="b">
                  <a:noAutofit/>
                </a:bodyPr>
                <a:p>
                  <a:pPr marL="120600" indent="-120600">
                    <a:lnSpc>
                      <a:spcPct val="90000"/>
                    </a:lnSpc>
                    <a:spcAft>
                      <a:spcPts val="612"/>
                    </a:spcAft>
                    <a:buClr>
                      <a:srgbClr val="ffffff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Rectangle 46"/>
                <p:cNvSpPr/>
                <p:nvPr/>
              </p:nvSpPr>
              <p:spPr>
                <a:xfrm>
                  <a:off x="741600" y="1329840"/>
                  <a:ext cx="1911960" cy="487440"/>
                </a:xfrm>
                <a:prstGeom prst="rect">
                  <a:avLst/>
                </a:prstGeom>
                <a:solidFill>
                  <a:srgbClr val="23282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240" rIns="93240" tIns="93240" bIns="93240" anchor="b">
                  <a:noAutofit/>
                </a:bodyPr>
                <a:p>
                  <a:pPr>
                    <a:lnSpc>
                      <a:spcPct val="90000"/>
                    </a:lnSpc>
                    <a:spcAft>
                      <a:spcPts val="612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3" name="矩形 45"/>
              <p:cNvSpPr/>
              <p:nvPr/>
            </p:nvSpPr>
            <p:spPr>
              <a:xfrm>
                <a:off x="808560" y="1365120"/>
                <a:ext cx="832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Segoe UI Light"/>
                    <a:ea typeface="方正中等线简体"/>
                  </a:rPr>
                  <a:t>阶段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egoe UI Light"/>
                    <a:ea typeface="方正中等线简体"/>
                  </a:rPr>
                  <a:t>1.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矩形 46"/>
              <p:cNvSpPr/>
              <p:nvPr/>
            </p:nvSpPr>
            <p:spPr>
              <a:xfrm>
                <a:off x="977760" y="1884600"/>
                <a:ext cx="866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232825"/>
                    </a:solidFill>
                    <a:latin typeface="Segoe UI Light"/>
                    <a:ea typeface="方正中等线简体"/>
                  </a:rPr>
                  <a:t>断开网络，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232825"/>
                    </a:solidFill>
                    <a:latin typeface="Segoe UI Light"/>
                    <a:ea typeface="方正中等线简体"/>
                  </a:rPr>
                  <a:t>拒绝干扰。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5" name="组合 49"/>
            <p:cNvGrpSpPr/>
            <p:nvPr/>
          </p:nvGrpSpPr>
          <p:grpSpPr>
            <a:xfrm>
              <a:off x="2803320" y="2651400"/>
              <a:ext cx="1911960" cy="1321200"/>
              <a:chOff x="2803320" y="2651400"/>
              <a:chExt cx="1911960" cy="1321200"/>
            </a:xfrm>
          </p:grpSpPr>
          <p:grpSp>
            <p:nvGrpSpPr>
              <p:cNvPr id="666" name="Group 3"/>
              <p:cNvGrpSpPr/>
              <p:nvPr/>
            </p:nvGrpSpPr>
            <p:grpSpPr>
              <a:xfrm>
                <a:off x="2803320" y="2651400"/>
                <a:ext cx="1911960" cy="1321200"/>
                <a:chOff x="2803320" y="2651400"/>
                <a:chExt cx="1911960" cy="1321200"/>
              </a:xfrm>
            </p:grpSpPr>
            <p:sp>
              <p:nvSpPr>
                <p:cNvPr id="667" name="Rectangle 30"/>
                <p:cNvSpPr/>
                <p:nvPr/>
              </p:nvSpPr>
              <p:spPr>
                <a:xfrm>
                  <a:off x="2803320" y="2651400"/>
                  <a:ext cx="1911960" cy="1321200"/>
                </a:xfrm>
                <a:prstGeom prst="rect">
                  <a:avLst/>
                </a:prstGeom>
                <a:solidFill>
                  <a:srgbClr val="ffc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240" rIns="93240" tIns="93240" bIns="93240" anchor="b">
                  <a:noAutofit/>
                </a:bodyPr>
                <a:p>
                  <a:pPr marL="120600" indent="-120600">
                    <a:lnSpc>
                      <a:spcPct val="90000"/>
                    </a:lnSpc>
                    <a:spcAft>
                      <a:spcPts val="612"/>
                    </a:spcAft>
                    <a:buClr>
                      <a:srgbClr val="ffffff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Rectangle 46"/>
                <p:cNvSpPr/>
                <p:nvPr/>
              </p:nvSpPr>
              <p:spPr>
                <a:xfrm>
                  <a:off x="2803320" y="2651400"/>
                  <a:ext cx="1911960" cy="487440"/>
                </a:xfrm>
                <a:prstGeom prst="rect">
                  <a:avLst/>
                </a:prstGeom>
                <a:solidFill>
                  <a:srgbClr val="23282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240" rIns="93240" tIns="93240" bIns="93240" anchor="b">
                  <a:noAutofit/>
                </a:bodyPr>
                <a:p>
                  <a:pPr>
                    <a:lnSpc>
                      <a:spcPct val="90000"/>
                    </a:lnSpc>
                    <a:spcAft>
                      <a:spcPts val="612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9" name="矩形 51"/>
              <p:cNvSpPr/>
              <p:nvPr/>
            </p:nvSpPr>
            <p:spPr>
              <a:xfrm>
                <a:off x="2870280" y="2686680"/>
                <a:ext cx="832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Segoe UI Light"/>
                    <a:ea typeface="方正中等线简体"/>
                  </a:rPr>
                  <a:t>阶段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egoe UI Light"/>
                    <a:ea typeface="方正中等线简体"/>
                  </a:rPr>
                  <a:t>1.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矩形 52"/>
              <p:cNvSpPr/>
              <p:nvPr/>
            </p:nvSpPr>
            <p:spPr>
              <a:xfrm>
                <a:off x="3133080" y="3206160"/>
                <a:ext cx="1140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232825"/>
                    </a:solidFill>
                    <a:latin typeface="Segoe UI Light"/>
                    <a:ea typeface="方正中等线简体"/>
                  </a:rPr>
                  <a:t>提取精华内容，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232825"/>
                    </a:solidFill>
                    <a:latin typeface="Segoe UI Light"/>
                    <a:ea typeface="方正中等线简体"/>
                  </a:rPr>
                  <a:t>注明放入部分。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1" name="组合 55"/>
            <p:cNvGrpSpPr/>
            <p:nvPr/>
          </p:nvGrpSpPr>
          <p:grpSpPr>
            <a:xfrm>
              <a:off x="4865400" y="3972960"/>
              <a:ext cx="1911960" cy="1321200"/>
              <a:chOff x="4865400" y="3972960"/>
              <a:chExt cx="1911960" cy="1321200"/>
            </a:xfrm>
          </p:grpSpPr>
          <p:grpSp>
            <p:nvGrpSpPr>
              <p:cNvPr id="672" name="Group 3"/>
              <p:cNvGrpSpPr/>
              <p:nvPr/>
            </p:nvGrpSpPr>
            <p:grpSpPr>
              <a:xfrm>
                <a:off x="4865400" y="3972960"/>
                <a:ext cx="1911960" cy="1321200"/>
                <a:chOff x="4865400" y="3972960"/>
                <a:chExt cx="1911960" cy="1321200"/>
              </a:xfrm>
            </p:grpSpPr>
            <p:sp>
              <p:nvSpPr>
                <p:cNvPr id="673" name="Rectangle 30"/>
                <p:cNvSpPr/>
                <p:nvPr/>
              </p:nvSpPr>
              <p:spPr>
                <a:xfrm>
                  <a:off x="4865400" y="3972960"/>
                  <a:ext cx="1911960" cy="1321200"/>
                </a:xfrm>
                <a:prstGeom prst="rect">
                  <a:avLst/>
                </a:prstGeom>
                <a:solidFill>
                  <a:srgbClr val="ffc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240" rIns="93240" tIns="93240" bIns="93240" anchor="b">
                  <a:noAutofit/>
                </a:bodyPr>
                <a:p>
                  <a:pPr marL="120600" indent="-120600">
                    <a:lnSpc>
                      <a:spcPct val="90000"/>
                    </a:lnSpc>
                    <a:spcAft>
                      <a:spcPts val="612"/>
                    </a:spcAft>
                    <a:buClr>
                      <a:srgbClr val="ffffff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4" name="Rectangle 46"/>
                <p:cNvSpPr/>
                <p:nvPr/>
              </p:nvSpPr>
              <p:spPr>
                <a:xfrm>
                  <a:off x="4865400" y="3972960"/>
                  <a:ext cx="1911960" cy="487440"/>
                </a:xfrm>
                <a:prstGeom prst="rect">
                  <a:avLst/>
                </a:prstGeom>
                <a:solidFill>
                  <a:srgbClr val="23282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240" rIns="93240" tIns="93240" bIns="93240" anchor="b">
                  <a:noAutofit/>
                </a:bodyPr>
                <a:p>
                  <a:pPr>
                    <a:lnSpc>
                      <a:spcPct val="90000"/>
                    </a:lnSpc>
                    <a:spcAft>
                      <a:spcPts val="612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5" name="矩形 57"/>
              <p:cNvSpPr/>
              <p:nvPr/>
            </p:nvSpPr>
            <p:spPr>
              <a:xfrm>
                <a:off x="4932360" y="4008240"/>
                <a:ext cx="832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Segoe UI Light"/>
                    <a:ea typeface="方正中等线简体"/>
                  </a:rPr>
                  <a:t>阶段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egoe UI Light"/>
                    <a:ea typeface="方正中等线简体"/>
                  </a:rPr>
                  <a:t>1.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矩形 58"/>
              <p:cNvSpPr/>
              <p:nvPr/>
            </p:nvSpPr>
            <p:spPr>
              <a:xfrm>
                <a:off x="5101560" y="4527720"/>
                <a:ext cx="866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232825"/>
                    </a:solidFill>
                    <a:latin typeface="Segoe UI Light"/>
                    <a:ea typeface="方正中等线简体"/>
                  </a:rPr>
                  <a:t>搭建骨架，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232825"/>
                    </a:solidFill>
                    <a:latin typeface="Segoe UI Light"/>
                    <a:ea typeface="方正中等线简体"/>
                  </a:rPr>
                  <a:t>建立结构。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7" name="组合 61"/>
            <p:cNvGrpSpPr/>
            <p:nvPr/>
          </p:nvGrpSpPr>
          <p:grpSpPr>
            <a:xfrm>
              <a:off x="7753680" y="1365120"/>
              <a:ext cx="1911960" cy="1321200"/>
              <a:chOff x="7753680" y="1365120"/>
              <a:chExt cx="1911960" cy="1321200"/>
            </a:xfrm>
          </p:grpSpPr>
          <p:grpSp>
            <p:nvGrpSpPr>
              <p:cNvPr id="678" name="Group 3"/>
              <p:cNvGrpSpPr/>
              <p:nvPr/>
            </p:nvGrpSpPr>
            <p:grpSpPr>
              <a:xfrm>
                <a:off x="7753680" y="1365120"/>
                <a:ext cx="1911960" cy="1321200"/>
                <a:chOff x="7753680" y="1365120"/>
                <a:chExt cx="1911960" cy="1321200"/>
              </a:xfrm>
            </p:grpSpPr>
            <p:sp>
              <p:nvSpPr>
                <p:cNvPr id="679" name="Rectangle 30"/>
                <p:cNvSpPr/>
                <p:nvPr/>
              </p:nvSpPr>
              <p:spPr>
                <a:xfrm>
                  <a:off x="7753680" y="1365120"/>
                  <a:ext cx="1911960" cy="1321200"/>
                </a:xfrm>
                <a:prstGeom prst="rect">
                  <a:avLst/>
                </a:prstGeom>
                <a:solidFill>
                  <a:srgbClr val="ffc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240" rIns="93240" tIns="93240" bIns="93240" anchor="b">
                  <a:noAutofit/>
                </a:bodyPr>
                <a:p>
                  <a:pPr marL="120600" indent="-120600">
                    <a:lnSpc>
                      <a:spcPct val="90000"/>
                    </a:lnSpc>
                    <a:spcAft>
                      <a:spcPts val="612"/>
                    </a:spcAft>
                    <a:buClr>
                      <a:srgbClr val="ffffff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Rectangle 46"/>
                <p:cNvSpPr/>
                <p:nvPr/>
              </p:nvSpPr>
              <p:spPr>
                <a:xfrm>
                  <a:off x="7753680" y="1365120"/>
                  <a:ext cx="1911960" cy="487440"/>
                </a:xfrm>
                <a:prstGeom prst="rect">
                  <a:avLst/>
                </a:prstGeom>
                <a:solidFill>
                  <a:srgbClr val="23282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240" rIns="93240" tIns="93240" bIns="93240" anchor="b">
                  <a:noAutofit/>
                </a:bodyPr>
                <a:p>
                  <a:pPr>
                    <a:lnSpc>
                      <a:spcPct val="90000"/>
                    </a:lnSpc>
                    <a:spcAft>
                      <a:spcPts val="612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1" name="矩形 63"/>
              <p:cNvSpPr/>
              <p:nvPr/>
            </p:nvSpPr>
            <p:spPr>
              <a:xfrm>
                <a:off x="7820640" y="1400400"/>
                <a:ext cx="640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Segoe UI Light"/>
                    <a:ea typeface="方正中等线简体"/>
                  </a:rPr>
                  <a:t>阶段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egoe UI Light"/>
                    <a:ea typeface="方正中等线简体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矩形 64"/>
              <p:cNvSpPr/>
              <p:nvPr/>
            </p:nvSpPr>
            <p:spPr>
              <a:xfrm>
                <a:off x="7989840" y="1919880"/>
                <a:ext cx="866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232825"/>
                    </a:solidFill>
                    <a:latin typeface="Segoe UI Light"/>
                    <a:ea typeface="方正中等线简体"/>
                  </a:rPr>
                  <a:t>集中精力，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232825"/>
                    </a:solidFill>
                    <a:latin typeface="Segoe UI Light"/>
                    <a:ea typeface="方正中等线简体"/>
                  </a:rPr>
                  <a:t>正式制作。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3" name="矩形 69"/>
            <p:cNvSpPr/>
            <p:nvPr/>
          </p:nvSpPr>
          <p:spPr>
            <a:xfrm rot="21413400">
              <a:off x="2808720" y="650520"/>
              <a:ext cx="920520" cy="22860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Rectangle 10"/>
            <p:cNvSpPr/>
            <p:nvPr/>
          </p:nvSpPr>
          <p:spPr>
            <a:xfrm>
              <a:off x="2803320" y="709200"/>
              <a:ext cx="1370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32825"/>
                  </a:solidFill>
                  <a:latin typeface="Segoe UI Light"/>
                  <a:ea typeface="方正中等线简体"/>
                </a:rPr>
                <a:t>21:00-22: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矩形 71"/>
            <p:cNvSpPr/>
            <p:nvPr/>
          </p:nvSpPr>
          <p:spPr>
            <a:xfrm rot="21413400">
              <a:off x="4861800" y="650520"/>
              <a:ext cx="920520" cy="22860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Rectangle 10"/>
            <p:cNvSpPr/>
            <p:nvPr/>
          </p:nvSpPr>
          <p:spPr>
            <a:xfrm>
              <a:off x="4856400" y="709200"/>
              <a:ext cx="1370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32825"/>
                  </a:solidFill>
                  <a:latin typeface="Segoe UI Light"/>
                  <a:ea typeface="方正中等线简体"/>
                </a:rPr>
                <a:t>22:30-23: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矩形 73"/>
            <p:cNvSpPr/>
            <p:nvPr/>
          </p:nvSpPr>
          <p:spPr>
            <a:xfrm rot="21413400">
              <a:off x="7752600" y="650520"/>
              <a:ext cx="920520" cy="22860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Rectangle 10"/>
            <p:cNvSpPr/>
            <p:nvPr/>
          </p:nvSpPr>
          <p:spPr>
            <a:xfrm>
              <a:off x="7747200" y="709200"/>
              <a:ext cx="1370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32825"/>
                  </a:solidFill>
                  <a:latin typeface="Segoe UI Light"/>
                  <a:ea typeface="方正中等线简体"/>
                </a:rPr>
                <a:t>23:10-02: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9" name="组合 5"/>
          <p:cNvGrpSpPr/>
          <p:nvPr/>
        </p:nvGrpSpPr>
        <p:grpSpPr>
          <a:xfrm>
            <a:off x="7782480" y="3940200"/>
            <a:ext cx="3386520" cy="520560"/>
            <a:chOff x="7782480" y="3940200"/>
            <a:chExt cx="3386520" cy="520560"/>
          </a:xfrm>
        </p:grpSpPr>
        <p:sp>
          <p:nvSpPr>
            <p:cNvPr id="690" name="矩形 76"/>
            <p:cNvSpPr/>
            <p:nvPr/>
          </p:nvSpPr>
          <p:spPr>
            <a:xfrm rot="21413400">
              <a:off x="7784640" y="4143600"/>
              <a:ext cx="3381480" cy="18216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文本框 77"/>
            <p:cNvSpPr/>
            <p:nvPr/>
          </p:nvSpPr>
          <p:spPr>
            <a:xfrm>
              <a:off x="8321760" y="3940200"/>
              <a:ext cx="2400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Segoe UI Light"/>
                  <a:ea typeface="方正中等线简体"/>
                </a:rPr>
                <a:t>一次</a:t>
              </a:r>
              <a:r>
                <a:rPr b="0" lang="en-US" sz="2800" spc="-1" strike="noStrike">
                  <a:solidFill>
                    <a:srgbClr val="000000"/>
                  </a:solidFill>
                  <a:latin typeface="Segoe UI Light"/>
                  <a:ea typeface="方正中等线简体"/>
                </a:rPr>
                <a:t>PPT</a:t>
              </a:r>
              <a:r>
                <a:rPr b="0" lang="zh-CN" sz="2800" spc="-1" strike="noStrike">
                  <a:solidFill>
                    <a:srgbClr val="000000"/>
                  </a:solidFill>
                  <a:latin typeface="Segoe UI Light"/>
                  <a:ea typeface="方正中等线简体"/>
                </a:rPr>
                <a:t>制作全过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2" name="矩形 79"/>
          <p:cNvSpPr/>
          <p:nvPr/>
        </p:nvSpPr>
        <p:spPr>
          <a:xfrm>
            <a:off x="7763040" y="4479840"/>
            <a:ext cx="3689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制作过程中，最重要的是对文稿有整体把握，这就要做到避开干扰，提取精华内容。之后的一切，便是水到渠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文本框 67"/>
          <p:cNvSpPr/>
          <p:nvPr/>
        </p:nvSpPr>
        <p:spPr>
          <a:xfrm>
            <a:off x="5955120" y="6283440"/>
            <a:ext cx="27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Segoe UI Light"/>
                <a:ea typeface="方正中等线简体"/>
              </a:rPr>
              <a:t>注：该页用于展示该模版的使用时的排版方式，具体使用时请替换文字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矩形 12"/>
          <p:cNvSpPr/>
          <p:nvPr/>
        </p:nvSpPr>
        <p:spPr>
          <a:xfrm>
            <a:off x="0" y="1440"/>
            <a:ext cx="12192120" cy="460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矩形 14"/>
          <p:cNvSpPr/>
          <p:nvPr/>
        </p:nvSpPr>
        <p:spPr>
          <a:xfrm>
            <a:off x="0" y="6811920"/>
            <a:ext cx="12192120" cy="4608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6" name="组合 5"/>
          <p:cNvGrpSpPr/>
          <p:nvPr/>
        </p:nvGrpSpPr>
        <p:grpSpPr>
          <a:xfrm>
            <a:off x="6007680" y="1511280"/>
            <a:ext cx="3386520" cy="520560"/>
            <a:chOff x="6007680" y="1511280"/>
            <a:chExt cx="3386520" cy="520560"/>
          </a:xfrm>
        </p:grpSpPr>
        <p:sp>
          <p:nvSpPr>
            <p:cNvPr id="697" name="矩形 76"/>
            <p:cNvSpPr/>
            <p:nvPr/>
          </p:nvSpPr>
          <p:spPr>
            <a:xfrm rot="21413400">
              <a:off x="6009840" y="1714680"/>
              <a:ext cx="3381480" cy="18216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文本框 77"/>
            <p:cNvSpPr/>
            <p:nvPr/>
          </p:nvSpPr>
          <p:spPr>
            <a:xfrm>
              <a:off x="6768360" y="1511280"/>
              <a:ext cx="210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Segoe UI Light"/>
                  <a:ea typeface="方正中等线简体"/>
                </a:rPr>
                <a:t>这个饼图的操作方法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9" name="矩形 79"/>
          <p:cNvSpPr/>
          <p:nvPr/>
        </p:nvSpPr>
        <p:spPr>
          <a:xfrm>
            <a:off x="5987880" y="2050920"/>
            <a:ext cx="4623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将鼠标移到图表位置，点击右键，选择</a:t>
            </a:r>
            <a:r>
              <a:rPr b="0" lang="en-US" sz="18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编辑数据</a:t>
            </a:r>
            <a:r>
              <a:rPr b="0" lang="en-US" sz="18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，改变对应的数据，即可对该饼图进行操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文本框 67"/>
          <p:cNvSpPr/>
          <p:nvPr/>
        </p:nvSpPr>
        <p:spPr>
          <a:xfrm>
            <a:off x="5955120" y="6283440"/>
            <a:ext cx="27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Segoe UI Light"/>
                <a:ea typeface="方正中等线简体"/>
              </a:rPr>
              <a:t>注：该页用于展示该模版的使用时的排版方式，具体使用时请替换文字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1" name="组合 3"/>
          <p:cNvGrpSpPr/>
          <p:nvPr/>
        </p:nvGrpSpPr>
        <p:grpSpPr>
          <a:xfrm>
            <a:off x="646200" y="766800"/>
            <a:ext cx="4973400" cy="4797360"/>
            <a:chOff x="646200" y="766800"/>
            <a:chExt cx="4973400" cy="4797360"/>
          </a:xfrm>
        </p:grpSpPr>
        <p:pic>
          <p:nvPicPr>
            <p:cNvPr id="702" name="图表 78" descr=""/>
            <p:cNvPicPr/>
            <p:nvPr/>
          </p:nvPicPr>
          <p:blipFill>
            <a:blip r:embed="rId1"/>
            <a:stretch/>
          </p:blipFill>
          <p:spPr>
            <a:xfrm>
              <a:off x="646200" y="766800"/>
              <a:ext cx="4973400" cy="4797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03" name="组合 1"/>
            <p:cNvGrpSpPr/>
            <p:nvPr/>
          </p:nvGrpSpPr>
          <p:grpSpPr>
            <a:xfrm>
              <a:off x="943560" y="1456200"/>
              <a:ext cx="4137120" cy="3237480"/>
              <a:chOff x="943560" y="1456200"/>
              <a:chExt cx="4137120" cy="3237480"/>
            </a:xfrm>
          </p:grpSpPr>
          <p:sp>
            <p:nvSpPr>
              <p:cNvPr id="704" name="椭圆 81"/>
              <p:cNvSpPr/>
              <p:nvPr/>
            </p:nvSpPr>
            <p:spPr>
              <a:xfrm>
                <a:off x="4614480" y="2804400"/>
                <a:ext cx="466200" cy="466200"/>
              </a:xfrm>
              <a:prstGeom prst="ellipse">
                <a:avLst/>
              </a:prstGeom>
              <a:solidFill>
                <a:srgbClr val="ffc000"/>
              </a:solidFill>
              <a:ln w="381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Segoe UI Light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椭圆 82"/>
              <p:cNvSpPr/>
              <p:nvPr/>
            </p:nvSpPr>
            <p:spPr>
              <a:xfrm>
                <a:off x="1625400" y="4227480"/>
                <a:ext cx="466200" cy="466200"/>
              </a:xfrm>
              <a:prstGeom prst="ellipse">
                <a:avLst/>
              </a:prstGeom>
              <a:solidFill>
                <a:srgbClr val="0c0c0c"/>
              </a:solidFill>
              <a:ln w="381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Segoe UI Light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椭圆 83"/>
              <p:cNvSpPr/>
              <p:nvPr/>
            </p:nvSpPr>
            <p:spPr>
              <a:xfrm>
                <a:off x="1707120" y="1456200"/>
                <a:ext cx="466200" cy="466200"/>
              </a:xfrm>
              <a:prstGeom prst="ellipse">
                <a:avLst/>
              </a:prstGeom>
              <a:solidFill>
                <a:srgbClr val="bfbfbf"/>
              </a:solidFill>
              <a:ln w="381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Segoe UI Light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椭圆 84"/>
              <p:cNvSpPr/>
              <p:nvPr/>
            </p:nvSpPr>
            <p:spPr>
              <a:xfrm>
                <a:off x="1007640" y="2412720"/>
                <a:ext cx="466200" cy="466200"/>
              </a:xfrm>
              <a:prstGeom prst="ellipse">
                <a:avLst/>
              </a:prstGeom>
              <a:solidFill>
                <a:srgbClr val="7f7f7f"/>
              </a:solidFill>
              <a:ln w="381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Segoe UI Light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椭圆 85"/>
              <p:cNvSpPr/>
              <p:nvPr/>
            </p:nvSpPr>
            <p:spPr>
              <a:xfrm>
                <a:off x="943560" y="3196080"/>
                <a:ext cx="466200" cy="466200"/>
              </a:xfrm>
              <a:prstGeom prst="ellipse">
                <a:avLst/>
              </a:prstGeom>
              <a:solidFill>
                <a:srgbClr val="404040"/>
              </a:solidFill>
              <a:ln w="381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Segoe UI Light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09" name="组合 96"/>
              <p:cNvGrpSpPr/>
              <p:nvPr/>
            </p:nvGrpSpPr>
            <p:grpSpPr>
              <a:xfrm>
                <a:off x="1595520" y="1665000"/>
                <a:ext cx="2892240" cy="2892600"/>
                <a:chOff x="1595520" y="1665000"/>
                <a:chExt cx="2892240" cy="2892600"/>
              </a:xfrm>
            </p:grpSpPr>
            <p:sp>
              <p:nvSpPr>
                <p:cNvPr id="710" name="椭圆 97"/>
                <p:cNvSpPr/>
                <p:nvPr/>
              </p:nvSpPr>
              <p:spPr>
                <a:xfrm>
                  <a:off x="1925640" y="1995120"/>
                  <a:ext cx="2232000" cy="22320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椭圆 98"/>
                <p:cNvSpPr/>
                <p:nvPr/>
              </p:nvSpPr>
              <p:spPr>
                <a:xfrm>
                  <a:off x="1595520" y="1665000"/>
                  <a:ext cx="2892240" cy="2892600"/>
                </a:xfrm>
                <a:prstGeom prst="ellipse">
                  <a:avLst/>
                </a:prstGeom>
                <a:solidFill>
                  <a:srgbClr val="ffffff">
                    <a:alpha val="3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12" name="组合 8"/>
          <p:cNvGrpSpPr/>
          <p:nvPr/>
        </p:nvGrpSpPr>
        <p:grpSpPr>
          <a:xfrm>
            <a:off x="6365880" y="3727440"/>
            <a:ext cx="3713400" cy="903960"/>
            <a:chOff x="6365880" y="3727440"/>
            <a:chExt cx="3713400" cy="903960"/>
          </a:xfrm>
        </p:grpSpPr>
        <p:sp>
          <p:nvSpPr>
            <p:cNvPr id="713" name="椭圆 99"/>
            <p:cNvSpPr/>
            <p:nvPr/>
          </p:nvSpPr>
          <p:spPr>
            <a:xfrm>
              <a:off x="6365880" y="3727440"/>
              <a:ext cx="359640" cy="360000"/>
            </a:xfrm>
            <a:prstGeom prst="ellipse">
              <a:avLst/>
            </a:prstGeom>
            <a:solidFill>
              <a:srgbClr val="ffc000"/>
            </a:solidFill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egoe UI Light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文本框 4"/>
            <p:cNvSpPr/>
            <p:nvPr/>
          </p:nvSpPr>
          <p:spPr>
            <a:xfrm>
              <a:off x="6959160" y="374256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Segoe UI Light"/>
                  <a:ea typeface="方正中等线简体"/>
                </a:rPr>
                <a:t>项目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椭圆 100"/>
            <p:cNvSpPr/>
            <p:nvPr/>
          </p:nvSpPr>
          <p:spPr>
            <a:xfrm>
              <a:off x="7675200" y="3727440"/>
              <a:ext cx="359640" cy="360000"/>
            </a:xfrm>
            <a:prstGeom prst="ellipse">
              <a:avLst/>
            </a:prstGeom>
            <a:solidFill>
              <a:srgbClr val="bfbfbf"/>
            </a:solidFill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egoe UI Light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文本框 101"/>
            <p:cNvSpPr/>
            <p:nvPr/>
          </p:nvSpPr>
          <p:spPr>
            <a:xfrm>
              <a:off x="8177400" y="374256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Segoe UI Light"/>
                  <a:ea typeface="方正中等线简体"/>
                </a:rPr>
                <a:t>项目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椭圆 102"/>
            <p:cNvSpPr/>
            <p:nvPr/>
          </p:nvSpPr>
          <p:spPr>
            <a:xfrm>
              <a:off x="8984880" y="3727440"/>
              <a:ext cx="359640" cy="360000"/>
            </a:xfrm>
            <a:prstGeom prst="ellipse">
              <a:avLst/>
            </a:prstGeom>
            <a:solidFill>
              <a:srgbClr val="7f7f7f"/>
            </a:solidFill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egoe UI Light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文本框 103"/>
            <p:cNvSpPr/>
            <p:nvPr/>
          </p:nvSpPr>
          <p:spPr>
            <a:xfrm>
              <a:off x="9487080" y="374256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Segoe UI Light"/>
                  <a:ea typeface="方正中等线简体"/>
                </a:rPr>
                <a:t>项目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椭圆 104"/>
            <p:cNvSpPr/>
            <p:nvPr/>
          </p:nvSpPr>
          <p:spPr>
            <a:xfrm>
              <a:off x="6365880" y="4247640"/>
              <a:ext cx="359640" cy="360000"/>
            </a:xfrm>
            <a:prstGeom prst="ellipse">
              <a:avLst/>
            </a:prstGeom>
            <a:solidFill>
              <a:srgbClr val="404040"/>
            </a:solidFill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egoe UI Light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文本框 105"/>
            <p:cNvSpPr/>
            <p:nvPr/>
          </p:nvSpPr>
          <p:spPr>
            <a:xfrm>
              <a:off x="6867720" y="426312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Segoe UI Light"/>
                  <a:ea typeface="方正中等线简体"/>
                </a:rPr>
                <a:t>项目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椭圆 106"/>
            <p:cNvSpPr/>
            <p:nvPr/>
          </p:nvSpPr>
          <p:spPr>
            <a:xfrm>
              <a:off x="7675200" y="4247640"/>
              <a:ext cx="359640" cy="360000"/>
            </a:xfrm>
            <a:prstGeom prst="ellipse">
              <a:avLst/>
            </a:prstGeom>
            <a:solidFill>
              <a:srgbClr val="0d0d0d"/>
            </a:solidFill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egoe UI Light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文本框 107"/>
            <p:cNvSpPr/>
            <p:nvPr/>
          </p:nvSpPr>
          <p:spPr>
            <a:xfrm>
              <a:off x="8177400" y="426312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Segoe UI Light"/>
                  <a:ea typeface="方正中等线简体"/>
                </a:rPr>
                <a:t>项目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3" name="直接连接符 7"/>
          <p:cNvSpPr/>
          <p:nvPr/>
        </p:nvSpPr>
        <p:spPr>
          <a:xfrm>
            <a:off x="6016680" y="3511440"/>
            <a:ext cx="4433760" cy="180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直接连接符 110"/>
          <p:cNvSpPr/>
          <p:nvPr/>
        </p:nvSpPr>
        <p:spPr>
          <a:xfrm>
            <a:off x="6016680" y="4848120"/>
            <a:ext cx="443376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5" name="组合 1"/>
          <p:cNvGrpSpPr/>
          <p:nvPr/>
        </p:nvGrpSpPr>
        <p:grpSpPr>
          <a:xfrm>
            <a:off x="1557360" y="2073240"/>
            <a:ext cx="9077400" cy="1287360"/>
            <a:chOff x="1557360" y="2073240"/>
            <a:chExt cx="9077400" cy="1287360"/>
          </a:xfrm>
        </p:grpSpPr>
        <p:grpSp>
          <p:nvGrpSpPr>
            <p:cNvPr id="726" name="组合 2"/>
            <p:cNvGrpSpPr/>
            <p:nvPr/>
          </p:nvGrpSpPr>
          <p:grpSpPr>
            <a:xfrm>
              <a:off x="1557360" y="2073240"/>
              <a:ext cx="1288440" cy="1287360"/>
              <a:chOff x="1557360" y="2073240"/>
              <a:chExt cx="1288440" cy="1287360"/>
            </a:xfrm>
          </p:grpSpPr>
          <p:grpSp>
            <p:nvGrpSpPr>
              <p:cNvPr id="727" name="组合 33"/>
              <p:cNvGrpSpPr/>
              <p:nvPr/>
            </p:nvGrpSpPr>
            <p:grpSpPr>
              <a:xfrm>
                <a:off x="1557360" y="2073240"/>
                <a:ext cx="1288440" cy="1287360"/>
                <a:chOff x="1557360" y="2073240"/>
                <a:chExt cx="1288440" cy="1287360"/>
              </a:xfrm>
            </p:grpSpPr>
            <p:sp>
              <p:nvSpPr>
                <p:cNvPr id="728" name="椭圆 36"/>
                <p:cNvSpPr/>
                <p:nvPr/>
              </p:nvSpPr>
              <p:spPr>
                <a:xfrm>
                  <a:off x="1557360" y="2073240"/>
                  <a:ext cx="1288440" cy="1287360"/>
                </a:xfrm>
                <a:prstGeom prst="ellipse">
                  <a:avLst/>
                </a:prstGeom>
                <a:solidFill>
                  <a:srgbClr val="ffc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" name="直接连接符 37"/>
                <p:cNvSpPr/>
                <p:nvPr/>
              </p:nvSpPr>
              <p:spPr>
                <a:xfrm flipV="1">
                  <a:off x="1746000" y="2261160"/>
                  <a:ext cx="911160" cy="91044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0" name="文本框 34"/>
              <p:cNvSpPr/>
              <p:nvPr/>
            </p:nvSpPr>
            <p:spPr>
              <a:xfrm>
                <a:off x="2175840" y="2800800"/>
                <a:ext cx="503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Segoe UI Light"/>
                    <a:ea typeface="方正中等线简体"/>
                  </a:rPr>
                  <a:t>类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Segoe UI Light"/>
                    <a:ea typeface="方正中等线简体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文本框 35"/>
              <p:cNvSpPr/>
              <p:nvPr/>
            </p:nvSpPr>
            <p:spPr>
              <a:xfrm>
                <a:off x="1640520" y="2234160"/>
                <a:ext cx="680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Segoe UI Light"/>
                    <a:ea typeface="方正中等线简体"/>
                  </a:rPr>
                  <a:t>4.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2" name="组合 3"/>
            <p:cNvGrpSpPr/>
            <p:nvPr/>
          </p:nvGrpSpPr>
          <p:grpSpPr>
            <a:xfrm>
              <a:off x="3115080" y="2073240"/>
              <a:ext cx="1288440" cy="1287360"/>
              <a:chOff x="3115080" y="2073240"/>
              <a:chExt cx="1288440" cy="1287360"/>
            </a:xfrm>
          </p:grpSpPr>
          <p:grpSp>
            <p:nvGrpSpPr>
              <p:cNvPr id="733" name="组合 28"/>
              <p:cNvGrpSpPr/>
              <p:nvPr/>
            </p:nvGrpSpPr>
            <p:grpSpPr>
              <a:xfrm>
                <a:off x="3115080" y="2073240"/>
                <a:ext cx="1288440" cy="1287360"/>
                <a:chOff x="3115080" y="2073240"/>
                <a:chExt cx="1288440" cy="1287360"/>
              </a:xfrm>
            </p:grpSpPr>
            <p:sp>
              <p:nvSpPr>
                <p:cNvPr id="734" name="椭圆 31"/>
                <p:cNvSpPr/>
                <p:nvPr/>
              </p:nvSpPr>
              <p:spPr>
                <a:xfrm>
                  <a:off x="3115080" y="2073240"/>
                  <a:ext cx="1288440" cy="1287360"/>
                </a:xfrm>
                <a:prstGeom prst="ellipse">
                  <a:avLst/>
                </a:prstGeom>
                <a:solidFill>
                  <a:srgbClr val="23282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5" name="直接连接符 32"/>
                <p:cNvSpPr/>
                <p:nvPr/>
              </p:nvSpPr>
              <p:spPr>
                <a:xfrm flipV="1">
                  <a:off x="3303720" y="2261160"/>
                  <a:ext cx="911160" cy="91044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6" name="文本框 29"/>
              <p:cNvSpPr/>
              <p:nvPr/>
            </p:nvSpPr>
            <p:spPr>
              <a:xfrm>
                <a:off x="3733560" y="2800800"/>
                <a:ext cx="503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Segoe UI Light"/>
                    <a:ea typeface="方正中等线简体"/>
                  </a:rPr>
                  <a:t>类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egoe UI Light"/>
                    <a:ea typeface="方正中等线简体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文本框 30"/>
              <p:cNvSpPr/>
              <p:nvPr/>
            </p:nvSpPr>
            <p:spPr>
              <a:xfrm>
                <a:off x="3198240" y="2234160"/>
                <a:ext cx="680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Segoe UI Light"/>
                    <a:ea typeface="方正中等线简体"/>
                  </a:rPr>
                  <a:t>2.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8" name="组合 4"/>
            <p:cNvGrpSpPr/>
            <p:nvPr/>
          </p:nvGrpSpPr>
          <p:grpSpPr>
            <a:xfrm>
              <a:off x="4672800" y="2073240"/>
              <a:ext cx="1288440" cy="1287360"/>
              <a:chOff x="4672800" y="2073240"/>
              <a:chExt cx="1288440" cy="1287360"/>
            </a:xfrm>
          </p:grpSpPr>
          <p:grpSp>
            <p:nvGrpSpPr>
              <p:cNvPr id="739" name="组合 23"/>
              <p:cNvGrpSpPr/>
              <p:nvPr/>
            </p:nvGrpSpPr>
            <p:grpSpPr>
              <a:xfrm>
                <a:off x="4672800" y="2073240"/>
                <a:ext cx="1288440" cy="1287360"/>
                <a:chOff x="4672800" y="2073240"/>
                <a:chExt cx="1288440" cy="1287360"/>
              </a:xfrm>
            </p:grpSpPr>
            <p:sp>
              <p:nvSpPr>
                <p:cNvPr id="740" name="椭圆 26"/>
                <p:cNvSpPr/>
                <p:nvPr/>
              </p:nvSpPr>
              <p:spPr>
                <a:xfrm>
                  <a:off x="4672800" y="2073240"/>
                  <a:ext cx="1288440" cy="1287360"/>
                </a:xfrm>
                <a:prstGeom prst="ellipse">
                  <a:avLst/>
                </a:prstGeom>
                <a:solidFill>
                  <a:srgbClr val="23282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直接连接符 27"/>
                <p:cNvSpPr/>
                <p:nvPr/>
              </p:nvSpPr>
              <p:spPr>
                <a:xfrm flipV="1">
                  <a:off x="4861440" y="2261160"/>
                  <a:ext cx="911160" cy="91044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2" name="文本框 24"/>
              <p:cNvSpPr/>
              <p:nvPr/>
            </p:nvSpPr>
            <p:spPr>
              <a:xfrm>
                <a:off x="5291280" y="2800800"/>
                <a:ext cx="503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Segoe UI Light"/>
                    <a:ea typeface="方正中等线简体"/>
                  </a:rPr>
                  <a:t>类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egoe UI Light"/>
                    <a:ea typeface="方正中等线简体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文本框 25"/>
              <p:cNvSpPr/>
              <p:nvPr/>
            </p:nvSpPr>
            <p:spPr>
              <a:xfrm>
                <a:off x="4755960" y="2234160"/>
                <a:ext cx="680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Segoe UI Light"/>
                    <a:ea typeface="方正中等线简体"/>
                  </a:rPr>
                  <a:t>3.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4" name="组合 5"/>
            <p:cNvGrpSpPr/>
            <p:nvPr/>
          </p:nvGrpSpPr>
          <p:grpSpPr>
            <a:xfrm>
              <a:off x="6230520" y="2073240"/>
              <a:ext cx="1288440" cy="1287360"/>
              <a:chOff x="6230520" y="2073240"/>
              <a:chExt cx="1288440" cy="1287360"/>
            </a:xfrm>
          </p:grpSpPr>
          <p:grpSp>
            <p:nvGrpSpPr>
              <p:cNvPr id="745" name="组合 18"/>
              <p:cNvGrpSpPr/>
              <p:nvPr/>
            </p:nvGrpSpPr>
            <p:grpSpPr>
              <a:xfrm>
                <a:off x="6230520" y="2073240"/>
                <a:ext cx="1288440" cy="1287360"/>
                <a:chOff x="6230520" y="2073240"/>
                <a:chExt cx="1288440" cy="1287360"/>
              </a:xfrm>
            </p:grpSpPr>
            <p:sp>
              <p:nvSpPr>
                <p:cNvPr id="746" name="椭圆 21"/>
                <p:cNvSpPr/>
                <p:nvPr/>
              </p:nvSpPr>
              <p:spPr>
                <a:xfrm>
                  <a:off x="6230520" y="2073240"/>
                  <a:ext cx="1288440" cy="1287360"/>
                </a:xfrm>
                <a:prstGeom prst="ellipse">
                  <a:avLst/>
                </a:prstGeom>
                <a:solidFill>
                  <a:srgbClr val="23282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直接连接符 22"/>
                <p:cNvSpPr/>
                <p:nvPr/>
              </p:nvSpPr>
              <p:spPr>
                <a:xfrm flipV="1">
                  <a:off x="6419160" y="2261160"/>
                  <a:ext cx="911160" cy="91044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8" name="文本框 19"/>
              <p:cNvSpPr/>
              <p:nvPr/>
            </p:nvSpPr>
            <p:spPr>
              <a:xfrm>
                <a:off x="6849000" y="2800800"/>
                <a:ext cx="503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Segoe UI Light"/>
                    <a:ea typeface="方正中等线简体"/>
                  </a:rPr>
                  <a:t>类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egoe UI Light"/>
                    <a:ea typeface="方正中等线简体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文本框 20"/>
              <p:cNvSpPr/>
              <p:nvPr/>
            </p:nvSpPr>
            <p:spPr>
              <a:xfrm>
                <a:off x="6313680" y="2234160"/>
                <a:ext cx="680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Segoe UI Light"/>
                    <a:ea typeface="方正中等线简体"/>
                  </a:rPr>
                  <a:t>4.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0" name="组合 6"/>
            <p:cNvGrpSpPr/>
            <p:nvPr/>
          </p:nvGrpSpPr>
          <p:grpSpPr>
            <a:xfrm>
              <a:off x="7788600" y="2073240"/>
              <a:ext cx="1288440" cy="1287360"/>
              <a:chOff x="7788600" y="2073240"/>
              <a:chExt cx="1288440" cy="1287360"/>
            </a:xfrm>
          </p:grpSpPr>
          <p:grpSp>
            <p:nvGrpSpPr>
              <p:cNvPr id="751" name="组合 13"/>
              <p:cNvGrpSpPr/>
              <p:nvPr/>
            </p:nvGrpSpPr>
            <p:grpSpPr>
              <a:xfrm>
                <a:off x="7788600" y="2073240"/>
                <a:ext cx="1288440" cy="1287360"/>
                <a:chOff x="7788600" y="2073240"/>
                <a:chExt cx="1288440" cy="1287360"/>
              </a:xfrm>
            </p:grpSpPr>
            <p:sp>
              <p:nvSpPr>
                <p:cNvPr id="752" name="椭圆 16"/>
                <p:cNvSpPr/>
                <p:nvPr/>
              </p:nvSpPr>
              <p:spPr>
                <a:xfrm>
                  <a:off x="7788600" y="2073240"/>
                  <a:ext cx="1288440" cy="1287360"/>
                </a:xfrm>
                <a:prstGeom prst="ellipse">
                  <a:avLst/>
                </a:prstGeom>
                <a:solidFill>
                  <a:srgbClr val="23282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3" name="直接连接符 17"/>
                <p:cNvSpPr/>
                <p:nvPr/>
              </p:nvSpPr>
              <p:spPr>
                <a:xfrm flipV="1">
                  <a:off x="7977240" y="2261160"/>
                  <a:ext cx="911160" cy="91044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4" name="文本框 14"/>
              <p:cNvSpPr/>
              <p:nvPr/>
            </p:nvSpPr>
            <p:spPr>
              <a:xfrm>
                <a:off x="8407080" y="2800800"/>
                <a:ext cx="503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Segoe UI Light"/>
                    <a:ea typeface="方正中等线简体"/>
                  </a:rPr>
                  <a:t>类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egoe UI Light"/>
                    <a:ea typeface="方正中等线简体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文本框 15"/>
              <p:cNvSpPr/>
              <p:nvPr/>
            </p:nvSpPr>
            <p:spPr>
              <a:xfrm>
                <a:off x="7871760" y="2234160"/>
                <a:ext cx="680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Segoe UI Light"/>
                    <a:ea typeface="方正中等线简体"/>
                  </a:rPr>
                  <a:t>3.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6" name="组合 7"/>
            <p:cNvGrpSpPr/>
            <p:nvPr/>
          </p:nvGrpSpPr>
          <p:grpSpPr>
            <a:xfrm>
              <a:off x="9346320" y="2073240"/>
              <a:ext cx="1288440" cy="1287360"/>
              <a:chOff x="9346320" y="2073240"/>
              <a:chExt cx="1288440" cy="1287360"/>
            </a:xfrm>
          </p:grpSpPr>
          <p:grpSp>
            <p:nvGrpSpPr>
              <p:cNvPr id="757" name="组合 8"/>
              <p:cNvGrpSpPr/>
              <p:nvPr/>
            </p:nvGrpSpPr>
            <p:grpSpPr>
              <a:xfrm>
                <a:off x="9346320" y="2073240"/>
                <a:ext cx="1288440" cy="1287360"/>
                <a:chOff x="9346320" y="2073240"/>
                <a:chExt cx="1288440" cy="1287360"/>
              </a:xfrm>
            </p:grpSpPr>
            <p:sp>
              <p:nvSpPr>
                <p:cNvPr id="758" name="椭圆 11"/>
                <p:cNvSpPr/>
                <p:nvPr/>
              </p:nvSpPr>
              <p:spPr>
                <a:xfrm>
                  <a:off x="9346320" y="2073240"/>
                  <a:ext cx="1288440" cy="1287360"/>
                </a:xfrm>
                <a:prstGeom prst="ellipse">
                  <a:avLst/>
                </a:prstGeom>
                <a:solidFill>
                  <a:srgbClr val="23282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直接连接符 12"/>
                <p:cNvSpPr/>
                <p:nvPr/>
              </p:nvSpPr>
              <p:spPr>
                <a:xfrm flipV="1">
                  <a:off x="9534960" y="2261160"/>
                  <a:ext cx="911160" cy="91044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0" name="文本框 9"/>
              <p:cNvSpPr/>
              <p:nvPr/>
            </p:nvSpPr>
            <p:spPr>
              <a:xfrm>
                <a:off x="9964800" y="2800800"/>
                <a:ext cx="503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Segoe UI Light"/>
                    <a:ea typeface="方正中等线简体"/>
                  </a:rPr>
                  <a:t>类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egoe UI Light"/>
                    <a:ea typeface="方正中等线简体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文本框 10"/>
              <p:cNvSpPr/>
              <p:nvPr/>
            </p:nvSpPr>
            <p:spPr>
              <a:xfrm>
                <a:off x="9429480" y="2234160"/>
                <a:ext cx="680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Segoe UI Light"/>
                    <a:ea typeface="方正中等线简体"/>
                  </a:rPr>
                  <a:t>4.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62" name="组合 38"/>
          <p:cNvGrpSpPr/>
          <p:nvPr/>
        </p:nvGrpSpPr>
        <p:grpSpPr>
          <a:xfrm>
            <a:off x="1557360" y="4094280"/>
            <a:ext cx="9077400" cy="1288800"/>
            <a:chOff x="1557360" y="4094280"/>
            <a:chExt cx="9077400" cy="1288800"/>
          </a:xfrm>
        </p:grpSpPr>
        <p:grpSp>
          <p:nvGrpSpPr>
            <p:cNvPr id="763" name="组合 39"/>
            <p:cNvGrpSpPr/>
            <p:nvPr/>
          </p:nvGrpSpPr>
          <p:grpSpPr>
            <a:xfrm>
              <a:off x="1557360" y="4094280"/>
              <a:ext cx="1288440" cy="1288800"/>
              <a:chOff x="1557360" y="4094280"/>
              <a:chExt cx="1288440" cy="1288800"/>
            </a:xfrm>
          </p:grpSpPr>
          <p:grpSp>
            <p:nvGrpSpPr>
              <p:cNvPr id="764" name="组合 60"/>
              <p:cNvGrpSpPr/>
              <p:nvPr/>
            </p:nvGrpSpPr>
            <p:grpSpPr>
              <a:xfrm>
                <a:off x="1557360" y="4094280"/>
                <a:ext cx="1288440" cy="1288800"/>
                <a:chOff x="1557360" y="4094280"/>
                <a:chExt cx="1288440" cy="1288800"/>
              </a:xfrm>
            </p:grpSpPr>
            <p:sp>
              <p:nvSpPr>
                <p:cNvPr id="765" name="椭圆 63"/>
                <p:cNvSpPr/>
                <p:nvPr/>
              </p:nvSpPr>
              <p:spPr>
                <a:xfrm>
                  <a:off x="1557360" y="4094280"/>
                  <a:ext cx="1288440" cy="1288800"/>
                </a:xfrm>
                <a:prstGeom prst="ellipse">
                  <a:avLst/>
                </a:prstGeom>
                <a:noFill/>
                <a:ln w="12600">
                  <a:solidFill>
                    <a:srgbClr val="ffc000"/>
                  </a:solidFill>
                  <a:prstDash val="sysDash"/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直接连接符 64"/>
                <p:cNvSpPr/>
                <p:nvPr/>
              </p:nvSpPr>
              <p:spPr>
                <a:xfrm flipV="1">
                  <a:off x="1746000" y="4282920"/>
                  <a:ext cx="911160" cy="91152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7" name="文本框 61"/>
              <p:cNvSpPr/>
              <p:nvPr/>
            </p:nvSpPr>
            <p:spPr>
              <a:xfrm>
                <a:off x="1955520" y="4822560"/>
                <a:ext cx="503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Segoe UI Light"/>
                    <a:ea typeface="方正中等线简体"/>
                  </a:rPr>
                  <a:t>类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Segoe UI Light"/>
                    <a:ea typeface="方正中等线简体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文本框 62"/>
              <p:cNvSpPr/>
              <p:nvPr/>
            </p:nvSpPr>
            <p:spPr>
              <a:xfrm>
                <a:off x="1861200" y="4255560"/>
                <a:ext cx="680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Segoe UI Light"/>
                    <a:ea typeface="方正中等线简体"/>
                  </a:rPr>
                  <a:t>4.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9" name="组合 40"/>
            <p:cNvGrpSpPr/>
            <p:nvPr/>
          </p:nvGrpSpPr>
          <p:grpSpPr>
            <a:xfrm>
              <a:off x="3115080" y="4094280"/>
              <a:ext cx="1288440" cy="1288800"/>
              <a:chOff x="3115080" y="4094280"/>
              <a:chExt cx="1288440" cy="1288800"/>
            </a:xfrm>
          </p:grpSpPr>
          <p:sp>
            <p:nvSpPr>
              <p:cNvPr id="770" name="椭圆 57"/>
              <p:cNvSpPr/>
              <p:nvPr/>
            </p:nvSpPr>
            <p:spPr>
              <a:xfrm>
                <a:off x="3115080" y="4094280"/>
                <a:ext cx="1288440" cy="1288800"/>
              </a:xfrm>
              <a:prstGeom prst="ellipse">
                <a:avLst/>
              </a:prstGeom>
              <a:noFill/>
              <a:ln w="12600">
                <a:solidFill>
                  <a:srgbClr val="232825"/>
                </a:solidFill>
                <a:prstDash val="sys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文本框 58"/>
              <p:cNvSpPr/>
              <p:nvPr/>
            </p:nvSpPr>
            <p:spPr>
              <a:xfrm>
                <a:off x="3507120" y="4822560"/>
                <a:ext cx="503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232825"/>
                    </a:solidFill>
                    <a:latin typeface="Segoe UI Light"/>
                    <a:ea typeface="方正中等线简体"/>
                  </a:rPr>
                  <a:t>类</a:t>
                </a:r>
                <a:r>
                  <a:rPr b="0" lang="en-US" sz="1800" spc="-1" strike="noStrike">
                    <a:solidFill>
                      <a:srgbClr val="232825"/>
                    </a:solidFill>
                    <a:latin typeface="Segoe UI Light"/>
                    <a:ea typeface="方正中等线简体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文本框 59"/>
              <p:cNvSpPr/>
              <p:nvPr/>
            </p:nvSpPr>
            <p:spPr>
              <a:xfrm>
                <a:off x="3418920" y="4255560"/>
                <a:ext cx="680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232825"/>
                    </a:solidFill>
                    <a:latin typeface="Segoe UI Light"/>
                    <a:ea typeface="方正中等线简体"/>
                  </a:rPr>
                  <a:t>2.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3" name="组合 41"/>
            <p:cNvGrpSpPr/>
            <p:nvPr/>
          </p:nvGrpSpPr>
          <p:grpSpPr>
            <a:xfrm>
              <a:off x="4672800" y="4094280"/>
              <a:ext cx="1288440" cy="1288800"/>
              <a:chOff x="4672800" y="4094280"/>
              <a:chExt cx="1288440" cy="1288800"/>
            </a:xfrm>
          </p:grpSpPr>
          <p:sp>
            <p:nvSpPr>
              <p:cNvPr id="774" name="椭圆 54"/>
              <p:cNvSpPr/>
              <p:nvPr/>
            </p:nvSpPr>
            <p:spPr>
              <a:xfrm>
                <a:off x="4672800" y="4094280"/>
                <a:ext cx="1288440" cy="1288800"/>
              </a:xfrm>
              <a:prstGeom prst="ellipse">
                <a:avLst/>
              </a:prstGeom>
              <a:noFill/>
              <a:ln w="12600">
                <a:solidFill>
                  <a:srgbClr val="232825"/>
                </a:solidFill>
                <a:prstDash val="sys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文本框 55"/>
              <p:cNvSpPr/>
              <p:nvPr/>
            </p:nvSpPr>
            <p:spPr>
              <a:xfrm>
                <a:off x="5064840" y="4822560"/>
                <a:ext cx="503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232825"/>
                    </a:solidFill>
                    <a:latin typeface="Segoe UI Light"/>
                    <a:ea typeface="方正中等线简体"/>
                  </a:rPr>
                  <a:t>类</a:t>
                </a:r>
                <a:r>
                  <a:rPr b="0" lang="en-US" sz="1800" spc="-1" strike="noStrike">
                    <a:solidFill>
                      <a:srgbClr val="232825"/>
                    </a:solidFill>
                    <a:latin typeface="Segoe UI Light"/>
                    <a:ea typeface="方正中等线简体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文本框 56"/>
              <p:cNvSpPr/>
              <p:nvPr/>
            </p:nvSpPr>
            <p:spPr>
              <a:xfrm>
                <a:off x="4976640" y="4255560"/>
                <a:ext cx="680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232825"/>
                    </a:solidFill>
                    <a:latin typeface="Segoe UI Light"/>
                    <a:ea typeface="方正中等线简体"/>
                  </a:rPr>
                  <a:t>3.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7" name="组合 42"/>
            <p:cNvGrpSpPr/>
            <p:nvPr/>
          </p:nvGrpSpPr>
          <p:grpSpPr>
            <a:xfrm>
              <a:off x="6233040" y="4094280"/>
              <a:ext cx="1288440" cy="1288800"/>
              <a:chOff x="6233040" y="4094280"/>
              <a:chExt cx="1288440" cy="1288800"/>
            </a:xfrm>
          </p:grpSpPr>
          <p:sp>
            <p:nvSpPr>
              <p:cNvPr id="778" name="椭圆 51"/>
              <p:cNvSpPr/>
              <p:nvPr/>
            </p:nvSpPr>
            <p:spPr>
              <a:xfrm>
                <a:off x="6233040" y="4094280"/>
                <a:ext cx="1288440" cy="1288800"/>
              </a:xfrm>
              <a:prstGeom prst="ellipse">
                <a:avLst/>
              </a:prstGeom>
              <a:noFill/>
              <a:ln w="12600">
                <a:solidFill>
                  <a:srgbClr val="232825"/>
                </a:solidFill>
                <a:prstDash val="sys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文本框 52"/>
              <p:cNvSpPr/>
              <p:nvPr/>
            </p:nvSpPr>
            <p:spPr>
              <a:xfrm>
                <a:off x="6625080" y="4822560"/>
                <a:ext cx="503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232825"/>
                    </a:solidFill>
                    <a:latin typeface="Segoe UI Light"/>
                    <a:ea typeface="方正中等线简体"/>
                  </a:rPr>
                  <a:t>类</a:t>
                </a:r>
                <a:r>
                  <a:rPr b="0" lang="en-US" sz="1800" spc="-1" strike="noStrike">
                    <a:solidFill>
                      <a:srgbClr val="232825"/>
                    </a:solidFill>
                    <a:latin typeface="Segoe UI Light"/>
                    <a:ea typeface="方正中等线简体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文本框 53"/>
              <p:cNvSpPr/>
              <p:nvPr/>
            </p:nvSpPr>
            <p:spPr>
              <a:xfrm>
                <a:off x="6536880" y="4255560"/>
                <a:ext cx="680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232825"/>
                    </a:solidFill>
                    <a:latin typeface="Segoe UI Light"/>
                    <a:ea typeface="方正中等线简体"/>
                  </a:rPr>
                  <a:t>4.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1" name="组合 43"/>
            <p:cNvGrpSpPr/>
            <p:nvPr/>
          </p:nvGrpSpPr>
          <p:grpSpPr>
            <a:xfrm>
              <a:off x="7788600" y="4094280"/>
              <a:ext cx="1288440" cy="1288800"/>
              <a:chOff x="7788600" y="4094280"/>
              <a:chExt cx="1288440" cy="1288800"/>
            </a:xfrm>
          </p:grpSpPr>
          <p:sp>
            <p:nvSpPr>
              <p:cNvPr id="782" name="椭圆 48"/>
              <p:cNvSpPr/>
              <p:nvPr/>
            </p:nvSpPr>
            <p:spPr>
              <a:xfrm>
                <a:off x="7788600" y="4094280"/>
                <a:ext cx="1288440" cy="1288800"/>
              </a:xfrm>
              <a:prstGeom prst="ellipse">
                <a:avLst/>
              </a:prstGeom>
              <a:noFill/>
              <a:ln w="12600">
                <a:solidFill>
                  <a:srgbClr val="232825"/>
                </a:solidFill>
                <a:prstDash val="sys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文本框 49"/>
              <p:cNvSpPr/>
              <p:nvPr/>
            </p:nvSpPr>
            <p:spPr>
              <a:xfrm>
                <a:off x="8180640" y="4822560"/>
                <a:ext cx="503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232825"/>
                    </a:solidFill>
                    <a:latin typeface="Segoe UI Light"/>
                    <a:ea typeface="方正中等线简体"/>
                  </a:rPr>
                  <a:t>类</a:t>
                </a:r>
                <a:r>
                  <a:rPr b="0" lang="en-US" sz="1800" spc="-1" strike="noStrike">
                    <a:solidFill>
                      <a:srgbClr val="232825"/>
                    </a:solidFill>
                    <a:latin typeface="Segoe UI Light"/>
                    <a:ea typeface="方正中等线简体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文本框 50"/>
              <p:cNvSpPr/>
              <p:nvPr/>
            </p:nvSpPr>
            <p:spPr>
              <a:xfrm>
                <a:off x="8092440" y="4255560"/>
                <a:ext cx="680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232825"/>
                    </a:solidFill>
                    <a:latin typeface="Segoe UI Light"/>
                    <a:ea typeface="方正中等线简体"/>
                  </a:rPr>
                  <a:t>3.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5" name="组合 44"/>
            <p:cNvGrpSpPr/>
            <p:nvPr/>
          </p:nvGrpSpPr>
          <p:grpSpPr>
            <a:xfrm>
              <a:off x="9346320" y="4094280"/>
              <a:ext cx="1288440" cy="1288800"/>
              <a:chOff x="9346320" y="4094280"/>
              <a:chExt cx="1288440" cy="1288800"/>
            </a:xfrm>
          </p:grpSpPr>
          <p:sp>
            <p:nvSpPr>
              <p:cNvPr id="786" name="椭圆 45"/>
              <p:cNvSpPr/>
              <p:nvPr/>
            </p:nvSpPr>
            <p:spPr>
              <a:xfrm>
                <a:off x="9346320" y="4094280"/>
                <a:ext cx="1288440" cy="1288800"/>
              </a:xfrm>
              <a:prstGeom prst="ellipse">
                <a:avLst/>
              </a:prstGeom>
              <a:noFill/>
              <a:ln w="12600">
                <a:solidFill>
                  <a:srgbClr val="232825"/>
                </a:solidFill>
                <a:prstDash val="sys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文本框 46"/>
              <p:cNvSpPr/>
              <p:nvPr/>
            </p:nvSpPr>
            <p:spPr>
              <a:xfrm>
                <a:off x="9738360" y="4822560"/>
                <a:ext cx="503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232825"/>
                    </a:solidFill>
                    <a:latin typeface="Segoe UI Light"/>
                    <a:ea typeface="方正中等线简体"/>
                  </a:rPr>
                  <a:t>类</a:t>
                </a:r>
                <a:r>
                  <a:rPr b="0" lang="en-US" sz="1800" spc="-1" strike="noStrike">
                    <a:solidFill>
                      <a:srgbClr val="232825"/>
                    </a:solidFill>
                    <a:latin typeface="Segoe UI Light"/>
                    <a:ea typeface="方正中等线简体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文本框 47"/>
              <p:cNvSpPr/>
              <p:nvPr/>
            </p:nvSpPr>
            <p:spPr>
              <a:xfrm>
                <a:off x="9650160" y="4255560"/>
                <a:ext cx="680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232825"/>
                    </a:solidFill>
                    <a:latin typeface="Segoe UI Light"/>
                    <a:ea typeface="方正中等线简体"/>
                  </a:rPr>
                  <a:t>4.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89" name="直接连接符 65"/>
          <p:cNvSpPr/>
          <p:nvPr/>
        </p:nvSpPr>
        <p:spPr>
          <a:xfrm>
            <a:off x="1557360" y="3727440"/>
            <a:ext cx="9077400" cy="1440"/>
          </a:xfrm>
          <a:prstGeom prst="line">
            <a:avLst/>
          </a:prstGeom>
          <a:ln w="6480">
            <a:solidFill>
              <a:srgbClr val="7f7f7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矩形 66"/>
          <p:cNvSpPr/>
          <p:nvPr/>
        </p:nvSpPr>
        <p:spPr>
          <a:xfrm>
            <a:off x="0" y="1440"/>
            <a:ext cx="12192120" cy="460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矩形 67"/>
          <p:cNvSpPr/>
          <p:nvPr/>
        </p:nvSpPr>
        <p:spPr>
          <a:xfrm>
            <a:off x="0" y="6811920"/>
            <a:ext cx="12192120" cy="4608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文本框 68"/>
          <p:cNvSpPr/>
          <p:nvPr/>
        </p:nvSpPr>
        <p:spPr>
          <a:xfrm>
            <a:off x="5955120" y="6283440"/>
            <a:ext cx="27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Segoe UI Light"/>
                <a:ea typeface="方正中等线简体"/>
              </a:rPr>
              <a:t>注：该页用于展示该模版的使用时的排版方式，具体使用时请替换文字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矩形 69"/>
          <p:cNvSpPr/>
          <p:nvPr/>
        </p:nvSpPr>
        <p:spPr>
          <a:xfrm rot="21413400">
            <a:off x="4559040" y="1149120"/>
            <a:ext cx="3117600" cy="198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矩形 70"/>
          <p:cNvSpPr/>
          <p:nvPr/>
        </p:nvSpPr>
        <p:spPr>
          <a:xfrm>
            <a:off x="5142600" y="90504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两种对比呈现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矩形 60"/>
          <p:cNvSpPr/>
          <p:nvPr/>
        </p:nvSpPr>
        <p:spPr>
          <a:xfrm>
            <a:off x="0" y="1440"/>
            <a:ext cx="12192120" cy="460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61"/>
          <p:cNvSpPr/>
          <p:nvPr/>
        </p:nvSpPr>
        <p:spPr>
          <a:xfrm>
            <a:off x="0" y="6811920"/>
            <a:ext cx="12192120" cy="4608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矩形 1"/>
          <p:cNvSpPr/>
          <p:nvPr/>
        </p:nvSpPr>
        <p:spPr>
          <a:xfrm>
            <a:off x="2141640" y="2421000"/>
            <a:ext cx="2817720" cy="222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椭圆 2"/>
          <p:cNvSpPr/>
          <p:nvPr/>
        </p:nvSpPr>
        <p:spPr>
          <a:xfrm>
            <a:off x="2141640" y="2838600"/>
            <a:ext cx="231840" cy="2314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椭圆 3"/>
          <p:cNvSpPr/>
          <p:nvPr/>
        </p:nvSpPr>
        <p:spPr>
          <a:xfrm>
            <a:off x="2428920" y="2838600"/>
            <a:ext cx="231840" cy="2314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椭圆 4"/>
          <p:cNvSpPr/>
          <p:nvPr/>
        </p:nvSpPr>
        <p:spPr>
          <a:xfrm>
            <a:off x="2717640" y="2838600"/>
            <a:ext cx="231840" cy="2314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椭圆 5"/>
          <p:cNvSpPr/>
          <p:nvPr/>
        </p:nvSpPr>
        <p:spPr>
          <a:xfrm>
            <a:off x="3003480" y="2838600"/>
            <a:ext cx="231840" cy="2314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椭圆 6"/>
          <p:cNvSpPr/>
          <p:nvPr/>
        </p:nvSpPr>
        <p:spPr>
          <a:xfrm>
            <a:off x="3292560" y="2838600"/>
            <a:ext cx="231840" cy="231480"/>
          </a:xfrm>
          <a:prstGeom prst="ellipse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椭圆 7"/>
          <p:cNvSpPr/>
          <p:nvPr/>
        </p:nvSpPr>
        <p:spPr>
          <a:xfrm>
            <a:off x="3578400" y="2838600"/>
            <a:ext cx="231480" cy="231480"/>
          </a:xfrm>
          <a:prstGeom prst="ellipse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椭圆 8"/>
          <p:cNvSpPr/>
          <p:nvPr/>
        </p:nvSpPr>
        <p:spPr>
          <a:xfrm>
            <a:off x="3867120" y="2838600"/>
            <a:ext cx="231840" cy="231480"/>
          </a:xfrm>
          <a:prstGeom prst="ellipse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椭圆 9"/>
          <p:cNvSpPr/>
          <p:nvPr/>
        </p:nvSpPr>
        <p:spPr>
          <a:xfrm>
            <a:off x="4152960" y="2838600"/>
            <a:ext cx="231840" cy="231480"/>
          </a:xfrm>
          <a:prstGeom prst="ellipse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矩形 10"/>
          <p:cNvSpPr/>
          <p:nvPr/>
        </p:nvSpPr>
        <p:spPr>
          <a:xfrm>
            <a:off x="2141640" y="2421000"/>
            <a:ext cx="1798560" cy="222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文本框 11"/>
          <p:cNvSpPr/>
          <p:nvPr/>
        </p:nvSpPr>
        <p:spPr>
          <a:xfrm>
            <a:off x="4975200" y="230364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7.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文本框 12"/>
          <p:cNvSpPr/>
          <p:nvPr/>
        </p:nvSpPr>
        <p:spPr>
          <a:xfrm>
            <a:off x="4973400" y="270360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文本框 13"/>
          <p:cNvSpPr/>
          <p:nvPr/>
        </p:nvSpPr>
        <p:spPr>
          <a:xfrm>
            <a:off x="2064960" y="195264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类</a:t>
            </a:r>
            <a:r>
              <a:rPr b="0" lang="en-US" sz="18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矩形 14"/>
          <p:cNvSpPr/>
          <p:nvPr/>
        </p:nvSpPr>
        <p:spPr>
          <a:xfrm>
            <a:off x="2141640" y="5508720"/>
            <a:ext cx="1081080" cy="222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文本框 15"/>
          <p:cNvSpPr/>
          <p:nvPr/>
        </p:nvSpPr>
        <p:spPr>
          <a:xfrm>
            <a:off x="3503520" y="54356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指标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椭圆 16"/>
          <p:cNvSpPr/>
          <p:nvPr/>
        </p:nvSpPr>
        <p:spPr>
          <a:xfrm>
            <a:off x="4497480" y="5499000"/>
            <a:ext cx="231840" cy="2318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文本框 17"/>
          <p:cNvSpPr/>
          <p:nvPr/>
        </p:nvSpPr>
        <p:spPr>
          <a:xfrm>
            <a:off x="4914720" y="5435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指标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矩形 18"/>
          <p:cNvSpPr/>
          <p:nvPr/>
        </p:nvSpPr>
        <p:spPr>
          <a:xfrm>
            <a:off x="2141640" y="3957480"/>
            <a:ext cx="2817720" cy="22248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椭圆 19"/>
          <p:cNvSpPr/>
          <p:nvPr/>
        </p:nvSpPr>
        <p:spPr>
          <a:xfrm>
            <a:off x="2141640" y="4375080"/>
            <a:ext cx="231840" cy="2318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椭圆 20"/>
          <p:cNvSpPr/>
          <p:nvPr/>
        </p:nvSpPr>
        <p:spPr>
          <a:xfrm>
            <a:off x="2428920" y="4375080"/>
            <a:ext cx="231840" cy="2318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椭圆 21"/>
          <p:cNvSpPr/>
          <p:nvPr/>
        </p:nvSpPr>
        <p:spPr>
          <a:xfrm>
            <a:off x="2717640" y="4375080"/>
            <a:ext cx="231840" cy="2318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椭圆 22"/>
          <p:cNvSpPr/>
          <p:nvPr/>
        </p:nvSpPr>
        <p:spPr>
          <a:xfrm>
            <a:off x="3003480" y="4375080"/>
            <a:ext cx="231840" cy="2318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椭圆 23"/>
          <p:cNvSpPr/>
          <p:nvPr/>
        </p:nvSpPr>
        <p:spPr>
          <a:xfrm>
            <a:off x="3292560" y="4375080"/>
            <a:ext cx="231840" cy="2318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椭圆 24"/>
          <p:cNvSpPr/>
          <p:nvPr/>
        </p:nvSpPr>
        <p:spPr>
          <a:xfrm>
            <a:off x="3578400" y="4375080"/>
            <a:ext cx="231480" cy="231840"/>
          </a:xfrm>
          <a:prstGeom prst="ellipse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椭圆 25"/>
          <p:cNvSpPr/>
          <p:nvPr/>
        </p:nvSpPr>
        <p:spPr>
          <a:xfrm>
            <a:off x="3867120" y="4375080"/>
            <a:ext cx="231840" cy="231840"/>
          </a:xfrm>
          <a:prstGeom prst="ellipse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椭圆 26"/>
          <p:cNvSpPr/>
          <p:nvPr/>
        </p:nvSpPr>
        <p:spPr>
          <a:xfrm>
            <a:off x="4152960" y="4375080"/>
            <a:ext cx="231840" cy="231840"/>
          </a:xfrm>
          <a:prstGeom prst="ellipse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矩形 27"/>
          <p:cNvSpPr/>
          <p:nvPr/>
        </p:nvSpPr>
        <p:spPr>
          <a:xfrm>
            <a:off x="2141640" y="3957480"/>
            <a:ext cx="2212920" cy="222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文本框 28"/>
          <p:cNvSpPr/>
          <p:nvPr/>
        </p:nvSpPr>
        <p:spPr>
          <a:xfrm>
            <a:off x="4975200" y="384012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8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文本框 29"/>
          <p:cNvSpPr/>
          <p:nvPr/>
        </p:nvSpPr>
        <p:spPr>
          <a:xfrm>
            <a:off x="4973400" y="424008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文本框 30"/>
          <p:cNvSpPr/>
          <p:nvPr/>
        </p:nvSpPr>
        <p:spPr>
          <a:xfrm>
            <a:off x="2064960" y="349092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类</a:t>
            </a:r>
            <a:r>
              <a:rPr b="0" lang="en-US" sz="18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矩形 32"/>
          <p:cNvSpPr/>
          <p:nvPr/>
        </p:nvSpPr>
        <p:spPr>
          <a:xfrm>
            <a:off x="6772320" y="2421000"/>
            <a:ext cx="2817720" cy="222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椭圆 33"/>
          <p:cNvSpPr/>
          <p:nvPr/>
        </p:nvSpPr>
        <p:spPr>
          <a:xfrm>
            <a:off x="6772320" y="2838600"/>
            <a:ext cx="231840" cy="2314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椭圆 34"/>
          <p:cNvSpPr/>
          <p:nvPr/>
        </p:nvSpPr>
        <p:spPr>
          <a:xfrm>
            <a:off x="7059600" y="2838600"/>
            <a:ext cx="231840" cy="2314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椭圆 35"/>
          <p:cNvSpPr/>
          <p:nvPr/>
        </p:nvSpPr>
        <p:spPr>
          <a:xfrm>
            <a:off x="7346880" y="2838600"/>
            <a:ext cx="231840" cy="2314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椭圆 36"/>
          <p:cNvSpPr/>
          <p:nvPr/>
        </p:nvSpPr>
        <p:spPr>
          <a:xfrm>
            <a:off x="7634160" y="2838600"/>
            <a:ext cx="231840" cy="231480"/>
          </a:xfrm>
          <a:prstGeom prst="ellipse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椭圆 37"/>
          <p:cNvSpPr/>
          <p:nvPr/>
        </p:nvSpPr>
        <p:spPr>
          <a:xfrm>
            <a:off x="7921800" y="2838600"/>
            <a:ext cx="231480" cy="231480"/>
          </a:xfrm>
          <a:prstGeom prst="ellipse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椭圆 38"/>
          <p:cNvSpPr/>
          <p:nvPr/>
        </p:nvSpPr>
        <p:spPr>
          <a:xfrm>
            <a:off x="8209080" y="2838600"/>
            <a:ext cx="231480" cy="231480"/>
          </a:xfrm>
          <a:prstGeom prst="ellipse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椭圆 39"/>
          <p:cNvSpPr/>
          <p:nvPr/>
        </p:nvSpPr>
        <p:spPr>
          <a:xfrm>
            <a:off x="8496360" y="2838600"/>
            <a:ext cx="231840" cy="231480"/>
          </a:xfrm>
          <a:prstGeom prst="ellipse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椭圆 40"/>
          <p:cNvSpPr/>
          <p:nvPr/>
        </p:nvSpPr>
        <p:spPr>
          <a:xfrm>
            <a:off x="8783640" y="2838600"/>
            <a:ext cx="231840" cy="231480"/>
          </a:xfrm>
          <a:prstGeom prst="ellipse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矩形 41"/>
          <p:cNvSpPr/>
          <p:nvPr/>
        </p:nvSpPr>
        <p:spPr>
          <a:xfrm>
            <a:off x="6772320" y="2421000"/>
            <a:ext cx="1439640" cy="222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文本框 42"/>
          <p:cNvSpPr/>
          <p:nvPr/>
        </p:nvSpPr>
        <p:spPr>
          <a:xfrm>
            <a:off x="9605160" y="230364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5.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文本框 43"/>
          <p:cNvSpPr/>
          <p:nvPr/>
        </p:nvSpPr>
        <p:spPr>
          <a:xfrm>
            <a:off x="9605160" y="270360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9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文本框 44"/>
          <p:cNvSpPr/>
          <p:nvPr/>
        </p:nvSpPr>
        <p:spPr>
          <a:xfrm>
            <a:off x="6694920" y="195264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类</a:t>
            </a:r>
            <a:r>
              <a:rPr b="0" lang="en-US" sz="18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矩形 46"/>
          <p:cNvSpPr/>
          <p:nvPr/>
        </p:nvSpPr>
        <p:spPr>
          <a:xfrm>
            <a:off x="6772320" y="3957480"/>
            <a:ext cx="2817720" cy="22248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椭圆 47"/>
          <p:cNvSpPr/>
          <p:nvPr/>
        </p:nvSpPr>
        <p:spPr>
          <a:xfrm>
            <a:off x="6772320" y="4375080"/>
            <a:ext cx="231840" cy="2318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椭圆 48"/>
          <p:cNvSpPr/>
          <p:nvPr/>
        </p:nvSpPr>
        <p:spPr>
          <a:xfrm>
            <a:off x="7059600" y="4375080"/>
            <a:ext cx="231840" cy="2318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椭圆 49"/>
          <p:cNvSpPr/>
          <p:nvPr/>
        </p:nvSpPr>
        <p:spPr>
          <a:xfrm>
            <a:off x="7346880" y="4375080"/>
            <a:ext cx="231840" cy="2318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椭圆 50"/>
          <p:cNvSpPr/>
          <p:nvPr/>
        </p:nvSpPr>
        <p:spPr>
          <a:xfrm>
            <a:off x="7634160" y="4375080"/>
            <a:ext cx="231840" cy="2318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椭圆 51"/>
          <p:cNvSpPr/>
          <p:nvPr/>
        </p:nvSpPr>
        <p:spPr>
          <a:xfrm>
            <a:off x="7921800" y="4375080"/>
            <a:ext cx="231480" cy="2318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椭圆 52"/>
          <p:cNvSpPr/>
          <p:nvPr/>
        </p:nvSpPr>
        <p:spPr>
          <a:xfrm>
            <a:off x="8209080" y="4375080"/>
            <a:ext cx="231480" cy="2318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椭圆 53"/>
          <p:cNvSpPr/>
          <p:nvPr/>
        </p:nvSpPr>
        <p:spPr>
          <a:xfrm>
            <a:off x="8496360" y="4375080"/>
            <a:ext cx="231840" cy="231840"/>
          </a:xfrm>
          <a:prstGeom prst="ellipse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椭圆 54"/>
          <p:cNvSpPr/>
          <p:nvPr/>
        </p:nvSpPr>
        <p:spPr>
          <a:xfrm>
            <a:off x="8783640" y="4375080"/>
            <a:ext cx="231840" cy="231840"/>
          </a:xfrm>
          <a:prstGeom prst="ellipse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矩形 55"/>
          <p:cNvSpPr/>
          <p:nvPr/>
        </p:nvSpPr>
        <p:spPr>
          <a:xfrm>
            <a:off x="6772320" y="3957480"/>
            <a:ext cx="1871640" cy="222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文本框 56"/>
          <p:cNvSpPr/>
          <p:nvPr/>
        </p:nvSpPr>
        <p:spPr>
          <a:xfrm>
            <a:off x="9605160" y="384012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8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文本框 57"/>
          <p:cNvSpPr/>
          <p:nvPr/>
        </p:nvSpPr>
        <p:spPr>
          <a:xfrm>
            <a:off x="9604440" y="424008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文本框 58"/>
          <p:cNvSpPr/>
          <p:nvPr/>
        </p:nvSpPr>
        <p:spPr>
          <a:xfrm>
            <a:off x="6694920" y="349092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类</a:t>
            </a:r>
            <a:r>
              <a:rPr b="0" lang="en-US" sz="18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矩形 62"/>
          <p:cNvSpPr/>
          <p:nvPr/>
        </p:nvSpPr>
        <p:spPr>
          <a:xfrm rot="21413400">
            <a:off x="4732200" y="1057320"/>
            <a:ext cx="2727360" cy="182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矩形 63"/>
          <p:cNvSpPr/>
          <p:nvPr/>
        </p:nvSpPr>
        <p:spPr>
          <a:xfrm>
            <a:off x="5240520" y="7747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双指标对比示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直接连接符 65"/>
          <p:cNvSpPr/>
          <p:nvPr/>
        </p:nvSpPr>
        <p:spPr>
          <a:xfrm>
            <a:off x="2044800" y="1727280"/>
            <a:ext cx="8101080" cy="0"/>
          </a:xfrm>
          <a:prstGeom prst="line">
            <a:avLst/>
          </a:prstGeom>
          <a:ln w="648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直接连接符 66"/>
          <p:cNvSpPr/>
          <p:nvPr/>
        </p:nvSpPr>
        <p:spPr>
          <a:xfrm>
            <a:off x="2044800" y="5094360"/>
            <a:ext cx="8101080" cy="1440"/>
          </a:xfrm>
          <a:prstGeom prst="line">
            <a:avLst/>
          </a:prstGeom>
          <a:ln w="648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2T11:57:00Z</dcterms:created>
  <dc:creator>曹将</dc:creator>
  <dc:description/>
  <dc:language>en-US</dc:language>
  <cp:lastModifiedBy>Administrator</cp:lastModifiedBy>
  <dcterms:modified xsi:type="dcterms:W3CDTF">2016-08-02T06:21:12Z</dcterms:modified>
  <cp:revision>3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