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CC1-BCED-41F6-A25C-9B219ADC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FBE-AA96-43B8-B680-E596915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C77-0A57-4074-A351-A27ACA69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46F-4F82-4B92-A7C9-2ABA8F02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E07-AC8E-4611-A247-BD6A1DC1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E089-66FD-4671-B61D-28C36E09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7651-AF2D-48E3-9C97-A8A3161E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262-2F7D-4392-A3EE-D61FDF35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0FC0-6336-48A1-8309-793DEA76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4473-C800-467B-8986-EF8D2F02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BA51-BC7C-4A1A-9B23-3A48514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9E4-EE5F-4C82-BEB9-BF592544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C69-ED7D-4D6D-8656-2F29E4E0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4589-C67F-496F-BCF6-5BAA44DD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D3E9-6F3B-475E-A254-9E948C1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079B-26CE-4C3E-BA5C-D3BB63AD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F9B1-CC07-45A3-9FCF-9C6AEFBB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18E4-9153-47EA-8260-45B45D38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B49E-A8AA-45BE-90B2-2659ED1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03C6-F292-405B-8A6B-63E919FE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8A73-6882-49D3-9E76-E039217D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7904-6467-4532-8B50-18D602BF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BC4-8FAD-4E18-A999-4B8CC976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779A-35BB-4E4F-BC53-44CA9F24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2E25-9BF9-498A-963E-74404C8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4045-37A9-43AF-8BCD-10FD7DDC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A53F-2520-4C01-B75F-2700417B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B7D6-9C26-4220-A0E2-71CF29B4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07FD-5E35-4D19-B3A1-1AEDEBD3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BB97-3E40-4218-AC71-9B1F708D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BE98-0A21-4F02-A92E-EBFF8043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47BF-C613-4A46-892A-57635625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6DCE-9C05-4E71-AC1C-2E296A1A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5D0-0C24-496F-8104-A941E876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0237-4632-4910-9C7D-880263D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00B3-DDBC-4DD6-A847-84AE988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98D0-D191-4A8D-81F5-87F438C7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A7214-E1A7-4A4D-851C-38ADB040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CB89-EA5A-4CBE-9E0D-28F3204C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E4A6-32EA-4553-8D24-15D8320E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02E1B-6C4F-4BB3-9C9C-90548DAF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68BF-51E5-414B-9D14-84D357C3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AAF6-BE59-4A96-AEAB-2CAFC68A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5A4-2409-41C3-9334-8C4319E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E38-CE69-4E9D-84D5-FF8E3D1E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280-456F-44C6-ADB8-588A4A5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903-3222-4E4C-A4C6-A7102AE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C14-9CDE-43FC-B47F-3B76499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1FB0-366B-4951-9F9B-802E2A093B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689F-5F63-48D9-B3C1-6880CEF849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0482-36F3-4D9D-AA02-B3071427359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4C0C-B1A1-4180-9456-2BB17480B0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580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583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585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7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588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590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2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593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597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01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26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31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34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37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40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43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4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45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48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50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2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53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4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55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7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58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60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64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66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8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69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71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3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74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5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76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679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696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99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0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2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3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09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0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1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2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3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31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779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76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481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483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486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488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0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12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14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17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19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1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22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6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27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29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32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3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34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6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37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8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39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1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52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53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5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56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8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61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62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4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7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70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71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74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6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zzf</cp:lastModifiedBy>
  <dcterms:modified xsi:type="dcterms:W3CDTF">2016-03-24T06:02:47Z</dcterms:modified>
  <cp:revision>79</cp:revision>
  <dc:subject/>
  <dc:title>PowerPoint 演示文稿</dc:title>
</cp:coreProperties>
</file>