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B5F-8A5A-40D7-A255-29836CF9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FBB-DECF-4416-9928-0AF293B7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045-B821-4A41-AAE0-E5908F4E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062-05EE-4E48-AD06-46A90AD2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940-381A-4A12-9B84-FB77A84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7E0-BAC4-4881-B6A0-A2F53957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622-99D1-4F9D-B062-B0741E8F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159-12C6-4631-96CA-0E2A60A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488-E666-493C-84CD-BD1262FD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ED7-980B-40FD-ACFF-DE57EB37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FB8-D3DB-4433-9A7E-CEDB9C0D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357-1567-4DA7-9945-EE65A650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30DD-0DE9-4492-B21B-6EE2C75BE3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2E0A-E589-456C-829C-EC4FEEB114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178640" y="1434960"/>
            <a:ext cx="20713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ba62af"/>
                </a:solidFill>
                <a:latin typeface="HelveticaNeueLT Std UltLt Ext"/>
              </a:rPr>
              <a:t>SOCIAL CUSTOM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-1433520" y="1052640"/>
            <a:ext cx="862632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UNDENIABLE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AUTHORITY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OF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924360" y="6575400"/>
            <a:ext cx="525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722840" y="1109520"/>
            <a:ext cx="435024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603a9a"/>
                </a:solidFill>
                <a:latin typeface="BigNoodleTitling"/>
              </a:rPr>
              <a:t>8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8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enc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-918360" y="673200"/>
            <a:ext cx="636624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SS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INSTEAD.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IF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BRAND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 UltLt Ext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verage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y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igNoodleTitli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650520" y="1828800"/>
            <a:ext cx="70477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DOES  THIS  SHIFT  IN  AUTHORITY 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820080" y="2476440"/>
            <a:ext cx="71240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CUSTOMER  SUPPORT 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BUSIN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17400" y="1098720"/>
            <a:ext cx="71816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UNFORTUNATELY,  MANY  ORGANIZATIONS  STILL  DO 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BELIEVE  IN  THE  AUTHORITY  OF  THE  SOCIAL 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775600" y="2692440"/>
            <a:ext cx="26308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0c4b3"/>
                </a:solidFill>
                <a:latin typeface="BigNoodleTitling"/>
              </a:rPr>
              <a:t>6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on'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edia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sk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222520" y="4267080"/>
            <a:ext cx="32619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tail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ras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290120" y="2374920"/>
            <a:ext cx="4810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88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bu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969200" y="4648320"/>
            <a:ext cx="5154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17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perienc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recomm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11760" y="2819520"/>
            <a:ext cx="904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HelveticaNeueLT Std UltLt Ext"/>
              </a:rPr>
              <a:t>8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222320" y="5089680"/>
            <a:ext cx="100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1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628920" y="1111320"/>
            <a:ext cx="563508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BUT  THEY’RE  PAYING  FOR  IT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779040" y="4521240"/>
            <a:ext cx="1363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MO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SHRE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0" y="888840"/>
            <a:ext cx="9144000" cy="5270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-483840" y="1065240"/>
            <a:ext cx="1031508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MOST  SOCIALLY  PROACTIVE 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SEE  SOLIDRE  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p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-131400" y="4673520"/>
            <a:ext cx="7029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deliver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ut-perform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6907680" y="4546440"/>
            <a:ext cx="1105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HelveticaNeueLT Std UltLt Ext"/>
              </a:rPr>
              <a:t>8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77600" y="1663560"/>
            <a:ext cx="6750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SHOULD  YOU  PREPARE  YOURSELF 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95880" y="1828800"/>
            <a:ext cx="66805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2a4e"/>
                </a:solidFill>
                <a:latin typeface="HelveticaNeueLT Std UltLt Ext"/>
              </a:rPr>
              <a:t>THE  COMING  AGE 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87680" y="2133720"/>
            <a:ext cx="74379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62a4e"/>
                </a:solidFill>
                <a:latin typeface="HelveticaNeueLT Std UltLt Ext"/>
              </a:rPr>
              <a:t>SOCIAL 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1003320" y="1720800"/>
            <a:ext cx="1713348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ffff"/>
                </a:solidFill>
                <a:latin typeface="HelveticaNeueLT Std UltLt Ext"/>
              </a:rPr>
              <a:t>ALWAYS  RESPOND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-2317680" y="863640"/>
            <a:ext cx="12763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EMBARRASS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LAIN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,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159240" y="3645000"/>
            <a:ext cx="194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62af"/>
                </a:solidFill>
                <a:latin typeface="BigNoodleTitling"/>
              </a:rPr>
              <a:t>83%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6194160" y="4699080"/>
            <a:ext cx="2137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6101280" y="5613480"/>
            <a:ext cx="2431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635400" y="800280"/>
            <a:ext cx="617760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WHEN  RESPONDING  TO  THE  SOCIAL  CUSTOM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FORGET 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51800" y="2747880"/>
            <a:ext cx="691524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TRIVEFORFASTRESPONSETI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BEHUMANAND,ATTIMES,APPLYHUM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DON’TBEDEFENSIV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ALWAYSTHANKTHECUSTOM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UGGESTASOLUTIONTOTHEPROBL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386360" y="2689200"/>
            <a:ext cx="2628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781200" y="958680"/>
            <a:ext cx="6581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O  IMPROVE  YOUR  COMPANY’S  OVERALL  PLAN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SOCIAL  CUSTOMER  SERVICE,  CONSIDER  THESE  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836640" y="2540160"/>
            <a:ext cx="595188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LISTENTOYOURCUSTOMERS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BUILDRELATIONSHIPSWITH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458640" y="3479760"/>
            <a:ext cx="773964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HAVEADETAILEDCRISIS-MANAGEMENTPLA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DESIGNATEATLEASTONEMEMBEROF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6960" y="4413240"/>
            <a:ext cx="946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PANYTOBEAVAILABLE24/7ONSOCIALMED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MITRANDOMACTSOFWOWFORYOUR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STRIVETOALWAYSPROVIDELINKSTOHELPFU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INFORMATIONATTHEENDOFEACHRESPON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36120" y="1071720"/>
            <a:ext cx="74527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EN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 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CHANNELS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(FACEBOOK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WITTER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TC.)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OL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51680" y="1571760"/>
            <a:ext cx="7488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LT Std UltLt Ext"/>
              </a:rPr>
              <a:t>THE  SOCIAL  CUSTOMER  IS  HERE  TO  ST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954080" y="2730600"/>
            <a:ext cx="807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NOT-SO-DISTAN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UTU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NSUMER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XPEC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ASTER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RESPONS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MPANI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LIK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YOU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951720" y="4584600"/>
            <a:ext cx="36201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LET  YOUR 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3825720" y="5397480"/>
            <a:ext cx="4017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SERVICE  EFFORTS  FALL  BEHI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84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63560" y="609480"/>
            <a:ext cx="49370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62af"/>
                </a:solidFill>
                <a:latin typeface="HelveticaNeueLT Std UltLt Ext"/>
              </a:rPr>
              <a:t>THE  DAWN  OF  THEDIGITAL  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-109440" y="1568520"/>
            <a:ext cx="53391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l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xplos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edia,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am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i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—on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ppl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pect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803520" y="3822840"/>
            <a:ext cx="6601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NEWFOU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UTHORIT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8400" y="4295880"/>
            <a:ext cx="3873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TH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CUSTO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-1627920" y="3797280"/>
            <a:ext cx="1200312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gNoodleTitling"/>
              </a:rPr>
              <a:t>DESK.C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BUIL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GROU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UP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.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ESK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Sources: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winternet.org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forrester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onecomm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oracl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touchagency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zendesk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americanexpress.c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liveops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rmidol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nmincit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inc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ppersandrogersgroup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maritzresear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696600" y="1676520"/>
            <a:ext cx="7590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SIGN  UP  FOR  YOUR  FREE  14-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TRIAL  OF  DESK.COM  TO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745160" y="2970360"/>
            <a:ext cx="44737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gNoodleTitling"/>
              </a:rPr>
              <a:t>CLICK  HERE  TO  GET 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86000" y="1486080"/>
            <a:ext cx="39175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62a4e"/>
                </a:solidFill>
                <a:latin typeface="HelveticaNeueLT Std UltLt Ext"/>
              </a:rPr>
              <a:t>WHO IS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63200" y="3429000"/>
            <a:ext cx="723960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elveticaNeueLT Std UltLt Ext"/>
              </a:rPr>
              <a:t>SOCIAL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763200" y="1028880"/>
            <a:ext cx="70430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SOCIAL  CUSTOMER  T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NEARLY  EVERY  CORNER  OF  THE  GL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7357680" y="4203720"/>
            <a:ext cx="9043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938320" y="3083040"/>
            <a:ext cx="5188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AT  LEAST  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  </a:t>
            </a: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WORLD’S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  SSOCIAL 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AT’S  MORE  THAN  HALF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E  2.4  BILLION 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RS  ACROSS  THE 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81920" y="1009800"/>
            <a:ext cx="5513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ODAY’S  SOCIAL  CUSTOMER 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-1499040" y="4978440"/>
            <a:ext cx="916416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…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HANGED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BUSINES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OWNER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OUGH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EY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RELATIONSH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923760" y="3854520"/>
            <a:ext cx="2369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LISTENING  TO 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621240" y="3854520"/>
            <a:ext cx="1876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EAVILY 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738400" y="3854520"/>
            <a:ext cx="2544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POSTING  COMPL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N  SOCIAL 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461520" y="1015920"/>
            <a:ext cx="4550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EXPECTATIONS  ARE 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5024880" y="533520"/>
            <a:ext cx="3765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day'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nectivit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utions,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emand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820520" y="584280"/>
            <a:ext cx="2109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HelveticaNeueLT Std UltLt Ext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9480" y="2629080"/>
            <a:ext cx="2934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4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46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3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m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gi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12684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2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31848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c4b3"/>
                </a:solidFill>
                <a:latin typeface="BigNoodleTitling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1915560" y="584280"/>
            <a:ext cx="20887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6042960" y="1092240"/>
            <a:ext cx="293544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22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180760" y="1523880"/>
            <a:ext cx="72720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67320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6144840" y="4000680"/>
            <a:ext cx="2283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62af"/>
                </a:solidFill>
                <a:latin typeface="BigNoodleTitling"/>
              </a:rPr>
              <a:t>80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430080" y="4762440"/>
            <a:ext cx="2361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174720" y="3665520"/>
            <a:ext cx="23446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76760" y="838080"/>
            <a:ext cx="5826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N  INTIMATE 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MONG  ALL 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陈魁chinakui</cp:lastModifiedBy>
  <dcterms:modified xsi:type="dcterms:W3CDTF">2015-01-06T16:19:00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