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858-FDA9-4B01-8AD1-EF21D80A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C69-0CA1-4E3F-BFE5-AF4F2A52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021-5F48-409F-A279-E0A78AFD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331-2CD7-4E07-9724-2E563303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773-D9C4-45CA-BFFA-463666BB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6EE-8BFD-4CC9-8D16-77C15B60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3FD-D303-4E0E-9728-EB7E3455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9B1-C5C3-4989-9495-E75721AB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B23-922A-49EF-97B1-5E3D9112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CE3-1138-477A-B6D5-D1D9B967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C00-864B-4492-A307-05D37FA6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06C-E3A8-435E-A040-2A478394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94A0-CFBC-44A4-8F34-504DD7C741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8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1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27.png"/><Relationship Id="rId8" Type="http://schemas.openxmlformats.org/officeDocument/2006/relationships/image" Target="../media/image22.png"/><Relationship Id="rId9" Type="http://schemas.openxmlformats.org/officeDocument/2006/relationships/image" Target="../media/image39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5.png"/><Relationship Id="rId3" Type="http://schemas.openxmlformats.org/officeDocument/2006/relationships/image" Target="../media/image38.png"/><Relationship Id="rId4" Type="http://schemas.openxmlformats.org/officeDocument/2006/relationships/image" Target="../media/image49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08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7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3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组合 20"/>
          <p:cNvGrpSpPr/>
          <p:nvPr/>
        </p:nvGrpSpPr>
        <p:grpSpPr>
          <a:xfrm>
            <a:off x="758880" y="1528920"/>
            <a:ext cx="10767960" cy="3579480"/>
            <a:chOff x="758880" y="1528920"/>
            <a:chExt cx="10767960" cy="3579480"/>
          </a:xfrm>
        </p:grpSpPr>
        <p:sp>
          <p:nvSpPr>
            <p:cNvPr id="446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8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49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1" name="组合 7"/>
            <p:cNvGrpSpPr/>
            <p:nvPr/>
          </p:nvGrpSpPr>
          <p:grpSpPr>
            <a:xfrm>
              <a:off x="6440400" y="1528920"/>
              <a:ext cx="2208960" cy="2170800"/>
              <a:chOff x="6440400" y="1528920"/>
              <a:chExt cx="2208960" cy="2170800"/>
            </a:xfrm>
          </p:grpSpPr>
          <p:sp>
            <p:nvSpPr>
              <p:cNvPr id="452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3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4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6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66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69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2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4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5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1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18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3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27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3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0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58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6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67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0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4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5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7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89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1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2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5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7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0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3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4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07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17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19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2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4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5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7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38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4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56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7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3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0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1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18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5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26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8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0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1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4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5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36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8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9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0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3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47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49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3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4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5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7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1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2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4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66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67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9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1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2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5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7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0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1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0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8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1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5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1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8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4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7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28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29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1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2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4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7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1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组合 7"/>
          <p:cNvGrpSpPr/>
          <p:nvPr/>
        </p:nvGrpSpPr>
        <p:grpSpPr>
          <a:xfrm>
            <a:off x="4304880" y="2275920"/>
            <a:ext cx="5896080" cy="2617200"/>
            <a:chOff x="4304880" y="2275920"/>
            <a:chExt cx="5896080" cy="2617200"/>
          </a:xfrm>
        </p:grpSpPr>
        <p:sp>
          <p:nvSpPr>
            <p:cNvPr id="244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3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1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moveTo>
                  <a:pt x="1057" y="562"/>
                </a:moveTo>
                <a:moveTo>
                  <a:pt x="1038" y="530"/>
                </a:moveTo>
                <a:moveTo>
                  <a:pt x="1023" y="503"/>
                </a:moveTo>
                <a:moveTo>
                  <a:pt x="1014" y="488"/>
                </a:moveTo>
                <a:moveTo>
                  <a:pt x="1006" y="472"/>
                </a:moveTo>
                <a:moveTo>
                  <a:pt x="999" y="455"/>
                </a:moveTo>
                <a:moveTo>
                  <a:pt x="995" y="447"/>
                </a:moveTo>
                <a:moveTo>
                  <a:pt x="992" y="439"/>
                </a:moveTo>
                <a:moveTo>
                  <a:pt x="989" y="431"/>
                </a:moveTo>
                <a:moveTo>
                  <a:pt x="988" y="428"/>
                </a:moveTo>
                <a:moveTo>
                  <a:pt x="987" y="424"/>
                </a:moveTo>
                <a:moveTo>
                  <a:pt x="986" y="421"/>
                </a:moveTo>
                <a:moveTo>
                  <a:pt x="986" y="421"/>
                </a:moveTo>
                <a:moveTo>
                  <a:pt x="986" y="421"/>
                </a:moveTo>
                <a:moveTo>
                  <a:pt x="986" y="421"/>
                </a:moveTo>
                <a:moveTo>
                  <a:pt x="986" y="418"/>
                </a:moveTo>
                <a:moveTo>
                  <a:pt x="985" y="416"/>
                </a:moveTo>
                <a:moveTo>
                  <a:pt x="984" y="413"/>
                </a:moveTo>
                <a:moveTo>
                  <a:pt x="984" y="413"/>
                </a:moveTo>
                <a:moveTo>
                  <a:pt x="983" y="413"/>
                </a:moveTo>
                <a:moveTo>
                  <a:pt x="982" y="413"/>
                </a:moveTo>
                <a:moveTo>
                  <a:pt x="983" y="403"/>
                </a:moveTo>
                <a:moveTo>
                  <a:pt x="984" y="393"/>
                </a:moveTo>
                <a:moveTo>
                  <a:pt x="985" y="383"/>
                </a:moveTo>
                <a:moveTo>
                  <a:pt x="985" y="382"/>
                </a:moveTo>
                <a:moveTo>
                  <a:pt x="987" y="376"/>
                </a:moveTo>
                <a:moveTo>
                  <a:pt x="986" y="375"/>
                </a:moveTo>
                <a:moveTo>
                  <a:pt x="985" y="374"/>
                </a:moveTo>
                <a:moveTo>
                  <a:pt x="983" y="373"/>
                </a:moveTo>
                <a:moveTo>
                  <a:pt x="982" y="372"/>
                </a:moveTo>
                <a:moveTo>
                  <a:pt x="982" y="363"/>
                </a:moveTo>
                <a:moveTo>
                  <a:pt x="983" y="354"/>
                </a:moveTo>
                <a:moveTo>
                  <a:pt x="983" y="345"/>
                </a:moveTo>
                <a:moveTo>
                  <a:pt x="982" y="340"/>
                </a:moveTo>
                <a:moveTo>
                  <a:pt x="984" y="329"/>
                </a:moveTo>
                <a:moveTo>
                  <a:pt x="980" y="325"/>
                </a:moveTo>
                <a:moveTo>
                  <a:pt x="979" y="324"/>
                </a:moveTo>
                <a:moveTo>
                  <a:pt x="977" y="326"/>
                </a:moveTo>
                <a:moveTo>
                  <a:pt x="978" y="327"/>
                </a:moveTo>
                <a:moveTo>
                  <a:pt x="983" y="330"/>
                </a:moveTo>
                <a:moveTo>
                  <a:pt x="981" y="346"/>
                </a:moveTo>
                <a:moveTo>
                  <a:pt x="981" y="352"/>
                </a:moveTo>
                <a:moveTo>
                  <a:pt x="980" y="358"/>
                </a:moveTo>
                <a:moveTo>
                  <a:pt x="980" y="364"/>
                </a:moveTo>
                <a:moveTo>
                  <a:pt x="980" y="370"/>
                </a:moveTo>
                <a:moveTo>
                  <a:pt x="979" y="369"/>
                </a:moveTo>
                <a:moveTo>
                  <a:pt x="977" y="368"/>
                </a:moveTo>
                <a:moveTo>
                  <a:pt x="976" y="367"/>
                </a:moveTo>
                <a:moveTo>
                  <a:pt x="974" y="366"/>
                </a:moveTo>
                <a:moveTo>
                  <a:pt x="974" y="368"/>
                </a:moveTo>
                <a:moveTo>
                  <a:pt x="974" y="369"/>
                </a:moveTo>
                <a:moveTo>
                  <a:pt x="972" y="368"/>
                </a:moveTo>
                <a:moveTo>
                  <a:pt x="969" y="367"/>
                </a:moveTo>
                <a:moveTo>
                  <a:pt x="966" y="365"/>
                </a:moveTo>
                <a:moveTo>
                  <a:pt x="966" y="365"/>
                </a:moveTo>
                <a:moveTo>
                  <a:pt x="966" y="364"/>
                </a:moveTo>
                <a:moveTo>
                  <a:pt x="966" y="364"/>
                </a:moveTo>
                <a:moveTo>
                  <a:pt x="966" y="364"/>
                </a:moveTo>
                <a:moveTo>
                  <a:pt x="966" y="364"/>
                </a:moveTo>
                <a:moveTo>
                  <a:pt x="966" y="364"/>
                </a:moveTo>
                <a:moveTo>
                  <a:pt x="966" y="356"/>
                </a:moveTo>
                <a:moveTo>
                  <a:pt x="966" y="348"/>
                </a:moveTo>
                <a:moveTo>
                  <a:pt x="966" y="341"/>
                </a:moveTo>
                <a:moveTo>
                  <a:pt x="967" y="345"/>
                </a:moveTo>
                <a:moveTo>
                  <a:pt x="967" y="349"/>
                </a:moveTo>
                <a:moveTo>
                  <a:pt x="967" y="354"/>
                </a:moveTo>
                <a:moveTo>
                  <a:pt x="967" y="354"/>
                </a:moveTo>
                <a:moveTo>
                  <a:pt x="968" y="354"/>
                </a:moveTo>
                <a:moveTo>
                  <a:pt x="968" y="354"/>
                </a:moveTo>
                <a:moveTo>
                  <a:pt x="967" y="345"/>
                </a:moveTo>
                <a:moveTo>
                  <a:pt x="967" y="336"/>
                </a:moveTo>
                <a:moveTo>
                  <a:pt x="967" y="327"/>
                </a:moveTo>
                <a:moveTo>
                  <a:pt x="968" y="327"/>
                </a:moveTo>
                <a:moveTo>
                  <a:pt x="968" y="327"/>
                </a:moveTo>
                <a:moveTo>
                  <a:pt x="968" y="327"/>
                </a:moveTo>
                <a:moveTo>
                  <a:pt x="970" y="328"/>
                </a:moveTo>
                <a:moveTo>
                  <a:pt x="971" y="328"/>
                </a:moveTo>
                <a:moveTo>
                  <a:pt x="973" y="329"/>
                </a:moveTo>
                <a:moveTo>
                  <a:pt x="974" y="329"/>
                </a:moveTo>
                <a:moveTo>
                  <a:pt x="975" y="328"/>
                </a:moveTo>
                <a:moveTo>
                  <a:pt x="974" y="327"/>
                </a:moveTo>
                <a:moveTo>
                  <a:pt x="972" y="326"/>
                </a:moveTo>
                <a:moveTo>
                  <a:pt x="969" y="325"/>
                </a:moveTo>
                <a:moveTo>
                  <a:pt x="967" y="325"/>
                </a:moveTo>
                <a:moveTo>
                  <a:pt x="967" y="323"/>
                </a:moveTo>
                <a:moveTo>
                  <a:pt x="967" y="321"/>
                </a:moveTo>
                <a:moveTo>
                  <a:pt x="967" y="319"/>
                </a:moveTo>
                <a:moveTo>
                  <a:pt x="972" y="318"/>
                </a:moveTo>
                <a:moveTo>
                  <a:pt x="977" y="320"/>
                </a:moveTo>
                <a:moveTo>
                  <a:pt x="980" y="325"/>
                </a:moveTo>
                <a:moveTo>
                  <a:pt x="981" y="326"/>
                </a:moveTo>
                <a:moveTo>
                  <a:pt x="983" y="324"/>
                </a:moveTo>
                <a:moveTo>
                  <a:pt x="982" y="323"/>
                </a:moveTo>
                <a:moveTo>
                  <a:pt x="978" y="318"/>
                </a:moveTo>
                <a:moveTo>
                  <a:pt x="972" y="316"/>
                </a:moveTo>
                <a:moveTo>
                  <a:pt x="967" y="317"/>
                </a:moveTo>
                <a:moveTo>
                  <a:pt x="967" y="317"/>
                </a:moveTo>
                <a:moveTo>
                  <a:pt x="967" y="317"/>
                </a:moveTo>
                <a:moveTo>
                  <a:pt x="967" y="317"/>
                </a:moveTo>
                <a:moveTo>
                  <a:pt x="967" y="316"/>
                </a:moveTo>
                <a:moveTo>
                  <a:pt x="966" y="316"/>
                </a:moveTo>
                <a:moveTo>
                  <a:pt x="966" y="317"/>
                </a:moveTo>
                <a:moveTo>
                  <a:pt x="966" y="317"/>
                </a:moveTo>
                <a:moveTo>
                  <a:pt x="966" y="317"/>
                </a:moveTo>
                <a:moveTo>
                  <a:pt x="966" y="317"/>
                </a:moveTo>
                <a:moveTo>
                  <a:pt x="965" y="317"/>
                </a:moveTo>
                <a:moveTo>
                  <a:pt x="965" y="317"/>
                </a:moveTo>
                <a:moveTo>
                  <a:pt x="965" y="317"/>
                </a:moveTo>
                <a:moveTo>
                  <a:pt x="966" y="303"/>
                </a:moveTo>
                <a:moveTo>
                  <a:pt x="968" y="289"/>
                </a:moveTo>
                <a:moveTo>
                  <a:pt x="967" y="276"/>
                </a:moveTo>
                <a:moveTo>
                  <a:pt x="968" y="276"/>
                </a:moveTo>
                <a:moveTo>
                  <a:pt x="968" y="276"/>
                </a:moveTo>
                <a:moveTo>
                  <a:pt x="968" y="275"/>
                </a:moveTo>
                <a:moveTo>
                  <a:pt x="968" y="274"/>
                </a:moveTo>
                <a:moveTo>
                  <a:pt x="968" y="273"/>
                </a:moveTo>
                <a:moveTo>
                  <a:pt x="968" y="272"/>
                </a:moveTo>
                <a:moveTo>
                  <a:pt x="973" y="285"/>
                </a:moveTo>
                <a:moveTo>
                  <a:pt x="982" y="322"/>
                </a:moveTo>
                <a:moveTo>
                  <a:pt x="984" y="326"/>
                </a:moveTo>
                <a:moveTo>
                  <a:pt x="985" y="328"/>
                </a:moveTo>
                <a:moveTo>
                  <a:pt x="986" y="326"/>
                </a:moveTo>
                <a:moveTo>
                  <a:pt x="986" y="325"/>
                </a:moveTo>
                <a:moveTo>
                  <a:pt x="983" y="320"/>
                </a:moveTo>
                <a:moveTo>
                  <a:pt x="975" y="277"/>
                </a:moveTo>
                <a:moveTo>
                  <a:pt x="968" y="267"/>
                </a:moveTo>
                <a:moveTo>
                  <a:pt x="968" y="264"/>
                </a:moveTo>
                <a:moveTo>
                  <a:pt x="968" y="262"/>
                </a:moveTo>
                <a:moveTo>
                  <a:pt x="968" y="260"/>
                </a:moveTo>
                <a:moveTo>
                  <a:pt x="968" y="259"/>
                </a:moveTo>
                <a:moveTo>
                  <a:pt x="968" y="259"/>
                </a:moveTo>
                <a:moveTo>
                  <a:pt x="968" y="258"/>
                </a:moveTo>
                <a:moveTo>
                  <a:pt x="968" y="258"/>
                </a:moveTo>
                <a:moveTo>
                  <a:pt x="968" y="257"/>
                </a:moveTo>
                <a:moveTo>
                  <a:pt x="967" y="257"/>
                </a:moveTo>
                <a:moveTo>
                  <a:pt x="967" y="254"/>
                </a:moveTo>
                <a:moveTo>
                  <a:pt x="967" y="251"/>
                </a:moveTo>
                <a:moveTo>
                  <a:pt x="967" y="248"/>
                </a:moveTo>
                <a:moveTo>
                  <a:pt x="969" y="248"/>
                </a:moveTo>
                <a:moveTo>
                  <a:pt x="971" y="248"/>
                </a:moveTo>
                <a:moveTo>
                  <a:pt x="973" y="249"/>
                </a:moveTo>
                <a:moveTo>
                  <a:pt x="974" y="249"/>
                </a:moveTo>
                <a:moveTo>
                  <a:pt x="975" y="247"/>
                </a:moveTo>
                <a:moveTo>
                  <a:pt x="973" y="247"/>
                </a:moveTo>
                <a:moveTo>
                  <a:pt x="971" y="246"/>
                </a:moveTo>
                <a:moveTo>
                  <a:pt x="969" y="246"/>
                </a:moveTo>
                <a:moveTo>
                  <a:pt x="967" y="246"/>
                </a:moveTo>
                <a:moveTo>
                  <a:pt x="967" y="245"/>
                </a:moveTo>
                <a:moveTo>
                  <a:pt x="967" y="245"/>
                </a:moveTo>
                <a:moveTo>
                  <a:pt x="967" y="245"/>
                </a:moveTo>
                <a:moveTo>
                  <a:pt x="969" y="245"/>
                </a:moveTo>
                <a:moveTo>
                  <a:pt x="971" y="244"/>
                </a:moveTo>
                <a:moveTo>
                  <a:pt x="973" y="244"/>
                </a:moveTo>
                <a:moveTo>
                  <a:pt x="974" y="244"/>
                </a:moveTo>
                <a:moveTo>
                  <a:pt x="974" y="243"/>
                </a:moveTo>
                <a:moveTo>
                  <a:pt x="973" y="243"/>
                </a:moveTo>
                <a:moveTo>
                  <a:pt x="971" y="243"/>
                </a:moveTo>
                <a:moveTo>
                  <a:pt x="969" y="244"/>
                </a:moveTo>
                <a:moveTo>
                  <a:pt x="967" y="244"/>
                </a:moveTo>
                <a:moveTo>
                  <a:pt x="967" y="241"/>
                </a:moveTo>
                <a:moveTo>
                  <a:pt x="967" y="238"/>
                </a:moveTo>
                <a:moveTo>
                  <a:pt x="967" y="235"/>
                </a:moveTo>
                <a:moveTo>
                  <a:pt x="967" y="235"/>
                </a:moveTo>
                <a:moveTo>
                  <a:pt x="967" y="235"/>
                </a:moveTo>
                <a:moveTo>
                  <a:pt x="967" y="235"/>
                </a:moveTo>
                <a:moveTo>
                  <a:pt x="968" y="235"/>
                </a:moveTo>
                <a:moveTo>
                  <a:pt x="968" y="234"/>
                </a:moveTo>
                <a:moveTo>
                  <a:pt x="968" y="234"/>
                </a:moveTo>
                <a:moveTo>
                  <a:pt x="968" y="231"/>
                </a:moveTo>
                <a:moveTo>
                  <a:pt x="968" y="228"/>
                </a:moveTo>
                <a:moveTo>
                  <a:pt x="968" y="226"/>
                </a:moveTo>
                <a:moveTo>
                  <a:pt x="968" y="224"/>
                </a:moveTo>
                <a:moveTo>
                  <a:pt x="966" y="225"/>
                </a:moveTo>
                <a:moveTo>
                  <a:pt x="966" y="226"/>
                </a:moveTo>
                <a:moveTo>
                  <a:pt x="965" y="232"/>
                </a:moveTo>
                <a:moveTo>
                  <a:pt x="965" y="238"/>
                </a:moveTo>
                <a:moveTo>
                  <a:pt x="964" y="245"/>
                </a:moveTo>
                <a:moveTo>
                  <a:pt x="962" y="245"/>
                </a:moveTo>
                <a:moveTo>
                  <a:pt x="961" y="245"/>
                </a:moveTo>
                <a:moveTo>
                  <a:pt x="959" y="246"/>
                </a:moveTo>
                <a:moveTo>
                  <a:pt x="958" y="246"/>
                </a:moveTo>
                <a:moveTo>
                  <a:pt x="958" y="247"/>
                </a:moveTo>
                <a:moveTo>
                  <a:pt x="959" y="247"/>
                </a:moveTo>
                <a:moveTo>
                  <a:pt x="960" y="247"/>
                </a:moveTo>
                <a:moveTo>
                  <a:pt x="961" y="246"/>
                </a:moveTo>
                <a:moveTo>
                  <a:pt x="962" y="246"/>
                </a:moveTo>
                <a:moveTo>
                  <a:pt x="960" y="247"/>
                </a:moveTo>
                <a:moveTo>
                  <a:pt x="959" y="248"/>
                </a:moveTo>
                <a:moveTo>
                  <a:pt x="958" y="249"/>
                </a:moveTo>
                <a:moveTo>
                  <a:pt x="958" y="250"/>
                </a:moveTo>
                <a:moveTo>
                  <a:pt x="959" y="251"/>
                </a:moveTo>
                <a:moveTo>
                  <a:pt x="960" y="250"/>
                </a:moveTo>
                <a:moveTo>
                  <a:pt x="961" y="249"/>
                </a:moveTo>
                <a:moveTo>
                  <a:pt x="963" y="248"/>
                </a:moveTo>
                <a:moveTo>
                  <a:pt x="964" y="248"/>
                </a:moveTo>
                <a:moveTo>
                  <a:pt x="964" y="253"/>
                </a:moveTo>
                <a:moveTo>
                  <a:pt x="964" y="259"/>
                </a:moveTo>
                <a:moveTo>
                  <a:pt x="964" y="265"/>
                </a:moveTo>
                <a:moveTo>
                  <a:pt x="962" y="272"/>
                </a:moveTo>
                <a:moveTo>
                  <a:pt x="961" y="279"/>
                </a:moveTo>
                <a:moveTo>
                  <a:pt x="959" y="287"/>
                </a:moveTo>
                <a:moveTo>
                  <a:pt x="957" y="295"/>
                </a:moveTo>
                <a:moveTo>
                  <a:pt x="954" y="303"/>
                </a:moveTo>
                <a:moveTo>
                  <a:pt x="953" y="311"/>
                </a:moveTo>
                <a:moveTo>
                  <a:pt x="943" y="278"/>
                </a:moveTo>
                <a:moveTo>
                  <a:pt x="936" y="244"/>
                </a:moveTo>
                <a:moveTo>
                  <a:pt x="922" y="212"/>
                </a:moveTo>
                <a:moveTo>
                  <a:pt x="922" y="211"/>
                </a:moveTo>
                <a:moveTo>
                  <a:pt x="924" y="210"/>
                </a:moveTo>
                <a:moveTo>
                  <a:pt x="925" y="209"/>
                </a:moveTo>
                <a:moveTo>
                  <a:pt x="926" y="208"/>
                </a:moveTo>
                <a:moveTo>
                  <a:pt x="926" y="207"/>
                </a:moveTo>
                <a:moveTo>
                  <a:pt x="927" y="206"/>
                </a:moveTo>
                <a:moveTo>
                  <a:pt x="927" y="206"/>
                </a:moveTo>
                <a:moveTo>
                  <a:pt x="927" y="206"/>
                </a:moveTo>
                <a:moveTo>
                  <a:pt x="926" y="206"/>
                </a:moveTo>
                <a:moveTo>
                  <a:pt x="926" y="205"/>
                </a:moveTo>
                <a:moveTo>
                  <a:pt x="926" y="205"/>
                </a:moveTo>
                <a:moveTo>
                  <a:pt x="927" y="205"/>
                </a:moveTo>
                <a:moveTo>
                  <a:pt x="927" y="205"/>
                </a:moveTo>
                <a:moveTo>
                  <a:pt x="927" y="205"/>
                </a:moveTo>
                <a:moveTo>
                  <a:pt x="927" y="205"/>
                </a:moveTo>
                <a:moveTo>
                  <a:pt x="928" y="205"/>
                </a:moveTo>
                <a:moveTo>
                  <a:pt x="928" y="203"/>
                </a:moveTo>
                <a:moveTo>
                  <a:pt x="927" y="203"/>
                </a:moveTo>
                <a:moveTo>
                  <a:pt x="927" y="203"/>
                </a:moveTo>
                <a:moveTo>
                  <a:pt x="927" y="203"/>
                </a:moveTo>
                <a:moveTo>
                  <a:pt x="926" y="203"/>
                </a:moveTo>
                <a:moveTo>
                  <a:pt x="925" y="197"/>
                </a:moveTo>
                <a:moveTo>
                  <a:pt x="911" y="194"/>
                </a:moveTo>
                <a:moveTo>
                  <a:pt x="905" y="195"/>
                </a:moveTo>
                <a:moveTo>
                  <a:pt x="904" y="195"/>
                </a:moveTo>
                <a:moveTo>
                  <a:pt x="903" y="196"/>
                </a:moveTo>
                <a:moveTo>
                  <a:pt x="902" y="196"/>
                </a:moveTo>
                <a:moveTo>
                  <a:pt x="902" y="193"/>
                </a:moveTo>
                <a:moveTo>
                  <a:pt x="902" y="190"/>
                </a:moveTo>
                <a:moveTo>
                  <a:pt x="902" y="187"/>
                </a:moveTo>
                <a:moveTo>
                  <a:pt x="906" y="186"/>
                </a:moveTo>
                <a:moveTo>
                  <a:pt x="910" y="185"/>
                </a:moveTo>
                <a:moveTo>
                  <a:pt x="914" y="184"/>
                </a:moveTo>
                <a:moveTo>
                  <a:pt x="915" y="184"/>
                </a:moveTo>
                <a:moveTo>
                  <a:pt x="915" y="183"/>
                </a:moveTo>
                <a:moveTo>
                  <a:pt x="914" y="183"/>
                </a:moveTo>
                <a:moveTo>
                  <a:pt x="910" y="184"/>
                </a:moveTo>
                <a:moveTo>
                  <a:pt x="906" y="185"/>
                </a:moveTo>
                <a:moveTo>
                  <a:pt x="902" y="186"/>
                </a:moveTo>
                <a:moveTo>
                  <a:pt x="902" y="185"/>
                </a:moveTo>
                <a:moveTo>
                  <a:pt x="902" y="185"/>
                </a:moveTo>
                <a:moveTo>
                  <a:pt x="902" y="184"/>
                </a:moveTo>
                <a:moveTo>
                  <a:pt x="907" y="184"/>
                </a:moveTo>
                <a:moveTo>
                  <a:pt x="910" y="183"/>
                </a:moveTo>
                <a:moveTo>
                  <a:pt x="911" y="183"/>
                </a:moveTo>
                <a:moveTo>
                  <a:pt x="913" y="183"/>
                </a:moveTo>
                <a:moveTo>
                  <a:pt x="912" y="181"/>
                </a:moveTo>
                <a:moveTo>
                  <a:pt x="911" y="181"/>
                </a:moveTo>
                <a:moveTo>
                  <a:pt x="910" y="181"/>
                </a:moveTo>
                <a:moveTo>
                  <a:pt x="906" y="182"/>
                </a:moveTo>
                <a:moveTo>
                  <a:pt x="902" y="182"/>
                </a:moveTo>
                <a:moveTo>
                  <a:pt x="902" y="181"/>
                </a:moveTo>
                <a:moveTo>
                  <a:pt x="902" y="181"/>
                </a:moveTo>
                <a:moveTo>
                  <a:pt x="902" y="180"/>
                </a:moveTo>
                <a:moveTo>
                  <a:pt x="902" y="180"/>
                </a:moveTo>
                <a:moveTo>
                  <a:pt x="902" y="180"/>
                </a:moveTo>
                <a:moveTo>
                  <a:pt x="902" y="180"/>
                </a:moveTo>
                <a:moveTo>
                  <a:pt x="902" y="178"/>
                </a:moveTo>
                <a:moveTo>
                  <a:pt x="900" y="178"/>
                </a:moveTo>
                <a:moveTo>
                  <a:pt x="900" y="180"/>
                </a:moveTo>
                <a:moveTo>
                  <a:pt x="900" y="180"/>
                </a:moveTo>
                <a:moveTo>
                  <a:pt x="900" y="180"/>
                </a:moveTo>
                <a:moveTo>
                  <a:pt x="900" y="180"/>
                </a:moveTo>
                <a:moveTo>
                  <a:pt x="900" y="181"/>
                </a:moveTo>
                <a:moveTo>
                  <a:pt x="900" y="182"/>
                </a:moveTo>
                <a:moveTo>
                  <a:pt x="900" y="183"/>
                </a:moveTo>
                <a:moveTo>
                  <a:pt x="899" y="183"/>
                </a:moveTo>
                <a:moveTo>
                  <a:pt x="898" y="183"/>
                </a:moveTo>
                <a:moveTo>
                  <a:pt x="897" y="183"/>
                </a:moveTo>
                <a:moveTo>
                  <a:pt x="897" y="181"/>
                </a:moveTo>
                <a:moveTo>
                  <a:pt x="897" y="180"/>
                </a:moveTo>
                <a:moveTo>
                  <a:pt x="897" y="178"/>
                </a:moveTo>
                <a:moveTo>
                  <a:pt x="897" y="177"/>
                </a:moveTo>
                <a:moveTo>
                  <a:pt x="897" y="177"/>
                </a:moveTo>
                <a:moveTo>
                  <a:pt x="896" y="177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9"/>
                </a:moveTo>
                <a:moveTo>
                  <a:pt x="896" y="180"/>
                </a:moveTo>
                <a:moveTo>
                  <a:pt x="896" y="180"/>
                </a:moveTo>
                <a:moveTo>
                  <a:pt x="896" y="180"/>
                </a:moveTo>
                <a:moveTo>
                  <a:pt x="896" y="181"/>
                </a:moveTo>
                <a:moveTo>
                  <a:pt x="896" y="181"/>
                </a:moveTo>
                <a:moveTo>
                  <a:pt x="896" y="181"/>
                </a:moveTo>
                <a:moveTo>
                  <a:pt x="896" y="182"/>
                </a:moveTo>
                <a:moveTo>
                  <a:pt x="896" y="183"/>
                </a:moveTo>
                <a:moveTo>
                  <a:pt x="894" y="184"/>
                </a:moveTo>
                <a:moveTo>
                  <a:pt x="891" y="184"/>
                </a:moveTo>
                <a:moveTo>
                  <a:pt x="888" y="185"/>
                </a:moveTo>
                <a:moveTo>
                  <a:pt x="888" y="173"/>
                </a:moveTo>
                <a:moveTo>
                  <a:pt x="888" y="162"/>
                </a:moveTo>
                <a:moveTo>
                  <a:pt x="888" y="150"/>
                </a:moveTo>
                <a:moveTo>
                  <a:pt x="888" y="150"/>
                </a:moveTo>
                <a:moveTo>
                  <a:pt x="887" y="150"/>
                </a:moveTo>
                <a:moveTo>
                  <a:pt x="887" y="150"/>
                </a:moveTo>
                <a:moveTo>
                  <a:pt x="887" y="151"/>
                </a:moveTo>
                <a:moveTo>
                  <a:pt x="887" y="151"/>
                </a:moveTo>
                <a:moveTo>
                  <a:pt x="887" y="152"/>
                </a:moveTo>
                <a:moveTo>
                  <a:pt x="887" y="152"/>
                </a:moveTo>
                <a:moveTo>
                  <a:pt x="888" y="152"/>
                </a:moveTo>
                <a:moveTo>
                  <a:pt x="888" y="152"/>
                </a:moveTo>
                <a:moveTo>
                  <a:pt x="888" y="161"/>
                </a:moveTo>
                <a:moveTo>
                  <a:pt x="887" y="173"/>
                </a:moveTo>
                <a:moveTo>
                  <a:pt x="887" y="185"/>
                </a:moveTo>
                <a:moveTo>
                  <a:pt x="886" y="185"/>
                </a:moveTo>
                <a:moveTo>
                  <a:pt x="885" y="185"/>
                </a:moveTo>
                <a:moveTo>
                  <a:pt x="884" y="186"/>
                </a:moveTo>
                <a:moveTo>
                  <a:pt x="886" y="170"/>
                </a:moveTo>
                <a:moveTo>
                  <a:pt x="887" y="150"/>
                </a:moveTo>
                <a:moveTo>
                  <a:pt x="883" y="151"/>
                </a:moveTo>
                <a:moveTo>
                  <a:pt x="882" y="151"/>
                </a:moveTo>
                <a:moveTo>
                  <a:pt x="882" y="153"/>
                </a:moveTo>
                <a:moveTo>
                  <a:pt x="883" y="153"/>
                </a:moveTo>
                <a:moveTo>
                  <a:pt x="884" y="153"/>
                </a:moveTo>
                <a:moveTo>
                  <a:pt x="883" y="171"/>
                </a:moveTo>
                <a:moveTo>
                  <a:pt x="882" y="186"/>
                </a:moveTo>
                <a:moveTo>
                  <a:pt x="879" y="187"/>
                </a:moveTo>
                <a:moveTo>
                  <a:pt x="876" y="188"/>
                </a:moveTo>
                <a:moveTo>
                  <a:pt x="873" y="189"/>
                </a:moveTo>
                <a:moveTo>
                  <a:pt x="873" y="188"/>
                </a:moveTo>
                <a:moveTo>
                  <a:pt x="873" y="187"/>
                </a:moveTo>
                <a:moveTo>
                  <a:pt x="873" y="186"/>
                </a:moveTo>
                <a:moveTo>
                  <a:pt x="873" y="186"/>
                </a:moveTo>
                <a:moveTo>
                  <a:pt x="874" y="185"/>
                </a:moveTo>
                <a:moveTo>
                  <a:pt x="874" y="185"/>
                </a:moveTo>
                <a:moveTo>
                  <a:pt x="873" y="184"/>
                </a:moveTo>
                <a:moveTo>
                  <a:pt x="873" y="184"/>
                </a:moveTo>
                <a:moveTo>
                  <a:pt x="873" y="184"/>
                </a:moveTo>
                <a:moveTo>
                  <a:pt x="872" y="183"/>
                </a:moveTo>
                <a:moveTo>
                  <a:pt x="872" y="184"/>
                </a:moveTo>
                <a:moveTo>
                  <a:pt x="872" y="184"/>
                </a:moveTo>
                <a:moveTo>
                  <a:pt x="872" y="186"/>
                </a:moveTo>
                <a:moveTo>
                  <a:pt x="872" y="188"/>
                </a:moveTo>
                <a:moveTo>
                  <a:pt x="872" y="189"/>
                </a:moveTo>
                <a:moveTo>
                  <a:pt x="871" y="190"/>
                </a:moveTo>
                <a:moveTo>
                  <a:pt x="871" y="190"/>
                </a:moveTo>
                <a:moveTo>
                  <a:pt x="870" y="190"/>
                </a:moveTo>
                <a:moveTo>
                  <a:pt x="870" y="190"/>
                </a:moveTo>
                <a:moveTo>
                  <a:pt x="870" y="189"/>
                </a:moveTo>
                <a:moveTo>
                  <a:pt x="870" y="188"/>
                </a:moveTo>
                <a:moveTo>
                  <a:pt x="870" y="187"/>
                </a:moveTo>
                <a:moveTo>
                  <a:pt x="870" y="186"/>
                </a:moveTo>
                <a:moveTo>
                  <a:pt x="870" y="185"/>
                </a:moveTo>
                <a:moveTo>
                  <a:pt x="870" y="184"/>
                </a:moveTo>
                <a:moveTo>
                  <a:pt x="868" y="184"/>
                </a:moveTo>
                <a:moveTo>
                  <a:pt x="868" y="185"/>
                </a:moveTo>
                <a:moveTo>
                  <a:pt x="868" y="186"/>
                </a:moveTo>
                <a:moveTo>
                  <a:pt x="868" y="187"/>
                </a:moveTo>
                <a:moveTo>
                  <a:pt x="868" y="188"/>
                </a:moveTo>
                <a:moveTo>
                  <a:pt x="868" y="189"/>
                </a:moveTo>
                <a:moveTo>
                  <a:pt x="868" y="190"/>
                </a:moveTo>
                <a:moveTo>
                  <a:pt x="868" y="192"/>
                </a:moveTo>
                <a:moveTo>
                  <a:pt x="867" y="193"/>
                </a:moveTo>
                <a:moveTo>
                  <a:pt x="866" y="193"/>
                </a:moveTo>
                <a:moveTo>
                  <a:pt x="866" y="194"/>
                </a:moveTo>
                <a:moveTo>
                  <a:pt x="866" y="194"/>
                </a:moveTo>
                <a:moveTo>
                  <a:pt x="865" y="195"/>
                </a:moveTo>
                <a:moveTo>
                  <a:pt x="863" y="196"/>
                </a:moveTo>
                <a:moveTo>
                  <a:pt x="863" y="196"/>
                </a:moveTo>
                <a:moveTo>
                  <a:pt x="863" y="197"/>
                </a:moveTo>
                <a:moveTo>
                  <a:pt x="864" y="197"/>
                </a:moveTo>
                <a:moveTo>
                  <a:pt x="864" y="197"/>
                </a:moveTo>
                <a:moveTo>
                  <a:pt x="865" y="196"/>
                </a:moveTo>
                <a:moveTo>
                  <a:pt x="866" y="196"/>
                </a:moveTo>
                <a:moveTo>
                  <a:pt x="866" y="196"/>
                </a:moveTo>
                <a:moveTo>
                  <a:pt x="866" y="196"/>
                </a:moveTo>
                <a:moveTo>
                  <a:pt x="866" y="196"/>
                </a:moveTo>
                <a:moveTo>
                  <a:pt x="867" y="197"/>
                </a:moveTo>
                <a:moveTo>
                  <a:pt x="868" y="197"/>
                </a:moveTo>
                <a:moveTo>
                  <a:pt x="868" y="196"/>
                </a:moveTo>
                <a:moveTo>
                  <a:pt x="868" y="196"/>
                </a:moveTo>
                <a:moveTo>
                  <a:pt x="868" y="196"/>
                </a:moveTo>
                <a:moveTo>
                  <a:pt x="868" y="196"/>
                </a:moveTo>
                <a:moveTo>
                  <a:pt x="868" y="199"/>
                </a:moveTo>
                <a:moveTo>
                  <a:pt x="868" y="202"/>
                </a:moveTo>
                <a:moveTo>
                  <a:pt x="868" y="205"/>
                </a:moveTo>
                <a:moveTo>
                  <a:pt x="861" y="206"/>
                </a:moveTo>
                <a:moveTo>
                  <a:pt x="854" y="209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5"/>
                </a:moveTo>
                <a:moveTo>
                  <a:pt x="852" y="215"/>
                </a:moveTo>
                <a:moveTo>
                  <a:pt x="851" y="215"/>
                </a:moveTo>
                <a:moveTo>
                  <a:pt x="851" y="216"/>
                </a:moveTo>
                <a:moveTo>
                  <a:pt x="852" y="218"/>
                </a:moveTo>
                <a:moveTo>
                  <a:pt x="854" y="221"/>
                </a:moveTo>
                <a:moveTo>
                  <a:pt x="856" y="222"/>
                </a:moveTo>
                <a:moveTo>
                  <a:pt x="855" y="226"/>
                </a:moveTo>
                <a:moveTo>
                  <a:pt x="852" y="232"/>
                </a:moveTo>
                <a:moveTo>
                  <a:pt x="850" y="236"/>
                </a:moveTo>
                <a:moveTo>
                  <a:pt x="843" y="255"/>
                </a:moveTo>
                <a:moveTo>
                  <a:pt x="838" y="276"/>
                </a:moveTo>
                <a:moveTo>
                  <a:pt x="830" y="296"/>
                </a:moveTo>
                <a:moveTo>
                  <a:pt x="830" y="297"/>
                </a:moveTo>
                <a:moveTo>
                  <a:pt x="832" y="297"/>
                </a:moveTo>
                <a:moveTo>
                  <a:pt x="832" y="296"/>
                </a:moveTo>
                <a:moveTo>
                  <a:pt x="838" y="281"/>
                </a:moveTo>
                <a:moveTo>
                  <a:pt x="843" y="265"/>
                </a:moveTo>
                <a:moveTo>
                  <a:pt x="848" y="249"/>
                </a:moveTo>
                <a:moveTo>
                  <a:pt x="851" y="241"/>
                </a:moveTo>
                <a:moveTo>
                  <a:pt x="854" y="232"/>
                </a:moveTo>
                <a:moveTo>
                  <a:pt x="857" y="224"/>
                </a:moveTo>
                <a:moveTo>
                  <a:pt x="858" y="223"/>
                </a:moveTo>
                <a:moveTo>
                  <a:pt x="860" y="220"/>
                </a:moveTo>
                <a:moveTo>
                  <a:pt x="860" y="218"/>
                </a:moveTo>
                <a:moveTo>
                  <a:pt x="860" y="218"/>
                </a:moveTo>
                <a:moveTo>
                  <a:pt x="861" y="218"/>
                </a:moveTo>
                <a:moveTo>
                  <a:pt x="861" y="218"/>
                </a:moveTo>
                <a:moveTo>
                  <a:pt x="861" y="218"/>
                </a:moveTo>
                <a:moveTo>
                  <a:pt x="861" y="217"/>
                </a:moveTo>
                <a:moveTo>
                  <a:pt x="861" y="217"/>
                </a:moveTo>
                <a:moveTo>
                  <a:pt x="862" y="217"/>
                </a:moveTo>
                <a:moveTo>
                  <a:pt x="864" y="216"/>
                </a:moveTo>
                <a:moveTo>
                  <a:pt x="866" y="216"/>
                </a:moveTo>
                <a:moveTo>
                  <a:pt x="864" y="217"/>
                </a:moveTo>
                <a:moveTo>
                  <a:pt x="862" y="219"/>
                </a:moveTo>
                <a:moveTo>
                  <a:pt x="862" y="222"/>
                </a:moveTo>
                <a:moveTo>
                  <a:pt x="862" y="222"/>
                </a:moveTo>
                <a:moveTo>
                  <a:pt x="862" y="222"/>
                </a:moveTo>
                <a:moveTo>
                  <a:pt x="862" y="222"/>
                </a:moveTo>
                <a:moveTo>
                  <a:pt x="862" y="223"/>
                </a:moveTo>
                <a:moveTo>
                  <a:pt x="861" y="224"/>
                </a:moveTo>
                <a:moveTo>
                  <a:pt x="861" y="225"/>
                </a:moveTo>
                <a:moveTo>
                  <a:pt x="861" y="225"/>
                </a:moveTo>
                <a:moveTo>
                  <a:pt x="861" y="225"/>
                </a:moveTo>
                <a:moveTo>
                  <a:pt x="861" y="225"/>
                </a:moveTo>
                <a:moveTo>
                  <a:pt x="855" y="224"/>
                </a:moveTo>
                <a:moveTo>
                  <a:pt x="850" y="248"/>
                </a:moveTo>
                <a:moveTo>
                  <a:pt x="849" y="252"/>
                </a:moveTo>
                <a:moveTo>
                  <a:pt x="843" y="269"/>
                </a:moveTo>
                <a:moveTo>
                  <a:pt x="839" y="289"/>
                </a:moveTo>
                <a:moveTo>
                  <a:pt x="830" y="305"/>
                </a:moveTo>
                <a:moveTo>
                  <a:pt x="830" y="306"/>
                </a:moveTo>
                <a:moveTo>
                  <a:pt x="831" y="307"/>
                </a:moveTo>
                <a:moveTo>
                  <a:pt x="832" y="306"/>
                </a:moveTo>
                <a:moveTo>
                  <a:pt x="839" y="294"/>
                </a:moveTo>
                <a:moveTo>
                  <a:pt x="842" y="279"/>
                </a:moveTo>
                <a:moveTo>
                  <a:pt x="847" y="265"/>
                </a:moveTo>
                <a:moveTo>
                  <a:pt x="848" y="261"/>
                </a:moveTo>
                <a:moveTo>
                  <a:pt x="855" y="230"/>
                </a:moveTo>
                <a:moveTo>
                  <a:pt x="860" y="227"/>
                </a:moveTo>
                <a:moveTo>
                  <a:pt x="859" y="232"/>
                </a:moveTo>
                <a:moveTo>
                  <a:pt x="858" y="238"/>
                </a:moveTo>
                <a:moveTo>
                  <a:pt x="856" y="243"/>
                </a:moveTo>
                <a:moveTo>
                  <a:pt x="856" y="243"/>
                </a:moveTo>
                <a:moveTo>
                  <a:pt x="856" y="243"/>
                </a:moveTo>
                <a:moveTo>
                  <a:pt x="856" y="243"/>
                </a:moveTo>
                <a:moveTo>
                  <a:pt x="855" y="248"/>
                </a:moveTo>
                <a:moveTo>
                  <a:pt x="853" y="253"/>
                </a:moveTo>
                <a:moveTo>
                  <a:pt x="851" y="257"/>
                </a:moveTo>
                <a:moveTo>
                  <a:pt x="845" y="275"/>
                </a:moveTo>
                <a:moveTo>
                  <a:pt x="837" y="291"/>
                </a:moveTo>
                <a:moveTo>
                  <a:pt x="834" y="310"/>
                </a:moveTo>
                <a:moveTo>
                  <a:pt x="833" y="310"/>
                </a:moveTo>
                <a:moveTo>
                  <a:pt x="834" y="311"/>
                </a:moveTo>
                <a:moveTo>
                  <a:pt x="834" y="310"/>
                </a:moveTo>
                <a:moveTo>
                  <a:pt x="835" y="309"/>
                </a:moveTo>
                <a:moveTo>
                  <a:pt x="835" y="309"/>
                </a:moveTo>
                <a:moveTo>
                  <a:pt x="836" y="308"/>
                </a:moveTo>
                <a:moveTo>
                  <a:pt x="836" y="307"/>
                </a:moveTo>
                <a:moveTo>
                  <a:pt x="835" y="307"/>
                </a:moveTo>
                <a:moveTo>
                  <a:pt x="835" y="307"/>
                </a:moveTo>
                <a:moveTo>
                  <a:pt x="838" y="302"/>
                </a:moveTo>
                <a:moveTo>
                  <a:pt x="838" y="294"/>
                </a:moveTo>
                <a:moveTo>
                  <a:pt x="840" y="289"/>
                </a:moveTo>
                <a:moveTo>
                  <a:pt x="843" y="281"/>
                </a:moveTo>
                <a:moveTo>
                  <a:pt x="846" y="272"/>
                </a:moveTo>
                <a:moveTo>
                  <a:pt x="850" y="264"/>
                </a:moveTo>
                <a:moveTo>
                  <a:pt x="856" y="249"/>
                </a:moveTo>
                <a:moveTo>
                  <a:pt x="860" y="231"/>
                </a:moveTo>
                <a:moveTo>
                  <a:pt x="869" y="217"/>
                </a:moveTo>
                <a:moveTo>
                  <a:pt x="869" y="216"/>
                </a:moveTo>
                <a:moveTo>
                  <a:pt x="869" y="216"/>
                </a:moveTo>
                <a:moveTo>
                  <a:pt x="869" y="216"/>
                </a:moveTo>
                <a:moveTo>
                  <a:pt x="870" y="216"/>
                </a:moveTo>
                <a:moveTo>
                  <a:pt x="870" y="215"/>
                </a:moveTo>
                <a:moveTo>
                  <a:pt x="871" y="215"/>
                </a:moveTo>
                <a:moveTo>
                  <a:pt x="872" y="215"/>
                </a:moveTo>
                <a:moveTo>
                  <a:pt x="872" y="215"/>
                </a:moveTo>
                <a:moveTo>
                  <a:pt x="873" y="215"/>
                </a:moveTo>
                <a:moveTo>
                  <a:pt x="869" y="225"/>
                </a:moveTo>
                <a:moveTo>
                  <a:pt x="865" y="235"/>
                </a:moveTo>
                <a:moveTo>
                  <a:pt x="861" y="246"/>
                </a:moveTo>
                <a:moveTo>
                  <a:pt x="858" y="254"/>
                </a:moveTo>
                <a:moveTo>
                  <a:pt x="854" y="263"/>
                </a:moveTo>
                <a:moveTo>
                  <a:pt x="854" y="273"/>
                </a:moveTo>
                <a:moveTo>
                  <a:pt x="854" y="273"/>
                </a:moveTo>
                <a:moveTo>
                  <a:pt x="855" y="273"/>
                </a:moveTo>
                <a:moveTo>
                  <a:pt x="855" y="273"/>
                </a:moveTo>
                <a:moveTo>
                  <a:pt x="855" y="252"/>
                </a:moveTo>
                <a:moveTo>
                  <a:pt x="871" y="23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6" y="214"/>
                </a:moveTo>
                <a:moveTo>
                  <a:pt x="877" y="214"/>
                </a:moveTo>
                <a:moveTo>
                  <a:pt x="878" y="214"/>
                </a:moveTo>
                <a:moveTo>
                  <a:pt x="878" y="214"/>
                </a:moveTo>
                <a:moveTo>
                  <a:pt x="878" y="215"/>
                </a:moveTo>
                <a:moveTo>
                  <a:pt x="878" y="214"/>
                </a:moveTo>
                <a:moveTo>
                  <a:pt x="873" y="222"/>
                </a:moveTo>
                <a:moveTo>
                  <a:pt x="871" y="233"/>
                </a:moveTo>
                <a:moveTo>
                  <a:pt x="868" y="242"/>
                </a:moveTo>
                <a:moveTo>
                  <a:pt x="867" y="243"/>
                </a:moveTo>
                <a:moveTo>
                  <a:pt x="867" y="243"/>
                </a:moveTo>
                <a:moveTo>
                  <a:pt x="867" y="244"/>
                </a:moveTo>
                <a:moveTo>
                  <a:pt x="866" y="245"/>
                </a:moveTo>
                <a:moveTo>
                  <a:pt x="866" y="246"/>
                </a:moveTo>
                <a:moveTo>
                  <a:pt x="866" y="247"/>
                </a:moveTo>
                <a:moveTo>
                  <a:pt x="862" y="256"/>
                </a:moveTo>
                <a:moveTo>
                  <a:pt x="857" y="26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5"/>
                </a:moveTo>
                <a:moveTo>
                  <a:pt x="856" y="275"/>
                </a:moveTo>
                <a:moveTo>
                  <a:pt x="856" y="275"/>
                </a:moveTo>
                <a:moveTo>
                  <a:pt x="856" y="275"/>
                </a:moveTo>
                <a:moveTo>
                  <a:pt x="856" y="275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5" y="275"/>
                </a:moveTo>
                <a:moveTo>
                  <a:pt x="855" y="275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4" y="276"/>
                </a:moveTo>
                <a:moveTo>
                  <a:pt x="854" y="276"/>
                </a:moveTo>
                <a:moveTo>
                  <a:pt x="854" y="276"/>
                </a:moveTo>
                <a:moveTo>
                  <a:pt x="854" y="276"/>
                </a:moveTo>
                <a:moveTo>
                  <a:pt x="854" y="276"/>
                </a:moveTo>
                <a:moveTo>
                  <a:pt x="854" y="277"/>
                </a:moveTo>
                <a:moveTo>
                  <a:pt x="854" y="277"/>
                </a:moveTo>
                <a:moveTo>
                  <a:pt x="854" y="277"/>
                </a:moveTo>
                <a:moveTo>
                  <a:pt x="854" y="277"/>
                </a:moveTo>
                <a:moveTo>
                  <a:pt x="854" y="277"/>
                </a:moveTo>
                <a:moveTo>
                  <a:pt x="855" y="278"/>
                </a:moveTo>
                <a:moveTo>
                  <a:pt x="855" y="279"/>
                </a:moveTo>
                <a:moveTo>
                  <a:pt x="855" y="279"/>
                </a:moveTo>
                <a:moveTo>
                  <a:pt x="855" y="280"/>
                </a:moveTo>
                <a:moveTo>
                  <a:pt x="854" y="281"/>
                </a:moveTo>
                <a:moveTo>
                  <a:pt x="854" y="279"/>
                </a:moveTo>
                <a:moveTo>
                  <a:pt x="853" y="277"/>
                </a:moveTo>
                <a:moveTo>
                  <a:pt x="852" y="276"/>
                </a:moveTo>
                <a:moveTo>
                  <a:pt x="852" y="275"/>
                </a:moveTo>
                <a:moveTo>
                  <a:pt x="852" y="275"/>
                </a:moveTo>
                <a:moveTo>
                  <a:pt x="851" y="275"/>
                </a:moveTo>
                <a:moveTo>
                  <a:pt x="851" y="275"/>
                </a:moveTo>
                <a:moveTo>
                  <a:pt x="851" y="275"/>
                </a:moveTo>
                <a:moveTo>
                  <a:pt x="850" y="275"/>
                </a:moveTo>
                <a:moveTo>
                  <a:pt x="851" y="273"/>
                </a:moveTo>
                <a:moveTo>
                  <a:pt x="851" y="272"/>
                </a:moveTo>
                <a:moveTo>
                  <a:pt x="851" y="270"/>
                </a:moveTo>
                <a:moveTo>
                  <a:pt x="854" y="266"/>
                </a:moveTo>
                <a:moveTo>
                  <a:pt x="855" y="260"/>
                </a:moveTo>
                <a:moveTo>
                  <a:pt x="856" y="255"/>
                </a:moveTo>
                <a:moveTo>
                  <a:pt x="859" y="243"/>
                </a:moveTo>
                <a:moveTo>
                  <a:pt x="867" y="232"/>
                </a:moveTo>
                <a:moveTo>
                  <a:pt x="869" y="220"/>
                </a:moveTo>
                <a:moveTo>
                  <a:pt x="868" y="221"/>
                </a:moveTo>
                <a:moveTo>
                  <a:pt x="869" y="221"/>
                </a:moveTo>
                <a:moveTo>
                  <a:pt x="870" y="220"/>
                </a:moveTo>
                <a:moveTo>
                  <a:pt x="870" y="220"/>
                </a:moveTo>
                <a:moveTo>
                  <a:pt x="870" y="219"/>
                </a:moveTo>
                <a:moveTo>
                  <a:pt x="870" y="218"/>
                </a:moveTo>
                <a:moveTo>
                  <a:pt x="870" y="217"/>
                </a:moveTo>
                <a:moveTo>
                  <a:pt x="869" y="217"/>
                </a:moveTo>
                <a:moveTo>
                  <a:pt x="869" y="218"/>
                </a:moveTo>
                <a:moveTo>
                  <a:pt x="865" y="227"/>
                </a:moveTo>
                <a:moveTo>
                  <a:pt x="862" y="237"/>
                </a:moveTo>
                <a:moveTo>
                  <a:pt x="858" y="247"/>
                </a:moveTo>
                <a:moveTo>
                  <a:pt x="855" y="254"/>
                </a:moveTo>
                <a:moveTo>
                  <a:pt x="855" y="264"/>
                </a:moveTo>
                <a:moveTo>
                  <a:pt x="850" y="271"/>
                </a:moveTo>
                <a:moveTo>
                  <a:pt x="850" y="271"/>
                </a:moveTo>
                <a:moveTo>
                  <a:pt x="850" y="271"/>
                </a:moveTo>
                <a:moveTo>
                  <a:pt x="850" y="271"/>
                </a:moveTo>
                <a:moveTo>
                  <a:pt x="849" y="271"/>
                </a:moveTo>
                <a:moveTo>
                  <a:pt x="849" y="271"/>
                </a:moveTo>
                <a:moveTo>
                  <a:pt x="849" y="272"/>
                </a:moveTo>
                <a:moveTo>
                  <a:pt x="849" y="272"/>
                </a:moveTo>
                <a:moveTo>
                  <a:pt x="849" y="272"/>
                </a:moveTo>
                <a:moveTo>
                  <a:pt x="849" y="272"/>
                </a:moveTo>
                <a:moveTo>
                  <a:pt x="849" y="272"/>
                </a:moveTo>
                <a:moveTo>
                  <a:pt x="849" y="273"/>
                </a:moveTo>
                <a:moveTo>
                  <a:pt x="849" y="273"/>
                </a:moveTo>
                <a:moveTo>
                  <a:pt x="849" y="274"/>
                </a:moveTo>
                <a:moveTo>
                  <a:pt x="848" y="275"/>
                </a:moveTo>
                <a:moveTo>
                  <a:pt x="848" y="276"/>
                </a:moveTo>
                <a:moveTo>
                  <a:pt x="847" y="277"/>
                </a:moveTo>
                <a:moveTo>
                  <a:pt x="847" y="279"/>
                </a:moveTo>
                <a:moveTo>
                  <a:pt x="846" y="281"/>
                </a:moveTo>
                <a:moveTo>
                  <a:pt x="846" y="280"/>
                </a:moveTo>
                <a:moveTo>
                  <a:pt x="846" y="280"/>
                </a:moveTo>
                <a:moveTo>
                  <a:pt x="846" y="280"/>
                </a:moveTo>
                <a:moveTo>
                  <a:pt x="846" y="278"/>
                </a:moveTo>
                <a:moveTo>
                  <a:pt x="844" y="279"/>
                </a:moveTo>
                <a:moveTo>
                  <a:pt x="844" y="280"/>
                </a:moveTo>
                <a:moveTo>
                  <a:pt x="846" y="284"/>
                </a:moveTo>
                <a:moveTo>
                  <a:pt x="844" y="289"/>
                </a:moveTo>
                <a:moveTo>
                  <a:pt x="843" y="292"/>
                </a:moveTo>
                <a:moveTo>
                  <a:pt x="842" y="298"/>
                </a:moveTo>
                <a:moveTo>
                  <a:pt x="839" y="304"/>
                </a:moveTo>
                <a:moveTo>
                  <a:pt x="836" y="309"/>
                </a:moveTo>
                <a:moveTo>
                  <a:pt x="836" y="310"/>
                </a:moveTo>
                <a:moveTo>
                  <a:pt x="837" y="311"/>
                </a:moveTo>
                <a:moveTo>
                  <a:pt x="838" y="310"/>
                </a:moveTo>
                <a:moveTo>
                  <a:pt x="836" y="320"/>
                </a:moveTo>
                <a:moveTo>
                  <a:pt x="835" y="334"/>
                </a:moveTo>
                <a:moveTo>
                  <a:pt x="835" y="343"/>
                </a:moveTo>
                <a:moveTo>
                  <a:pt x="832" y="343"/>
                </a:moveTo>
                <a:moveTo>
                  <a:pt x="829" y="344"/>
                </a:moveTo>
                <a:moveTo>
                  <a:pt x="827" y="345"/>
                </a:moveTo>
                <a:moveTo>
                  <a:pt x="826" y="345"/>
                </a:moveTo>
                <a:moveTo>
                  <a:pt x="826" y="347"/>
                </a:moveTo>
                <a:moveTo>
                  <a:pt x="827" y="347"/>
                </a:moveTo>
                <a:moveTo>
                  <a:pt x="830" y="346"/>
                </a:moveTo>
                <a:moveTo>
                  <a:pt x="832" y="346"/>
                </a:moveTo>
                <a:moveTo>
                  <a:pt x="835" y="345"/>
                </a:moveTo>
                <a:moveTo>
                  <a:pt x="834" y="347"/>
                </a:moveTo>
                <a:moveTo>
                  <a:pt x="834" y="349"/>
                </a:moveTo>
                <a:moveTo>
                  <a:pt x="834" y="350"/>
                </a:moveTo>
                <a:moveTo>
                  <a:pt x="834" y="351"/>
                </a:moveTo>
                <a:moveTo>
                  <a:pt x="836" y="351"/>
                </a:moveTo>
                <a:moveTo>
                  <a:pt x="836" y="350"/>
                </a:moveTo>
                <a:moveTo>
                  <a:pt x="836" y="349"/>
                </a:moveTo>
                <a:moveTo>
                  <a:pt x="837" y="347"/>
                </a:moveTo>
                <a:moveTo>
                  <a:pt x="837" y="344"/>
                </a:moveTo>
                <a:moveTo>
                  <a:pt x="838" y="344"/>
                </a:moveTo>
                <a:moveTo>
                  <a:pt x="840" y="344"/>
                </a:moveTo>
                <a:moveTo>
                  <a:pt x="841" y="344"/>
                </a:moveTo>
                <a:moveTo>
                  <a:pt x="841" y="346"/>
                </a:moveTo>
                <a:moveTo>
                  <a:pt x="840" y="349"/>
                </a:moveTo>
                <a:moveTo>
                  <a:pt x="840" y="352"/>
                </a:moveTo>
                <a:moveTo>
                  <a:pt x="840" y="352"/>
                </a:moveTo>
                <a:moveTo>
                  <a:pt x="841" y="352"/>
                </a:moveTo>
                <a:moveTo>
                  <a:pt x="841" y="352"/>
                </a:moveTo>
                <a:moveTo>
                  <a:pt x="841" y="352"/>
                </a:moveTo>
                <a:moveTo>
                  <a:pt x="841" y="351"/>
                </a:moveTo>
                <a:moveTo>
                  <a:pt x="841" y="351"/>
                </a:moveTo>
                <a:moveTo>
                  <a:pt x="841" y="351"/>
                </a:moveTo>
                <a:moveTo>
                  <a:pt x="841" y="351"/>
                </a:moveTo>
                <a:moveTo>
                  <a:pt x="841" y="351"/>
                </a:moveTo>
                <a:moveTo>
                  <a:pt x="841" y="350"/>
                </a:moveTo>
                <a:moveTo>
                  <a:pt x="841" y="349"/>
                </a:moveTo>
                <a:moveTo>
                  <a:pt x="841" y="348"/>
                </a:moveTo>
                <a:moveTo>
                  <a:pt x="841" y="347"/>
                </a:moveTo>
                <a:moveTo>
                  <a:pt x="841" y="346"/>
                </a:moveTo>
                <a:moveTo>
                  <a:pt x="841" y="345"/>
                </a:moveTo>
                <a:moveTo>
                  <a:pt x="841" y="345"/>
                </a:moveTo>
                <a:moveTo>
                  <a:pt x="842" y="345"/>
                </a:moveTo>
                <a:moveTo>
                  <a:pt x="842" y="345"/>
                </a:moveTo>
                <a:moveTo>
                  <a:pt x="842" y="345"/>
                </a:moveTo>
                <a:moveTo>
                  <a:pt x="842" y="344"/>
                </a:moveTo>
                <a:moveTo>
                  <a:pt x="842" y="343"/>
                </a:moveTo>
                <a:moveTo>
                  <a:pt x="842" y="343"/>
                </a:moveTo>
                <a:moveTo>
                  <a:pt x="843" y="343"/>
                </a:moveTo>
                <a:moveTo>
                  <a:pt x="844" y="343"/>
                </a:moveTo>
                <a:moveTo>
                  <a:pt x="843" y="347"/>
                </a:moveTo>
                <a:moveTo>
                  <a:pt x="843" y="350"/>
                </a:moveTo>
                <a:moveTo>
                  <a:pt x="843" y="354"/>
                </a:moveTo>
                <a:moveTo>
                  <a:pt x="843" y="354"/>
                </a:moveTo>
                <a:moveTo>
                  <a:pt x="843" y="354"/>
                </a:moveTo>
                <a:moveTo>
                  <a:pt x="843" y="354"/>
                </a:moveTo>
                <a:moveTo>
                  <a:pt x="844" y="350"/>
                </a:moveTo>
                <a:moveTo>
                  <a:pt x="844" y="347"/>
                </a:moveTo>
                <a:moveTo>
                  <a:pt x="844" y="343"/>
                </a:moveTo>
                <a:moveTo>
                  <a:pt x="845" y="343"/>
                </a:moveTo>
                <a:moveTo>
                  <a:pt x="846" y="342"/>
                </a:moveTo>
                <a:moveTo>
                  <a:pt x="848" y="342"/>
                </a:moveTo>
                <a:moveTo>
                  <a:pt x="847" y="347"/>
                </a:moveTo>
                <a:moveTo>
                  <a:pt x="847" y="351"/>
                </a:moveTo>
                <a:moveTo>
                  <a:pt x="846" y="356"/>
                </a:moveTo>
                <a:moveTo>
                  <a:pt x="845" y="356"/>
                </a:moveTo>
                <a:moveTo>
                  <a:pt x="846" y="356"/>
                </a:moveTo>
                <a:moveTo>
                  <a:pt x="846" y="356"/>
                </a:moveTo>
                <a:moveTo>
                  <a:pt x="847" y="351"/>
                </a:moveTo>
                <a:moveTo>
                  <a:pt x="847" y="347"/>
                </a:moveTo>
                <a:moveTo>
                  <a:pt x="848" y="342"/>
                </a:moveTo>
                <a:moveTo>
                  <a:pt x="848" y="342"/>
                </a:moveTo>
                <a:moveTo>
                  <a:pt x="849" y="342"/>
                </a:moveTo>
                <a:moveTo>
                  <a:pt x="850" y="342"/>
                </a:moveTo>
                <a:moveTo>
                  <a:pt x="850" y="342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2"/>
                </a:moveTo>
                <a:moveTo>
                  <a:pt x="850" y="342"/>
                </a:moveTo>
                <a:moveTo>
                  <a:pt x="853" y="341"/>
                </a:moveTo>
                <a:moveTo>
                  <a:pt x="855" y="341"/>
                </a:moveTo>
                <a:moveTo>
                  <a:pt x="857" y="341"/>
                </a:moveTo>
                <a:moveTo>
                  <a:pt x="856" y="344"/>
                </a:moveTo>
                <a:moveTo>
                  <a:pt x="856" y="346"/>
                </a:moveTo>
                <a:moveTo>
                  <a:pt x="856" y="349"/>
                </a:moveTo>
                <a:moveTo>
                  <a:pt x="856" y="350"/>
                </a:moveTo>
                <a:moveTo>
                  <a:pt x="856" y="351"/>
                </a:moveTo>
                <a:moveTo>
                  <a:pt x="856" y="352"/>
                </a:moveTo>
                <a:moveTo>
                  <a:pt x="855" y="352"/>
                </a:moveTo>
                <a:moveTo>
                  <a:pt x="853" y="352"/>
                </a:moveTo>
                <a:moveTo>
                  <a:pt x="852" y="352"/>
                </a:moveTo>
                <a:moveTo>
                  <a:pt x="852" y="349"/>
                </a:moveTo>
                <a:moveTo>
                  <a:pt x="853" y="345"/>
                </a:moveTo>
                <a:moveTo>
                  <a:pt x="854" y="342"/>
                </a:moveTo>
                <a:moveTo>
                  <a:pt x="854" y="342"/>
                </a:moveTo>
                <a:moveTo>
                  <a:pt x="853" y="342"/>
                </a:moveTo>
                <a:moveTo>
                  <a:pt x="853" y="342"/>
                </a:moveTo>
                <a:moveTo>
                  <a:pt x="852" y="345"/>
                </a:moveTo>
                <a:moveTo>
                  <a:pt x="852" y="349"/>
                </a:moveTo>
                <a:moveTo>
                  <a:pt x="852" y="352"/>
                </a:moveTo>
                <a:moveTo>
                  <a:pt x="849" y="352"/>
                </a:moveTo>
                <a:moveTo>
                  <a:pt x="847" y="353"/>
                </a:moveTo>
                <a:moveTo>
                  <a:pt x="848" y="355"/>
                </a:moveTo>
                <a:moveTo>
                  <a:pt x="848" y="356"/>
                </a:moveTo>
                <a:moveTo>
                  <a:pt x="849" y="356"/>
                </a:moveTo>
                <a:moveTo>
                  <a:pt x="849" y="355"/>
                </a:moveTo>
                <a:moveTo>
                  <a:pt x="849" y="355"/>
                </a:moveTo>
                <a:moveTo>
                  <a:pt x="850" y="354"/>
                </a:moveTo>
                <a:moveTo>
                  <a:pt x="851" y="354"/>
                </a:moveTo>
                <a:moveTo>
                  <a:pt x="851" y="355"/>
                </a:moveTo>
                <a:moveTo>
                  <a:pt x="851" y="357"/>
                </a:moveTo>
                <a:moveTo>
                  <a:pt x="850" y="358"/>
                </a:moveTo>
                <a:moveTo>
                  <a:pt x="850" y="358"/>
                </a:moveTo>
                <a:moveTo>
                  <a:pt x="850" y="358"/>
                </a:moveTo>
                <a:moveTo>
                  <a:pt x="851" y="358"/>
                </a:moveTo>
                <a:moveTo>
                  <a:pt x="851" y="357"/>
                </a:moveTo>
                <a:moveTo>
                  <a:pt x="851" y="355"/>
                </a:moveTo>
                <a:moveTo>
                  <a:pt x="852" y="354"/>
                </a:moveTo>
                <a:moveTo>
                  <a:pt x="853" y="354"/>
                </a:moveTo>
                <a:moveTo>
                  <a:pt x="854" y="353"/>
                </a:moveTo>
                <a:moveTo>
                  <a:pt x="856" y="353"/>
                </a:moveTo>
                <a:moveTo>
                  <a:pt x="856" y="356"/>
                </a:moveTo>
                <a:moveTo>
                  <a:pt x="855" y="358"/>
                </a:moveTo>
                <a:moveTo>
                  <a:pt x="855" y="358"/>
                </a:moveTo>
                <a:moveTo>
                  <a:pt x="855" y="358"/>
                </a:moveTo>
                <a:moveTo>
                  <a:pt x="854" y="359"/>
                </a:moveTo>
                <a:moveTo>
                  <a:pt x="855" y="359"/>
                </a:moveTo>
                <a:moveTo>
                  <a:pt x="856" y="359"/>
                </a:moveTo>
                <a:moveTo>
                  <a:pt x="856" y="357"/>
                </a:moveTo>
                <a:moveTo>
                  <a:pt x="856" y="356"/>
                </a:moveTo>
                <a:moveTo>
                  <a:pt x="856" y="355"/>
                </a:moveTo>
                <a:moveTo>
                  <a:pt x="856" y="354"/>
                </a:moveTo>
                <a:moveTo>
                  <a:pt x="856" y="353"/>
                </a:moveTo>
                <a:moveTo>
                  <a:pt x="857" y="353"/>
                </a:moveTo>
                <a:moveTo>
                  <a:pt x="858" y="353"/>
                </a:moveTo>
                <a:moveTo>
                  <a:pt x="859" y="353"/>
                </a:moveTo>
                <a:moveTo>
                  <a:pt x="859" y="356"/>
                </a:moveTo>
                <a:moveTo>
                  <a:pt x="859" y="358"/>
                </a:moveTo>
                <a:moveTo>
                  <a:pt x="859" y="361"/>
                </a:moveTo>
                <a:moveTo>
                  <a:pt x="859" y="361"/>
                </a:moveTo>
                <a:moveTo>
                  <a:pt x="859" y="361"/>
                </a:moveTo>
                <a:moveTo>
                  <a:pt x="859" y="361"/>
                </a:moveTo>
                <a:moveTo>
                  <a:pt x="859" y="358"/>
                </a:moveTo>
                <a:moveTo>
                  <a:pt x="859" y="356"/>
                </a:moveTo>
                <a:moveTo>
                  <a:pt x="859" y="353"/>
                </a:moveTo>
                <a:moveTo>
                  <a:pt x="860" y="353"/>
                </a:moveTo>
                <a:moveTo>
                  <a:pt x="861" y="353"/>
                </a:moveTo>
                <a:moveTo>
                  <a:pt x="861" y="353"/>
                </a:moveTo>
                <a:moveTo>
                  <a:pt x="861" y="355"/>
                </a:moveTo>
                <a:moveTo>
                  <a:pt x="861" y="358"/>
                </a:moveTo>
                <a:moveTo>
                  <a:pt x="860" y="360"/>
                </a:moveTo>
                <a:moveTo>
                  <a:pt x="860" y="361"/>
                </a:moveTo>
                <a:moveTo>
                  <a:pt x="861" y="361"/>
                </a:moveTo>
                <a:moveTo>
                  <a:pt x="861" y="361"/>
                </a:moveTo>
                <a:moveTo>
                  <a:pt x="861" y="358"/>
                </a:moveTo>
                <a:moveTo>
                  <a:pt x="861" y="355"/>
                </a:moveTo>
                <a:moveTo>
                  <a:pt x="862" y="353"/>
                </a:moveTo>
                <a:moveTo>
                  <a:pt x="863" y="353"/>
                </a:moveTo>
                <a:moveTo>
                  <a:pt x="863" y="353"/>
                </a:moveTo>
                <a:moveTo>
                  <a:pt x="864" y="353"/>
                </a:moveTo>
                <a:moveTo>
                  <a:pt x="864" y="353"/>
                </a:moveTo>
                <a:moveTo>
                  <a:pt x="864" y="352"/>
                </a:moveTo>
                <a:moveTo>
                  <a:pt x="865" y="352"/>
                </a:moveTo>
                <a:moveTo>
                  <a:pt x="865" y="357"/>
                </a:moveTo>
                <a:moveTo>
                  <a:pt x="864" y="362"/>
                </a:moveTo>
                <a:moveTo>
                  <a:pt x="862" y="366"/>
                </a:moveTo>
                <a:moveTo>
                  <a:pt x="853" y="361"/>
                </a:moveTo>
                <a:moveTo>
                  <a:pt x="843" y="356"/>
                </a:moveTo>
                <a:moveTo>
                  <a:pt x="833" y="352"/>
                </a:moveTo>
                <a:moveTo>
                  <a:pt x="830" y="351"/>
                </a:moveTo>
                <a:moveTo>
                  <a:pt x="827" y="350"/>
                </a:moveTo>
                <a:moveTo>
                  <a:pt x="824" y="348"/>
                </a:moveTo>
                <a:moveTo>
                  <a:pt x="824" y="347"/>
                </a:moveTo>
                <a:moveTo>
                  <a:pt x="824" y="346"/>
                </a:moveTo>
                <a:moveTo>
                  <a:pt x="824" y="345"/>
                </a:moveTo>
                <a:moveTo>
                  <a:pt x="825" y="345"/>
                </a:moveTo>
                <a:moveTo>
                  <a:pt x="826" y="345"/>
                </a:moveTo>
                <a:moveTo>
                  <a:pt x="826" y="344"/>
                </a:moveTo>
                <a:moveTo>
                  <a:pt x="826" y="342"/>
                </a:moveTo>
                <a:moveTo>
                  <a:pt x="825" y="340"/>
                </a:moveTo>
                <a:moveTo>
                  <a:pt x="825" y="339"/>
                </a:moveTo>
                <a:moveTo>
                  <a:pt x="825" y="335"/>
                </a:moveTo>
                <a:moveTo>
                  <a:pt x="825" y="332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30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8"/>
                </a:moveTo>
                <a:moveTo>
                  <a:pt x="826" y="328"/>
                </a:moveTo>
                <a:moveTo>
                  <a:pt x="826" y="328"/>
                </a:moveTo>
                <a:moveTo>
                  <a:pt x="826" y="327"/>
                </a:moveTo>
                <a:moveTo>
                  <a:pt x="826" y="328"/>
                </a:moveTo>
                <a:moveTo>
                  <a:pt x="826" y="328"/>
                </a:moveTo>
                <a:moveTo>
                  <a:pt x="827" y="329"/>
                </a:moveTo>
                <a:moveTo>
                  <a:pt x="827" y="329"/>
                </a:moveTo>
                <a:moveTo>
                  <a:pt x="827" y="329"/>
                </a:moveTo>
                <a:moveTo>
                  <a:pt x="827" y="328"/>
                </a:moveTo>
                <a:moveTo>
                  <a:pt x="826" y="328"/>
                </a:moveTo>
                <a:moveTo>
                  <a:pt x="826" y="327"/>
                </a:moveTo>
                <a:moveTo>
                  <a:pt x="826" y="327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7" y="326"/>
                </a:moveTo>
                <a:moveTo>
                  <a:pt x="827" y="326"/>
                </a:moveTo>
                <a:moveTo>
                  <a:pt x="827" y="326"/>
                </a:moveTo>
                <a:moveTo>
                  <a:pt x="827" y="326"/>
                </a:moveTo>
                <a:moveTo>
                  <a:pt x="827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7" y="325"/>
                </a:moveTo>
                <a:moveTo>
                  <a:pt x="828" y="325"/>
                </a:moveTo>
                <a:moveTo>
                  <a:pt x="829" y="325"/>
                </a:moveTo>
                <a:moveTo>
                  <a:pt x="830" y="324"/>
                </a:moveTo>
                <a:moveTo>
                  <a:pt x="830" y="324"/>
                </a:moveTo>
                <a:moveTo>
                  <a:pt x="830" y="324"/>
                </a:moveTo>
                <a:moveTo>
                  <a:pt x="831" y="324"/>
                </a:moveTo>
                <a:moveTo>
                  <a:pt x="831" y="324"/>
                </a:moveTo>
                <a:moveTo>
                  <a:pt x="831" y="324"/>
                </a:moveTo>
                <a:moveTo>
                  <a:pt x="832" y="325"/>
                </a:moveTo>
                <a:moveTo>
                  <a:pt x="832" y="325"/>
                </a:moveTo>
                <a:moveTo>
                  <a:pt x="832" y="324"/>
                </a:moveTo>
                <a:moveTo>
                  <a:pt x="832" y="324"/>
                </a:moveTo>
                <a:moveTo>
                  <a:pt x="832" y="324"/>
                </a:moveTo>
                <a:moveTo>
                  <a:pt x="831" y="324"/>
                </a:moveTo>
                <a:moveTo>
                  <a:pt x="831" y="324"/>
                </a:moveTo>
                <a:moveTo>
                  <a:pt x="831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4"/>
                </a:moveTo>
                <a:moveTo>
                  <a:pt x="832" y="324"/>
                </a:moveTo>
                <a:moveTo>
                  <a:pt x="833" y="323"/>
                </a:moveTo>
                <a:moveTo>
                  <a:pt x="833" y="324"/>
                </a:moveTo>
                <a:moveTo>
                  <a:pt x="833" y="323"/>
                </a:moveTo>
                <a:moveTo>
                  <a:pt x="834" y="323"/>
                </a:moveTo>
                <a:moveTo>
                  <a:pt x="834" y="323"/>
                </a:moveTo>
                <a:moveTo>
                  <a:pt x="834" y="323"/>
                </a:moveTo>
                <a:moveTo>
                  <a:pt x="833" y="323"/>
                </a:moveTo>
                <a:moveTo>
                  <a:pt x="833" y="323"/>
                </a:moveTo>
                <a:moveTo>
                  <a:pt x="833" y="323"/>
                </a:moveTo>
                <a:moveTo>
                  <a:pt x="834" y="323"/>
                </a:moveTo>
                <a:moveTo>
                  <a:pt x="834" y="322"/>
                </a:moveTo>
                <a:moveTo>
                  <a:pt x="834" y="322"/>
                </a:moveTo>
                <a:moveTo>
                  <a:pt x="829" y="306"/>
                </a:moveTo>
                <a:moveTo>
                  <a:pt x="824" y="291"/>
                </a:moveTo>
                <a:moveTo>
                  <a:pt x="820" y="275"/>
                </a:moveTo>
                <a:moveTo>
                  <a:pt x="819" y="272"/>
                </a:moveTo>
                <a:moveTo>
                  <a:pt x="818" y="259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2"/>
                </a:moveTo>
                <a:moveTo>
                  <a:pt x="814" y="252"/>
                </a:moveTo>
                <a:moveTo>
                  <a:pt x="814" y="252"/>
                </a:moveTo>
                <a:moveTo>
                  <a:pt x="814" y="252"/>
                </a:moveTo>
                <a:moveTo>
                  <a:pt x="814" y="252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2"/>
                </a:moveTo>
                <a:moveTo>
                  <a:pt x="814" y="251"/>
                </a:moveTo>
                <a:moveTo>
                  <a:pt x="814" y="250"/>
                </a:moveTo>
                <a:moveTo>
                  <a:pt x="814" y="250"/>
                </a:moveTo>
                <a:moveTo>
                  <a:pt x="814" y="249"/>
                </a:moveTo>
                <a:moveTo>
                  <a:pt x="814" y="249"/>
                </a:moveTo>
                <a:moveTo>
                  <a:pt x="814" y="249"/>
                </a:moveTo>
                <a:moveTo>
                  <a:pt x="814" y="249"/>
                </a:moveTo>
                <a:moveTo>
                  <a:pt x="814" y="249"/>
                </a:moveTo>
                <a:moveTo>
                  <a:pt x="814" y="248"/>
                </a:moveTo>
                <a:moveTo>
                  <a:pt x="814" y="247"/>
                </a:moveTo>
                <a:moveTo>
                  <a:pt x="815" y="246"/>
                </a:moveTo>
                <a:moveTo>
                  <a:pt x="815" y="245"/>
                </a:moveTo>
                <a:moveTo>
                  <a:pt x="814" y="245"/>
                </a:moveTo>
                <a:moveTo>
                  <a:pt x="814" y="246"/>
                </a:moveTo>
                <a:moveTo>
                  <a:pt x="814" y="247"/>
                </a:moveTo>
                <a:moveTo>
                  <a:pt x="814" y="249"/>
                </a:moveTo>
                <a:moveTo>
                  <a:pt x="814" y="250"/>
                </a:moveTo>
                <a:moveTo>
                  <a:pt x="813" y="251"/>
                </a:moveTo>
                <a:moveTo>
                  <a:pt x="813" y="251"/>
                </a:moveTo>
                <a:moveTo>
                  <a:pt x="813" y="252"/>
                </a:moveTo>
                <a:moveTo>
                  <a:pt x="814" y="250"/>
                </a:moveTo>
                <a:moveTo>
                  <a:pt x="814" y="248"/>
                </a:moveTo>
                <a:moveTo>
                  <a:pt x="814" y="246"/>
                </a:moveTo>
                <a:moveTo>
                  <a:pt x="814" y="245"/>
                </a:moveTo>
                <a:moveTo>
                  <a:pt x="814" y="245"/>
                </a:moveTo>
                <a:moveTo>
                  <a:pt x="813" y="245"/>
                </a:moveTo>
                <a:moveTo>
                  <a:pt x="815" y="245"/>
                </a:moveTo>
                <a:moveTo>
                  <a:pt x="816" y="245"/>
                </a:moveTo>
                <a:moveTo>
                  <a:pt x="817" y="245"/>
                </a:moveTo>
                <a:moveTo>
                  <a:pt x="821" y="244"/>
                </a:moveTo>
                <a:moveTo>
                  <a:pt x="825" y="244"/>
                </a:moveTo>
                <a:moveTo>
                  <a:pt x="829" y="243"/>
                </a:moveTo>
                <a:moveTo>
                  <a:pt x="831" y="243"/>
                </a:moveTo>
                <a:moveTo>
                  <a:pt x="830" y="241"/>
                </a:moveTo>
                <a:moveTo>
                  <a:pt x="829" y="241"/>
                </a:moveTo>
                <a:moveTo>
                  <a:pt x="824" y="242"/>
                </a:moveTo>
                <a:moveTo>
                  <a:pt x="818" y="242"/>
                </a:moveTo>
                <a:moveTo>
                  <a:pt x="813" y="243"/>
                </a:moveTo>
                <a:moveTo>
                  <a:pt x="814" y="237"/>
                </a:moveTo>
                <a:moveTo>
                  <a:pt x="814" y="230"/>
                </a:moveTo>
                <a:moveTo>
                  <a:pt x="814" y="224"/>
                </a:moveTo>
                <a:moveTo>
                  <a:pt x="814" y="223"/>
                </a:moveTo>
                <a:moveTo>
                  <a:pt x="812" y="223"/>
                </a:moveTo>
                <a:moveTo>
                  <a:pt x="812" y="224"/>
                </a:moveTo>
                <a:moveTo>
                  <a:pt x="812" y="230"/>
                </a:moveTo>
                <a:moveTo>
                  <a:pt x="812" y="237"/>
                </a:moveTo>
                <a:moveTo>
                  <a:pt x="811" y="243"/>
                </a:moveTo>
                <a:moveTo>
                  <a:pt x="810" y="243"/>
                </a:moveTo>
                <a:moveTo>
                  <a:pt x="810" y="244"/>
                </a:moveTo>
                <a:moveTo>
                  <a:pt x="809" y="244"/>
                </a:moveTo>
                <a:moveTo>
                  <a:pt x="806" y="244"/>
                </a:moveTo>
                <a:moveTo>
                  <a:pt x="803" y="246"/>
                </a:moveTo>
                <a:moveTo>
                  <a:pt x="807" y="249"/>
                </a:moveTo>
                <a:moveTo>
                  <a:pt x="808" y="249"/>
                </a:moveTo>
                <a:moveTo>
                  <a:pt x="809" y="248"/>
                </a:moveTo>
                <a:moveTo>
                  <a:pt x="808" y="247"/>
                </a:moveTo>
                <a:moveTo>
                  <a:pt x="806" y="246"/>
                </a:moveTo>
                <a:moveTo>
                  <a:pt x="809" y="246"/>
                </a:moveTo>
                <a:moveTo>
                  <a:pt x="810" y="246"/>
                </a:moveTo>
                <a:moveTo>
                  <a:pt x="810" y="245"/>
                </a:moveTo>
                <a:moveTo>
                  <a:pt x="811" y="245"/>
                </a:moveTo>
                <a:moveTo>
                  <a:pt x="811" y="245"/>
                </a:moveTo>
                <a:moveTo>
                  <a:pt x="811" y="247"/>
                </a:moveTo>
                <a:moveTo>
                  <a:pt x="811" y="248"/>
                </a:moveTo>
                <a:moveTo>
                  <a:pt x="811" y="249"/>
                </a:moveTo>
                <a:moveTo>
                  <a:pt x="811" y="250"/>
                </a:moveTo>
                <a:moveTo>
                  <a:pt x="811" y="251"/>
                </a:moveTo>
                <a:moveTo>
                  <a:pt x="810" y="251"/>
                </a:moveTo>
                <a:moveTo>
                  <a:pt x="810" y="252"/>
                </a:moveTo>
                <a:moveTo>
                  <a:pt x="810" y="252"/>
                </a:moveTo>
                <a:moveTo>
                  <a:pt x="810" y="252"/>
                </a:moveTo>
                <a:moveTo>
                  <a:pt x="810" y="254"/>
                </a:moveTo>
                <a:moveTo>
                  <a:pt x="810" y="255"/>
                </a:moveTo>
                <a:moveTo>
                  <a:pt x="810" y="258"/>
                </a:moveTo>
                <a:moveTo>
                  <a:pt x="810" y="258"/>
                </a:moveTo>
                <a:moveTo>
                  <a:pt x="810" y="258"/>
                </a:moveTo>
                <a:moveTo>
                  <a:pt x="810" y="258"/>
                </a:moveTo>
                <a:moveTo>
                  <a:pt x="810" y="260"/>
                </a:moveTo>
                <a:moveTo>
                  <a:pt x="810" y="261"/>
                </a:moveTo>
                <a:moveTo>
                  <a:pt x="809" y="263"/>
                </a:moveTo>
                <a:moveTo>
                  <a:pt x="808" y="270"/>
                </a:moveTo>
                <a:moveTo>
                  <a:pt x="806" y="277"/>
                </a:moveTo>
                <a:moveTo>
                  <a:pt x="804" y="283"/>
                </a:moveTo>
                <a:moveTo>
                  <a:pt x="799" y="296"/>
                </a:moveTo>
                <a:moveTo>
                  <a:pt x="794" y="309"/>
                </a:moveTo>
                <a:moveTo>
                  <a:pt x="788" y="321"/>
                </a:moveTo>
                <a:moveTo>
                  <a:pt x="788" y="322"/>
                </a:moveTo>
                <a:moveTo>
                  <a:pt x="789" y="324"/>
                </a:moveTo>
                <a:moveTo>
                  <a:pt x="790" y="322"/>
                </a:moveTo>
                <a:moveTo>
                  <a:pt x="790" y="321"/>
                </a:moveTo>
                <a:moveTo>
                  <a:pt x="791" y="320"/>
                </a:moveTo>
                <a:moveTo>
                  <a:pt x="791" y="319"/>
                </a:moveTo>
                <a:moveTo>
                  <a:pt x="791" y="320"/>
                </a:moveTo>
                <a:moveTo>
                  <a:pt x="792" y="320"/>
                </a:moveTo>
                <a:moveTo>
                  <a:pt x="792" y="321"/>
                </a:moveTo>
                <a:moveTo>
                  <a:pt x="792" y="321"/>
                </a:moveTo>
                <a:moveTo>
                  <a:pt x="792" y="321"/>
                </a:moveTo>
                <a:moveTo>
                  <a:pt x="792" y="321"/>
                </a:moveTo>
                <a:moveTo>
                  <a:pt x="792" y="323"/>
                </a:moveTo>
                <a:moveTo>
                  <a:pt x="793" y="325"/>
                </a:moveTo>
                <a:moveTo>
                  <a:pt x="796" y="327"/>
                </a:moveTo>
                <a:moveTo>
                  <a:pt x="796" y="327"/>
                </a:moveTo>
                <a:moveTo>
                  <a:pt x="796" y="327"/>
                </a:moveTo>
                <a:moveTo>
                  <a:pt x="796" y="327"/>
                </a:moveTo>
                <a:moveTo>
                  <a:pt x="796" y="326"/>
                </a:moveTo>
                <a:moveTo>
                  <a:pt x="796" y="326"/>
                </a:moveTo>
                <a:moveTo>
                  <a:pt x="796" y="326"/>
                </a:moveTo>
                <a:moveTo>
                  <a:pt x="797" y="326"/>
                </a:moveTo>
                <a:moveTo>
                  <a:pt x="797" y="326"/>
                </a:moveTo>
                <a:moveTo>
                  <a:pt x="798" y="327"/>
                </a:moveTo>
                <a:moveTo>
                  <a:pt x="798" y="327"/>
                </a:moveTo>
                <a:moveTo>
                  <a:pt x="798" y="328"/>
                </a:moveTo>
                <a:moveTo>
                  <a:pt x="798" y="328"/>
                </a:moveTo>
                <a:moveTo>
                  <a:pt x="798" y="329"/>
                </a:moveTo>
                <a:moveTo>
                  <a:pt x="798" y="329"/>
                </a:moveTo>
                <a:moveTo>
                  <a:pt x="798" y="329"/>
                </a:moveTo>
                <a:moveTo>
                  <a:pt x="797" y="329"/>
                </a:moveTo>
                <a:moveTo>
                  <a:pt x="796" y="328"/>
                </a:moveTo>
                <a:moveTo>
                  <a:pt x="795" y="327"/>
                </a:moveTo>
                <a:moveTo>
                  <a:pt x="794" y="326"/>
                </a:moveTo>
                <a:moveTo>
                  <a:pt x="793" y="326"/>
                </a:moveTo>
                <a:moveTo>
                  <a:pt x="793" y="325"/>
                </a:moveTo>
                <a:moveTo>
                  <a:pt x="793" y="325"/>
                </a:moveTo>
                <a:moveTo>
                  <a:pt x="791" y="323"/>
                </a:moveTo>
                <a:moveTo>
                  <a:pt x="792" y="323"/>
                </a:moveTo>
                <a:moveTo>
                  <a:pt x="792" y="323"/>
                </a:moveTo>
                <a:moveTo>
                  <a:pt x="792" y="323"/>
                </a:moveTo>
                <a:moveTo>
                  <a:pt x="792" y="323"/>
                </a:moveTo>
                <a:moveTo>
                  <a:pt x="791" y="322"/>
                </a:moveTo>
                <a:moveTo>
                  <a:pt x="791" y="322"/>
                </a:moveTo>
                <a:moveTo>
                  <a:pt x="791" y="323"/>
                </a:moveTo>
                <a:moveTo>
                  <a:pt x="791" y="323"/>
                </a:moveTo>
                <a:moveTo>
                  <a:pt x="791" y="323"/>
                </a:moveTo>
                <a:moveTo>
                  <a:pt x="791" y="323"/>
                </a:moveTo>
                <a:moveTo>
                  <a:pt x="791" y="323"/>
                </a:moveTo>
                <a:moveTo>
                  <a:pt x="791" y="324"/>
                </a:moveTo>
                <a:moveTo>
                  <a:pt x="792" y="324"/>
                </a:moveTo>
                <a:moveTo>
                  <a:pt x="793" y="326"/>
                </a:moveTo>
                <a:moveTo>
                  <a:pt x="794" y="327"/>
                </a:moveTo>
                <a:moveTo>
                  <a:pt x="795" y="328"/>
                </a:moveTo>
                <a:moveTo>
                  <a:pt x="796" y="329"/>
                </a:moveTo>
                <a:moveTo>
                  <a:pt x="797" y="329"/>
                </a:moveTo>
                <a:moveTo>
                  <a:pt x="798" y="330"/>
                </a:moveTo>
                <a:moveTo>
                  <a:pt x="798" y="332"/>
                </a:moveTo>
                <a:moveTo>
                  <a:pt x="798" y="335"/>
                </a:moveTo>
                <a:moveTo>
                  <a:pt x="799" y="338"/>
                </a:moveTo>
                <a:moveTo>
                  <a:pt x="799" y="339"/>
                </a:moveTo>
                <a:moveTo>
                  <a:pt x="798" y="339"/>
                </a:moveTo>
                <a:moveTo>
                  <a:pt x="798" y="340"/>
                </a:moveTo>
                <a:moveTo>
                  <a:pt x="794" y="340"/>
                </a:moveTo>
                <a:moveTo>
                  <a:pt x="790" y="339"/>
                </a:moveTo>
                <a:moveTo>
                  <a:pt x="787" y="339"/>
                </a:moveTo>
                <a:moveTo>
                  <a:pt x="787" y="338"/>
                </a:moveTo>
                <a:moveTo>
                  <a:pt x="787" y="337"/>
                </a:moveTo>
                <a:moveTo>
                  <a:pt x="788" y="337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4"/>
                </a:moveTo>
                <a:moveTo>
                  <a:pt x="788" y="332"/>
                </a:moveTo>
                <a:moveTo>
                  <a:pt x="788" y="331"/>
                </a:moveTo>
                <a:moveTo>
                  <a:pt x="787" y="331"/>
                </a:moveTo>
                <a:moveTo>
                  <a:pt x="787" y="331"/>
                </a:moveTo>
                <a:moveTo>
                  <a:pt x="786" y="331"/>
                </a:moveTo>
                <a:moveTo>
                  <a:pt x="786" y="331"/>
                </a:moveTo>
                <a:moveTo>
                  <a:pt x="785" y="332"/>
                </a:moveTo>
                <a:moveTo>
                  <a:pt x="785" y="333"/>
                </a:moveTo>
                <a:moveTo>
                  <a:pt x="779" y="328"/>
                </a:moveTo>
                <a:moveTo>
                  <a:pt x="772" y="323"/>
                </a:moveTo>
                <a:moveTo>
                  <a:pt x="765" y="321"/>
                </a:moveTo>
                <a:moveTo>
                  <a:pt x="765" y="321"/>
                </a:moveTo>
                <a:moveTo>
                  <a:pt x="764" y="321"/>
                </a:moveTo>
                <a:moveTo>
                  <a:pt x="764" y="321"/>
                </a:moveTo>
                <a:moveTo>
                  <a:pt x="763" y="323"/>
                </a:moveTo>
                <a:moveTo>
                  <a:pt x="762" y="324"/>
                </a:moveTo>
                <a:moveTo>
                  <a:pt x="761" y="325"/>
                </a:moveTo>
                <a:moveTo>
                  <a:pt x="761" y="325"/>
                </a:moveTo>
                <a:moveTo>
                  <a:pt x="760" y="325"/>
                </a:moveTo>
                <a:moveTo>
                  <a:pt x="760" y="325"/>
                </a:moveTo>
                <a:moveTo>
                  <a:pt x="760" y="324"/>
                </a:moveTo>
                <a:moveTo>
                  <a:pt x="760" y="324"/>
                </a:moveTo>
                <a:moveTo>
                  <a:pt x="760" y="324"/>
                </a:moveTo>
                <a:moveTo>
                  <a:pt x="760" y="323"/>
                </a:moveTo>
                <a:moveTo>
                  <a:pt x="759" y="323"/>
                </a:moveTo>
                <a:moveTo>
                  <a:pt x="758" y="323"/>
                </a:moveTo>
                <a:moveTo>
                  <a:pt x="757" y="323"/>
                </a:moveTo>
                <a:moveTo>
                  <a:pt x="756" y="322"/>
                </a:moveTo>
                <a:moveTo>
                  <a:pt x="756" y="322"/>
                </a:moveTo>
                <a:moveTo>
                  <a:pt x="756" y="321"/>
                </a:moveTo>
                <a:moveTo>
                  <a:pt x="756" y="320"/>
                </a:moveTo>
                <a:moveTo>
                  <a:pt x="756" y="320"/>
                </a:moveTo>
                <a:moveTo>
                  <a:pt x="756" y="319"/>
                </a:moveTo>
                <a:moveTo>
                  <a:pt x="755" y="319"/>
                </a:moveTo>
                <a:moveTo>
                  <a:pt x="755" y="319"/>
                </a:moveTo>
                <a:moveTo>
                  <a:pt x="754" y="320"/>
                </a:moveTo>
                <a:moveTo>
                  <a:pt x="754" y="320"/>
                </a:moveTo>
                <a:moveTo>
                  <a:pt x="754" y="321"/>
                </a:moveTo>
                <a:moveTo>
                  <a:pt x="727" y="305"/>
                </a:moveTo>
                <a:moveTo>
                  <a:pt x="695" y="299"/>
                </a:moveTo>
                <a:moveTo>
                  <a:pt x="666" y="291"/>
                </a:moveTo>
                <a:moveTo>
                  <a:pt x="666" y="290"/>
                </a:moveTo>
                <a:moveTo>
                  <a:pt x="666" y="288"/>
                </a:moveTo>
                <a:moveTo>
                  <a:pt x="666" y="287"/>
                </a:moveTo>
                <a:moveTo>
                  <a:pt x="666" y="287"/>
                </a:moveTo>
                <a:moveTo>
                  <a:pt x="666" y="287"/>
                </a:moveTo>
                <a:moveTo>
                  <a:pt x="667" y="287"/>
                </a:moveTo>
                <a:moveTo>
                  <a:pt x="667" y="287"/>
                </a:moveTo>
                <a:moveTo>
                  <a:pt x="668" y="287"/>
                </a:moveTo>
                <a:moveTo>
                  <a:pt x="668" y="286"/>
                </a:moveTo>
                <a:moveTo>
                  <a:pt x="668" y="281"/>
                </a:moveTo>
                <a:moveTo>
                  <a:pt x="662" y="280"/>
                </a:moveTo>
                <a:moveTo>
                  <a:pt x="658" y="278"/>
                </a:moveTo>
                <a:moveTo>
                  <a:pt x="653" y="275"/>
                </a:moveTo>
                <a:moveTo>
                  <a:pt x="647" y="271"/>
                </a:moveTo>
                <a:moveTo>
                  <a:pt x="641" y="271"/>
                </a:moveTo>
                <a:moveTo>
                  <a:pt x="640" y="271"/>
                </a:moveTo>
                <a:moveTo>
                  <a:pt x="640" y="271"/>
                </a:moveTo>
                <a:moveTo>
                  <a:pt x="640" y="272"/>
                </a:moveTo>
                <a:moveTo>
                  <a:pt x="640" y="273"/>
                </a:moveTo>
                <a:moveTo>
                  <a:pt x="640" y="274"/>
                </a:moveTo>
                <a:moveTo>
                  <a:pt x="640" y="276"/>
                </a:moveTo>
                <a:moveTo>
                  <a:pt x="640" y="276"/>
                </a:moveTo>
                <a:moveTo>
                  <a:pt x="640" y="276"/>
                </a:moveTo>
                <a:moveTo>
                  <a:pt x="640" y="277"/>
                </a:moveTo>
                <a:moveTo>
                  <a:pt x="639" y="277"/>
                </a:moveTo>
                <a:moveTo>
                  <a:pt x="639" y="277"/>
                </a:moveTo>
                <a:moveTo>
                  <a:pt x="639" y="276"/>
                </a:moveTo>
                <a:moveTo>
                  <a:pt x="639" y="275"/>
                </a:moveTo>
                <a:moveTo>
                  <a:pt x="638" y="274"/>
                </a:moveTo>
                <a:moveTo>
                  <a:pt x="638" y="273"/>
                </a:moveTo>
                <a:moveTo>
                  <a:pt x="638" y="273"/>
                </a:moveTo>
                <a:moveTo>
                  <a:pt x="638" y="273"/>
                </a:moveTo>
                <a:moveTo>
                  <a:pt x="638" y="273"/>
                </a:moveTo>
                <a:moveTo>
                  <a:pt x="638" y="273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1"/>
                </a:moveTo>
                <a:moveTo>
                  <a:pt x="635" y="271"/>
                </a:moveTo>
                <a:moveTo>
                  <a:pt x="635" y="272"/>
                </a:moveTo>
                <a:moveTo>
                  <a:pt x="634" y="273"/>
                </a:moveTo>
                <a:moveTo>
                  <a:pt x="634" y="274"/>
                </a:moveTo>
                <a:moveTo>
                  <a:pt x="634" y="275"/>
                </a:moveTo>
                <a:moveTo>
                  <a:pt x="634" y="275"/>
                </a:moveTo>
                <a:moveTo>
                  <a:pt x="634" y="275"/>
                </a:moveTo>
                <a:moveTo>
                  <a:pt x="634" y="275"/>
                </a:moveTo>
                <a:moveTo>
                  <a:pt x="603" y="265"/>
                </a:moveTo>
                <a:moveTo>
                  <a:pt x="572" y="254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1" y="241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2" y="240"/>
                </a:moveTo>
                <a:moveTo>
                  <a:pt x="542" y="240"/>
                </a:moveTo>
                <a:moveTo>
                  <a:pt x="543" y="240"/>
                </a:moveTo>
                <a:moveTo>
                  <a:pt x="542" y="239"/>
                </a:moveTo>
                <a:moveTo>
                  <a:pt x="542" y="239"/>
                </a:moveTo>
                <a:moveTo>
                  <a:pt x="542" y="239"/>
                </a:moveTo>
                <a:moveTo>
                  <a:pt x="542" y="240"/>
                </a:moveTo>
                <a:moveTo>
                  <a:pt x="542" y="240"/>
                </a:moveTo>
                <a:moveTo>
                  <a:pt x="542" y="238"/>
                </a:moveTo>
                <a:moveTo>
                  <a:pt x="542" y="237"/>
                </a:moveTo>
                <a:moveTo>
                  <a:pt x="541" y="236"/>
                </a:moveTo>
                <a:moveTo>
                  <a:pt x="541" y="236"/>
                </a:moveTo>
                <a:moveTo>
                  <a:pt x="541" y="236"/>
                </a:moveTo>
                <a:moveTo>
                  <a:pt x="541" y="236"/>
                </a:moveTo>
                <a:moveTo>
                  <a:pt x="542" y="236"/>
                </a:moveTo>
                <a:moveTo>
                  <a:pt x="542" y="236"/>
                </a:moveTo>
                <a:moveTo>
                  <a:pt x="541" y="235"/>
                </a:moveTo>
                <a:moveTo>
                  <a:pt x="541" y="234"/>
                </a:moveTo>
                <a:moveTo>
                  <a:pt x="541" y="233"/>
                </a:moveTo>
                <a:moveTo>
                  <a:pt x="541" y="232"/>
                </a:moveTo>
                <a:moveTo>
                  <a:pt x="541" y="232"/>
                </a:moveTo>
                <a:moveTo>
                  <a:pt x="541" y="232"/>
                </a:moveTo>
                <a:moveTo>
                  <a:pt x="542" y="232"/>
                </a:moveTo>
                <a:moveTo>
                  <a:pt x="542" y="230"/>
                </a:moveTo>
                <a:moveTo>
                  <a:pt x="542" y="228"/>
                </a:moveTo>
                <a:moveTo>
                  <a:pt x="542" y="227"/>
                </a:moveTo>
                <a:moveTo>
                  <a:pt x="542" y="210"/>
                </a:moveTo>
                <a:moveTo>
                  <a:pt x="542" y="193"/>
                </a:moveTo>
                <a:moveTo>
                  <a:pt x="542" y="177"/>
                </a:moveTo>
                <a:moveTo>
                  <a:pt x="542" y="177"/>
                </a:moveTo>
                <a:moveTo>
                  <a:pt x="542" y="177"/>
                </a:moveTo>
                <a:moveTo>
                  <a:pt x="542" y="177"/>
                </a:moveTo>
                <a:moveTo>
                  <a:pt x="543" y="177"/>
                </a:moveTo>
                <a:moveTo>
                  <a:pt x="544" y="177"/>
                </a:moveTo>
                <a:moveTo>
                  <a:pt x="544" y="176"/>
                </a:moveTo>
                <a:moveTo>
                  <a:pt x="546" y="175"/>
                </a:moveTo>
                <a:moveTo>
                  <a:pt x="549" y="173"/>
                </a:moveTo>
                <a:moveTo>
                  <a:pt x="549" y="171"/>
                </a:moveTo>
                <a:moveTo>
                  <a:pt x="549" y="171"/>
                </a:moveTo>
                <a:moveTo>
                  <a:pt x="548" y="171"/>
                </a:moveTo>
                <a:moveTo>
                  <a:pt x="548" y="171"/>
                </a:moveTo>
                <a:moveTo>
                  <a:pt x="548" y="172"/>
                </a:moveTo>
                <a:moveTo>
                  <a:pt x="547" y="172"/>
                </a:moveTo>
                <a:moveTo>
                  <a:pt x="547" y="173"/>
                </a:moveTo>
                <a:moveTo>
                  <a:pt x="547" y="172"/>
                </a:moveTo>
                <a:moveTo>
                  <a:pt x="547" y="171"/>
                </a:moveTo>
                <a:moveTo>
                  <a:pt x="547" y="171"/>
                </a:moveTo>
                <a:moveTo>
                  <a:pt x="547" y="171"/>
                </a:moveTo>
                <a:moveTo>
                  <a:pt x="548" y="171"/>
                </a:moveTo>
                <a:moveTo>
                  <a:pt x="548" y="170"/>
                </a:moveTo>
                <a:moveTo>
                  <a:pt x="548" y="170"/>
                </a:moveTo>
                <a:moveTo>
                  <a:pt x="548" y="171"/>
                </a:moveTo>
                <a:moveTo>
                  <a:pt x="549" y="171"/>
                </a:moveTo>
                <a:moveTo>
                  <a:pt x="550" y="171"/>
                </a:moveTo>
                <a:moveTo>
                  <a:pt x="551" y="170"/>
                </a:moveTo>
                <a:moveTo>
                  <a:pt x="550" y="169"/>
                </a:moveTo>
                <a:moveTo>
                  <a:pt x="549" y="168"/>
                </a:moveTo>
                <a:moveTo>
                  <a:pt x="548" y="168"/>
                </a:moveTo>
                <a:moveTo>
                  <a:pt x="546" y="167"/>
                </a:moveTo>
                <a:moveTo>
                  <a:pt x="535" y="147"/>
                </a:moveTo>
                <a:moveTo>
                  <a:pt x="534" y="118"/>
                </a:moveTo>
                <a:moveTo>
                  <a:pt x="534" y="96"/>
                </a:moveTo>
                <a:moveTo>
                  <a:pt x="534" y="95"/>
                </a:moveTo>
                <a:moveTo>
                  <a:pt x="532" y="94"/>
                </a:moveTo>
                <a:moveTo>
                  <a:pt x="532" y="96"/>
                </a:moveTo>
                <a:moveTo>
                  <a:pt x="532" y="96"/>
                </a:moveTo>
                <a:moveTo>
                  <a:pt x="532" y="97"/>
                </a:moveTo>
                <a:moveTo>
                  <a:pt x="532" y="97"/>
                </a:moveTo>
                <a:moveTo>
                  <a:pt x="532" y="94"/>
                </a:moveTo>
                <a:moveTo>
                  <a:pt x="532" y="91"/>
                </a:moveTo>
                <a:moveTo>
                  <a:pt x="532" y="87"/>
                </a:moveTo>
                <a:moveTo>
                  <a:pt x="532" y="87"/>
                </a:moveTo>
                <a:moveTo>
                  <a:pt x="532" y="88"/>
                </a:moveTo>
                <a:moveTo>
                  <a:pt x="532" y="88"/>
                </a:moveTo>
                <a:moveTo>
                  <a:pt x="534" y="88"/>
                </a:moveTo>
                <a:moveTo>
                  <a:pt x="534" y="86"/>
                </a:moveTo>
                <a:moveTo>
                  <a:pt x="532" y="86"/>
                </a:moveTo>
                <a:moveTo>
                  <a:pt x="532" y="86"/>
                </a:moveTo>
                <a:moveTo>
                  <a:pt x="532" y="85"/>
                </a:moveTo>
                <a:moveTo>
                  <a:pt x="532" y="85"/>
                </a:moveTo>
                <a:moveTo>
                  <a:pt x="532" y="85"/>
                </a:moveTo>
                <a:moveTo>
                  <a:pt x="532" y="85"/>
                </a:moveTo>
                <a:moveTo>
                  <a:pt x="532" y="85"/>
                </a:moveTo>
                <a:moveTo>
                  <a:pt x="533" y="85"/>
                </a:moveTo>
                <a:moveTo>
                  <a:pt x="535" y="85"/>
                </a:moveTo>
                <a:moveTo>
                  <a:pt x="536" y="85"/>
                </a:moveTo>
                <a:moveTo>
                  <a:pt x="538" y="85"/>
                </a:moveTo>
                <a:moveTo>
                  <a:pt x="538" y="83"/>
                </a:moveTo>
                <a:moveTo>
                  <a:pt x="536" y="83"/>
                </a:moveTo>
                <a:moveTo>
                  <a:pt x="535" y="83"/>
                </a:moveTo>
                <a:moveTo>
                  <a:pt x="533" y="83"/>
                </a:moveTo>
                <a:moveTo>
                  <a:pt x="532" y="83"/>
                </a:moveTo>
                <a:moveTo>
                  <a:pt x="532" y="81"/>
                </a:moveTo>
                <a:moveTo>
                  <a:pt x="532" y="79"/>
                </a:moveTo>
                <a:moveTo>
                  <a:pt x="532" y="77"/>
                </a:moveTo>
                <a:moveTo>
                  <a:pt x="532" y="76"/>
                </a:moveTo>
                <a:moveTo>
                  <a:pt x="530" y="76"/>
                </a:moveTo>
                <a:moveTo>
                  <a:pt x="530" y="77"/>
                </a:moveTo>
                <a:moveTo>
                  <a:pt x="530" y="79"/>
                </a:moveTo>
                <a:moveTo>
                  <a:pt x="530" y="81"/>
                </a:moveTo>
                <a:moveTo>
                  <a:pt x="530" y="83"/>
                </a:moveTo>
                <a:moveTo>
                  <a:pt x="529" y="84"/>
                </a:moveTo>
                <a:moveTo>
                  <a:pt x="529" y="84"/>
                </a:moveTo>
                <a:moveTo>
                  <a:pt x="528" y="84"/>
                </a:moveTo>
                <a:moveTo>
                  <a:pt x="528" y="84"/>
                </a:moveTo>
                <a:moveTo>
                  <a:pt x="529" y="84"/>
                </a:moveTo>
                <a:moveTo>
                  <a:pt x="529" y="83"/>
                </a:moveTo>
                <a:moveTo>
                  <a:pt x="530" y="83"/>
                </a:moveTo>
                <a:moveTo>
                  <a:pt x="529" y="81"/>
                </a:moveTo>
                <a:moveTo>
                  <a:pt x="528" y="82"/>
                </a:moveTo>
                <a:moveTo>
                  <a:pt x="529" y="81"/>
                </a:moveTo>
                <a:moveTo>
                  <a:pt x="527" y="80"/>
                </a:moveTo>
                <a:moveTo>
                  <a:pt x="526" y="81"/>
                </a:moveTo>
                <a:moveTo>
                  <a:pt x="526" y="81"/>
                </a:moveTo>
                <a:moveTo>
                  <a:pt x="526" y="82"/>
                </a:moveTo>
                <a:moveTo>
                  <a:pt x="525" y="82"/>
                </a:moveTo>
                <a:moveTo>
                  <a:pt x="524" y="82"/>
                </a:moveTo>
                <a:moveTo>
                  <a:pt x="523" y="83"/>
                </a:moveTo>
                <a:moveTo>
                  <a:pt x="523" y="83"/>
                </a:moveTo>
                <a:moveTo>
                  <a:pt x="522" y="83"/>
                </a:moveTo>
                <a:moveTo>
                  <a:pt x="522" y="84"/>
                </a:moveTo>
                <a:moveTo>
                  <a:pt x="522" y="84"/>
                </a:moveTo>
                <a:moveTo>
                  <a:pt x="522" y="84"/>
                </a:moveTo>
                <a:moveTo>
                  <a:pt x="522" y="85"/>
                </a:moveTo>
                <a:moveTo>
                  <a:pt x="522" y="85"/>
                </a:moveTo>
                <a:moveTo>
                  <a:pt x="522" y="86"/>
                </a:moveTo>
                <a:moveTo>
                  <a:pt x="522" y="86"/>
                </a:moveTo>
                <a:moveTo>
                  <a:pt x="523" y="86"/>
                </a:moveTo>
                <a:moveTo>
                  <a:pt x="524" y="86"/>
                </a:moveTo>
                <a:moveTo>
                  <a:pt x="525" y="86"/>
                </a:moveTo>
                <a:moveTo>
                  <a:pt x="526" y="86"/>
                </a:moveTo>
                <a:moveTo>
                  <a:pt x="527" y="87"/>
                </a:moveTo>
                <a:moveTo>
                  <a:pt x="528" y="87"/>
                </a:moveTo>
                <a:moveTo>
                  <a:pt x="530" y="87"/>
                </a:moveTo>
                <a:moveTo>
                  <a:pt x="530" y="89"/>
                </a:moveTo>
                <a:moveTo>
                  <a:pt x="530" y="91"/>
                </a:moveTo>
                <a:moveTo>
                  <a:pt x="530" y="92"/>
                </a:moveTo>
                <a:moveTo>
                  <a:pt x="530" y="92"/>
                </a:moveTo>
                <a:moveTo>
                  <a:pt x="530" y="92"/>
                </a:moveTo>
                <a:moveTo>
                  <a:pt x="530" y="92"/>
                </a:moveTo>
                <a:moveTo>
                  <a:pt x="529" y="94"/>
                </a:moveTo>
                <a:moveTo>
                  <a:pt x="529" y="95"/>
                </a:moveTo>
                <a:moveTo>
                  <a:pt x="528" y="96"/>
                </a:moveTo>
                <a:moveTo>
                  <a:pt x="529" y="95"/>
                </a:moveTo>
                <a:moveTo>
                  <a:pt x="529" y="95"/>
                </a:moveTo>
                <a:moveTo>
                  <a:pt x="529" y="94"/>
                </a:moveTo>
                <a:moveTo>
                  <a:pt x="529" y="94"/>
                </a:moveTo>
                <a:moveTo>
                  <a:pt x="528" y="94"/>
                </a:moveTo>
                <a:moveTo>
                  <a:pt x="528" y="94"/>
                </a:moveTo>
                <a:moveTo>
                  <a:pt x="528" y="97"/>
                </a:moveTo>
                <a:moveTo>
                  <a:pt x="527" y="100"/>
                </a:moveTo>
                <a:moveTo>
                  <a:pt x="527" y="103"/>
                </a:moveTo>
                <a:moveTo>
                  <a:pt x="526" y="105"/>
                </a:moveTo>
                <a:moveTo>
                  <a:pt x="526" y="107"/>
                </a:moveTo>
                <a:moveTo>
                  <a:pt x="525" y="109"/>
                </a:moveTo>
                <a:moveTo>
                  <a:pt x="524" y="111"/>
                </a:moveTo>
                <a:moveTo>
                  <a:pt x="524" y="114"/>
                </a:moveTo>
                <a:moveTo>
                  <a:pt x="523" y="116"/>
                </a:moveTo>
                <a:moveTo>
                  <a:pt x="523" y="116"/>
                </a:moveTo>
                <a:moveTo>
                  <a:pt x="523" y="116"/>
                </a:moveTo>
                <a:moveTo>
                  <a:pt x="523" y="116"/>
                </a:moveTo>
                <a:moveTo>
                  <a:pt x="523" y="117"/>
                </a:moveTo>
                <a:moveTo>
                  <a:pt x="523" y="117"/>
                </a:moveTo>
                <a:moveTo>
                  <a:pt x="523" y="117"/>
                </a:moveTo>
                <a:moveTo>
                  <a:pt x="520" y="125"/>
                </a:moveTo>
                <a:moveTo>
                  <a:pt x="518" y="133"/>
                </a:moveTo>
                <a:moveTo>
                  <a:pt x="515" y="141"/>
                </a:moveTo>
                <a:moveTo>
                  <a:pt x="515" y="142"/>
                </a:moveTo>
                <a:moveTo>
                  <a:pt x="514" y="146"/>
                </a:moveTo>
                <a:moveTo>
                  <a:pt x="512" y="150"/>
                </a:moveTo>
                <a:moveTo>
                  <a:pt x="508" y="136"/>
                </a:moveTo>
                <a:moveTo>
                  <a:pt x="504" y="121"/>
                </a:moveTo>
                <a:moveTo>
                  <a:pt x="500" y="107"/>
                </a:moveTo>
                <a:moveTo>
                  <a:pt x="498" y="96"/>
                </a:moveTo>
                <a:moveTo>
                  <a:pt x="495" y="86"/>
                </a:moveTo>
                <a:moveTo>
                  <a:pt x="493" y="76"/>
                </a:moveTo>
                <a:moveTo>
                  <a:pt x="492" y="72"/>
                </a:moveTo>
                <a:moveTo>
                  <a:pt x="491" y="68"/>
                </a:moveTo>
                <a:moveTo>
                  <a:pt x="489" y="64"/>
                </a:moveTo>
                <a:moveTo>
                  <a:pt x="490" y="63"/>
                </a:moveTo>
                <a:moveTo>
                  <a:pt x="491" y="62"/>
                </a:moveTo>
                <a:moveTo>
                  <a:pt x="491" y="61"/>
                </a:moveTo>
                <a:moveTo>
                  <a:pt x="492" y="61"/>
                </a:moveTo>
                <a:moveTo>
                  <a:pt x="492" y="60"/>
                </a:moveTo>
                <a:moveTo>
                  <a:pt x="492" y="60"/>
                </a:moveTo>
                <a:moveTo>
                  <a:pt x="493" y="58"/>
                </a:moveTo>
                <a:moveTo>
                  <a:pt x="493" y="57"/>
                </a:moveTo>
                <a:moveTo>
                  <a:pt x="492" y="55"/>
                </a:moveTo>
                <a:moveTo>
                  <a:pt x="492" y="55"/>
                </a:moveTo>
                <a:moveTo>
                  <a:pt x="492" y="55"/>
                </a:moveTo>
                <a:moveTo>
                  <a:pt x="492" y="55"/>
                </a:moveTo>
                <a:moveTo>
                  <a:pt x="493" y="55"/>
                </a:moveTo>
                <a:moveTo>
                  <a:pt x="493" y="55"/>
                </a:moveTo>
                <a:moveTo>
                  <a:pt x="493" y="54"/>
                </a:moveTo>
                <a:moveTo>
                  <a:pt x="494" y="53"/>
                </a:moveTo>
                <a:moveTo>
                  <a:pt x="494" y="51"/>
                </a:moveTo>
                <a:moveTo>
                  <a:pt x="494" y="49"/>
                </a:moveTo>
                <a:moveTo>
                  <a:pt x="495" y="46"/>
                </a:moveTo>
                <a:moveTo>
                  <a:pt x="491" y="43"/>
                </a:moveTo>
                <a:moveTo>
                  <a:pt x="487" y="41"/>
                </a:moveTo>
                <a:moveTo>
                  <a:pt x="487" y="41"/>
                </a:moveTo>
                <a:moveTo>
                  <a:pt x="486" y="41"/>
                </a:moveTo>
                <a:moveTo>
                  <a:pt x="485" y="40"/>
                </a:moveTo>
                <a:moveTo>
                  <a:pt x="486" y="39"/>
                </a:moveTo>
                <a:moveTo>
                  <a:pt x="487" y="38"/>
                </a:moveTo>
                <a:moveTo>
                  <a:pt x="488" y="37"/>
                </a:moveTo>
                <a:moveTo>
                  <a:pt x="488" y="36"/>
                </a:moveTo>
                <a:moveTo>
                  <a:pt x="488" y="35"/>
                </a:moveTo>
                <a:moveTo>
                  <a:pt x="487" y="35"/>
                </a:moveTo>
                <a:moveTo>
                  <a:pt x="486" y="35"/>
                </a:moveTo>
                <a:moveTo>
                  <a:pt x="486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2" y="34"/>
                </a:moveTo>
                <a:moveTo>
                  <a:pt x="478" y="34"/>
                </a:moveTo>
                <a:moveTo>
                  <a:pt x="475" y="35"/>
                </a:moveTo>
                <a:moveTo>
                  <a:pt x="472" y="35"/>
                </a:moveTo>
                <a:moveTo>
                  <a:pt x="469" y="36"/>
                </a:moveTo>
                <a:moveTo>
                  <a:pt x="466" y="37"/>
                </a:moveTo>
                <a:moveTo>
                  <a:pt x="465" y="34"/>
                </a:moveTo>
                <a:moveTo>
                  <a:pt x="465" y="30"/>
                </a:moveTo>
                <a:moveTo>
                  <a:pt x="465" y="27"/>
                </a:moveTo>
                <a:moveTo>
                  <a:pt x="465" y="25"/>
                </a:moveTo>
                <a:moveTo>
                  <a:pt x="463" y="25"/>
                </a:moveTo>
                <a:moveTo>
                  <a:pt x="463" y="27"/>
                </a:moveTo>
                <a:moveTo>
                  <a:pt x="463" y="30"/>
                </a:moveTo>
                <a:moveTo>
                  <a:pt x="463" y="34"/>
                </a:moveTo>
                <a:moveTo>
                  <a:pt x="464" y="38"/>
                </a:moveTo>
                <a:moveTo>
                  <a:pt x="463" y="38"/>
                </a:moveTo>
                <a:moveTo>
                  <a:pt x="462" y="38"/>
                </a:moveTo>
                <a:moveTo>
                  <a:pt x="460" y="39"/>
                </a:moveTo>
                <a:moveTo>
                  <a:pt x="460" y="39"/>
                </a:moveTo>
                <a:moveTo>
                  <a:pt x="459" y="39"/>
                </a:moveTo>
                <a:moveTo>
                  <a:pt x="459" y="39"/>
                </a:moveTo>
                <a:moveTo>
                  <a:pt x="460" y="37"/>
                </a:moveTo>
                <a:moveTo>
                  <a:pt x="460" y="35"/>
                </a:moveTo>
                <a:moveTo>
                  <a:pt x="460" y="32"/>
                </a:moveTo>
                <a:moveTo>
                  <a:pt x="460" y="31"/>
                </a:moveTo>
                <a:moveTo>
                  <a:pt x="459" y="31"/>
                </a:moveTo>
                <a:moveTo>
                  <a:pt x="459" y="31"/>
                </a:moveTo>
                <a:moveTo>
                  <a:pt x="458" y="31"/>
                </a:moveTo>
                <a:moveTo>
                  <a:pt x="458" y="31"/>
                </a:moveTo>
                <a:moveTo>
                  <a:pt x="458" y="31"/>
                </a:moveTo>
                <a:moveTo>
                  <a:pt x="458" y="30"/>
                </a:moveTo>
                <a:moveTo>
                  <a:pt x="458" y="29"/>
                </a:moveTo>
                <a:moveTo>
                  <a:pt x="458" y="27"/>
                </a:moveTo>
                <a:moveTo>
                  <a:pt x="462" y="26"/>
                </a:moveTo>
                <a:moveTo>
                  <a:pt x="469" y="23"/>
                </a:moveTo>
                <a:moveTo>
                  <a:pt x="472" y="25"/>
                </a:moveTo>
                <a:moveTo>
                  <a:pt x="473" y="25"/>
                </a:moveTo>
                <a:moveTo>
                  <a:pt x="474" y="24"/>
                </a:moveTo>
                <a:moveTo>
                  <a:pt x="473" y="23"/>
                </a:moveTo>
                <a:moveTo>
                  <a:pt x="469" y="21"/>
                </a:moveTo>
                <a:moveTo>
                  <a:pt x="462" y="24"/>
                </a:moveTo>
                <a:moveTo>
                  <a:pt x="458" y="25"/>
                </a:moveTo>
                <a:moveTo>
                  <a:pt x="458" y="25"/>
                </a:moveTo>
                <a:moveTo>
                  <a:pt x="458" y="25"/>
                </a:moveTo>
                <a:moveTo>
                  <a:pt x="458" y="25"/>
                </a:moveTo>
                <a:moveTo>
                  <a:pt x="459" y="20"/>
                </a:moveTo>
                <a:moveTo>
                  <a:pt x="459" y="15"/>
                </a:moveTo>
                <a:moveTo>
                  <a:pt x="459" y="9"/>
                </a:moveTo>
                <a:moveTo>
                  <a:pt x="461" y="9"/>
                </a:moveTo>
                <a:moveTo>
                  <a:pt x="462" y="9"/>
                </a:moveTo>
                <a:moveTo>
                  <a:pt x="464" y="8"/>
                </a:moveTo>
                <a:moveTo>
                  <a:pt x="465" y="8"/>
                </a:moveTo>
                <a:moveTo>
                  <a:pt x="465" y="7"/>
                </a:moveTo>
                <a:moveTo>
                  <a:pt x="464" y="7"/>
                </a:moveTo>
                <a:moveTo>
                  <a:pt x="462" y="8"/>
                </a:moveTo>
                <a:moveTo>
                  <a:pt x="460" y="8"/>
                </a:moveTo>
                <a:moveTo>
                  <a:pt x="459" y="8"/>
                </a:moveTo>
                <a:moveTo>
                  <a:pt x="459" y="6"/>
                </a:moveTo>
                <a:moveTo>
                  <a:pt x="459" y="4"/>
                </a:moveTo>
                <a:moveTo>
                  <a:pt x="459" y="1"/>
                </a:moveTo>
                <a:moveTo>
                  <a:pt x="459" y="0"/>
                </a:moveTo>
                <a:moveTo>
                  <a:pt x="457" y="0"/>
                </a:moveTo>
                <a:moveTo>
                  <a:pt x="457" y="1"/>
                </a:moveTo>
                <a:moveTo>
                  <a:pt x="457" y="4"/>
                </a:moveTo>
                <a:moveTo>
                  <a:pt x="457" y="6"/>
                </a:moveTo>
                <a:moveTo>
                  <a:pt x="457" y="9"/>
                </a:moveTo>
                <a:moveTo>
                  <a:pt x="456" y="9"/>
                </a:moveTo>
                <a:moveTo>
                  <a:pt x="455" y="9"/>
                </a:moveTo>
                <a:moveTo>
                  <a:pt x="454" y="9"/>
                </a:moveTo>
                <a:moveTo>
                  <a:pt x="454" y="10"/>
                </a:moveTo>
                <a:moveTo>
                  <a:pt x="453" y="10"/>
                </a:moveTo>
                <a:moveTo>
                  <a:pt x="453" y="11"/>
                </a:moveTo>
                <a:moveTo>
                  <a:pt x="452" y="12"/>
                </a:moveTo>
                <a:moveTo>
                  <a:pt x="454" y="12"/>
                </a:moveTo>
                <a:moveTo>
                  <a:pt x="455" y="12"/>
                </a:moveTo>
                <a:moveTo>
                  <a:pt x="456" y="12"/>
                </a:moveTo>
                <a:moveTo>
                  <a:pt x="456" y="12"/>
                </a:moveTo>
                <a:moveTo>
                  <a:pt x="455" y="11"/>
                </a:moveTo>
                <a:moveTo>
                  <a:pt x="454" y="11"/>
                </a:moveTo>
                <a:moveTo>
                  <a:pt x="453" y="11"/>
                </a:moveTo>
                <a:moveTo>
                  <a:pt x="454" y="10"/>
                </a:moveTo>
                <a:moveTo>
                  <a:pt x="455" y="10"/>
                </a:moveTo>
                <a:moveTo>
                  <a:pt x="456" y="10"/>
                </a:moveTo>
                <a:moveTo>
                  <a:pt x="457" y="10"/>
                </a:moveTo>
                <a:moveTo>
                  <a:pt x="457" y="15"/>
                </a:moveTo>
                <a:moveTo>
                  <a:pt x="457" y="21"/>
                </a:moveTo>
                <a:moveTo>
                  <a:pt x="456" y="26"/>
                </a:moveTo>
                <a:moveTo>
                  <a:pt x="450" y="28"/>
                </a:moveTo>
                <a:moveTo>
                  <a:pt x="443" y="31"/>
                </a:moveTo>
                <a:moveTo>
                  <a:pt x="437" y="34"/>
                </a:moveTo>
                <a:moveTo>
                  <a:pt x="436" y="34"/>
                </a:moveTo>
                <a:moveTo>
                  <a:pt x="437" y="36"/>
                </a:moveTo>
                <a:moveTo>
                  <a:pt x="438" y="35"/>
                </a:moveTo>
                <a:moveTo>
                  <a:pt x="444" y="33"/>
                </a:moveTo>
                <a:moveTo>
                  <a:pt x="450" y="30"/>
                </a:moveTo>
                <a:moveTo>
                  <a:pt x="456" y="28"/>
                </a:moveTo>
                <a:moveTo>
                  <a:pt x="456" y="28"/>
                </a:moveTo>
                <a:moveTo>
                  <a:pt x="456" y="28"/>
                </a:moveTo>
                <a:moveTo>
                  <a:pt x="456" y="28"/>
                </a:moveTo>
                <a:moveTo>
                  <a:pt x="456" y="30"/>
                </a:moveTo>
                <a:moveTo>
                  <a:pt x="456" y="32"/>
                </a:moveTo>
                <a:moveTo>
                  <a:pt x="455" y="35"/>
                </a:moveTo>
                <a:moveTo>
                  <a:pt x="455" y="35"/>
                </a:moveTo>
                <a:moveTo>
                  <a:pt x="455" y="35"/>
                </a:moveTo>
                <a:moveTo>
                  <a:pt x="456" y="35"/>
                </a:moveTo>
                <a:moveTo>
                  <a:pt x="455" y="35"/>
                </a:moveTo>
                <a:moveTo>
                  <a:pt x="455" y="35"/>
                </a:moveTo>
                <a:moveTo>
                  <a:pt x="455" y="35"/>
                </a:moveTo>
                <a:moveTo>
                  <a:pt x="454" y="35"/>
                </a:moveTo>
                <a:moveTo>
                  <a:pt x="451" y="35"/>
                </a:moveTo>
                <a:moveTo>
                  <a:pt x="450" y="35"/>
                </a:moveTo>
                <a:moveTo>
                  <a:pt x="450" y="35"/>
                </a:moveTo>
                <a:moveTo>
                  <a:pt x="450" y="34"/>
                </a:moveTo>
                <a:moveTo>
                  <a:pt x="450" y="34"/>
                </a:moveTo>
                <a:moveTo>
                  <a:pt x="449" y="32"/>
                </a:moveTo>
                <a:moveTo>
                  <a:pt x="448" y="31"/>
                </a:moveTo>
                <a:moveTo>
                  <a:pt x="446" y="32"/>
                </a:moveTo>
                <a:moveTo>
                  <a:pt x="445" y="33"/>
                </a:moveTo>
                <a:moveTo>
                  <a:pt x="447" y="35"/>
                </a:moveTo>
                <a:moveTo>
                  <a:pt x="448" y="34"/>
                </a:moveTo>
                <a:moveTo>
                  <a:pt x="448" y="34"/>
                </a:moveTo>
                <a:moveTo>
                  <a:pt x="448" y="34"/>
                </a:moveTo>
                <a:moveTo>
                  <a:pt x="448" y="35"/>
                </a:moveTo>
                <a:moveTo>
                  <a:pt x="448" y="35"/>
                </a:moveTo>
                <a:moveTo>
                  <a:pt x="448" y="36"/>
                </a:moveTo>
                <a:moveTo>
                  <a:pt x="448" y="37"/>
                </a:moveTo>
                <a:moveTo>
                  <a:pt x="447" y="37"/>
                </a:moveTo>
                <a:moveTo>
                  <a:pt x="447" y="38"/>
                </a:moveTo>
                <a:moveTo>
                  <a:pt x="448" y="39"/>
                </a:moveTo>
                <a:moveTo>
                  <a:pt x="447" y="40"/>
                </a:moveTo>
                <a:moveTo>
                  <a:pt x="447" y="41"/>
                </a:moveTo>
                <a:moveTo>
                  <a:pt x="447" y="42"/>
                </a:moveTo>
                <a:moveTo>
                  <a:pt x="440" y="43"/>
                </a:moveTo>
                <a:moveTo>
                  <a:pt x="433" y="45"/>
                </a:moveTo>
                <a:moveTo>
                  <a:pt x="427" y="49"/>
                </a:moveTo>
                <a:moveTo>
                  <a:pt x="426" y="50"/>
                </a:moveTo>
                <a:moveTo>
                  <a:pt x="425" y="51"/>
                </a:moveTo>
                <a:moveTo>
                  <a:pt x="425" y="53"/>
                </a:moveTo>
                <a:moveTo>
                  <a:pt x="422" y="53"/>
                </a:moveTo>
                <a:moveTo>
                  <a:pt x="419" y="54"/>
                </a:moveTo>
                <a:moveTo>
                  <a:pt x="417" y="55"/>
                </a:moveTo>
                <a:moveTo>
                  <a:pt x="416" y="55"/>
                </a:moveTo>
                <a:moveTo>
                  <a:pt x="416" y="56"/>
                </a:moveTo>
                <a:moveTo>
                  <a:pt x="417" y="57"/>
                </a:moveTo>
                <a:moveTo>
                  <a:pt x="417" y="57"/>
                </a:moveTo>
                <a:moveTo>
                  <a:pt x="419" y="58"/>
                </a:moveTo>
                <a:moveTo>
                  <a:pt x="421" y="59"/>
                </a:moveTo>
                <a:moveTo>
                  <a:pt x="420" y="59"/>
                </a:moveTo>
                <a:moveTo>
                  <a:pt x="420" y="59"/>
                </a:moveTo>
                <a:moveTo>
                  <a:pt x="420" y="59"/>
                </a:moveTo>
                <a:moveTo>
                  <a:pt x="420" y="62"/>
                </a:moveTo>
                <a:moveTo>
                  <a:pt x="420" y="64"/>
                </a:moveTo>
                <a:moveTo>
                  <a:pt x="420" y="66"/>
                </a:moveTo>
                <a:moveTo>
                  <a:pt x="420" y="67"/>
                </a:moveTo>
                <a:moveTo>
                  <a:pt x="421" y="67"/>
                </a:moveTo>
                <a:moveTo>
                  <a:pt x="421" y="66"/>
                </a:moveTo>
                <a:moveTo>
                  <a:pt x="421" y="67"/>
                </a:moveTo>
                <a:moveTo>
                  <a:pt x="421" y="68"/>
                </a:moveTo>
                <a:moveTo>
                  <a:pt x="421" y="68"/>
                </a:moveTo>
                <a:moveTo>
                  <a:pt x="421" y="69"/>
                </a:moveTo>
                <a:moveTo>
                  <a:pt x="421" y="69"/>
                </a:moveTo>
                <a:moveTo>
                  <a:pt x="422" y="69"/>
                </a:moveTo>
                <a:moveTo>
                  <a:pt x="422" y="70"/>
                </a:moveTo>
                <a:moveTo>
                  <a:pt x="423" y="70"/>
                </a:moveTo>
                <a:moveTo>
                  <a:pt x="425" y="71"/>
                </a:moveTo>
                <a:moveTo>
                  <a:pt x="425" y="71"/>
                </a:moveTo>
                <a:moveTo>
                  <a:pt x="425" y="71"/>
                </a:moveTo>
                <a:moveTo>
                  <a:pt x="425" y="71"/>
                </a:moveTo>
                <a:moveTo>
                  <a:pt x="424" y="74"/>
                </a:moveTo>
                <a:moveTo>
                  <a:pt x="423" y="78"/>
                </a:moveTo>
                <a:moveTo>
                  <a:pt x="422" y="82"/>
                </a:moveTo>
                <a:moveTo>
                  <a:pt x="410" y="109"/>
                </a:moveTo>
                <a:moveTo>
                  <a:pt x="402" y="138"/>
                </a:moveTo>
                <a:moveTo>
                  <a:pt x="390" y="165"/>
                </a:moveTo>
                <a:moveTo>
                  <a:pt x="390" y="166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0" y="167"/>
                </a:moveTo>
                <a:moveTo>
                  <a:pt x="390" y="167"/>
                </a:moveTo>
                <a:moveTo>
                  <a:pt x="390" y="166"/>
                </a:moveTo>
                <a:moveTo>
                  <a:pt x="390" y="166"/>
                </a:moveTo>
                <a:moveTo>
                  <a:pt x="390" y="166"/>
                </a:moveTo>
                <a:moveTo>
                  <a:pt x="382" y="145"/>
                </a:moveTo>
                <a:moveTo>
                  <a:pt x="380" y="124"/>
                </a:moveTo>
                <a:moveTo>
                  <a:pt x="380" y="102"/>
                </a:moveTo>
                <a:moveTo>
                  <a:pt x="380" y="101"/>
                </a:moveTo>
                <a:moveTo>
                  <a:pt x="379" y="101"/>
                </a:moveTo>
                <a:moveTo>
                  <a:pt x="379" y="101"/>
                </a:moveTo>
                <a:moveTo>
                  <a:pt x="378" y="101"/>
                </a:moveTo>
                <a:moveTo>
                  <a:pt x="377" y="102"/>
                </a:moveTo>
                <a:moveTo>
                  <a:pt x="376" y="102"/>
                </a:moveTo>
                <a:moveTo>
                  <a:pt x="377" y="100"/>
                </a:moveTo>
                <a:moveTo>
                  <a:pt x="377" y="97"/>
                </a:moveTo>
                <a:moveTo>
                  <a:pt x="377" y="94"/>
                </a:moveTo>
                <a:moveTo>
                  <a:pt x="380" y="93"/>
                </a:moveTo>
                <a:moveTo>
                  <a:pt x="382" y="91"/>
                </a:moveTo>
                <a:moveTo>
                  <a:pt x="385" y="90"/>
                </a:moveTo>
                <a:moveTo>
                  <a:pt x="386" y="89"/>
                </a:moveTo>
                <a:moveTo>
                  <a:pt x="385" y="88"/>
                </a:moveTo>
                <a:moveTo>
                  <a:pt x="384" y="88"/>
                </a:moveTo>
                <a:moveTo>
                  <a:pt x="382" y="89"/>
                </a:moveTo>
                <a:moveTo>
                  <a:pt x="379" y="91"/>
                </a:moveTo>
                <a:moveTo>
                  <a:pt x="377" y="92"/>
                </a:moveTo>
                <a:moveTo>
                  <a:pt x="377" y="87"/>
                </a:moveTo>
                <a:moveTo>
                  <a:pt x="377" y="83"/>
                </a:moveTo>
                <a:moveTo>
                  <a:pt x="377" y="79"/>
                </a:moveTo>
                <a:moveTo>
                  <a:pt x="377" y="77"/>
                </a:moveTo>
                <a:moveTo>
                  <a:pt x="376" y="77"/>
                </a:moveTo>
                <a:moveTo>
                  <a:pt x="375" y="78"/>
                </a:moveTo>
                <a:moveTo>
                  <a:pt x="375" y="79"/>
                </a:moveTo>
                <a:moveTo>
                  <a:pt x="375" y="80"/>
                </a:moveTo>
                <a:moveTo>
                  <a:pt x="374" y="81"/>
                </a:moveTo>
                <a:moveTo>
                  <a:pt x="374" y="81"/>
                </a:moveTo>
                <a:moveTo>
                  <a:pt x="375" y="82"/>
                </a:moveTo>
                <a:moveTo>
                  <a:pt x="375" y="82"/>
                </a:moveTo>
                <a:moveTo>
                  <a:pt x="375" y="86"/>
                </a:moveTo>
                <a:moveTo>
                  <a:pt x="375" y="89"/>
                </a:moveTo>
                <a:moveTo>
                  <a:pt x="375" y="93"/>
                </a:moveTo>
                <a:moveTo>
                  <a:pt x="373" y="94"/>
                </a:moveTo>
                <a:moveTo>
                  <a:pt x="371" y="94"/>
                </a:moveTo>
                <a:moveTo>
                  <a:pt x="369" y="95"/>
                </a:moveTo>
                <a:moveTo>
                  <a:pt x="368" y="95"/>
                </a:moveTo>
                <a:moveTo>
                  <a:pt x="369" y="97"/>
                </a:moveTo>
                <a:moveTo>
                  <a:pt x="370" y="97"/>
                </a:moveTo>
                <a:moveTo>
                  <a:pt x="372" y="96"/>
                </a:moveTo>
                <a:moveTo>
                  <a:pt x="373" y="96"/>
                </a:moveTo>
                <a:moveTo>
                  <a:pt x="375" y="95"/>
                </a:moveTo>
                <a:moveTo>
                  <a:pt x="375" y="99"/>
                </a:moveTo>
                <a:moveTo>
                  <a:pt x="374" y="102"/>
                </a:moveTo>
                <a:moveTo>
                  <a:pt x="374" y="106"/>
                </a:moveTo>
                <a:moveTo>
                  <a:pt x="374" y="105"/>
                </a:moveTo>
                <a:moveTo>
                  <a:pt x="374" y="105"/>
                </a:moveTo>
                <a:moveTo>
                  <a:pt x="374" y="104"/>
                </a:moveTo>
                <a:moveTo>
                  <a:pt x="374" y="103"/>
                </a:moveTo>
                <a:moveTo>
                  <a:pt x="372" y="103"/>
                </a:moveTo>
                <a:moveTo>
                  <a:pt x="372" y="104"/>
                </a:moveTo>
                <a:moveTo>
                  <a:pt x="371" y="117"/>
                </a:moveTo>
                <a:moveTo>
                  <a:pt x="369" y="129"/>
                </a:moveTo>
                <a:moveTo>
                  <a:pt x="366" y="142"/>
                </a:moveTo>
                <a:moveTo>
                  <a:pt x="366" y="146"/>
                </a:moveTo>
                <a:moveTo>
                  <a:pt x="365" y="151"/>
                </a:moveTo>
                <a:moveTo>
                  <a:pt x="363" y="156"/>
                </a:moveTo>
                <a:moveTo>
                  <a:pt x="360" y="163"/>
                </a:moveTo>
                <a:moveTo>
                  <a:pt x="356" y="168"/>
                </a:moveTo>
                <a:moveTo>
                  <a:pt x="350" y="173"/>
                </a:moveTo>
                <a:moveTo>
                  <a:pt x="350" y="174"/>
                </a:moveTo>
                <a:moveTo>
                  <a:pt x="350" y="174"/>
                </a:moveTo>
                <a:moveTo>
                  <a:pt x="351" y="175"/>
                </a:moveTo>
                <a:moveTo>
                  <a:pt x="351" y="175"/>
                </a:moveTo>
                <a:moveTo>
                  <a:pt x="351" y="175"/>
                </a:moveTo>
                <a:moveTo>
                  <a:pt x="351" y="175"/>
                </a:moveTo>
                <a:moveTo>
                  <a:pt x="350" y="177"/>
                </a:moveTo>
                <a:moveTo>
                  <a:pt x="351" y="178"/>
                </a:moveTo>
                <a:moveTo>
                  <a:pt x="352" y="179"/>
                </a:moveTo>
                <a:moveTo>
                  <a:pt x="354" y="180"/>
                </a:moveTo>
                <a:moveTo>
                  <a:pt x="356" y="181"/>
                </a:moveTo>
                <a:moveTo>
                  <a:pt x="358" y="182"/>
                </a:moveTo>
                <a:moveTo>
                  <a:pt x="358" y="195"/>
                </a:moveTo>
                <a:moveTo>
                  <a:pt x="358" y="209"/>
                </a:moveTo>
                <a:moveTo>
                  <a:pt x="358" y="223"/>
                </a:moveTo>
                <a:moveTo>
                  <a:pt x="356" y="224"/>
                </a:moveTo>
                <a:moveTo>
                  <a:pt x="355" y="226"/>
                </a:moveTo>
                <a:moveTo>
                  <a:pt x="354" y="228"/>
                </a:moveTo>
                <a:moveTo>
                  <a:pt x="351" y="230"/>
                </a:moveTo>
                <a:moveTo>
                  <a:pt x="348" y="233"/>
                </a:moveTo>
                <a:moveTo>
                  <a:pt x="349" y="237"/>
                </a:moveTo>
                <a:moveTo>
                  <a:pt x="349" y="237"/>
                </a:moveTo>
                <a:moveTo>
                  <a:pt x="349" y="237"/>
                </a:moveTo>
                <a:moveTo>
                  <a:pt x="348" y="237"/>
                </a:moveTo>
                <a:moveTo>
                  <a:pt x="348" y="236"/>
                </a:moveTo>
                <a:moveTo>
                  <a:pt x="348" y="236"/>
                </a:moveTo>
                <a:moveTo>
                  <a:pt x="348" y="237"/>
                </a:moveTo>
                <a:moveTo>
                  <a:pt x="348" y="241"/>
                </a:moveTo>
                <a:moveTo>
                  <a:pt x="350" y="240"/>
                </a:moveTo>
                <a:moveTo>
                  <a:pt x="353" y="241"/>
                </a:moveTo>
                <a:moveTo>
                  <a:pt x="354" y="241"/>
                </a:moveTo>
                <a:moveTo>
                  <a:pt x="354" y="241"/>
                </a:moveTo>
                <a:moveTo>
                  <a:pt x="353" y="240"/>
                </a:moveTo>
                <a:moveTo>
                  <a:pt x="352" y="240"/>
                </a:moveTo>
                <a:moveTo>
                  <a:pt x="351" y="240"/>
                </a:moveTo>
                <a:moveTo>
                  <a:pt x="350" y="240"/>
                </a:moveTo>
                <a:moveTo>
                  <a:pt x="350" y="240"/>
                </a:moveTo>
                <a:moveTo>
                  <a:pt x="351" y="240"/>
                </a:moveTo>
                <a:moveTo>
                  <a:pt x="350" y="240"/>
                </a:moveTo>
                <a:moveTo>
                  <a:pt x="350" y="239"/>
                </a:moveTo>
                <a:moveTo>
                  <a:pt x="350" y="238"/>
                </a:moveTo>
                <a:moveTo>
                  <a:pt x="350" y="237"/>
                </a:moveTo>
                <a:moveTo>
                  <a:pt x="350" y="237"/>
                </a:moveTo>
                <a:moveTo>
                  <a:pt x="350" y="237"/>
                </a:moveTo>
                <a:moveTo>
                  <a:pt x="351" y="237"/>
                </a:moveTo>
                <a:moveTo>
                  <a:pt x="351" y="235"/>
                </a:moveTo>
                <a:moveTo>
                  <a:pt x="352" y="233"/>
                </a:moveTo>
                <a:moveTo>
                  <a:pt x="353" y="232"/>
                </a:moveTo>
                <a:moveTo>
                  <a:pt x="353" y="233"/>
                </a:moveTo>
                <a:moveTo>
                  <a:pt x="354" y="234"/>
                </a:moveTo>
                <a:moveTo>
                  <a:pt x="354" y="235"/>
                </a:moveTo>
                <a:moveTo>
                  <a:pt x="354" y="260"/>
                </a:moveTo>
                <a:moveTo>
                  <a:pt x="352" y="284"/>
                </a:moveTo>
                <a:moveTo>
                  <a:pt x="350" y="309"/>
                </a:moveTo>
                <a:moveTo>
                  <a:pt x="350" y="309"/>
                </a:moveTo>
                <a:moveTo>
                  <a:pt x="350" y="309"/>
                </a:moveTo>
                <a:moveTo>
                  <a:pt x="350" y="309"/>
                </a:moveTo>
                <a:moveTo>
                  <a:pt x="349" y="310"/>
                </a:moveTo>
                <a:moveTo>
                  <a:pt x="348" y="311"/>
                </a:moveTo>
                <a:moveTo>
                  <a:pt x="348" y="313"/>
                </a:moveTo>
                <a:moveTo>
                  <a:pt x="347" y="313"/>
                </a:moveTo>
                <a:moveTo>
                  <a:pt x="348" y="314"/>
                </a:moveTo>
                <a:moveTo>
                  <a:pt x="348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50" y="313"/>
                </a:moveTo>
                <a:moveTo>
                  <a:pt x="350" y="313"/>
                </a:moveTo>
                <a:moveTo>
                  <a:pt x="350" y="313"/>
                </a:moveTo>
                <a:moveTo>
                  <a:pt x="350" y="314"/>
                </a:moveTo>
                <a:moveTo>
                  <a:pt x="350" y="314"/>
                </a:moveTo>
                <a:moveTo>
                  <a:pt x="350" y="315"/>
                </a:moveTo>
                <a:moveTo>
                  <a:pt x="352" y="315"/>
                </a:moveTo>
                <a:moveTo>
                  <a:pt x="352" y="314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1" y="314"/>
                </a:moveTo>
                <a:moveTo>
                  <a:pt x="350" y="315"/>
                </a:moveTo>
                <a:moveTo>
                  <a:pt x="350" y="316"/>
                </a:moveTo>
                <a:moveTo>
                  <a:pt x="351" y="317"/>
                </a:moveTo>
                <a:moveTo>
                  <a:pt x="351" y="318"/>
                </a:moveTo>
                <a:moveTo>
                  <a:pt x="351" y="319"/>
                </a:moveTo>
                <a:moveTo>
                  <a:pt x="349" y="321"/>
                </a:moveTo>
                <a:moveTo>
                  <a:pt x="347" y="323"/>
                </a:moveTo>
                <a:moveTo>
                  <a:pt x="346" y="326"/>
                </a:moveTo>
                <a:moveTo>
                  <a:pt x="346" y="326"/>
                </a:moveTo>
                <a:moveTo>
                  <a:pt x="346" y="326"/>
                </a:moveTo>
                <a:moveTo>
                  <a:pt x="346" y="327"/>
                </a:moveTo>
                <a:moveTo>
                  <a:pt x="345" y="328"/>
                </a:moveTo>
                <a:moveTo>
                  <a:pt x="345" y="329"/>
                </a:moveTo>
                <a:moveTo>
                  <a:pt x="345" y="330"/>
                </a:moveTo>
                <a:moveTo>
                  <a:pt x="345" y="331"/>
                </a:moveTo>
                <a:moveTo>
                  <a:pt x="347" y="331"/>
                </a:moveTo>
                <a:moveTo>
                  <a:pt x="347" y="330"/>
                </a:moveTo>
                <a:moveTo>
                  <a:pt x="347" y="330"/>
                </a:moveTo>
                <a:moveTo>
                  <a:pt x="348" y="330"/>
                </a:moveTo>
                <a:moveTo>
                  <a:pt x="348" y="331"/>
                </a:moveTo>
                <a:moveTo>
                  <a:pt x="350" y="332"/>
                </a:moveTo>
                <a:moveTo>
                  <a:pt x="352" y="328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6"/>
                </a:moveTo>
                <a:moveTo>
                  <a:pt x="351" y="326"/>
                </a:moveTo>
                <a:moveTo>
                  <a:pt x="352" y="326"/>
                </a:moveTo>
                <a:moveTo>
                  <a:pt x="351" y="327"/>
                </a:moveTo>
                <a:moveTo>
                  <a:pt x="352" y="328"/>
                </a:moveTo>
                <a:moveTo>
                  <a:pt x="352" y="329"/>
                </a:moveTo>
                <a:moveTo>
                  <a:pt x="352" y="329"/>
                </a:moveTo>
                <a:moveTo>
                  <a:pt x="352" y="329"/>
                </a:moveTo>
                <a:moveTo>
                  <a:pt x="352" y="329"/>
                </a:moveTo>
                <a:moveTo>
                  <a:pt x="352" y="330"/>
                </a:moveTo>
                <a:moveTo>
                  <a:pt x="352" y="330"/>
                </a:moveTo>
                <a:moveTo>
                  <a:pt x="352" y="330"/>
                </a:moveTo>
                <a:moveTo>
                  <a:pt x="342" y="337"/>
                </a:moveTo>
                <a:moveTo>
                  <a:pt x="332" y="346"/>
                </a:moveTo>
                <a:moveTo>
                  <a:pt x="323" y="354"/>
                </a:moveTo>
                <a:moveTo>
                  <a:pt x="310" y="365"/>
                </a:moveTo>
                <a:moveTo>
                  <a:pt x="296" y="374"/>
                </a:moveTo>
                <a:moveTo>
                  <a:pt x="282" y="383"/>
                </a:moveTo>
                <a:moveTo>
                  <a:pt x="250" y="401"/>
                </a:moveTo>
                <a:moveTo>
                  <a:pt x="215" y="416"/>
                </a:moveTo>
                <a:moveTo>
                  <a:pt x="180" y="428"/>
                </a:moveTo>
                <a:moveTo>
                  <a:pt x="145" y="441"/>
                </a:moveTo>
                <a:moveTo>
                  <a:pt x="111" y="456"/>
                </a:moveTo>
                <a:moveTo>
                  <a:pt x="76" y="469"/>
                </a:moveTo>
                <a:moveTo>
                  <a:pt x="60" y="474"/>
                </a:moveTo>
                <a:moveTo>
                  <a:pt x="45" y="478"/>
                </a:moveTo>
                <a:moveTo>
                  <a:pt x="29" y="480"/>
                </a:moveTo>
                <a:moveTo>
                  <a:pt x="20" y="481"/>
                </a:moveTo>
                <a:moveTo>
                  <a:pt x="9" y="481"/>
                </a:moveTo>
                <a:moveTo>
                  <a:pt x="2" y="487"/>
                </a:moveTo>
                <a:moveTo>
                  <a:pt x="1" y="488"/>
                </a:moveTo>
                <a:moveTo>
                  <a:pt x="3" y="489"/>
                </a:moveTo>
                <a:moveTo>
                  <a:pt x="4" y="489"/>
                </a:moveTo>
                <a:moveTo>
                  <a:pt x="13" y="480"/>
                </a:moveTo>
                <a:moveTo>
                  <a:pt x="30" y="482"/>
                </a:moveTo>
                <a:moveTo>
                  <a:pt x="42" y="481"/>
                </a:moveTo>
                <a:moveTo>
                  <a:pt x="59" y="478"/>
                </a:moveTo>
                <a:moveTo>
                  <a:pt x="75" y="471"/>
                </a:moveTo>
                <a:moveTo>
                  <a:pt x="91" y="465"/>
                </a:moveTo>
                <a:moveTo>
                  <a:pt x="125" y="452"/>
                </a:moveTo>
                <a:moveTo>
                  <a:pt x="159" y="438"/>
                </a:moveTo>
                <a:moveTo>
                  <a:pt x="194" y="426"/>
                </a:moveTo>
                <a:moveTo>
                  <a:pt x="216" y="417"/>
                </a:moveTo>
                <a:moveTo>
                  <a:pt x="238" y="408"/>
                </a:moveTo>
                <a:moveTo>
                  <a:pt x="259" y="398"/>
                </a:moveTo>
                <a:moveTo>
                  <a:pt x="238" y="410"/>
                </a:moveTo>
                <a:moveTo>
                  <a:pt x="216" y="422"/>
                </a:moveTo>
                <a:moveTo>
                  <a:pt x="194" y="433"/>
                </a:moveTo>
                <a:moveTo>
                  <a:pt x="176" y="443"/>
                </a:moveTo>
                <a:moveTo>
                  <a:pt x="159" y="453"/>
                </a:moveTo>
                <a:moveTo>
                  <a:pt x="139" y="459"/>
                </a:moveTo>
                <a:moveTo>
                  <a:pt x="110" y="467"/>
                </a:moveTo>
                <a:moveTo>
                  <a:pt x="81" y="474"/>
                </a:moveTo>
                <a:moveTo>
                  <a:pt x="52" y="482"/>
                </a:moveTo>
                <a:moveTo>
                  <a:pt x="40" y="485"/>
                </a:moveTo>
                <a:moveTo>
                  <a:pt x="28" y="489"/>
                </a:moveTo>
                <a:moveTo>
                  <a:pt x="16" y="494"/>
                </a:moveTo>
                <a:moveTo>
                  <a:pt x="11" y="496"/>
                </a:moveTo>
                <a:moveTo>
                  <a:pt x="2" y="500"/>
                </a:moveTo>
                <a:moveTo>
                  <a:pt x="0" y="506"/>
                </a:moveTo>
                <a:moveTo>
                  <a:pt x="0" y="507"/>
                </a:moveTo>
                <a:moveTo>
                  <a:pt x="2" y="507"/>
                </a:moveTo>
                <a:moveTo>
                  <a:pt x="2" y="506"/>
                </a:moveTo>
                <a:moveTo>
                  <a:pt x="4" y="499"/>
                </a:moveTo>
                <a:moveTo>
                  <a:pt x="19" y="495"/>
                </a:moveTo>
                <a:moveTo>
                  <a:pt x="24" y="493"/>
                </a:moveTo>
                <a:moveTo>
                  <a:pt x="38" y="488"/>
                </a:moveTo>
                <a:moveTo>
                  <a:pt x="52" y="484"/>
                </a:moveTo>
                <a:moveTo>
                  <a:pt x="66" y="480"/>
                </a:moveTo>
                <a:moveTo>
                  <a:pt x="92" y="473"/>
                </a:moveTo>
                <a:moveTo>
                  <a:pt x="119" y="467"/>
                </a:moveTo>
                <a:moveTo>
                  <a:pt x="145" y="459"/>
                </a:moveTo>
                <a:moveTo>
                  <a:pt x="163" y="454"/>
                </a:moveTo>
                <a:moveTo>
                  <a:pt x="179" y="443"/>
                </a:moveTo>
                <a:moveTo>
                  <a:pt x="195" y="435"/>
                </a:moveTo>
                <a:moveTo>
                  <a:pt x="219" y="423"/>
                </a:moveTo>
                <a:moveTo>
                  <a:pt x="242" y="410"/>
                </a:moveTo>
                <a:moveTo>
                  <a:pt x="265" y="397"/>
                </a:moveTo>
                <a:moveTo>
                  <a:pt x="271" y="393"/>
                </a:moveTo>
                <a:moveTo>
                  <a:pt x="277" y="389"/>
                </a:moveTo>
                <a:moveTo>
                  <a:pt x="284" y="385"/>
                </a:moveTo>
                <a:moveTo>
                  <a:pt x="300" y="376"/>
                </a:moveTo>
                <a:moveTo>
                  <a:pt x="316" y="366"/>
                </a:moveTo>
                <a:moveTo>
                  <a:pt x="332" y="355"/>
                </a:moveTo>
                <a:moveTo>
                  <a:pt x="331" y="356"/>
                </a:moveTo>
                <a:moveTo>
                  <a:pt x="329" y="357"/>
                </a:moveTo>
                <a:moveTo>
                  <a:pt x="328" y="358"/>
                </a:moveTo>
                <a:moveTo>
                  <a:pt x="288" y="390"/>
                </a:moveTo>
                <a:moveTo>
                  <a:pt x="248" y="423"/>
                </a:moveTo>
                <a:moveTo>
                  <a:pt x="204" y="450"/>
                </a:moveTo>
                <a:moveTo>
                  <a:pt x="148" y="486"/>
                </a:moveTo>
                <a:moveTo>
                  <a:pt x="86" y="510"/>
                </a:moveTo>
                <a:moveTo>
                  <a:pt x="23" y="533"/>
                </a:moveTo>
                <a:moveTo>
                  <a:pt x="22" y="533"/>
                </a:moveTo>
                <a:moveTo>
                  <a:pt x="22" y="534"/>
                </a:moveTo>
                <a:moveTo>
                  <a:pt x="22" y="534"/>
                </a:moveTo>
                <a:moveTo>
                  <a:pt x="20" y="534"/>
                </a:moveTo>
                <a:moveTo>
                  <a:pt x="19" y="535"/>
                </a:moveTo>
                <a:moveTo>
                  <a:pt x="17" y="535"/>
                </a:moveTo>
                <a:moveTo>
                  <a:pt x="16" y="535"/>
                </a:moveTo>
                <a:moveTo>
                  <a:pt x="16" y="537"/>
                </a:moveTo>
                <a:moveTo>
                  <a:pt x="17" y="537"/>
                </a:moveTo>
                <a:moveTo>
                  <a:pt x="54" y="532"/>
                </a:moveTo>
                <a:moveTo>
                  <a:pt x="90" y="518"/>
                </a:moveTo>
                <a:moveTo>
                  <a:pt x="124" y="502"/>
                </a:moveTo>
                <a:moveTo>
                  <a:pt x="162" y="484"/>
                </a:moveTo>
                <a:moveTo>
                  <a:pt x="199" y="463"/>
                </a:moveTo>
                <a:moveTo>
                  <a:pt x="234" y="438"/>
                </a:moveTo>
                <a:moveTo>
                  <a:pt x="260" y="420"/>
                </a:moveTo>
                <a:moveTo>
                  <a:pt x="285" y="401"/>
                </a:moveTo>
                <a:moveTo>
                  <a:pt x="308" y="380"/>
                </a:moveTo>
                <a:moveTo>
                  <a:pt x="315" y="373"/>
                </a:moveTo>
                <a:moveTo>
                  <a:pt x="323" y="366"/>
                </a:moveTo>
                <a:moveTo>
                  <a:pt x="330" y="360"/>
                </a:moveTo>
                <a:moveTo>
                  <a:pt x="338" y="354"/>
                </a:moveTo>
                <a:moveTo>
                  <a:pt x="345" y="348"/>
                </a:moveTo>
                <a:moveTo>
                  <a:pt x="353" y="342"/>
                </a:moveTo>
                <a:moveTo>
                  <a:pt x="350" y="348"/>
                </a:moveTo>
                <a:moveTo>
                  <a:pt x="351" y="365"/>
                </a:moveTo>
                <a:moveTo>
                  <a:pt x="351" y="368"/>
                </a:moveTo>
                <a:moveTo>
                  <a:pt x="350" y="376"/>
                </a:moveTo>
                <a:moveTo>
                  <a:pt x="349" y="384"/>
                </a:moveTo>
                <a:moveTo>
                  <a:pt x="349" y="393"/>
                </a:moveTo>
                <a:moveTo>
                  <a:pt x="346" y="395"/>
                </a:moveTo>
                <a:moveTo>
                  <a:pt x="343" y="397"/>
                </a:moveTo>
                <a:moveTo>
                  <a:pt x="340" y="399"/>
                </a:moveTo>
                <a:moveTo>
                  <a:pt x="328" y="408"/>
                </a:moveTo>
                <a:moveTo>
                  <a:pt x="315" y="418"/>
                </a:moveTo>
                <a:moveTo>
                  <a:pt x="302" y="427"/>
                </a:moveTo>
                <a:moveTo>
                  <a:pt x="286" y="435"/>
                </a:moveTo>
                <a:moveTo>
                  <a:pt x="270" y="443"/>
                </a:moveTo>
                <a:moveTo>
                  <a:pt x="253" y="452"/>
                </a:moveTo>
                <a:moveTo>
                  <a:pt x="210" y="473"/>
                </a:moveTo>
                <a:moveTo>
                  <a:pt x="169" y="497"/>
                </a:moveTo>
                <a:moveTo>
                  <a:pt x="124" y="515"/>
                </a:moveTo>
                <a:moveTo>
                  <a:pt x="103" y="524"/>
                </a:moveTo>
                <a:moveTo>
                  <a:pt x="81" y="533"/>
                </a:moveTo>
                <a:moveTo>
                  <a:pt x="59" y="539"/>
                </a:moveTo>
                <a:moveTo>
                  <a:pt x="50" y="541"/>
                </a:moveTo>
                <a:moveTo>
                  <a:pt x="41" y="543"/>
                </a:moveTo>
                <a:moveTo>
                  <a:pt x="33" y="546"/>
                </a:moveTo>
                <a:moveTo>
                  <a:pt x="29" y="547"/>
                </a:moveTo>
                <a:moveTo>
                  <a:pt x="24" y="548"/>
                </a:moveTo>
                <a:moveTo>
                  <a:pt x="20" y="551"/>
                </a:moveTo>
                <a:moveTo>
                  <a:pt x="19" y="552"/>
                </a:moveTo>
                <a:moveTo>
                  <a:pt x="21" y="553"/>
                </a:moveTo>
                <a:moveTo>
                  <a:pt x="22" y="553"/>
                </a:moveTo>
                <a:moveTo>
                  <a:pt x="27" y="548"/>
                </a:moveTo>
                <a:moveTo>
                  <a:pt x="36" y="547"/>
                </a:moveTo>
                <a:moveTo>
                  <a:pt x="42" y="545"/>
                </a:moveTo>
                <a:moveTo>
                  <a:pt x="51" y="543"/>
                </a:moveTo>
                <a:moveTo>
                  <a:pt x="59" y="541"/>
                </a:moveTo>
                <a:moveTo>
                  <a:pt x="68" y="538"/>
                </a:moveTo>
                <a:moveTo>
                  <a:pt x="92" y="532"/>
                </a:moveTo>
                <a:moveTo>
                  <a:pt x="116" y="521"/>
                </a:moveTo>
                <a:moveTo>
                  <a:pt x="138" y="512"/>
                </a:moveTo>
                <a:moveTo>
                  <a:pt x="180" y="494"/>
                </a:moveTo>
                <a:moveTo>
                  <a:pt x="219" y="471"/>
                </a:moveTo>
                <a:moveTo>
                  <a:pt x="259" y="451"/>
                </a:moveTo>
                <a:moveTo>
                  <a:pt x="269" y="446"/>
                </a:moveTo>
                <a:moveTo>
                  <a:pt x="280" y="441"/>
                </a:moveTo>
                <a:moveTo>
                  <a:pt x="290" y="435"/>
                </a:moveTo>
                <a:moveTo>
                  <a:pt x="280" y="442"/>
                </a:moveTo>
                <a:moveTo>
                  <a:pt x="271" y="449"/>
                </a:moveTo>
                <a:moveTo>
                  <a:pt x="261" y="456"/>
                </a:moveTo>
                <a:moveTo>
                  <a:pt x="246" y="466"/>
                </a:moveTo>
                <a:moveTo>
                  <a:pt x="231" y="477"/>
                </a:moveTo>
                <a:moveTo>
                  <a:pt x="215" y="485"/>
                </a:moveTo>
                <a:moveTo>
                  <a:pt x="156" y="514"/>
                </a:moveTo>
                <a:moveTo>
                  <a:pt x="94" y="538"/>
                </a:moveTo>
                <a:moveTo>
                  <a:pt x="33" y="563"/>
                </a:moveTo>
                <a:moveTo>
                  <a:pt x="32" y="563"/>
                </a:moveTo>
                <a:moveTo>
                  <a:pt x="32" y="565"/>
                </a:moveTo>
                <a:moveTo>
                  <a:pt x="33" y="565"/>
                </a:moveTo>
                <a:moveTo>
                  <a:pt x="82" y="545"/>
                </a:moveTo>
                <a:moveTo>
                  <a:pt x="130" y="524"/>
                </a:moveTo>
                <a:moveTo>
                  <a:pt x="179" y="503"/>
                </a:moveTo>
                <a:moveTo>
                  <a:pt x="196" y="496"/>
                </a:moveTo>
                <a:moveTo>
                  <a:pt x="213" y="489"/>
                </a:moveTo>
                <a:moveTo>
                  <a:pt x="229" y="479"/>
                </a:moveTo>
                <a:moveTo>
                  <a:pt x="251" y="466"/>
                </a:moveTo>
                <a:moveTo>
                  <a:pt x="272" y="451"/>
                </a:moveTo>
                <a:moveTo>
                  <a:pt x="293" y="436"/>
                </a:moveTo>
                <a:moveTo>
                  <a:pt x="296" y="434"/>
                </a:moveTo>
                <a:moveTo>
                  <a:pt x="299" y="432"/>
                </a:moveTo>
                <a:moveTo>
                  <a:pt x="301" y="430"/>
                </a:moveTo>
                <a:moveTo>
                  <a:pt x="318" y="422"/>
                </a:moveTo>
                <a:moveTo>
                  <a:pt x="334" y="413"/>
                </a:moveTo>
                <a:moveTo>
                  <a:pt x="349" y="404"/>
                </a:moveTo>
                <a:moveTo>
                  <a:pt x="350" y="405"/>
                </a:moveTo>
                <a:moveTo>
                  <a:pt x="350" y="407"/>
                </a:moveTo>
                <a:moveTo>
                  <a:pt x="350" y="408"/>
                </a:moveTo>
                <a:moveTo>
                  <a:pt x="350" y="409"/>
                </a:moveTo>
                <a:moveTo>
                  <a:pt x="352" y="409"/>
                </a:moveTo>
                <a:moveTo>
                  <a:pt x="352" y="408"/>
                </a:moveTo>
                <a:moveTo>
                  <a:pt x="352" y="406"/>
                </a:moveTo>
                <a:moveTo>
                  <a:pt x="351" y="405"/>
                </a:moveTo>
                <a:moveTo>
                  <a:pt x="351" y="403"/>
                </a:moveTo>
                <a:moveTo>
                  <a:pt x="352" y="402"/>
                </a:moveTo>
                <a:moveTo>
                  <a:pt x="353" y="402"/>
                </a:moveTo>
                <a:moveTo>
                  <a:pt x="355" y="401"/>
                </a:moveTo>
                <a:moveTo>
                  <a:pt x="354" y="404"/>
                </a:moveTo>
                <a:moveTo>
                  <a:pt x="353" y="408"/>
                </a:moveTo>
                <a:moveTo>
                  <a:pt x="352" y="411"/>
                </a:moveTo>
                <a:moveTo>
                  <a:pt x="352" y="412"/>
                </a:moveTo>
                <a:moveTo>
                  <a:pt x="352" y="412"/>
                </a:moveTo>
                <a:moveTo>
                  <a:pt x="352" y="412"/>
                </a:moveTo>
                <a:moveTo>
                  <a:pt x="351" y="413"/>
                </a:moveTo>
                <a:moveTo>
                  <a:pt x="349" y="414"/>
                </a:moveTo>
                <a:moveTo>
                  <a:pt x="348" y="415"/>
                </a:moveTo>
                <a:moveTo>
                  <a:pt x="347" y="416"/>
                </a:moveTo>
                <a:moveTo>
                  <a:pt x="346" y="416"/>
                </a:moveTo>
                <a:moveTo>
                  <a:pt x="345" y="416"/>
                </a:moveTo>
                <a:moveTo>
                  <a:pt x="341" y="418"/>
                </a:moveTo>
                <a:moveTo>
                  <a:pt x="339" y="421"/>
                </a:moveTo>
                <a:moveTo>
                  <a:pt x="338" y="424"/>
                </a:moveTo>
                <a:moveTo>
                  <a:pt x="331" y="430"/>
                </a:moveTo>
                <a:moveTo>
                  <a:pt x="323" y="436"/>
                </a:moveTo>
                <a:moveTo>
                  <a:pt x="316" y="442"/>
                </a:moveTo>
                <a:moveTo>
                  <a:pt x="297" y="458"/>
                </a:moveTo>
                <a:moveTo>
                  <a:pt x="277" y="474"/>
                </a:moveTo>
                <a:moveTo>
                  <a:pt x="257" y="489"/>
                </a:moveTo>
                <a:moveTo>
                  <a:pt x="223" y="515"/>
                </a:moveTo>
                <a:moveTo>
                  <a:pt x="187" y="533"/>
                </a:moveTo>
                <a:moveTo>
                  <a:pt x="148" y="549"/>
                </a:moveTo>
                <a:moveTo>
                  <a:pt x="114" y="563"/>
                </a:moveTo>
                <a:moveTo>
                  <a:pt x="79" y="575"/>
                </a:moveTo>
                <a:moveTo>
                  <a:pt x="47" y="593"/>
                </a:moveTo>
                <a:moveTo>
                  <a:pt x="45" y="594"/>
                </a:moveTo>
                <a:moveTo>
                  <a:pt x="46" y="595"/>
                </a:moveTo>
                <a:moveTo>
                  <a:pt x="48" y="595"/>
                </a:moveTo>
                <a:moveTo>
                  <a:pt x="81" y="576"/>
                </a:moveTo>
                <a:moveTo>
                  <a:pt x="117" y="564"/>
                </a:moveTo>
                <a:moveTo>
                  <a:pt x="151" y="550"/>
                </a:moveTo>
                <a:moveTo>
                  <a:pt x="176" y="540"/>
                </a:moveTo>
                <a:moveTo>
                  <a:pt x="199" y="529"/>
                </a:moveTo>
                <a:moveTo>
                  <a:pt x="221" y="516"/>
                </a:moveTo>
                <a:moveTo>
                  <a:pt x="206" y="525"/>
                </a:moveTo>
                <a:moveTo>
                  <a:pt x="192" y="534"/>
                </a:moveTo>
                <a:moveTo>
                  <a:pt x="177" y="542"/>
                </a:moveTo>
                <a:moveTo>
                  <a:pt x="154" y="556"/>
                </a:moveTo>
                <a:moveTo>
                  <a:pt x="131" y="568"/>
                </a:moveTo>
                <a:moveTo>
                  <a:pt x="106" y="578"/>
                </a:moveTo>
                <a:moveTo>
                  <a:pt x="90" y="584"/>
                </a:moveTo>
                <a:moveTo>
                  <a:pt x="72" y="588"/>
                </a:moveTo>
                <a:moveTo>
                  <a:pt x="56" y="595"/>
                </a:moveTo>
                <a:moveTo>
                  <a:pt x="49" y="595"/>
                </a:moveTo>
                <a:moveTo>
                  <a:pt x="43" y="596"/>
                </a:moveTo>
                <a:moveTo>
                  <a:pt x="37" y="597"/>
                </a:moveTo>
                <a:moveTo>
                  <a:pt x="36" y="597"/>
                </a:moveTo>
                <a:moveTo>
                  <a:pt x="36" y="599"/>
                </a:moveTo>
                <a:moveTo>
                  <a:pt x="37" y="599"/>
                </a:moveTo>
                <a:moveTo>
                  <a:pt x="42" y="598"/>
                </a:moveTo>
                <a:moveTo>
                  <a:pt x="46" y="598"/>
                </a:moveTo>
                <a:moveTo>
                  <a:pt x="50" y="597"/>
                </a:moveTo>
                <a:moveTo>
                  <a:pt x="50" y="598"/>
                </a:moveTo>
                <a:moveTo>
                  <a:pt x="51" y="599"/>
                </a:moveTo>
                <a:moveTo>
                  <a:pt x="52" y="599"/>
                </a:moveTo>
                <a:moveTo>
                  <a:pt x="53" y="598"/>
                </a:moveTo>
                <a:moveTo>
                  <a:pt x="55" y="597"/>
                </a:moveTo>
                <a:moveTo>
                  <a:pt x="56" y="597"/>
                </a:moveTo>
                <a:moveTo>
                  <a:pt x="75" y="595"/>
                </a:moveTo>
                <a:moveTo>
                  <a:pt x="94" y="595"/>
                </a:moveTo>
                <a:moveTo>
                  <a:pt x="113" y="596"/>
                </a:moveTo>
                <a:moveTo>
                  <a:pt x="141" y="596"/>
                </a:moveTo>
                <a:moveTo>
                  <a:pt x="170" y="596"/>
                </a:moveTo>
                <a:moveTo>
                  <a:pt x="198" y="597"/>
                </a:moveTo>
                <a:moveTo>
                  <a:pt x="251" y="597"/>
                </a:moveTo>
                <a:moveTo>
                  <a:pt x="305" y="589"/>
                </a:moveTo>
                <a:moveTo>
                  <a:pt x="358" y="592"/>
                </a:moveTo>
                <a:moveTo>
                  <a:pt x="358" y="594"/>
                </a:moveTo>
                <a:moveTo>
                  <a:pt x="358" y="596"/>
                </a:moveTo>
                <a:moveTo>
                  <a:pt x="359" y="598"/>
                </a:moveTo>
                <a:moveTo>
                  <a:pt x="359" y="598"/>
                </a:moveTo>
                <a:moveTo>
                  <a:pt x="360" y="598"/>
                </a:moveTo>
                <a:moveTo>
                  <a:pt x="360" y="598"/>
                </a:moveTo>
                <a:moveTo>
                  <a:pt x="359" y="596"/>
                </a:moveTo>
                <a:moveTo>
                  <a:pt x="359" y="594"/>
                </a:moveTo>
                <a:moveTo>
                  <a:pt x="359" y="592"/>
                </a:moveTo>
                <a:moveTo>
                  <a:pt x="361" y="592"/>
                </a:moveTo>
                <a:moveTo>
                  <a:pt x="364" y="592"/>
                </a:moveTo>
                <a:moveTo>
                  <a:pt x="366" y="592"/>
                </a:moveTo>
                <a:moveTo>
                  <a:pt x="367" y="593"/>
                </a:moveTo>
                <a:moveTo>
                  <a:pt x="367" y="593"/>
                </a:moveTo>
                <a:moveTo>
                  <a:pt x="368" y="592"/>
                </a:moveTo>
                <a:moveTo>
                  <a:pt x="368" y="592"/>
                </a:moveTo>
                <a:moveTo>
                  <a:pt x="368" y="592"/>
                </a:moveTo>
                <a:moveTo>
                  <a:pt x="368" y="592"/>
                </a:moveTo>
                <a:moveTo>
                  <a:pt x="369" y="593"/>
                </a:moveTo>
                <a:moveTo>
                  <a:pt x="369" y="593"/>
                </a:moveTo>
                <a:moveTo>
                  <a:pt x="370" y="593"/>
                </a:moveTo>
                <a:moveTo>
                  <a:pt x="379" y="593"/>
                </a:moveTo>
                <a:moveTo>
                  <a:pt x="389" y="595"/>
                </a:moveTo>
                <a:moveTo>
                  <a:pt x="398" y="596"/>
                </a:moveTo>
                <a:moveTo>
                  <a:pt x="398" y="597"/>
                </a:moveTo>
                <a:moveTo>
                  <a:pt x="399" y="597"/>
                </a:moveTo>
                <a:moveTo>
                  <a:pt x="399" y="597"/>
                </a:moveTo>
                <a:moveTo>
                  <a:pt x="399" y="597"/>
                </a:moveTo>
                <a:moveTo>
                  <a:pt x="400" y="597"/>
                </a:moveTo>
                <a:moveTo>
                  <a:pt x="400" y="597"/>
                </a:moveTo>
                <a:moveTo>
                  <a:pt x="390" y="600"/>
                </a:moveTo>
                <a:moveTo>
                  <a:pt x="394" y="620"/>
                </a:moveTo>
                <a:moveTo>
                  <a:pt x="395" y="627"/>
                </a:moveTo>
                <a:moveTo>
                  <a:pt x="395" y="628"/>
                </a:moveTo>
                <a:moveTo>
                  <a:pt x="397" y="628"/>
                </a:moveTo>
                <a:moveTo>
                  <a:pt x="397" y="627"/>
                </a:moveTo>
                <a:moveTo>
                  <a:pt x="397" y="621"/>
                </a:moveTo>
                <a:moveTo>
                  <a:pt x="392" y="600"/>
                </a:moveTo>
                <a:moveTo>
                  <a:pt x="401" y="599"/>
                </a:moveTo>
                <a:moveTo>
                  <a:pt x="401" y="599"/>
                </a:moveTo>
                <a:moveTo>
                  <a:pt x="401" y="599"/>
                </a:moveTo>
                <a:moveTo>
                  <a:pt x="401" y="599"/>
                </a:moveTo>
                <a:moveTo>
                  <a:pt x="402" y="599"/>
                </a:moveTo>
                <a:moveTo>
                  <a:pt x="402" y="598"/>
                </a:moveTo>
                <a:moveTo>
                  <a:pt x="402" y="598"/>
                </a:moveTo>
                <a:moveTo>
                  <a:pt x="402" y="597"/>
                </a:moveTo>
                <a:moveTo>
                  <a:pt x="402" y="597"/>
                </a:moveTo>
                <a:moveTo>
                  <a:pt x="402" y="596"/>
                </a:moveTo>
                <a:moveTo>
                  <a:pt x="402" y="596"/>
                </a:moveTo>
                <a:moveTo>
                  <a:pt x="402" y="595"/>
                </a:moveTo>
                <a:moveTo>
                  <a:pt x="401" y="595"/>
                </a:moveTo>
                <a:moveTo>
                  <a:pt x="391" y="593"/>
                </a:moveTo>
                <a:moveTo>
                  <a:pt x="381" y="592"/>
                </a:moveTo>
                <a:moveTo>
                  <a:pt x="371" y="591"/>
                </a:moveTo>
                <a:moveTo>
                  <a:pt x="372" y="590"/>
                </a:moveTo>
                <a:moveTo>
                  <a:pt x="372" y="590"/>
                </a:moveTo>
                <a:moveTo>
                  <a:pt x="372" y="590"/>
                </a:moveTo>
                <a:moveTo>
                  <a:pt x="371" y="584"/>
                </a:moveTo>
                <a:moveTo>
                  <a:pt x="370" y="579"/>
                </a:moveTo>
                <a:moveTo>
                  <a:pt x="370" y="574"/>
                </a:moveTo>
                <a:moveTo>
                  <a:pt x="370" y="570"/>
                </a:moveTo>
                <a:moveTo>
                  <a:pt x="370" y="565"/>
                </a:moveTo>
                <a:moveTo>
                  <a:pt x="370" y="561"/>
                </a:moveTo>
                <a:moveTo>
                  <a:pt x="370" y="561"/>
                </a:moveTo>
                <a:moveTo>
                  <a:pt x="370" y="561"/>
                </a:moveTo>
                <a:moveTo>
                  <a:pt x="370" y="561"/>
                </a:moveTo>
                <a:moveTo>
                  <a:pt x="370" y="557"/>
                </a:moveTo>
                <a:moveTo>
                  <a:pt x="371" y="553"/>
                </a:moveTo>
                <a:moveTo>
                  <a:pt x="372" y="549"/>
                </a:moveTo>
                <a:moveTo>
                  <a:pt x="372" y="548"/>
                </a:moveTo>
                <a:moveTo>
                  <a:pt x="372" y="548"/>
                </a:moveTo>
                <a:moveTo>
                  <a:pt x="372" y="548"/>
                </a:moveTo>
                <a:moveTo>
                  <a:pt x="372" y="548"/>
                </a:moveTo>
                <a:moveTo>
                  <a:pt x="372" y="547"/>
                </a:moveTo>
                <a:moveTo>
                  <a:pt x="372" y="547"/>
                </a:moveTo>
                <a:moveTo>
                  <a:pt x="372" y="547"/>
                </a:moveTo>
                <a:moveTo>
                  <a:pt x="372" y="546"/>
                </a:moveTo>
                <a:moveTo>
                  <a:pt x="373" y="545"/>
                </a:moveTo>
                <a:moveTo>
                  <a:pt x="375" y="538"/>
                </a:moveTo>
                <a:moveTo>
                  <a:pt x="380" y="533"/>
                </a:moveTo>
                <a:moveTo>
                  <a:pt x="386" y="530"/>
                </a:moveTo>
                <a:moveTo>
                  <a:pt x="386" y="530"/>
                </a:moveTo>
                <a:moveTo>
                  <a:pt x="386" y="530"/>
                </a:moveTo>
                <a:moveTo>
                  <a:pt x="387" y="530"/>
                </a:moveTo>
                <a:moveTo>
                  <a:pt x="388" y="529"/>
                </a:moveTo>
                <a:moveTo>
                  <a:pt x="389" y="528"/>
                </a:moveTo>
                <a:moveTo>
                  <a:pt x="390" y="528"/>
                </a:moveTo>
                <a:moveTo>
                  <a:pt x="391" y="528"/>
                </a:moveTo>
                <a:moveTo>
                  <a:pt x="392" y="528"/>
                </a:moveTo>
                <a:moveTo>
                  <a:pt x="393" y="528"/>
                </a:moveTo>
                <a:moveTo>
                  <a:pt x="393" y="528"/>
                </a:moveTo>
                <a:moveTo>
                  <a:pt x="393" y="528"/>
                </a:moveTo>
                <a:moveTo>
                  <a:pt x="393" y="528"/>
                </a:moveTo>
                <a:moveTo>
                  <a:pt x="389" y="530"/>
                </a:moveTo>
                <a:moveTo>
                  <a:pt x="385" y="533"/>
                </a:moveTo>
                <a:moveTo>
                  <a:pt x="382" y="537"/>
                </a:moveTo>
                <a:moveTo>
                  <a:pt x="381" y="537"/>
                </a:moveTo>
                <a:moveTo>
                  <a:pt x="381" y="537"/>
                </a:moveTo>
                <a:moveTo>
                  <a:pt x="380" y="537"/>
                </a:moveTo>
                <a:moveTo>
                  <a:pt x="375" y="540"/>
                </a:moveTo>
                <a:moveTo>
                  <a:pt x="374" y="547"/>
                </a:moveTo>
                <a:moveTo>
                  <a:pt x="373" y="553"/>
                </a:moveTo>
                <a:moveTo>
                  <a:pt x="370" y="564"/>
                </a:moveTo>
                <a:moveTo>
                  <a:pt x="369" y="576"/>
                </a:moveTo>
                <a:moveTo>
                  <a:pt x="372" y="586"/>
                </a:moveTo>
                <a:moveTo>
                  <a:pt x="372" y="587"/>
                </a:moveTo>
                <a:moveTo>
                  <a:pt x="374" y="587"/>
                </a:moveTo>
                <a:moveTo>
                  <a:pt x="374" y="586"/>
                </a:moveTo>
                <a:moveTo>
                  <a:pt x="372" y="578"/>
                </a:moveTo>
                <a:moveTo>
                  <a:pt x="372" y="570"/>
                </a:moveTo>
                <a:moveTo>
                  <a:pt x="373" y="562"/>
                </a:moveTo>
                <a:moveTo>
                  <a:pt x="373" y="570"/>
                </a:moveTo>
                <a:moveTo>
                  <a:pt x="374" y="578"/>
                </a:moveTo>
                <a:moveTo>
                  <a:pt x="375" y="586"/>
                </a:moveTo>
                <a:moveTo>
                  <a:pt x="375" y="587"/>
                </a:moveTo>
                <a:moveTo>
                  <a:pt x="375" y="588"/>
                </a:moveTo>
                <a:moveTo>
                  <a:pt x="376" y="589"/>
                </a:moveTo>
                <a:moveTo>
                  <a:pt x="377" y="590"/>
                </a:moveTo>
                <a:moveTo>
                  <a:pt x="379" y="590"/>
                </a:moveTo>
                <a:moveTo>
                  <a:pt x="380" y="588"/>
                </a:moveTo>
                <a:moveTo>
                  <a:pt x="381" y="588"/>
                </a:moveTo>
                <a:moveTo>
                  <a:pt x="382" y="588"/>
                </a:moveTo>
                <a:moveTo>
                  <a:pt x="383" y="588"/>
                </a:moveTo>
                <a:moveTo>
                  <a:pt x="383" y="589"/>
                </a:moveTo>
                <a:moveTo>
                  <a:pt x="383" y="591"/>
                </a:moveTo>
                <a:moveTo>
                  <a:pt x="385" y="591"/>
                </a:moveTo>
                <a:moveTo>
                  <a:pt x="388" y="591"/>
                </a:moveTo>
                <a:moveTo>
                  <a:pt x="391" y="591"/>
                </a:moveTo>
                <a:moveTo>
                  <a:pt x="394" y="592"/>
                </a:moveTo>
                <a:moveTo>
                  <a:pt x="395" y="593"/>
                </a:moveTo>
                <a:moveTo>
                  <a:pt x="396" y="593"/>
                </a:moveTo>
                <a:moveTo>
                  <a:pt x="397" y="593"/>
                </a:moveTo>
                <a:moveTo>
                  <a:pt x="397" y="593"/>
                </a:moveTo>
                <a:moveTo>
                  <a:pt x="397" y="593"/>
                </a:moveTo>
                <a:moveTo>
                  <a:pt x="398" y="593"/>
                </a:moveTo>
                <a:moveTo>
                  <a:pt x="398" y="593"/>
                </a:moveTo>
                <a:moveTo>
                  <a:pt x="398" y="593"/>
                </a:moveTo>
                <a:moveTo>
                  <a:pt x="398" y="593"/>
                </a:moveTo>
                <a:moveTo>
                  <a:pt x="399" y="594"/>
                </a:moveTo>
                <a:moveTo>
                  <a:pt x="402" y="594"/>
                </a:moveTo>
                <a:moveTo>
                  <a:pt x="402" y="592"/>
                </a:moveTo>
                <a:moveTo>
                  <a:pt x="402" y="588"/>
                </a:moveTo>
                <a:moveTo>
                  <a:pt x="402" y="584"/>
                </a:moveTo>
                <a:moveTo>
                  <a:pt x="401" y="581"/>
                </a:moveTo>
                <a:moveTo>
                  <a:pt x="401" y="581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79"/>
                </a:moveTo>
                <a:moveTo>
                  <a:pt x="401" y="581"/>
                </a:moveTo>
                <a:moveTo>
                  <a:pt x="402" y="582"/>
                </a:moveTo>
                <a:moveTo>
                  <a:pt x="402" y="584"/>
                </a:moveTo>
                <a:moveTo>
                  <a:pt x="402" y="586"/>
                </a:moveTo>
                <a:moveTo>
                  <a:pt x="402" y="588"/>
                </a:moveTo>
                <a:moveTo>
                  <a:pt x="402" y="590"/>
                </a:moveTo>
                <a:moveTo>
                  <a:pt x="402" y="591"/>
                </a:moveTo>
                <a:moveTo>
                  <a:pt x="404" y="591"/>
                </a:moveTo>
                <a:moveTo>
                  <a:pt x="404" y="590"/>
                </a:moveTo>
                <a:moveTo>
                  <a:pt x="404" y="590"/>
                </a:moveTo>
                <a:moveTo>
                  <a:pt x="404" y="591"/>
                </a:moveTo>
                <a:moveTo>
                  <a:pt x="404" y="592"/>
                </a:moveTo>
                <a:moveTo>
                  <a:pt x="404" y="593"/>
                </a:moveTo>
                <a:moveTo>
                  <a:pt x="406" y="593"/>
                </a:moveTo>
                <a:moveTo>
                  <a:pt x="406" y="592"/>
                </a:moveTo>
                <a:moveTo>
                  <a:pt x="406" y="584"/>
                </a:moveTo>
                <a:moveTo>
                  <a:pt x="406" y="576"/>
                </a:moveTo>
                <a:moveTo>
                  <a:pt x="406" y="568"/>
                </a:moveTo>
                <a:moveTo>
                  <a:pt x="406" y="568"/>
                </a:moveTo>
                <a:moveTo>
                  <a:pt x="406" y="568"/>
                </a:moveTo>
                <a:moveTo>
                  <a:pt x="406" y="567"/>
                </a:moveTo>
                <a:moveTo>
                  <a:pt x="406" y="567"/>
                </a:moveTo>
                <a:moveTo>
                  <a:pt x="406" y="567"/>
                </a:moveTo>
                <a:moveTo>
                  <a:pt x="406" y="567"/>
                </a:moveTo>
                <a:moveTo>
                  <a:pt x="406" y="566"/>
                </a:moveTo>
                <a:moveTo>
                  <a:pt x="406" y="565"/>
                </a:moveTo>
                <a:moveTo>
                  <a:pt x="406" y="564"/>
                </a:moveTo>
                <a:moveTo>
                  <a:pt x="407" y="564"/>
                </a:moveTo>
                <a:moveTo>
                  <a:pt x="407" y="563"/>
                </a:moveTo>
                <a:moveTo>
                  <a:pt x="407" y="561"/>
                </a:moveTo>
                <a:moveTo>
                  <a:pt x="410" y="559"/>
                </a:moveTo>
                <a:moveTo>
                  <a:pt x="413" y="557"/>
                </a:moveTo>
                <a:moveTo>
                  <a:pt x="415" y="555"/>
                </a:moveTo>
                <a:moveTo>
                  <a:pt x="407" y="566"/>
                </a:moveTo>
                <a:moveTo>
                  <a:pt x="408" y="586"/>
                </a:moveTo>
                <a:moveTo>
                  <a:pt x="411" y="598"/>
                </a:moveTo>
                <a:moveTo>
                  <a:pt x="411" y="599"/>
                </a:moveTo>
                <a:moveTo>
                  <a:pt x="412" y="598"/>
                </a:moveTo>
                <a:moveTo>
                  <a:pt x="412" y="598"/>
                </a:moveTo>
                <a:moveTo>
                  <a:pt x="409" y="585"/>
                </a:moveTo>
                <a:moveTo>
                  <a:pt x="408" y="565"/>
                </a:moveTo>
                <a:moveTo>
                  <a:pt x="418" y="554"/>
                </a:moveTo>
                <a:moveTo>
                  <a:pt x="418" y="554"/>
                </a:moveTo>
                <a:moveTo>
                  <a:pt x="418" y="553"/>
                </a:moveTo>
                <a:moveTo>
                  <a:pt x="419" y="553"/>
                </a:moveTo>
                <a:moveTo>
                  <a:pt x="419" y="555"/>
                </a:moveTo>
                <a:moveTo>
                  <a:pt x="420" y="557"/>
                </a:moveTo>
                <a:moveTo>
                  <a:pt x="420" y="559"/>
                </a:moveTo>
                <a:moveTo>
                  <a:pt x="412" y="570"/>
                </a:moveTo>
                <a:moveTo>
                  <a:pt x="411" y="585"/>
                </a:moveTo>
                <a:moveTo>
                  <a:pt x="414" y="598"/>
                </a:moveTo>
                <a:moveTo>
                  <a:pt x="410" y="598"/>
                </a:moveTo>
                <a:moveTo>
                  <a:pt x="406" y="598"/>
                </a:moveTo>
                <a:moveTo>
                  <a:pt x="406" y="598"/>
                </a:moveTo>
                <a:moveTo>
                  <a:pt x="406" y="597"/>
                </a:moveTo>
                <a:moveTo>
                  <a:pt x="406" y="596"/>
                </a:moveTo>
                <a:moveTo>
                  <a:pt x="406" y="596"/>
                </a:moveTo>
                <a:moveTo>
                  <a:pt x="406" y="595"/>
                </a:moveTo>
                <a:moveTo>
                  <a:pt x="404" y="594"/>
                </a:moveTo>
                <a:moveTo>
                  <a:pt x="404" y="596"/>
                </a:moveTo>
                <a:moveTo>
                  <a:pt x="403" y="599"/>
                </a:moveTo>
                <a:moveTo>
                  <a:pt x="402" y="601"/>
                </a:moveTo>
                <a:moveTo>
                  <a:pt x="400" y="603"/>
                </a:moveTo>
                <a:moveTo>
                  <a:pt x="400" y="604"/>
                </a:moveTo>
                <a:moveTo>
                  <a:pt x="401" y="605"/>
                </a:moveTo>
                <a:moveTo>
                  <a:pt x="402" y="604"/>
                </a:moveTo>
                <a:moveTo>
                  <a:pt x="403" y="603"/>
                </a:moveTo>
                <a:moveTo>
                  <a:pt x="403" y="602"/>
                </a:moveTo>
                <a:moveTo>
                  <a:pt x="404" y="601"/>
                </a:moveTo>
                <a:moveTo>
                  <a:pt x="404" y="603"/>
                </a:moveTo>
                <a:moveTo>
                  <a:pt x="404" y="604"/>
                </a:moveTo>
                <a:moveTo>
                  <a:pt x="404" y="606"/>
                </a:moveTo>
                <a:moveTo>
                  <a:pt x="404" y="606"/>
                </a:moveTo>
                <a:moveTo>
                  <a:pt x="404" y="606"/>
                </a:moveTo>
                <a:moveTo>
                  <a:pt x="404" y="606"/>
                </a:moveTo>
                <a:moveTo>
                  <a:pt x="404" y="606"/>
                </a:moveTo>
                <a:moveTo>
                  <a:pt x="404" y="607"/>
                </a:moveTo>
                <a:moveTo>
                  <a:pt x="404" y="607"/>
                </a:moveTo>
                <a:moveTo>
                  <a:pt x="404" y="613"/>
                </a:moveTo>
                <a:moveTo>
                  <a:pt x="404" y="619"/>
                </a:moveTo>
                <a:moveTo>
                  <a:pt x="404" y="625"/>
                </a:moveTo>
                <a:moveTo>
                  <a:pt x="404" y="626"/>
                </a:moveTo>
                <a:moveTo>
                  <a:pt x="406" y="626"/>
                </a:moveTo>
                <a:moveTo>
                  <a:pt x="406" y="625"/>
                </a:moveTo>
                <a:moveTo>
                  <a:pt x="406" y="618"/>
                </a:moveTo>
                <a:moveTo>
                  <a:pt x="406" y="612"/>
                </a:moveTo>
                <a:moveTo>
                  <a:pt x="406" y="606"/>
                </a:moveTo>
                <a:moveTo>
                  <a:pt x="408" y="604"/>
                </a:moveTo>
                <a:moveTo>
                  <a:pt x="407" y="607"/>
                </a:moveTo>
                <a:moveTo>
                  <a:pt x="407" y="610"/>
                </a:moveTo>
                <a:moveTo>
                  <a:pt x="407" y="614"/>
                </a:moveTo>
                <a:moveTo>
                  <a:pt x="406" y="618"/>
                </a:moveTo>
                <a:moveTo>
                  <a:pt x="406" y="622"/>
                </a:moveTo>
                <a:moveTo>
                  <a:pt x="406" y="631"/>
                </a:moveTo>
                <a:moveTo>
                  <a:pt x="406" y="640"/>
                </a:moveTo>
                <a:moveTo>
                  <a:pt x="406" y="649"/>
                </a:moveTo>
                <a:moveTo>
                  <a:pt x="406" y="658"/>
                </a:moveTo>
                <a:moveTo>
                  <a:pt x="406" y="666"/>
                </a:moveTo>
                <a:moveTo>
                  <a:pt x="406" y="675"/>
                </a:moveTo>
                <a:moveTo>
                  <a:pt x="406" y="677"/>
                </a:moveTo>
                <a:moveTo>
                  <a:pt x="405" y="678"/>
                </a:moveTo>
                <a:moveTo>
                  <a:pt x="405" y="680"/>
                </a:moveTo>
                <a:moveTo>
                  <a:pt x="405" y="680"/>
                </a:moveTo>
                <a:moveTo>
                  <a:pt x="406" y="680"/>
                </a:moveTo>
                <a:moveTo>
                  <a:pt x="406" y="680"/>
                </a:moveTo>
                <a:moveTo>
                  <a:pt x="406" y="687"/>
                </a:moveTo>
                <a:moveTo>
                  <a:pt x="407" y="695"/>
                </a:moveTo>
                <a:moveTo>
                  <a:pt x="407" y="703"/>
                </a:moveTo>
                <a:moveTo>
                  <a:pt x="407" y="703"/>
                </a:moveTo>
                <a:moveTo>
                  <a:pt x="407" y="703"/>
                </a:moveTo>
                <a:moveTo>
                  <a:pt x="407" y="703"/>
                </a:moveTo>
                <a:moveTo>
                  <a:pt x="407" y="703"/>
                </a:moveTo>
                <a:moveTo>
                  <a:pt x="407" y="704"/>
                </a:moveTo>
                <a:moveTo>
                  <a:pt x="407" y="705"/>
                </a:moveTo>
                <a:moveTo>
                  <a:pt x="407" y="712"/>
                </a:moveTo>
                <a:moveTo>
                  <a:pt x="407" y="720"/>
                </a:moveTo>
                <a:moveTo>
                  <a:pt x="407" y="728"/>
                </a:moveTo>
                <a:moveTo>
                  <a:pt x="400" y="728"/>
                </a:moveTo>
                <a:moveTo>
                  <a:pt x="392" y="728"/>
                </a:moveTo>
                <a:moveTo>
                  <a:pt x="385" y="728"/>
                </a:moveTo>
                <a:moveTo>
                  <a:pt x="384" y="714"/>
                </a:moveTo>
                <a:moveTo>
                  <a:pt x="383" y="699"/>
                </a:moveTo>
                <a:moveTo>
                  <a:pt x="383" y="685"/>
                </a:moveTo>
                <a:moveTo>
                  <a:pt x="383" y="679"/>
                </a:moveTo>
                <a:moveTo>
                  <a:pt x="383" y="673"/>
                </a:moveTo>
                <a:moveTo>
                  <a:pt x="383" y="667"/>
                </a:moveTo>
                <a:moveTo>
                  <a:pt x="383" y="667"/>
                </a:moveTo>
                <a:moveTo>
                  <a:pt x="383" y="667"/>
                </a:moveTo>
                <a:moveTo>
                  <a:pt x="383" y="667"/>
                </a:moveTo>
                <a:moveTo>
                  <a:pt x="384" y="667"/>
                </a:moveTo>
                <a:moveTo>
                  <a:pt x="384" y="666"/>
                </a:moveTo>
                <a:moveTo>
                  <a:pt x="383" y="666"/>
                </a:moveTo>
                <a:moveTo>
                  <a:pt x="383" y="666"/>
                </a:moveTo>
                <a:moveTo>
                  <a:pt x="383" y="666"/>
                </a:moveTo>
                <a:moveTo>
                  <a:pt x="383" y="666"/>
                </a:moveTo>
                <a:moveTo>
                  <a:pt x="383" y="663"/>
                </a:moveTo>
                <a:moveTo>
                  <a:pt x="383" y="660"/>
                </a:moveTo>
                <a:moveTo>
                  <a:pt x="383" y="657"/>
                </a:moveTo>
                <a:moveTo>
                  <a:pt x="388" y="657"/>
                </a:moveTo>
                <a:moveTo>
                  <a:pt x="392" y="658"/>
                </a:moveTo>
                <a:moveTo>
                  <a:pt x="397" y="659"/>
                </a:moveTo>
                <a:moveTo>
                  <a:pt x="397" y="661"/>
                </a:moveTo>
                <a:moveTo>
                  <a:pt x="397" y="664"/>
                </a:moveTo>
                <a:moveTo>
                  <a:pt x="396" y="667"/>
                </a:moveTo>
                <a:moveTo>
                  <a:pt x="396" y="683"/>
                </a:moveTo>
                <a:moveTo>
                  <a:pt x="394" y="701"/>
                </a:moveTo>
                <a:moveTo>
                  <a:pt x="397" y="716"/>
                </a:moveTo>
                <a:moveTo>
                  <a:pt x="397" y="717"/>
                </a:moveTo>
                <a:moveTo>
                  <a:pt x="398" y="716"/>
                </a:moveTo>
                <a:moveTo>
                  <a:pt x="398" y="716"/>
                </a:moveTo>
                <a:moveTo>
                  <a:pt x="395" y="702"/>
                </a:moveTo>
                <a:moveTo>
                  <a:pt x="397" y="686"/>
                </a:moveTo>
                <a:moveTo>
                  <a:pt x="397" y="672"/>
                </a:moveTo>
                <a:moveTo>
                  <a:pt x="397" y="667"/>
                </a:moveTo>
                <a:moveTo>
                  <a:pt x="398" y="663"/>
                </a:moveTo>
                <a:moveTo>
                  <a:pt x="398" y="659"/>
                </a:moveTo>
                <a:moveTo>
                  <a:pt x="399" y="659"/>
                </a:moveTo>
                <a:moveTo>
                  <a:pt x="399" y="659"/>
                </a:moveTo>
                <a:moveTo>
                  <a:pt x="400" y="659"/>
                </a:moveTo>
                <a:moveTo>
                  <a:pt x="401" y="659"/>
                </a:moveTo>
                <a:moveTo>
                  <a:pt x="401" y="658"/>
                </a:moveTo>
                <a:moveTo>
                  <a:pt x="401" y="658"/>
                </a:moveTo>
                <a:moveTo>
                  <a:pt x="400" y="658"/>
                </a:moveTo>
                <a:moveTo>
                  <a:pt x="399" y="658"/>
                </a:moveTo>
                <a:moveTo>
                  <a:pt x="398" y="658"/>
                </a:moveTo>
                <a:moveTo>
                  <a:pt x="398" y="654"/>
                </a:moveTo>
                <a:moveTo>
                  <a:pt x="398" y="650"/>
                </a:moveTo>
                <a:moveTo>
                  <a:pt x="398" y="647"/>
                </a:moveTo>
                <a:moveTo>
                  <a:pt x="398" y="645"/>
                </a:moveTo>
                <a:moveTo>
                  <a:pt x="398" y="641"/>
                </a:moveTo>
                <a:moveTo>
                  <a:pt x="398" y="638"/>
                </a:moveTo>
                <a:moveTo>
                  <a:pt x="400" y="638"/>
                </a:moveTo>
                <a:moveTo>
                  <a:pt x="401" y="639"/>
                </a:moveTo>
                <a:moveTo>
                  <a:pt x="403" y="639"/>
                </a:moveTo>
                <a:moveTo>
                  <a:pt x="404" y="639"/>
                </a:moveTo>
                <a:moveTo>
                  <a:pt x="404" y="638"/>
                </a:moveTo>
                <a:moveTo>
                  <a:pt x="403" y="638"/>
                </a:moveTo>
                <a:moveTo>
                  <a:pt x="402" y="638"/>
                </a:moveTo>
                <a:moveTo>
                  <a:pt x="400" y="638"/>
                </a:moveTo>
                <a:moveTo>
                  <a:pt x="398" y="637"/>
                </a:moveTo>
                <a:moveTo>
                  <a:pt x="399" y="636"/>
                </a:moveTo>
                <a:moveTo>
                  <a:pt x="399" y="634"/>
                </a:moveTo>
                <a:moveTo>
                  <a:pt x="399" y="634"/>
                </a:moveTo>
                <a:moveTo>
                  <a:pt x="400" y="633"/>
                </a:moveTo>
                <a:moveTo>
                  <a:pt x="399" y="632"/>
                </a:moveTo>
                <a:moveTo>
                  <a:pt x="399" y="633"/>
                </a:moveTo>
                <a:moveTo>
                  <a:pt x="398" y="634"/>
                </a:moveTo>
                <a:moveTo>
                  <a:pt x="398" y="635"/>
                </a:moveTo>
                <a:moveTo>
                  <a:pt x="398" y="637"/>
                </a:moveTo>
                <a:moveTo>
                  <a:pt x="396" y="637"/>
                </a:moveTo>
                <a:moveTo>
                  <a:pt x="394" y="637"/>
                </a:moveTo>
                <a:moveTo>
                  <a:pt x="392" y="636"/>
                </a:moveTo>
                <a:moveTo>
                  <a:pt x="393" y="636"/>
                </a:moveTo>
                <a:moveTo>
                  <a:pt x="393" y="635"/>
                </a:moveTo>
                <a:moveTo>
                  <a:pt x="393" y="635"/>
                </a:moveTo>
                <a:moveTo>
                  <a:pt x="391" y="635"/>
                </a:moveTo>
                <a:moveTo>
                  <a:pt x="390" y="635"/>
                </a:moveTo>
                <a:moveTo>
                  <a:pt x="389" y="635"/>
                </a:moveTo>
                <a:moveTo>
                  <a:pt x="390" y="633"/>
                </a:moveTo>
                <a:moveTo>
                  <a:pt x="389" y="632"/>
                </a:moveTo>
                <a:moveTo>
                  <a:pt x="389" y="630"/>
                </a:moveTo>
                <a:moveTo>
                  <a:pt x="393" y="631"/>
                </a:moveTo>
                <a:moveTo>
                  <a:pt x="397" y="632"/>
                </a:moveTo>
                <a:moveTo>
                  <a:pt x="400" y="633"/>
                </a:moveTo>
                <a:moveTo>
                  <a:pt x="401" y="633"/>
                </a:moveTo>
                <a:moveTo>
                  <a:pt x="401" y="633"/>
                </a:moveTo>
                <a:moveTo>
                  <a:pt x="401" y="632"/>
                </a:moveTo>
                <a:moveTo>
                  <a:pt x="402" y="633"/>
                </a:moveTo>
                <a:moveTo>
                  <a:pt x="402" y="633"/>
                </a:moveTo>
                <a:moveTo>
                  <a:pt x="403" y="633"/>
                </a:moveTo>
                <a:moveTo>
                  <a:pt x="404" y="633"/>
                </a:moveTo>
                <a:moveTo>
                  <a:pt x="405" y="631"/>
                </a:moveTo>
                <a:moveTo>
                  <a:pt x="403" y="631"/>
                </a:moveTo>
                <a:moveTo>
                  <a:pt x="398" y="630"/>
                </a:moveTo>
                <a:moveTo>
                  <a:pt x="393" y="629"/>
                </a:moveTo>
                <a:moveTo>
                  <a:pt x="388" y="628"/>
                </a:moveTo>
                <a:moveTo>
                  <a:pt x="388" y="628"/>
                </a:moveTo>
                <a:moveTo>
                  <a:pt x="388" y="628"/>
                </a:moveTo>
                <a:moveTo>
                  <a:pt x="388" y="628"/>
                </a:moveTo>
                <a:moveTo>
                  <a:pt x="388" y="626"/>
                </a:moveTo>
                <a:moveTo>
                  <a:pt x="386" y="627"/>
                </a:moveTo>
                <a:moveTo>
                  <a:pt x="386" y="628"/>
                </a:moveTo>
                <a:moveTo>
                  <a:pt x="334" y="619"/>
                </a:moveTo>
                <a:moveTo>
                  <a:pt x="281" y="622"/>
                </a:moveTo>
                <a:moveTo>
                  <a:pt x="229" y="623"/>
                </a:moveTo>
                <a:moveTo>
                  <a:pt x="182" y="623"/>
                </a:moveTo>
                <a:moveTo>
                  <a:pt x="134" y="623"/>
                </a:moveTo>
                <a:moveTo>
                  <a:pt x="87" y="623"/>
                </a:moveTo>
                <a:moveTo>
                  <a:pt x="88" y="623"/>
                </a:moveTo>
                <a:moveTo>
                  <a:pt x="88" y="622"/>
                </a:moveTo>
                <a:moveTo>
                  <a:pt x="87" y="622"/>
                </a:moveTo>
                <a:moveTo>
                  <a:pt x="84" y="622"/>
                </a:moveTo>
                <a:moveTo>
                  <a:pt x="80" y="622"/>
                </a:moveTo>
                <a:moveTo>
                  <a:pt x="77" y="623"/>
                </a:moveTo>
                <a:moveTo>
                  <a:pt x="70" y="623"/>
                </a:moveTo>
                <a:moveTo>
                  <a:pt x="64" y="623"/>
                </a:moveTo>
                <a:moveTo>
                  <a:pt x="57" y="623"/>
                </a:moveTo>
                <a:moveTo>
                  <a:pt x="56" y="623"/>
                </a:moveTo>
                <a:moveTo>
                  <a:pt x="56" y="625"/>
                </a:moveTo>
                <a:moveTo>
                  <a:pt x="57" y="625"/>
                </a:moveTo>
                <a:moveTo>
                  <a:pt x="72" y="625"/>
                </a:moveTo>
                <a:moveTo>
                  <a:pt x="86" y="625"/>
                </a:moveTo>
                <a:moveTo>
                  <a:pt x="101" y="625"/>
                </a:moveTo>
                <a:moveTo>
                  <a:pt x="113" y="625"/>
                </a:moveTo>
                <a:moveTo>
                  <a:pt x="124" y="626"/>
                </a:moveTo>
                <a:moveTo>
                  <a:pt x="136" y="627"/>
                </a:moveTo>
                <a:moveTo>
                  <a:pt x="135" y="627"/>
                </a:moveTo>
                <a:moveTo>
                  <a:pt x="133" y="627"/>
                </a:moveTo>
                <a:moveTo>
                  <a:pt x="132" y="627"/>
                </a:moveTo>
                <a:moveTo>
                  <a:pt x="120" y="629"/>
                </a:moveTo>
                <a:moveTo>
                  <a:pt x="108" y="631"/>
                </a:moveTo>
                <a:moveTo>
                  <a:pt x="96" y="632"/>
                </a:moveTo>
                <a:moveTo>
                  <a:pt x="90" y="632"/>
                </a:moveTo>
                <a:moveTo>
                  <a:pt x="84" y="632"/>
                </a:moveTo>
                <a:moveTo>
                  <a:pt x="79" y="631"/>
                </a:moveTo>
                <a:moveTo>
                  <a:pt x="78" y="631"/>
                </a:moveTo>
                <a:moveTo>
                  <a:pt x="77" y="630"/>
                </a:moveTo>
                <a:moveTo>
                  <a:pt x="76" y="630"/>
                </a:moveTo>
                <a:moveTo>
                  <a:pt x="76" y="630"/>
                </a:moveTo>
                <a:moveTo>
                  <a:pt x="76" y="628"/>
                </a:moveTo>
                <a:moveTo>
                  <a:pt x="75" y="628"/>
                </a:moveTo>
                <a:moveTo>
                  <a:pt x="73" y="628"/>
                </a:moveTo>
                <a:moveTo>
                  <a:pt x="72" y="627"/>
                </a:moveTo>
                <a:moveTo>
                  <a:pt x="70" y="627"/>
                </a:moveTo>
                <a:moveTo>
                  <a:pt x="69" y="626"/>
                </a:moveTo>
                <a:moveTo>
                  <a:pt x="68" y="628"/>
                </a:moveTo>
                <a:moveTo>
                  <a:pt x="69" y="629"/>
                </a:moveTo>
                <a:moveTo>
                  <a:pt x="70" y="629"/>
                </a:moveTo>
                <a:moveTo>
                  <a:pt x="70" y="629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84" y="639"/>
                </a:moveTo>
                <a:moveTo>
                  <a:pt x="106" y="633"/>
                </a:moveTo>
                <a:moveTo>
                  <a:pt x="121" y="631"/>
                </a:moveTo>
                <a:moveTo>
                  <a:pt x="132" y="629"/>
                </a:moveTo>
                <a:moveTo>
                  <a:pt x="144" y="628"/>
                </a:moveTo>
                <a:moveTo>
                  <a:pt x="155" y="628"/>
                </a:moveTo>
                <a:moveTo>
                  <a:pt x="170" y="629"/>
                </a:moveTo>
                <a:moveTo>
                  <a:pt x="185" y="630"/>
                </a:moveTo>
                <a:moveTo>
                  <a:pt x="200" y="631"/>
                </a:moveTo>
                <a:moveTo>
                  <a:pt x="182" y="631"/>
                </a:moveTo>
                <a:moveTo>
                  <a:pt x="164" y="631"/>
                </a:moveTo>
                <a:moveTo>
                  <a:pt x="146" y="632"/>
                </a:moveTo>
                <a:moveTo>
                  <a:pt x="130" y="633"/>
                </a:moveTo>
                <a:moveTo>
                  <a:pt x="114" y="635"/>
                </a:moveTo>
                <a:moveTo>
                  <a:pt x="98" y="635"/>
                </a:moveTo>
                <a:moveTo>
                  <a:pt x="91" y="635"/>
                </a:moveTo>
                <a:moveTo>
                  <a:pt x="84" y="635"/>
                </a:moveTo>
                <a:moveTo>
                  <a:pt x="76" y="635"/>
                </a:moveTo>
                <a:moveTo>
                  <a:pt x="74" y="635"/>
                </a:moveTo>
                <a:moveTo>
                  <a:pt x="59" y="638"/>
                </a:moveTo>
                <a:moveTo>
                  <a:pt x="62" y="632"/>
                </a:moveTo>
                <a:moveTo>
                  <a:pt x="63" y="631"/>
                </a:moveTo>
                <a:moveTo>
                  <a:pt x="61" y="630"/>
                </a:moveTo>
                <a:moveTo>
                  <a:pt x="60" y="631"/>
                </a:moveTo>
                <a:moveTo>
                  <a:pt x="58" y="635"/>
                </a:moveTo>
                <a:moveTo>
                  <a:pt x="59" y="637"/>
                </a:moveTo>
                <a:moveTo>
                  <a:pt x="63" y="638"/>
                </a:moveTo>
                <a:moveTo>
                  <a:pt x="68" y="638"/>
                </a:moveTo>
                <a:moveTo>
                  <a:pt x="74" y="637"/>
                </a:moveTo>
                <a:moveTo>
                  <a:pt x="79" y="637"/>
                </a:moveTo>
                <a:moveTo>
                  <a:pt x="86" y="636"/>
                </a:moveTo>
                <a:moveTo>
                  <a:pt x="94" y="637"/>
                </a:moveTo>
                <a:moveTo>
                  <a:pt x="102" y="637"/>
                </a:moveTo>
                <a:moveTo>
                  <a:pt x="119" y="637"/>
                </a:moveTo>
                <a:moveTo>
                  <a:pt x="137" y="635"/>
                </a:moveTo>
                <a:moveTo>
                  <a:pt x="154" y="634"/>
                </a:moveTo>
                <a:moveTo>
                  <a:pt x="171" y="632"/>
                </a:moveTo>
                <a:moveTo>
                  <a:pt x="187" y="633"/>
                </a:moveTo>
                <a:moveTo>
                  <a:pt x="204" y="633"/>
                </a:moveTo>
                <a:moveTo>
                  <a:pt x="212" y="633"/>
                </a:moveTo>
                <a:moveTo>
                  <a:pt x="220" y="633"/>
                </a:moveTo>
                <a:moveTo>
                  <a:pt x="228" y="632"/>
                </a:moveTo>
                <a:moveTo>
                  <a:pt x="235" y="633"/>
                </a:moveTo>
                <a:moveTo>
                  <a:pt x="241" y="633"/>
                </a:moveTo>
                <a:moveTo>
                  <a:pt x="248" y="633"/>
                </a:moveTo>
                <a:moveTo>
                  <a:pt x="258" y="633"/>
                </a:moveTo>
                <a:moveTo>
                  <a:pt x="269" y="633"/>
                </a:moveTo>
                <a:moveTo>
                  <a:pt x="280" y="633"/>
                </a:moveTo>
                <a:moveTo>
                  <a:pt x="280" y="635"/>
                </a:moveTo>
                <a:moveTo>
                  <a:pt x="280" y="637"/>
                </a:moveTo>
                <a:moveTo>
                  <a:pt x="280" y="639"/>
                </a:moveTo>
                <a:moveTo>
                  <a:pt x="280" y="639"/>
                </a:moveTo>
                <a:moveTo>
                  <a:pt x="280" y="640"/>
                </a:moveTo>
                <a:moveTo>
                  <a:pt x="280" y="640"/>
                </a:moveTo>
                <a:moveTo>
                  <a:pt x="280" y="640"/>
                </a:moveTo>
                <a:moveTo>
                  <a:pt x="280" y="640"/>
                </a:moveTo>
                <a:moveTo>
                  <a:pt x="280" y="641"/>
                </a:moveTo>
                <a:moveTo>
                  <a:pt x="280" y="641"/>
                </a:moveTo>
                <a:moveTo>
                  <a:pt x="280" y="641"/>
                </a:moveTo>
                <a:moveTo>
                  <a:pt x="280" y="641"/>
                </a:moveTo>
                <a:moveTo>
                  <a:pt x="276" y="642"/>
                </a:moveTo>
                <a:moveTo>
                  <a:pt x="271" y="643"/>
                </a:moveTo>
                <a:moveTo>
                  <a:pt x="268" y="646"/>
                </a:moveTo>
                <a:moveTo>
                  <a:pt x="268" y="647"/>
                </a:moveTo>
                <a:moveTo>
                  <a:pt x="268" y="647"/>
                </a:moveTo>
                <a:moveTo>
                  <a:pt x="269" y="647"/>
                </a:moveTo>
                <a:moveTo>
                  <a:pt x="272" y="644"/>
                </a:moveTo>
                <a:moveTo>
                  <a:pt x="276" y="643"/>
                </a:moveTo>
                <a:moveTo>
                  <a:pt x="280" y="642"/>
                </a:moveTo>
                <a:moveTo>
                  <a:pt x="281" y="650"/>
                </a:moveTo>
                <a:moveTo>
                  <a:pt x="281" y="659"/>
                </a:moveTo>
                <a:moveTo>
                  <a:pt x="281" y="667"/>
                </a:moveTo>
                <a:moveTo>
                  <a:pt x="281" y="666"/>
                </a:moveTo>
                <a:moveTo>
                  <a:pt x="279" y="666"/>
                </a:moveTo>
                <a:moveTo>
                  <a:pt x="279" y="668"/>
                </a:moveTo>
                <a:moveTo>
                  <a:pt x="277" y="687"/>
                </a:moveTo>
                <a:moveTo>
                  <a:pt x="275" y="705"/>
                </a:moveTo>
                <a:moveTo>
                  <a:pt x="274" y="724"/>
                </a:moveTo>
                <a:moveTo>
                  <a:pt x="233" y="719"/>
                </a:moveTo>
                <a:moveTo>
                  <a:pt x="190" y="725"/>
                </a:moveTo>
                <a:moveTo>
                  <a:pt x="148" y="724"/>
                </a:moveTo>
                <a:moveTo>
                  <a:pt x="145" y="724"/>
                </a:moveTo>
                <a:moveTo>
                  <a:pt x="145" y="728"/>
                </a:moveTo>
                <a:moveTo>
                  <a:pt x="148" y="728"/>
                </a:moveTo>
                <a:moveTo>
                  <a:pt x="170" y="728"/>
                </a:moveTo>
                <a:moveTo>
                  <a:pt x="193" y="727"/>
                </a:moveTo>
                <a:moveTo>
                  <a:pt x="215" y="726"/>
                </a:moveTo>
                <a:moveTo>
                  <a:pt x="227" y="726"/>
                </a:moveTo>
                <a:moveTo>
                  <a:pt x="239" y="726"/>
                </a:moveTo>
                <a:moveTo>
                  <a:pt x="251" y="727"/>
                </a:moveTo>
                <a:moveTo>
                  <a:pt x="253" y="727"/>
                </a:moveTo>
                <a:moveTo>
                  <a:pt x="265" y="727"/>
                </a:moveTo>
                <a:moveTo>
                  <a:pt x="274" y="728"/>
                </a:moveTo>
                <a:moveTo>
                  <a:pt x="274" y="729"/>
                </a:moveTo>
                <a:moveTo>
                  <a:pt x="274" y="731"/>
                </a:moveTo>
                <a:moveTo>
                  <a:pt x="274" y="732"/>
                </a:moveTo>
                <a:moveTo>
                  <a:pt x="274" y="733"/>
                </a:moveTo>
                <a:moveTo>
                  <a:pt x="276" y="733"/>
                </a:moveTo>
                <a:moveTo>
                  <a:pt x="276" y="732"/>
                </a:moveTo>
                <a:moveTo>
                  <a:pt x="276" y="731"/>
                </a:moveTo>
                <a:moveTo>
                  <a:pt x="276" y="729"/>
                </a:moveTo>
                <a:moveTo>
                  <a:pt x="276" y="728"/>
                </a:moveTo>
                <a:moveTo>
                  <a:pt x="278" y="728"/>
                </a:moveTo>
                <a:moveTo>
                  <a:pt x="279" y="728"/>
                </a:moveTo>
                <a:moveTo>
                  <a:pt x="280" y="729"/>
                </a:moveTo>
                <a:moveTo>
                  <a:pt x="280" y="730"/>
                </a:moveTo>
                <a:moveTo>
                  <a:pt x="281" y="731"/>
                </a:moveTo>
                <a:moveTo>
                  <a:pt x="281" y="732"/>
                </a:moveTo>
                <a:moveTo>
                  <a:pt x="265" y="734"/>
                </a:moveTo>
                <a:moveTo>
                  <a:pt x="249" y="736"/>
                </a:moveTo>
                <a:moveTo>
                  <a:pt x="234" y="733"/>
                </a:moveTo>
                <a:moveTo>
                  <a:pt x="233" y="733"/>
                </a:moveTo>
                <a:moveTo>
                  <a:pt x="232" y="733"/>
                </a:moveTo>
                <a:moveTo>
                  <a:pt x="231" y="734"/>
                </a:moveTo>
                <a:moveTo>
                  <a:pt x="220" y="733"/>
                </a:moveTo>
                <a:moveTo>
                  <a:pt x="209" y="733"/>
                </a:moveTo>
                <a:moveTo>
                  <a:pt x="197" y="733"/>
                </a:moveTo>
                <a:moveTo>
                  <a:pt x="185" y="732"/>
                </a:moveTo>
                <a:moveTo>
                  <a:pt x="172" y="730"/>
                </a:moveTo>
                <a:moveTo>
                  <a:pt x="160" y="729"/>
                </a:moveTo>
                <a:moveTo>
                  <a:pt x="157" y="729"/>
                </a:moveTo>
                <a:moveTo>
                  <a:pt x="158" y="733"/>
                </a:moveTo>
                <a:moveTo>
                  <a:pt x="160" y="733"/>
                </a:moveTo>
                <a:moveTo>
                  <a:pt x="165" y="733"/>
                </a:moveTo>
                <a:moveTo>
                  <a:pt x="169" y="734"/>
                </a:moveTo>
                <a:moveTo>
                  <a:pt x="174" y="734"/>
                </a:moveTo>
                <a:moveTo>
                  <a:pt x="171" y="735"/>
                </a:moveTo>
                <a:moveTo>
                  <a:pt x="168" y="735"/>
                </a:moveTo>
                <a:moveTo>
                  <a:pt x="165" y="736"/>
                </a:moveTo>
                <a:moveTo>
                  <a:pt x="162" y="736"/>
                </a:moveTo>
                <a:moveTo>
                  <a:pt x="163" y="740"/>
                </a:moveTo>
                <a:moveTo>
                  <a:pt x="166" y="740"/>
                </a:moveTo>
                <a:moveTo>
                  <a:pt x="176" y="738"/>
                </a:moveTo>
                <a:moveTo>
                  <a:pt x="186" y="737"/>
                </a:moveTo>
                <a:moveTo>
                  <a:pt x="197" y="737"/>
                </a:moveTo>
                <a:moveTo>
                  <a:pt x="221" y="739"/>
                </a:moveTo>
                <a:moveTo>
                  <a:pt x="245" y="740"/>
                </a:moveTo>
                <a:moveTo>
                  <a:pt x="270" y="741"/>
                </a:moveTo>
                <a:moveTo>
                  <a:pt x="285" y="743"/>
                </a:moveTo>
                <a:moveTo>
                  <a:pt x="301" y="744"/>
                </a:moveTo>
                <a:moveTo>
                  <a:pt x="316" y="745"/>
                </a:moveTo>
                <a:moveTo>
                  <a:pt x="317" y="745"/>
                </a:moveTo>
                <a:moveTo>
                  <a:pt x="318" y="744"/>
                </a:moveTo>
                <a:moveTo>
                  <a:pt x="318" y="743"/>
                </a:moveTo>
                <a:moveTo>
                  <a:pt x="322" y="743"/>
                </a:moveTo>
                <a:moveTo>
                  <a:pt x="326" y="743"/>
                </a:moveTo>
                <a:moveTo>
                  <a:pt x="330" y="743"/>
                </a:moveTo>
                <a:moveTo>
                  <a:pt x="330" y="744"/>
                </a:moveTo>
                <a:moveTo>
                  <a:pt x="330" y="744"/>
                </a:moveTo>
                <a:moveTo>
                  <a:pt x="331" y="745"/>
                </a:moveTo>
                <a:moveTo>
                  <a:pt x="331" y="746"/>
                </a:moveTo>
                <a:moveTo>
                  <a:pt x="332" y="746"/>
                </a:moveTo>
                <a:moveTo>
                  <a:pt x="332" y="745"/>
                </a:moveTo>
                <a:moveTo>
                  <a:pt x="331" y="744"/>
                </a:moveTo>
                <a:moveTo>
                  <a:pt x="331" y="744"/>
                </a:moveTo>
                <a:moveTo>
                  <a:pt x="331" y="743"/>
                </a:moveTo>
                <a:moveTo>
                  <a:pt x="353" y="743"/>
                </a:moveTo>
                <a:moveTo>
                  <a:pt x="375" y="744"/>
                </a:moveTo>
                <a:moveTo>
                  <a:pt x="397" y="744"/>
                </a:moveTo>
                <a:moveTo>
                  <a:pt x="399" y="744"/>
                </a:moveTo>
                <a:moveTo>
                  <a:pt x="399" y="742"/>
                </a:moveTo>
                <a:moveTo>
                  <a:pt x="399" y="741"/>
                </a:moveTo>
                <a:moveTo>
                  <a:pt x="404" y="741"/>
                </a:moveTo>
                <a:moveTo>
                  <a:pt x="409" y="742"/>
                </a:moveTo>
                <a:moveTo>
                  <a:pt x="414" y="742"/>
                </a:moveTo>
                <a:moveTo>
                  <a:pt x="438" y="742"/>
                </a:moveTo>
                <a:moveTo>
                  <a:pt x="463" y="742"/>
                </a:moveTo>
                <a:moveTo>
                  <a:pt x="488" y="741"/>
                </a:moveTo>
                <a:moveTo>
                  <a:pt x="488" y="742"/>
                </a:moveTo>
                <a:moveTo>
                  <a:pt x="489" y="742"/>
                </a:moveTo>
                <a:moveTo>
                  <a:pt x="489" y="741"/>
                </a:moveTo>
                <a:moveTo>
                  <a:pt x="490" y="741"/>
                </a:moveTo>
                <a:moveTo>
                  <a:pt x="492" y="741"/>
                </a:moveTo>
                <a:moveTo>
                  <a:pt x="493" y="741"/>
                </a:moveTo>
                <a:moveTo>
                  <a:pt x="495" y="742"/>
                </a:moveTo>
                <a:moveTo>
                  <a:pt x="496" y="742"/>
                </a:moveTo>
                <a:moveTo>
                  <a:pt x="497" y="742"/>
                </a:moveTo>
                <a:moveTo>
                  <a:pt x="497" y="742"/>
                </a:moveTo>
                <a:moveTo>
                  <a:pt x="497" y="742"/>
                </a:moveTo>
                <a:moveTo>
                  <a:pt x="497" y="743"/>
                </a:moveTo>
                <a:moveTo>
                  <a:pt x="497" y="743"/>
                </a:moveTo>
                <a:moveTo>
                  <a:pt x="498" y="743"/>
                </a:moveTo>
                <a:moveTo>
                  <a:pt x="498" y="743"/>
                </a:moveTo>
                <a:moveTo>
                  <a:pt x="498" y="742"/>
                </a:moveTo>
                <a:moveTo>
                  <a:pt x="498" y="742"/>
                </a:moveTo>
                <a:moveTo>
                  <a:pt x="498" y="742"/>
                </a:moveTo>
                <a:moveTo>
                  <a:pt x="504" y="744"/>
                </a:moveTo>
                <a:moveTo>
                  <a:pt x="511" y="745"/>
                </a:moveTo>
                <a:moveTo>
                  <a:pt x="517" y="747"/>
                </a:moveTo>
                <a:moveTo>
                  <a:pt x="518" y="747"/>
                </a:moveTo>
                <a:moveTo>
                  <a:pt x="518" y="746"/>
                </a:moveTo>
                <a:moveTo>
                  <a:pt x="518" y="745"/>
                </a:moveTo>
                <a:moveTo>
                  <a:pt x="537" y="746"/>
                </a:moveTo>
                <a:moveTo>
                  <a:pt x="556" y="745"/>
                </a:moveTo>
                <a:moveTo>
                  <a:pt x="575" y="746"/>
                </a:moveTo>
                <a:moveTo>
                  <a:pt x="578" y="747"/>
                </a:moveTo>
                <a:moveTo>
                  <a:pt x="581" y="748"/>
                </a:moveTo>
                <a:moveTo>
                  <a:pt x="585" y="748"/>
                </a:moveTo>
                <a:moveTo>
                  <a:pt x="557" y="749"/>
                </a:moveTo>
                <a:moveTo>
                  <a:pt x="529" y="751"/>
                </a:moveTo>
                <a:moveTo>
                  <a:pt x="502" y="753"/>
                </a:moveTo>
                <a:moveTo>
                  <a:pt x="486" y="752"/>
                </a:moveTo>
                <a:moveTo>
                  <a:pt x="469" y="752"/>
                </a:moveTo>
                <a:moveTo>
                  <a:pt x="453" y="751"/>
                </a:moveTo>
                <a:moveTo>
                  <a:pt x="452" y="750"/>
                </a:moveTo>
                <a:moveTo>
                  <a:pt x="451" y="749"/>
                </a:moveTo>
                <a:moveTo>
                  <a:pt x="450" y="750"/>
                </a:moveTo>
                <a:moveTo>
                  <a:pt x="449" y="751"/>
                </a:moveTo>
                <a:moveTo>
                  <a:pt x="449" y="751"/>
                </a:moveTo>
                <a:moveTo>
                  <a:pt x="448" y="751"/>
                </a:moveTo>
                <a:moveTo>
                  <a:pt x="390" y="748"/>
                </a:moveTo>
                <a:moveTo>
                  <a:pt x="333" y="746"/>
                </a:moveTo>
                <a:moveTo>
                  <a:pt x="275" y="746"/>
                </a:moveTo>
                <a:moveTo>
                  <a:pt x="274" y="746"/>
                </a:moveTo>
                <a:moveTo>
                  <a:pt x="273" y="747"/>
                </a:moveTo>
                <a:moveTo>
                  <a:pt x="273" y="748"/>
                </a:moveTo>
                <a:moveTo>
                  <a:pt x="254" y="748"/>
                </a:moveTo>
                <a:moveTo>
                  <a:pt x="234" y="747"/>
                </a:moveTo>
                <a:moveTo>
                  <a:pt x="215" y="746"/>
                </a:moveTo>
                <a:moveTo>
                  <a:pt x="212" y="746"/>
                </a:moveTo>
                <a:moveTo>
                  <a:pt x="212" y="750"/>
                </a:moveTo>
                <a:moveTo>
                  <a:pt x="215" y="750"/>
                </a:moveTo>
                <a:moveTo>
                  <a:pt x="243" y="751"/>
                </a:moveTo>
                <a:moveTo>
                  <a:pt x="271" y="752"/>
                </a:moveTo>
                <a:moveTo>
                  <a:pt x="298" y="753"/>
                </a:moveTo>
                <a:moveTo>
                  <a:pt x="296" y="753"/>
                </a:moveTo>
                <a:moveTo>
                  <a:pt x="294" y="754"/>
                </a:moveTo>
                <a:moveTo>
                  <a:pt x="292" y="755"/>
                </a:moveTo>
                <a:moveTo>
                  <a:pt x="290" y="756"/>
                </a:moveTo>
                <a:moveTo>
                  <a:pt x="292" y="760"/>
                </a:moveTo>
                <a:moveTo>
                  <a:pt x="294" y="759"/>
                </a:moveTo>
                <a:moveTo>
                  <a:pt x="301" y="755"/>
                </a:moveTo>
                <a:moveTo>
                  <a:pt x="310" y="757"/>
                </a:moveTo>
                <a:moveTo>
                  <a:pt x="317" y="757"/>
                </a:moveTo>
                <a:moveTo>
                  <a:pt x="326" y="758"/>
                </a:moveTo>
                <a:moveTo>
                  <a:pt x="335" y="759"/>
                </a:moveTo>
                <a:moveTo>
                  <a:pt x="344" y="759"/>
                </a:moveTo>
                <a:moveTo>
                  <a:pt x="364" y="759"/>
                </a:moveTo>
                <a:moveTo>
                  <a:pt x="385" y="758"/>
                </a:moveTo>
                <a:moveTo>
                  <a:pt x="405" y="759"/>
                </a:moveTo>
                <a:moveTo>
                  <a:pt x="405" y="760"/>
                </a:moveTo>
                <a:moveTo>
                  <a:pt x="405" y="761"/>
                </a:moveTo>
                <a:moveTo>
                  <a:pt x="406" y="761"/>
                </a:moveTo>
                <a:moveTo>
                  <a:pt x="407" y="763"/>
                </a:moveTo>
                <a:moveTo>
                  <a:pt x="409" y="764"/>
                </a:moveTo>
                <a:moveTo>
                  <a:pt x="411" y="765"/>
                </a:moveTo>
                <a:moveTo>
                  <a:pt x="370" y="764"/>
                </a:moveTo>
                <a:moveTo>
                  <a:pt x="329" y="763"/>
                </a:moveTo>
                <a:moveTo>
                  <a:pt x="289" y="766"/>
                </a:moveTo>
                <a:moveTo>
                  <a:pt x="249" y="766"/>
                </a:moveTo>
                <a:moveTo>
                  <a:pt x="210" y="766"/>
                </a:moveTo>
                <a:moveTo>
                  <a:pt x="171" y="766"/>
                </a:moveTo>
                <a:moveTo>
                  <a:pt x="168" y="766"/>
                </a:moveTo>
                <a:moveTo>
                  <a:pt x="168" y="770"/>
                </a:moveTo>
                <a:moveTo>
                  <a:pt x="171" y="770"/>
                </a:moveTo>
                <a:moveTo>
                  <a:pt x="198" y="770"/>
                </a:moveTo>
                <a:moveTo>
                  <a:pt x="224" y="770"/>
                </a:moveTo>
                <a:moveTo>
                  <a:pt x="251" y="770"/>
                </a:moveTo>
                <a:moveTo>
                  <a:pt x="243" y="771"/>
                </a:moveTo>
                <a:moveTo>
                  <a:pt x="235" y="772"/>
                </a:moveTo>
                <a:moveTo>
                  <a:pt x="227" y="774"/>
                </a:moveTo>
                <a:moveTo>
                  <a:pt x="224" y="774"/>
                </a:moveTo>
                <a:moveTo>
                  <a:pt x="225" y="778"/>
                </a:moveTo>
                <a:moveTo>
                  <a:pt x="228" y="778"/>
                </a:moveTo>
                <a:moveTo>
                  <a:pt x="230" y="777"/>
                </a:moveTo>
                <a:moveTo>
                  <a:pt x="233" y="777"/>
                </a:moveTo>
                <a:moveTo>
                  <a:pt x="235" y="776"/>
                </a:moveTo>
                <a:moveTo>
                  <a:pt x="235" y="778"/>
                </a:moveTo>
                <a:moveTo>
                  <a:pt x="236" y="779"/>
                </a:moveTo>
                <a:moveTo>
                  <a:pt x="237" y="779"/>
                </a:moveTo>
                <a:moveTo>
                  <a:pt x="247" y="779"/>
                </a:moveTo>
                <a:moveTo>
                  <a:pt x="256" y="779"/>
                </a:moveTo>
                <a:moveTo>
                  <a:pt x="266" y="779"/>
                </a:moveTo>
                <a:moveTo>
                  <a:pt x="266" y="780"/>
                </a:moveTo>
                <a:moveTo>
                  <a:pt x="267" y="781"/>
                </a:moveTo>
                <a:moveTo>
                  <a:pt x="269" y="781"/>
                </a:moveTo>
                <a:moveTo>
                  <a:pt x="271" y="780"/>
                </a:moveTo>
                <a:moveTo>
                  <a:pt x="274" y="780"/>
                </a:moveTo>
                <a:moveTo>
                  <a:pt x="277" y="779"/>
                </a:moveTo>
                <a:moveTo>
                  <a:pt x="287" y="780"/>
                </a:moveTo>
                <a:moveTo>
                  <a:pt x="296" y="780"/>
                </a:moveTo>
                <a:moveTo>
                  <a:pt x="306" y="780"/>
                </a:moveTo>
                <a:moveTo>
                  <a:pt x="304" y="781"/>
                </a:moveTo>
                <a:moveTo>
                  <a:pt x="302" y="781"/>
                </a:moveTo>
                <a:moveTo>
                  <a:pt x="299" y="782"/>
                </a:moveTo>
                <a:moveTo>
                  <a:pt x="283" y="781"/>
                </a:moveTo>
                <a:moveTo>
                  <a:pt x="267" y="780"/>
                </a:moveTo>
                <a:moveTo>
                  <a:pt x="251" y="782"/>
                </a:moveTo>
                <a:moveTo>
                  <a:pt x="249" y="782"/>
                </a:moveTo>
                <a:moveTo>
                  <a:pt x="248" y="786"/>
                </a:moveTo>
                <a:moveTo>
                  <a:pt x="251" y="786"/>
                </a:moveTo>
                <a:moveTo>
                  <a:pt x="267" y="784"/>
                </a:moveTo>
                <a:moveTo>
                  <a:pt x="283" y="785"/>
                </a:moveTo>
                <a:moveTo>
                  <a:pt x="298" y="786"/>
                </a:moveTo>
                <a:moveTo>
                  <a:pt x="299" y="786"/>
                </a:moveTo>
                <a:moveTo>
                  <a:pt x="299" y="786"/>
                </a:moveTo>
                <a:moveTo>
                  <a:pt x="300" y="786"/>
                </a:moveTo>
                <a:moveTo>
                  <a:pt x="300" y="786"/>
                </a:moveTo>
                <a:moveTo>
                  <a:pt x="300" y="786"/>
                </a:moveTo>
                <a:moveTo>
                  <a:pt x="300" y="786"/>
                </a:moveTo>
                <a:moveTo>
                  <a:pt x="321" y="787"/>
                </a:moveTo>
                <a:moveTo>
                  <a:pt x="342" y="790"/>
                </a:moveTo>
                <a:moveTo>
                  <a:pt x="363" y="790"/>
                </a:moveTo>
                <a:moveTo>
                  <a:pt x="364" y="790"/>
                </a:moveTo>
                <a:moveTo>
                  <a:pt x="364" y="789"/>
                </a:moveTo>
                <a:moveTo>
                  <a:pt x="365" y="789"/>
                </a:moveTo>
                <a:moveTo>
                  <a:pt x="400" y="795"/>
                </a:moveTo>
                <a:moveTo>
                  <a:pt x="437" y="795"/>
                </a:moveTo>
                <a:moveTo>
                  <a:pt x="472" y="795"/>
                </a:moveTo>
                <a:moveTo>
                  <a:pt x="486" y="795"/>
                </a:moveTo>
                <a:moveTo>
                  <a:pt x="500" y="794"/>
                </a:moveTo>
                <a:moveTo>
                  <a:pt x="514" y="794"/>
                </a:moveTo>
                <a:moveTo>
                  <a:pt x="505" y="795"/>
                </a:moveTo>
                <a:moveTo>
                  <a:pt x="496" y="796"/>
                </a:moveTo>
                <a:moveTo>
                  <a:pt x="487" y="798"/>
                </a:moveTo>
                <a:moveTo>
                  <a:pt x="485" y="798"/>
                </a:moveTo>
                <a:moveTo>
                  <a:pt x="485" y="799"/>
                </a:moveTo>
                <a:moveTo>
                  <a:pt x="485" y="801"/>
                </a:moveTo>
                <a:moveTo>
                  <a:pt x="425" y="795"/>
                </a:moveTo>
                <a:moveTo>
                  <a:pt x="364" y="789"/>
                </a:moveTo>
                <a:moveTo>
                  <a:pt x="304" y="799"/>
                </a:moveTo>
                <a:moveTo>
                  <a:pt x="281" y="798"/>
                </a:moveTo>
                <a:moveTo>
                  <a:pt x="259" y="797"/>
                </a:moveTo>
                <a:moveTo>
                  <a:pt x="237" y="795"/>
                </a:moveTo>
                <a:moveTo>
                  <a:pt x="240" y="794"/>
                </a:moveTo>
                <a:moveTo>
                  <a:pt x="244" y="794"/>
                </a:moveTo>
                <a:moveTo>
                  <a:pt x="247" y="794"/>
                </a:moveTo>
                <a:moveTo>
                  <a:pt x="250" y="794"/>
                </a:moveTo>
                <a:moveTo>
                  <a:pt x="250" y="790"/>
                </a:moveTo>
                <a:moveTo>
                  <a:pt x="247" y="790"/>
                </a:moveTo>
                <a:moveTo>
                  <a:pt x="238" y="790"/>
                </a:moveTo>
                <a:moveTo>
                  <a:pt x="229" y="793"/>
                </a:moveTo>
                <a:moveTo>
                  <a:pt x="219" y="794"/>
                </a:moveTo>
                <a:moveTo>
                  <a:pt x="216" y="794"/>
                </a:moveTo>
                <a:moveTo>
                  <a:pt x="216" y="798"/>
                </a:moveTo>
                <a:moveTo>
                  <a:pt x="219" y="798"/>
                </a:moveTo>
                <a:moveTo>
                  <a:pt x="243" y="800"/>
                </a:moveTo>
                <a:moveTo>
                  <a:pt x="266" y="801"/>
                </a:moveTo>
                <a:moveTo>
                  <a:pt x="290" y="803"/>
                </a:moveTo>
                <a:moveTo>
                  <a:pt x="288" y="804"/>
                </a:moveTo>
                <a:moveTo>
                  <a:pt x="290" y="806"/>
                </a:moveTo>
                <a:moveTo>
                  <a:pt x="292" y="806"/>
                </a:moveTo>
                <a:moveTo>
                  <a:pt x="296" y="805"/>
                </a:moveTo>
                <a:moveTo>
                  <a:pt x="300" y="804"/>
                </a:moveTo>
                <a:moveTo>
                  <a:pt x="304" y="803"/>
                </a:moveTo>
                <a:moveTo>
                  <a:pt x="332" y="805"/>
                </a:moveTo>
                <a:moveTo>
                  <a:pt x="359" y="806"/>
                </a:moveTo>
                <a:moveTo>
                  <a:pt x="387" y="806"/>
                </a:moveTo>
                <a:moveTo>
                  <a:pt x="390" y="806"/>
                </a:moveTo>
                <a:moveTo>
                  <a:pt x="390" y="802"/>
                </a:moveTo>
                <a:moveTo>
                  <a:pt x="387" y="802"/>
                </a:moveTo>
                <a:moveTo>
                  <a:pt x="366" y="802"/>
                </a:moveTo>
                <a:moveTo>
                  <a:pt x="345" y="801"/>
                </a:moveTo>
                <a:moveTo>
                  <a:pt x="324" y="800"/>
                </a:moveTo>
                <a:moveTo>
                  <a:pt x="393" y="792"/>
                </a:moveTo>
                <a:moveTo>
                  <a:pt x="463" y="804"/>
                </a:moveTo>
                <a:moveTo>
                  <a:pt x="532" y="808"/>
                </a:moveTo>
                <a:moveTo>
                  <a:pt x="500" y="809"/>
                </a:moveTo>
                <a:moveTo>
                  <a:pt x="467" y="810"/>
                </a:moveTo>
                <a:moveTo>
                  <a:pt x="435" y="810"/>
                </a:moveTo>
                <a:moveTo>
                  <a:pt x="432" y="810"/>
                </a:moveTo>
                <a:moveTo>
                  <a:pt x="432" y="814"/>
                </a:moveTo>
                <a:moveTo>
                  <a:pt x="435" y="814"/>
                </a:moveTo>
                <a:moveTo>
                  <a:pt x="462" y="814"/>
                </a:moveTo>
                <a:moveTo>
                  <a:pt x="488" y="814"/>
                </a:moveTo>
                <a:moveTo>
                  <a:pt x="515" y="814"/>
                </a:moveTo>
                <a:moveTo>
                  <a:pt x="516" y="814"/>
                </a:moveTo>
                <a:moveTo>
                  <a:pt x="517" y="813"/>
                </a:moveTo>
                <a:moveTo>
                  <a:pt x="517" y="813"/>
                </a:moveTo>
                <a:moveTo>
                  <a:pt x="545" y="812"/>
                </a:moveTo>
                <a:moveTo>
                  <a:pt x="574" y="811"/>
                </a:moveTo>
                <a:moveTo>
                  <a:pt x="602" y="810"/>
                </a:moveTo>
                <a:moveTo>
                  <a:pt x="566" y="812"/>
                </a:moveTo>
                <a:moveTo>
                  <a:pt x="530" y="815"/>
                </a:moveTo>
                <a:moveTo>
                  <a:pt x="494" y="817"/>
                </a:moveTo>
                <a:moveTo>
                  <a:pt x="464" y="816"/>
                </a:moveTo>
                <a:moveTo>
                  <a:pt x="434" y="815"/>
                </a:moveTo>
                <a:moveTo>
                  <a:pt x="404" y="815"/>
                </a:moveTo>
                <a:moveTo>
                  <a:pt x="363" y="815"/>
                </a:moveTo>
                <a:moveTo>
                  <a:pt x="321" y="817"/>
                </a:moveTo>
                <a:moveTo>
                  <a:pt x="283" y="830"/>
                </a:moveTo>
                <a:moveTo>
                  <a:pt x="280" y="831"/>
                </a:moveTo>
                <a:moveTo>
                  <a:pt x="281" y="834"/>
                </a:moveTo>
                <a:moveTo>
                  <a:pt x="283" y="834"/>
                </a:moveTo>
                <a:moveTo>
                  <a:pt x="286" y="834"/>
                </a:moveTo>
                <a:moveTo>
                  <a:pt x="289" y="835"/>
                </a:moveTo>
                <a:moveTo>
                  <a:pt x="292" y="836"/>
                </a:moveTo>
                <a:moveTo>
                  <a:pt x="290" y="837"/>
                </a:moveTo>
                <a:moveTo>
                  <a:pt x="288" y="837"/>
                </a:moveTo>
                <a:moveTo>
                  <a:pt x="286" y="838"/>
                </a:moveTo>
                <a:moveTo>
                  <a:pt x="284" y="839"/>
                </a:moveTo>
                <a:moveTo>
                  <a:pt x="285" y="841"/>
                </a:moveTo>
                <a:moveTo>
                  <a:pt x="287" y="842"/>
                </a:moveTo>
                <a:moveTo>
                  <a:pt x="301" y="845"/>
                </a:moveTo>
                <a:moveTo>
                  <a:pt x="316" y="845"/>
                </a:moveTo>
                <a:moveTo>
                  <a:pt x="331" y="846"/>
                </a:moveTo>
                <a:moveTo>
                  <a:pt x="339" y="847"/>
                </a:moveTo>
                <a:moveTo>
                  <a:pt x="346" y="847"/>
                </a:moveTo>
                <a:moveTo>
                  <a:pt x="353" y="848"/>
                </a:moveTo>
                <a:moveTo>
                  <a:pt x="353" y="848"/>
                </a:moveTo>
                <a:moveTo>
                  <a:pt x="353" y="849"/>
                </a:moveTo>
                <a:moveTo>
                  <a:pt x="353" y="849"/>
                </a:moveTo>
                <a:moveTo>
                  <a:pt x="354" y="849"/>
                </a:moveTo>
                <a:moveTo>
                  <a:pt x="354" y="850"/>
                </a:moveTo>
                <a:moveTo>
                  <a:pt x="355" y="850"/>
                </a:moveTo>
                <a:moveTo>
                  <a:pt x="390" y="857"/>
                </a:moveTo>
                <a:moveTo>
                  <a:pt x="427" y="856"/>
                </a:moveTo>
                <a:moveTo>
                  <a:pt x="463" y="854"/>
                </a:moveTo>
                <a:moveTo>
                  <a:pt x="463" y="854"/>
                </a:moveTo>
                <a:moveTo>
                  <a:pt x="464" y="854"/>
                </a:moveTo>
                <a:moveTo>
                  <a:pt x="465" y="854"/>
                </a:moveTo>
                <a:moveTo>
                  <a:pt x="468" y="854"/>
                </a:moveTo>
                <a:moveTo>
                  <a:pt x="497" y="859"/>
                </a:moveTo>
                <a:moveTo>
                  <a:pt x="497" y="859"/>
                </a:moveTo>
                <a:moveTo>
                  <a:pt x="496" y="861"/>
                </a:moveTo>
                <a:moveTo>
                  <a:pt x="500" y="863"/>
                </a:moveTo>
                <a:moveTo>
                  <a:pt x="501" y="861"/>
                </a:moveTo>
                <a:moveTo>
                  <a:pt x="504" y="855"/>
                </a:moveTo>
                <a:moveTo>
                  <a:pt x="493" y="853"/>
                </a:moveTo>
                <a:moveTo>
                  <a:pt x="486" y="852"/>
                </a:moveTo>
                <a:moveTo>
                  <a:pt x="520" y="850"/>
                </a:moveTo>
                <a:moveTo>
                  <a:pt x="553" y="849"/>
                </a:moveTo>
                <a:moveTo>
                  <a:pt x="587" y="854"/>
                </a:moveTo>
                <a:moveTo>
                  <a:pt x="589" y="854"/>
                </a:moveTo>
                <a:moveTo>
                  <a:pt x="590" y="850"/>
                </a:moveTo>
                <a:moveTo>
                  <a:pt x="588" y="850"/>
                </a:moveTo>
                <a:moveTo>
                  <a:pt x="547" y="844"/>
                </a:moveTo>
                <a:moveTo>
                  <a:pt x="506" y="847"/>
                </a:moveTo>
                <a:moveTo>
                  <a:pt x="465" y="850"/>
                </a:moveTo>
                <a:moveTo>
                  <a:pt x="465" y="850"/>
                </a:moveTo>
                <a:moveTo>
                  <a:pt x="465" y="850"/>
                </a:moveTo>
                <a:moveTo>
                  <a:pt x="465" y="850"/>
                </a:moveTo>
                <a:moveTo>
                  <a:pt x="449" y="848"/>
                </a:moveTo>
                <a:moveTo>
                  <a:pt x="434" y="848"/>
                </a:moveTo>
                <a:moveTo>
                  <a:pt x="419" y="847"/>
                </a:moveTo>
                <a:moveTo>
                  <a:pt x="402" y="846"/>
                </a:moveTo>
                <a:moveTo>
                  <a:pt x="386" y="845"/>
                </a:moveTo>
                <a:moveTo>
                  <a:pt x="369" y="844"/>
                </a:moveTo>
                <a:moveTo>
                  <a:pt x="369" y="843"/>
                </a:moveTo>
                <a:moveTo>
                  <a:pt x="368" y="842"/>
                </a:moveTo>
                <a:moveTo>
                  <a:pt x="367" y="842"/>
                </a:moveTo>
                <a:moveTo>
                  <a:pt x="375" y="839"/>
                </a:moveTo>
                <a:moveTo>
                  <a:pt x="383" y="839"/>
                </a:moveTo>
                <a:moveTo>
                  <a:pt x="390" y="838"/>
                </a:moveTo>
                <a:moveTo>
                  <a:pt x="407" y="836"/>
                </a:moveTo>
                <a:moveTo>
                  <a:pt x="426" y="837"/>
                </a:moveTo>
                <a:moveTo>
                  <a:pt x="443" y="838"/>
                </a:moveTo>
                <a:moveTo>
                  <a:pt x="477" y="839"/>
                </a:moveTo>
                <a:moveTo>
                  <a:pt x="510" y="843"/>
                </a:moveTo>
                <a:moveTo>
                  <a:pt x="543" y="846"/>
                </a:moveTo>
                <a:moveTo>
                  <a:pt x="546" y="846"/>
                </a:moveTo>
                <a:moveTo>
                  <a:pt x="546" y="842"/>
                </a:moveTo>
                <a:moveTo>
                  <a:pt x="543" y="842"/>
                </a:moveTo>
                <a:moveTo>
                  <a:pt x="507" y="838"/>
                </a:moveTo>
                <a:moveTo>
                  <a:pt x="470" y="834"/>
                </a:moveTo>
                <a:moveTo>
                  <a:pt x="434" y="833"/>
                </a:moveTo>
                <a:moveTo>
                  <a:pt x="416" y="833"/>
                </a:moveTo>
                <a:moveTo>
                  <a:pt x="399" y="832"/>
                </a:moveTo>
                <a:moveTo>
                  <a:pt x="382" y="835"/>
                </a:moveTo>
                <a:moveTo>
                  <a:pt x="374" y="836"/>
                </a:moveTo>
                <a:moveTo>
                  <a:pt x="365" y="838"/>
                </a:moveTo>
                <a:moveTo>
                  <a:pt x="358" y="842"/>
                </a:moveTo>
                <a:moveTo>
                  <a:pt x="356" y="842"/>
                </a:moveTo>
                <a:moveTo>
                  <a:pt x="355" y="843"/>
                </a:moveTo>
                <a:moveTo>
                  <a:pt x="354" y="844"/>
                </a:moveTo>
                <a:moveTo>
                  <a:pt x="351" y="843"/>
                </a:moveTo>
                <a:moveTo>
                  <a:pt x="347" y="843"/>
                </a:moveTo>
                <a:moveTo>
                  <a:pt x="343" y="843"/>
                </a:moveTo>
                <a:moveTo>
                  <a:pt x="327" y="842"/>
                </a:moveTo>
                <a:moveTo>
                  <a:pt x="311" y="842"/>
                </a:moveTo>
                <a:moveTo>
                  <a:pt x="295" y="839"/>
                </a:moveTo>
                <a:moveTo>
                  <a:pt x="303" y="838"/>
                </a:moveTo>
                <a:moveTo>
                  <a:pt x="311" y="838"/>
                </a:moveTo>
                <a:moveTo>
                  <a:pt x="319" y="838"/>
                </a:moveTo>
                <a:moveTo>
                  <a:pt x="322" y="838"/>
                </a:moveTo>
                <a:moveTo>
                  <a:pt x="322" y="834"/>
                </a:moveTo>
                <a:moveTo>
                  <a:pt x="319" y="834"/>
                </a:moveTo>
                <a:moveTo>
                  <a:pt x="312" y="834"/>
                </a:moveTo>
                <a:moveTo>
                  <a:pt x="304" y="834"/>
                </a:moveTo>
                <a:moveTo>
                  <a:pt x="297" y="835"/>
                </a:moveTo>
                <a:moveTo>
                  <a:pt x="297" y="835"/>
                </a:moveTo>
                <a:moveTo>
                  <a:pt x="296" y="834"/>
                </a:moveTo>
                <a:moveTo>
                  <a:pt x="296" y="834"/>
                </a:moveTo>
                <a:moveTo>
                  <a:pt x="294" y="833"/>
                </a:moveTo>
                <a:moveTo>
                  <a:pt x="293" y="832"/>
                </a:moveTo>
                <a:moveTo>
                  <a:pt x="291" y="831"/>
                </a:moveTo>
                <a:moveTo>
                  <a:pt x="328" y="820"/>
                </a:moveTo>
                <a:moveTo>
                  <a:pt x="368" y="819"/>
                </a:moveTo>
                <a:moveTo>
                  <a:pt x="407" y="819"/>
                </a:moveTo>
                <a:moveTo>
                  <a:pt x="422" y="819"/>
                </a:moveTo>
                <a:moveTo>
                  <a:pt x="438" y="819"/>
                </a:moveTo>
                <a:moveTo>
                  <a:pt x="453" y="820"/>
                </a:moveTo>
                <a:moveTo>
                  <a:pt x="419" y="822"/>
                </a:moveTo>
                <a:moveTo>
                  <a:pt x="385" y="823"/>
                </a:moveTo>
                <a:moveTo>
                  <a:pt x="351" y="822"/>
                </a:moveTo>
                <a:moveTo>
                  <a:pt x="348" y="822"/>
                </a:moveTo>
                <a:moveTo>
                  <a:pt x="348" y="826"/>
                </a:moveTo>
                <a:moveTo>
                  <a:pt x="351" y="826"/>
                </a:moveTo>
                <a:moveTo>
                  <a:pt x="399" y="827"/>
                </a:moveTo>
                <a:moveTo>
                  <a:pt x="446" y="824"/>
                </a:moveTo>
                <a:moveTo>
                  <a:pt x="494" y="821"/>
                </a:moveTo>
                <a:moveTo>
                  <a:pt x="506" y="822"/>
                </a:moveTo>
                <a:moveTo>
                  <a:pt x="519" y="822"/>
                </a:moveTo>
                <a:moveTo>
                  <a:pt x="531" y="822"/>
                </a:moveTo>
                <a:moveTo>
                  <a:pt x="533" y="822"/>
                </a:moveTo>
                <a:moveTo>
                  <a:pt x="533" y="820"/>
                </a:moveTo>
                <a:moveTo>
                  <a:pt x="532" y="818"/>
                </a:moveTo>
                <a:moveTo>
                  <a:pt x="605" y="813"/>
                </a:moveTo>
                <a:moveTo>
                  <a:pt x="677" y="809"/>
                </a:moveTo>
                <a:moveTo>
                  <a:pt x="749" y="818"/>
                </a:moveTo>
                <a:moveTo>
                  <a:pt x="728" y="818"/>
                </a:moveTo>
                <a:moveTo>
                  <a:pt x="708" y="818"/>
                </a:moveTo>
                <a:moveTo>
                  <a:pt x="688" y="814"/>
                </a:moveTo>
                <a:moveTo>
                  <a:pt x="685" y="813"/>
                </a:moveTo>
                <a:moveTo>
                  <a:pt x="684" y="817"/>
                </a:moveTo>
                <a:moveTo>
                  <a:pt x="687" y="818"/>
                </a:moveTo>
                <a:moveTo>
                  <a:pt x="726" y="827"/>
                </a:moveTo>
                <a:moveTo>
                  <a:pt x="768" y="816"/>
                </a:moveTo>
                <a:moveTo>
                  <a:pt x="808" y="826"/>
                </a:moveTo>
                <a:moveTo>
                  <a:pt x="810" y="826"/>
                </a:moveTo>
                <a:moveTo>
                  <a:pt x="811" y="823"/>
                </a:moveTo>
                <a:moveTo>
                  <a:pt x="809" y="822"/>
                </a:moveTo>
                <a:moveTo>
                  <a:pt x="799" y="820"/>
                </a:moveTo>
                <a:moveTo>
                  <a:pt x="789" y="818"/>
                </a:moveTo>
                <a:moveTo>
                  <a:pt x="780" y="818"/>
                </a:moveTo>
                <a:moveTo>
                  <a:pt x="780" y="818"/>
                </a:moveTo>
                <a:moveTo>
                  <a:pt x="780" y="818"/>
                </a:moveTo>
                <a:moveTo>
                  <a:pt x="780" y="818"/>
                </a:moveTo>
                <a:moveTo>
                  <a:pt x="741" y="811"/>
                </a:moveTo>
                <a:moveTo>
                  <a:pt x="702" y="809"/>
                </a:moveTo>
                <a:moveTo>
                  <a:pt x="664" y="809"/>
                </a:moveTo>
                <a:moveTo>
                  <a:pt x="690" y="808"/>
                </a:moveTo>
                <a:moveTo>
                  <a:pt x="715" y="808"/>
                </a:moveTo>
                <a:moveTo>
                  <a:pt x="741" y="809"/>
                </a:moveTo>
                <a:moveTo>
                  <a:pt x="742" y="809"/>
                </a:moveTo>
                <a:moveTo>
                  <a:pt x="742" y="810"/>
                </a:moveTo>
                <a:moveTo>
                  <a:pt x="743" y="810"/>
                </a:moveTo>
                <a:moveTo>
                  <a:pt x="759" y="811"/>
                </a:moveTo>
                <a:moveTo>
                  <a:pt x="775" y="811"/>
                </a:moveTo>
                <a:moveTo>
                  <a:pt x="792" y="810"/>
                </a:moveTo>
                <a:moveTo>
                  <a:pt x="801" y="810"/>
                </a:moveTo>
                <a:moveTo>
                  <a:pt x="811" y="811"/>
                </a:moveTo>
                <a:moveTo>
                  <a:pt x="821" y="811"/>
                </a:moveTo>
                <a:moveTo>
                  <a:pt x="811" y="813"/>
                </a:moveTo>
                <a:moveTo>
                  <a:pt x="801" y="814"/>
                </a:moveTo>
                <a:moveTo>
                  <a:pt x="791" y="814"/>
                </a:moveTo>
                <a:moveTo>
                  <a:pt x="788" y="814"/>
                </a:moveTo>
                <a:moveTo>
                  <a:pt x="788" y="818"/>
                </a:moveTo>
                <a:moveTo>
                  <a:pt x="791" y="818"/>
                </a:moveTo>
                <a:moveTo>
                  <a:pt x="808" y="818"/>
                </a:moveTo>
                <a:moveTo>
                  <a:pt x="824" y="815"/>
                </a:moveTo>
                <a:moveTo>
                  <a:pt x="841" y="813"/>
                </a:moveTo>
                <a:moveTo>
                  <a:pt x="846" y="813"/>
                </a:moveTo>
                <a:moveTo>
                  <a:pt x="850" y="813"/>
                </a:moveTo>
                <a:moveTo>
                  <a:pt x="855" y="814"/>
                </a:moveTo>
                <a:moveTo>
                  <a:pt x="857" y="814"/>
                </a:moveTo>
                <a:moveTo>
                  <a:pt x="857" y="812"/>
                </a:moveTo>
                <a:moveTo>
                  <a:pt x="857" y="811"/>
                </a:moveTo>
                <a:moveTo>
                  <a:pt x="863" y="810"/>
                </a:moveTo>
                <a:moveTo>
                  <a:pt x="869" y="810"/>
                </a:moveTo>
                <a:moveTo>
                  <a:pt x="875" y="810"/>
                </a:moveTo>
                <a:moveTo>
                  <a:pt x="878" y="810"/>
                </a:moveTo>
                <a:moveTo>
                  <a:pt x="878" y="806"/>
                </a:moveTo>
                <a:moveTo>
                  <a:pt x="875" y="806"/>
                </a:moveTo>
                <a:moveTo>
                  <a:pt x="864" y="806"/>
                </a:moveTo>
                <a:moveTo>
                  <a:pt x="852" y="807"/>
                </a:moveTo>
                <a:moveTo>
                  <a:pt x="841" y="809"/>
                </a:moveTo>
                <a:moveTo>
                  <a:pt x="835" y="808"/>
                </a:moveTo>
                <a:moveTo>
                  <a:pt x="830" y="808"/>
                </a:moveTo>
                <a:moveTo>
                  <a:pt x="824" y="808"/>
                </a:moveTo>
                <a:moveTo>
                  <a:pt x="857" y="805"/>
                </a:moveTo>
                <a:moveTo>
                  <a:pt x="890" y="800"/>
                </a:moveTo>
                <a:moveTo>
                  <a:pt x="923" y="798"/>
                </a:moveTo>
                <a:moveTo>
                  <a:pt x="926" y="798"/>
                </a:moveTo>
                <a:moveTo>
                  <a:pt x="926" y="794"/>
                </a:moveTo>
                <a:moveTo>
                  <a:pt x="923" y="794"/>
                </a:moveTo>
                <a:moveTo>
                  <a:pt x="914" y="794"/>
                </a:moveTo>
                <a:moveTo>
                  <a:pt x="906" y="795"/>
                </a:moveTo>
                <a:moveTo>
                  <a:pt x="897" y="796"/>
                </a:moveTo>
                <a:moveTo>
                  <a:pt x="897" y="795"/>
                </a:moveTo>
                <a:moveTo>
                  <a:pt x="897" y="794"/>
                </a:moveTo>
                <a:moveTo>
                  <a:pt x="896" y="794"/>
                </a:moveTo>
                <a:moveTo>
                  <a:pt x="869" y="787"/>
                </a:moveTo>
                <a:moveTo>
                  <a:pt x="842" y="783"/>
                </a:moveTo>
                <a:moveTo>
                  <a:pt x="814" y="781"/>
                </a:moveTo>
                <a:moveTo>
                  <a:pt x="819" y="780"/>
                </a:moveTo>
                <a:moveTo>
                  <a:pt x="824" y="780"/>
                </a:moveTo>
                <a:moveTo>
                  <a:pt x="829" y="779"/>
                </a:moveTo>
                <a:moveTo>
                  <a:pt x="855" y="781"/>
                </a:moveTo>
                <a:moveTo>
                  <a:pt x="881" y="783"/>
                </a:moveTo>
                <a:moveTo>
                  <a:pt x="907" y="786"/>
                </a:moveTo>
                <a:moveTo>
                  <a:pt x="910" y="786"/>
                </a:moveTo>
                <a:moveTo>
                  <a:pt x="910" y="782"/>
                </a:moveTo>
                <a:moveTo>
                  <a:pt x="907" y="782"/>
                </a:moveTo>
                <a:moveTo>
                  <a:pt x="894" y="780"/>
                </a:moveTo>
                <a:moveTo>
                  <a:pt x="880" y="779"/>
                </a:moveTo>
                <a:moveTo>
                  <a:pt x="866" y="778"/>
                </a:moveTo>
                <a:moveTo>
                  <a:pt x="888" y="778"/>
                </a:moveTo>
                <a:moveTo>
                  <a:pt x="911" y="780"/>
                </a:moveTo>
                <a:moveTo>
                  <a:pt x="930" y="790"/>
                </a:moveTo>
                <a:moveTo>
                  <a:pt x="932" y="791"/>
                </a:moveTo>
                <a:moveTo>
                  <a:pt x="934" y="787"/>
                </a:moveTo>
                <a:moveTo>
                  <a:pt x="932" y="786"/>
                </a:moveTo>
                <a:moveTo>
                  <a:pt x="922" y="781"/>
                </a:moveTo>
                <a:moveTo>
                  <a:pt x="912" y="778"/>
                </a:moveTo>
                <a:moveTo>
                  <a:pt x="901" y="777"/>
                </a:moveTo>
                <a:moveTo>
                  <a:pt x="901" y="775"/>
                </a:moveTo>
                <a:moveTo>
                  <a:pt x="901" y="774"/>
                </a:moveTo>
                <a:moveTo>
                  <a:pt x="900" y="774"/>
                </a:moveTo>
                <a:moveTo>
                  <a:pt x="846" y="766"/>
                </a:moveTo>
                <a:moveTo>
                  <a:pt x="793" y="770"/>
                </a:moveTo>
                <a:moveTo>
                  <a:pt x="739" y="770"/>
                </a:moveTo>
                <a:moveTo>
                  <a:pt x="736" y="770"/>
                </a:moveTo>
                <a:moveTo>
                  <a:pt x="736" y="774"/>
                </a:moveTo>
                <a:moveTo>
                  <a:pt x="739" y="774"/>
                </a:moveTo>
                <a:moveTo>
                  <a:pt x="780" y="774"/>
                </a:moveTo>
                <a:moveTo>
                  <a:pt x="821" y="772"/>
                </a:moveTo>
                <a:moveTo>
                  <a:pt x="861" y="774"/>
                </a:moveTo>
                <a:moveTo>
                  <a:pt x="855" y="774"/>
                </a:moveTo>
                <a:moveTo>
                  <a:pt x="849" y="774"/>
                </a:moveTo>
                <a:moveTo>
                  <a:pt x="843" y="775"/>
                </a:moveTo>
                <a:moveTo>
                  <a:pt x="838" y="775"/>
                </a:moveTo>
                <a:moveTo>
                  <a:pt x="833" y="775"/>
                </a:moveTo>
                <a:moveTo>
                  <a:pt x="829" y="775"/>
                </a:moveTo>
                <a:moveTo>
                  <a:pt x="787" y="774"/>
                </a:moveTo>
                <a:moveTo>
                  <a:pt x="745" y="774"/>
                </a:moveTo>
                <a:moveTo>
                  <a:pt x="703" y="776"/>
                </a:moveTo>
                <a:moveTo>
                  <a:pt x="653" y="775"/>
                </a:moveTo>
                <a:moveTo>
                  <a:pt x="603" y="777"/>
                </a:moveTo>
                <a:moveTo>
                  <a:pt x="553" y="778"/>
                </a:moveTo>
                <a:moveTo>
                  <a:pt x="511" y="775"/>
                </a:moveTo>
                <a:moveTo>
                  <a:pt x="469" y="771"/>
                </a:moveTo>
                <a:moveTo>
                  <a:pt x="427" y="770"/>
                </a:moveTo>
                <a:moveTo>
                  <a:pt x="428" y="770"/>
                </a:moveTo>
                <a:moveTo>
                  <a:pt x="428" y="770"/>
                </a:moveTo>
                <a:moveTo>
                  <a:pt x="428" y="770"/>
                </a:moveTo>
                <a:moveTo>
                  <a:pt x="435" y="770"/>
                </a:moveTo>
                <a:moveTo>
                  <a:pt x="443" y="770"/>
                </a:moveTo>
                <a:moveTo>
                  <a:pt x="451" y="770"/>
                </a:moveTo>
                <a:moveTo>
                  <a:pt x="451" y="770"/>
                </a:moveTo>
                <a:moveTo>
                  <a:pt x="452" y="770"/>
                </a:moveTo>
                <a:moveTo>
                  <a:pt x="452" y="770"/>
                </a:moveTo>
                <a:moveTo>
                  <a:pt x="461" y="770"/>
                </a:moveTo>
                <a:moveTo>
                  <a:pt x="470" y="770"/>
                </a:moveTo>
                <a:moveTo>
                  <a:pt x="479" y="770"/>
                </a:moveTo>
                <a:moveTo>
                  <a:pt x="482" y="770"/>
                </a:moveTo>
                <a:moveTo>
                  <a:pt x="482" y="766"/>
                </a:moveTo>
                <a:moveTo>
                  <a:pt x="479" y="766"/>
                </a:moveTo>
                <a:moveTo>
                  <a:pt x="461" y="766"/>
                </a:moveTo>
                <a:moveTo>
                  <a:pt x="443" y="765"/>
                </a:moveTo>
                <a:moveTo>
                  <a:pt x="425" y="765"/>
                </a:moveTo>
                <a:moveTo>
                  <a:pt x="421" y="764"/>
                </a:moveTo>
                <a:moveTo>
                  <a:pt x="417" y="763"/>
                </a:moveTo>
                <a:moveTo>
                  <a:pt x="413" y="762"/>
                </a:moveTo>
                <a:moveTo>
                  <a:pt x="422" y="761"/>
                </a:moveTo>
                <a:moveTo>
                  <a:pt x="432" y="761"/>
                </a:moveTo>
                <a:moveTo>
                  <a:pt x="441" y="760"/>
                </a:moveTo>
                <a:moveTo>
                  <a:pt x="441" y="760"/>
                </a:moveTo>
                <a:moveTo>
                  <a:pt x="441" y="760"/>
                </a:moveTo>
                <a:moveTo>
                  <a:pt x="441" y="760"/>
                </a:moveTo>
                <a:moveTo>
                  <a:pt x="441" y="761"/>
                </a:moveTo>
                <a:moveTo>
                  <a:pt x="442" y="762"/>
                </a:moveTo>
                <a:moveTo>
                  <a:pt x="443" y="762"/>
                </a:moveTo>
                <a:moveTo>
                  <a:pt x="520" y="766"/>
                </a:moveTo>
                <a:moveTo>
                  <a:pt x="598" y="758"/>
                </a:moveTo>
                <a:moveTo>
                  <a:pt x="675" y="762"/>
                </a:moveTo>
                <a:moveTo>
                  <a:pt x="678" y="762"/>
                </a:moveTo>
                <a:moveTo>
                  <a:pt x="678" y="758"/>
                </a:moveTo>
                <a:moveTo>
                  <a:pt x="675" y="758"/>
                </a:moveTo>
                <a:moveTo>
                  <a:pt x="664" y="757"/>
                </a:moveTo>
                <a:moveTo>
                  <a:pt x="653" y="757"/>
                </a:moveTo>
                <a:moveTo>
                  <a:pt x="642" y="757"/>
                </a:moveTo>
                <a:moveTo>
                  <a:pt x="664" y="754"/>
                </a:moveTo>
                <a:moveTo>
                  <a:pt x="685" y="754"/>
                </a:moveTo>
                <a:moveTo>
                  <a:pt x="707" y="758"/>
                </a:moveTo>
                <a:moveTo>
                  <a:pt x="703" y="758"/>
                </a:moveTo>
                <a:moveTo>
                  <a:pt x="699" y="758"/>
                </a:moveTo>
                <a:moveTo>
                  <a:pt x="695" y="758"/>
                </a:moveTo>
                <a:moveTo>
                  <a:pt x="692" y="758"/>
                </a:moveTo>
                <a:moveTo>
                  <a:pt x="692" y="762"/>
                </a:moveTo>
                <a:moveTo>
                  <a:pt x="695" y="762"/>
                </a:moveTo>
                <a:moveTo>
                  <a:pt x="789" y="762"/>
                </a:moveTo>
                <a:moveTo>
                  <a:pt x="885" y="753"/>
                </a:moveTo>
                <a:moveTo>
                  <a:pt x="979" y="770"/>
                </a:moveTo>
                <a:moveTo>
                  <a:pt x="981" y="770"/>
                </a:moveTo>
                <a:moveTo>
                  <a:pt x="982" y="766"/>
                </a:moveTo>
                <a:moveTo>
                  <a:pt x="980" y="766"/>
                </a:moveTo>
                <a:moveTo>
                  <a:pt x="955" y="761"/>
                </a:moveTo>
                <a:moveTo>
                  <a:pt x="930" y="759"/>
                </a:moveTo>
                <a:moveTo>
                  <a:pt x="905" y="757"/>
                </a:moveTo>
                <a:moveTo>
                  <a:pt x="905" y="756"/>
                </a:moveTo>
                <a:moveTo>
                  <a:pt x="905" y="754"/>
                </a:moveTo>
                <a:moveTo>
                  <a:pt x="903" y="754"/>
                </a:moveTo>
                <a:moveTo>
                  <a:pt x="876" y="750"/>
                </a:moveTo>
                <a:moveTo>
                  <a:pt x="848" y="748"/>
                </a:moveTo>
                <a:moveTo>
                  <a:pt x="820" y="747"/>
                </a:moveTo>
                <a:moveTo>
                  <a:pt x="820" y="746"/>
                </a:moveTo>
                <a:moveTo>
                  <a:pt x="820" y="746"/>
                </a:moveTo>
                <a:moveTo>
                  <a:pt x="819" y="746"/>
                </a:moveTo>
                <a:moveTo>
                  <a:pt x="811" y="745"/>
                </a:moveTo>
                <a:moveTo>
                  <a:pt x="802" y="744"/>
                </a:moveTo>
                <a:moveTo>
                  <a:pt x="793" y="743"/>
                </a:moveTo>
                <a:moveTo>
                  <a:pt x="793" y="742"/>
                </a:moveTo>
                <a:moveTo>
                  <a:pt x="793" y="741"/>
                </a:moveTo>
                <a:moveTo>
                  <a:pt x="793" y="740"/>
                </a:moveTo>
                <a:moveTo>
                  <a:pt x="801" y="740"/>
                </a:moveTo>
                <a:moveTo>
                  <a:pt x="809" y="741"/>
                </a:moveTo>
                <a:moveTo>
                  <a:pt x="817" y="741"/>
                </a:moveTo>
                <a:moveTo>
                  <a:pt x="823" y="742"/>
                </a:moveTo>
                <a:moveTo>
                  <a:pt x="829" y="743"/>
                </a:moveTo>
                <a:moveTo>
                  <a:pt x="835" y="743"/>
                </a:moveTo>
                <a:moveTo>
                  <a:pt x="853" y="745"/>
                </a:moveTo>
                <a:moveTo>
                  <a:pt x="872" y="746"/>
                </a:moveTo>
                <a:moveTo>
                  <a:pt x="890" y="747"/>
                </a:moveTo>
                <a:moveTo>
                  <a:pt x="900" y="748"/>
                </a:moveTo>
                <a:moveTo>
                  <a:pt x="911" y="748"/>
                </a:moveTo>
                <a:moveTo>
                  <a:pt x="921" y="749"/>
                </a:moveTo>
                <a:moveTo>
                  <a:pt x="923" y="749"/>
                </a:moveTo>
                <a:moveTo>
                  <a:pt x="926" y="749"/>
                </a:moveTo>
                <a:moveTo>
                  <a:pt x="928" y="749"/>
                </a:moveTo>
                <a:moveTo>
                  <a:pt x="935" y="751"/>
                </a:moveTo>
                <a:moveTo>
                  <a:pt x="943" y="754"/>
                </a:moveTo>
                <a:moveTo>
                  <a:pt x="949" y="758"/>
                </a:moveTo>
                <a:moveTo>
                  <a:pt x="950" y="758"/>
                </a:moveTo>
                <a:moveTo>
                  <a:pt x="951" y="757"/>
                </a:moveTo>
                <a:moveTo>
                  <a:pt x="950" y="757"/>
                </a:moveTo>
                <a:moveTo>
                  <a:pt x="944" y="754"/>
                </a:moveTo>
                <a:moveTo>
                  <a:pt x="938" y="751"/>
                </a:moveTo>
                <a:moveTo>
                  <a:pt x="932" y="749"/>
                </a:moveTo>
                <a:moveTo>
                  <a:pt x="934" y="749"/>
                </a:moveTo>
                <a:moveTo>
                  <a:pt x="937" y="749"/>
                </a:moveTo>
                <a:moveTo>
                  <a:pt x="939" y="749"/>
                </a:moveTo>
                <a:moveTo>
                  <a:pt x="942" y="749"/>
                </a:moveTo>
                <a:moveTo>
                  <a:pt x="945" y="750"/>
                </a:moveTo>
                <a:moveTo>
                  <a:pt x="948" y="750"/>
                </a:moveTo>
                <a:moveTo>
                  <a:pt x="949" y="750"/>
                </a:moveTo>
                <a:moveTo>
                  <a:pt x="950" y="750"/>
                </a:moveTo>
                <a:moveTo>
                  <a:pt x="951" y="750"/>
                </a:moveTo>
                <a:moveTo>
                  <a:pt x="951" y="750"/>
                </a:moveTo>
                <a:moveTo>
                  <a:pt x="952" y="750"/>
                </a:moveTo>
                <a:moveTo>
                  <a:pt x="952" y="750"/>
                </a:moveTo>
                <a:moveTo>
                  <a:pt x="953" y="751"/>
                </a:moveTo>
                <a:moveTo>
                  <a:pt x="953" y="751"/>
                </a:moveTo>
                <a:moveTo>
                  <a:pt x="954" y="751"/>
                </a:moveTo>
                <a:moveTo>
                  <a:pt x="955" y="751"/>
                </a:moveTo>
                <a:moveTo>
                  <a:pt x="955" y="751"/>
                </a:moveTo>
                <a:moveTo>
                  <a:pt x="956" y="750"/>
                </a:moveTo>
                <a:moveTo>
                  <a:pt x="956" y="750"/>
                </a:moveTo>
                <a:moveTo>
                  <a:pt x="956" y="749"/>
                </a:moveTo>
                <a:moveTo>
                  <a:pt x="956" y="749"/>
                </a:moveTo>
                <a:moveTo>
                  <a:pt x="963" y="750"/>
                </a:moveTo>
                <a:moveTo>
                  <a:pt x="969" y="750"/>
                </a:moveTo>
                <a:moveTo>
                  <a:pt x="975" y="751"/>
                </a:moveTo>
                <a:moveTo>
                  <a:pt x="976" y="751"/>
                </a:moveTo>
                <a:moveTo>
                  <a:pt x="976" y="749"/>
                </a:moveTo>
                <a:moveTo>
                  <a:pt x="975" y="749"/>
                </a:moveTo>
                <a:moveTo>
                  <a:pt x="970" y="748"/>
                </a:moveTo>
                <a:moveTo>
                  <a:pt x="964" y="748"/>
                </a:moveTo>
                <a:moveTo>
                  <a:pt x="959" y="747"/>
                </a:moveTo>
                <a:moveTo>
                  <a:pt x="959" y="747"/>
                </a:moveTo>
                <a:moveTo>
                  <a:pt x="960" y="747"/>
                </a:moveTo>
                <a:moveTo>
                  <a:pt x="960" y="747"/>
                </a:moveTo>
                <a:moveTo>
                  <a:pt x="959" y="746"/>
                </a:moveTo>
                <a:moveTo>
                  <a:pt x="959" y="746"/>
                </a:moveTo>
                <a:moveTo>
                  <a:pt x="959" y="745"/>
                </a:moveTo>
                <a:moveTo>
                  <a:pt x="961" y="745"/>
                </a:moveTo>
                <a:moveTo>
                  <a:pt x="962" y="746"/>
                </a:moveTo>
                <a:moveTo>
                  <a:pt x="964" y="746"/>
                </a:moveTo>
                <a:moveTo>
                  <a:pt x="966" y="746"/>
                </a:moveTo>
                <a:moveTo>
                  <a:pt x="967" y="742"/>
                </a:moveTo>
                <a:moveTo>
                  <a:pt x="965" y="742"/>
                </a:moveTo>
                <a:moveTo>
                  <a:pt x="963" y="742"/>
                </a:moveTo>
                <a:moveTo>
                  <a:pt x="961" y="741"/>
                </a:moveTo>
                <a:moveTo>
                  <a:pt x="959" y="741"/>
                </a:moveTo>
                <a:moveTo>
                  <a:pt x="958" y="734"/>
                </a:moveTo>
                <a:moveTo>
                  <a:pt x="958" y="727"/>
                </a:moveTo>
                <a:moveTo>
                  <a:pt x="958" y="720"/>
                </a:moveTo>
                <a:moveTo>
                  <a:pt x="958" y="715"/>
                </a:moveTo>
                <a:moveTo>
                  <a:pt x="959" y="710"/>
                </a:moveTo>
                <a:moveTo>
                  <a:pt x="960" y="705"/>
                </a:moveTo>
                <a:moveTo>
                  <a:pt x="960" y="704"/>
                </a:moveTo>
                <a:moveTo>
                  <a:pt x="961" y="702"/>
                </a:moveTo>
                <a:moveTo>
                  <a:pt x="961" y="701"/>
                </a:moveTo>
                <a:moveTo>
                  <a:pt x="961" y="701"/>
                </a:moveTo>
                <a:moveTo>
                  <a:pt x="961" y="702"/>
                </a:moveTo>
                <a:moveTo>
                  <a:pt x="961" y="703"/>
                </a:moveTo>
                <a:moveTo>
                  <a:pt x="961" y="703"/>
                </a:moveTo>
                <a:moveTo>
                  <a:pt x="962" y="703"/>
                </a:moveTo>
                <a:moveTo>
                  <a:pt x="962" y="703"/>
                </a:moveTo>
                <a:moveTo>
                  <a:pt x="962" y="702"/>
                </a:moveTo>
                <a:moveTo>
                  <a:pt x="962" y="701"/>
                </a:moveTo>
                <a:moveTo>
                  <a:pt x="962" y="700"/>
                </a:moveTo>
                <a:moveTo>
                  <a:pt x="962" y="699"/>
                </a:moveTo>
                <a:moveTo>
                  <a:pt x="961" y="699"/>
                </a:moveTo>
                <a:moveTo>
                  <a:pt x="961" y="700"/>
                </a:moveTo>
                <a:moveTo>
                  <a:pt x="957" y="713"/>
                </a:moveTo>
                <a:moveTo>
                  <a:pt x="956" y="727"/>
                </a:moveTo>
                <a:moveTo>
                  <a:pt x="958" y="741"/>
                </a:moveTo>
                <a:moveTo>
                  <a:pt x="953" y="740"/>
                </a:moveTo>
                <a:moveTo>
                  <a:pt x="949" y="740"/>
                </a:moveTo>
                <a:moveTo>
                  <a:pt x="945" y="739"/>
                </a:moveTo>
                <a:moveTo>
                  <a:pt x="944" y="728"/>
                </a:moveTo>
                <a:moveTo>
                  <a:pt x="944" y="714"/>
                </a:moveTo>
                <a:moveTo>
                  <a:pt x="947" y="704"/>
                </a:moveTo>
                <a:moveTo>
                  <a:pt x="947" y="703"/>
                </a:moveTo>
                <a:moveTo>
                  <a:pt x="946" y="703"/>
                </a:moveTo>
                <a:moveTo>
                  <a:pt x="946" y="704"/>
                </a:moveTo>
                <a:moveTo>
                  <a:pt x="944" y="709"/>
                </a:moveTo>
                <a:moveTo>
                  <a:pt x="944" y="715"/>
                </a:moveTo>
                <a:moveTo>
                  <a:pt x="944" y="721"/>
                </a:moveTo>
                <a:moveTo>
                  <a:pt x="944" y="727"/>
                </a:moveTo>
                <a:moveTo>
                  <a:pt x="943" y="733"/>
                </a:moveTo>
                <a:moveTo>
                  <a:pt x="944" y="739"/>
                </a:moveTo>
                <a:moveTo>
                  <a:pt x="943" y="739"/>
                </a:moveTo>
                <a:moveTo>
                  <a:pt x="941" y="739"/>
                </a:moveTo>
                <a:moveTo>
                  <a:pt x="940" y="739"/>
                </a:moveTo>
                <a:moveTo>
                  <a:pt x="940" y="739"/>
                </a:moveTo>
                <a:moveTo>
                  <a:pt x="940" y="739"/>
                </a:moveTo>
                <a:moveTo>
                  <a:pt x="940" y="739"/>
                </a:moveTo>
                <a:moveTo>
                  <a:pt x="939" y="727"/>
                </a:moveTo>
                <a:moveTo>
                  <a:pt x="939" y="715"/>
                </a:moveTo>
                <a:moveTo>
                  <a:pt x="942" y="704"/>
                </a:moveTo>
                <a:moveTo>
                  <a:pt x="942" y="703"/>
                </a:moveTo>
                <a:moveTo>
                  <a:pt x="941" y="703"/>
                </a:moveTo>
                <a:moveTo>
                  <a:pt x="941" y="704"/>
                </a:moveTo>
                <a:moveTo>
                  <a:pt x="938" y="715"/>
                </a:moveTo>
                <a:moveTo>
                  <a:pt x="938" y="727"/>
                </a:moveTo>
                <a:moveTo>
                  <a:pt x="939" y="739"/>
                </a:moveTo>
                <a:moveTo>
                  <a:pt x="937" y="739"/>
                </a:moveTo>
                <a:moveTo>
                  <a:pt x="935" y="738"/>
                </a:moveTo>
                <a:moveTo>
                  <a:pt x="934" y="738"/>
                </a:moveTo>
                <a:moveTo>
                  <a:pt x="933" y="733"/>
                </a:moveTo>
                <a:moveTo>
                  <a:pt x="933" y="727"/>
                </a:moveTo>
                <a:moveTo>
                  <a:pt x="934" y="721"/>
                </a:moveTo>
                <a:moveTo>
                  <a:pt x="934" y="718"/>
                </a:moveTo>
                <a:moveTo>
                  <a:pt x="935" y="714"/>
                </a:moveTo>
                <a:moveTo>
                  <a:pt x="935" y="710"/>
                </a:moveTo>
                <a:moveTo>
                  <a:pt x="935" y="710"/>
                </a:moveTo>
                <a:moveTo>
                  <a:pt x="936" y="710"/>
                </a:moveTo>
                <a:moveTo>
                  <a:pt x="936" y="710"/>
                </a:moveTo>
                <a:moveTo>
                  <a:pt x="936" y="708"/>
                </a:moveTo>
                <a:moveTo>
                  <a:pt x="936" y="706"/>
                </a:moveTo>
                <a:moveTo>
                  <a:pt x="936" y="705"/>
                </a:moveTo>
                <a:moveTo>
                  <a:pt x="936" y="704"/>
                </a:moveTo>
                <a:moveTo>
                  <a:pt x="935" y="704"/>
                </a:moveTo>
                <a:moveTo>
                  <a:pt x="935" y="705"/>
                </a:moveTo>
                <a:moveTo>
                  <a:pt x="934" y="716"/>
                </a:moveTo>
                <a:moveTo>
                  <a:pt x="931" y="727"/>
                </a:moveTo>
                <a:moveTo>
                  <a:pt x="933" y="738"/>
                </a:moveTo>
                <a:moveTo>
                  <a:pt x="931" y="738"/>
                </a:moveTo>
                <a:moveTo>
                  <a:pt x="929" y="738"/>
                </a:moveTo>
                <a:moveTo>
                  <a:pt x="927" y="738"/>
                </a:moveTo>
                <a:moveTo>
                  <a:pt x="927" y="736"/>
                </a:moveTo>
                <a:moveTo>
                  <a:pt x="927" y="734"/>
                </a:moveTo>
                <a:moveTo>
                  <a:pt x="926" y="732"/>
                </a:moveTo>
                <a:moveTo>
                  <a:pt x="927" y="732"/>
                </a:moveTo>
                <a:moveTo>
                  <a:pt x="928" y="732"/>
                </a:moveTo>
                <a:moveTo>
                  <a:pt x="928" y="732"/>
                </a:moveTo>
                <a:moveTo>
                  <a:pt x="929" y="732"/>
                </a:moveTo>
                <a:moveTo>
                  <a:pt x="929" y="731"/>
                </a:moveTo>
                <a:moveTo>
                  <a:pt x="928" y="731"/>
                </a:moveTo>
                <a:moveTo>
                  <a:pt x="928" y="731"/>
                </a:moveTo>
                <a:moveTo>
                  <a:pt x="927" y="731"/>
                </a:moveTo>
                <a:moveTo>
                  <a:pt x="926" y="731"/>
                </a:moveTo>
                <a:moveTo>
                  <a:pt x="926" y="723"/>
                </a:moveTo>
                <a:moveTo>
                  <a:pt x="927" y="715"/>
                </a:moveTo>
                <a:moveTo>
                  <a:pt x="929" y="707"/>
                </a:moveTo>
                <a:moveTo>
                  <a:pt x="929" y="706"/>
                </a:moveTo>
                <a:moveTo>
                  <a:pt x="928" y="706"/>
                </a:moveTo>
                <a:moveTo>
                  <a:pt x="928" y="707"/>
                </a:moveTo>
                <a:moveTo>
                  <a:pt x="926" y="714"/>
                </a:moveTo>
                <a:moveTo>
                  <a:pt x="925" y="723"/>
                </a:moveTo>
                <a:moveTo>
                  <a:pt x="925" y="731"/>
                </a:moveTo>
                <a:moveTo>
                  <a:pt x="923" y="731"/>
                </a:moveTo>
                <a:moveTo>
                  <a:pt x="921" y="731"/>
                </a:moveTo>
                <a:moveTo>
                  <a:pt x="919" y="731"/>
                </a:moveTo>
                <a:moveTo>
                  <a:pt x="918" y="723"/>
                </a:moveTo>
                <a:moveTo>
                  <a:pt x="919" y="715"/>
                </a:moveTo>
                <a:moveTo>
                  <a:pt x="920" y="708"/>
                </a:moveTo>
                <a:moveTo>
                  <a:pt x="920" y="707"/>
                </a:moveTo>
                <a:moveTo>
                  <a:pt x="919" y="707"/>
                </a:moveTo>
                <a:moveTo>
                  <a:pt x="919" y="708"/>
                </a:moveTo>
                <a:moveTo>
                  <a:pt x="918" y="715"/>
                </a:moveTo>
                <a:moveTo>
                  <a:pt x="917" y="723"/>
                </a:moveTo>
                <a:moveTo>
                  <a:pt x="918" y="730"/>
                </a:moveTo>
                <a:moveTo>
                  <a:pt x="915" y="730"/>
                </a:moveTo>
                <a:moveTo>
                  <a:pt x="912" y="730"/>
                </a:moveTo>
                <a:moveTo>
                  <a:pt x="910" y="730"/>
                </a:moveTo>
                <a:moveTo>
                  <a:pt x="910" y="724"/>
                </a:moveTo>
                <a:moveTo>
                  <a:pt x="911" y="719"/>
                </a:moveTo>
                <a:moveTo>
                  <a:pt x="913" y="713"/>
                </a:moveTo>
                <a:moveTo>
                  <a:pt x="913" y="712"/>
                </a:moveTo>
                <a:moveTo>
                  <a:pt x="912" y="712"/>
                </a:moveTo>
                <a:moveTo>
                  <a:pt x="912" y="713"/>
                </a:moveTo>
                <a:moveTo>
                  <a:pt x="910" y="718"/>
                </a:moveTo>
                <a:moveTo>
                  <a:pt x="909" y="724"/>
                </a:moveTo>
                <a:moveTo>
                  <a:pt x="909" y="730"/>
                </a:moveTo>
                <a:moveTo>
                  <a:pt x="907" y="730"/>
                </a:moveTo>
                <a:moveTo>
                  <a:pt x="905" y="730"/>
                </a:moveTo>
                <a:moveTo>
                  <a:pt x="902" y="730"/>
                </a:moveTo>
                <a:moveTo>
                  <a:pt x="902" y="723"/>
                </a:moveTo>
                <a:moveTo>
                  <a:pt x="903" y="716"/>
                </a:moveTo>
                <a:moveTo>
                  <a:pt x="903" y="710"/>
                </a:moveTo>
                <a:moveTo>
                  <a:pt x="903" y="709"/>
                </a:moveTo>
                <a:moveTo>
                  <a:pt x="902" y="709"/>
                </a:moveTo>
                <a:moveTo>
                  <a:pt x="902" y="710"/>
                </a:moveTo>
                <a:moveTo>
                  <a:pt x="902" y="716"/>
                </a:moveTo>
                <a:moveTo>
                  <a:pt x="901" y="723"/>
                </a:moveTo>
                <a:moveTo>
                  <a:pt x="901" y="730"/>
                </a:moveTo>
                <a:moveTo>
                  <a:pt x="899" y="730"/>
                </a:moveTo>
                <a:moveTo>
                  <a:pt x="896" y="729"/>
                </a:moveTo>
                <a:moveTo>
                  <a:pt x="893" y="729"/>
                </a:moveTo>
                <a:moveTo>
                  <a:pt x="893" y="726"/>
                </a:moveTo>
                <a:moveTo>
                  <a:pt x="893" y="723"/>
                </a:moveTo>
                <a:moveTo>
                  <a:pt x="893" y="720"/>
                </a:moveTo>
                <a:moveTo>
                  <a:pt x="893" y="717"/>
                </a:moveTo>
                <a:moveTo>
                  <a:pt x="894" y="714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5" y="711"/>
                </a:moveTo>
                <a:moveTo>
                  <a:pt x="895" y="711"/>
                </a:moveTo>
                <a:moveTo>
                  <a:pt x="895" y="710"/>
                </a:moveTo>
                <a:moveTo>
                  <a:pt x="895" y="708"/>
                </a:moveTo>
                <a:moveTo>
                  <a:pt x="896" y="707"/>
                </a:moveTo>
                <a:moveTo>
                  <a:pt x="896" y="706"/>
                </a:moveTo>
                <a:moveTo>
                  <a:pt x="895" y="706"/>
                </a:moveTo>
                <a:moveTo>
                  <a:pt x="895" y="707"/>
                </a:moveTo>
                <a:moveTo>
                  <a:pt x="894" y="708"/>
                </a:moveTo>
                <a:moveTo>
                  <a:pt x="894" y="708"/>
                </a:moveTo>
                <a:moveTo>
                  <a:pt x="894" y="709"/>
                </a:moveTo>
                <a:moveTo>
                  <a:pt x="894" y="710"/>
                </a:moveTo>
                <a:moveTo>
                  <a:pt x="894" y="710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2" y="717"/>
                </a:moveTo>
                <a:moveTo>
                  <a:pt x="892" y="723"/>
                </a:moveTo>
                <a:moveTo>
                  <a:pt x="892" y="729"/>
                </a:moveTo>
                <a:moveTo>
                  <a:pt x="890" y="729"/>
                </a:moveTo>
                <a:moveTo>
                  <a:pt x="888" y="729"/>
                </a:moveTo>
                <a:moveTo>
                  <a:pt x="886" y="729"/>
                </a:moveTo>
                <a:moveTo>
                  <a:pt x="886" y="722"/>
                </a:moveTo>
                <a:moveTo>
                  <a:pt x="887" y="716"/>
                </a:moveTo>
                <a:moveTo>
                  <a:pt x="887" y="709"/>
                </a:moveTo>
                <a:moveTo>
                  <a:pt x="887" y="708"/>
                </a:moveTo>
                <a:moveTo>
                  <a:pt x="886" y="708"/>
                </a:moveTo>
                <a:moveTo>
                  <a:pt x="886" y="709"/>
                </a:moveTo>
                <a:moveTo>
                  <a:pt x="886" y="716"/>
                </a:moveTo>
                <a:moveTo>
                  <a:pt x="885" y="722"/>
                </a:moveTo>
                <a:moveTo>
                  <a:pt x="885" y="729"/>
                </a:moveTo>
                <a:moveTo>
                  <a:pt x="884" y="729"/>
                </a:moveTo>
                <a:moveTo>
                  <a:pt x="883" y="729"/>
                </a:moveTo>
                <a:moveTo>
                  <a:pt x="881" y="729"/>
                </a:moveTo>
                <a:moveTo>
                  <a:pt x="881" y="723"/>
                </a:moveTo>
                <a:moveTo>
                  <a:pt x="881" y="716"/>
                </a:moveTo>
                <a:moveTo>
                  <a:pt x="881" y="710"/>
                </a:moveTo>
                <a:moveTo>
                  <a:pt x="881" y="709"/>
                </a:moveTo>
                <a:moveTo>
                  <a:pt x="880" y="709"/>
                </a:moveTo>
                <a:moveTo>
                  <a:pt x="880" y="710"/>
                </a:moveTo>
                <a:moveTo>
                  <a:pt x="880" y="716"/>
                </a:moveTo>
                <a:moveTo>
                  <a:pt x="880" y="723"/>
                </a:moveTo>
                <a:moveTo>
                  <a:pt x="880" y="729"/>
                </a:moveTo>
                <a:moveTo>
                  <a:pt x="877" y="729"/>
                </a:moveTo>
                <a:moveTo>
                  <a:pt x="874" y="729"/>
                </a:moveTo>
                <a:moveTo>
                  <a:pt x="871" y="729"/>
                </a:moveTo>
                <a:moveTo>
                  <a:pt x="871" y="725"/>
                </a:moveTo>
                <a:moveTo>
                  <a:pt x="871" y="721"/>
                </a:moveTo>
                <a:moveTo>
                  <a:pt x="871" y="718"/>
                </a:moveTo>
                <a:moveTo>
                  <a:pt x="872" y="718"/>
                </a:moveTo>
                <a:moveTo>
                  <a:pt x="872" y="718"/>
                </a:moveTo>
                <a:moveTo>
                  <a:pt x="872" y="718"/>
                </a:moveTo>
                <a:moveTo>
                  <a:pt x="873" y="718"/>
                </a:moveTo>
                <a:moveTo>
                  <a:pt x="873" y="717"/>
                </a:moveTo>
                <a:moveTo>
                  <a:pt x="873" y="717"/>
                </a:moveTo>
                <a:moveTo>
                  <a:pt x="872" y="717"/>
                </a:moveTo>
                <a:moveTo>
                  <a:pt x="872" y="717"/>
                </a:moveTo>
                <a:moveTo>
                  <a:pt x="871" y="717"/>
                </a:moveTo>
                <a:moveTo>
                  <a:pt x="872" y="710"/>
                </a:moveTo>
                <a:moveTo>
                  <a:pt x="872" y="703"/>
                </a:moveTo>
                <a:moveTo>
                  <a:pt x="872" y="696"/>
                </a:moveTo>
                <a:moveTo>
                  <a:pt x="872" y="696"/>
                </a:moveTo>
                <a:moveTo>
                  <a:pt x="873" y="696"/>
                </a:moveTo>
                <a:moveTo>
                  <a:pt x="874" y="696"/>
                </a:moveTo>
                <a:moveTo>
                  <a:pt x="874" y="696"/>
                </a:moveTo>
                <a:moveTo>
                  <a:pt x="874" y="695"/>
                </a:moveTo>
                <a:moveTo>
                  <a:pt x="874" y="695"/>
                </a:moveTo>
                <a:moveTo>
                  <a:pt x="873" y="695"/>
                </a:moveTo>
                <a:moveTo>
                  <a:pt x="872" y="695"/>
                </a:moveTo>
                <a:moveTo>
                  <a:pt x="872" y="695"/>
                </a:moveTo>
                <a:moveTo>
                  <a:pt x="872" y="694"/>
                </a:moveTo>
                <a:moveTo>
                  <a:pt x="872" y="693"/>
                </a:moveTo>
                <a:moveTo>
                  <a:pt x="872" y="692"/>
                </a:moveTo>
                <a:moveTo>
                  <a:pt x="872" y="691"/>
                </a:moveTo>
                <a:moveTo>
                  <a:pt x="871" y="691"/>
                </a:moveTo>
                <a:moveTo>
                  <a:pt x="871" y="692"/>
                </a:moveTo>
                <a:moveTo>
                  <a:pt x="871" y="693"/>
                </a:moveTo>
                <a:moveTo>
                  <a:pt x="871" y="694"/>
                </a:moveTo>
                <a:moveTo>
                  <a:pt x="871" y="695"/>
                </a:moveTo>
                <a:moveTo>
                  <a:pt x="868" y="694"/>
                </a:moveTo>
                <a:moveTo>
                  <a:pt x="864" y="694"/>
                </a:moveTo>
                <a:moveTo>
                  <a:pt x="861" y="693"/>
                </a:moveTo>
                <a:moveTo>
                  <a:pt x="861" y="692"/>
                </a:moveTo>
                <a:moveTo>
                  <a:pt x="861" y="690"/>
                </a:moveTo>
                <a:moveTo>
                  <a:pt x="861" y="689"/>
                </a:moveTo>
                <a:moveTo>
                  <a:pt x="864" y="689"/>
                </a:moveTo>
                <a:moveTo>
                  <a:pt x="867" y="689"/>
                </a:moveTo>
                <a:moveTo>
                  <a:pt x="870" y="689"/>
                </a:moveTo>
                <a:moveTo>
                  <a:pt x="870" y="690"/>
                </a:moveTo>
                <a:moveTo>
                  <a:pt x="871" y="690"/>
                </a:moveTo>
                <a:moveTo>
                  <a:pt x="871" y="690"/>
                </a:moveTo>
                <a:moveTo>
                  <a:pt x="872" y="690"/>
                </a:moveTo>
                <a:moveTo>
                  <a:pt x="872" y="690"/>
                </a:moveTo>
                <a:moveTo>
                  <a:pt x="872" y="689"/>
                </a:moveTo>
                <a:moveTo>
                  <a:pt x="875" y="689"/>
                </a:moveTo>
                <a:moveTo>
                  <a:pt x="877" y="690"/>
                </a:moveTo>
                <a:moveTo>
                  <a:pt x="880" y="690"/>
                </a:moveTo>
                <a:moveTo>
                  <a:pt x="879" y="694"/>
                </a:moveTo>
                <a:moveTo>
                  <a:pt x="879" y="699"/>
                </a:moveTo>
                <a:moveTo>
                  <a:pt x="879" y="704"/>
                </a:moveTo>
                <a:moveTo>
                  <a:pt x="878" y="704"/>
                </a:moveTo>
                <a:moveTo>
                  <a:pt x="879" y="704"/>
                </a:moveTo>
                <a:moveTo>
                  <a:pt x="880" y="704"/>
                </a:moveTo>
                <a:moveTo>
                  <a:pt x="880" y="699"/>
                </a:moveTo>
                <a:moveTo>
                  <a:pt x="880" y="694"/>
                </a:moveTo>
                <a:moveTo>
                  <a:pt x="881" y="690"/>
                </a:moveTo>
                <a:moveTo>
                  <a:pt x="881" y="689"/>
                </a:moveTo>
                <a:moveTo>
                  <a:pt x="881" y="689"/>
                </a:moveTo>
                <a:moveTo>
                  <a:pt x="881" y="689"/>
                </a:moveTo>
                <a:moveTo>
                  <a:pt x="882" y="673"/>
                </a:moveTo>
                <a:moveTo>
                  <a:pt x="882" y="657"/>
                </a:moveTo>
                <a:moveTo>
                  <a:pt x="882" y="642"/>
                </a:moveTo>
                <a:moveTo>
                  <a:pt x="882" y="642"/>
                </a:moveTo>
                <a:moveTo>
                  <a:pt x="882" y="642"/>
                </a:moveTo>
                <a:moveTo>
                  <a:pt x="883" y="642"/>
                </a:moveTo>
                <a:moveTo>
                  <a:pt x="883" y="653"/>
                </a:moveTo>
                <a:moveTo>
                  <a:pt x="883" y="665"/>
                </a:moveTo>
                <a:moveTo>
                  <a:pt x="883" y="676"/>
                </a:moveTo>
                <a:moveTo>
                  <a:pt x="883" y="676"/>
                </a:moveTo>
                <a:moveTo>
                  <a:pt x="884" y="676"/>
                </a:moveTo>
                <a:moveTo>
                  <a:pt x="884" y="676"/>
                </a:moveTo>
                <a:moveTo>
                  <a:pt x="884" y="665"/>
                </a:moveTo>
                <a:moveTo>
                  <a:pt x="884" y="653"/>
                </a:moveTo>
                <a:moveTo>
                  <a:pt x="884" y="642"/>
                </a:moveTo>
                <a:moveTo>
                  <a:pt x="885" y="642"/>
                </a:moveTo>
                <a:moveTo>
                  <a:pt x="887" y="642"/>
                </a:moveTo>
                <a:moveTo>
                  <a:pt x="890" y="642"/>
                </a:moveTo>
                <a:moveTo>
                  <a:pt x="890" y="651"/>
                </a:moveTo>
                <a:moveTo>
                  <a:pt x="890" y="660"/>
                </a:moveTo>
                <a:moveTo>
                  <a:pt x="890" y="669"/>
                </a:moveTo>
                <a:moveTo>
                  <a:pt x="890" y="669"/>
                </a:moveTo>
                <a:moveTo>
                  <a:pt x="891" y="669"/>
                </a:moveTo>
                <a:moveTo>
                  <a:pt x="891" y="669"/>
                </a:moveTo>
                <a:moveTo>
                  <a:pt x="891" y="661"/>
                </a:moveTo>
                <a:moveTo>
                  <a:pt x="891" y="653"/>
                </a:moveTo>
                <a:moveTo>
                  <a:pt x="891" y="645"/>
                </a:moveTo>
                <a:moveTo>
                  <a:pt x="891" y="644"/>
                </a:moveTo>
                <a:moveTo>
                  <a:pt x="891" y="643"/>
                </a:moveTo>
                <a:moveTo>
                  <a:pt x="891" y="642"/>
                </a:moveTo>
                <a:moveTo>
                  <a:pt x="892" y="642"/>
                </a:moveTo>
                <a:moveTo>
                  <a:pt x="894" y="642"/>
                </a:moveTo>
                <a:moveTo>
                  <a:pt x="896" y="642"/>
                </a:moveTo>
                <a:moveTo>
                  <a:pt x="896" y="651"/>
                </a:moveTo>
                <a:moveTo>
                  <a:pt x="897" y="659"/>
                </a:moveTo>
                <a:moveTo>
                  <a:pt x="898" y="667"/>
                </a:moveTo>
                <a:moveTo>
                  <a:pt x="898" y="667"/>
                </a:moveTo>
                <a:moveTo>
                  <a:pt x="899" y="667"/>
                </a:moveTo>
                <a:moveTo>
                  <a:pt x="899" y="667"/>
                </a:moveTo>
                <a:moveTo>
                  <a:pt x="898" y="660"/>
                </a:moveTo>
                <a:moveTo>
                  <a:pt x="897" y="654"/>
                </a:moveTo>
                <a:moveTo>
                  <a:pt x="897" y="647"/>
                </a:moveTo>
                <a:moveTo>
                  <a:pt x="897" y="646"/>
                </a:moveTo>
                <a:moveTo>
                  <a:pt x="897" y="644"/>
                </a:moveTo>
                <a:moveTo>
                  <a:pt x="897" y="642"/>
                </a:moveTo>
                <a:moveTo>
                  <a:pt x="898" y="642"/>
                </a:moveTo>
                <a:moveTo>
                  <a:pt x="900" y="642"/>
                </a:moveTo>
                <a:moveTo>
                  <a:pt x="902" y="642"/>
                </a:moveTo>
                <a:moveTo>
                  <a:pt x="903" y="647"/>
                </a:moveTo>
                <a:moveTo>
                  <a:pt x="903" y="653"/>
                </a:moveTo>
                <a:moveTo>
                  <a:pt x="904" y="658"/>
                </a:moveTo>
                <a:moveTo>
                  <a:pt x="904" y="658"/>
                </a:moveTo>
                <a:moveTo>
                  <a:pt x="905" y="658"/>
                </a:moveTo>
                <a:moveTo>
                  <a:pt x="905" y="658"/>
                </a:moveTo>
                <a:moveTo>
                  <a:pt x="904" y="653"/>
                </a:moveTo>
                <a:moveTo>
                  <a:pt x="904" y="647"/>
                </a:moveTo>
                <a:moveTo>
                  <a:pt x="903" y="642"/>
                </a:moveTo>
                <a:moveTo>
                  <a:pt x="905" y="642"/>
                </a:moveTo>
                <a:moveTo>
                  <a:pt x="907" y="642"/>
                </a:moveTo>
                <a:moveTo>
                  <a:pt x="909" y="642"/>
                </a:moveTo>
                <a:moveTo>
                  <a:pt x="909" y="644"/>
                </a:moveTo>
                <a:moveTo>
                  <a:pt x="909" y="646"/>
                </a:moveTo>
                <a:moveTo>
                  <a:pt x="909" y="649"/>
                </a:moveTo>
                <a:moveTo>
                  <a:pt x="909" y="649"/>
                </a:moveTo>
                <a:moveTo>
                  <a:pt x="910" y="649"/>
                </a:moveTo>
                <a:moveTo>
                  <a:pt x="910" y="649"/>
                </a:moveTo>
                <a:moveTo>
                  <a:pt x="910" y="646"/>
                </a:moveTo>
                <a:moveTo>
                  <a:pt x="909" y="644"/>
                </a:moveTo>
                <a:moveTo>
                  <a:pt x="909" y="642"/>
                </a:moveTo>
                <a:moveTo>
                  <a:pt x="911" y="642"/>
                </a:moveTo>
                <a:moveTo>
                  <a:pt x="913" y="642"/>
                </a:moveTo>
                <a:moveTo>
                  <a:pt x="915" y="641"/>
                </a:moveTo>
                <a:moveTo>
                  <a:pt x="914" y="644"/>
                </a:moveTo>
                <a:moveTo>
                  <a:pt x="914" y="647"/>
                </a:moveTo>
                <a:moveTo>
                  <a:pt x="914" y="650"/>
                </a:moveTo>
                <a:moveTo>
                  <a:pt x="913" y="650"/>
                </a:moveTo>
                <a:moveTo>
                  <a:pt x="914" y="651"/>
                </a:moveTo>
                <a:moveTo>
                  <a:pt x="915" y="650"/>
                </a:moveTo>
                <a:moveTo>
                  <a:pt x="915" y="647"/>
                </a:moveTo>
                <a:moveTo>
                  <a:pt x="915" y="644"/>
                </a:moveTo>
                <a:moveTo>
                  <a:pt x="916" y="641"/>
                </a:moveTo>
                <a:moveTo>
                  <a:pt x="917" y="641"/>
                </a:moveTo>
                <a:moveTo>
                  <a:pt x="918" y="641"/>
                </a:moveTo>
                <a:moveTo>
                  <a:pt x="920" y="641"/>
                </a:moveTo>
                <a:moveTo>
                  <a:pt x="920" y="644"/>
                </a:moveTo>
                <a:moveTo>
                  <a:pt x="920" y="647"/>
                </a:moveTo>
                <a:moveTo>
                  <a:pt x="921" y="650"/>
                </a:moveTo>
                <a:moveTo>
                  <a:pt x="921" y="650"/>
                </a:moveTo>
                <a:moveTo>
                  <a:pt x="922" y="650"/>
                </a:moveTo>
                <a:moveTo>
                  <a:pt x="922" y="650"/>
                </a:moveTo>
                <a:moveTo>
                  <a:pt x="921" y="647"/>
                </a:moveTo>
                <a:moveTo>
                  <a:pt x="921" y="644"/>
                </a:moveTo>
                <a:moveTo>
                  <a:pt x="921" y="641"/>
                </a:moveTo>
                <a:moveTo>
                  <a:pt x="923" y="641"/>
                </a:moveTo>
                <a:moveTo>
                  <a:pt x="925" y="641"/>
                </a:moveTo>
                <a:moveTo>
                  <a:pt x="926" y="641"/>
                </a:moveTo>
                <a:moveTo>
                  <a:pt x="926" y="642"/>
                </a:moveTo>
                <a:moveTo>
                  <a:pt x="926" y="644"/>
                </a:moveTo>
                <a:moveTo>
                  <a:pt x="927" y="645"/>
                </a:moveTo>
                <a:moveTo>
                  <a:pt x="927" y="646"/>
                </a:moveTo>
                <a:moveTo>
                  <a:pt x="928" y="645"/>
                </a:moveTo>
                <a:moveTo>
                  <a:pt x="928" y="645"/>
                </a:moveTo>
                <a:moveTo>
                  <a:pt x="927" y="643"/>
                </a:moveTo>
                <a:moveTo>
                  <a:pt x="927" y="642"/>
                </a:moveTo>
                <a:moveTo>
                  <a:pt x="927" y="641"/>
                </a:moveTo>
                <a:moveTo>
                  <a:pt x="930" y="640"/>
                </a:moveTo>
                <a:moveTo>
                  <a:pt x="932" y="640"/>
                </a:moveTo>
                <a:moveTo>
                  <a:pt x="932" y="640"/>
                </a:moveTo>
                <a:moveTo>
                  <a:pt x="933" y="640"/>
                </a:moveTo>
                <a:moveTo>
                  <a:pt x="933" y="639"/>
                </a:moveTo>
                <a:moveTo>
                  <a:pt x="932" y="639"/>
                </a:moveTo>
                <a:moveTo>
                  <a:pt x="932" y="639"/>
                </a:moveTo>
                <a:moveTo>
                  <a:pt x="930" y="639"/>
                </a:moveTo>
                <a:moveTo>
                  <a:pt x="927" y="640"/>
                </a:moveTo>
                <a:moveTo>
                  <a:pt x="927" y="638"/>
                </a:moveTo>
                <a:moveTo>
                  <a:pt x="927" y="637"/>
                </a:moveTo>
                <a:moveTo>
                  <a:pt x="927" y="635"/>
                </a:moveTo>
                <a:moveTo>
                  <a:pt x="929" y="635"/>
                </a:moveTo>
                <a:moveTo>
                  <a:pt x="932" y="635"/>
                </a:moveTo>
                <a:moveTo>
                  <a:pt x="934" y="635"/>
                </a:moveTo>
                <a:moveTo>
                  <a:pt x="934" y="638"/>
                </a:moveTo>
                <a:moveTo>
                  <a:pt x="934" y="642"/>
                </a:moveTo>
                <a:moveTo>
                  <a:pt x="935" y="645"/>
                </a:moveTo>
                <a:moveTo>
                  <a:pt x="935" y="646"/>
                </a:moveTo>
                <a:moveTo>
                  <a:pt x="936" y="645"/>
                </a:moveTo>
                <a:moveTo>
                  <a:pt x="936" y="645"/>
                </a:moveTo>
                <a:moveTo>
                  <a:pt x="935" y="642"/>
                </a:moveTo>
                <a:moveTo>
                  <a:pt x="935" y="638"/>
                </a:moveTo>
                <a:moveTo>
                  <a:pt x="935" y="635"/>
                </a:moveTo>
                <a:moveTo>
                  <a:pt x="937" y="635"/>
                </a:moveTo>
                <a:moveTo>
                  <a:pt x="940" y="635"/>
                </a:moveTo>
                <a:moveTo>
                  <a:pt x="943" y="635"/>
                </a:moveTo>
                <a:moveTo>
                  <a:pt x="943" y="637"/>
                </a:moveTo>
                <a:moveTo>
                  <a:pt x="943" y="640"/>
                </a:moveTo>
                <a:moveTo>
                  <a:pt x="943" y="642"/>
                </a:moveTo>
                <a:moveTo>
                  <a:pt x="943" y="642"/>
                </a:moveTo>
                <a:moveTo>
                  <a:pt x="944" y="642"/>
                </a:moveTo>
                <a:moveTo>
                  <a:pt x="944" y="642"/>
                </a:moveTo>
                <a:moveTo>
                  <a:pt x="944" y="640"/>
                </a:moveTo>
                <a:moveTo>
                  <a:pt x="944" y="637"/>
                </a:moveTo>
                <a:moveTo>
                  <a:pt x="944" y="635"/>
                </a:moveTo>
                <a:moveTo>
                  <a:pt x="944" y="635"/>
                </a:moveTo>
                <a:moveTo>
                  <a:pt x="944" y="635"/>
                </a:moveTo>
                <a:moveTo>
                  <a:pt x="944" y="635"/>
                </a:moveTo>
                <a:moveTo>
                  <a:pt x="945" y="635"/>
                </a:moveTo>
                <a:moveTo>
                  <a:pt x="945" y="634"/>
                </a:moveTo>
                <a:moveTo>
                  <a:pt x="944" y="634"/>
                </a:moveTo>
                <a:moveTo>
                  <a:pt x="944" y="634"/>
                </a:moveTo>
                <a:moveTo>
                  <a:pt x="944" y="634"/>
                </a:moveTo>
                <a:moveTo>
                  <a:pt x="944" y="634"/>
                </a:moveTo>
                <a:moveTo>
                  <a:pt x="944" y="632"/>
                </a:moveTo>
                <a:moveTo>
                  <a:pt x="944" y="630"/>
                </a:moveTo>
                <a:moveTo>
                  <a:pt x="944" y="628"/>
                </a:moveTo>
                <a:moveTo>
                  <a:pt x="945" y="628"/>
                </a:moveTo>
                <a:moveTo>
                  <a:pt x="946" y="628"/>
                </a:moveTo>
                <a:moveTo>
                  <a:pt x="947" y="628"/>
                </a:moveTo>
                <a:moveTo>
                  <a:pt x="948" y="628"/>
                </a:moveTo>
                <a:moveTo>
                  <a:pt x="948" y="627"/>
                </a:moveTo>
                <a:moveTo>
                  <a:pt x="947" y="627"/>
                </a:moveTo>
                <a:moveTo>
                  <a:pt x="946" y="627"/>
                </a:moveTo>
                <a:moveTo>
                  <a:pt x="945" y="627"/>
                </a:moveTo>
                <a:moveTo>
                  <a:pt x="944" y="627"/>
                </a:moveTo>
                <a:moveTo>
                  <a:pt x="944" y="627"/>
                </a:moveTo>
                <a:moveTo>
                  <a:pt x="944" y="626"/>
                </a:moveTo>
                <a:moveTo>
                  <a:pt x="944" y="626"/>
                </a:moveTo>
                <a:moveTo>
                  <a:pt x="945" y="626"/>
                </a:moveTo>
                <a:moveTo>
                  <a:pt x="946" y="626"/>
                </a:moveTo>
                <a:moveTo>
                  <a:pt x="948" y="626"/>
                </a:moveTo>
                <a:moveTo>
                  <a:pt x="948" y="626"/>
                </a:moveTo>
                <a:moveTo>
                  <a:pt x="948" y="626"/>
                </a:moveTo>
                <a:moveTo>
                  <a:pt x="948" y="626"/>
                </a:moveTo>
                <a:moveTo>
                  <a:pt x="948" y="630"/>
                </a:moveTo>
                <a:moveTo>
                  <a:pt x="948" y="637"/>
                </a:moveTo>
                <a:moveTo>
                  <a:pt x="951" y="640"/>
                </a:moveTo>
                <a:moveTo>
                  <a:pt x="951" y="641"/>
                </a:moveTo>
                <a:moveTo>
                  <a:pt x="952" y="640"/>
                </a:moveTo>
                <a:moveTo>
                  <a:pt x="951" y="639"/>
                </a:moveTo>
                <a:moveTo>
                  <a:pt x="949" y="637"/>
                </a:moveTo>
                <a:moveTo>
                  <a:pt x="949" y="633"/>
                </a:moveTo>
                <a:moveTo>
                  <a:pt x="949" y="630"/>
                </a:moveTo>
                <a:moveTo>
                  <a:pt x="949" y="628"/>
                </a:moveTo>
                <a:moveTo>
                  <a:pt x="949" y="627"/>
                </a:moveTo>
                <a:moveTo>
                  <a:pt x="949" y="626"/>
                </a:moveTo>
                <a:moveTo>
                  <a:pt x="951" y="626"/>
                </a:moveTo>
                <a:moveTo>
                  <a:pt x="953" y="626"/>
                </a:moveTo>
                <a:moveTo>
                  <a:pt x="955" y="626"/>
                </a:moveTo>
                <a:moveTo>
                  <a:pt x="954" y="626"/>
                </a:moveTo>
                <a:moveTo>
                  <a:pt x="955" y="627"/>
                </a:moveTo>
                <a:moveTo>
                  <a:pt x="955" y="626"/>
                </a:moveTo>
                <a:moveTo>
                  <a:pt x="955" y="627"/>
                </a:moveTo>
                <a:moveTo>
                  <a:pt x="955" y="626"/>
                </a:moveTo>
                <a:moveTo>
                  <a:pt x="955" y="627"/>
                </a:moveTo>
                <a:moveTo>
                  <a:pt x="955" y="628"/>
                </a:moveTo>
                <a:moveTo>
                  <a:pt x="955" y="628"/>
                </a:moveTo>
                <a:moveTo>
                  <a:pt x="955" y="629"/>
                </a:moveTo>
                <a:moveTo>
                  <a:pt x="955" y="630"/>
                </a:moveTo>
                <a:moveTo>
                  <a:pt x="955" y="631"/>
                </a:moveTo>
                <a:moveTo>
                  <a:pt x="956" y="632"/>
                </a:moveTo>
                <a:moveTo>
                  <a:pt x="956" y="635"/>
                </a:moveTo>
                <a:moveTo>
                  <a:pt x="956" y="637"/>
                </a:moveTo>
                <a:moveTo>
                  <a:pt x="958" y="639"/>
                </a:moveTo>
                <a:moveTo>
                  <a:pt x="958" y="640"/>
                </a:moveTo>
                <a:moveTo>
                  <a:pt x="959" y="639"/>
                </a:moveTo>
                <a:moveTo>
                  <a:pt x="958" y="639"/>
                </a:moveTo>
                <a:moveTo>
                  <a:pt x="956" y="636"/>
                </a:moveTo>
                <a:moveTo>
                  <a:pt x="956" y="632"/>
                </a:moveTo>
                <a:moveTo>
                  <a:pt x="956" y="628"/>
                </a:moveTo>
                <a:moveTo>
                  <a:pt x="956" y="628"/>
                </a:moveTo>
                <a:moveTo>
                  <a:pt x="956" y="626"/>
                </a:moveTo>
                <a:moveTo>
                  <a:pt x="956" y="626"/>
                </a:moveTo>
                <a:moveTo>
                  <a:pt x="958" y="626"/>
                </a:moveTo>
                <a:moveTo>
                  <a:pt x="960" y="626"/>
                </a:moveTo>
                <a:moveTo>
                  <a:pt x="963" y="626"/>
                </a:moveTo>
                <a:moveTo>
                  <a:pt x="963" y="627"/>
                </a:moveTo>
                <a:moveTo>
                  <a:pt x="963" y="628"/>
                </a:moveTo>
                <a:moveTo>
                  <a:pt x="964" y="629"/>
                </a:moveTo>
                <a:moveTo>
                  <a:pt x="964" y="632"/>
                </a:moveTo>
                <a:moveTo>
                  <a:pt x="964" y="634"/>
                </a:moveTo>
                <a:moveTo>
                  <a:pt x="966" y="636"/>
                </a:moveTo>
                <a:moveTo>
                  <a:pt x="966" y="637"/>
                </a:moveTo>
                <a:moveTo>
                  <a:pt x="967" y="636"/>
                </a:moveTo>
                <a:moveTo>
                  <a:pt x="966" y="636"/>
                </a:moveTo>
                <a:moveTo>
                  <a:pt x="965" y="633"/>
                </a:moveTo>
                <a:moveTo>
                  <a:pt x="965" y="629"/>
                </a:moveTo>
                <a:moveTo>
                  <a:pt x="964" y="626"/>
                </a:moveTo>
                <a:moveTo>
                  <a:pt x="964" y="626"/>
                </a:moveTo>
                <a:moveTo>
                  <a:pt x="965" y="626"/>
                </a:moveTo>
                <a:moveTo>
                  <a:pt x="966" y="626"/>
                </a:moveTo>
                <a:moveTo>
                  <a:pt x="966" y="626"/>
                </a:moveTo>
                <a:moveTo>
                  <a:pt x="966" y="625"/>
                </a:moveTo>
                <a:moveTo>
                  <a:pt x="966" y="625"/>
                </a:moveTo>
                <a:moveTo>
                  <a:pt x="965" y="625"/>
                </a:moveTo>
                <a:moveTo>
                  <a:pt x="964" y="625"/>
                </a:moveTo>
                <a:moveTo>
                  <a:pt x="964" y="625"/>
                </a:moveTo>
                <a:moveTo>
                  <a:pt x="963" y="623"/>
                </a:moveTo>
                <a:moveTo>
                  <a:pt x="962" y="623"/>
                </a:moveTo>
                <a:moveTo>
                  <a:pt x="962" y="625"/>
                </a:moveTo>
                <a:moveTo>
                  <a:pt x="958" y="624"/>
                </a:moveTo>
                <a:moveTo>
                  <a:pt x="953" y="624"/>
                </a:moveTo>
                <a:moveTo>
                  <a:pt x="949" y="623"/>
                </a:moveTo>
                <a:moveTo>
                  <a:pt x="949" y="623"/>
                </a:moveTo>
                <a:moveTo>
                  <a:pt x="949" y="622"/>
                </a:moveTo>
                <a:moveTo>
                  <a:pt x="948" y="622"/>
                </a:moveTo>
                <a:moveTo>
                  <a:pt x="948" y="623"/>
                </a:moveTo>
                <a:moveTo>
                  <a:pt x="948" y="623"/>
                </a:moveTo>
                <a:moveTo>
                  <a:pt x="948" y="623"/>
                </a:moveTo>
                <a:moveTo>
                  <a:pt x="946" y="623"/>
                </a:moveTo>
                <a:moveTo>
                  <a:pt x="945" y="623"/>
                </a:moveTo>
                <a:moveTo>
                  <a:pt x="944" y="623"/>
                </a:moveTo>
                <a:moveTo>
                  <a:pt x="944" y="622"/>
                </a:moveTo>
                <a:moveTo>
                  <a:pt x="944" y="621"/>
                </a:moveTo>
                <a:moveTo>
                  <a:pt x="944" y="621"/>
                </a:moveTo>
                <a:moveTo>
                  <a:pt x="944" y="620"/>
                </a:moveTo>
                <a:moveTo>
                  <a:pt x="943" y="620"/>
                </a:moveTo>
                <a:moveTo>
                  <a:pt x="943" y="621"/>
                </a:moveTo>
                <a:moveTo>
                  <a:pt x="943" y="621"/>
                </a:moveTo>
                <a:moveTo>
                  <a:pt x="943" y="622"/>
                </a:moveTo>
                <a:moveTo>
                  <a:pt x="943" y="623"/>
                </a:moveTo>
                <a:moveTo>
                  <a:pt x="934" y="622"/>
                </a:moveTo>
                <a:moveTo>
                  <a:pt x="924" y="622"/>
                </a:moveTo>
                <a:moveTo>
                  <a:pt x="915" y="623"/>
                </a:moveTo>
                <a:moveTo>
                  <a:pt x="915" y="622"/>
                </a:moveTo>
                <a:moveTo>
                  <a:pt x="915" y="622"/>
                </a:moveTo>
                <a:moveTo>
                  <a:pt x="915" y="623"/>
                </a:moveTo>
                <a:moveTo>
                  <a:pt x="913" y="623"/>
                </a:moveTo>
                <a:moveTo>
                  <a:pt x="911" y="623"/>
                </a:moveTo>
                <a:moveTo>
                  <a:pt x="909" y="623"/>
                </a:moveTo>
                <a:moveTo>
                  <a:pt x="909" y="623"/>
                </a:moveTo>
                <a:moveTo>
                  <a:pt x="909" y="623"/>
                </a:moveTo>
                <a:moveTo>
                  <a:pt x="909" y="623"/>
                </a:moveTo>
                <a:moveTo>
                  <a:pt x="908" y="622"/>
                </a:moveTo>
                <a:moveTo>
                  <a:pt x="907" y="622"/>
                </a:moveTo>
                <a:moveTo>
                  <a:pt x="908" y="623"/>
                </a:moveTo>
                <a:moveTo>
                  <a:pt x="908" y="623"/>
                </a:moveTo>
                <a:moveTo>
                  <a:pt x="908" y="623"/>
                </a:moveTo>
                <a:moveTo>
                  <a:pt x="908" y="623"/>
                </a:moveTo>
                <a:moveTo>
                  <a:pt x="907" y="623"/>
                </a:moveTo>
                <a:moveTo>
                  <a:pt x="906" y="623"/>
                </a:moveTo>
                <a:moveTo>
                  <a:pt x="905" y="623"/>
                </a:moveTo>
                <a:moveTo>
                  <a:pt x="905" y="623"/>
                </a:moveTo>
                <a:moveTo>
                  <a:pt x="905" y="623"/>
                </a:moveTo>
                <a:moveTo>
                  <a:pt x="905" y="623"/>
                </a:moveTo>
                <a:moveTo>
                  <a:pt x="906" y="623"/>
                </a:moveTo>
                <a:moveTo>
                  <a:pt x="905" y="622"/>
                </a:moveTo>
                <a:moveTo>
                  <a:pt x="905" y="623"/>
                </a:moveTo>
                <a:moveTo>
                  <a:pt x="905" y="623"/>
                </a:moveTo>
                <a:moveTo>
                  <a:pt x="904" y="623"/>
                </a:moveTo>
                <a:moveTo>
                  <a:pt x="904" y="623"/>
                </a:moveTo>
                <a:moveTo>
                  <a:pt x="900" y="624"/>
                </a:moveTo>
                <a:moveTo>
                  <a:pt x="896" y="624"/>
                </a:moveTo>
                <a:moveTo>
                  <a:pt x="892" y="624"/>
                </a:moveTo>
                <a:moveTo>
                  <a:pt x="892" y="623"/>
                </a:moveTo>
                <a:moveTo>
                  <a:pt x="892" y="624"/>
                </a:moveTo>
                <a:moveTo>
                  <a:pt x="891" y="623"/>
                </a:moveTo>
                <a:moveTo>
                  <a:pt x="891" y="623"/>
                </a:moveTo>
                <a:moveTo>
                  <a:pt x="891" y="623"/>
                </a:moveTo>
                <a:moveTo>
                  <a:pt x="891" y="623"/>
                </a:moveTo>
                <a:moveTo>
                  <a:pt x="890" y="623"/>
                </a:moveTo>
                <a:moveTo>
                  <a:pt x="890" y="624"/>
                </a:moveTo>
                <a:moveTo>
                  <a:pt x="889" y="625"/>
                </a:moveTo>
                <a:moveTo>
                  <a:pt x="888" y="625"/>
                </a:moveTo>
                <a:moveTo>
                  <a:pt x="887" y="625"/>
                </a:moveTo>
                <a:moveTo>
                  <a:pt x="885" y="625"/>
                </a:moveTo>
                <a:moveTo>
                  <a:pt x="885" y="622"/>
                </a:moveTo>
                <a:moveTo>
                  <a:pt x="886" y="620"/>
                </a:moveTo>
                <a:moveTo>
                  <a:pt x="886" y="618"/>
                </a:moveTo>
                <a:moveTo>
                  <a:pt x="886" y="618"/>
                </a:moveTo>
                <a:moveTo>
                  <a:pt x="886" y="618"/>
                </a:moveTo>
                <a:moveTo>
                  <a:pt x="886" y="618"/>
                </a:moveTo>
                <a:moveTo>
                  <a:pt x="886" y="619"/>
                </a:moveTo>
                <a:moveTo>
                  <a:pt x="888" y="619"/>
                </a:moveTo>
                <a:moveTo>
                  <a:pt x="888" y="618"/>
                </a:moveTo>
                <a:moveTo>
                  <a:pt x="888" y="617"/>
                </a:moveTo>
                <a:moveTo>
                  <a:pt x="888" y="617"/>
                </a:moveTo>
                <a:moveTo>
                  <a:pt x="888" y="616"/>
                </a:moveTo>
                <a:moveTo>
                  <a:pt x="888" y="616"/>
                </a:moveTo>
                <a:moveTo>
                  <a:pt x="889" y="616"/>
                </a:moveTo>
                <a:moveTo>
                  <a:pt x="889" y="616"/>
                </a:moveTo>
                <a:moveTo>
                  <a:pt x="889" y="617"/>
                </a:moveTo>
                <a:moveTo>
                  <a:pt x="889" y="617"/>
                </a:moveTo>
                <a:moveTo>
                  <a:pt x="889" y="617"/>
                </a:moveTo>
                <a:moveTo>
                  <a:pt x="889" y="618"/>
                </a:moveTo>
                <a:moveTo>
                  <a:pt x="890" y="618"/>
                </a:moveTo>
                <a:moveTo>
                  <a:pt x="890" y="617"/>
                </a:moveTo>
                <a:moveTo>
                  <a:pt x="890" y="617"/>
                </a:moveTo>
                <a:moveTo>
                  <a:pt x="890" y="617"/>
                </a:moveTo>
                <a:moveTo>
                  <a:pt x="890" y="616"/>
                </a:moveTo>
                <a:moveTo>
                  <a:pt x="909" y="617"/>
                </a:moveTo>
                <a:moveTo>
                  <a:pt x="929" y="617"/>
                </a:moveTo>
                <a:moveTo>
                  <a:pt x="948" y="616"/>
                </a:moveTo>
                <a:moveTo>
                  <a:pt x="953" y="616"/>
                </a:moveTo>
                <a:moveTo>
                  <a:pt x="959" y="616"/>
                </a:moveTo>
                <a:moveTo>
                  <a:pt x="964" y="616"/>
                </a:moveTo>
                <a:moveTo>
                  <a:pt x="964" y="618"/>
                </a:moveTo>
                <a:moveTo>
                  <a:pt x="964" y="620"/>
                </a:moveTo>
                <a:moveTo>
                  <a:pt x="964" y="622"/>
                </a:moveTo>
                <a:moveTo>
                  <a:pt x="963" y="622"/>
                </a:moveTo>
                <a:moveTo>
                  <a:pt x="964" y="622"/>
                </a:moveTo>
                <a:moveTo>
                  <a:pt x="964" y="622"/>
                </a:moveTo>
                <a:moveTo>
                  <a:pt x="964" y="620"/>
                </a:moveTo>
                <a:moveTo>
                  <a:pt x="965" y="618"/>
                </a:moveTo>
                <a:moveTo>
                  <a:pt x="965" y="616"/>
                </a:moveTo>
                <a:moveTo>
                  <a:pt x="971" y="616"/>
                </a:moveTo>
                <a:moveTo>
                  <a:pt x="977" y="616"/>
                </a:moveTo>
                <a:moveTo>
                  <a:pt x="982" y="617"/>
                </a:moveTo>
                <a:moveTo>
                  <a:pt x="983" y="617"/>
                </a:moveTo>
                <a:moveTo>
                  <a:pt x="983" y="617"/>
                </a:moveTo>
                <a:moveTo>
                  <a:pt x="983" y="617"/>
                </a:moveTo>
                <a:moveTo>
                  <a:pt x="984" y="617"/>
                </a:moveTo>
                <a:moveTo>
                  <a:pt x="986" y="617"/>
                </a:moveTo>
                <a:moveTo>
                  <a:pt x="987" y="617"/>
                </a:moveTo>
                <a:moveTo>
                  <a:pt x="994" y="617"/>
                </a:moveTo>
                <a:moveTo>
                  <a:pt x="1002" y="618"/>
                </a:moveTo>
                <a:moveTo>
                  <a:pt x="1010" y="619"/>
                </a:moveTo>
                <a:moveTo>
                  <a:pt x="1015" y="620"/>
                </a:moveTo>
                <a:moveTo>
                  <a:pt x="1018" y="617"/>
                </a:moveTo>
                <a:moveTo>
                  <a:pt x="1014" y="620"/>
                </a:moveTo>
                <a:moveTo>
                  <a:pt x="1014" y="620"/>
                </a:moveTo>
                <a:moveTo>
                  <a:pt x="1013" y="621"/>
                </a:moveTo>
                <a:moveTo>
                  <a:pt x="1014" y="621"/>
                </a:moveTo>
                <a:moveTo>
                  <a:pt x="1019" y="633"/>
                </a:moveTo>
                <a:moveTo>
                  <a:pt x="1019" y="646"/>
                </a:moveTo>
                <a:moveTo>
                  <a:pt x="1021" y="659"/>
                </a:moveTo>
                <a:moveTo>
                  <a:pt x="1017" y="657"/>
                </a:moveTo>
                <a:moveTo>
                  <a:pt x="1012" y="656"/>
                </a:moveTo>
                <a:moveTo>
                  <a:pt x="1008" y="655"/>
                </a:moveTo>
                <a:moveTo>
                  <a:pt x="1003" y="654"/>
                </a:moveTo>
                <a:moveTo>
                  <a:pt x="999" y="652"/>
                </a:moveTo>
                <a:moveTo>
                  <a:pt x="994" y="650"/>
                </a:moveTo>
                <a:moveTo>
                  <a:pt x="992" y="649"/>
                </a:moveTo>
                <a:moveTo>
                  <a:pt x="989" y="645"/>
                </a:moveTo>
                <a:moveTo>
                  <a:pt x="987" y="645"/>
                </a:moveTo>
                <a:moveTo>
                  <a:pt x="980" y="645"/>
                </a:moveTo>
                <a:moveTo>
                  <a:pt x="973" y="655"/>
                </a:moveTo>
                <a:moveTo>
                  <a:pt x="968" y="659"/>
                </a:moveTo>
                <a:moveTo>
                  <a:pt x="959" y="668"/>
                </a:moveTo>
                <a:moveTo>
                  <a:pt x="951" y="677"/>
                </a:moveTo>
                <a:moveTo>
                  <a:pt x="942" y="687"/>
                </a:moveTo>
                <a:moveTo>
                  <a:pt x="942" y="688"/>
                </a:moveTo>
                <a:moveTo>
                  <a:pt x="943" y="690"/>
                </a:moveTo>
                <a:moveTo>
                  <a:pt x="944" y="689"/>
                </a:moveTo>
                <a:moveTo>
                  <a:pt x="950" y="681"/>
                </a:moveTo>
                <a:moveTo>
                  <a:pt x="957" y="673"/>
                </a:moveTo>
                <a:moveTo>
                  <a:pt x="964" y="666"/>
                </a:moveTo>
                <a:moveTo>
                  <a:pt x="968" y="662"/>
                </a:moveTo>
                <a:moveTo>
                  <a:pt x="971" y="659"/>
                </a:moveTo>
                <a:moveTo>
                  <a:pt x="975" y="656"/>
                </a:moveTo>
                <a:moveTo>
                  <a:pt x="977" y="654"/>
                </a:moveTo>
                <a:moveTo>
                  <a:pt x="978" y="652"/>
                </a:moveTo>
                <a:moveTo>
                  <a:pt x="980" y="651"/>
                </a:moveTo>
                <a:moveTo>
                  <a:pt x="986" y="646"/>
                </a:moveTo>
                <a:moveTo>
                  <a:pt x="985" y="646"/>
                </a:moveTo>
                <a:moveTo>
                  <a:pt x="989" y="649"/>
                </a:moveTo>
                <a:moveTo>
                  <a:pt x="998" y="657"/>
                </a:moveTo>
                <a:moveTo>
                  <a:pt x="1011" y="658"/>
                </a:moveTo>
                <a:moveTo>
                  <a:pt x="1022" y="661"/>
                </a:moveTo>
                <a:moveTo>
                  <a:pt x="1022" y="664"/>
                </a:moveTo>
                <a:moveTo>
                  <a:pt x="1023" y="667"/>
                </a:moveTo>
                <a:moveTo>
                  <a:pt x="1024" y="670"/>
                </a:moveTo>
                <a:moveTo>
                  <a:pt x="1025" y="671"/>
                </a:moveTo>
                <a:moveTo>
                  <a:pt x="1026" y="671"/>
                </a:moveTo>
                <a:moveTo>
                  <a:pt x="1026" y="670"/>
                </a:moveTo>
                <a:moveTo>
                  <a:pt x="1025" y="667"/>
                </a:moveTo>
                <a:moveTo>
                  <a:pt x="1024" y="665"/>
                </a:moveTo>
                <a:moveTo>
                  <a:pt x="1024" y="662"/>
                </a:moveTo>
                <a:moveTo>
                  <a:pt x="1025" y="663"/>
                </a:moveTo>
                <a:moveTo>
                  <a:pt x="1027" y="664"/>
                </a:moveTo>
                <a:moveTo>
                  <a:pt x="1029" y="665"/>
                </a:moveTo>
                <a:moveTo>
                  <a:pt x="1030" y="665"/>
                </a:moveTo>
                <a:moveTo>
                  <a:pt x="1031" y="664"/>
                </a:moveTo>
                <a:moveTo>
                  <a:pt x="1030" y="663"/>
                </a:moveTo>
                <a:moveTo>
                  <a:pt x="1028" y="662"/>
                </a:moveTo>
                <a:moveTo>
                  <a:pt x="1025" y="661"/>
                </a:moveTo>
                <a:moveTo>
                  <a:pt x="1023" y="660"/>
                </a:moveTo>
                <a:moveTo>
                  <a:pt x="1022" y="654"/>
                </a:moveTo>
                <a:moveTo>
                  <a:pt x="1021" y="648"/>
                </a:moveTo>
                <a:moveTo>
                  <a:pt x="1021" y="643"/>
                </a:moveTo>
                <a:moveTo>
                  <a:pt x="1021" y="643"/>
                </a:moveTo>
                <a:moveTo>
                  <a:pt x="1021" y="643"/>
                </a:moveTo>
                <a:moveTo>
                  <a:pt x="1021" y="643"/>
                </a:moveTo>
                <a:moveTo>
                  <a:pt x="1029" y="643"/>
                </a:moveTo>
                <a:moveTo>
                  <a:pt x="1037" y="643"/>
                </a:moveTo>
                <a:moveTo>
                  <a:pt x="1045" y="643"/>
                </a:moveTo>
                <a:moveTo>
                  <a:pt x="1046" y="643"/>
                </a:moveTo>
                <a:moveTo>
                  <a:pt x="1046" y="641"/>
                </a:moveTo>
                <a:moveTo>
                  <a:pt x="1045" y="641"/>
                </a:moveTo>
                <a:moveTo>
                  <a:pt x="1037" y="641"/>
                </a:moveTo>
                <a:moveTo>
                  <a:pt x="1029" y="641"/>
                </a:moveTo>
                <a:moveTo>
                  <a:pt x="1021" y="641"/>
                </a:moveTo>
                <a:moveTo>
                  <a:pt x="1021" y="641"/>
                </a:moveTo>
                <a:moveTo>
                  <a:pt x="1021" y="641"/>
                </a:moveTo>
                <a:moveTo>
                  <a:pt x="1020" y="641"/>
                </a:moveTo>
                <a:moveTo>
                  <a:pt x="1020" y="641"/>
                </a:moveTo>
                <a:moveTo>
                  <a:pt x="1020" y="640"/>
                </a:moveTo>
                <a:moveTo>
                  <a:pt x="1020" y="639"/>
                </a:moveTo>
                <a:moveTo>
                  <a:pt x="1020" y="636"/>
                </a:moveTo>
                <a:moveTo>
                  <a:pt x="1019" y="633"/>
                </a:moveTo>
                <a:moveTo>
                  <a:pt x="1019" y="630"/>
                </a:moveTo>
                <a:moveTo>
                  <a:pt x="1018" y="628"/>
                </a:moveTo>
                <a:moveTo>
                  <a:pt x="1015" y="621"/>
                </a:moveTo>
                <a:moveTo>
                  <a:pt x="1017" y="621"/>
                </a:moveTo>
                <a:moveTo>
                  <a:pt x="1018" y="621"/>
                </a:moveTo>
                <a:moveTo>
                  <a:pt x="1018" y="619"/>
                </a:moveTo>
                <a:moveTo>
                  <a:pt x="1017" y="619"/>
                </a:moveTo>
                <a:moveTo>
                  <a:pt x="1006" y="617"/>
                </a:moveTo>
                <a:moveTo>
                  <a:pt x="995" y="615"/>
                </a:moveTo>
                <a:moveTo>
                  <a:pt x="984" y="615"/>
                </a:moveTo>
                <a:moveTo>
                  <a:pt x="979" y="604"/>
                </a:moveTo>
                <a:moveTo>
                  <a:pt x="977" y="592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6" y="571"/>
                </a:moveTo>
                <a:moveTo>
                  <a:pt x="976" y="561"/>
                </a:moveTo>
                <a:moveTo>
                  <a:pt x="976" y="552"/>
                </a:moveTo>
                <a:moveTo>
                  <a:pt x="977" y="545"/>
                </a:moveTo>
                <a:moveTo>
                  <a:pt x="977" y="537"/>
                </a:moveTo>
                <a:moveTo>
                  <a:pt x="977" y="530"/>
                </a:moveTo>
                <a:moveTo>
                  <a:pt x="978" y="527"/>
                </a:moveTo>
                <a:moveTo>
                  <a:pt x="979" y="518"/>
                </a:moveTo>
                <a:moveTo>
                  <a:pt x="978" y="515"/>
                </a:moveTo>
                <a:moveTo>
                  <a:pt x="978" y="514"/>
                </a:moveTo>
                <a:moveTo>
                  <a:pt x="978" y="513"/>
                </a:moveTo>
                <a:moveTo>
                  <a:pt x="978" y="512"/>
                </a:moveTo>
                <a:moveTo>
                  <a:pt x="979" y="513"/>
                </a:moveTo>
                <a:moveTo>
                  <a:pt x="980" y="514"/>
                </a:moveTo>
                <a:moveTo>
                  <a:pt x="981" y="516"/>
                </a:moveTo>
                <a:moveTo>
                  <a:pt x="981" y="516"/>
                </a:moveTo>
                <a:moveTo>
                  <a:pt x="981" y="516"/>
                </a:moveTo>
                <a:moveTo>
                  <a:pt x="981" y="516"/>
                </a:moveTo>
                <a:moveTo>
                  <a:pt x="981" y="514"/>
                </a:moveTo>
                <a:moveTo>
                  <a:pt x="980" y="513"/>
                </a:moveTo>
                <a:moveTo>
                  <a:pt x="978" y="512"/>
                </a:moveTo>
                <a:moveTo>
                  <a:pt x="979" y="502"/>
                </a:moveTo>
                <a:moveTo>
                  <a:pt x="979" y="493"/>
                </a:moveTo>
                <a:moveTo>
                  <a:pt x="979" y="484"/>
                </a:moveTo>
                <a:moveTo>
                  <a:pt x="979" y="483"/>
                </a:moveTo>
                <a:moveTo>
                  <a:pt x="979" y="482"/>
                </a:moveTo>
                <a:moveTo>
                  <a:pt x="979" y="481"/>
                </a:moveTo>
                <a:moveTo>
                  <a:pt x="979" y="481"/>
                </a:moveTo>
                <a:moveTo>
                  <a:pt x="979" y="482"/>
                </a:moveTo>
                <a:moveTo>
                  <a:pt x="979" y="482"/>
                </a:moveTo>
                <a:moveTo>
                  <a:pt x="984" y="496"/>
                </a:moveTo>
                <a:moveTo>
                  <a:pt x="991" y="509"/>
                </a:moveTo>
                <a:moveTo>
                  <a:pt x="998" y="521"/>
                </a:moveTo>
                <a:moveTo>
                  <a:pt x="1000" y="525"/>
                </a:moveTo>
                <a:moveTo>
                  <a:pt x="1001" y="529"/>
                </a:moveTo>
                <a:moveTo>
                  <a:pt x="1003" y="533"/>
                </a:moveTo>
                <a:moveTo>
                  <a:pt x="1016" y="564"/>
                </a:moveTo>
                <a:moveTo>
                  <a:pt x="1034" y="594"/>
                </a:moveTo>
                <a:moveTo>
                  <a:pt x="1058" y="619"/>
                </a:moveTo>
                <a:moveTo>
                  <a:pt x="1059" y="619"/>
                </a:moveTo>
                <a:moveTo>
                  <a:pt x="1061" y="618"/>
                </a:moveTo>
                <a:moveTo>
                  <a:pt x="1060" y="617"/>
                </a:moveTo>
                <a:moveTo>
                  <a:pt x="1037" y="595"/>
                </a:moveTo>
                <a:moveTo>
                  <a:pt x="1020" y="567"/>
                </a:moveTo>
                <a:moveTo>
                  <a:pt x="1007" y="537"/>
                </a:moveTo>
                <a:moveTo>
                  <a:pt x="1006" y="536"/>
                </a:moveTo>
                <a:moveTo>
                  <a:pt x="1006" y="534"/>
                </a:moveTo>
                <a:moveTo>
                  <a:pt x="1005" y="532"/>
                </a:moveTo>
                <a:moveTo>
                  <a:pt x="1023" y="561"/>
                </a:moveTo>
                <a:moveTo>
                  <a:pt x="1043" y="590"/>
                </a:moveTo>
                <a:moveTo>
                  <a:pt x="1066" y="615"/>
                </a:moveTo>
                <a:moveTo>
                  <a:pt x="1067" y="615"/>
                </a:moveTo>
                <a:moveTo>
                  <a:pt x="1069" y="614"/>
                </a:moveTo>
                <a:moveTo>
                  <a:pt x="1068" y="613"/>
                </a:moveTo>
                <a:moveTo>
                  <a:pt x="1046" y="589"/>
                </a:moveTo>
                <a:moveTo>
                  <a:pt x="1027" y="563"/>
                </a:moveTo>
                <a:moveTo>
                  <a:pt x="1009" y="536"/>
                </a:moveTo>
                <a:moveTo>
                  <a:pt x="1006" y="531"/>
                </a:moveTo>
                <a:moveTo>
                  <a:pt x="1003" y="526"/>
                </a:moveTo>
                <a:moveTo>
                  <a:pt x="1000" y="520"/>
                </a:moveTo>
                <a:moveTo>
                  <a:pt x="996" y="510"/>
                </a:moveTo>
                <a:moveTo>
                  <a:pt x="992" y="499"/>
                </a:moveTo>
                <a:moveTo>
                  <a:pt x="989" y="488"/>
                </a:moveTo>
                <a:moveTo>
                  <a:pt x="986" y="480"/>
                </a:moveTo>
                <a:moveTo>
                  <a:pt x="984" y="473"/>
                </a:moveTo>
                <a:moveTo>
                  <a:pt x="982" y="465"/>
                </a:moveTo>
                <a:moveTo>
                  <a:pt x="982" y="461"/>
                </a:moveTo>
                <a:moveTo>
                  <a:pt x="981" y="458"/>
                </a:moveTo>
                <a:moveTo>
                  <a:pt x="980" y="454"/>
                </a:moveTo>
                <a:moveTo>
                  <a:pt x="980" y="453"/>
                </a:moveTo>
                <a:moveTo>
                  <a:pt x="980" y="453"/>
                </a:moveTo>
                <a:moveTo>
                  <a:pt x="979" y="452"/>
                </a:moveTo>
                <a:moveTo>
                  <a:pt x="979" y="451"/>
                </a:moveTo>
                <a:moveTo>
                  <a:pt x="979" y="451"/>
                </a:moveTo>
                <a:moveTo>
                  <a:pt x="980" y="451"/>
                </a:moveTo>
                <a:moveTo>
                  <a:pt x="980" y="451"/>
                </a:moveTo>
                <a:moveTo>
                  <a:pt x="980" y="452"/>
                </a:moveTo>
                <a:moveTo>
                  <a:pt x="980" y="452"/>
                </a:moveTo>
                <a:moveTo>
                  <a:pt x="980" y="452"/>
                </a:moveTo>
                <a:moveTo>
                  <a:pt x="981" y="452"/>
                </a:moveTo>
                <a:moveTo>
                  <a:pt x="981" y="452"/>
                </a:moveTo>
                <a:moveTo>
                  <a:pt x="980" y="451"/>
                </a:moveTo>
                <a:moveTo>
                  <a:pt x="980" y="451"/>
                </a:moveTo>
                <a:moveTo>
                  <a:pt x="980" y="451"/>
                </a:moveTo>
                <a:moveTo>
                  <a:pt x="980" y="451"/>
                </a:moveTo>
                <a:moveTo>
                  <a:pt x="980" y="450"/>
                </a:moveTo>
                <a:moveTo>
                  <a:pt x="980" y="450"/>
                </a:moveTo>
                <a:moveTo>
                  <a:pt x="980" y="450"/>
                </a:moveTo>
                <a:moveTo>
                  <a:pt x="980" y="449"/>
                </a:moveTo>
                <a:moveTo>
                  <a:pt x="979" y="449"/>
                </a:moveTo>
                <a:moveTo>
                  <a:pt x="979" y="449"/>
                </a:moveTo>
                <a:moveTo>
                  <a:pt x="979" y="449"/>
                </a:moveTo>
                <a:moveTo>
                  <a:pt x="980" y="449"/>
                </a:moveTo>
                <a:moveTo>
                  <a:pt x="980" y="449"/>
                </a:moveTo>
                <a:moveTo>
                  <a:pt x="980" y="448"/>
                </a:moveTo>
                <a:moveTo>
                  <a:pt x="980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7"/>
                </a:moveTo>
                <a:moveTo>
                  <a:pt x="979" y="447"/>
                </a:moveTo>
                <a:moveTo>
                  <a:pt x="979" y="447"/>
                </a:moveTo>
                <a:moveTo>
                  <a:pt x="980" y="448"/>
                </a:moveTo>
                <a:moveTo>
                  <a:pt x="980" y="448"/>
                </a:moveTo>
                <a:moveTo>
                  <a:pt x="981" y="449"/>
                </a:moveTo>
                <a:moveTo>
                  <a:pt x="983" y="448"/>
                </a:moveTo>
                <a:moveTo>
                  <a:pt x="982" y="447"/>
                </a:moveTo>
                <a:moveTo>
                  <a:pt x="982" y="447"/>
                </a:moveTo>
                <a:moveTo>
                  <a:pt x="981" y="446"/>
                </a:moveTo>
                <a:moveTo>
                  <a:pt x="981" y="446"/>
                </a:moveTo>
                <a:moveTo>
                  <a:pt x="981" y="445"/>
                </a:moveTo>
                <a:moveTo>
                  <a:pt x="982" y="445"/>
                </a:moveTo>
                <a:moveTo>
                  <a:pt x="982" y="444"/>
                </a:moveTo>
                <a:moveTo>
                  <a:pt x="984" y="441"/>
                </a:moveTo>
                <a:moveTo>
                  <a:pt x="982" y="433"/>
                </a:moveTo>
                <a:moveTo>
                  <a:pt x="982" y="430"/>
                </a:moveTo>
                <a:moveTo>
                  <a:pt x="982" y="425"/>
                </a:moveTo>
                <a:moveTo>
                  <a:pt x="982" y="420"/>
                </a:moveTo>
                <a:moveTo>
                  <a:pt x="982" y="415"/>
                </a:moveTo>
                <a:moveTo>
                  <a:pt x="983" y="417"/>
                </a:moveTo>
                <a:moveTo>
                  <a:pt x="983" y="419"/>
                </a:moveTo>
                <a:moveTo>
                  <a:pt x="984" y="421"/>
                </a:moveTo>
                <a:moveTo>
                  <a:pt x="984" y="421"/>
                </a:moveTo>
                <a:moveTo>
                  <a:pt x="984" y="422"/>
                </a:moveTo>
                <a:moveTo>
                  <a:pt x="984" y="422"/>
                </a:moveTo>
                <a:moveTo>
                  <a:pt x="984" y="422"/>
                </a:moveTo>
                <a:moveTo>
                  <a:pt x="984" y="422"/>
                </a:moveTo>
                <a:moveTo>
                  <a:pt x="984" y="423"/>
                </a:moveTo>
                <a:moveTo>
                  <a:pt x="993" y="452"/>
                </a:moveTo>
                <a:moveTo>
                  <a:pt x="1007" y="480"/>
                </a:moveTo>
                <a:moveTo>
                  <a:pt x="1023" y="507"/>
                </a:moveTo>
                <a:moveTo>
                  <a:pt x="1038" y="533"/>
                </a:moveTo>
                <a:moveTo>
                  <a:pt x="1057" y="564"/>
                </a:moveTo>
                <a:moveTo>
                  <a:pt x="1085" y="579"/>
                </a:moveTo>
                <a:moveTo>
                  <a:pt x="1086" y="579"/>
                </a:moveTo>
                <a:moveTo>
                  <a:pt x="1087" y="578"/>
                </a:moveTo>
                <a:moveTo>
                  <a:pt x="1086" y="577"/>
                </a:moveTo>
                <a:moveTo>
                  <a:pt x="859" y="237"/>
                </a:moveTo>
                <a:moveTo>
                  <a:pt x="859" y="233"/>
                </a:moveTo>
                <a:moveTo>
                  <a:pt x="860" y="230"/>
                </a:moveTo>
                <a:moveTo>
                  <a:pt x="861" y="227"/>
                </a:moveTo>
                <a:moveTo>
                  <a:pt x="862" y="227"/>
                </a:moveTo>
                <a:moveTo>
                  <a:pt x="862" y="226"/>
                </a:moveTo>
                <a:moveTo>
                  <a:pt x="862" y="226"/>
                </a:moveTo>
                <a:moveTo>
                  <a:pt x="862" y="225"/>
                </a:moveTo>
                <a:moveTo>
                  <a:pt x="863" y="224"/>
                </a:moveTo>
                <a:moveTo>
                  <a:pt x="863" y="223"/>
                </a:moveTo>
                <a:moveTo>
                  <a:pt x="864" y="223"/>
                </a:moveTo>
                <a:moveTo>
                  <a:pt x="864" y="223"/>
                </a:moveTo>
                <a:moveTo>
                  <a:pt x="864" y="222"/>
                </a:moveTo>
                <a:moveTo>
                  <a:pt x="864" y="222"/>
                </a:moveTo>
                <a:moveTo>
                  <a:pt x="864" y="221"/>
                </a:moveTo>
                <a:moveTo>
                  <a:pt x="864" y="221"/>
                </a:moveTo>
                <a:moveTo>
                  <a:pt x="865" y="220"/>
                </a:moveTo>
                <a:moveTo>
                  <a:pt x="866" y="219"/>
                </a:moveTo>
                <a:moveTo>
                  <a:pt x="866" y="219"/>
                </a:moveTo>
                <a:moveTo>
                  <a:pt x="867" y="218"/>
                </a:moveTo>
                <a:moveTo>
                  <a:pt x="867" y="218"/>
                </a:moveTo>
                <a:moveTo>
                  <a:pt x="866" y="218"/>
                </a:moveTo>
                <a:moveTo>
                  <a:pt x="867" y="218"/>
                </a:moveTo>
                <a:moveTo>
                  <a:pt x="867" y="217"/>
                </a:moveTo>
                <a:moveTo>
                  <a:pt x="868" y="217"/>
                </a:moveTo>
                <a:moveTo>
                  <a:pt x="864" y="223"/>
                </a:moveTo>
                <a:moveTo>
                  <a:pt x="861" y="230"/>
                </a:moveTo>
                <a:moveTo>
                  <a:pt x="859" y="237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428" y="851"/>
                </a:moveTo>
                <a:moveTo>
                  <a:pt x="420" y="852"/>
                </a:moveTo>
                <a:moveTo>
                  <a:pt x="411" y="852"/>
                </a:moveTo>
                <a:moveTo>
                  <a:pt x="403" y="851"/>
                </a:moveTo>
                <a:moveTo>
                  <a:pt x="392" y="851"/>
                </a:moveTo>
                <a:moveTo>
                  <a:pt x="381" y="850"/>
                </a:moveTo>
                <a:moveTo>
                  <a:pt x="370" y="848"/>
                </a:moveTo>
                <a:moveTo>
                  <a:pt x="380" y="849"/>
                </a:moveTo>
                <a:moveTo>
                  <a:pt x="390" y="849"/>
                </a:moveTo>
                <a:moveTo>
                  <a:pt x="400" y="850"/>
                </a:moveTo>
                <a:moveTo>
                  <a:pt x="409" y="850"/>
                </a:moveTo>
                <a:moveTo>
                  <a:pt x="419" y="851"/>
                </a:moveTo>
                <a:moveTo>
                  <a:pt x="428" y="851"/>
                </a:moveTo>
                <a:moveTo>
                  <a:pt x="288" y="770"/>
                </a:moveTo>
                <a:moveTo>
                  <a:pt x="323" y="770"/>
                </a:moveTo>
                <a:moveTo>
                  <a:pt x="358" y="770"/>
                </a:moveTo>
                <a:moveTo>
                  <a:pt x="393" y="770"/>
                </a:moveTo>
                <a:moveTo>
                  <a:pt x="372" y="770"/>
                </a:moveTo>
                <a:moveTo>
                  <a:pt x="351" y="772"/>
                </a:moveTo>
                <a:moveTo>
                  <a:pt x="331" y="775"/>
                </a:moveTo>
                <a:moveTo>
                  <a:pt x="313" y="774"/>
                </a:moveTo>
                <a:moveTo>
                  <a:pt x="295" y="773"/>
                </a:moveTo>
                <a:moveTo>
                  <a:pt x="277" y="775"/>
                </a:moveTo>
                <a:moveTo>
                  <a:pt x="266" y="775"/>
                </a:moveTo>
                <a:moveTo>
                  <a:pt x="255" y="775"/>
                </a:moveTo>
                <a:moveTo>
                  <a:pt x="244" y="775"/>
                </a:moveTo>
                <a:moveTo>
                  <a:pt x="259" y="773"/>
                </a:moveTo>
                <a:moveTo>
                  <a:pt x="273" y="771"/>
                </a:moveTo>
                <a:moveTo>
                  <a:pt x="288" y="770"/>
                </a:moveTo>
                <a:moveTo>
                  <a:pt x="313" y="783"/>
                </a:moveTo>
                <a:moveTo>
                  <a:pt x="317" y="782"/>
                </a:moveTo>
                <a:moveTo>
                  <a:pt x="320" y="781"/>
                </a:moveTo>
                <a:moveTo>
                  <a:pt x="324" y="781"/>
                </a:moveTo>
                <a:moveTo>
                  <a:pt x="327" y="781"/>
                </a:moveTo>
                <a:moveTo>
                  <a:pt x="330" y="781"/>
                </a:moveTo>
                <a:moveTo>
                  <a:pt x="333" y="781"/>
                </a:moveTo>
                <a:moveTo>
                  <a:pt x="333" y="781"/>
                </a:moveTo>
                <a:moveTo>
                  <a:pt x="334" y="782"/>
                </a:moveTo>
                <a:moveTo>
                  <a:pt x="335" y="782"/>
                </a:moveTo>
                <a:moveTo>
                  <a:pt x="339" y="783"/>
                </a:moveTo>
                <a:moveTo>
                  <a:pt x="344" y="784"/>
                </a:moveTo>
                <a:moveTo>
                  <a:pt x="348" y="785"/>
                </a:moveTo>
                <a:moveTo>
                  <a:pt x="337" y="785"/>
                </a:moveTo>
                <a:moveTo>
                  <a:pt x="325" y="784"/>
                </a:moveTo>
                <a:moveTo>
                  <a:pt x="313" y="783"/>
                </a:moveTo>
                <a:moveTo>
                  <a:pt x="827" y="803"/>
                </a:moveTo>
                <a:moveTo>
                  <a:pt x="827" y="803"/>
                </a:moveTo>
                <a:moveTo>
                  <a:pt x="827" y="803"/>
                </a:moveTo>
                <a:moveTo>
                  <a:pt x="827" y="803"/>
                </a:moveTo>
                <a:moveTo>
                  <a:pt x="810" y="797"/>
                </a:moveTo>
                <a:moveTo>
                  <a:pt x="791" y="797"/>
                </a:moveTo>
                <a:moveTo>
                  <a:pt x="773" y="798"/>
                </a:moveTo>
                <a:moveTo>
                  <a:pt x="754" y="798"/>
                </a:moveTo>
                <a:moveTo>
                  <a:pt x="733" y="801"/>
                </a:moveTo>
                <a:moveTo>
                  <a:pt x="715" y="792"/>
                </a:moveTo>
                <a:moveTo>
                  <a:pt x="713" y="791"/>
                </a:moveTo>
                <a:moveTo>
                  <a:pt x="711" y="794"/>
                </a:moveTo>
                <a:moveTo>
                  <a:pt x="713" y="796"/>
                </a:moveTo>
                <a:moveTo>
                  <a:pt x="728" y="803"/>
                </a:moveTo>
                <a:moveTo>
                  <a:pt x="745" y="802"/>
                </a:moveTo>
                <a:moveTo>
                  <a:pt x="762" y="802"/>
                </a:moveTo>
                <a:moveTo>
                  <a:pt x="780" y="801"/>
                </a:moveTo>
                <a:moveTo>
                  <a:pt x="799" y="800"/>
                </a:moveTo>
                <a:moveTo>
                  <a:pt x="817" y="804"/>
                </a:moveTo>
                <a:moveTo>
                  <a:pt x="809" y="805"/>
                </a:moveTo>
                <a:moveTo>
                  <a:pt x="800" y="806"/>
                </a:moveTo>
                <a:moveTo>
                  <a:pt x="792" y="806"/>
                </a:moveTo>
                <a:moveTo>
                  <a:pt x="785" y="806"/>
                </a:moveTo>
                <a:moveTo>
                  <a:pt x="779" y="805"/>
                </a:moveTo>
                <a:moveTo>
                  <a:pt x="772" y="805"/>
                </a:moveTo>
                <a:moveTo>
                  <a:pt x="773" y="804"/>
                </a:moveTo>
                <a:moveTo>
                  <a:pt x="773" y="802"/>
                </a:moveTo>
                <a:moveTo>
                  <a:pt x="771" y="802"/>
                </a:moveTo>
                <a:moveTo>
                  <a:pt x="763" y="802"/>
                </a:moveTo>
                <a:moveTo>
                  <a:pt x="755" y="803"/>
                </a:moveTo>
                <a:moveTo>
                  <a:pt x="747" y="805"/>
                </a:moveTo>
                <a:moveTo>
                  <a:pt x="690" y="804"/>
                </a:moveTo>
                <a:moveTo>
                  <a:pt x="634" y="805"/>
                </a:moveTo>
                <a:moveTo>
                  <a:pt x="577" y="807"/>
                </a:moveTo>
                <a:moveTo>
                  <a:pt x="577" y="806"/>
                </a:moveTo>
                <a:moveTo>
                  <a:pt x="576" y="806"/>
                </a:moveTo>
                <a:moveTo>
                  <a:pt x="575" y="806"/>
                </a:moveTo>
                <a:moveTo>
                  <a:pt x="550" y="806"/>
                </a:moveTo>
                <a:moveTo>
                  <a:pt x="525" y="804"/>
                </a:moveTo>
                <a:moveTo>
                  <a:pt x="500" y="802"/>
                </a:moveTo>
                <a:moveTo>
                  <a:pt x="506" y="802"/>
                </a:moveTo>
                <a:moveTo>
                  <a:pt x="513" y="802"/>
                </a:moveTo>
                <a:moveTo>
                  <a:pt x="519" y="802"/>
                </a:moveTo>
                <a:moveTo>
                  <a:pt x="522" y="802"/>
                </a:moveTo>
                <a:moveTo>
                  <a:pt x="522" y="798"/>
                </a:moveTo>
                <a:moveTo>
                  <a:pt x="519" y="798"/>
                </a:moveTo>
                <a:moveTo>
                  <a:pt x="517" y="798"/>
                </a:moveTo>
                <a:moveTo>
                  <a:pt x="514" y="798"/>
                </a:moveTo>
                <a:moveTo>
                  <a:pt x="512" y="798"/>
                </a:moveTo>
                <a:moveTo>
                  <a:pt x="528" y="795"/>
                </a:moveTo>
                <a:moveTo>
                  <a:pt x="544" y="793"/>
                </a:moveTo>
                <a:moveTo>
                  <a:pt x="559" y="791"/>
                </a:moveTo>
                <a:moveTo>
                  <a:pt x="579" y="791"/>
                </a:moveTo>
                <a:moveTo>
                  <a:pt x="599" y="790"/>
                </a:moveTo>
                <a:moveTo>
                  <a:pt x="619" y="790"/>
                </a:moveTo>
                <a:moveTo>
                  <a:pt x="622" y="790"/>
                </a:moveTo>
                <a:moveTo>
                  <a:pt x="622" y="786"/>
                </a:moveTo>
                <a:moveTo>
                  <a:pt x="619" y="786"/>
                </a:moveTo>
                <a:moveTo>
                  <a:pt x="618" y="786"/>
                </a:moveTo>
                <a:moveTo>
                  <a:pt x="617" y="786"/>
                </a:moveTo>
                <a:moveTo>
                  <a:pt x="617" y="786"/>
                </a:moveTo>
                <a:moveTo>
                  <a:pt x="617" y="786"/>
                </a:moveTo>
                <a:moveTo>
                  <a:pt x="618" y="786"/>
                </a:moveTo>
                <a:moveTo>
                  <a:pt x="618" y="786"/>
                </a:moveTo>
                <a:moveTo>
                  <a:pt x="621" y="786"/>
                </a:moveTo>
                <a:moveTo>
                  <a:pt x="624" y="786"/>
                </a:moveTo>
                <a:moveTo>
                  <a:pt x="627" y="786"/>
                </a:moveTo>
                <a:moveTo>
                  <a:pt x="628" y="786"/>
                </a:moveTo>
                <a:moveTo>
                  <a:pt x="628" y="785"/>
                </a:moveTo>
                <a:moveTo>
                  <a:pt x="629" y="785"/>
                </a:moveTo>
                <a:moveTo>
                  <a:pt x="649" y="784"/>
                </a:moveTo>
                <a:moveTo>
                  <a:pt x="670" y="782"/>
                </a:moveTo>
                <a:moveTo>
                  <a:pt x="691" y="782"/>
                </a:moveTo>
                <a:moveTo>
                  <a:pt x="712" y="781"/>
                </a:moveTo>
                <a:moveTo>
                  <a:pt x="733" y="781"/>
                </a:moveTo>
                <a:moveTo>
                  <a:pt x="755" y="781"/>
                </a:moveTo>
                <a:moveTo>
                  <a:pt x="750" y="782"/>
                </a:moveTo>
                <a:moveTo>
                  <a:pt x="744" y="782"/>
                </a:moveTo>
                <a:moveTo>
                  <a:pt x="739" y="782"/>
                </a:moveTo>
                <a:moveTo>
                  <a:pt x="739" y="782"/>
                </a:moveTo>
                <a:moveTo>
                  <a:pt x="739" y="782"/>
                </a:moveTo>
                <a:moveTo>
                  <a:pt x="739" y="782"/>
                </a:moveTo>
                <a:moveTo>
                  <a:pt x="724" y="781"/>
                </a:moveTo>
                <a:moveTo>
                  <a:pt x="709" y="781"/>
                </a:moveTo>
                <a:moveTo>
                  <a:pt x="694" y="783"/>
                </a:moveTo>
                <a:moveTo>
                  <a:pt x="692" y="783"/>
                </a:moveTo>
                <a:moveTo>
                  <a:pt x="691" y="786"/>
                </a:moveTo>
                <a:moveTo>
                  <a:pt x="693" y="787"/>
                </a:moveTo>
                <a:moveTo>
                  <a:pt x="696" y="788"/>
                </a:moveTo>
                <a:moveTo>
                  <a:pt x="698" y="789"/>
                </a:moveTo>
                <a:moveTo>
                  <a:pt x="702" y="790"/>
                </a:moveTo>
                <a:moveTo>
                  <a:pt x="704" y="790"/>
                </a:moveTo>
                <a:moveTo>
                  <a:pt x="705" y="787"/>
                </a:moveTo>
                <a:moveTo>
                  <a:pt x="703" y="786"/>
                </a:moveTo>
                <a:moveTo>
                  <a:pt x="718" y="785"/>
                </a:moveTo>
                <a:moveTo>
                  <a:pt x="732" y="785"/>
                </a:moveTo>
                <a:moveTo>
                  <a:pt x="746" y="786"/>
                </a:moveTo>
                <a:moveTo>
                  <a:pt x="756" y="787"/>
                </a:moveTo>
                <a:moveTo>
                  <a:pt x="765" y="790"/>
                </a:moveTo>
                <a:moveTo>
                  <a:pt x="775" y="790"/>
                </a:moveTo>
                <a:moveTo>
                  <a:pt x="776" y="790"/>
                </a:moveTo>
                <a:moveTo>
                  <a:pt x="776" y="790"/>
                </a:moveTo>
                <a:moveTo>
                  <a:pt x="776" y="789"/>
                </a:moveTo>
                <a:moveTo>
                  <a:pt x="785" y="791"/>
                </a:moveTo>
                <a:moveTo>
                  <a:pt x="794" y="792"/>
                </a:moveTo>
                <a:moveTo>
                  <a:pt x="803" y="794"/>
                </a:moveTo>
                <a:moveTo>
                  <a:pt x="803" y="795"/>
                </a:moveTo>
                <a:moveTo>
                  <a:pt x="804" y="796"/>
                </a:moveTo>
                <a:moveTo>
                  <a:pt x="805" y="796"/>
                </a:moveTo>
                <a:moveTo>
                  <a:pt x="808" y="796"/>
                </a:moveTo>
                <a:moveTo>
                  <a:pt x="812" y="796"/>
                </a:moveTo>
                <a:moveTo>
                  <a:pt x="815" y="796"/>
                </a:moveTo>
                <a:moveTo>
                  <a:pt x="817" y="796"/>
                </a:moveTo>
                <a:moveTo>
                  <a:pt x="818" y="792"/>
                </a:moveTo>
                <a:moveTo>
                  <a:pt x="816" y="792"/>
                </a:moveTo>
                <a:moveTo>
                  <a:pt x="800" y="789"/>
                </a:moveTo>
                <a:moveTo>
                  <a:pt x="785" y="786"/>
                </a:moveTo>
                <a:moveTo>
                  <a:pt x="770" y="785"/>
                </a:moveTo>
                <a:moveTo>
                  <a:pt x="775" y="784"/>
                </a:moveTo>
                <a:moveTo>
                  <a:pt x="780" y="784"/>
                </a:moveTo>
                <a:moveTo>
                  <a:pt x="785" y="783"/>
                </a:moveTo>
                <a:moveTo>
                  <a:pt x="806" y="785"/>
                </a:moveTo>
                <a:moveTo>
                  <a:pt x="826" y="787"/>
                </a:moveTo>
                <a:moveTo>
                  <a:pt x="847" y="790"/>
                </a:moveTo>
                <a:moveTo>
                  <a:pt x="847" y="790"/>
                </a:moveTo>
                <a:moveTo>
                  <a:pt x="848" y="789"/>
                </a:moveTo>
                <a:moveTo>
                  <a:pt x="849" y="789"/>
                </a:moveTo>
                <a:moveTo>
                  <a:pt x="863" y="791"/>
                </a:moveTo>
                <a:moveTo>
                  <a:pt x="876" y="794"/>
                </a:moveTo>
                <a:moveTo>
                  <a:pt x="890" y="797"/>
                </a:moveTo>
                <a:moveTo>
                  <a:pt x="869" y="799"/>
                </a:moveTo>
                <a:moveTo>
                  <a:pt x="848" y="801"/>
                </a:moveTo>
                <a:moveTo>
                  <a:pt x="827" y="803"/>
                </a:moveTo>
                <a:moveTo>
                  <a:pt x="795" y="778"/>
                </a:moveTo>
                <a:moveTo>
                  <a:pt x="793" y="779"/>
                </a:moveTo>
                <a:moveTo>
                  <a:pt x="791" y="779"/>
                </a:moveTo>
                <a:moveTo>
                  <a:pt x="790" y="779"/>
                </a:moveTo>
                <a:moveTo>
                  <a:pt x="786" y="779"/>
                </a:moveTo>
                <a:moveTo>
                  <a:pt x="781" y="778"/>
                </a:moveTo>
                <a:moveTo>
                  <a:pt x="777" y="778"/>
                </a:moveTo>
                <a:moveTo>
                  <a:pt x="783" y="778"/>
                </a:moveTo>
                <a:moveTo>
                  <a:pt x="789" y="778"/>
                </a:moveTo>
                <a:moveTo>
                  <a:pt x="795" y="778"/>
                </a:moveTo>
                <a:moveTo>
                  <a:pt x="634" y="780"/>
                </a:moveTo>
                <a:moveTo>
                  <a:pt x="627" y="781"/>
                </a:moveTo>
                <a:moveTo>
                  <a:pt x="620" y="781"/>
                </a:moveTo>
                <a:moveTo>
                  <a:pt x="613" y="782"/>
                </a:moveTo>
                <a:moveTo>
                  <a:pt x="607" y="782"/>
                </a:moveTo>
                <a:moveTo>
                  <a:pt x="601" y="781"/>
                </a:moveTo>
                <a:moveTo>
                  <a:pt x="595" y="781"/>
                </a:moveTo>
                <a:moveTo>
                  <a:pt x="608" y="781"/>
                </a:moveTo>
                <a:moveTo>
                  <a:pt x="621" y="780"/>
                </a:moveTo>
                <a:moveTo>
                  <a:pt x="634" y="780"/>
                </a:moveTo>
                <a:moveTo>
                  <a:pt x="411" y="786"/>
                </a:moveTo>
                <a:moveTo>
                  <a:pt x="458" y="786"/>
                </a:moveTo>
                <a:moveTo>
                  <a:pt x="505" y="784"/>
                </a:moveTo>
                <a:moveTo>
                  <a:pt x="552" y="782"/>
                </a:moveTo>
                <a:moveTo>
                  <a:pt x="563" y="783"/>
                </a:moveTo>
                <a:moveTo>
                  <a:pt x="574" y="784"/>
                </a:moveTo>
                <a:moveTo>
                  <a:pt x="585" y="785"/>
                </a:moveTo>
                <a:moveTo>
                  <a:pt x="577" y="785"/>
                </a:moveTo>
                <a:moveTo>
                  <a:pt x="568" y="786"/>
                </a:moveTo>
                <a:moveTo>
                  <a:pt x="559" y="787"/>
                </a:moveTo>
                <a:moveTo>
                  <a:pt x="531" y="789"/>
                </a:moveTo>
                <a:moveTo>
                  <a:pt x="504" y="790"/>
                </a:moveTo>
                <a:moveTo>
                  <a:pt x="476" y="791"/>
                </a:moveTo>
              </a:path>
              <a:path w="1087" h="863">
                <a:moveTo>
                  <a:pt x="459" y="791"/>
                </a:moveTo>
                <a:lnTo>
                  <a:pt x="442" y="791"/>
                </a:lnTo>
                <a:moveTo>
                  <a:pt x="425" y="791"/>
                </a:move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ubicBezTo>
                  <a:pt x="427" y="770"/>
                  <a:pt x="426" y="770"/>
                  <a:pt x="426" y="770"/>
                </a:cubicBezTo>
                <a:cubicBezTo>
                  <a:pt x="425" y="770"/>
                  <a:pt x="426" y="770"/>
                  <a:pt x="426" y="770"/>
                </a:cubicBezTo>
                <a:cubicBezTo>
                  <a:pt x="427" y="770"/>
                  <a:pt x="427" y="770"/>
                  <a:pt x="427" y="770"/>
                </a:cubicBezTo>
                <a:cubicBezTo>
                  <a:pt x="427" y="770"/>
                  <a:pt x="908" y="322"/>
                  <a:pt x="908" y="323"/>
                </a:cubicBezTo>
                <a:cubicBezTo>
                  <a:pt x="908" y="325"/>
                  <a:pt x="908" y="326"/>
                  <a:pt x="908" y="326"/>
                </a:cubicBezTo>
                <a:cubicBezTo>
                  <a:pt x="909" y="327"/>
                  <a:pt x="909" y="327"/>
                  <a:pt x="909" y="329"/>
                </a:cubicBezTo>
                <a:cubicBezTo>
                  <a:pt x="910" y="332"/>
                  <a:pt x="910" y="334"/>
                  <a:pt x="907" y="332"/>
                </a:cubicBezTo>
                <a:cubicBezTo>
                  <a:pt x="904" y="331"/>
                  <a:pt x="900" y="331"/>
                  <a:pt x="900" y="321"/>
                </a:cubicBezTo>
                <a:cubicBezTo>
                  <a:pt x="900" y="312"/>
                  <a:pt x="901" y="302"/>
                  <a:pt x="904" y="302"/>
                </a:cubicBezTo>
                <a:cubicBezTo>
                  <a:pt x="906" y="302"/>
                  <a:pt x="908" y="303"/>
                  <a:pt x="908" y="309"/>
                </a:cubicBezTo>
                <a:cubicBezTo>
                  <a:pt x="908" y="315"/>
                  <a:pt x="908" y="320"/>
                  <a:pt x="908" y="318"/>
                </a:cubicBezTo>
                <a:cubicBezTo>
                  <a:pt x="907" y="316"/>
                  <a:pt x="906" y="314"/>
                  <a:pt x="906" y="314"/>
                </a:cubicBezTo>
                <a:cubicBezTo>
                  <a:pt x="906" y="314"/>
                  <a:pt x="906" y="314"/>
                  <a:pt x="907" y="317"/>
                </a:cubicBezTo>
                <a:cubicBezTo>
                  <a:pt x="907" y="319"/>
                  <a:pt x="908" y="322"/>
                  <a:pt x="912" y="421"/>
                </a:cubicBez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ubicBezTo>
                  <a:pt x="912" y="423"/>
                  <a:pt x="911" y="423"/>
                  <a:pt x="911" y="423"/>
                </a:cubicBezTo>
                <a:cubicBezTo>
                  <a:pt x="911" y="422"/>
                  <a:pt x="911" y="422"/>
                  <a:pt x="911" y="421"/>
                </a:cubicBezTo>
                <a:cubicBezTo>
                  <a:pt x="911" y="420"/>
                  <a:pt x="911" y="421"/>
                  <a:pt x="911" y="421"/>
                </a:cubicBezTo>
                <a:cubicBezTo>
                  <a:pt x="912" y="421"/>
                  <a:pt x="912" y="422"/>
                  <a:pt x="912" y="422"/>
                </a:cubicBezTo>
                <a:cubicBezTo>
                  <a:pt x="912" y="423"/>
                  <a:pt x="913" y="422"/>
                  <a:pt x="914" y="422"/>
                </a:cubicBezTo>
                <a:cubicBezTo>
                  <a:pt x="915" y="423"/>
                  <a:pt x="916" y="424"/>
                  <a:pt x="915" y="424"/>
                </a:cubicBezTo>
                <a:cubicBezTo>
                  <a:pt x="913" y="424"/>
                  <a:pt x="912" y="423"/>
                  <a:pt x="912" y="423"/>
                </a:cubicBezTo>
                <a:cubicBezTo>
                  <a:pt x="912" y="422"/>
                  <a:pt x="913" y="422"/>
                  <a:pt x="910" y="486"/>
                </a:cubicBez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ubicBezTo>
                  <a:pt x="914" y="490"/>
                  <a:pt x="914" y="490"/>
                  <a:pt x="913" y="490"/>
                </a:cubicBezTo>
                <a:cubicBezTo>
                  <a:pt x="912" y="490"/>
                  <a:pt x="912" y="490"/>
                  <a:pt x="911" y="490"/>
                </a:cubicBezTo>
                <a:cubicBezTo>
                  <a:pt x="912" y="490"/>
                  <a:pt x="912" y="490"/>
                  <a:pt x="912" y="490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12" y="491"/>
                  <a:pt x="922" y="492"/>
                  <a:pt x="930" y="497"/>
                </a:cubicBezTo>
                <a:cubicBezTo>
                  <a:pt x="939" y="500"/>
                  <a:pt x="939" y="501"/>
                  <a:pt x="939" y="501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2"/>
                  <a:pt x="939" y="501"/>
                  <a:pt x="939" y="501"/>
                </a:cubicBezTo>
                <a:cubicBezTo>
                  <a:pt x="939" y="500"/>
                  <a:pt x="941" y="501"/>
                  <a:pt x="943" y="501"/>
                </a:cubicBezTo>
                <a:cubicBezTo>
                  <a:pt x="944" y="502"/>
                  <a:pt x="950" y="503"/>
                  <a:pt x="957" y="503"/>
                </a:cubicBezTo>
                <a:cubicBezTo>
                  <a:pt x="963" y="505"/>
                  <a:pt x="963" y="510"/>
                  <a:pt x="963" y="514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49" y="516"/>
                  <a:pt x="936" y="513"/>
                </a:cubicBezTo>
                <a:cubicBezTo>
                  <a:pt x="922" y="509"/>
                  <a:pt x="921" y="508"/>
                  <a:pt x="920" y="507"/>
                </a:cubicBezTo>
                <a:cubicBezTo>
                  <a:pt x="919" y="506"/>
                  <a:pt x="918" y="505"/>
                  <a:pt x="918" y="506"/>
                </a:cubicBezTo>
                <a:cubicBezTo>
                  <a:pt x="918" y="506"/>
                  <a:pt x="919" y="507"/>
                  <a:pt x="920" y="508"/>
                </a:cubicBezTo>
                <a:cubicBezTo>
                  <a:pt x="921" y="509"/>
                  <a:pt x="919" y="508"/>
                  <a:pt x="916" y="507"/>
                </a:cubicBezTo>
                <a:cubicBezTo>
                  <a:pt x="914" y="506"/>
                  <a:pt x="914" y="506"/>
                  <a:pt x="914" y="506"/>
                </a:cubicBezTo>
                <a:cubicBezTo>
                  <a:pt x="913" y="506"/>
                  <a:pt x="913" y="506"/>
                  <a:pt x="911" y="505"/>
                </a:cubicBezTo>
                <a:cubicBezTo>
                  <a:pt x="910" y="504"/>
                  <a:pt x="910" y="499"/>
                  <a:pt x="910" y="493"/>
                </a:cubicBezTo>
                <a:cubicBezTo>
                  <a:pt x="910" y="488"/>
                  <a:pt x="912" y="489"/>
                  <a:pt x="914" y="490"/>
                </a:cubicBezTo>
                <a:cubicBezTo>
                  <a:pt x="915" y="491"/>
                  <a:pt x="913" y="490"/>
                  <a:pt x="911" y="490"/>
                </a:cubicBezTo>
                <a:cubicBezTo>
                  <a:pt x="914" y="491"/>
                  <a:pt x="915" y="491"/>
                  <a:pt x="915" y="490"/>
                </a:cubicBezTo>
                <a:cubicBezTo>
                  <a:pt x="914" y="490"/>
                  <a:pt x="963" y="476"/>
                  <a:pt x="963" y="477"/>
                </a:cubicBezTo>
                <a:cubicBezTo>
                  <a:pt x="963" y="478"/>
                  <a:pt x="963" y="479"/>
                  <a:pt x="964" y="483"/>
                </a:cubicBezTo>
                <a:cubicBezTo>
                  <a:pt x="964" y="486"/>
                  <a:pt x="964" y="489"/>
                  <a:pt x="965" y="495"/>
                </a:cubicBezTo>
                <a:cubicBezTo>
                  <a:pt x="965" y="500"/>
                  <a:pt x="964" y="506"/>
                  <a:pt x="964" y="505"/>
                </a:cubicBezTo>
                <a:cubicBezTo>
                  <a:pt x="964" y="505"/>
                  <a:pt x="963" y="505"/>
                  <a:pt x="963" y="496"/>
                </a:cubicBezTo>
                <a:cubicBezTo>
                  <a:pt x="963" y="486"/>
                  <a:pt x="963" y="476"/>
                  <a:pt x="964" y="506"/>
                </a:cubicBez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ubicBezTo>
                  <a:pt x="965" y="517"/>
                  <a:pt x="965" y="513"/>
                  <a:pt x="965" y="510"/>
                </a:cubicBezTo>
                <a:cubicBezTo>
                  <a:pt x="966" y="506"/>
                  <a:pt x="966" y="507"/>
                  <a:pt x="966" y="507"/>
                </a:cubicBezTo>
                <a:cubicBezTo>
                  <a:pt x="967" y="507"/>
                  <a:pt x="967" y="507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7" y="508"/>
                  <a:pt x="966" y="508"/>
                  <a:pt x="967" y="517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8"/>
                  <a:pt x="966" y="518"/>
                  <a:pt x="965" y="518"/>
                </a:cubicBezTo>
                <a:cubicBezTo>
                  <a:pt x="964" y="518"/>
                  <a:pt x="964" y="514"/>
                  <a:pt x="964" y="510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06"/>
                  <a:pt x="965" y="510"/>
                  <a:pt x="964" y="513"/>
                </a:cubicBezTo>
                <a:cubicBezTo>
                  <a:pt x="964" y="517"/>
                  <a:pt x="964" y="517"/>
                  <a:pt x="965" y="517"/>
                </a:cubicBezTo>
                <a:cubicBezTo>
                  <a:pt x="965" y="517"/>
                  <a:pt x="966" y="506"/>
                  <a:pt x="966" y="502"/>
                </a:cubicBezTo>
                <a:cubicBezTo>
                  <a:pt x="967" y="499"/>
                  <a:pt x="967" y="495"/>
                  <a:pt x="967" y="499"/>
                </a:cubicBezTo>
                <a:cubicBezTo>
                  <a:pt x="967" y="503"/>
                  <a:pt x="967" y="507"/>
                  <a:pt x="966" y="506"/>
                </a:cubicBezTo>
                <a:cubicBezTo>
                  <a:pt x="966" y="506"/>
                  <a:pt x="966" y="506"/>
                  <a:pt x="963" y="540"/>
                </a:cubicBez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ubicBezTo>
                  <a:pt x="894" y="577"/>
                  <a:pt x="894" y="574"/>
                  <a:pt x="894" y="571"/>
                </a:cubicBezTo>
                <a:cubicBezTo>
                  <a:pt x="894" y="568"/>
                  <a:pt x="894" y="568"/>
                  <a:pt x="895" y="568"/>
                </a:cubicBezTo>
                <a:cubicBezTo>
                  <a:pt x="895" y="568"/>
                  <a:pt x="895" y="571"/>
                  <a:pt x="894" y="575"/>
                </a:cubicBezTo>
                <a:cubicBezTo>
                  <a:pt x="894" y="578"/>
                  <a:pt x="894" y="578"/>
                  <a:pt x="894" y="578"/>
                </a:cubicBezTo>
                <a:cubicBezTo>
                  <a:pt x="894" y="577"/>
                  <a:pt x="894" y="568"/>
                  <a:pt x="894" y="567"/>
                </a:cubicBezTo>
                <a:cubicBezTo>
                  <a:pt x="893" y="566"/>
                  <a:pt x="893" y="565"/>
                  <a:pt x="894" y="565"/>
                </a:cubicBezTo>
                <a:cubicBezTo>
                  <a:pt x="895" y="565"/>
                  <a:pt x="895" y="565"/>
                  <a:pt x="895" y="566"/>
                </a:cubicBezTo>
                <a:cubicBezTo>
                  <a:pt x="895" y="567"/>
                  <a:pt x="895" y="568"/>
                  <a:pt x="895" y="568"/>
                </a:cubicBezTo>
                <a:cubicBezTo>
                  <a:pt x="894" y="568"/>
                  <a:pt x="894" y="568"/>
                  <a:pt x="889" y="594"/>
                </a:cubicBez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ubicBezTo>
                  <a:pt x="887" y="580"/>
                  <a:pt x="887" y="581"/>
                  <a:pt x="887" y="582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7" y="583"/>
                  <a:pt x="886" y="583"/>
                  <a:pt x="886" y="583"/>
                </a:cubicBezTo>
                <a:cubicBezTo>
                  <a:pt x="885" y="583"/>
                  <a:pt x="885" y="583"/>
                  <a:pt x="885" y="583"/>
                </a:cubicBezTo>
                <a:cubicBezTo>
                  <a:pt x="885" y="582"/>
                  <a:pt x="885" y="582"/>
                  <a:pt x="885" y="582"/>
                </a:cubicBezTo>
                <a:cubicBezTo>
                  <a:pt x="885" y="583"/>
                  <a:pt x="887" y="583"/>
                  <a:pt x="887" y="581"/>
                </a:cubicBezTo>
                <a:cubicBezTo>
                  <a:pt x="887" y="580"/>
                  <a:pt x="887" y="580"/>
                  <a:pt x="887" y="580"/>
                </a:cubicBezTo>
                <a:cubicBezTo>
                  <a:pt x="887" y="580"/>
                  <a:pt x="882" y="614"/>
                  <a:pt x="882" y="612"/>
                </a:cubicBezTo>
                <a:cubicBezTo>
                  <a:pt x="882" y="607"/>
                  <a:pt x="882" y="607"/>
                  <a:pt x="882" y="600"/>
                </a:cubicBezTo>
                <a:cubicBezTo>
                  <a:pt x="882" y="594"/>
                  <a:pt x="884" y="588"/>
                  <a:pt x="884" y="591"/>
                </a:cubicBezTo>
                <a:cubicBezTo>
                  <a:pt x="884" y="596"/>
                  <a:pt x="884" y="599"/>
                  <a:pt x="884" y="599"/>
                </a:cubicBezTo>
                <a:cubicBezTo>
                  <a:pt x="884" y="599"/>
                  <a:pt x="884" y="599"/>
                  <a:pt x="884" y="604"/>
                </a:cubicBezTo>
                <a:cubicBezTo>
                  <a:pt x="883" y="609"/>
                  <a:pt x="884" y="614"/>
                  <a:pt x="883" y="614"/>
                </a:cubicBezTo>
                <a:cubicBezTo>
                  <a:pt x="883" y="614"/>
                  <a:pt x="882" y="614"/>
                  <a:pt x="884" y="614"/>
                </a:cubicBez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ubicBezTo>
                  <a:pt x="884" y="587"/>
                  <a:pt x="884" y="587"/>
                  <a:pt x="884" y="587"/>
                </a:cubicBezTo>
                <a:cubicBezTo>
                  <a:pt x="884" y="587"/>
                  <a:pt x="882" y="594"/>
                  <a:pt x="881" y="601"/>
                </a:cubicBezTo>
                <a:cubicBezTo>
                  <a:pt x="882" y="609"/>
                  <a:pt x="882" y="610"/>
                  <a:pt x="881" y="612"/>
                </a:cubicBezTo>
                <a:cubicBezTo>
                  <a:pt x="881" y="614"/>
                  <a:pt x="881" y="614"/>
                  <a:pt x="881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14"/>
                  <a:pt x="880" y="604"/>
                  <a:pt x="879" y="594"/>
                </a:cubicBezTo>
                <a:cubicBezTo>
                  <a:pt x="881" y="584"/>
                  <a:pt x="882" y="584"/>
                  <a:pt x="883" y="584"/>
                </a:cubicBezTo>
                <a:cubicBezTo>
                  <a:pt x="883" y="584"/>
                  <a:pt x="883" y="585"/>
                  <a:pt x="884" y="586"/>
                </a:cubicBezTo>
                <a:cubicBezTo>
                  <a:pt x="884" y="587"/>
                  <a:pt x="874" y="615"/>
                  <a:pt x="873" y="615"/>
                </a:cubicBezTo>
                <a:cubicBezTo>
                  <a:pt x="873" y="615"/>
                  <a:pt x="873" y="615"/>
                  <a:pt x="873" y="615"/>
                </a:cubicBezTo>
                <a:cubicBezTo>
                  <a:pt x="872" y="615"/>
                  <a:pt x="872" y="615"/>
                  <a:pt x="872" y="615"/>
                </a:cubicBezTo>
                <a:cubicBezTo>
                  <a:pt x="872" y="614"/>
                  <a:pt x="872" y="614"/>
                  <a:pt x="872" y="614"/>
                </a:cubicBez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4" y="615"/>
                  <a:pt x="874" y="615"/>
                </a:cubicBezTo>
                <a:cubicBezTo>
                  <a:pt x="874" y="615"/>
                  <a:pt x="874" y="615"/>
                  <a:pt x="866" y="614"/>
                </a:cubicBez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ubicBezTo>
                  <a:pt x="824" y="613"/>
                  <a:pt x="824" y="612"/>
                  <a:pt x="824" y="610"/>
                </a:cubicBezTo>
                <a:cubicBezTo>
                  <a:pt x="824" y="608"/>
                  <a:pt x="827" y="599"/>
                  <a:pt x="826" y="590"/>
                </a:cubicBezTo>
                <a:cubicBezTo>
                  <a:pt x="826" y="581"/>
                  <a:pt x="827" y="581"/>
                  <a:pt x="828" y="580"/>
                </a:cubicBezTo>
                <a:cubicBezTo>
                  <a:pt x="829" y="580"/>
                  <a:pt x="830" y="580"/>
                  <a:pt x="831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2" y="580"/>
                  <a:pt x="831" y="580"/>
                  <a:pt x="831" y="580"/>
                </a:cubicBezTo>
                <a:cubicBezTo>
                  <a:pt x="831" y="581"/>
                  <a:pt x="830" y="583"/>
                  <a:pt x="829" y="588"/>
                </a:cubicBezTo>
                <a:cubicBezTo>
                  <a:pt x="829" y="592"/>
                  <a:pt x="828" y="593"/>
                  <a:pt x="828" y="594"/>
                </a:cubicBezTo>
                <a:cubicBezTo>
                  <a:pt x="828" y="595"/>
                  <a:pt x="827" y="599"/>
                  <a:pt x="827" y="604"/>
                </a:cubicBezTo>
                <a:cubicBezTo>
                  <a:pt x="826" y="609"/>
                  <a:pt x="826" y="610"/>
                  <a:pt x="827" y="611"/>
                </a:cubicBezTo>
                <a:cubicBezTo>
                  <a:pt x="828" y="611"/>
                  <a:pt x="829" y="611"/>
                  <a:pt x="830" y="611"/>
                </a:cubicBezTo>
                <a:cubicBezTo>
                  <a:pt x="831" y="610"/>
                  <a:pt x="831" y="611"/>
                  <a:pt x="832" y="611"/>
                </a:cubicBezTo>
                <a:cubicBezTo>
                  <a:pt x="833" y="611"/>
                  <a:pt x="834" y="611"/>
                  <a:pt x="834" y="611"/>
                </a:cubicBezTo>
                <a:cubicBezTo>
                  <a:pt x="835" y="611"/>
                  <a:pt x="835" y="611"/>
                  <a:pt x="835" y="612"/>
                </a:cubicBezTo>
                <a:cubicBezTo>
                  <a:pt x="836" y="613"/>
                  <a:pt x="842" y="613"/>
                  <a:pt x="848" y="613"/>
                </a:cubicBezTo>
                <a:cubicBezTo>
                  <a:pt x="854" y="613"/>
                  <a:pt x="857" y="613"/>
                  <a:pt x="857" y="609"/>
                </a:cubicBezTo>
                <a:cubicBezTo>
                  <a:pt x="854" y="609"/>
                  <a:pt x="854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3" y="609"/>
                  <a:pt x="854" y="609"/>
                  <a:pt x="855" y="609"/>
                </a:cubicBezTo>
                <a:cubicBezTo>
                  <a:pt x="856" y="609"/>
                  <a:pt x="857" y="610"/>
                  <a:pt x="859" y="609"/>
                </a:cubicBezTo>
                <a:cubicBezTo>
                  <a:pt x="859" y="607"/>
                  <a:pt x="859" y="603"/>
                  <a:pt x="859" y="599"/>
                </a:cubicBezTo>
                <a:cubicBezTo>
                  <a:pt x="859" y="594"/>
                  <a:pt x="864" y="595"/>
                  <a:pt x="861" y="609"/>
                </a:cubicBezTo>
                <a:cubicBezTo>
                  <a:pt x="860" y="614"/>
                  <a:pt x="848" y="614"/>
                  <a:pt x="836" y="616"/>
                </a:cubicBezTo>
                <a:cubicBezTo>
                  <a:pt x="824" y="613"/>
                  <a:pt x="819" y="611"/>
                  <a:pt x="818" y="611"/>
                </a:cubicBezTo>
                <a:cubicBezTo>
                  <a:pt x="817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3" y="611"/>
                </a:cubicBezTo>
                <a:cubicBezTo>
                  <a:pt x="812" y="611"/>
                  <a:pt x="811" y="611"/>
                  <a:pt x="809" y="596"/>
                </a:cubicBezTo>
                <a:cubicBezTo>
                  <a:pt x="809" y="581"/>
                  <a:pt x="809" y="566"/>
                  <a:pt x="812" y="566"/>
                </a:cubicBezTo>
                <a:cubicBezTo>
                  <a:pt x="814" y="565"/>
                  <a:pt x="817" y="565"/>
                  <a:pt x="817" y="566"/>
                </a:cubicBezTo>
                <a:cubicBezTo>
                  <a:pt x="817" y="568"/>
                  <a:pt x="817" y="569"/>
                  <a:pt x="817" y="569"/>
                </a:cubicBezTo>
                <a:cubicBezTo>
                  <a:pt x="816" y="569"/>
                  <a:pt x="816" y="569"/>
                  <a:pt x="817" y="569"/>
                </a:cubicBezTo>
                <a:cubicBezTo>
                  <a:pt x="816" y="569"/>
                  <a:pt x="816" y="569"/>
                  <a:pt x="816" y="569"/>
                </a:cubicBezTo>
                <a:cubicBezTo>
                  <a:pt x="816" y="569"/>
                  <a:pt x="815" y="570"/>
                  <a:pt x="815" y="570"/>
                </a:cubicBezTo>
                <a:cubicBezTo>
                  <a:pt x="815" y="570"/>
                  <a:pt x="816" y="570"/>
                  <a:pt x="816" y="570"/>
                </a:cubicBezTo>
                <a:cubicBezTo>
                  <a:pt x="816" y="570"/>
                  <a:pt x="817" y="570"/>
                  <a:pt x="816" y="577"/>
                </a:cubicBezTo>
                <a:cubicBezTo>
                  <a:pt x="816" y="585"/>
                  <a:pt x="816" y="592"/>
                  <a:pt x="816" y="592"/>
                </a:cubicBezTo>
                <a:cubicBezTo>
                  <a:pt x="817" y="592"/>
                  <a:pt x="817" y="592"/>
                  <a:pt x="817" y="584"/>
                </a:cubicBezTo>
                <a:cubicBezTo>
                  <a:pt x="817" y="577"/>
                  <a:pt x="817" y="570"/>
                  <a:pt x="817" y="570"/>
                </a:cubicBezTo>
                <a:cubicBezTo>
                  <a:pt x="818" y="570"/>
                  <a:pt x="818" y="570"/>
                  <a:pt x="818" y="571"/>
                </a:cubicBezTo>
                <a:cubicBezTo>
                  <a:pt x="818" y="572"/>
                  <a:pt x="818" y="572"/>
                  <a:pt x="818" y="572"/>
                </a:cubicBezTo>
                <a:cubicBezTo>
                  <a:pt x="818" y="572"/>
                  <a:pt x="818" y="573"/>
                  <a:pt x="818" y="573"/>
                </a:cubicBezTo>
                <a:cubicBezTo>
                  <a:pt x="818" y="574"/>
                  <a:pt x="818" y="574"/>
                  <a:pt x="818" y="574"/>
                </a:cubicBezTo>
                <a:cubicBezTo>
                  <a:pt x="819" y="574"/>
                  <a:pt x="819" y="574"/>
                  <a:pt x="819" y="573"/>
                </a:cubicBezTo>
                <a:cubicBezTo>
                  <a:pt x="819" y="571"/>
                  <a:pt x="819" y="570"/>
                  <a:pt x="819" y="570"/>
                </a:cubicBezTo>
                <a:cubicBezTo>
                  <a:pt x="819" y="570"/>
                  <a:pt x="819" y="570"/>
                  <a:pt x="818" y="583"/>
                </a:cubicBezTo>
                <a:cubicBezTo>
                  <a:pt x="818" y="596"/>
                  <a:pt x="816" y="609"/>
                  <a:pt x="815" y="609"/>
                </a:cubicBezTo>
                <a:cubicBezTo>
                  <a:pt x="816" y="609"/>
                  <a:pt x="816" y="609"/>
                  <a:pt x="816" y="608"/>
                </a:cubicBezTo>
                <a:cubicBezTo>
                  <a:pt x="816" y="608"/>
                  <a:pt x="817" y="607"/>
                  <a:pt x="817" y="607"/>
                </a:cubicBezTo>
                <a:cubicBezTo>
                  <a:pt x="816" y="607"/>
                  <a:pt x="816" y="607"/>
                  <a:pt x="818" y="604"/>
                </a:cubicBezTo>
                <a:cubicBezTo>
                  <a:pt x="818" y="599"/>
                  <a:pt x="818" y="595"/>
                  <a:pt x="818" y="600"/>
                </a:cubicBezTo>
                <a:cubicBezTo>
                  <a:pt x="819" y="605"/>
                  <a:pt x="819" y="610"/>
                  <a:pt x="819" y="610"/>
                </a:cubicBezTo>
                <a:cubicBezTo>
                  <a:pt x="820" y="610"/>
                  <a:pt x="820" y="610"/>
                  <a:pt x="820" y="602"/>
                </a:cubicBezTo>
                <a:cubicBezTo>
                  <a:pt x="818" y="592"/>
                  <a:pt x="820" y="584"/>
                  <a:pt x="819" y="585"/>
                </a:cubicBezTo>
                <a:cubicBezTo>
                  <a:pt x="820" y="586"/>
                  <a:pt x="821" y="585"/>
                  <a:pt x="821" y="585"/>
                </a:cubicBezTo>
                <a:cubicBezTo>
                  <a:pt x="821" y="585"/>
                  <a:pt x="822" y="585"/>
                  <a:pt x="822" y="585"/>
                </a:cubicBezTo>
                <a:cubicBezTo>
                  <a:pt x="822" y="585"/>
                  <a:pt x="822" y="586"/>
                  <a:pt x="822" y="593"/>
                </a:cubicBezTo>
                <a:cubicBezTo>
                  <a:pt x="821" y="600"/>
                  <a:pt x="820" y="607"/>
                  <a:pt x="820" y="609"/>
                </a:cubicBezTo>
                <a:cubicBezTo>
                  <a:pt x="821" y="610"/>
                  <a:pt x="822" y="610"/>
                  <a:pt x="822" y="611"/>
                </a:cubicBezTo>
                <a:cubicBezTo>
                  <a:pt x="822" y="612"/>
                  <a:pt x="822" y="613"/>
                  <a:pt x="821" y="613"/>
                </a:cubicBezTo>
                <a:cubicBezTo>
                  <a:pt x="821" y="613"/>
                  <a:pt x="820" y="612"/>
                  <a:pt x="820" y="612"/>
                </a:cubicBezTo>
                <a:cubicBezTo>
                  <a:pt x="820" y="611"/>
                  <a:pt x="819" y="611"/>
                  <a:pt x="800" y="562"/>
                </a:cubicBez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ubicBezTo>
                  <a:pt x="798" y="564"/>
                  <a:pt x="798" y="564"/>
                  <a:pt x="797" y="564"/>
                </a:cubicBezTo>
                <a:cubicBezTo>
                  <a:pt x="797" y="564"/>
                  <a:pt x="797" y="564"/>
                  <a:pt x="798" y="564"/>
                </a:cubicBezTo>
                <a:cubicBezTo>
                  <a:pt x="798" y="563"/>
                  <a:pt x="798" y="563"/>
                  <a:pt x="798" y="564"/>
                </a:cubicBezTo>
                <a:cubicBezTo>
                  <a:pt x="798" y="564"/>
                  <a:pt x="797" y="535"/>
                  <a:pt x="796" y="533"/>
                </a:cubicBezTo>
                <a:cubicBezTo>
                  <a:pt x="797" y="530"/>
                  <a:pt x="797" y="528"/>
                  <a:pt x="797" y="538"/>
                </a:cubicBezTo>
                <a:cubicBezTo>
                  <a:pt x="798" y="548"/>
                  <a:pt x="798" y="558"/>
                  <a:pt x="798" y="559"/>
                </a:cubicBezTo>
                <a:cubicBezTo>
                  <a:pt x="797" y="559"/>
                  <a:pt x="797" y="559"/>
                  <a:pt x="796" y="553"/>
                </a:cubicBezTo>
                <a:cubicBezTo>
                  <a:pt x="797" y="538"/>
                  <a:pt x="797" y="535"/>
                  <a:pt x="795" y="513"/>
                </a:cubicBez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ubicBezTo>
                  <a:pt x="533" y="329"/>
                  <a:pt x="538" y="329"/>
                  <a:pt x="538" y="335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6" y="339"/>
                  <a:pt x="536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1"/>
                  <a:pt x="534" y="340"/>
                  <a:pt x="534" y="340"/>
                </a:cubicBezTo>
                <a:cubicBezTo>
                  <a:pt x="534" y="340"/>
                  <a:pt x="535" y="339"/>
                  <a:pt x="536" y="338"/>
                </a:cubicBezTo>
                <a:cubicBezTo>
                  <a:pt x="537" y="337"/>
                  <a:pt x="538" y="337"/>
                  <a:pt x="538" y="337"/>
                </a:cubicBezTo>
                <a:cubicBezTo>
                  <a:pt x="538" y="337"/>
                  <a:pt x="537" y="334"/>
                  <a:pt x="535" y="332"/>
                </a:cubicBezTo>
                <a:cubicBezTo>
                  <a:pt x="533" y="330"/>
                  <a:pt x="533" y="329"/>
                  <a:pt x="533" y="328"/>
                </a:cubicBezTo>
                <a:cubicBezTo>
                  <a:pt x="531" y="329"/>
                  <a:pt x="531" y="328"/>
                  <a:pt x="531" y="328"/>
                </a:cubicBezTo>
                <a:cubicBezTo>
                  <a:pt x="532" y="328"/>
                  <a:pt x="532" y="327"/>
                  <a:pt x="531" y="327"/>
                </a:cubicBezTo>
                <a:cubicBezTo>
                  <a:pt x="531" y="328"/>
                  <a:pt x="531" y="328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9"/>
                  <a:pt x="530" y="328"/>
                </a:cubicBezTo>
                <a:cubicBezTo>
                  <a:pt x="530" y="328"/>
                  <a:pt x="530" y="328"/>
                  <a:pt x="530" y="327"/>
                </a:cubicBezTo>
                <a:cubicBezTo>
                  <a:pt x="530" y="327"/>
                  <a:pt x="531" y="327"/>
                  <a:pt x="532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8"/>
                  <a:pt x="533" y="329"/>
                </a:cubicBezTo>
                <a:cubicBezTo>
                  <a:pt x="533" y="329"/>
                  <a:pt x="528" y="348"/>
                  <a:pt x="528" y="348"/>
                </a:cubicBezTo>
                <a:cubicBezTo>
                  <a:pt x="528" y="348"/>
                  <a:pt x="528" y="347"/>
                  <a:pt x="528" y="347"/>
                </a:cubicBezTo>
                <a:cubicBezTo>
                  <a:pt x="528" y="347"/>
                  <a:pt x="528" y="347"/>
                  <a:pt x="529" y="346"/>
                </a:cubicBezTo>
                <a:cubicBezTo>
                  <a:pt x="530" y="345"/>
                  <a:pt x="531" y="345"/>
                  <a:pt x="530" y="346"/>
                </a:cubicBezTo>
                <a:cubicBezTo>
                  <a:pt x="529" y="347"/>
                  <a:pt x="528" y="348"/>
                  <a:pt x="528" y="348"/>
                </a:cubicBezTo>
                <a:cubicBezTo>
                  <a:pt x="528" y="348"/>
                  <a:pt x="528" y="348"/>
                  <a:pt x="530" y="440"/>
                </a:cubicBez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36" y="337"/>
                  <a:pt x="536" y="337"/>
                </a:cubicBezTo>
                <a:cubicBezTo>
                  <a:pt x="536" y="336"/>
                  <a:pt x="536" y="336"/>
                  <a:pt x="535" y="335"/>
                </a:cubicBezTo>
                <a:cubicBezTo>
                  <a:pt x="533" y="335"/>
                  <a:pt x="531" y="334"/>
                  <a:pt x="531" y="334"/>
                </a:cubicBezTo>
                <a:cubicBezTo>
                  <a:pt x="531" y="334"/>
                  <a:pt x="531" y="334"/>
                  <a:pt x="532" y="334"/>
                </a:cubicBezTo>
                <a:cubicBezTo>
                  <a:pt x="532" y="333"/>
                  <a:pt x="532" y="333"/>
                  <a:pt x="532" y="333"/>
                </a:cubicBezTo>
                <a:cubicBezTo>
                  <a:pt x="532" y="332"/>
                  <a:pt x="533" y="331"/>
                  <a:pt x="533" y="332"/>
                </a:cubicBezTo>
                <a:cubicBezTo>
                  <a:pt x="534" y="333"/>
                  <a:pt x="535" y="333"/>
                  <a:pt x="536" y="334"/>
                </a:cubicBezTo>
                <a:cubicBezTo>
                  <a:pt x="536" y="335"/>
                  <a:pt x="536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ubicBezTo>
                  <a:pt x="530" y="330"/>
                  <a:pt x="530" y="330"/>
                  <a:pt x="530" y="330"/>
                </a:cubicBezTo>
                <a:cubicBezTo>
                  <a:pt x="530" y="330"/>
                  <a:pt x="530" y="331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2"/>
                  <a:pt x="530" y="331"/>
                </a:cubicBezTo>
                <a:cubicBezTo>
                  <a:pt x="530" y="330"/>
                  <a:pt x="530" y="330"/>
                  <a:pt x="530" y="330"/>
                </a:cubicBezTo>
                <a:cubicBezTo>
                  <a:pt x="530" y="330"/>
                  <a:pt x="530" y="337"/>
                  <a:pt x="530" y="337"/>
                </a:cubicBezTo>
                <a:cubicBezTo>
                  <a:pt x="531" y="337"/>
                  <a:pt x="531" y="337"/>
                  <a:pt x="530" y="337"/>
                </a:cubicBezTo>
                <a:cubicBezTo>
                  <a:pt x="530" y="337"/>
                  <a:pt x="530" y="336"/>
                  <a:pt x="531" y="336"/>
                </a:cubicBezTo>
                <a:cubicBezTo>
                  <a:pt x="531" y="336"/>
                  <a:pt x="531" y="336"/>
                  <a:pt x="531" y="337"/>
                </a:cubicBezTo>
                <a:cubicBezTo>
                  <a:pt x="531" y="338"/>
                  <a:pt x="532" y="339"/>
                  <a:pt x="532" y="339"/>
                </a:cubicBezTo>
                <a:cubicBezTo>
                  <a:pt x="532" y="339"/>
                  <a:pt x="532" y="339"/>
                  <a:pt x="531" y="340"/>
                </a:cubicBezTo>
                <a:cubicBezTo>
                  <a:pt x="532" y="341"/>
                  <a:pt x="532" y="340"/>
                  <a:pt x="532" y="340"/>
                </a:cubicBezTo>
                <a:cubicBezTo>
                  <a:pt x="533" y="340"/>
                  <a:pt x="533" y="340"/>
                  <a:pt x="533" y="340"/>
                </a:cubicBezTo>
                <a:cubicBezTo>
                  <a:pt x="533" y="341"/>
                  <a:pt x="534" y="341"/>
                  <a:pt x="534" y="341"/>
                </a:cubicBezTo>
                <a:cubicBezTo>
                  <a:pt x="534" y="341"/>
                  <a:pt x="534" y="342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3" y="342"/>
                  <a:pt x="533" y="342"/>
                  <a:pt x="532" y="343"/>
                </a:cubicBezTo>
                <a:cubicBezTo>
                  <a:pt x="530" y="344"/>
                  <a:pt x="529" y="345"/>
                  <a:pt x="528" y="345"/>
                </a:cubicBezTo>
                <a:cubicBezTo>
                  <a:pt x="528" y="346"/>
                  <a:pt x="527" y="346"/>
                  <a:pt x="527" y="345"/>
                </a:cubicBezTo>
                <a:cubicBezTo>
                  <a:pt x="527" y="344"/>
                  <a:pt x="527" y="344"/>
                  <a:pt x="528" y="341"/>
                </a:cubicBezTo>
                <a:cubicBezTo>
                  <a:pt x="529" y="339"/>
                  <a:pt x="530" y="337"/>
                  <a:pt x="530" y="337"/>
                </a:cubicBezTo>
                <a:cubicBezTo>
                  <a:pt x="530" y="337"/>
                  <a:pt x="530" y="337"/>
                  <a:pt x="559" y="262"/>
                </a:cubicBez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ubicBezTo>
                  <a:pt x="635" y="290"/>
                  <a:pt x="635" y="292"/>
                  <a:pt x="635" y="293"/>
                </a:cubicBezTo>
                <a:cubicBezTo>
                  <a:pt x="635" y="295"/>
                  <a:pt x="634" y="295"/>
                  <a:pt x="634" y="295"/>
                </a:cubicBezTo>
                <a:cubicBezTo>
                  <a:pt x="634" y="295"/>
                  <a:pt x="634" y="293"/>
                  <a:pt x="634" y="291"/>
                </a:cubicBezTo>
                <a:cubicBezTo>
                  <a:pt x="635" y="290"/>
                  <a:pt x="662" y="308"/>
                  <a:pt x="662" y="309"/>
                </a:cubicBezTo>
                <a:cubicBezTo>
                  <a:pt x="663" y="309"/>
                  <a:pt x="664" y="308"/>
                  <a:pt x="667" y="310"/>
                </a:cubicBezTo>
                <a:cubicBezTo>
                  <a:pt x="671" y="311"/>
                  <a:pt x="675" y="312"/>
                  <a:pt x="675" y="313"/>
                </a:cubicBezTo>
                <a:cubicBezTo>
                  <a:pt x="675" y="313"/>
                  <a:pt x="675" y="313"/>
                  <a:pt x="675" y="314"/>
                </a:cubicBezTo>
                <a:cubicBezTo>
                  <a:pt x="676" y="314"/>
                  <a:pt x="676" y="313"/>
                  <a:pt x="676" y="313"/>
                </a:cubicBezTo>
                <a:cubicBezTo>
                  <a:pt x="676" y="313"/>
                  <a:pt x="676" y="313"/>
                  <a:pt x="684" y="316"/>
                </a:cubicBezTo>
                <a:cubicBezTo>
                  <a:pt x="692" y="319"/>
                  <a:pt x="701" y="322"/>
                  <a:pt x="719" y="328"/>
                </a:cubicBezTo>
                <a:cubicBezTo>
                  <a:pt x="737" y="334"/>
                  <a:pt x="755" y="340"/>
                  <a:pt x="755" y="340"/>
                </a:cubicBezTo>
                <a:cubicBezTo>
                  <a:pt x="755" y="341"/>
                  <a:pt x="755" y="341"/>
                  <a:pt x="755" y="342"/>
                </a:cubicBezTo>
                <a:cubicBezTo>
                  <a:pt x="756" y="342"/>
                  <a:pt x="756" y="341"/>
                  <a:pt x="756" y="341"/>
                </a:cubicBezTo>
                <a:cubicBezTo>
                  <a:pt x="756" y="341"/>
                  <a:pt x="756" y="340"/>
                  <a:pt x="756" y="340"/>
                </a:cubicBezTo>
                <a:cubicBezTo>
                  <a:pt x="756" y="340"/>
                  <a:pt x="756" y="341"/>
                  <a:pt x="757" y="341"/>
                </a:cubicBezTo>
                <a:cubicBezTo>
                  <a:pt x="757" y="341"/>
                  <a:pt x="757" y="341"/>
                  <a:pt x="758" y="341"/>
                </a:cubicBezTo>
                <a:cubicBezTo>
                  <a:pt x="758" y="341"/>
                  <a:pt x="759" y="341"/>
                  <a:pt x="759" y="342"/>
                </a:cubicBezTo>
                <a:cubicBezTo>
                  <a:pt x="759" y="343"/>
                  <a:pt x="759" y="344"/>
                  <a:pt x="759" y="344"/>
                </a:cubicBezTo>
                <a:cubicBezTo>
                  <a:pt x="760" y="344"/>
                  <a:pt x="760" y="344"/>
                  <a:pt x="760" y="343"/>
                </a:cubicBezTo>
                <a:cubicBezTo>
                  <a:pt x="760" y="342"/>
                  <a:pt x="760" y="342"/>
                  <a:pt x="772" y="346"/>
                </a:cubicBezTo>
                <a:cubicBezTo>
                  <a:pt x="784" y="350"/>
                  <a:pt x="796" y="355"/>
                  <a:pt x="796" y="356"/>
                </a:cubicBezTo>
                <a:cubicBezTo>
                  <a:pt x="796" y="356"/>
                  <a:pt x="796" y="357"/>
                  <a:pt x="777" y="351"/>
                </a:cubicBezTo>
                <a:cubicBezTo>
                  <a:pt x="757" y="346"/>
                  <a:pt x="738" y="340"/>
                  <a:pt x="731" y="338"/>
                </a:cubicBezTo>
                <a:cubicBezTo>
                  <a:pt x="724" y="335"/>
                  <a:pt x="717" y="332"/>
                  <a:pt x="690" y="321"/>
                </a:cubicBezTo>
                <a:cubicBezTo>
                  <a:pt x="663" y="312"/>
                  <a:pt x="636" y="302"/>
                  <a:pt x="636" y="301"/>
                </a:cubicBezTo>
                <a:cubicBezTo>
                  <a:pt x="636" y="299"/>
                  <a:pt x="636" y="298"/>
                  <a:pt x="644" y="301"/>
                </a:cubicBezTo>
                <a:cubicBezTo>
                  <a:pt x="653" y="305"/>
                  <a:pt x="662" y="308"/>
                  <a:pt x="763" y="329"/>
                </a:cubicBez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ubicBezTo>
                  <a:pt x="759" y="339"/>
                  <a:pt x="758" y="338"/>
                  <a:pt x="758" y="338"/>
                </a:cubicBezTo>
                <a:cubicBezTo>
                  <a:pt x="758" y="338"/>
                  <a:pt x="758" y="336"/>
                  <a:pt x="758" y="334"/>
                </a:cubicBezTo>
                <a:cubicBezTo>
                  <a:pt x="759" y="333"/>
                  <a:pt x="759" y="335"/>
                  <a:pt x="759" y="337"/>
                </a:cubicBezTo>
                <a:cubicBezTo>
                  <a:pt x="759" y="339"/>
                  <a:pt x="810" y="361"/>
                  <a:pt x="809" y="361"/>
                </a:cubicBezTo>
                <a:cubicBezTo>
                  <a:pt x="807" y="360"/>
                  <a:pt x="805" y="360"/>
                  <a:pt x="803" y="359"/>
                </a:cubicBezTo>
                <a:cubicBezTo>
                  <a:pt x="801" y="358"/>
                  <a:pt x="799" y="358"/>
                  <a:pt x="799" y="357"/>
                </a:cubicBezTo>
                <a:cubicBezTo>
                  <a:pt x="799" y="357"/>
                  <a:pt x="799" y="356"/>
                  <a:pt x="800" y="357"/>
                </a:cubicBezTo>
                <a:cubicBezTo>
                  <a:pt x="801" y="357"/>
                  <a:pt x="803" y="358"/>
                  <a:pt x="805" y="359"/>
                </a:cubicBezTo>
                <a:cubicBezTo>
                  <a:pt x="808" y="360"/>
                  <a:pt x="810" y="361"/>
                  <a:pt x="878" y="390"/>
                </a:cubicBez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ubicBezTo>
                  <a:pt x="867" y="368"/>
                  <a:pt x="867" y="363"/>
                  <a:pt x="867" y="358"/>
                </a:cubicBezTo>
                <a:cubicBezTo>
                  <a:pt x="867" y="352"/>
                  <a:pt x="868" y="352"/>
                  <a:pt x="869" y="352"/>
                </a:cubicBezTo>
                <a:cubicBezTo>
                  <a:pt x="869" y="352"/>
                  <a:pt x="869" y="357"/>
                  <a:pt x="869" y="363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8"/>
                  <a:pt x="869" y="363"/>
                  <a:pt x="870" y="357"/>
                </a:cubicBezTo>
                <a:cubicBezTo>
                  <a:pt x="870" y="352"/>
                  <a:pt x="871" y="352"/>
                  <a:pt x="871" y="352"/>
                </a:cubicBezTo>
                <a:cubicBezTo>
                  <a:pt x="872" y="351"/>
                  <a:pt x="872" y="355"/>
                  <a:pt x="871" y="359"/>
                </a:cubicBezTo>
                <a:cubicBezTo>
                  <a:pt x="871" y="363"/>
                  <a:pt x="871" y="364"/>
                  <a:pt x="871" y="366"/>
                </a:cubicBezTo>
                <a:cubicBezTo>
                  <a:pt x="871" y="367"/>
                  <a:pt x="871" y="367"/>
                  <a:pt x="871" y="367"/>
                </a:cubicBezTo>
                <a:cubicBezTo>
                  <a:pt x="871" y="368"/>
                  <a:pt x="871" y="369"/>
                  <a:pt x="871" y="370"/>
                </a:cubicBezTo>
                <a:cubicBezTo>
                  <a:pt x="871" y="371"/>
                  <a:pt x="870" y="370"/>
                  <a:pt x="868" y="369"/>
                </a:cubicBezTo>
                <a:cubicBezTo>
                  <a:pt x="867" y="368"/>
                  <a:pt x="858" y="338"/>
                  <a:pt x="858" y="336"/>
                </a:cubicBezTo>
                <a:cubicBezTo>
                  <a:pt x="858" y="335"/>
                  <a:pt x="858" y="333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2"/>
                  <a:pt x="859" y="332"/>
                  <a:pt x="860" y="332"/>
                </a:cubicBezTo>
                <a:cubicBezTo>
                  <a:pt x="860" y="330"/>
                  <a:pt x="859" y="329"/>
                  <a:pt x="859" y="328"/>
                </a:cubicBezTo>
                <a:cubicBezTo>
                  <a:pt x="860" y="326"/>
                  <a:pt x="860" y="326"/>
                  <a:pt x="860" y="323"/>
                </a:cubicBezTo>
                <a:cubicBezTo>
                  <a:pt x="860" y="320"/>
                  <a:pt x="860" y="318"/>
                  <a:pt x="860" y="315"/>
                </a:cubicBezTo>
                <a:cubicBezTo>
                  <a:pt x="860" y="312"/>
                  <a:pt x="860" y="309"/>
                  <a:pt x="860" y="309"/>
                </a:cubicBezTo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3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4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297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9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0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2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3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1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2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1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4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77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1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4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5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89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0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2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3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4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5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7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8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399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0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2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4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5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cp:keywords/>
  <dc:language>en-US</dc:language>
  <cp:lastModifiedBy>my</cp:lastModifiedBy>
  <dcterms:modified xsi:type="dcterms:W3CDTF">2015-10-24T03:13:36Z</dcterms:modified>
  <cp:revision>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