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0644-E6A2-4EE6-8683-FC36A1A0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FCB-525E-45F0-A050-5A70D7FE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9336-51A6-4455-B4D6-BAFE6BA2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8A2-68D2-47DD-9AE3-35A31D8C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90F-46B0-43B7-A4F7-24A64ED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D70-AFC7-43F8-A2F2-D6967C7E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ADFE-A4CE-451C-B008-7DFC2A8A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35A-9CB7-4FC5-864D-606480D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C09-D479-419F-9D83-C5CD73F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5172-CC45-4346-BC0F-4776148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6BA-AA5B-4915-8094-A5DCFB4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7CF-3F5B-4ECC-9AFC-D93C5B62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0505-5FB0-4CD9-8D04-487E2AAD78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E:\新模板\蓝色的S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2761560" y="711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文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1990800" y="1571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1422000" y="357120"/>
            <a:ext cx="396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黑体"/>
              </a:rPr>
              <a:t>HI-HOO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  <a:ea typeface="BatangChe"/>
              </a:rPr>
              <a:t> POWERPOINT TEMPL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7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E:\新模板\蓝色的S\未标题-3.png"/>
          <p:cNvPicPr/>
          <p:nvPr/>
        </p:nvPicPr>
        <p:blipFill>
          <a:blip r:embed="rId1"/>
          <a:srcRect l="50004" t="0" r="0" b="50003"/>
          <a:stretch/>
        </p:blipFill>
        <p:spPr>
          <a:xfrm>
            <a:off x="457200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E:\新模板\蓝色的S\未标题-3.png"/>
          <p:cNvPicPr/>
          <p:nvPr/>
        </p:nvPicPr>
        <p:blipFill>
          <a:blip r:embed="rId2"/>
          <a:srcRect l="0" t="50003" r="50004" b="0"/>
          <a:stretch/>
        </p:blipFill>
        <p:spPr>
          <a:xfrm>
            <a:off x="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E:\新模板\蓝色的S\未标题-3.png"/>
          <p:cNvPicPr/>
          <p:nvPr/>
        </p:nvPicPr>
        <p:blipFill>
          <a:blip r:embed="rId3"/>
          <a:srcRect l="50004" t="50003" r="0" b="0"/>
          <a:stretch/>
        </p:blipFill>
        <p:spPr>
          <a:xfrm>
            <a:off x="4572000" y="2857680"/>
            <a:ext cx="4572000" cy="2857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E:\新模板\蓝色的S\未标题-3.png"/>
          <p:cNvPicPr/>
          <p:nvPr/>
        </p:nvPicPr>
        <p:blipFill>
          <a:blip r:embed="rId4"/>
          <a:srcRect l="0" t="0" r="50004" b="50003"/>
          <a:stretch/>
        </p:blipFill>
        <p:spPr>
          <a:xfrm>
            <a:off x="0" y="0"/>
            <a:ext cx="457200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E:\新模板\蓝色的S\未标题-4.png"/>
          <p:cNvPicPr/>
          <p:nvPr/>
        </p:nvPicPr>
        <p:blipFill>
          <a:blip r:embed="rId5"/>
          <a:srcRect l="0" t="0" r="50004" b="0"/>
          <a:stretch/>
        </p:blipFill>
        <p:spPr>
          <a:xfrm>
            <a:off x="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E:\新模板\蓝色的S\未标题-4.png"/>
          <p:cNvPicPr/>
          <p:nvPr/>
        </p:nvPicPr>
        <p:blipFill>
          <a:blip r:embed="rId6"/>
          <a:srcRect l="50004" t="0" r="0" b="0"/>
          <a:stretch/>
        </p:blipFill>
        <p:spPr>
          <a:xfrm>
            <a:off x="4572000" y="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新模板\蓝色的S\未标题-5.png"/>
          <p:cNvPicPr/>
          <p:nvPr/>
        </p:nvPicPr>
        <p:blipFill>
          <a:blip r:embed="rId7"/>
          <a:srcRect l="0" t="50003" r="0" b="0"/>
          <a:stretch/>
        </p:blipFill>
        <p:spPr>
          <a:xfrm>
            <a:off x="0" y="2857680"/>
            <a:ext cx="9144000" cy="2857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E:\新模板\蓝色的S\未标题-5.png"/>
          <p:cNvPicPr/>
          <p:nvPr/>
        </p:nvPicPr>
        <p:blipFill>
          <a:blip r:embed="rId8"/>
          <a:srcRect l="0" t="0" r="0" b="50003"/>
          <a:stretch/>
        </p:blipFill>
        <p:spPr>
          <a:xfrm>
            <a:off x="0" y="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新模板\蓝色的S\未标题-6.png"/>
          <p:cNvPicPr/>
          <p:nvPr/>
        </p:nvPicPr>
        <p:blipFill>
          <a:blip r:embed="rId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E:\2010\模板\绿色的地球\未标题-2副本.png"/>
          <p:cNvPicPr/>
          <p:nvPr/>
        </p:nvPicPr>
        <p:blipFill>
          <a:blip r:embed="rId10">
            <a:lum bright="-100000"/>
          </a:blip>
          <a:srcRect l="19068" t="76579" r="12328" b="20276"/>
          <a:stretch/>
        </p:blipFill>
        <p:spPr>
          <a:xfrm>
            <a:off x="1352520" y="5418000"/>
            <a:ext cx="3921120" cy="2876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1474920" y="58428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8"/>
          <p:cNvSpPr/>
          <p:nvPr/>
        </p:nvSpPr>
        <p:spPr>
          <a:xfrm>
            <a:off x="1698120" y="23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7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>
            <a:off x="809640" y="185724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914400" y="1714680"/>
            <a:ext cx="7315200" cy="2377800"/>
          </a:xfrm>
          <a:prstGeom prst="rect">
            <a:avLst/>
          </a:prstGeom>
          <a:solidFill>
            <a:srgbClr val="1e8fb2">
              <a:alpha val="88000"/>
            </a:srgbClr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1081080" y="2073240"/>
            <a:ext cx="69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乐辰旗舰店，专注为客户提供高质量的服务，坚持创新，不断提升发展，形成了以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制作为中心的综合性服务的供应商，以国际化的设计观和实务运作享誉业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、应用技能培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6"/>
          <p:cNvGrpSpPr/>
          <p:nvPr/>
        </p:nvGrpSpPr>
        <p:grpSpPr>
          <a:xfrm>
            <a:off x="1290600" y="1409760"/>
            <a:ext cx="6562800" cy="546120"/>
            <a:chOff x="1290600" y="1409760"/>
            <a:chExt cx="6562800" cy="546120"/>
          </a:xfrm>
        </p:grpSpPr>
        <p:sp>
          <p:nvSpPr>
            <p:cNvPr id="175" name="AutoShape 3"/>
            <p:cNvSpPr/>
            <p:nvPr/>
          </p:nvSpPr>
          <p:spPr>
            <a:xfrm>
              <a:off x="1290600" y="160164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3"/>
            <p:cNvSpPr/>
            <p:nvPr/>
          </p:nvSpPr>
          <p:spPr>
            <a:xfrm>
              <a:off x="1355400" y="140976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3"/>
            <p:cNvSpPr/>
            <p:nvPr/>
          </p:nvSpPr>
          <p:spPr>
            <a:xfrm>
              <a:off x="3151080" y="1493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7"/>
          <p:cNvGrpSpPr/>
          <p:nvPr/>
        </p:nvGrpSpPr>
        <p:grpSpPr>
          <a:xfrm>
            <a:off x="1290600" y="2281320"/>
            <a:ext cx="6562800" cy="546120"/>
            <a:chOff x="1290600" y="2281320"/>
            <a:chExt cx="6562800" cy="546120"/>
          </a:xfrm>
        </p:grpSpPr>
        <p:grpSp>
          <p:nvGrpSpPr>
            <p:cNvPr id="179" name="组合 65"/>
            <p:cNvGrpSpPr/>
            <p:nvPr/>
          </p:nvGrpSpPr>
          <p:grpSpPr>
            <a:xfrm>
              <a:off x="1290600" y="2281320"/>
              <a:ext cx="6562800" cy="546120"/>
              <a:chOff x="1290600" y="2281320"/>
              <a:chExt cx="6562800" cy="546120"/>
            </a:xfrm>
          </p:grpSpPr>
          <p:sp>
            <p:nvSpPr>
              <p:cNvPr id="180" name="AutoShape 3"/>
              <p:cNvSpPr/>
              <p:nvPr/>
            </p:nvSpPr>
            <p:spPr>
              <a:xfrm>
                <a:off x="1290600" y="247320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3"/>
              <p:cNvSpPr/>
              <p:nvPr/>
            </p:nvSpPr>
            <p:spPr>
              <a:xfrm>
                <a:off x="1355400" y="228132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Rectangle 13"/>
            <p:cNvSpPr/>
            <p:nvPr/>
          </p:nvSpPr>
          <p:spPr>
            <a:xfrm>
              <a:off x="3151080" y="2367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19"/>
          <p:cNvGrpSpPr/>
          <p:nvPr/>
        </p:nvGrpSpPr>
        <p:grpSpPr>
          <a:xfrm>
            <a:off x="1290600" y="3154320"/>
            <a:ext cx="6562800" cy="546120"/>
            <a:chOff x="1290600" y="3154320"/>
            <a:chExt cx="6562800" cy="546120"/>
          </a:xfrm>
        </p:grpSpPr>
        <p:sp>
          <p:nvSpPr>
            <p:cNvPr id="184" name="AutoShape 3"/>
            <p:cNvSpPr/>
            <p:nvPr/>
          </p:nvSpPr>
          <p:spPr>
            <a:xfrm>
              <a:off x="1290600" y="3346200"/>
              <a:ext cx="6562800" cy="35424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3"/>
            <p:cNvSpPr/>
            <p:nvPr/>
          </p:nvSpPr>
          <p:spPr>
            <a:xfrm>
              <a:off x="1355400" y="3154320"/>
              <a:ext cx="6432840" cy="48132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3151080" y="3238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0"/>
          <p:cNvGrpSpPr/>
          <p:nvPr/>
        </p:nvGrpSpPr>
        <p:grpSpPr>
          <a:xfrm>
            <a:off x="1290600" y="4025880"/>
            <a:ext cx="6562800" cy="546120"/>
            <a:chOff x="1290600" y="4025880"/>
            <a:chExt cx="6562800" cy="546120"/>
          </a:xfrm>
        </p:grpSpPr>
        <p:grpSp>
          <p:nvGrpSpPr>
            <p:cNvPr id="188" name="组合 60"/>
            <p:cNvGrpSpPr/>
            <p:nvPr/>
          </p:nvGrpSpPr>
          <p:grpSpPr>
            <a:xfrm>
              <a:off x="1290600" y="4025880"/>
              <a:ext cx="6562800" cy="546120"/>
              <a:chOff x="1290600" y="4025880"/>
              <a:chExt cx="6562800" cy="546120"/>
            </a:xfrm>
          </p:grpSpPr>
          <p:sp>
            <p:nvSpPr>
              <p:cNvPr id="189" name="AutoShape 3"/>
              <p:cNvSpPr/>
              <p:nvPr/>
            </p:nvSpPr>
            <p:spPr>
              <a:xfrm>
                <a:off x="1290600" y="4217760"/>
                <a:ext cx="6562800" cy="35424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3"/>
              <p:cNvSpPr/>
              <p:nvPr/>
            </p:nvSpPr>
            <p:spPr>
              <a:xfrm>
                <a:off x="1355400" y="4025880"/>
                <a:ext cx="6432840" cy="482760"/>
              </a:xfrm>
              <a:prstGeom prst="rect">
                <a:avLst/>
              </a:prstGeom>
              <a:solidFill>
                <a:srgbClr val="7f7f7f">
                  <a:alpha val="88000"/>
                </a:srgbClr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13"/>
            <p:cNvSpPr/>
            <p:nvPr/>
          </p:nvSpPr>
          <p:spPr>
            <a:xfrm>
              <a:off x="3151080" y="4111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6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6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3"/>
          <p:cNvSpPr/>
          <p:nvPr/>
        </p:nvSpPr>
        <p:spPr>
          <a:xfrm>
            <a:off x="1290600" y="2798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"/>
          <p:cNvGrpSpPr/>
          <p:nvPr/>
        </p:nvGrpSpPr>
        <p:grpSpPr>
          <a:xfrm>
            <a:off x="1355760" y="2606760"/>
            <a:ext cx="6432480" cy="482400"/>
            <a:chOff x="1355760" y="2606760"/>
            <a:chExt cx="6432480" cy="482400"/>
          </a:xfrm>
        </p:grpSpPr>
        <p:sp>
          <p:nvSpPr>
            <p:cNvPr id="195" name="AutoShape 3"/>
            <p:cNvSpPr/>
            <p:nvPr/>
          </p:nvSpPr>
          <p:spPr>
            <a:xfrm>
              <a:off x="1355760" y="2606760"/>
              <a:ext cx="6432480" cy="482400"/>
            </a:xfrm>
            <a:prstGeom prst="rect">
              <a:avLst/>
            </a:prstGeom>
            <a:solidFill>
              <a:srgbClr val="22bad8">
                <a:alpha val="88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151080" y="26924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3"/>
          <p:cNvSpPr/>
          <p:nvPr/>
        </p:nvSpPr>
        <p:spPr>
          <a:xfrm>
            <a:off x="7580160" y="-8748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组合 41"/>
          <p:cNvGrpSpPr/>
          <p:nvPr/>
        </p:nvGrpSpPr>
        <p:grpSpPr>
          <a:xfrm>
            <a:off x="1357200" y="1119240"/>
            <a:ext cx="1036800" cy="1036440"/>
            <a:chOff x="1357200" y="1119240"/>
            <a:chExt cx="1036800" cy="1036440"/>
          </a:xfrm>
        </p:grpSpPr>
        <p:sp>
          <p:nvSpPr>
            <p:cNvPr id="199" name="空心弧 2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1036636" y="519065"/>
                  </a:moveTo>
                  <a:cubicBezTo>
                    <a:pt x="1036224" y="805202"/>
                    <a:pt x="804021" y="1036876"/>
                    <a:pt x="517884" y="1036637"/>
                  </a:cubicBezTo>
                  <a:cubicBezTo>
                    <a:pt x="231747" y="1036398"/>
                    <a:pt x="-68" y="804335"/>
                    <a:pt x="-2" y="518198"/>
                  </a:cubicBezTo>
                  <a:cubicBezTo>
                    <a:pt x="64" y="232061"/>
                    <a:pt x="231986" y="106"/>
                    <a:pt x="518124" y="-1"/>
                  </a:cubicBezTo>
                  <a:cubicBezTo>
                    <a:pt x="518157" y="87008"/>
                    <a:pt x="518190" y="174016"/>
                    <a:pt x="518223" y="261025"/>
                  </a:cubicBezTo>
                  <a:cubicBezTo>
                    <a:pt x="376185" y="261078"/>
                    <a:pt x="261059" y="376220"/>
                    <a:pt x="261026" y="518258"/>
                  </a:cubicBezTo>
                  <a:cubicBezTo>
                    <a:pt x="260993" y="660296"/>
                    <a:pt x="376066" y="775492"/>
                    <a:pt x="518104" y="775610"/>
                  </a:cubicBezTo>
                  <a:cubicBezTo>
                    <a:pt x="660142" y="775729"/>
                    <a:pt x="775407" y="660726"/>
                    <a:pt x="775612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空心弧 3"/>
            <p:cNvSpPr/>
            <p:nvPr/>
          </p:nvSpPr>
          <p:spPr>
            <a:xfrm>
              <a:off x="13572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331" y="682"/>
                    <a:pt x="1036638" y="232541"/>
                    <a:pt x="1036638" y="518319"/>
                  </a:cubicBezTo>
                  <a:lnTo>
                    <a:pt x="777478" y="518319"/>
                  </a:lnTo>
                  <a:cubicBezTo>
                    <a:pt x="777478" y="375431"/>
                    <a:pt x="661825" y="259501"/>
                    <a:pt x="518937" y="25916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15890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2"/>
          <p:cNvGrpSpPr/>
          <p:nvPr/>
        </p:nvGrpSpPr>
        <p:grpSpPr>
          <a:xfrm>
            <a:off x="3154320" y="1119240"/>
            <a:ext cx="1036800" cy="1036440"/>
            <a:chOff x="3154320" y="1119240"/>
            <a:chExt cx="1036800" cy="1036440"/>
          </a:xfrm>
        </p:grpSpPr>
        <p:sp>
          <p:nvSpPr>
            <p:cNvPr id="203" name="空心弧 4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7825" y="1036637"/>
                  </a:moveTo>
                  <a:cubicBezTo>
                    <a:pt x="231700" y="1036365"/>
                    <a:pt x="-83" y="804294"/>
                    <a:pt x="0" y="518168"/>
                  </a:cubicBezTo>
                  <a:cubicBezTo>
                    <a:pt x="83" y="232042"/>
                    <a:pt x="232000" y="106"/>
                    <a:pt x="518126" y="-1"/>
                  </a:cubicBezTo>
                  <a:cubicBezTo>
                    <a:pt x="518158" y="87008"/>
                    <a:pt x="518191" y="174016"/>
                    <a:pt x="518223" y="261025"/>
                  </a:cubicBezTo>
                  <a:cubicBezTo>
                    <a:pt x="376191" y="261078"/>
                    <a:pt x="261067" y="376211"/>
                    <a:pt x="261026" y="518243"/>
                  </a:cubicBezTo>
                  <a:cubicBezTo>
                    <a:pt x="260985" y="660275"/>
                    <a:pt x="376042" y="775475"/>
                    <a:pt x="518074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空心弧 5"/>
            <p:cNvSpPr/>
            <p:nvPr/>
          </p:nvSpPr>
          <p:spPr>
            <a:xfrm>
              <a:off x="315432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7" h="1036637">
                  <a:moveTo>
                    <a:pt x="519555" y="1"/>
                  </a:moveTo>
                  <a:cubicBezTo>
                    <a:pt x="805224" y="682"/>
                    <a:pt x="1036486" y="232374"/>
                    <a:pt x="1036638" y="518044"/>
                  </a:cubicBezTo>
                  <a:cubicBezTo>
                    <a:pt x="1036790" y="803714"/>
                    <a:pt x="805773" y="1035651"/>
                    <a:pt x="520105" y="1036635"/>
                  </a:cubicBezTo>
                  <a:cubicBezTo>
                    <a:pt x="519804" y="949195"/>
                    <a:pt x="519502" y="861754"/>
                    <a:pt x="519201" y="774314"/>
                  </a:cubicBezTo>
                  <a:cubicBezTo>
                    <a:pt x="660293" y="773828"/>
                    <a:pt x="774392" y="659274"/>
                    <a:pt x="774317" y="518182"/>
                  </a:cubicBezTo>
                  <a:cubicBezTo>
                    <a:pt x="774242" y="377090"/>
                    <a:pt x="660022" y="262657"/>
                    <a:pt x="518930" y="262321"/>
                  </a:cubicBezTo>
                  <a:cubicBezTo>
                    <a:pt x="519138" y="174881"/>
                    <a:pt x="519347" y="87441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3"/>
            <p:cNvSpPr/>
            <p:nvPr/>
          </p:nvSpPr>
          <p:spPr>
            <a:xfrm>
              <a:off x="338616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3"/>
          <p:cNvGrpSpPr/>
          <p:nvPr/>
        </p:nvGrpSpPr>
        <p:grpSpPr>
          <a:xfrm>
            <a:off x="4952880" y="1119240"/>
            <a:ext cx="1036800" cy="1036440"/>
            <a:chOff x="4952880" y="1119240"/>
            <a:chExt cx="1036800" cy="1036440"/>
          </a:xfrm>
        </p:grpSpPr>
        <p:sp>
          <p:nvSpPr>
            <p:cNvPr id="207" name="空心弧 6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1" y="519417"/>
                  </a:moveTo>
                  <a:cubicBezTo>
                    <a:pt x="-291" y="381794"/>
                    <a:pt x="54162" y="249704"/>
                    <a:pt x="151355" y="152268"/>
                  </a:cubicBezTo>
                  <a:cubicBezTo>
                    <a:pt x="248548" y="54832"/>
                    <a:pt x="380502" y="50"/>
                    <a:pt x="518125" y="-1"/>
                  </a:cubicBezTo>
                  <a:cubicBezTo>
                    <a:pt x="518158" y="87008"/>
                    <a:pt x="518190" y="174016"/>
                    <a:pt x="518223" y="261025"/>
                  </a:cubicBezTo>
                  <a:cubicBezTo>
                    <a:pt x="449907" y="261050"/>
                    <a:pt x="384405" y="288244"/>
                    <a:pt x="336158" y="336611"/>
                  </a:cubicBezTo>
                  <a:cubicBezTo>
                    <a:pt x="287911" y="384978"/>
                    <a:pt x="260880" y="450547"/>
                    <a:pt x="261025" y="518864"/>
                  </a:cubicBezTo>
                  <a:lnTo>
                    <a:pt x="1" y="51941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空心弧 7"/>
            <p:cNvSpPr/>
            <p:nvPr/>
          </p:nvSpPr>
          <p:spPr>
            <a:xfrm>
              <a:off x="495288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519555" y="1"/>
                  </a:moveTo>
                  <a:cubicBezTo>
                    <a:pt x="805653" y="683"/>
                    <a:pt x="1037092" y="233044"/>
                    <a:pt x="1036637" y="519142"/>
                  </a:cubicBezTo>
                  <a:cubicBezTo>
                    <a:pt x="1036182" y="805240"/>
                    <a:pt x="804005" y="1036864"/>
                    <a:pt x="517907" y="1036637"/>
                  </a:cubicBezTo>
                  <a:cubicBezTo>
                    <a:pt x="231808" y="1036410"/>
                    <a:pt x="0" y="804417"/>
                    <a:pt x="0" y="518318"/>
                  </a:cubicBezTo>
                  <a:lnTo>
                    <a:pt x="260922" y="518319"/>
                  </a:lnTo>
                  <a:cubicBezTo>
                    <a:pt x="260922" y="660396"/>
                    <a:pt x="376038" y="775603"/>
                    <a:pt x="518114" y="775716"/>
                  </a:cubicBezTo>
                  <a:cubicBezTo>
                    <a:pt x="660190" y="775829"/>
                    <a:pt x="775489" y="660805"/>
                    <a:pt x="775715" y="518728"/>
                  </a:cubicBezTo>
                  <a:cubicBezTo>
                    <a:pt x="775941" y="376652"/>
                    <a:pt x="661008" y="261261"/>
                    <a:pt x="518932" y="260923"/>
                  </a:cubicBezTo>
                  <a:cubicBezTo>
                    <a:pt x="519140" y="173949"/>
                    <a:pt x="519347" y="86975"/>
                    <a:pt x="519555" y="1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518292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44"/>
          <p:cNvGrpSpPr/>
          <p:nvPr/>
        </p:nvGrpSpPr>
        <p:grpSpPr>
          <a:xfrm>
            <a:off x="6750000" y="1119240"/>
            <a:ext cx="1036800" cy="1036440"/>
            <a:chOff x="6750000" y="1119240"/>
            <a:chExt cx="1036800" cy="1036440"/>
          </a:xfrm>
        </p:grpSpPr>
        <p:sp>
          <p:nvSpPr>
            <p:cNvPr id="211" name="同心圆 8"/>
            <p:cNvSpPr/>
            <p:nvPr/>
          </p:nvSpPr>
          <p:spPr>
            <a:xfrm>
              <a:off x="6750000" y="1119240"/>
              <a:ext cx="1036800" cy="1036440"/>
            </a:xfrm>
            <a:custGeom>
              <a:avLst/>
              <a:gdLst/>
              <a:ahLst/>
              <a:rect l="l" t="t" r="r" b="b"/>
              <a:pathLst>
                <a:path w="1036638" h="1036637">
                  <a:moveTo>
                    <a:pt x="0" y="518319"/>
                  </a:moveTo>
                  <a:cubicBezTo>
                    <a:pt x="0" y="232059"/>
                    <a:pt x="232059" y="0"/>
                    <a:pt x="518319" y="0"/>
                  </a:cubicBezTo>
                  <a:cubicBezTo>
                    <a:pt x="804579" y="0"/>
                    <a:pt x="1036638" y="232059"/>
                    <a:pt x="1036638" y="518319"/>
                  </a:cubicBezTo>
                  <a:cubicBezTo>
                    <a:pt x="1036638" y="804579"/>
                    <a:pt x="804579" y="1036638"/>
                    <a:pt x="518319" y="1036638"/>
                  </a:cubicBezTo>
                  <a:cubicBezTo>
                    <a:pt x="232059" y="1036638"/>
                    <a:pt x="0" y="804579"/>
                    <a:pt x="0" y="518319"/>
                  </a:cubicBezTo>
                  <a:close/>
                  <a:moveTo>
                    <a:pt x="259159" y="518319"/>
                  </a:moveTo>
                  <a:cubicBezTo>
                    <a:pt x="259159" y="661449"/>
                    <a:pt x="375189" y="777478"/>
                    <a:pt x="518319" y="777478"/>
                  </a:cubicBezTo>
                  <a:cubicBezTo>
                    <a:pt x="661449" y="777478"/>
                    <a:pt x="777479" y="661449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cubicBezTo>
                    <a:pt x="375189" y="259160"/>
                    <a:pt x="259159" y="375189"/>
                    <a:pt x="259159" y="518319"/>
                  </a:cubicBezTo>
                  <a:close/>
                </a:path>
              </a:pathLst>
            </a:custGeom>
            <a:solidFill>
              <a:srgbClr val="22bad8">
                <a:alpha val="80000"/>
              </a:srgbClr>
            </a:solidFill>
            <a:ln w="2556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6981840" y="146988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3"/>
          <p:cNvGrpSpPr/>
          <p:nvPr/>
        </p:nvGrpSpPr>
        <p:grpSpPr>
          <a:xfrm>
            <a:off x="1616040" y="2201760"/>
            <a:ext cx="519120" cy="346320"/>
            <a:chOff x="1616040" y="2201760"/>
            <a:chExt cx="519120" cy="346320"/>
          </a:xfrm>
        </p:grpSpPr>
        <p:sp>
          <p:nvSpPr>
            <p:cNvPr id="214" name="燕尾形 14"/>
            <p:cNvSpPr/>
            <p:nvPr/>
          </p:nvSpPr>
          <p:spPr>
            <a:xfrm rot="5400000">
              <a:off x="17787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燕尾形 15"/>
            <p:cNvSpPr/>
            <p:nvPr/>
          </p:nvSpPr>
          <p:spPr>
            <a:xfrm rot="5400000">
              <a:off x="17787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7"/>
          <p:cNvGrpSpPr/>
          <p:nvPr/>
        </p:nvGrpSpPr>
        <p:grpSpPr>
          <a:xfrm>
            <a:off x="3414600" y="2201760"/>
            <a:ext cx="517680" cy="346320"/>
            <a:chOff x="3414600" y="2201760"/>
            <a:chExt cx="517680" cy="346320"/>
          </a:xfrm>
        </p:grpSpPr>
        <p:sp>
          <p:nvSpPr>
            <p:cNvPr id="217" name="燕尾形 18"/>
            <p:cNvSpPr/>
            <p:nvPr/>
          </p:nvSpPr>
          <p:spPr>
            <a:xfrm rot="5400000">
              <a:off x="357660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燕尾形 19"/>
            <p:cNvSpPr/>
            <p:nvPr/>
          </p:nvSpPr>
          <p:spPr>
            <a:xfrm rot="5400000">
              <a:off x="357660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组合 21"/>
          <p:cNvGrpSpPr/>
          <p:nvPr/>
        </p:nvGrpSpPr>
        <p:grpSpPr>
          <a:xfrm>
            <a:off x="5211720" y="2201760"/>
            <a:ext cx="517680" cy="346320"/>
            <a:chOff x="5211720" y="2201760"/>
            <a:chExt cx="517680" cy="346320"/>
          </a:xfrm>
        </p:grpSpPr>
        <p:sp>
          <p:nvSpPr>
            <p:cNvPr id="220" name="燕尾形 22"/>
            <p:cNvSpPr/>
            <p:nvPr/>
          </p:nvSpPr>
          <p:spPr>
            <a:xfrm rot="5400000">
              <a:off x="5373720" y="203976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燕尾形 23"/>
            <p:cNvSpPr/>
            <p:nvPr/>
          </p:nvSpPr>
          <p:spPr>
            <a:xfrm rot="5400000">
              <a:off x="5373720" y="219240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25"/>
          <p:cNvGrpSpPr/>
          <p:nvPr/>
        </p:nvGrpSpPr>
        <p:grpSpPr>
          <a:xfrm>
            <a:off x="7008840" y="2201760"/>
            <a:ext cx="519120" cy="346320"/>
            <a:chOff x="7008840" y="2201760"/>
            <a:chExt cx="519120" cy="346320"/>
          </a:xfrm>
        </p:grpSpPr>
        <p:sp>
          <p:nvSpPr>
            <p:cNvPr id="223" name="燕尾形 26"/>
            <p:cNvSpPr/>
            <p:nvPr/>
          </p:nvSpPr>
          <p:spPr>
            <a:xfrm rot="5400000">
              <a:off x="7171560" y="203904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燕尾形 27"/>
            <p:cNvSpPr/>
            <p:nvPr/>
          </p:nvSpPr>
          <p:spPr>
            <a:xfrm rot="5400000">
              <a:off x="7171560" y="21916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45"/>
          <p:cNvGrpSpPr/>
          <p:nvPr/>
        </p:nvGrpSpPr>
        <p:grpSpPr>
          <a:xfrm>
            <a:off x="1033560" y="2641680"/>
            <a:ext cx="1684080" cy="2430360"/>
            <a:chOff x="1033560" y="2641680"/>
            <a:chExt cx="1684080" cy="2430360"/>
          </a:xfrm>
        </p:grpSpPr>
        <p:sp>
          <p:nvSpPr>
            <p:cNvPr id="226" name="矩形 1"/>
            <p:cNvSpPr/>
            <p:nvPr/>
          </p:nvSpPr>
          <p:spPr>
            <a:xfrm>
              <a:off x="10335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146"/>
            <p:cNvSpPr/>
            <p:nvPr/>
          </p:nvSpPr>
          <p:spPr>
            <a:xfrm>
              <a:off x="10555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32"/>
            <p:cNvSpPr/>
            <p:nvPr/>
          </p:nvSpPr>
          <p:spPr>
            <a:xfrm>
              <a:off x="10983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46"/>
            <p:cNvSpPr/>
            <p:nvPr/>
          </p:nvSpPr>
          <p:spPr>
            <a:xfrm>
              <a:off x="10652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46"/>
          <p:cNvGrpSpPr/>
          <p:nvPr/>
        </p:nvGrpSpPr>
        <p:grpSpPr>
          <a:xfrm>
            <a:off x="2830680" y="2641680"/>
            <a:ext cx="1684080" cy="2430360"/>
            <a:chOff x="2830680" y="2641680"/>
            <a:chExt cx="1684080" cy="2430360"/>
          </a:xfrm>
        </p:grpSpPr>
        <p:sp>
          <p:nvSpPr>
            <p:cNvPr id="231" name="矩形 16"/>
            <p:cNvSpPr/>
            <p:nvPr/>
          </p:nvSpPr>
          <p:spPr>
            <a:xfrm>
              <a:off x="283068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146"/>
            <p:cNvSpPr/>
            <p:nvPr/>
          </p:nvSpPr>
          <p:spPr>
            <a:xfrm>
              <a:off x="285444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34"/>
            <p:cNvSpPr/>
            <p:nvPr/>
          </p:nvSpPr>
          <p:spPr>
            <a:xfrm>
              <a:off x="289548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46"/>
            <p:cNvSpPr/>
            <p:nvPr/>
          </p:nvSpPr>
          <p:spPr>
            <a:xfrm>
              <a:off x="286380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47"/>
          <p:cNvGrpSpPr/>
          <p:nvPr/>
        </p:nvGrpSpPr>
        <p:grpSpPr>
          <a:xfrm>
            <a:off x="4629240" y="2641680"/>
            <a:ext cx="1684080" cy="2430360"/>
            <a:chOff x="4629240" y="2641680"/>
            <a:chExt cx="1684080" cy="2430360"/>
          </a:xfrm>
        </p:grpSpPr>
        <p:sp>
          <p:nvSpPr>
            <p:cNvPr id="236" name="矩形 20"/>
            <p:cNvSpPr/>
            <p:nvPr/>
          </p:nvSpPr>
          <p:spPr>
            <a:xfrm>
              <a:off x="462924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46"/>
            <p:cNvSpPr/>
            <p:nvPr/>
          </p:nvSpPr>
          <p:spPr>
            <a:xfrm>
              <a:off x="4651200" y="330660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36"/>
            <p:cNvSpPr/>
            <p:nvPr/>
          </p:nvSpPr>
          <p:spPr>
            <a:xfrm>
              <a:off x="4692600" y="317808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46"/>
            <p:cNvSpPr/>
            <p:nvPr/>
          </p:nvSpPr>
          <p:spPr>
            <a:xfrm>
              <a:off x="4660920" y="276840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48"/>
          <p:cNvGrpSpPr/>
          <p:nvPr/>
        </p:nvGrpSpPr>
        <p:grpSpPr>
          <a:xfrm>
            <a:off x="6426360" y="2641680"/>
            <a:ext cx="1684080" cy="2430360"/>
            <a:chOff x="6426360" y="2641680"/>
            <a:chExt cx="1684080" cy="2430360"/>
          </a:xfrm>
        </p:grpSpPr>
        <p:sp>
          <p:nvSpPr>
            <p:cNvPr id="241" name="矩形 24"/>
            <p:cNvSpPr/>
            <p:nvPr/>
          </p:nvSpPr>
          <p:spPr>
            <a:xfrm>
              <a:off x="6426360" y="2641680"/>
              <a:ext cx="1684080" cy="243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146"/>
            <p:cNvSpPr/>
            <p:nvPr/>
          </p:nvSpPr>
          <p:spPr>
            <a:xfrm>
              <a:off x="6448320" y="330660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38"/>
            <p:cNvSpPr/>
            <p:nvPr/>
          </p:nvSpPr>
          <p:spPr>
            <a:xfrm>
              <a:off x="6491160" y="317808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46"/>
            <p:cNvSpPr/>
            <p:nvPr/>
          </p:nvSpPr>
          <p:spPr>
            <a:xfrm>
              <a:off x="6458040" y="276840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组合 27"/>
          <p:cNvGrpSpPr/>
          <p:nvPr/>
        </p:nvGrpSpPr>
        <p:grpSpPr>
          <a:xfrm>
            <a:off x="1222200" y="1492200"/>
            <a:ext cx="2754360" cy="2752920"/>
            <a:chOff x="1222200" y="1492200"/>
            <a:chExt cx="2754360" cy="2752920"/>
          </a:xfrm>
        </p:grpSpPr>
        <p:grpSp>
          <p:nvGrpSpPr>
            <p:cNvPr id="247" name="组合 1"/>
            <p:cNvGrpSpPr/>
            <p:nvPr/>
          </p:nvGrpSpPr>
          <p:grpSpPr>
            <a:xfrm>
              <a:off x="1222200" y="1492200"/>
              <a:ext cx="2754360" cy="2752920"/>
              <a:chOff x="1222200" y="1492200"/>
              <a:chExt cx="2754360" cy="2752920"/>
            </a:xfrm>
          </p:grpSpPr>
          <p:sp>
            <p:nvSpPr>
              <p:cNvPr id="248" name="椭圆 2"/>
              <p:cNvSpPr/>
              <p:nvPr/>
            </p:nvSpPr>
            <p:spPr>
              <a:xfrm>
                <a:off x="1222200" y="1492200"/>
                <a:ext cx="2754360" cy="275292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椭圆 3"/>
              <p:cNvSpPr/>
              <p:nvPr/>
            </p:nvSpPr>
            <p:spPr>
              <a:xfrm>
                <a:off x="1433160" y="1703160"/>
                <a:ext cx="2332080" cy="233064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Rectangle 13"/>
            <p:cNvSpPr/>
            <p:nvPr/>
          </p:nvSpPr>
          <p:spPr>
            <a:xfrm>
              <a:off x="1912680" y="251460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1"/>
          <p:cNvGrpSpPr/>
          <p:nvPr/>
        </p:nvGrpSpPr>
        <p:grpSpPr>
          <a:xfrm>
            <a:off x="3549600" y="1508040"/>
            <a:ext cx="4372200" cy="389160"/>
            <a:chOff x="3549600" y="1508040"/>
            <a:chExt cx="4372200" cy="389160"/>
          </a:xfrm>
        </p:grpSpPr>
        <p:sp>
          <p:nvSpPr>
            <p:cNvPr id="252" name="矩形 6"/>
            <p:cNvSpPr/>
            <p:nvPr/>
          </p:nvSpPr>
          <p:spPr>
            <a:xfrm>
              <a:off x="3549600" y="1508040"/>
              <a:ext cx="4372200" cy="389160"/>
            </a:xfrm>
            <a:prstGeom prst="rect">
              <a:avLst/>
            </a:prstGeom>
            <a:solidFill>
              <a:srgbClr val="22bad8">
                <a:alpha val="85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146"/>
            <p:cNvSpPr/>
            <p:nvPr/>
          </p:nvSpPr>
          <p:spPr>
            <a:xfrm>
              <a:off x="3743280" y="1563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146"/>
          <p:cNvSpPr/>
          <p:nvPr/>
        </p:nvSpPr>
        <p:spPr>
          <a:xfrm>
            <a:off x="3889440" y="1954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32"/>
          <p:cNvGrpSpPr/>
          <p:nvPr/>
        </p:nvGrpSpPr>
        <p:grpSpPr>
          <a:xfrm>
            <a:off x="4192560" y="2674800"/>
            <a:ext cx="3729240" cy="389160"/>
            <a:chOff x="4192560" y="2674800"/>
            <a:chExt cx="3729240" cy="389160"/>
          </a:xfrm>
        </p:grpSpPr>
        <p:sp>
          <p:nvSpPr>
            <p:cNvPr id="256" name="矩形 5"/>
            <p:cNvSpPr/>
            <p:nvPr/>
          </p:nvSpPr>
          <p:spPr>
            <a:xfrm>
              <a:off x="4192560" y="2674800"/>
              <a:ext cx="372924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4448160" y="2730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46"/>
          <p:cNvSpPr/>
          <p:nvPr/>
        </p:nvSpPr>
        <p:spPr>
          <a:xfrm>
            <a:off x="4257720" y="311472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33"/>
          <p:cNvGrpSpPr/>
          <p:nvPr/>
        </p:nvGrpSpPr>
        <p:grpSpPr>
          <a:xfrm>
            <a:off x="3549600" y="3849840"/>
            <a:ext cx="4372200" cy="388800"/>
            <a:chOff x="3549600" y="3849840"/>
            <a:chExt cx="4372200" cy="388800"/>
          </a:xfrm>
        </p:grpSpPr>
        <p:sp>
          <p:nvSpPr>
            <p:cNvPr id="260" name="矩形 4"/>
            <p:cNvSpPr/>
            <p:nvPr/>
          </p:nvSpPr>
          <p:spPr>
            <a:xfrm>
              <a:off x="3549600" y="384984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3743280" y="39052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TextBox 146"/>
          <p:cNvSpPr/>
          <p:nvPr/>
        </p:nvSpPr>
        <p:spPr>
          <a:xfrm>
            <a:off x="3743280" y="429588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8"/>
          <p:cNvGrpSpPr/>
          <p:nvPr/>
        </p:nvGrpSpPr>
        <p:grpSpPr>
          <a:xfrm>
            <a:off x="2873520" y="1332000"/>
            <a:ext cx="747720" cy="741240"/>
            <a:chOff x="2873520" y="1332000"/>
            <a:chExt cx="747720" cy="741240"/>
          </a:xfrm>
        </p:grpSpPr>
        <p:grpSp>
          <p:nvGrpSpPr>
            <p:cNvPr id="264" name="组合 10"/>
            <p:cNvGrpSpPr/>
            <p:nvPr/>
          </p:nvGrpSpPr>
          <p:grpSpPr>
            <a:xfrm>
              <a:off x="2876400" y="1332000"/>
              <a:ext cx="741600" cy="741240"/>
              <a:chOff x="2876400" y="1332000"/>
              <a:chExt cx="741600" cy="741240"/>
            </a:xfrm>
          </p:grpSpPr>
          <p:sp>
            <p:nvSpPr>
              <p:cNvPr id="265" name="椭圆 11"/>
              <p:cNvSpPr/>
              <p:nvPr/>
            </p:nvSpPr>
            <p:spPr>
              <a:xfrm>
                <a:off x="2876400" y="133200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12"/>
              <p:cNvSpPr/>
              <p:nvPr/>
            </p:nvSpPr>
            <p:spPr>
              <a:xfrm>
                <a:off x="2922840" y="1378440"/>
                <a:ext cx="648720" cy="648360"/>
              </a:xfrm>
              <a:prstGeom prst="ellipse">
                <a:avLst/>
              </a:prstGeom>
              <a:solidFill>
                <a:srgbClr val="22bad8">
                  <a:alpha val="80000"/>
                </a:srgbClr>
              </a:solid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Rectangle 13"/>
            <p:cNvSpPr/>
            <p:nvPr/>
          </p:nvSpPr>
          <p:spPr>
            <a:xfrm>
              <a:off x="2873520" y="150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29"/>
          <p:cNvGrpSpPr/>
          <p:nvPr/>
        </p:nvGrpSpPr>
        <p:grpSpPr>
          <a:xfrm>
            <a:off x="3581280" y="2498760"/>
            <a:ext cx="747720" cy="739800"/>
            <a:chOff x="3581280" y="2498760"/>
            <a:chExt cx="747720" cy="739800"/>
          </a:xfrm>
        </p:grpSpPr>
        <p:grpSp>
          <p:nvGrpSpPr>
            <p:cNvPr id="269" name="组合 7"/>
            <p:cNvGrpSpPr/>
            <p:nvPr/>
          </p:nvGrpSpPr>
          <p:grpSpPr>
            <a:xfrm>
              <a:off x="3584160" y="2498760"/>
              <a:ext cx="739800" cy="739800"/>
              <a:chOff x="3584160" y="2498760"/>
              <a:chExt cx="739800" cy="739800"/>
            </a:xfrm>
          </p:grpSpPr>
          <p:sp>
            <p:nvSpPr>
              <p:cNvPr id="270" name="椭圆 8"/>
              <p:cNvSpPr/>
              <p:nvPr/>
            </p:nvSpPr>
            <p:spPr>
              <a:xfrm>
                <a:off x="3584160" y="249876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 9"/>
              <p:cNvSpPr/>
              <p:nvPr/>
            </p:nvSpPr>
            <p:spPr>
              <a:xfrm>
                <a:off x="3629880" y="254448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Rectangle 13"/>
            <p:cNvSpPr/>
            <p:nvPr/>
          </p:nvSpPr>
          <p:spPr>
            <a:xfrm>
              <a:off x="3581280" y="266868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30"/>
          <p:cNvGrpSpPr/>
          <p:nvPr/>
        </p:nvGrpSpPr>
        <p:grpSpPr>
          <a:xfrm>
            <a:off x="2873520" y="3673440"/>
            <a:ext cx="747720" cy="739800"/>
            <a:chOff x="2873520" y="3673440"/>
            <a:chExt cx="747720" cy="739800"/>
          </a:xfrm>
        </p:grpSpPr>
        <p:grpSp>
          <p:nvGrpSpPr>
            <p:cNvPr id="274" name="组合 13"/>
            <p:cNvGrpSpPr/>
            <p:nvPr/>
          </p:nvGrpSpPr>
          <p:grpSpPr>
            <a:xfrm>
              <a:off x="2878200" y="3673440"/>
              <a:ext cx="739800" cy="739800"/>
              <a:chOff x="2878200" y="3673440"/>
              <a:chExt cx="739800" cy="739800"/>
            </a:xfrm>
          </p:grpSpPr>
          <p:sp>
            <p:nvSpPr>
              <p:cNvPr id="275" name="椭圆 14"/>
              <p:cNvSpPr/>
              <p:nvPr/>
            </p:nvSpPr>
            <p:spPr>
              <a:xfrm>
                <a:off x="2878200" y="367344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椭圆 15"/>
              <p:cNvSpPr/>
              <p:nvPr/>
            </p:nvSpPr>
            <p:spPr>
              <a:xfrm>
                <a:off x="2923920" y="371916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Rectangle 13"/>
            <p:cNvSpPr/>
            <p:nvPr/>
          </p:nvSpPr>
          <p:spPr>
            <a:xfrm>
              <a:off x="2873520" y="3843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70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28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2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28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组合 11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9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25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30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69"/>
          <p:cNvGrpSpPr/>
          <p:nvPr/>
        </p:nvGrpSpPr>
        <p:grpSpPr>
          <a:xfrm>
            <a:off x="1463760" y="1414440"/>
            <a:ext cx="6448320" cy="3317040"/>
            <a:chOff x="1463760" y="1414440"/>
            <a:chExt cx="6448320" cy="3317040"/>
          </a:xfrm>
        </p:grpSpPr>
        <p:sp>
          <p:nvSpPr>
            <p:cNvPr id="330" name="任意多边形 48"/>
            <p:cNvSpPr/>
            <p:nvPr/>
          </p:nvSpPr>
          <p:spPr>
            <a:xfrm>
              <a:off x="1779480" y="1755720"/>
              <a:ext cx="2716200" cy="992160"/>
            </a:xfrm>
            <a:custGeom>
              <a:avLst/>
              <a:gdLst/>
              <a:ahLst/>
              <a:rect l="l" t="t" r="r" b="b"/>
              <a:pathLst>
                <a:path w="2717006" h="992982">
                  <a:moveTo>
                    <a:pt x="0" y="0"/>
                  </a:moveTo>
                  <a:lnTo>
                    <a:pt x="833437" y="190501"/>
                  </a:lnTo>
                  <a:lnTo>
                    <a:pt x="1664493" y="576263"/>
                  </a:lnTo>
                  <a:lnTo>
                    <a:pt x="2505075" y="678657"/>
                  </a:lnTo>
                  <a:lnTo>
                    <a:pt x="2717006" y="992982"/>
                  </a:lnTo>
                </a:path>
              </a:pathLst>
            </a:custGeom>
            <a:noFill/>
            <a:ln w="381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任意多边形 49"/>
            <p:cNvSpPr/>
            <p:nvPr/>
          </p:nvSpPr>
          <p:spPr>
            <a:xfrm>
              <a:off x="4495680" y="2747880"/>
              <a:ext cx="3114720" cy="1643040"/>
            </a:xfrm>
            <a:custGeom>
              <a:avLst/>
              <a:gdLst/>
              <a:ahLst/>
              <a:rect l="l" t="t" r="r" b="b"/>
              <a:pathLst>
                <a:path w="3114675" h="1643063">
                  <a:moveTo>
                    <a:pt x="0" y="0"/>
                  </a:moveTo>
                  <a:lnTo>
                    <a:pt x="611981" y="1052512"/>
                  </a:lnTo>
                  <a:lnTo>
                    <a:pt x="1445419" y="538163"/>
                  </a:lnTo>
                  <a:lnTo>
                    <a:pt x="2274094" y="781050"/>
                  </a:lnTo>
                  <a:lnTo>
                    <a:pt x="3114675" y="1643063"/>
                  </a:lnTo>
                </a:path>
              </a:pathLst>
            </a:custGeom>
            <a:noFill/>
            <a:ln w="3816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50"/>
            <p:cNvSpPr/>
            <p:nvPr/>
          </p:nvSpPr>
          <p:spPr>
            <a:xfrm>
              <a:off x="1701720" y="168084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51"/>
            <p:cNvSpPr/>
            <p:nvPr/>
          </p:nvSpPr>
          <p:spPr>
            <a:xfrm>
              <a:off x="5864400" y="321156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52"/>
            <p:cNvSpPr/>
            <p:nvPr/>
          </p:nvSpPr>
          <p:spPr>
            <a:xfrm>
              <a:off x="2533680" y="187164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3"/>
            <p:cNvSpPr/>
            <p:nvPr/>
          </p:nvSpPr>
          <p:spPr>
            <a:xfrm>
              <a:off x="3367080" y="2252520"/>
              <a:ext cx="144360" cy="1443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54"/>
            <p:cNvSpPr/>
            <p:nvPr/>
          </p:nvSpPr>
          <p:spPr>
            <a:xfrm>
              <a:off x="4199040" y="2360520"/>
              <a:ext cx="144360" cy="142560"/>
            </a:xfrm>
            <a:prstGeom prst="rect">
              <a:avLst/>
            </a:prstGeom>
            <a:solidFill>
              <a:srgbClr val="22bad8"/>
            </a:solidFill>
            <a:ln w="1260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55"/>
            <p:cNvSpPr/>
            <p:nvPr/>
          </p:nvSpPr>
          <p:spPr>
            <a:xfrm>
              <a:off x="5032440" y="372276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56"/>
            <p:cNvSpPr/>
            <p:nvPr/>
          </p:nvSpPr>
          <p:spPr>
            <a:xfrm>
              <a:off x="6697800" y="344808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57"/>
            <p:cNvSpPr/>
            <p:nvPr/>
          </p:nvSpPr>
          <p:spPr>
            <a:xfrm>
              <a:off x="7529760" y="431640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46"/>
            <p:cNvSpPr/>
            <p:nvPr/>
          </p:nvSpPr>
          <p:spPr>
            <a:xfrm>
              <a:off x="4803840" y="38527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46"/>
            <p:cNvSpPr/>
            <p:nvPr/>
          </p:nvSpPr>
          <p:spPr>
            <a:xfrm>
              <a:off x="5629320" y="3332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46"/>
            <p:cNvSpPr/>
            <p:nvPr/>
          </p:nvSpPr>
          <p:spPr>
            <a:xfrm>
              <a:off x="6810480" y="3382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146"/>
            <p:cNvSpPr/>
            <p:nvPr/>
          </p:nvSpPr>
          <p:spPr>
            <a:xfrm>
              <a:off x="7293240" y="44244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6"/>
            <p:cNvSpPr/>
            <p:nvPr/>
          </p:nvSpPr>
          <p:spPr>
            <a:xfrm>
              <a:off x="3965400" y="2087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46"/>
            <p:cNvSpPr/>
            <p:nvPr/>
          </p:nvSpPr>
          <p:spPr>
            <a:xfrm>
              <a:off x="3139920" y="19875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Box 146"/>
            <p:cNvSpPr/>
            <p:nvPr/>
          </p:nvSpPr>
          <p:spPr>
            <a:xfrm>
              <a:off x="2301840" y="15919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146"/>
            <p:cNvSpPr/>
            <p:nvPr/>
          </p:nvSpPr>
          <p:spPr>
            <a:xfrm>
              <a:off x="1463760" y="1414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27"/>
          <p:cNvGrpSpPr/>
          <p:nvPr/>
        </p:nvGrpSpPr>
        <p:grpSpPr>
          <a:xfrm>
            <a:off x="5162400" y="1965240"/>
            <a:ext cx="3552840" cy="2366640"/>
            <a:chOff x="5162400" y="1965240"/>
            <a:chExt cx="3552840" cy="2366640"/>
          </a:xfrm>
        </p:grpSpPr>
        <p:sp>
          <p:nvSpPr>
            <p:cNvPr id="350" name="任意多边形 3"/>
            <p:cNvSpPr/>
            <p:nvPr/>
          </p:nvSpPr>
          <p:spPr>
            <a:xfrm flipH="1">
              <a:off x="5162400" y="196524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1e8f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4"/>
            <p:cNvSpPr/>
            <p:nvPr/>
          </p:nvSpPr>
          <p:spPr>
            <a:xfrm flipH="1" flipV="1">
              <a:off x="5162400" y="4079160"/>
              <a:ext cx="11872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直接连接符 5"/>
            <p:cNvSpPr/>
            <p:nvPr/>
          </p:nvSpPr>
          <p:spPr>
            <a:xfrm>
              <a:off x="5704560" y="27691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直接连接符 6"/>
            <p:cNvSpPr/>
            <p:nvPr/>
          </p:nvSpPr>
          <p:spPr>
            <a:xfrm flipV="1">
              <a:off x="5704560" y="35582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146"/>
            <p:cNvSpPr/>
            <p:nvPr/>
          </p:nvSpPr>
          <p:spPr>
            <a:xfrm>
              <a:off x="6333840" y="204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Box 146"/>
            <p:cNvSpPr/>
            <p:nvPr/>
          </p:nvSpPr>
          <p:spPr>
            <a:xfrm>
              <a:off x="6333840" y="2671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146"/>
            <p:cNvSpPr/>
            <p:nvPr/>
          </p:nvSpPr>
          <p:spPr>
            <a:xfrm>
              <a:off x="6333840" y="34034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146"/>
            <p:cNvSpPr/>
            <p:nvPr/>
          </p:nvSpPr>
          <p:spPr>
            <a:xfrm>
              <a:off x="6333840" y="39369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6"/>
          <p:cNvGrpSpPr/>
          <p:nvPr/>
        </p:nvGrpSpPr>
        <p:grpSpPr>
          <a:xfrm>
            <a:off x="357120" y="2081160"/>
            <a:ext cx="3562560" cy="2207880"/>
            <a:chOff x="357120" y="2081160"/>
            <a:chExt cx="3562560" cy="2207880"/>
          </a:xfrm>
        </p:grpSpPr>
        <p:sp>
          <p:nvSpPr>
            <p:cNvPr id="359" name="任意多边形 1"/>
            <p:cNvSpPr/>
            <p:nvPr/>
          </p:nvSpPr>
          <p:spPr>
            <a:xfrm>
              <a:off x="2730600" y="208116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2"/>
            <p:cNvSpPr/>
            <p:nvPr/>
          </p:nvSpPr>
          <p:spPr>
            <a:xfrm flipV="1">
              <a:off x="2730600" y="4036320"/>
              <a:ext cx="1189080" cy="252360"/>
            </a:xfrm>
            <a:custGeom>
              <a:avLst/>
              <a:gdLst/>
              <a:ahLst/>
              <a:rect l="l" t="t" r="r" b="b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7"/>
            <p:cNvSpPr/>
            <p:nvPr/>
          </p:nvSpPr>
          <p:spPr>
            <a:xfrm>
              <a:off x="2730600" y="33368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146"/>
            <p:cNvSpPr/>
            <p:nvPr/>
          </p:nvSpPr>
          <p:spPr>
            <a:xfrm>
              <a:off x="357120" y="38782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46"/>
            <p:cNvSpPr/>
            <p:nvPr/>
          </p:nvSpPr>
          <p:spPr>
            <a:xfrm>
              <a:off x="357120" y="31827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146"/>
            <p:cNvSpPr/>
            <p:nvPr/>
          </p:nvSpPr>
          <p:spPr>
            <a:xfrm>
              <a:off x="357120" y="21650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5"/>
          <p:cNvGrpSpPr/>
          <p:nvPr/>
        </p:nvGrpSpPr>
        <p:grpSpPr>
          <a:xfrm>
            <a:off x="3222720" y="1785960"/>
            <a:ext cx="2698560" cy="2700360"/>
            <a:chOff x="3222720" y="1785960"/>
            <a:chExt cx="2698560" cy="2700360"/>
          </a:xfrm>
        </p:grpSpPr>
        <p:sp>
          <p:nvSpPr>
            <p:cNvPr id="366" name="饼形 15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527672" y="692188"/>
                  </a:moveTo>
                  <a:cubicBezTo>
                    <a:pt x="2639417" y="892534"/>
                    <a:pt x="2698295" y="1118069"/>
                    <a:pt x="2698747" y="1347503"/>
                  </a:cubicBezTo>
                  <a:lnTo>
                    <a:pt x="1349375" y="1350169"/>
                  </a:lnTo>
                  <a:lnTo>
                    <a:pt x="2527672" y="692188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饼形 16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98748" y="1347766"/>
                  </a:moveTo>
                  <a:cubicBezTo>
                    <a:pt x="2699317" y="1667776"/>
                    <a:pt x="2586271" y="1977586"/>
                    <a:pt x="2379767" y="2221948"/>
                  </a:cubicBezTo>
                  <a:lnTo>
                    <a:pt x="1349375" y="1350169"/>
                  </a:lnTo>
                  <a:lnTo>
                    <a:pt x="2698748" y="1347766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饼形 17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379817" y="2221888"/>
                  </a:moveTo>
                  <a:cubicBezTo>
                    <a:pt x="2121317" y="2527815"/>
                    <a:pt x="1740389" y="2703083"/>
                    <a:pt x="1340019" y="2700305"/>
                  </a:cubicBezTo>
                  <a:cubicBezTo>
                    <a:pt x="1343138" y="2250260"/>
                    <a:pt x="1346256" y="1800214"/>
                    <a:pt x="1349375" y="1350169"/>
                  </a:cubicBezTo>
                  <a:lnTo>
                    <a:pt x="2379817" y="2221888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饼形 18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3158" y="2700323"/>
                  </a:moveTo>
                  <a:cubicBezTo>
                    <a:pt x="917762" y="2698362"/>
                    <a:pt x="518197" y="2495797"/>
                    <a:pt x="265013" y="2153743"/>
                  </a:cubicBezTo>
                  <a:lnTo>
                    <a:pt x="1349375" y="1350169"/>
                  </a:lnTo>
                  <a:cubicBezTo>
                    <a:pt x="1347303" y="1800220"/>
                    <a:pt x="1345230" y="2250272"/>
                    <a:pt x="1343158" y="2700323"/>
                  </a:cubicBez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饼形 19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268728" y="2158737"/>
                  </a:moveTo>
                  <a:cubicBezTo>
                    <a:pt x="11565" y="1814635"/>
                    <a:pt x="-66560" y="1368605"/>
                    <a:pt x="58325" y="957506"/>
                  </a:cubicBezTo>
                  <a:lnTo>
                    <a:pt x="1349375" y="1350169"/>
                  </a:lnTo>
                  <a:lnTo>
                    <a:pt x="268728" y="2158737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饼形 20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59938" y="952236"/>
                  </a:moveTo>
                  <a:cubicBezTo>
                    <a:pt x="234431" y="386154"/>
                    <a:pt x="757328" y="-1"/>
                    <a:pt x="1349376" y="-1"/>
                  </a:cubicBezTo>
                  <a:cubicBezTo>
                    <a:pt x="1349376" y="450056"/>
                    <a:pt x="1349375" y="900112"/>
                    <a:pt x="1349375" y="1350169"/>
                  </a:cubicBezTo>
                  <a:lnTo>
                    <a:pt x="59938" y="952236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饼形 21"/>
            <p:cNvSpPr/>
            <p:nvPr/>
          </p:nvSpPr>
          <p:spPr>
            <a:xfrm>
              <a:off x="3222720" y="1785960"/>
              <a:ext cx="2698560" cy="2700360"/>
            </a:xfrm>
            <a:custGeom>
              <a:avLst/>
              <a:gdLst/>
              <a:ahLst/>
              <a:rect l="l" t="t" r="r" b="b"/>
              <a:pathLst>
                <a:path w="2698750" h="2700337">
                  <a:moveTo>
                    <a:pt x="1348134" y="1"/>
                  </a:moveTo>
                  <a:cubicBezTo>
                    <a:pt x="1839103" y="-451"/>
                    <a:pt x="2291574" y="265962"/>
                    <a:pt x="2529586" y="695634"/>
                  </a:cubicBezTo>
                  <a:lnTo>
                    <a:pt x="1349375" y="1350169"/>
                  </a:lnTo>
                  <a:cubicBezTo>
                    <a:pt x="1348961" y="900113"/>
                    <a:pt x="1348548" y="450057"/>
                    <a:pt x="1348134" y="1"/>
                  </a:cubicBezTo>
                  <a:close/>
                </a:path>
              </a:pathLst>
            </a:custGeom>
            <a:solidFill>
              <a:srgbClr val="22bad8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椭圆 22"/>
          <p:cNvSpPr/>
          <p:nvPr/>
        </p:nvSpPr>
        <p:spPr>
          <a:xfrm>
            <a:off x="3078000" y="1641600"/>
            <a:ext cx="298800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46"/>
          <p:cNvSpPr/>
          <p:nvPr/>
        </p:nvSpPr>
        <p:spPr>
          <a:xfrm>
            <a:off x="2948040" y="99864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285840" y="857160"/>
            <a:ext cx="2995560" cy="440712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377" name="组合 8"/>
          <p:cNvGrpSpPr/>
          <p:nvPr/>
        </p:nvGrpSpPr>
        <p:grpSpPr>
          <a:xfrm>
            <a:off x="3500280" y="3408480"/>
            <a:ext cx="5286600" cy="1928520"/>
            <a:chOff x="3500280" y="3408480"/>
            <a:chExt cx="5286600" cy="1928520"/>
          </a:xfrm>
        </p:grpSpPr>
        <p:sp>
          <p:nvSpPr>
            <p:cNvPr id="378" name="矩形 6"/>
            <p:cNvSpPr/>
            <p:nvPr/>
          </p:nvSpPr>
          <p:spPr>
            <a:xfrm>
              <a:off x="3500280" y="3408480"/>
              <a:ext cx="5286600" cy="19285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3"/>
            <p:cNvSpPr/>
            <p:nvPr/>
          </p:nvSpPr>
          <p:spPr>
            <a:xfrm>
              <a:off x="3500280" y="3513240"/>
              <a:ext cx="514404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美乐辰旗舰店，专注为客户提供高质量的服务，坚持创新，不断提升发展，形成了以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制作为中心的综合性服务的供应商，以国际化的设计观和实务运作享誉业界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制作、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图表开发、动画演示开发和</a:t>
              </a:r>
              <a:r>
                <a:rPr b="0" lang="en-US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5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设计、应用技能培训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46"/>
          <p:cNvSpPr/>
          <p:nvPr/>
        </p:nvSpPr>
        <p:spPr>
          <a:xfrm>
            <a:off x="3411360" y="30052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214960" y="-874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/>
  <dc:description/>
  <cp:keywords/>
  <dc:language>en-US</dc:language>
  <cp:lastModifiedBy>Administrator</cp:lastModifiedBy>
  <dcterms:modified xsi:type="dcterms:W3CDTF">2016-07-26T01:48:37Z</dcterms:modified>
  <cp:revision>25</cp:revision>
  <dc:subject/>
  <dc:title>PowerPoint 演示文稿</dc:title>
</cp:coreProperties>
</file>