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1B81-A75E-42B9-A5A9-32523B7F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A04D-799B-4368-AD6B-4BA6A21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D3F-E44F-4F43-ABCE-B3D23DB4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9B4-1931-4136-998E-E4303FF8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7D7-8DDE-4B77-908D-5B92DA31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FBC-6535-4C7F-9279-D9330128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7D2-3D20-4AB6-98FD-6AEF4E35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209A-52DE-45BD-BE9F-F20EA147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5BD-A9A3-44A9-91D9-C1FC0B1E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66B-8CE7-431A-9827-4EA83811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CB31-6B28-4CDD-9476-D06C44AF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283-2698-43DD-9CC4-4C273B84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474-056E-4A92-A17B-B64C2AE7E20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5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9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4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8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9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5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9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3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7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1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4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7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20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3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6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1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6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1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7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8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2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6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60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4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5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9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4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8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30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7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1:48:37Z</dcterms:modified>
  <cp:revision>25</cp:revision>
  <dc:subject/>
  <dc:title>PowerPoint 演示文稿</dc:title>
</cp:coreProperties>
</file>