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4.jpeg" ContentType="image/jpeg"/>
  <Override PartName="/ppt/media/image59.png" ContentType="image/png"/>
  <Override PartName="/ppt/media/image21.png" ContentType="image/png"/>
  <Override PartName="/ppt/media/image58.png" ContentType="image/png"/>
  <Override PartName="/ppt/media/image17.png" ContentType="image/png"/>
  <Override PartName="/ppt/media/image16.png" ContentType="image/png"/>
  <Override PartName="/ppt/media/image14.png" ContentType="image/png"/>
  <Override PartName="/ppt/media/image1.jpeg" ContentType="image/jpeg"/>
  <Override PartName="/ppt/media/image10.png" ContentType="image/png"/>
  <Override PartName="/ppt/media/image47.png" ContentType="image/png"/>
  <Override PartName="/ppt/media/image28.png" ContentType="image/png"/>
  <Override PartName="/ppt/media/image7.jpeg" ContentType="image/jpeg"/>
  <Override PartName="/ppt/media/image5.png" ContentType="image/png"/>
  <Override PartName="/ppt/media/image35.png" ContentType="image/png"/>
  <Override PartName="/ppt/media/image25.png" ContentType="image/png"/>
  <Override PartName="/ppt/media/image19.jpeg" ContentType="image/jpeg"/>
  <Override PartName="/ppt/media/image2.png" ContentType="image/png"/>
  <Override PartName="/ppt/media/image32.png" ContentType="image/png"/>
  <Override PartName="/ppt/media/image15.png" ContentType="image/png"/>
  <Override PartName="/ppt/media/image3.jpeg" ContentType="image/jpeg"/>
  <Override PartName="/ppt/media/image30.png" ContentType="image/png"/>
  <Override PartName="/ppt/media/image27.png" ContentType="image/png"/>
  <Override PartName="/ppt/media/image4.png" ContentType="image/png"/>
  <Override PartName="/ppt/media/image34.png" ContentType="image/png"/>
  <Override PartName="/ppt/media/image29.png" ContentType="image/png"/>
  <Override PartName="/ppt/media/image6.png" ContentType="image/png"/>
  <Override PartName="/ppt/media/image36.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53.png" ContentType="image/png"/>
  <Override PartName="/ppt/media/image42.png" ContentType="image/png"/>
  <Override PartName="/ppt/media/image54.png" ContentType="image/png"/>
  <Override PartName="/ppt/media/image57.jpeg" ContentType="image/jpeg"/>
  <Override PartName="/ppt/media/image43.png" ContentType="image/png"/>
  <Override PartName="/ppt/media/image55.png" ContentType="image/png"/>
  <Override PartName="/ppt/media/image18.png" ContentType="image/png"/>
  <Override PartName="/ppt/media/image20.png" ContentType="image/png"/>
  <Override PartName="/ppt/media/image44.png" ContentType="image/png"/>
  <Override PartName="/ppt/media/image56.png" ContentType="image/png"/>
  <Override PartName="/ppt/media/image41.png" ContentType="image/png"/>
  <Override PartName="/ppt/media/image40.png" ContentType="image/png"/>
  <Override PartName="/ppt/media/image37.png" ContentType="image/png"/>
  <Override PartName="/ppt/media/image33.png" ContentType="image/png"/>
  <Override PartName="/ppt/media/image38.png" ContentType="image/png"/>
  <Override PartName="/ppt/media/image8.png" ContentType="image/png"/>
  <Override PartName="/ppt/media/image31.png" ContentType="image/png"/>
  <Override PartName="/ppt/media/image49.png" ContentType="image/png"/>
  <Override PartName="/ppt/media/image12.png" ContentType="image/png"/>
  <Override PartName="/ppt/media/image39.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5B83B-8191-4C6F-B75C-F45787AF2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789E1-D122-40C7-8745-A84153802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6BF1D-671F-4B35-83FD-251E648EC7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6EC1D-89CD-47C9-9FAE-00B784BD9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836245-D0BE-4070-96E2-CA9BF8909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472D25-2E10-4F33-88FB-DAB254782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EA2B3-3906-48C0-8303-8850329C19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4225A-B423-4BEF-B2B1-F7A51ECF7F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298C1-7A0A-4BDF-8075-EBF486F4C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1C1D2-C3D0-49C1-BA97-BE4435411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9FFA9-BEED-4487-83C8-5CCB8DCC2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DC9AB-646A-434A-9328-7C628CDC6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BDC993-CF0F-4704-AA7A-652B718A3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894A6-E590-45EE-BD04-6A4A67007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50C67-3325-4381-B42E-33805FC4E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CD16C-060A-4F29-AA56-CEB505A0E9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50E2F9-B0BA-4FFB-879A-97FDBE220D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7FDBE7-9C34-43E6-8237-DF02E48218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058E95-A5AE-4584-8591-B2A4387238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B16258-45FA-4192-9CF9-DEBA1C5D5B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19AF31-7A4E-43DE-AFC6-139CB065A9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FACC81-B2EB-4783-81A6-50D308F29E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E365C-7AFA-4307-838C-150CB19E2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86A869-20C5-46B7-BB6B-6907CE2763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F119F4-F451-47C9-8431-12604282F0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28311-8852-4059-A03F-959CF589AF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00081-F403-4CC8-A6A8-E580FA7FAA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510270-AFA6-42F4-88BE-CA9BC3D216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1AD75C-8A1F-48D1-99B5-790B7A7073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2DFC2B-A818-432C-BAB2-3786C8D172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67B646-3D71-4E4E-99D9-19E44958CA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6D45C7-A1D5-432B-82D2-F4F47343BC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D74DA5-C87B-4187-B0E4-1E46C7EED6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59A23-282E-4FBC-BEC8-574FDC7AF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7E8870-35B3-4D92-A2BC-C1C0BC2632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996E88-809C-4ED3-95CC-D8EF539207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15E462-7765-4C09-BAEC-B11F73F27E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8FD2CF-0FC2-4463-914E-40AB13E19E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6A1609-A4EA-4E32-8E04-1878573BF0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55B5FF-6FDE-416E-B8F5-4E59B3F3A1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44B7B8-3348-4BEF-BD24-A2D086F2FC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2DBEE2-8B63-4C34-8415-55F96B6948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1819C5-35B9-411B-8AE9-06A75A9765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A75149-EE5E-479E-B524-6A14F22282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B4FDC-5E39-4F90-904A-FA4E2DD502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FBAE54-F67E-4A02-8FD3-A2C5DD8AB5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200764-C97B-4334-B3D0-AE8E2C6E8E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6E3BB1-70CF-4656-A741-ADDAA1B4F1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A98F51-F169-46BC-842F-64630DBED6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5548C0-049F-48DC-9C22-F87D8F65ED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0D16FC-CD96-417B-9EAF-CDCFB8A427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487A70-CDAF-4381-95FB-FDEA189717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004142-7C74-493F-8F77-78A909D8C1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6BFF24-7456-4C13-BCA6-3097B671A4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D24BC8-5043-4796-AB03-70CC5B61A1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B9A0A-C529-4CC4-A1FB-2CDE4F262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A79EDC-36EB-4F00-A12E-87A5BF1D21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4F238-C270-424C-ABE5-80D12C412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6A90A-050C-4D73-9D9B-082A9D792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6417B-502B-49D9-8538-E560027CF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9110-5E40-4539-A18C-01306050CC8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17F1A-9A28-4B7D-82B0-21BCDBC1E01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598F4-9C03-4BE6-BDB8-F7100E0BADC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78D3-3327-40B7-97BC-195AA468541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31AA-404D-4AE7-95E2-ED2B0D73C22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64000" y="226368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7" descr="12-3"/>
          <p:cNvPicPr/>
          <p:nvPr/>
        </p:nvPicPr>
        <p:blipFill>
          <a:blip r:embed="rId5"/>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par>
                                <p:cTn id="553" nodeType="withEffect" fill="hold" presetClass="entr" presetID="12" presetSubtype="8">
                                  <p:stCondLst>
                                    <p:cond delay="0"/>
                                  </p:stCondLst>
                                  <p:childTnLst>
                                    <p:set>
                                      <p:cBhvr>
                                        <p:cTn id="554" dur="1" fill="hold">
                                          <p:stCondLst>
                                            <p:cond delay="0"/>
                                          </p:stCondLst>
                                        </p:cTn>
                                        <p:tgtEl>
                                          <p:spTgt spid="349"/>
                                        </p:tgtEl>
                                        <p:attrNameLst>
                                          <p:attrName>style.visibility</p:attrName>
                                        </p:attrNameLst>
                                      </p:cBhvr>
                                      <p:to>
                                        <p:strVal val="visible"/>
                                      </p:to>
                                    </p:set>
                                    <p:animEffect filter="slide(fromLeft)" transition="in">
                                      <p:cBhvr additive="repl">
                                        <p:cTn id="555"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39600" y="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Administrator</cp:lastModifiedBy>
  <dcterms:modified xsi:type="dcterms:W3CDTF">2016-07-26T02:47:36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