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166-F545-49F8-B629-57183A65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A5C-6D9D-448E-A0B2-FF55D7A0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730-2488-4DA5-8C0B-49272FDA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4BD-91E7-41D9-BCBD-7DE29A59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DFB-4AD0-4954-9A3A-C1D21E51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4C5-933E-453B-BEDA-C62E877C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165-A2BE-4B7D-9670-73FAD50C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250-DFAB-4055-B908-1135E48F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65E-7434-4784-8A4C-744A0413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7EF-E479-460B-BA98-A228C849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440-F062-4869-8EEF-530640AB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0E1-D645-486B-A339-AB315C4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D8B8-788A-49DC-B206-8CF2A84EEF9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9233-3C8B-46D1-B5AC-93ACBC12D0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5645160" y="436248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5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5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64" name="任意多边形 77"/>
          <p:cNvSpPr/>
          <p:nvPr/>
        </p:nvSpPr>
        <p:spPr>
          <a:xfrm>
            <a:off x="3886200" y="167940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4220" y="146340"/>
                </a:moveTo>
                <a:lnTo>
                  <a:pt x="205028" y="166432"/>
                </a:lnTo>
                <a:lnTo>
                  <a:pt x="205028" y="189035"/>
                </a:lnTo>
                <a:lnTo>
                  <a:pt x="249733" y="176101"/>
                </a:lnTo>
                <a:lnTo>
                  <a:pt x="249733" y="323776"/>
                </a:lnTo>
                <a:lnTo>
                  <a:pt x="206159" y="323776"/>
                </a:lnTo>
                <a:lnTo>
                  <a:pt x="206159" y="344998"/>
                </a:lnTo>
                <a:lnTo>
                  <a:pt x="317668" y="344998"/>
                </a:lnTo>
                <a:lnTo>
                  <a:pt x="317668" y="323776"/>
                </a:lnTo>
                <a:lnTo>
                  <a:pt x="274220" y="323776"/>
                </a:lnTo>
                <a:lnTo>
                  <a:pt x="274220" y="146340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78"/>
          <p:cNvSpPr/>
          <p:nvPr/>
        </p:nvSpPr>
        <p:spPr>
          <a:xfrm>
            <a:off x="5089680" y="275580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62797" y="149081"/>
                </a:moveTo>
                <a:cubicBezTo>
                  <a:pt x="242454" y="149081"/>
                  <a:pt x="224622" y="154982"/>
                  <a:pt x="209302" y="166786"/>
                </a:cubicBezTo>
                <a:lnTo>
                  <a:pt x="209302" y="191776"/>
                </a:lnTo>
                <a:cubicBezTo>
                  <a:pt x="225041" y="177042"/>
                  <a:pt x="241575" y="169675"/>
                  <a:pt x="258904" y="169675"/>
                </a:cubicBezTo>
                <a:cubicBezTo>
                  <a:pt x="270624" y="169675"/>
                  <a:pt x="279582" y="172626"/>
                  <a:pt x="285777" y="178528"/>
                </a:cubicBezTo>
                <a:cubicBezTo>
                  <a:pt x="291972" y="184430"/>
                  <a:pt x="295069" y="192906"/>
                  <a:pt x="295069" y="203956"/>
                </a:cubicBezTo>
                <a:cubicBezTo>
                  <a:pt x="295069" y="213667"/>
                  <a:pt x="292432" y="223064"/>
                  <a:pt x="287158" y="232148"/>
                </a:cubicBezTo>
                <a:cubicBezTo>
                  <a:pt x="281884" y="241231"/>
                  <a:pt x="271461" y="253558"/>
                  <a:pt x="255890" y="269129"/>
                </a:cubicBezTo>
                <a:lnTo>
                  <a:pt x="199382" y="325512"/>
                </a:lnTo>
                <a:lnTo>
                  <a:pt x="199382" y="346859"/>
                </a:lnTo>
                <a:lnTo>
                  <a:pt x="317673" y="346859"/>
                </a:lnTo>
                <a:lnTo>
                  <a:pt x="317673" y="325009"/>
                </a:lnTo>
                <a:lnTo>
                  <a:pt x="228515" y="325009"/>
                </a:lnTo>
                <a:lnTo>
                  <a:pt x="228515" y="324507"/>
                </a:lnTo>
                <a:lnTo>
                  <a:pt x="272843" y="281184"/>
                </a:lnTo>
                <a:cubicBezTo>
                  <a:pt x="290925" y="263269"/>
                  <a:pt x="303211" y="248514"/>
                  <a:pt x="309699" y="236919"/>
                </a:cubicBezTo>
                <a:cubicBezTo>
                  <a:pt x="316187" y="225325"/>
                  <a:pt x="319431" y="213500"/>
                  <a:pt x="319431" y="201445"/>
                </a:cubicBezTo>
                <a:cubicBezTo>
                  <a:pt x="319431" y="185455"/>
                  <a:pt x="314366" y="172730"/>
                  <a:pt x="304236" y="163270"/>
                </a:cubicBezTo>
                <a:cubicBezTo>
                  <a:pt x="294107" y="153810"/>
                  <a:pt x="280293" y="149081"/>
                  <a:pt x="262797" y="149081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79"/>
          <p:cNvSpPr/>
          <p:nvPr/>
        </p:nvSpPr>
        <p:spPr>
          <a:xfrm>
            <a:off x="5089680" y="403236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56141" y="164405"/>
                </a:moveTo>
                <a:cubicBezTo>
                  <a:pt x="239147" y="164405"/>
                  <a:pt x="224288" y="168088"/>
                  <a:pt x="211563" y="175455"/>
                </a:cubicBezTo>
                <a:lnTo>
                  <a:pt x="211563" y="198686"/>
                </a:lnTo>
                <a:cubicBezTo>
                  <a:pt x="223618" y="189477"/>
                  <a:pt x="236468" y="184873"/>
                  <a:pt x="250114" y="184873"/>
                </a:cubicBezTo>
                <a:cubicBezTo>
                  <a:pt x="273973" y="184873"/>
                  <a:pt x="285902" y="195547"/>
                  <a:pt x="285902" y="216894"/>
                </a:cubicBezTo>
                <a:cubicBezTo>
                  <a:pt x="285902" y="240000"/>
                  <a:pt x="270289" y="251553"/>
                  <a:pt x="239063" y="251553"/>
                </a:cubicBezTo>
                <a:lnTo>
                  <a:pt x="223618" y="251553"/>
                </a:lnTo>
                <a:lnTo>
                  <a:pt x="223618" y="271896"/>
                </a:lnTo>
                <a:lnTo>
                  <a:pt x="239817" y="271896"/>
                </a:lnTo>
                <a:cubicBezTo>
                  <a:pt x="275061" y="271896"/>
                  <a:pt x="292683" y="284202"/>
                  <a:pt x="292683" y="308814"/>
                </a:cubicBezTo>
                <a:cubicBezTo>
                  <a:pt x="292683" y="319865"/>
                  <a:pt x="288770" y="328676"/>
                  <a:pt x="280942" y="335248"/>
                </a:cubicBezTo>
                <a:cubicBezTo>
                  <a:pt x="273115" y="341819"/>
                  <a:pt x="262504" y="345105"/>
                  <a:pt x="249109" y="345105"/>
                </a:cubicBezTo>
                <a:cubicBezTo>
                  <a:pt x="232366" y="345105"/>
                  <a:pt x="217339" y="339957"/>
                  <a:pt x="204028" y="329660"/>
                </a:cubicBezTo>
                <a:lnTo>
                  <a:pt x="204028" y="355151"/>
                </a:lnTo>
                <a:cubicBezTo>
                  <a:pt x="215330" y="362016"/>
                  <a:pt x="230189" y="365448"/>
                  <a:pt x="248607" y="365448"/>
                </a:cubicBezTo>
                <a:cubicBezTo>
                  <a:pt x="269536" y="365448"/>
                  <a:pt x="286300" y="360090"/>
                  <a:pt x="298899" y="349375"/>
                </a:cubicBezTo>
                <a:cubicBezTo>
                  <a:pt x="311498" y="338659"/>
                  <a:pt x="317798" y="324553"/>
                  <a:pt x="317798" y="307056"/>
                </a:cubicBezTo>
                <a:cubicBezTo>
                  <a:pt x="317798" y="294499"/>
                  <a:pt x="313717" y="284013"/>
                  <a:pt x="305555" y="275600"/>
                </a:cubicBezTo>
                <a:cubicBezTo>
                  <a:pt x="297392" y="267187"/>
                  <a:pt x="286279" y="262226"/>
                  <a:pt x="272215" y="260720"/>
                </a:cubicBezTo>
                <a:lnTo>
                  <a:pt x="272215" y="260217"/>
                </a:lnTo>
                <a:cubicBezTo>
                  <a:pt x="298167" y="252934"/>
                  <a:pt x="311143" y="236568"/>
                  <a:pt x="311143" y="211118"/>
                </a:cubicBezTo>
                <a:cubicBezTo>
                  <a:pt x="311143" y="197305"/>
                  <a:pt x="306120" y="186066"/>
                  <a:pt x="296074" y="177401"/>
                </a:cubicBezTo>
                <a:cubicBezTo>
                  <a:pt x="286028" y="168737"/>
                  <a:pt x="272717" y="164405"/>
                  <a:pt x="256141" y="164405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80"/>
          <p:cNvSpPr/>
          <p:nvPr/>
        </p:nvSpPr>
        <p:spPr>
          <a:xfrm>
            <a:off x="3917880" y="528480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8996" y="191811"/>
                </a:moveTo>
                <a:lnTo>
                  <a:pt x="279498" y="191811"/>
                </a:lnTo>
                <a:cubicBezTo>
                  <a:pt x="279163" y="199346"/>
                  <a:pt x="278996" y="206001"/>
                  <a:pt x="278996" y="211777"/>
                </a:cubicBezTo>
                <a:lnTo>
                  <a:pt x="278996" y="293275"/>
                </a:lnTo>
                <a:lnTo>
                  <a:pt x="213697" y="293275"/>
                </a:lnTo>
                <a:lnTo>
                  <a:pt x="271587" y="206754"/>
                </a:lnTo>
                <a:cubicBezTo>
                  <a:pt x="275354" y="199973"/>
                  <a:pt x="277824" y="194992"/>
                  <a:pt x="278996" y="191811"/>
                </a:cubicBezTo>
                <a:close/>
                <a:moveTo>
                  <a:pt x="274349" y="168706"/>
                </a:moveTo>
                <a:lnTo>
                  <a:pt x="188331" y="296791"/>
                </a:lnTo>
                <a:lnTo>
                  <a:pt x="188331" y="312739"/>
                </a:lnTo>
                <a:lnTo>
                  <a:pt x="278996" y="312739"/>
                </a:lnTo>
                <a:lnTo>
                  <a:pt x="278996" y="363219"/>
                </a:lnTo>
                <a:lnTo>
                  <a:pt x="302855" y="363219"/>
                </a:lnTo>
                <a:lnTo>
                  <a:pt x="302855" y="312739"/>
                </a:lnTo>
                <a:lnTo>
                  <a:pt x="327718" y="312739"/>
                </a:lnTo>
                <a:lnTo>
                  <a:pt x="327718" y="293275"/>
                </a:lnTo>
                <a:lnTo>
                  <a:pt x="302855" y="293275"/>
                </a:lnTo>
                <a:lnTo>
                  <a:pt x="302855" y="168706"/>
                </a:lnTo>
                <a:lnTo>
                  <a:pt x="274349" y="168706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7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7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8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286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290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9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9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0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同心圆 3"/>
          <p:cNvSpPr/>
          <p:nvPr/>
        </p:nvSpPr>
        <p:spPr>
          <a:xfrm>
            <a:off x="3652920" y="2044800"/>
            <a:ext cx="1800000" cy="180000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63520 h 1800000"/>
              <a:gd name="textAreaBottom" fmla="*/ 153648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空心弧 8"/>
          <p:cNvSpPr/>
          <p:nvPr/>
        </p:nvSpPr>
        <p:spPr>
          <a:xfrm rot="7773600">
            <a:off x="3652920" y="204480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358280 h 1800000"/>
            </a:gdLst>
            <a:ahLst/>
            <a:rect l="textAreaLeft" t="textAreaTop" r="textAreaRight" b="textAreaBottom"/>
            <a:pathLst>
              <a:path w="21600" h="21600">
                <a:moveTo>
                  <a:pt x="4580" y="16646"/>
                </a:moveTo>
                <a:cubicBezTo>
                  <a:pt x="3092" y="15063"/>
                  <a:pt x="2264" y="12972"/>
                  <a:pt x="2264" y="10800"/>
                </a:cubicBezTo>
                <a:cubicBezTo>
                  <a:pt x="2264" y="6085"/>
                  <a:pt x="6085" y="2264"/>
                  <a:pt x="10800" y="2264"/>
                </a:cubicBezTo>
                <a:cubicBezTo>
                  <a:pt x="15514" y="2264"/>
                  <a:pt x="19336" y="6085"/>
                  <a:pt x="19336" y="10800"/>
                </a:cubicBezTo>
                <a:cubicBezTo>
                  <a:pt x="19336" y="12972"/>
                  <a:pt x="18507" y="15063"/>
                  <a:pt x="17019" y="16646"/>
                </a:cubicBezTo>
                <a:lnTo>
                  <a:pt x="18668" y="18197"/>
                </a:lnTo>
                <a:cubicBezTo>
                  <a:pt x="20551" y="16194"/>
                  <a:pt x="21600" y="135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548"/>
                  <a:pt x="1048" y="16194"/>
                  <a:pt x="2931" y="18197"/>
                </a:cubicBezTo>
                <a:lnTo>
                  <a:pt x="4580" y="166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同心圆 29"/>
          <p:cNvSpPr/>
          <p:nvPr/>
        </p:nvSpPr>
        <p:spPr>
          <a:xfrm>
            <a:off x="6680160" y="3692520"/>
            <a:ext cx="1800360" cy="180036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263520 h 1800360"/>
              <a:gd name="textAreaBottom" fmla="*/ 15368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空心弧 30"/>
          <p:cNvSpPr/>
          <p:nvPr/>
        </p:nvSpPr>
        <p:spPr>
          <a:xfrm rot="3001800">
            <a:off x="6678720" y="369072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69560 h 1800000"/>
            </a:gdLst>
            <a:ahLst/>
            <a:rect l="textAreaLeft" t="textAreaTop" r="textAreaRight" b="textAreaBottom"/>
            <a:pathLst>
              <a:path w="21600" h="21600">
                <a:moveTo>
                  <a:pt x="3722" y="5944"/>
                </a:moveTo>
                <a:cubicBezTo>
                  <a:pt x="5323" y="3611"/>
                  <a:pt x="7970" y="2217"/>
                  <a:pt x="10799" y="2217"/>
                </a:cubicBezTo>
                <a:cubicBezTo>
                  <a:pt x="13629" y="2216"/>
                  <a:pt x="16276" y="3611"/>
                  <a:pt x="17877" y="5944"/>
                </a:cubicBezTo>
                <a:lnTo>
                  <a:pt x="19705" y="4689"/>
                </a:lnTo>
                <a:cubicBezTo>
                  <a:pt x="17691" y="1754"/>
                  <a:pt x="14359" y="0"/>
                  <a:pt x="10800" y="0"/>
                </a:cubicBezTo>
                <a:cubicBezTo>
                  <a:pt x="7240" y="-1"/>
                  <a:pt x="3908" y="1754"/>
                  <a:pt x="1894" y="4689"/>
                </a:cubicBezTo>
                <a:lnTo>
                  <a:pt x="3722" y="59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37"/>
          <p:cNvSpPr/>
          <p:nvPr/>
        </p:nvSpPr>
        <p:spPr>
          <a:xfrm>
            <a:off x="638280" y="2044800"/>
            <a:ext cx="3054240" cy="1800000"/>
          </a:xfrm>
          <a:custGeom>
            <a:avLst/>
            <a:gdLst>
              <a:gd name="textAreaLeft" fmla="*/ 0 w 3054240"/>
              <a:gd name="textAreaRight" fmla="*/ 3054600 w 3054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任意多边形 44"/>
          <p:cNvSpPr/>
          <p:nvPr/>
        </p:nvSpPr>
        <p:spPr>
          <a:xfrm flipH="1">
            <a:off x="8412120" y="3708360"/>
            <a:ext cx="3054240" cy="1800360"/>
          </a:xfrm>
          <a:custGeom>
            <a:avLst/>
            <a:gdLst>
              <a:gd name="textAreaLeft" fmla="*/ 360 w 3054240"/>
              <a:gd name="textAreaRight" fmla="*/ 3054960 w 30542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17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18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24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27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49" dur="25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453" dur="25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31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2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5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07" dur="25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2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2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2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57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60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562" dur="25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564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5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58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2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82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85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8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91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99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00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03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11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14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08" dur="2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10" dur="2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1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31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34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37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40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28" dur="25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32" dur="25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39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43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53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56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57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70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73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173" dur="25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177" dur="25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8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05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08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18" dur="2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22" dur="2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26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28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31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任意多边形 18"/>
          <p:cNvSpPr/>
          <p:nvPr/>
        </p:nvSpPr>
        <p:spPr>
          <a:xfrm>
            <a:off x="5645160" y="202104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293" dur="25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297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cp:keywords/>
  <dc:language>en-US</dc:language>
  <cp:lastModifiedBy>Administrator</cp:lastModifiedBy>
  <dcterms:modified xsi:type="dcterms:W3CDTF">2016-07-26T02:37:24Z</dcterms:modified>
  <cp:revision>10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