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CA6-B976-4BD2-AD70-57007159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408-F586-4861-A705-7230EF47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B9E57-05D6-451C-A297-1FC05BF3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E7268-C07B-4259-AFBE-98D8311C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47C6C-1764-42D6-8938-75E7F31A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B7ABC-D520-4B48-A2D3-1E46A059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F6E70-DE00-4EB5-B3B3-CEFF6EB6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3CAB9-4F03-4D7F-8C11-49F9C1C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529DE-8582-42FF-8FB6-8E66478E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01CBC-C6C4-463C-80BF-3B0C5964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63430-C38A-4FE0-AC90-A0CF352F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28861-8D92-4492-BAE3-7116E4CE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F84-ECE0-4AF0-A3F5-344E71FD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CFE9C-007F-4D51-B5D1-AEEDC485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195E8-3B1C-4A4F-B14C-A14ECF97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E9F2C-12E4-49EC-99AA-E191AA31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89EA7-B7B7-4F76-861D-E247651C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B44BD-4D89-43BE-9FA1-6ABC0ACF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732D5-3AA3-4B36-8A05-90FF59AB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F33DD-E8FC-4E88-BD97-A8A4FA2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914F2-72AC-4FA1-9F2B-624A5CDE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7FB00-9CB5-434A-9EC1-092AA76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EDD72-F79F-4CC7-BCA4-516F2117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8CA-6BB6-4DDE-B4FC-01EA6AD8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3BD43-D290-4551-A314-906C17F3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D653D-2CCB-4C73-B76A-F3E82BC1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22FAB-C1AA-4018-B38B-E68996D1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D5B04-5C55-4412-BF92-EAAA5584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CBAB3-7DA4-42A9-BF4A-A404E2EA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D9447-D1BD-4EDA-84C0-C98D87C1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00542-77C9-4779-A360-FBE89298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D7FD7-3A57-4883-B38B-6744FFC4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A65D4-9775-4DD2-8F2F-1445C5A7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59692-CCBD-451D-A223-0C54BFC2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45FE-9B70-4B7E-8E44-7E794604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6E5B6-B26C-4C03-9C51-815E75F2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384D6-D433-43F4-B5AD-F7EB4F85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7ED44-4EF2-40CE-9A98-9AE7FCEB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A7A91-93E3-4F67-85E6-1B359B76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A7267-A3B9-49C9-B0D9-41B7F594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6FB88-5734-4D0A-B612-C8E94E25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24CB3-B342-4488-A458-95E6A045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CD542-8D03-488C-9A22-006D0389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5A9F9-B648-447C-BC3C-45FD629D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A952F-E24F-412B-9D3F-963E18F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2EF5-158A-49C7-B05C-669E64E4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C596D-39A8-4CE5-BC5A-7754C6A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78CC8-A833-4D23-A64A-214CB3D2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44FC1-2042-4990-97CE-B831B394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C0FE9-B168-42F9-BE4D-C7BB80AC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9CFB0-B495-4211-BD76-C3A55C88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37F5A-6EDC-41D0-B8F5-ADB1B28D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26637-EE75-406E-B3D5-DB87C493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1C437-D401-4B62-AD5F-A8A08A7D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A884F-9820-43FF-BAF8-65A06638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BD2CD-2E1E-42CB-8BAC-B630CDC5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C532-D84F-4C63-8EB6-EA70C48D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06ECC-BF04-41C5-BB55-C4F69DC2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3C53C-DCEE-41CD-A233-B2283322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CC920-A494-4556-8269-7F9E85D7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18C9B-ADE6-43F1-8E46-8E3EB0E8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C051B-86A5-4CC3-82F2-CE1388DD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82740-EEAD-4071-A5B9-E3D55F25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B0711-0BBB-4AA6-A0C9-94251AC9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BF86-7CCD-451F-ABB5-6726AE61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6D2A-8BF3-4DC7-8A05-BFC26938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648D-3EE6-45A4-AD11-5AE6A8C7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5AEA-41A9-4C7E-BF3E-9D3D882E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9E6-E77C-4E20-A10B-BB38B122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9623-5C48-4D30-B9FF-5694F5E3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350A-2938-41E6-81EB-0501552B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3BB3-C804-4DD7-8B7C-B29ACE08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EC7D-4E1A-4898-AAC5-A58F03D0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6B9F-126F-4024-BF41-1348744B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2FF6-677B-4AFA-BCC4-40F9618B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259C-3C00-4859-839E-6FD6B1C6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18BD-8379-48B5-8E17-6E0E2E2A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C3DB7-7B72-4026-B729-C53EE81E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A9E2-FEC4-4FB5-AFD6-4D3AF5B3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4F0-27EB-45B2-8988-783551D0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FFB3-AB55-4C03-974E-55240E7C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4BAA-B6F1-43A2-A08E-92E0244F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1EC6-7085-458E-A211-4E2139C7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0579-D7FB-440E-959A-FDC2544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EFDC-67A9-49B4-971E-85065007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3A208-05CF-4713-B70D-A420B472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9B25-2110-489B-8F08-B474CE0A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107C-52D2-44D5-90FE-EB7460A6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7B90-C9C2-4183-883B-2DB7FD64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5BF45-7864-4C3C-99FF-9F2E05F1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A86-03D0-4AE8-92C5-D5999B27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CCFC-65E5-4EAE-AB36-27BAE9B3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933A-C1CA-4DF2-B999-F72339AC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AC27-BBE3-47FC-A4B9-9D1F6C5F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7D5C-8B5F-43DD-A705-6CB308B6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0F8F-EA97-452C-BCFF-53E93B4B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7183-784B-4C40-8640-2E96D183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BCB9-52A9-478F-8B76-D17AA3AF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56B01-088D-476C-8B63-3ABA1D03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551D5-BC3C-4922-988A-6657E63F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109BD-54D4-4AFC-8754-6106B0F7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CAB-2A88-48C0-AEF7-74041981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C0CE2-4870-49B0-A6B2-9AF9CF80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961C0-B333-4FE4-8CFA-7282C30F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01CA3-8CB7-46D0-BA5B-0B0EBC30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9D72-9151-403F-BB4E-2554D2C6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5952F-65AF-4EAE-9841-D632B5FD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7BFB9-E433-4710-AD62-6FDDAFD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3B48B-003F-41DD-9CBF-5478A3AF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348D5-7F4A-4522-86CD-27F3BE29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2BA36-6DEB-4002-B8BC-CC3258A1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506D6-6B2A-48A0-B485-EDFC1E2A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0FE-E8FA-4CC9-AA76-E74D9681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D1117-BD8F-4765-A7E1-12D6359D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83BF7-CFE4-4588-B8D5-8098D095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56885-32EE-4DCF-9CD8-27CDB3E7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2FBC1-EA72-401C-AFB9-1DB8EA4E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16EDD-1F99-4C74-AEB4-AFB32664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651C3-22F6-486B-8F5B-D92E1C32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C4E1B-1B5D-4979-B416-4F256C21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DDDA7-C161-4AFE-8099-AC300FC4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0F428-786B-482B-B5B1-169A611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1B8CD-595B-4F35-9B4E-883A38CD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F57-1B4B-4205-B06E-E7A2829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07B17-29F4-4A56-9C8A-794FF771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C932E-22C7-4284-B06E-AA76BD8F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CC73A-770E-4EC5-9A4B-91E3E335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020A-F82A-4AD9-B0C0-B1AC5B69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DBAA-5D40-485D-AD74-B215D26F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858B8-3E9C-4187-8819-D6CA335A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64963-A1E6-4572-9144-C7D7C3E0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9ECF8-E0D4-477B-84A7-7E93AE9E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15CC8-57DC-4B62-A9A9-75543C12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43040-7669-4205-B097-1DCC1CA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1ED-EBB1-4954-8970-1EFCD77B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3AD6F-F307-47D7-913D-657B1ED1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64951-1FD8-48DB-88B2-2373015F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43289-6D4C-425D-8C8B-7718342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545BB-8885-4A99-A5F4-B81A064F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E6186-F019-42F3-9ED6-2DE411DA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60F47-38B7-44B7-97C5-0A31F9EF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85C8A-9C0B-4748-8A99-D1BA05E5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A7562-3CDC-4BB4-9389-FFB1ADB7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28200-9ABB-453B-807B-B10A2D84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041EC-910C-4869-A272-90955E60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442-C5CC-4999-955E-653CC182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273D8-C9BA-4C32-A209-87C1F5AF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6CC73-4A8E-446E-802C-059D1F22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92555-9009-4054-BEE5-4C192FE6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1F0C9-CF91-4DFA-8172-F54B08EE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5160-A52F-48BF-8ED1-6DFE25BD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28B16-B192-4676-9AF1-A22BC4A0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842F3-1B13-4A28-9737-44D99545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A514E-A2C2-4D2C-B2C4-B9DB5125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736A5-8957-4224-AA4E-E06F74DE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5BC5E-51D1-48D8-8BE3-93134EC1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7DFB-20A7-470F-AE13-9946F909727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9EE0-F96F-422A-B2B3-E72EE0F447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F969-2308-45CA-8B04-CBF23FF6DF3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BC7D-FEF8-450D-90A0-30B7AFCE44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6A9C-D107-4AE8-9DA5-4F56FF9F421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1AB9-6530-409E-875A-3CC9EC05E3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0AE6-12AE-4D28-A15F-4DA0C7F89A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4AC0-7EB6-4BDF-87D2-573AFCB87A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453E-4EF7-4FD0-9A96-16F0DF7A8E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F8FA-8F6C-40A4-88FA-D571318410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9577-33D5-48C4-98F6-4FD2E7C44A9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F35E-53E3-48ED-AD05-5E6FCDD5F9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D5C-7C3A-4A3A-8359-E6CCD897E3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9011-D3D1-4287-B625-C903FE8353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1F40-C25A-47B0-84C4-385BFA454D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7994-D4E6-477B-B85D-C37826DBF6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F818-F668-4AB5-AB3D-CD51A7D481F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23BB-D133-4737-A1F0-4F898F11AC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30F6-D8F1-4BCD-B3F7-3F2FB4E468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34ED-E60C-4043-A2E4-CAF6DB87D6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ED66-7827-4589-BF03-8DAC72B5D44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804D-0871-4376-A5B2-A91178318A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4FA7-65B1-4616-B030-CC5522F3640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A75-7EA0-47A2-900E-19F523C4D3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6FF0-827E-44E1-BCC9-B9D7A4E5645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3D43-46D0-4263-9F3D-8E75A66B61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1960"/>
              <a:chOff x="5915160" y="5445000"/>
              <a:chExt cx="367920" cy="65196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19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69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城市的岸边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prstGeom prst="pie">
              <a:avLst/>
            </a:pr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20920" y="399960"/>
            <a:ext cx="5356080" cy="5649840"/>
            <a:chOff x="-3220920" y="39996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7120" y="114372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9760" y="1233360"/>
              <a:ext cx="2617200" cy="4338720"/>
              <a:chOff x="-2039760" y="123336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2840" y="4198680"/>
                <a:ext cx="112680" cy="712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5080" y="4163760"/>
                <a:ext cx="71640" cy="936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4080" y="4223520"/>
                <a:ext cx="71280" cy="10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21280" y="4208400"/>
                <a:ext cx="60120" cy="60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3000" y="4224240"/>
                <a:ext cx="1908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3280" y="4228920"/>
                <a:ext cx="2196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4280" y="4235400"/>
                <a:ext cx="22320" cy="2196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2320" y="4167000"/>
                <a:ext cx="142920" cy="142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2160" y="4178880"/>
                <a:ext cx="104760" cy="11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7000" y="3868920"/>
                <a:ext cx="12708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6560" y="3909240"/>
                <a:ext cx="19080" cy="23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1600" y="3911400"/>
                <a:ext cx="27000" cy="266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4640" y="3912120"/>
                <a:ext cx="8424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3880" y="3872880"/>
                <a:ext cx="95040" cy="9000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6280" y="5031720"/>
                <a:ext cx="68400" cy="136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9400" y="5066280"/>
                <a:ext cx="135000" cy="6624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4720" y="2390760"/>
                <a:ext cx="33120" cy="48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6160" y="2389320"/>
                <a:ext cx="30240" cy="48600"/>
              </a:xfrm>
              <a:prstGeom prst="pie">
                <a:avLst/>
              </a:pr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0040" y="2382840"/>
                <a:ext cx="49320" cy="93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48960" y="2373840"/>
                <a:ext cx="66960" cy="160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5880" y="2446560"/>
                <a:ext cx="41400" cy="117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1280" y="2448720"/>
                <a:ext cx="30240" cy="9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3440" y="2458440"/>
                <a:ext cx="23760" cy="59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3680" y="1841400"/>
                <a:ext cx="147600" cy="14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8160" y="1931760"/>
                <a:ext cx="111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6000" y="1819080"/>
                <a:ext cx="192240" cy="191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7360" y="1890720"/>
                <a:ext cx="10800" cy="10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6280" y="3070080"/>
                <a:ext cx="11160" cy="108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4240" y="3043080"/>
                <a:ext cx="414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0760" y="2918880"/>
                <a:ext cx="66600" cy="4860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7120" y="2954160"/>
                <a:ext cx="58680" cy="518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1280" y="3003480"/>
                <a:ext cx="36360" cy="583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5280" y="2971080"/>
                <a:ext cx="104760" cy="550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0800" y="2954160"/>
                <a:ext cx="10476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1280" y="2937600"/>
                <a:ext cx="10980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7520" y="2923200"/>
                <a:ext cx="109800" cy="568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89160" y="2950200"/>
                <a:ext cx="9036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6480" y="2935800"/>
                <a:ext cx="9072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8040" y="2918520"/>
                <a:ext cx="939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4640" y="2901240"/>
                <a:ext cx="9072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6040" y="2977200"/>
                <a:ext cx="115920" cy="10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0000" y="3054960"/>
                <a:ext cx="27000" cy="18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6120" y="3061440"/>
                <a:ext cx="2556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0800" y="3062880"/>
                <a:ext cx="2232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1440" y="3056760"/>
                <a:ext cx="27000" cy="154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7920" y="3059640"/>
                <a:ext cx="25560" cy="17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1160" y="3062880"/>
                <a:ext cx="27000" cy="1872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4440" y="3139920"/>
                <a:ext cx="96480" cy="169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3680" y="3156840"/>
                <a:ext cx="60480" cy="11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3080" y="3228480"/>
                <a:ext cx="19080" cy="1044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8920" y="3275640"/>
                <a:ext cx="74880" cy="10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2200" y="3297960"/>
                <a:ext cx="2376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2520" y="3342240"/>
                <a:ext cx="14616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2760" y="3400200"/>
                <a:ext cx="41040" cy="66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8000" y="3353760"/>
                <a:ext cx="33480" cy="15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70200" y="3274920"/>
                <a:ext cx="4140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5160" y="3296520"/>
                <a:ext cx="41400" cy="115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4760" y="335844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91080" y="3352680"/>
                <a:ext cx="223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9200" y="334872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5880" y="3344760"/>
                <a:ext cx="237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7520" y="333936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6000" y="3335400"/>
                <a:ext cx="176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3760" y="332964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10080" y="3324240"/>
                <a:ext cx="237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4280" y="3237840"/>
                <a:ext cx="3780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7400" y="3226680"/>
                <a:ext cx="25560" cy="29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3880" y="3239280"/>
                <a:ext cx="7128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7120" y="3258360"/>
                <a:ext cx="2196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1000440" y="32828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9440" y="3285360"/>
                <a:ext cx="1404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2480" y="3371040"/>
                <a:ext cx="48960" cy="11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5880" y="3399480"/>
                <a:ext cx="108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1560" y="3440880"/>
                <a:ext cx="64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70480" y="3405240"/>
                <a:ext cx="140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4280" y="3210840"/>
                <a:ext cx="792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2760" y="3263760"/>
                <a:ext cx="27000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1480" y="4092480"/>
                <a:ext cx="131760" cy="13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1800" y="41860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2960" y="4130640"/>
                <a:ext cx="792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10080" y="4106880"/>
                <a:ext cx="3780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3600" y="412848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9360" y="4118760"/>
                <a:ext cx="64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0440" y="4124520"/>
                <a:ext cx="46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-1080" y="41299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0" y="4136040"/>
                <a:ext cx="1080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3320" y="413388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2200" y="4087080"/>
                <a:ext cx="135000" cy="13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3600" y="4097160"/>
                <a:ext cx="3816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4320" y="4794120"/>
                <a:ext cx="30240" cy="33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7520" y="4776840"/>
                <a:ext cx="17280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9640" y="4829760"/>
                <a:ext cx="74520" cy="666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9560" y="4699800"/>
                <a:ext cx="11268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6040" y="2536560"/>
                <a:ext cx="19080" cy="34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9760" y="2446200"/>
                <a:ext cx="17316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3880" y="2492280"/>
                <a:ext cx="37800" cy="824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4760" y="2515320"/>
                <a:ext cx="82440" cy="360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7440" y="2503800"/>
                <a:ext cx="66600" cy="14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3360" y="1233000"/>
                <a:ext cx="270000" cy="2930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3320" y="1443600"/>
                <a:ext cx="36720" cy="3780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5600" y="1222560"/>
                <a:ext cx="304920" cy="32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1680" y="4968720"/>
                <a:ext cx="281160" cy="226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5320" y="5103000"/>
                <a:ext cx="96840" cy="120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6200" y="5049000"/>
                <a:ext cx="10008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3720" y="4948920"/>
                <a:ext cx="142920" cy="134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8600" y="5021280"/>
                <a:ext cx="10800" cy="10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8240" y="5112720"/>
                <a:ext cx="270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30320" y="5161680"/>
                <a:ext cx="4932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7640" y="5056200"/>
                <a:ext cx="604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5920" y="5009400"/>
                <a:ext cx="410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5120" y="5028480"/>
                <a:ext cx="10152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2040" y="5022000"/>
                <a:ext cx="23328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7560" y="506268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5640" y="4969800"/>
                <a:ext cx="285840" cy="229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5760" y="5396040"/>
                <a:ext cx="8280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80160" y="5505480"/>
                <a:ext cx="52200" cy="522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5640" y="5365800"/>
                <a:ext cx="14256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6000" y="548964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5840" y="4022640"/>
                <a:ext cx="211320" cy="213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6680" y="4098240"/>
                <a:ext cx="3816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1560" y="411336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7240" y="4120200"/>
                <a:ext cx="3780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6000" y="413064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4840" y="414180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9720" y="4151880"/>
                <a:ext cx="33480" cy="34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3160" y="4162320"/>
                <a:ext cx="3348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5200" y="4073400"/>
                <a:ext cx="3024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6560" y="4087080"/>
                <a:ext cx="3816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6760" y="4102200"/>
                <a:ext cx="3348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4520" y="4112640"/>
                <a:ext cx="3816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8320" y="4116600"/>
                <a:ext cx="225360" cy="244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9480" y="4110120"/>
                <a:ext cx="239760" cy="258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3760" y="3512160"/>
                <a:ext cx="93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2560" y="3438720"/>
                <a:ext cx="291960" cy="20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5160" y="3440880"/>
                <a:ext cx="1159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6840" y="3529080"/>
                <a:ext cx="936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50760" y="3613680"/>
                <a:ext cx="1173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7320" y="3551760"/>
                <a:ext cx="468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2720" y="3556800"/>
                <a:ext cx="1908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5800" y="3570120"/>
                <a:ext cx="14400" cy="756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70840" y="3493080"/>
                <a:ext cx="14040" cy="288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60200" y="368532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3200" y="3530880"/>
                <a:ext cx="280800" cy="2952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3040" y="4478400"/>
                <a:ext cx="120600" cy="12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3960" y="4497480"/>
                <a:ext cx="82440" cy="85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3560" y="4460760"/>
                <a:ext cx="162000" cy="161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4400" y="3632040"/>
                <a:ext cx="230040" cy="15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6920" y="3643920"/>
                <a:ext cx="220680" cy="126720"/>
              </a:xfrm>
              <a:prstGeom prst="pie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6640" y="3817800"/>
                <a:ext cx="1440" cy="1080"/>
              </a:xfrm>
              <a:prstGeom prst="pie">
                <a:avLst/>
              </a:pr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3800" y="3658320"/>
                <a:ext cx="225360" cy="93600"/>
              </a:xfrm>
              <a:prstGeom prst="pie">
                <a:avLst/>
              </a:pr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9920" y="3666240"/>
                <a:ext cx="220680" cy="82080"/>
              </a:xfrm>
              <a:prstGeom prst="pie">
                <a:avLst/>
              </a:pr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3240" y="301248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20440" y="1966320"/>
                <a:ext cx="302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5040" y="1952640"/>
                <a:ext cx="14400" cy="86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3600" y="1962000"/>
                <a:ext cx="792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5840" y="2087640"/>
                <a:ext cx="33480" cy="83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6480" y="2094120"/>
                <a:ext cx="14400" cy="90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6480" y="2127240"/>
                <a:ext cx="10800" cy="48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3920" y="200016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8240" y="200412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7440" y="2033640"/>
                <a:ext cx="119160" cy="68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5200" y="2034360"/>
                <a:ext cx="119160" cy="66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8320" y="2330280"/>
                <a:ext cx="149400" cy="1425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2440" y="3696480"/>
                <a:ext cx="181080" cy="176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2480" y="3828960"/>
                <a:ext cx="57240" cy="56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2520" y="3683160"/>
                <a:ext cx="60480" cy="59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9720" y="3683880"/>
                <a:ext cx="214560" cy="205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3440" y="3702240"/>
                <a:ext cx="22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2920" y="3733920"/>
                <a:ext cx="5400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1600" y="3745800"/>
                <a:ext cx="41040" cy="51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5040" y="3765600"/>
                <a:ext cx="4896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3160" y="3791520"/>
                <a:ext cx="4788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2920" y="4798800"/>
                <a:ext cx="101520" cy="10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8520" y="4614840"/>
                <a:ext cx="101520" cy="101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4560" y="4618800"/>
                <a:ext cx="9504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9200" y="466380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7120" y="46558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9920" y="4637160"/>
                <a:ext cx="1094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901080" y="4720320"/>
                <a:ext cx="2700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1760" y="4691160"/>
                <a:ext cx="1015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3120" y="4688640"/>
                <a:ext cx="907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8760" y="4659480"/>
                <a:ext cx="3816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2680" y="1582560"/>
              <a:ext cx="2264760" cy="3895560"/>
              <a:chOff x="-1912680" y="158256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5160" y="4641120"/>
                <a:ext cx="4932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8600" y="4757760"/>
                <a:ext cx="1000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9560" y="4738680"/>
                <a:ext cx="824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40040" y="4697280"/>
                <a:ext cx="5724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8320" y="479340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9680" y="4802040"/>
                <a:ext cx="9360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3960" y="4848480"/>
                <a:ext cx="32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6480" y="4823640"/>
                <a:ext cx="10944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6200" y="4775760"/>
                <a:ext cx="3024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3560" y="4811760"/>
                <a:ext cx="25560" cy="53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3640" y="4807080"/>
                <a:ext cx="4932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3400" y="469800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9840" y="4718160"/>
                <a:ext cx="7920" cy="26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1920" y="4726080"/>
                <a:ext cx="1440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2160" y="4726080"/>
                <a:ext cx="612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8360" y="4732200"/>
                <a:ext cx="16200" cy="12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8960" y="3089520"/>
                <a:ext cx="68400" cy="150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6960" y="3109680"/>
                <a:ext cx="109440" cy="129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7640" y="316800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7480" y="3511080"/>
                <a:ext cx="4608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1440" y="3510360"/>
                <a:ext cx="6048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8920" y="3512520"/>
                <a:ext cx="49320" cy="9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6280" y="4370040"/>
                <a:ext cx="5724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6520" y="4381200"/>
                <a:ext cx="8604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2480" y="4341600"/>
                <a:ext cx="100080" cy="106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8120" y="3022920"/>
                <a:ext cx="63360" cy="63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400320" y="3067200"/>
                <a:ext cx="633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9640" y="2999160"/>
                <a:ext cx="9396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3240" y="2882160"/>
                <a:ext cx="46080" cy="53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3520" y="2866320"/>
                <a:ext cx="24120" cy="25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2680" y="2870280"/>
                <a:ext cx="8244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60600" y="2865600"/>
                <a:ext cx="252360" cy="12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8200" y="4715640"/>
                <a:ext cx="17316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8080" y="4734720"/>
                <a:ext cx="612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7360" y="4740120"/>
                <a:ext cx="504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6280" y="474408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6280" y="475200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300600" y="475596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2760" y="4761360"/>
                <a:ext cx="792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300600" y="476712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90520" y="4746600"/>
                <a:ext cx="28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1600" y="4750560"/>
                <a:ext cx="50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1960" y="4755960"/>
                <a:ext cx="612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4120" y="4759200"/>
                <a:ext cx="46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8640" y="4372920"/>
                <a:ext cx="82440" cy="86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-1440" y="3712680"/>
                <a:ext cx="135000" cy="982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6480" y="3720600"/>
                <a:ext cx="13500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5840" y="3738960"/>
                <a:ext cx="12384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7120" y="3750120"/>
                <a:ext cx="331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700920" y="3217320"/>
                <a:ext cx="8244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1840" y="3220560"/>
                <a:ext cx="82440" cy="295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3600" y="3214080"/>
                <a:ext cx="8280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20080" y="3295080"/>
                <a:ext cx="123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4440" y="3210480"/>
                <a:ext cx="5724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3120" y="3255480"/>
                <a:ext cx="55440" cy="47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20920" y="3809880"/>
                <a:ext cx="96840" cy="99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30640" y="377676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7120" y="3745080"/>
                <a:ext cx="60480" cy="63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4600" y="3833280"/>
                <a:ext cx="30240" cy="21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40360" y="3782880"/>
                <a:ext cx="30240" cy="26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9200" y="387972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10160" y="4216320"/>
                <a:ext cx="60120" cy="601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2800" y="4111560"/>
                <a:ext cx="3312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9840" y="4211640"/>
                <a:ext cx="3024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9640" y="4140000"/>
                <a:ext cx="113040" cy="115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2280" y="4206960"/>
                <a:ext cx="22320" cy="18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3080" y="4124160"/>
                <a:ext cx="140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71200" y="4220280"/>
                <a:ext cx="158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2160" y="4236840"/>
                <a:ext cx="2196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6280" y="2541240"/>
                <a:ext cx="225720" cy="194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8280" y="2542680"/>
                <a:ext cx="184320" cy="188640"/>
              </a:xfrm>
              <a:prstGeom prst="pie">
                <a:avLst/>
              </a:pr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6480" y="2540880"/>
                <a:ext cx="181080" cy="18864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4680" y="2535480"/>
                <a:ext cx="173160" cy="19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5480" y="2505240"/>
                <a:ext cx="176400" cy="217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3400" y="2773080"/>
                <a:ext cx="183960" cy="156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1880" y="2775960"/>
                <a:ext cx="181080" cy="137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2080" y="3886920"/>
                <a:ext cx="86040" cy="1058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1800" y="3896640"/>
                <a:ext cx="107640" cy="86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2080" y="3683520"/>
                <a:ext cx="7632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7880" y="3908160"/>
                <a:ext cx="150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7160" y="1590480"/>
                <a:ext cx="90360" cy="741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5320" y="2792880"/>
                <a:ext cx="176400" cy="15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5200" y="2618640"/>
                <a:ext cx="6660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3520" y="2683800"/>
                <a:ext cx="63720" cy="55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9320" y="2630160"/>
                <a:ext cx="139680" cy="9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2160" y="3246840"/>
                <a:ext cx="187200" cy="196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4480" y="3247560"/>
                <a:ext cx="2880" cy="108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30120" y="3283200"/>
                <a:ext cx="82440" cy="18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1600" y="3244320"/>
                <a:ext cx="109440" cy="1234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5040" y="3331800"/>
                <a:ext cx="41400" cy="457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8920" y="3326040"/>
                <a:ext cx="104760" cy="120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9440" y="3338640"/>
                <a:ext cx="14400" cy="46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1880" y="3336480"/>
                <a:ext cx="19080" cy="136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7120" y="3323880"/>
                <a:ext cx="104760" cy="1249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3320" y="3701520"/>
                <a:ext cx="119160" cy="136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4960" y="2937240"/>
                <a:ext cx="19080" cy="37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2800" y="2939760"/>
                <a:ext cx="14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3600" y="4512960"/>
                <a:ext cx="120600" cy="15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4760" y="4457520"/>
                <a:ext cx="195120" cy="195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2040" y="4522680"/>
                <a:ext cx="60480" cy="5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40600" y="4524480"/>
                <a:ext cx="572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10800" y="4460040"/>
                <a:ext cx="93600" cy="95040"/>
              </a:xfrm>
              <a:prstGeom prst="pie">
                <a:avLst/>
              </a:pr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6520" y="4415400"/>
                <a:ext cx="101520" cy="191880"/>
              </a:xfrm>
              <a:prstGeom prst="pie">
                <a:avLst/>
              </a:pr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5080" y="5329080"/>
                <a:ext cx="93600" cy="77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2360" y="5389560"/>
                <a:ext cx="8244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9800" y="4072680"/>
                <a:ext cx="142920" cy="9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7400" y="4005720"/>
                <a:ext cx="196920" cy="172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20720" y="4072680"/>
                <a:ext cx="142920" cy="93240"/>
              </a:xfrm>
              <a:prstGeom prst="pie">
                <a:avLst/>
              </a:pr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4680" y="4029480"/>
                <a:ext cx="147600" cy="75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21000" y="4081320"/>
                <a:ext cx="19080" cy="187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7240" y="4340160"/>
                <a:ext cx="135000" cy="90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2720" y="4347360"/>
                <a:ext cx="93600" cy="10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8320" y="3511080"/>
                <a:ext cx="126720" cy="118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9480" y="3555360"/>
                <a:ext cx="82440" cy="900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2320" y="35744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7080" y="3565800"/>
                <a:ext cx="63360" cy="34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80760" y="3567960"/>
                <a:ext cx="6336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3360" y="356328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11360" y="3561120"/>
                <a:ext cx="6516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1800" y="3557160"/>
                <a:ext cx="6048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6560" y="355392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50600" y="355212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7920" y="35060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9080" y="350316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2040" y="3499200"/>
                <a:ext cx="5868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8600" y="3499200"/>
                <a:ext cx="586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3360" y="349524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4520" y="349200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3880" y="344124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324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908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29320" y="4056120"/>
                <a:ext cx="33480" cy="45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0600" y="4079880"/>
                <a:ext cx="11160" cy="13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38680" y="4091760"/>
                <a:ext cx="1080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4800" y="3992400"/>
                <a:ext cx="1584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2960" y="1694160"/>
                <a:ext cx="214200" cy="217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7640" y="1714320"/>
              <a:ext cx="1469880" cy="2328840"/>
              <a:chOff x="-1817640" y="171432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5360" y="1765080"/>
                <a:ext cx="3312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3400" y="1792080"/>
                <a:ext cx="3348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8920" y="181836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9160" y="1747440"/>
                <a:ext cx="3780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4320" y="1776240"/>
                <a:ext cx="363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2720" y="1802160"/>
                <a:ext cx="381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7920" y="1731240"/>
                <a:ext cx="3816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5960" y="1757880"/>
                <a:ext cx="3780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8600" y="1783080"/>
                <a:ext cx="3348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7760" y="171360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6520" y="1742040"/>
                <a:ext cx="6480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8280" y="3252600"/>
                <a:ext cx="19080" cy="1047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7560" y="3365280"/>
                <a:ext cx="1080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3400" y="3365280"/>
                <a:ext cx="266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9720" y="3370680"/>
                <a:ext cx="45720" cy="38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1840" y="33678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6800" y="3375000"/>
                <a:ext cx="2880" cy="2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50440" y="34200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8920" y="3323160"/>
                <a:ext cx="3240" cy="14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6360" y="340164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10480" y="3343680"/>
                <a:ext cx="14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5880" y="340488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9520" y="334224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41040" y="2834280"/>
                <a:ext cx="211320" cy="16524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70840" y="2880360"/>
                <a:ext cx="206640" cy="46080"/>
              </a:xfrm>
              <a:prstGeom prst="pie">
                <a:avLst/>
              </a:pr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4480" y="2998440"/>
                <a:ext cx="180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9040" y="2881800"/>
                <a:ext cx="203400" cy="46080"/>
              </a:xfrm>
              <a:prstGeom prst="pie">
                <a:avLst/>
              </a:pr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7200" y="3528720"/>
                <a:ext cx="46080" cy="6840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5280" y="3432960"/>
                <a:ext cx="112680" cy="16164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2760" y="3535920"/>
                <a:ext cx="7920" cy="604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7880" y="3563640"/>
                <a:ext cx="1800" cy="792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30200" y="3487680"/>
                <a:ext cx="79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9080" y="381780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6720" y="381600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20880" y="381924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1760" y="381780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160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3200" y="38206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628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5000" y="382248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8800" y="382716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7160" y="3823200"/>
                <a:ext cx="11592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30240" y="38257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3640" y="382644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4200" y="3829680"/>
                <a:ext cx="10152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5800" y="382716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8520" y="3833640"/>
                <a:ext cx="10620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7600" y="382896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8160" y="383364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7960" y="38311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3200" y="3835080"/>
                <a:ext cx="1047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4080" y="383364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3920" y="383904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2280" y="38350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6800" y="383904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8760" y="383688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9320" y="38401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9840" y="383832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5080" y="3842280"/>
                <a:ext cx="10620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71280" y="383976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5080" y="384696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3440" y="38430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8680" y="3846240"/>
                <a:ext cx="10476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8480" y="3843720"/>
                <a:ext cx="1191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5240" y="3870720"/>
                <a:ext cx="90360" cy="66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2400" y="3910320"/>
                <a:ext cx="4140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5880" y="3864600"/>
                <a:ext cx="410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7480" y="393588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360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4720" y="386136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9040" y="3860640"/>
                <a:ext cx="792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3240" y="3935160"/>
                <a:ext cx="648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6880" y="38631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1440" y="3931920"/>
                <a:ext cx="1116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2320" y="3900240"/>
                <a:ext cx="6480" cy="158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7080" y="3889800"/>
                <a:ext cx="140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9720" y="39096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8960" y="3858840"/>
                <a:ext cx="219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8840" y="392724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9680" y="38480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3160" y="393120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2400" y="388332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5120" y="3897720"/>
                <a:ext cx="41040" cy="334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1480" y="3853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8680" y="3846240"/>
                <a:ext cx="1116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3160" y="3931200"/>
                <a:ext cx="14400" cy="219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3440" y="3854160"/>
                <a:ext cx="104760" cy="8604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4080" y="3851640"/>
                <a:ext cx="52200" cy="44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2800" y="39279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4800" y="3840840"/>
                <a:ext cx="19080" cy="1764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9400" y="3853440"/>
                <a:ext cx="98280" cy="712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8840" y="3843720"/>
                <a:ext cx="115920" cy="1018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4720" y="38613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9880" y="3897000"/>
                <a:ext cx="52200" cy="46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6000" y="3883320"/>
                <a:ext cx="30240" cy="255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60480" y="384768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8760" y="3833640"/>
                <a:ext cx="19080" cy="255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9880" y="392220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61120" y="392148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2040" y="392472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2920" y="392328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4200" y="3927960"/>
                <a:ext cx="101880" cy="781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4360" y="39247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8160" y="3927240"/>
                <a:ext cx="1018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9760" y="3926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9240" y="3931920"/>
                <a:ext cx="10152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8320" y="392868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3200" y="393264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2280" y="392940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500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5520" y="393264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824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9480" y="393336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61120" y="394056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9480" y="39366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9120" y="3958920"/>
                <a:ext cx="90360" cy="712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4840" y="3999960"/>
                <a:ext cx="428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7960" y="3955320"/>
                <a:ext cx="41400" cy="298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2120" y="2077920"/>
              <a:ext cx="1004760" cy="2360520"/>
              <a:chOff x="-1122120" y="207792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7120" y="4025160"/>
                <a:ext cx="504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8600" y="395280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4360" y="395172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6040" y="402408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4000" y="395172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9680" y="395352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4600" y="4022640"/>
                <a:ext cx="7920" cy="10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8600" y="39495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5480" y="3990960"/>
                <a:ext cx="7920" cy="14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41320" y="3981240"/>
                <a:ext cx="144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3600" y="4001040"/>
                <a:ext cx="21960" cy="24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2480" y="39510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800280" y="4020840"/>
                <a:ext cx="129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3760" y="397404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9720" y="3988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2840" y="394380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1840" y="3938400"/>
                <a:ext cx="1440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6680" y="4022280"/>
                <a:ext cx="15840" cy="190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6600" y="394200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7600" y="3943800"/>
                <a:ext cx="52560" cy="414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51040" y="394632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5800" y="3931200"/>
                <a:ext cx="14400" cy="2232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2200" y="394632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4160" y="3939840"/>
                <a:ext cx="117360" cy="982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3880" y="4029480"/>
                <a:ext cx="2880" cy="180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6800" y="3951000"/>
                <a:ext cx="27000" cy="237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90920" y="4021920"/>
                <a:ext cx="28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31240" y="3990240"/>
                <a:ext cx="4932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8440" y="3978360"/>
                <a:ext cx="255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2560" y="3939120"/>
                <a:ext cx="10188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2280" y="3924720"/>
                <a:ext cx="22320" cy="270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3560" y="4027320"/>
                <a:ext cx="1065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4080" y="4024080"/>
                <a:ext cx="1209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5000" y="402876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4800" y="402660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7880" y="4032000"/>
                <a:ext cx="10476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6240" y="4028040"/>
                <a:ext cx="1188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70760" y="403452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8400" y="4030560"/>
                <a:ext cx="115560" cy="964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3640" y="403452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4880" y="403200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3640" y="4037400"/>
                <a:ext cx="10188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4880" y="4034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3080" y="4056480"/>
                <a:ext cx="88920" cy="716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8440" y="4097880"/>
                <a:ext cx="38160" cy="334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3000" y="4051800"/>
                <a:ext cx="41400" cy="3312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7840" y="4124880"/>
                <a:ext cx="468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1440" y="412488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3280" y="405432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7960" y="4049280"/>
                <a:ext cx="648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7600" y="404928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6520" y="40478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9080" y="4088520"/>
                <a:ext cx="468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5640" y="4079520"/>
                <a:ext cx="158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8640" y="410184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30080" y="4100400"/>
                <a:ext cx="2232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6800" y="404928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8480" y="411552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2080" y="411876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7360" y="4071600"/>
                <a:ext cx="255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2240" y="408672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8240" y="4039920"/>
                <a:ext cx="41040" cy="349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6520" y="4034520"/>
                <a:ext cx="14040" cy="187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9920" y="4120200"/>
                <a:ext cx="1080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90920" y="403884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3360" y="4041000"/>
                <a:ext cx="5220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5360" y="4043160"/>
                <a:ext cx="46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80120" y="4028040"/>
                <a:ext cx="15840" cy="2376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6520" y="404316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5600" y="4037400"/>
                <a:ext cx="115560" cy="9864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7120" y="4127400"/>
                <a:ext cx="46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9680" y="4049280"/>
                <a:ext cx="2556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8120" y="411948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6280" y="4084560"/>
                <a:ext cx="49320" cy="49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51320" y="40755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8680" y="4037400"/>
                <a:ext cx="1065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8040" y="4024800"/>
                <a:ext cx="2376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3960" y="4097880"/>
                <a:ext cx="52560" cy="34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6960" y="4015440"/>
                <a:ext cx="1490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1920" y="4021200"/>
                <a:ext cx="142920" cy="82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80360" y="3674160"/>
                <a:ext cx="493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6800" y="3600360"/>
                <a:ext cx="1461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3560" y="3603600"/>
                <a:ext cx="13968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8360" y="3582720"/>
                <a:ext cx="9360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2440" y="4379760"/>
                <a:ext cx="4572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8480" y="4296960"/>
                <a:ext cx="135000" cy="147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4880" y="4300920"/>
                <a:ext cx="12384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4520" y="4300920"/>
                <a:ext cx="493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20320" y="2655720"/>
                <a:ext cx="142560" cy="1461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80720" y="2695320"/>
                <a:ext cx="63720" cy="63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8040" y="2774160"/>
                <a:ext cx="223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2000" y="2676240"/>
                <a:ext cx="22320" cy="6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4040" y="2711880"/>
                <a:ext cx="7920" cy="25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3400" y="2717640"/>
                <a:ext cx="11160" cy="27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2040" y="2749320"/>
                <a:ext cx="1908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4760" y="2684160"/>
                <a:ext cx="2196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5640" y="2680920"/>
                <a:ext cx="223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1880" y="2754000"/>
                <a:ext cx="187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3680" y="3903480"/>
                <a:ext cx="153720" cy="1573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4080" y="3919320"/>
                <a:ext cx="82800" cy="98280"/>
              </a:xfrm>
              <a:prstGeom prst="pie">
                <a:avLst/>
              </a:pr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8040" y="3918600"/>
                <a:ext cx="82440" cy="106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70120" y="2522520"/>
                <a:ext cx="142920" cy="142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2920" y="2570760"/>
                <a:ext cx="105120" cy="522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6240" y="2079360"/>
                <a:ext cx="162000" cy="1587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5320" y="212004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7520" y="1046160"/>
              <a:ext cx="2205000" cy="3708360"/>
              <a:chOff x="-1487520" y="104616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6040" y="212004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4480" y="2110320"/>
                <a:ext cx="74880" cy="95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4760" y="213120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2680" y="21279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1800" y="2137320"/>
                <a:ext cx="4932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5680" y="21423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8480" y="2146320"/>
                <a:ext cx="52560" cy="237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3040" y="2112120"/>
                <a:ext cx="74520" cy="98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3280" y="1199880"/>
                <a:ext cx="379440" cy="7164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6880" y="112068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7960" y="1135800"/>
                <a:ext cx="126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5440" y="115236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4360" y="117216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2560" y="118440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60760" y="1201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60400" y="122076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7520" y="123480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9320" y="125244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7160" y="126828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4280" y="128412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6080" y="130176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3200" y="131832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9600" y="133344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51400" y="134928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7800" y="136836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4400" y="1079640"/>
                <a:ext cx="77760" cy="108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91360" y="1197720"/>
                <a:ext cx="189000" cy="101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8040" y="4244760"/>
                <a:ext cx="101520" cy="604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2680" y="4182120"/>
                <a:ext cx="101520" cy="586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2800" y="3751200"/>
                <a:ext cx="123840" cy="183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4560" y="3792600"/>
                <a:ext cx="936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6800" y="3801960"/>
                <a:ext cx="71280" cy="74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7960" y="3813120"/>
                <a:ext cx="489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2640" y="3812400"/>
                <a:ext cx="41040" cy="460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4840" y="3819600"/>
                <a:ext cx="74520" cy="493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1400" y="3803040"/>
                <a:ext cx="74520" cy="8244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89320" y="3829680"/>
                <a:ext cx="41400" cy="493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4480" y="4055760"/>
                <a:ext cx="123840" cy="18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6960" y="4096440"/>
                <a:ext cx="954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6680" y="4109400"/>
                <a:ext cx="7632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6400" y="4119480"/>
                <a:ext cx="525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5760" y="4124160"/>
                <a:ext cx="44640" cy="349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2520" y="4117320"/>
                <a:ext cx="44640" cy="4896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4600" y="4120560"/>
                <a:ext cx="54000" cy="871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1640" y="4107600"/>
                <a:ext cx="79560" cy="871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2800" y="4137840"/>
                <a:ext cx="41400" cy="48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6560" y="41320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3400" y="4137120"/>
                <a:ext cx="302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4400" y="4149000"/>
                <a:ext cx="27000" cy="190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8360" y="4137120"/>
                <a:ext cx="34920" cy="349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4480" y="4151160"/>
                <a:ext cx="14400" cy="17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88600" y="3960720"/>
                <a:ext cx="18108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4560" y="3905280"/>
                <a:ext cx="22320" cy="219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0240" y="3908160"/>
                <a:ext cx="2196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8520" y="3910680"/>
                <a:ext cx="1440" cy="3240"/>
              </a:xfrm>
              <a:prstGeom prst="pie">
                <a:avLst/>
              </a:pr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6000" y="3911040"/>
                <a:ext cx="15840" cy="172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78960" y="4021200"/>
                <a:ext cx="3240" cy="3240"/>
              </a:xfrm>
              <a:prstGeom prst="pie">
                <a:avLst/>
              </a:pr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644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1840" y="4048920"/>
                <a:ext cx="288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004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436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796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4040" y="2709720"/>
                <a:ext cx="22320" cy="2196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1040" y="2701800"/>
                <a:ext cx="90720" cy="90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6160" y="2729520"/>
                <a:ext cx="52560" cy="44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3360" y="272088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1280" y="271296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7240" y="2726280"/>
                <a:ext cx="52560" cy="414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6600" y="2721600"/>
                <a:ext cx="52560" cy="44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5240" y="2713680"/>
                <a:ext cx="52560" cy="4464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48760" y="2787480"/>
                <a:ext cx="101520" cy="824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3640" y="2737440"/>
                <a:ext cx="71280" cy="104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7240" y="2805840"/>
                <a:ext cx="60120" cy="48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5440" y="2785320"/>
                <a:ext cx="41400" cy="64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4120" y="2822400"/>
                <a:ext cx="68400" cy="52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3600" y="2253240"/>
                <a:ext cx="120600" cy="131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9720" y="2368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50200" y="2300760"/>
                <a:ext cx="46080" cy="88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7480" y="2321640"/>
                <a:ext cx="180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1640" y="2297880"/>
                <a:ext cx="117360" cy="128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7040" y="239076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7160" y="2330280"/>
                <a:ext cx="381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3440" y="2349360"/>
                <a:ext cx="180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7040" y="2236680"/>
                <a:ext cx="87480" cy="712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4400" y="2300400"/>
                <a:ext cx="136800" cy="2030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2840" y="246996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6760" y="2351160"/>
                <a:ext cx="76320" cy="162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2920" y="2388960"/>
                <a:ext cx="14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9120" y="228924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2920" y="2261520"/>
                <a:ext cx="1908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200160" y="226980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201240" y="2394720"/>
                <a:ext cx="120600" cy="96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9360" y="24732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7760" y="2431080"/>
                <a:ext cx="27000" cy="5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20600" y="2441520"/>
                <a:ext cx="144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4160" y="228924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5480" y="236520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2200" y="246672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3160" y="2390040"/>
                <a:ext cx="1116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3680" y="2469960"/>
                <a:ext cx="108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1400" y="2546280"/>
                <a:ext cx="57240" cy="120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1920" y="2611440"/>
                <a:ext cx="57240" cy="1177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9880" y="3193200"/>
                <a:ext cx="63360" cy="74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5560" y="3178080"/>
                <a:ext cx="90360" cy="77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6320" y="3201840"/>
                <a:ext cx="85680" cy="3492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7160" y="3175920"/>
                <a:ext cx="82440" cy="90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6920" y="3220200"/>
                <a:ext cx="2232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3120" y="3244680"/>
                <a:ext cx="52200" cy="87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2280" y="3270240"/>
                <a:ext cx="90360" cy="745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9360" y="3299400"/>
                <a:ext cx="85680" cy="11160"/>
              </a:xfrm>
              <a:prstGeom prst="pie">
                <a:avLst/>
              </a:pr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8000" y="3290760"/>
                <a:ext cx="85680" cy="28800"/>
              </a:xfrm>
              <a:prstGeom prst="pie">
                <a:avLst/>
              </a:pr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2400" y="3269880"/>
                <a:ext cx="79200" cy="63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9880" y="3248640"/>
                <a:ext cx="5544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2040" y="3209760"/>
                <a:ext cx="57240" cy="85680"/>
              </a:xfrm>
              <a:prstGeom prst="pie">
                <a:avLst/>
              </a:pr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1920" y="3161520"/>
                <a:ext cx="206280" cy="198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1840" y="3147120"/>
                <a:ext cx="190440" cy="210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5800" y="3151080"/>
                <a:ext cx="190440" cy="203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3960" y="3192480"/>
                <a:ext cx="2196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3160" y="3197160"/>
                <a:ext cx="2412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8400" y="3201840"/>
                <a:ext cx="2232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8240" y="3297960"/>
                <a:ext cx="18720" cy="14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3200" y="3300480"/>
                <a:ext cx="2700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9160" y="3305880"/>
                <a:ext cx="2700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1520" y="4703040"/>
                <a:ext cx="41400" cy="3636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0320" y="4561560"/>
                <a:ext cx="22320" cy="2988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3320" y="4574160"/>
                <a:ext cx="161640" cy="138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1800" y="4731480"/>
                <a:ext cx="23760" cy="21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0240" y="4702680"/>
                <a:ext cx="14400" cy="1908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5560" y="4699440"/>
                <a:ext cx="23760" cy="2556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58680" y="467532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5880" y="1200240"/>
              <a:ext cx="2919240" cy="3805200"/>
              <a:chOff x="-1415880" y="120024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59040" y="46753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1520" y="4605120"/>
                <a:ext cx="180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7640" y="459252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6640" y="2301840"/>
                <a:ext cx="4104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6800" y="2314080"/>
                <a:ext cx="334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7320" y="236448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8560" y="2338200"/>
                <a:ext cx="475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40800" y="235656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5800" y="2356560"/>
                <a:ext cx="2700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5880" y="23709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10200" y="235980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3000" y="236052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2640" y="1941480"/>
                <a:ext cx="13176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7120" y="1970280"/>
                <a:ext cx="4896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5400" y="1994040"/>
                <a:ext cx="36360" cy="4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8800" y="1968480"/>
                <a:ext cx="37800" cy="47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11200" y="4878360"/>
                <a:ext cx="1238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4120" y="4907880"/>
                <a:ext cx="44280" cy="5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4560" y="4921920"/>
                <a:ext cx="5220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51360" y="2805840"/>
                <a:ext cx="277560" cy="33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10160" y="3010680"/>
                <a:ext cx="23760" cy="2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40560" y="2910600"/>
                <a:ext cx="30240" cy="190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2320" y="1316160"/>
                <a:ext cx="4932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5240" y="1311480"/>
                <a:ext cx="47520" cy="88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5000" y="1328760"/>
                <a:ext cx="55440" cy="46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2520" y="1274760"/>
                <a:ext cx="52560" cy="522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7640" y="1218600"/>
                <a:ext cx="60120" cy="74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501120" y="1225440"/>
                <a:ext cx="60120" cy="381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9720" y="1188000"/>
                <a:ext cx="44280" cy="6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9760" y="1233720"/>
                <a:ext cx="87120" cy="48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2760" y="1263600"/>
                <a:ext cx="41400" cy="56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38840" y="2869560"/>
                <a:ext cx="158760" cy="169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8280" y="192708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8520" y="1848240"/>
                <a:ext cx="120600" cy="167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0880" y="1895400"/>
                <a:ext cx="15840" cy="666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8280" y="1915920"/>
                <a:ext cx="1116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8320" y="1879560"/>
                <a:ext cx="38160" cy="378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29160" y="1891440"/>
                <a:ext cx="33480" cy="255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39960" y="1932120"/>
                <a:ext cx="15840" cy="158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6120" y="1900080"/>
                <a:ext cx="33480" cy="30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3760" y="1913040"/>
                <a:ext cx="7920" cy="792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2840" y="1920960"/>
                <a:ext cx="15840" cy="219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7240" y="1930320"/>
                <a:ext cx="44280" cy="252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7000" y="1957320"/>
                <a:ext cx="27000" cy="144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3600" y="1953360"/>
                <a:ext cx="7920" cy="3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8360" y="3864600"/>
                <a:ext cx="11160" cy="223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8440" y="3743640"/>
                <a:ext cx="17280" cy="10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1320" y="3806640"/>
                <a:ext cx="88920" cy="604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5440" y="3748680"/>
                <a:ext cx="1440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8240" y="3745800"/>
                <a:ext cx="3024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4840" y="3844080"/>
                <a:ext cx="1404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4400" y="3838680"/>
                <a:ext cx="2988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6840" y="3756960"/>
                <a:ext cx="15372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5920" y="1921680"/>
                <a:ext cx="302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5440" y="1909800"/>
                <a:ext cx="41400" cy="19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6320" y="1929600"/>
                <a:ext cx="30240" cy="34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2560" y="1750320"/>
                <a:ext cx="190440" cy="156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2520" y="1621080"/>
                <a:ext cx="66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9880" y="1689840"/>
                <a:ext cx="7452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6440" y="1873800"/>
                <a:ext cx="158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3840" y="1915920"/>
                <a:ext cx="11160" cy="1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7120" y="1757520"/>
                <a:ext cx="247320" cy="168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7280" y="2517120"/>
                <a:ext cx="29880" cy="206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7000" y="2612880"/>
                <a:ext cx="126720" cy="127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3800" y="3020400"/>
                <a:ext cx="71640" cy="601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4240" y="3056040"/>
                <a:ext cx="25560" cy="41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8520" y="3022560"/>
                <a:ext cx="1800" cy="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3600" y="3035520"/>
                <a:ext cx="55800" cy="29880"/>
              </a:xfrm>
              <a:prstGeom prst="pie">
                <a:avLst/>
              </a:pr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7080" y="3035160"/>
                <a:ext cx="58680" cy="55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4280" y="3064680"/>
                <a:ext cx="27000" cy="38160"/>
              </a:xfrm>
              <a:prstGeom prst="pie">
                <a:avLst/>
              </a:pr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4360" y="3049560"/>
                <a:ext cx="46080" cy="27000"/>
              </a:xfrm>
              <a:prstGeom prst="pie">
                <a:avLst/>
              </a:pr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6600" y="3075840"/>
                <a:ext cx="3240" cy="7920"/>
              </a:xfrm>
              <a:prstGeom prst="pie">
                <a:avLst/>
              </a:pr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4440" y="3058920"/>
                <a:ext cx="83880" cy="684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1720" y="3106800"/>
                <a:ext cx="21960" cy="41400"/>
              </a:xfrm>
              <a:prstGeom prst="pie">
                <a:avLst/>
              </a:pr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5640" y="3057480"/>
                <a:ext cx="792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3160" y="3075120"/>
                <a:ext cx="68040" cy="36360"/>
              </a:xfrm>
              <a:prstGeom prst="pie">
                <a:avLst/>
              </a:pr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6520" y="3002760"/>
                <a:ext cx="27000" cy="41040"/>
              </a:xfrm>
              <a:prstGeom prst="pie">
                <a:avLst/>
              </a:pr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7120" y="3059280"/>
                <a:ext cx="22320" cy="37800"/>
              </a:xfrm>
              <a:prstGeom prst="pie">
                <a:avLst/>
              </a:pr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5480" y="3071160"/>
                <a:ext cx="7920" cy="6120"/>
              </a:xfrm>
              <a:prstGeom prst="pie">
                <a:avLst/>
              </a:pr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1800" y="2267640"/>
                <a:ext cx="139680" cy="211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4880" y="1913760"/>
                <a:ext cx="3024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7040" y="1874160"/>
                <a:ext cx="46080" cy="410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59640" y="1924920"/>
                <a:ext cx="46080" cy="44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2400" y="1842480"/>
                <a:ext cx="53640" cy="522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5160" y="1960560"/>
                <a:ext cx="63360" cy="6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1720" y="1846080"/>
                <a:ext cx="210960" cy="157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2920" y="1905840"/>
                <a:ext cx="5544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2000" y="2422440"/>
                <a:ext cx="150840" cy="71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9880" y="2429640"/>
                <a:ext cx="157320" cy="1173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6240" y="2428200"/>
                <a:ext cx="138240" cy="633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9480" y="2419920"/>
                <a:ext cx="146160" cy="71640"/>
              </a:xfrm>
              <a:prstGeom prst="pie">
                <a:avLst/>
              </a:pr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50720" y="2409840"/>
                <a:ext cx="30240" cy="432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6680" y="2395440"/>
                <a:ext cx="68040" cy="109800"/>
              </a:xfrm>
              <a:prstGeom prst="pie">
                <a:avLst/>
              </a:pr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6000" y="3461760"/>
                <a:ext cx="195120" cy="187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0200" y="3025800"/>
                <a:ext cx="49320" cy="55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8000" y="3059280"/>
                <a:ext cx="302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49400" y="2995560"/>
                <a:ext cx="5256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3080" y="3009960"/>
                <a:ext cx="3024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5240" y="3008160"/>
                <a:ext cx="46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8400" y="2997000"/>
                <a:ext cx="1584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49040" y="2992320"/>
                <a:ext cx="11160" cy="1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1920" y="2965320"/>
                <a:ext cx="90720" cy="17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7640" y="300348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0880" y="300672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2320" y="2914560"/>
                <a:ext cx="13644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1160" y="3070440"/>
                <a:ext cx="144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5400" y="3748680"/>
                <a:ext cx="9684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9640" y="3286800"/>
                <a:ext cx="12384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9680" y="3238920"/>
                <a:ext cx="324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2480" y="326520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4200" y="329148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5920" y="331740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20160" y="334116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3680" y="336780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50400" y="3234960"/>
                <a:ext cx="46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8400" y="324000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912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496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3880" y="3247920"/>
                <a:ext cx="28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2600" y="325044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1880" y="3252960"/>
                <a:ext cx="18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2400" y="3254400"/>
                <a:ext cx="46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9520" y="3256560"/>
                <a:ext cx="3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7160" y="3256560"/>
                <a:ext cx="1800" cy="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6080" y="3261600"/>
                <a:ext cx="180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680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4760" y="3211200"/>
                <a:ext cx="3024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7520" y="324504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4800" y="3248280"/>
                <a:ext cx="288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4240" y="325116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9000" y="325980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772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9120" y="1244520"/>
              <a:ext cx="2538360" cy="2122560"/>
              <a:chOff x="-1419120" y="124452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5720" y="32691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1600" y="3267720"/>
                <a:ext cx="112680" cy="8568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3600" y="3282840"/>
                <a:ext cx="109440" cy="525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9000" y="1274400"/>
                <a:ext cx="176040" cy="115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5160" y="1254960"/>
                <a:ext cx="157320" cy="136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9720" y="1323000"/>
                <a:ext cx="123840" cy="191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4680" y="1303920"/>
                <a:ext cx="104760" cy="106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4800" y="1323000"/>
                <a:ext cx="2232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1560" y="1330920"/>
                <a:ext cx="3024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9880" y="1346760"/>
                <a:ext cx="7920" cy="12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8240" y="1355400"/>
                <a:ext cx="30240" cy="3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8240" y="2407320"/>
                <a:ext cx="172800" cy="1681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5040" y="25110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8400" y="2482920"/>
                <a:ext cx="64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1280" y="2485800"/>
                <a:ext cx="11160" cy="8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6960" y="24876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0920" y="24868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68760" y="248832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69840" y="24922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0200" y="2492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6912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6320" y="24951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3440" y="24944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2720" y="24951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69120" y="24962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2720" y="250020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200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3440" y="25023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2000" y="25009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5960" y="2503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7040" y="24991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6960" y="2508840"/>
                <a:ext cx="223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1360" y="2522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7840" y="25027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108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88560" y="25095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7120" y="25110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1800" y="2506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432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99864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0360" y="25081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6920" y="25138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0880" y="2517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6920" y="25106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4520" y="2524320"/>
                <a:ext cx="349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2960" y="25416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2520" y="25246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4840" y="25437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3400" y="254520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7000" y="2542320"/>
                <a:ext cx="28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412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088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19880" y="2489760"/>
                <a:ext cx="32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456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2040" y="24919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18800" y="24937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3840" y="24969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5280" y="2500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5280" y="25002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132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0600" y="24969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2760" y="249948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204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0880" y="2563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5640" y="2600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680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356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2800" y="2570040"/>
                <a:ext cx="28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46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5948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7320" y="257940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416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740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2160" y="25725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7840" y="257148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252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79280" y="25729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208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6760" y="25754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180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2160" y="2573280"/>
                <a:ext cx="1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252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1800" y="2578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64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368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656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7480" y="25747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7480" y="257796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436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5080" y="2588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8320" y="2585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228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2280" y="25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2280" y="2582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6680" y="25668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3680" y="2558880"/>
                <a:ext cx="1116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348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3480" y="2577240"/>
                <a:ext cx="46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0960" y="257940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584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4400" y="25851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0440" y="25610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2240" y="2564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4120" y="2574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772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4760" y="2579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09440" y="2579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548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412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088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18800" y="2587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1320" y="25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4840" y="25819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340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4840" y="25851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30080" y="771480"/>
              <a:ext cx="3396600" cy="2573280"/>
              <a:chOff x="-1630080" y="77148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4480" y="25855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3760" y="25894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4480" y="258876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09800" y="25869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844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7920" y="2548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4040" y="256860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4680" y="25146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468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7000" y="24922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736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024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29600" y="25016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140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2800" y="25495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460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2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8040" y="25592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29600" y="254628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8160" y="2547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7720" y="25520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168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5360" y="25534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3560" y="2555280"/>
                <a:ext cx="14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2840" y="25527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2120" y="25538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552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3000" y="25552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416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8120" y="25704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13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208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172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1000" y="257472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51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58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6400" y="257580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828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288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08720" y="2401920"/>
                <a:ext cx="12960" cy="406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0560" y="2410560"/>
                <a:ext cx="131760" cy="1425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0800" y="3249720"/>
                <a:ext cx="74520" cy="932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5720" y="3307680"/>
                <a:ext cx="4104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7120" y="3224880"/>
                <a:ext cx="109440" cy="123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2920" y="3287160"/>
                <a:ext cx="14400" cy="18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5560" y="3290400"/>
                <a:ext cx="11160" cy="15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7040" y="2517840"/>
                <a:ext cx="75960" cy="9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1960" y="2577240"/>
                <a:ext cx="41040" cy="29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4800" y="2499480"/>
                <a:ext cx="10944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3640" y="2879640"/>
                <a:ext cx="3348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6360" y="2828160"/>
                <a:ext cx="71640" cy="15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6240" y="2899440"/>
                <a:ext cx="2988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1960" y="2928240"/>
                <a:ext cx="241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5000" y="2867040"/>
                <a:ext cx="23760" cy="23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7080" y="3029760"/>
                <a:ext cx="198360" cy="183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5000" y="3011400"/>
                <a:ext cx="8244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0600" y="3023280"/>
                <a:ext cx="210960" cy="199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598760" y="3061440"/>
                <a:ext cx="135000" cy="183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3480" y="3089880"/>
                <a:ext cx="19080" cy="1080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0560" y="3062880"/>
                <a:ext cx="135000" cy="1807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91200" y="803520"/>
                <a:ext cx="44280" cy="18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7520" y="797760"/>
                <a:ext cx="5544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6560" y="84456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2000" y="847800"/>
                <a:ext cx="111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2240" y="875520"/>
                <a:ext cx="4680" cy="5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7120" y="840600"/>
                <a:ext cx="158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2640" y="85716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9000" y="822240"/>
                <a:ext cx="162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9160" y="873360"/>
                <a:ext cx="79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9560" y="8636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5680" y="78336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5680" y="808920"/>
                <a:ext cx="68040" cy="75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9120" y="849240"/>
                <a:ext cx="79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5520" y="8506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9048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7600" y="852480"/>
                <a:ext cx="180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9320" y="85500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9480" y="84204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11360" y="8319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9560" y="83592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3440" y="834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11360" y="790560"/>
              <a:ext cx="68400" cy="90360"/>
              <a:chOff x="-1611360" y="79056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3080" y="8341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600200" y="8348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4600" y="830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3160" y="82872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4280" y="84672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2480" y="8499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9960" y="851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9240" y="85320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8160" y="8546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5280" y="85536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1840" y="835560"/>
                <a:ext cx="1800" cy="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2200" y="83880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7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81120" y="8380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4360" y="8269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400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33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9040" y="81756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7600" y="819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86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7600" y="8222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26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33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26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264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97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868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436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760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760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868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7600" y="803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868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8680" y="812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7600" y="814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9400" y="8161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544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81120" y="824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184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5440" y="82764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292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1840" y="8326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8112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80040" y="836640"/>
                <a:ext cx="82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824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5720" y="8402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7068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3200" y="846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71040" y="847080"/>
                <a:ext cx="50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8880" y="84744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7800" y="85140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6000" y="85284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276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81120" y="857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6440" y="8604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3560" y="861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70680" y="862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996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8160" y="8625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9600" y="86400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2760" y="8658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5280" y="86832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3480" y="8697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3120" y="8690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976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8680" y="8532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472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184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7880" y="86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6800" y="8604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6800" y="8636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3200" y="865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9240" y="8643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996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6720" y="8679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1680" y="872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7720" y="8748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9160" y="8762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5200" y="8769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232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4480" y="8730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50880" y="8762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1600" y="8737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50160" y="87228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9800" y="8697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6200" y="866520"/>
                <a:ext cx="14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160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448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484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3760" y="853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9800" y="8586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8360" y="8650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484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916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5920" y="83988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3760" y="845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1600" y="84384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50880" y="8460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50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9800" y="83952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4640" y="8064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356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248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356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24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71400" y="8175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428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5720" y="80712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706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70680" y="8136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2480" y="81540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9960" y="824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5280" y="8251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7080" y="826920"/>
                <a:ext cx="50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204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6000" y="822960"/>
                <a:ext cx="28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276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5280" y="82728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6060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880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46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32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248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996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706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9240" y="7930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5400" y="774720"/>
              <a:ext cx="142920" cy="61920"/>
              <a:chOff x="-1625400" y="77472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7104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2120" y="7963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3560" y="79776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2120" y="801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6132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1680" y="789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8800" y="78732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84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73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84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5560" y="7938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520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3400" y="800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340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44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340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52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5124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50160" y="822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51240" y="8240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2240" y="830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2240" y="834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9880" y="783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8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59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448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4120" y="79668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3400" y="79920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512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19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51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2680" y="811080"/>
                <a:ext cx="64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512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50880" y="819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50160" y="823320"/>
                <a:ext cx="64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4040" y="8247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6200" y="82692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4040" y="8280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2960" y="83016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40800" y="8326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7200" y="8326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964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748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928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748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424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3520" y="7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110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24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1100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360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2036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892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856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748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352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17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1136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216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576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6800" y="7783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6080" y="7779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3560" y="7754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176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7104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708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5640" y="77796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168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988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8440" y="7786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51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50160" y="781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8360" y="783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728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404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15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720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792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504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612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1800" y="8046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3600" y="806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3108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856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928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4960" y="810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4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2136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704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2720" y="8125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3800" y="81360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2720" y="815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38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948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1020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58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216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92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856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7480" y="7891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3520" y="7898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2064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208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172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504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648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612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6480" y="785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1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288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2160" y="7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7120" y="7808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3880" y="78228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496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4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3160" y="77688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884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452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380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1092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9480" y="774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236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704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105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768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66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4800" y="7999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156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192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94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760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508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90400" y="812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968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6800" y="8233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5400" y="774720"/>
              <a:ext cx="142560" cy="109440"/>
              <a:chOff x="-1625400" y="77472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6800" y="82476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8600" y="82656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8040" y="842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5880" y="84024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408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264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940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9040" y="8442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5080" y="84348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652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472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2920" y="85068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5080" y="8514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580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76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688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50048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292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400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9112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148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90760" y="84096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716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4280" y="837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98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804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892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6760" y="852840"/>
                <a:ext cx="14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964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7840" y="8593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8560" y="86004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820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8920" y="862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30000" y="86688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8200" y="8701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8920" y="87084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8200" y="8733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360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1800" y="8409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216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30000" y="844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30000" y="8499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964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856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31080" y="843480"/>
                <a:ext cx="756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964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4960" y="8528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28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4600" y="86076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6400" y="862560"/>
                <a:ext cx="57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5680" y="864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6400" y="868320"/>
                <a:ext cx="43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8840" y="8715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20280" y="868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8480" y="86688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5600" y="86832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4880" y="86760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3440" y="8661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11280" y="8668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10920" y="8636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8040" y="8636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4080" y="86184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1920" y="86004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812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5600" y="85788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416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2640" y="8636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5800" y="867600"/>
                <a:ext cx="432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1840" y="8668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1840" y="8715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932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7160" y="873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3920" y="8748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672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276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5124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404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332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4008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2880" y="8794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14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928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568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676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5320" y="8456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4960" y="84816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11000" y="84960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3600" y="82080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3240" y="82728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4680" y="82872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252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2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20360" y="83520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360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5400" y="79308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3600" y="791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4680" y="78804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21080" y="787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2880" y="78588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8560" y="781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7480" y="78192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56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6760" y="77688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316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2080" y="77544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740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452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3800" y="78264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6012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948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6600" y="7801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5520" y="77940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1920" y="781920"/>
                <a:ext cx="10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90480" y="783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5080" y="7858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8320" y="78408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8320" y="7887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5760" y="8013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648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5760" y="8157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720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460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3520" y="8301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460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10640" y="83664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704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668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452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308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60128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912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4440" y="83340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5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588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8760" y="84348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60020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840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9120" y="84888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4800" y="852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336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2640" y="8528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1136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1720" y="82332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1720" y="8200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316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8640" y="8132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6840" y="81180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3600" y="8132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3600" y="8100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9720" y="8146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5400" y="790560"/>
              <a:ext cx="3430440" cy="2922480"/>
              <a:chOff x="-1625400" y="79056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288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4240" y="8269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5680" y="82836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7480" y="82548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352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2064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424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20640" y="838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2064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712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6400" y="79272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496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424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2136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2100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70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59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70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2000" y="8006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98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50084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50084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1800" y="8013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3108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7120" y="803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892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316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992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740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2720" y="809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380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30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30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105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6240" y="8208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612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8520" y="2161800"/>
                <a:ext cx="55440" cy="55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2280" y="2135160"/>
                <a:ext cx="10152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6000" y="2480400"/>
                <a:ext cx="190800" cy="169920"/>
              </a:xfrm>
              <a:prstGeom prst="pie">
                <a:avLst/>
              </a:pr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4160" y="2476440"/>
                <a:ext cx="123840" cy="1173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8480" y="2491560"/>
                <a:ext cx="112680" cy="10476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9760" y="2563920"/>
                <a:ext cx="792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70240" y="2583360"/>
                <a:ext cx="6120" cy="50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4360" y="2599200"/>
                <a:ext cx="14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80680" y="2563920"/>
                <a:ext cx="11160" cy="108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1480" y="2540880"/>
                <a:ext cx="3240" cy="46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8480" y="2548800"/>
                <a:ext cx="468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41080" y="2587320"/>
                <a:ext cx="468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2320" y="2613600"/>
                <a:ext cx="324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71320" y="2543040"/>
                <a:ext cx="7920" cy="111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6840" y="255996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2760" y="2525760"/>
                <a:ext cx="324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4160" y="254808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8680" y="2565360"/>
                <a:ext cx="180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6000" y="2563560"/>
                <a:ext cx="28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8800" y="2581920"/>
                <a:ext cx="2880" cy="50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6440" y="2540520"/>
                <a:ext cx="144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61240" y="261540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5800" y="2597760"/>
                <a:ext cx="324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7600" y="2500920"/>
                <a:ext cx="7920" cy="126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9600" y="2532240"/>
                <a:ext cx="57240" cy="442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6320" y="2585160"/>
                <a:ext cx="6120" cy="18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8120" y="258516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5760" y="2575080"/>
                <a:ext cx="288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4920" y="2455920"/>
                <a:ext cx="33480" cy="838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5800" y="253440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4720" y="254448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5080" y="2552760"/>
                <a:ext cx="32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2200" y="256464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90760" y="249084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80680" y="248760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2760" y="2506680"/>
                <a:ext cx="144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1560" y="2485800"/>
                <a:ext cx="38160" cy="414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9960" y="2597760"/>
                <a:ext cx="7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9720" y="2595960"/>
                <a:ext cx="3240" cy="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9640" y="2638440"/>
                <a:ext cx="79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1640" y="264708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7600" y="2481840"/>
                <a:ext cx="7920" cy="1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7080" y="2488320"/>
                <a:ext cx="4680" cy="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61240" y="2491560"/>
                <a:ext cx="3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1440" y="861120"/>
                <a:ext cx="66960" cy="68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8360" y="845280"/>
                <a:ext cx="824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4840" y="2601000"/>
                <a:ext cx="65160" cy="637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2840" y="2581200"/>
                <a:ext cx="68400" cy="106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3960" y="2378520"/>
                <a:ext cx="112680" cy="60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5320" y="2393640"/>
                <a:ext cx="1285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6160" y="2405880"/>
                <a:ext cx="1908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1920" y="238104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4440" y="2364480"/>
                <a:ext cx="1440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156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6160" y="2424960"/>
                <a:ext cx="1116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5360" y="2401200"/>
                <a:ext cx="14400" cy="158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0760" y="2422440"/>
                <a:ext cx="1116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1440" y="2408040"/>
                <a:ext cx="82440" cy="255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58840" y="2393640"/>
                <a:ext cx="112680" cy="302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4280" y="2405160"/>
                <a:ext cx="1116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19680" y="2426400"/>
                <a:ext cx="7920" cy="3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1800" y="2946240"/>
                <a:ext cx="90720" cy="112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0240" y="2934360"/>
                <a:ext cx="38160" cy="138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3440" y="3017880"/>
                <a:ext cx="101520" cy="85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3960" y="3057480"/>
                <a:ext cx="25200" cy="2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3120" y="3064320"/>
                <a:ext cx="2700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5920" y="3038400"/>
                <a:ext cx="140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5280" y="3039840"/>
                <a:ext cx="10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4640" y="2664720"/>
                <a:ext cx="90360" cy="104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8360" y="2638440"/>
                <a:ext cx="104760" cy="158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59000" y="2733480"/>
                <a:ext cx="11160" cy="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0480" y="2723760"/>
                <a:ext cx="30240" cy="55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6080" y="271512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436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228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840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632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3880" y="2705040"/>
                <a:ext cx="4896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3600" y="2699280"/>
                <a:ext cx="47520" cy="17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0080" y="3378960"/>
                <a:ext cx="57240" cy="5544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0720" y="33170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8120" y="3318480"/>
                <a:ext cx="126720" cy="1126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5680" y="3246840"/>
                <a:ext cx="195120" cy="187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8000" y="3243960"/>
                <a:ext cx="195480" cy="187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3600" y="3247200"/>
                <a:ext cx="127080" cy="11268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3880" y="32486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299160" y="3378960"/>
                <a:ext cx="57240" cy="55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6760" y="2018520"/>
                <a:ext cx="161640" cy="214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59600" y="3496320"/>
                <a:ext cx="52200" cy="4140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2760" y="3475080"/>
                <a:ext cx="367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1920" y="3504240"/>
                <a:ext cx="5580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0240" y="3374280"/>
                <a:ext cx="154080" cy="1555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2200" y="3415320"/>
                <a:ext cx="109440" cy="73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4360" y="34858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7800" y="1567440"/>
                <a:ext cx="88560" cy="15084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70280" y="1609560"/>
                <a:ext cx="173160" cy="173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4000" y="1647000"/>
                <a:ext cx="90360" cy="82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8440" y="2127960"/>
                <a:ext cx="127080" cy="119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50880" y="2104920"/>
                <a:ext cx="14616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5200" y="2117520"/>
                <a:ext cx="266400" cy="196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7240" y="2196720"/>
                <a:ext cx="60480" cy="63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10440" y="2132640"/>
                <a:ext cx="236520" cy="1652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8480" y="1617480"/>
                <a:ext cx="74520" cy="87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6560" y="1579320"/>
                <a:ext cx="101880" cy="108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2360" y="3114000"/>
                <a:ext cx="36720" cy="410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1720" y="3126600"/>
                <a:ext cx="3672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30760" y="3089880"/>
                <a:ext cx="10188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3360" y="3086640"/>
                <a:ext cx="79560" cy="68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49000" y="3315960"/>
                <a:ext cx="139680" cy="158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5280" y="3401280"/>
                <a:ext cx="66600" cy="11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2960" y="3284640"/>
                <a:ext cx="2700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1520" y="3249360"/>
                <a:ext cx="637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6160" y="2023920"/>
                <a:ext cx="41040" cy="44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8440" y="1909800"/>
                <a:ext cx="146160" cy="162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4440" y="1882800"/>
                <a:ext cx="71280" cy="71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4080" y="1882080"/>
                <a:ext cx="41400" cy="42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1920" y="2324880"/>
                <a:ext cx="120600" cy="109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90280" y="2354040"/>
                <a:ext cx="6372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1880" y="3612960"/>
                <a:ext cx="101520" cy="98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2600" y="3650400"/>
                <a:ext cx="25200" cy="23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3840" y="2155680"/>
                <a:ext cx="106200" cy="7164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51040" y="1282680"/>
              <a:ext cx="3886200" cy="4767120"/>
              <a:chOff x="-1751040" y="128268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20040" y="2147040"/>
                <a:ext cx="101520" cy="77760"/>
              </a:xfrm>
              <a:prstGeom prst="pie">
                <a:avLst/>
              </a:pr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3360" y="2196720"/>
                <a:ext cx="57240" cy="120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7240" y="2184120"/>
                <a:ext cx="41040" cy="4140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9320" y="2188800"/>
                <a:ext cx="1584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1760" y="2199240"/>
                <a:ext cx="1404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1068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744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200240" y="2149560"/>
                <a:ext cx="792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8080" y="215028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2320" y="215100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8360" y="215172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4400" y="215568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80440" y="215640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5760" y="215820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71080" y="2161440"/>
                <a:ext cx="32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7120" y="21654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7840" y="2166120"/>
                <a:ext cx="792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6040" y="2171160"/>
                <a:ext cx="792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2440" y="2172240"/>
                <a:ext cx="61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9560" y="2175480"/>
                <a:ext cx="288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9200" y="2178000"/>
                <a:ext cx="504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5600" y="218448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4160" y="2185920"/>
                <a:ext cx="288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5240" y="2189880"/>
                <a:ext cx="50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3800" y="219924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2720" y="2203200"/>
                <a:ext cx="28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3080" y="2206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3800" y="221040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3440" y="2212200"/>
                <a:ext cx="14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4520" y="2216160"/>
                <a:ext cx="32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3800" y="2218680"/>
                <a:ext cx="180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6320" y="2221560"/>
                <a:ext cx="468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5600" y="222552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5280" y="5909400"/>
                <a:ext cx="128880" cy="10800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6480" y="5933880"/>
                <a:ext cx="104760" cy="127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60040" y="5871240"/>
                <a:ext cx="12384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8680" y="5828400"/>
                <a:ext cx="1094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8400" y="5938560"/>
                <a:ext cx="12600" cy="1584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9840" y="5944320"/>
                <a:ext cx="1116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3440" y="5909400"/>
                <a:ext cx="12960" cy="1404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3800" y="5914800"/>
                <a:ext cx="11160" cy="172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2480" y="5977080"/>
                <a:ext cx="1116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1880" y="5883120"/>
                <a:ext cx="11160" cy="1440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4760" y="5888880"/>
                <a:ext cx="1116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9440" y="5901480"/>
                <a:ext cx="1404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91160" y="1280160"/>
                <a:ext cx="1350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3360" y="1272240"/>
                <a:ext cx="6336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9840" y="1319760"/>
                <a:ext cx="68400" cy="104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08680" y="2470680"/>
                <a:ext cx="130320" cy="128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3440" y="2474640"/>
                <a:ext cx="96840" cy="109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6760" y="2532600"/>
                <a:ext cx="55440" cy="572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5520" y="4051080"/>
                <a:ext cx="120960" cy="127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8960" y="4068000"/>
                <a:ext cx="8604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201320" y="4122000"/>
                <a:ext cx="41400" cy="27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40720" y="4502880"/>
                <a:ext cx="12384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20560" y="4513320"/>
                <a:ext cx="101520" cy="101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1720" y="4551480"/>
                <a:ext cx="71280" cy="71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4800" y="2493720"/>
                <a:ext cx="120600" cy="117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8400" y="2513880"/>
                <a:ext cx="79560" cy="586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1440" y="2516040"/>
                <a:ext cx="85680" cy="75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3040" y="2871000"/>
                <a:ext cx="68040" cy="120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39160" y="2847240"/>
                <a:ext cx="1188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29160" y="2807280"/>
                <a:ext cx="87480" cy="10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4320" y="2849400"/>
                <a:ext cx="3672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0160" y="2865240"/>
                <a:ext cx="38160" cy="34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1760" y="2878920"/>
                <a:ext cx="41400" cy="49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7400" y="3664800"/>
                <a:ext cx="14292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3080" y="3772440"/>
                <a:ext cx="4428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5600" y="3647160"/>
                <a:ext cx="44280" cy="493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6840" y="3660840"/>
                <a:ext cx="177840" cy="146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2280" y="366084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7520" y="36860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4840" y="369792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6920" y="3717000"/>
                <a:ext cx="3348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6840" y="3740760"/>
                <a:ext cx="3348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4880" y="3331080"/>
                <a:ext cx="139680" cy="112680"/>
              </a:xfrm>
              <a:prstGeom prst="pie">
                <a:avLst/>
              </a:pr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69560" y="3362040"/>
                <a:ext cx="49320" cy="14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8400" y="3335040"/>
                <a:ext cx="33480" cy="5256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3400" y="3369240"/>
                <a:ext cx="112680" cy="63360"/>
              </a:xfrm>
              <a:prstGeom prst="pie">
                <a:avLst/>
              </a:pr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2920" y="3353400"/>
                <a:ext cx="109800" cy="381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2280" y="3344040"/>
                <a:ext cx="112680" cy="6012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0760" y="3371760"/>
                <a:ext cx="7920" cy="14040"/>
              </a:xfrm>
              <a:prstGeom prst="pie">
                <a:avLst/>
              </a:pr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6800" y="3378960"/>
                <a:ext cx="15840" cy="14040"/>
              </a:xfrm>
              <a:prstGeom prst="pie">
                <a:avLst/>
              </a:pr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4080" y="3342240"/>
                <a:ext cx="112680" cy="633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0280" y="3180240"/>
                <a:ext cx="22320" cy="2700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5120" y="3153600"/>
                <a:ext cx="22320" cy="792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0600" y="3115440"/>
                <a:ext cx="47520" cy="1317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0240" y="3115080"/>
                <a:ext cx="71280" cy="117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19480" y="3196080"/>
                <a:ext cx="1584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4320" y="3190680"/>
                <a:ext cx="1404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0360" y="3189960"/>
                <a:ext cx="22320" cy="792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200520" y="2661120"/>
                <a:ext cx="2988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4840" y="26384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10240" y="2599200"/>
                <a:ext cx="4932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8440" y="2616120"/>
                <a:ext cx="32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7080" y="265176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3200" y="267552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6880" y="2628720"/>
                <a:ext cx="223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2920" y="2607480"/>
                <a:ext cx="11160" cy="6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3640" y="2622240"/>
                <a:ext cx="460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2040" y="2645280"/>
                <a:ext cx="10152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200160" y="2641680"/>
                <a:ext cx="30240" cy="3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5760" y="2642400"/>
                <a:ext cx="7128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5960" y="2702520"/>
                <a:ext cx="11304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29800" y="2322360"/>
                <a:ext cx="57240" cy="79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2960" y="2359800"/>
                <a:ext cx="5904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0680" y="1583640"/>
                <a:ext cx="44280" cy="36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3560" y="1578600"/>
                <a:ext cx="38160" cy="457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0840" y="324720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49480" y="3247920"/>
                <a:ext cx="85680" cy="85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0000" y="3267000"/>
                <a:ext cx="55440" cy="460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9640" y="3130560"/>
                <a:ext cx="115920" cy="489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6640" y="3111480"/>
                <a:ext cx="9072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60040" y="3093120"/>
                <a:ext cx="65160" cy="414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2800" y="3156840"/>
                <a:ext cx="11160" cy="349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7160" y="958680"/>
              <a:ext cx="3252240" cy="4524480"/>
              <a:chOff x="-1757160" y="95868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8800" y="3125880"/>
                <a:ext cx="1116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7520" y="3192480"/>
                <a:ext cx="11160" cy="298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40280" y="2193840"/>
                <a:ext cx="120600" cy="107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6040" y="2190600"/>
                <a:ext cx="15840" cy="1548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3160" y="2180880"/>
                <a:ext cx="135000" cy="125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4840" y="2859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2520" y="28652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9480" y="2869560"/>
                <a:ext cx="190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1600" y="28400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7480" y="2846160"/>
                <a:ext cx="172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5520" y="28544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6920" y="282420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4600" y="2832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7600" y="283536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9000" y="280512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9480" y="2805840"/>
                <a:ext cx="2700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588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408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2280" y="2752560"/>
                <a:ext cx="18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624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796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364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832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616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364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8004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292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2920" y="27511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3640" y="2748600"/>
                <a:ext cx="32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652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940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408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732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272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2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700560" y="275724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624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444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976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4800" y="275976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2920" y="276192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8004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796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6160" y="275904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572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4280" y="276120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6800" y="275580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428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860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6080" y="2755080"/>
                <a:ext cx="50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70320" y="2757600"/>
                <a:ext cx="14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708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176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384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912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732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9760" y="275436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6160" y="274788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8320" y="275040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4880" y="2753640"/>
                <a:ext cx="180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4520" y="275040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2000" y="27478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5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2920" y="27432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5440" y="274248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4200" y="2720880"/>
                <a:ext cx="468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7240" y="271872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5600" y="274032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9520" y="274824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700560" y="2738160"/>
                <a:ext cx="14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7360" y="274464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80320" y="483948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81400" y="484812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8040" y="483804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8040" y="484128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3480" y="480204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3840" y="480708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5560" y="480996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5800" y="484020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1480" y="4828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90760" y="483552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9400" y="284652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7080" y="283536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4360" y="2833560"/>
                <a:ext cx="792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8680" y="2837880"/>
                <a:ext cx="1116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4360" y="281448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4640" y="359640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4840" y="3622680"/>
                <a:ext cx="46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2960" y="315972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4400" y="31496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4400" y="31640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7880" y="31183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8600" y="311940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7160" y="315900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9320" y="316296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228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148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59920" y="433368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172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848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8280" y="432252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6840" y="432252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89360" y="431568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89360" y="431568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4680" y="4469760"/>
                <a:ext cx="324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8120" y="4469400"/>
                <a:ext cx="32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5520" y="4501440"/>
                <a:ext cx="28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6240" y="45021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7240" y="2164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9280" y="1711080"/>
                <a:ext cx="32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5560" y="173916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39320" y="351468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28880" y="351864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6040" y="4902120"/>
                <a:ext cx="49320" cy="52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3800" y="4213080"/>
                <a:ext cx="49320" cy="489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50880" y="1442160"/>
                <a:ext cx="4788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7480" y="2349360"/>
                <a:ext cx="5220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30800" y="5430600"/>
                <a:ext cx="52560" cy="522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8600" y="959760"/>
                <a:ext cx="49320" cy="47160"/>
              </a:xfrm>
              <a:prstGeom prst="pie">
                <a:avLst/>
              </a:pr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2840" y="3486600"/>
                <a:ext cx="38160" cy="68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29760" y="3492360"/>
                <a:ext cx="27000" cy="45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5000" y="3523320"/>
                <a:ext cx="7920" cy="288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5240" y="365580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3080" y="3633120"/>
                <a:ext cx="298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4880" y="3623760"/>
                <a:ext cx="1584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19200" y="362952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2440" y="36284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3160" y="363060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5960" y="36331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812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020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6320" y="3616920"/>
                <a:ext cx="158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79520" y="2713680"/>
                <a:ext cx="716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4360" y="2722320"/>
                <a:ext cx="468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6160" y="2725560"/>
                <a:ext cx="144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2560" y="272556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3640" y="272808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256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1840" y="2732760"/>
                <a:ext cx="46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3640" y="273600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7960" y="2726640"/>
                <a:ext cx="32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08680" y="2728800"/>
                <a:ext cx="14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580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6880" y="273132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89960" y="3416400"/>
                <a:ext cx="57240" cy="40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3200" y="3419280"/>
                <a:ext cx="572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4560" y="3429720"/>
                <a:ext cx="49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7040" y="3431160"/>
                <a:ext cx="158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7680" y="3041640"/>
                <a:ext cx="33480" cy="45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3360" y="3050280"/>
                <a:ext cx="44640" cy="32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2080" y="2748600"/>
                <a:ext cx="79200" cy="83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1240" y="275040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7200" y="2763720"/>
                <a:ext cx="33120" cy="75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1960" y="2749320"/>
                <a:ext cx="45720" cy="4896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59920" y="2784240"/>
                <a:ext cx="4680" cy="43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2680" y="2786760"/>
                <a:ext cx="7920" cy="28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5920" y="2786760"/>
                <a:ext cx="7920" cy="28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0080" y="3063600"/>
                <a:ext cx="52560" cy="36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39280" y="3066840"/>
                <a:ext cx="41400" cy="41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6200" y="2163600"/>
                <a:ext cx="82440" cy="633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4400" y="2135160"/>
              <a:ext cx="2603520" cy="1652400"/>
              <a:chOff x="-644400" y="213516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5840" y="2163600"/>
                <a:ext cx="82080" cy="63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9920" y="2203920"/>
                <a:ext cx="1404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4800" y="2166840"/>
                <a:ext cx="154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5600" y="2182320"/>
                <a:ext cx="2160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5320" y="221724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2720" y="222228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4440" y="21636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7880" y="216900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9080" y="2157120"/>
                <a:ext cx="83520" cy="68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3320" y="2161080"/>
                <a:ext cx="74160" cy="60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2800" y="220068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3720" y="216252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8840" y="2176200"/>
                <a:ext cx="2376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1800" y="221112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6680" y="2219760"/>
                <a:ext cx="756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7320" y="2158200"/>
                <a:ext cx="7560" cy="6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9320" y="2162880"/>
                <a:ext cx="288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2880" y="2206080"/>
                <a:ext cx="7560" cy="1440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2520" y="2213280"/>
                <a:ext cx="144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9280" y="2213280"/>
                <a:ext cx="288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5600" y="221580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5600" y="2215800"/>
                <a:ext cx="10800" cy="792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2720" y="2219040"/>
                <a:ext cx="756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4160" y="2217240"/>
                <a:ext cx="288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1880" y="2143800"/>
                <a:ext cx="7416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9360" y="2147760"/>
                <a:ext cx="6768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2800" y="219276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600840" y="2162520"/>
                <a:ext cx="1692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3080" y="2172240"/>
                <a:ext cx="2160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5600" y="221256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7760" y="2210040"/>
                <a:ext cx="7560" cy="64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4720" y="2142720"/>
                <a:ext cx="108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40080" y="2142000"/>
                <a:ext cx="7092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7560" y="2145960"/>
                <a:ext cx="6444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4240" y="2189520"/>
                <a:ext cx="12600" cy="144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9400" y="2161080"/>
                <a:ext cx="1404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5960" y="2171520"/>
                <a:ext cx="2196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4320" y="219924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20640" y="2204640"/>
                <a:ext cx="14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6120" y="2138040"/>
                <a:ext cx="93240" cy="87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5240" y="2134440"/>
                <a:ext cx="53640" cy="838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3520" y="2128680"/>
                <a:ext cx="67680" cy="871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8400" y="2154600"/>
                <a:ext cx="29880" cy="12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9040" y="2142000"/>
                <a:ext cx="2880" cy="504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8840" y="2147400"/>
                <a:ext cx="36000" cy="2700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1560" y="2166480"/>
                <a:ext cx="10800" cy="82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600120" y="2165040"/>
                <a:ext cx="7560" cy="8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7600" y="2162520"/>
                <a:ext cx="2880" cy="82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1680" y="377208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4320" y="3736800"/>
                <a:ext cx="633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7200" y="3740040"/>
                <a:ext cx="6012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1400" y="3192840"/>
                <a:ext cx="216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3040" y="3161880"/>
                <a:ext cx="5832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7360" y="3162600"/>
                <a:ext cx="5508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4560" y="3155760"/>
                <a:ext cx="4104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6000" y="2877120"/>
                <a:ext cx="2988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2840" y="2814120"/>
                <a:ext cx="8532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8240" y="2824560"/>
                <a:ext cx="74520" cy="146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6480" y="2865960"/>
                <a:ext cx="554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8040" y="3370680"/>
                <a:ext cx="14040" cy="1584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7440" y="3330360"/>
                <a:ext cx="10440" cy="1116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8480" y="3322440"/>
                <a:ext cx="56880" cy="633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3000" y="3380400"/>
                <a:ext cx="61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5560" y="3319920"/>
                <a:ext cx="41040" cy="46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6040" y="3227760"/>
                <a:ext cx="5220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5480" y="321912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59440" y="323100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1600" y="324072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5560" y="325080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0240" y="32619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648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5760" y="321048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208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0640" y="3214440"/>
                <a:ext cx="432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7320" y="32173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6600" y="3218040"/>
                <a:ext cx="28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0640" y="3196800"/>
                <a:ext cx="10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3680" y="321048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6480" y="32130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38560" y="321444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2080" y="3217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3440" y="321840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28840" y="3220560"/>
                <a:ext cx="44280" cy="3816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7840" y="3226320"/>
                <a:ext cx="41040" cy="237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6200" y="3247560"/>
                <a:ext cx="21960" cy="2232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7880" y="3222360"/>
                <a:ext cx="52200" cy="4896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2120" y="3224880"/>
                <a:ext cx="52200" cy="442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6480" y="3192120"/>
                <a:ext cx="82440" cy="79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7640" y="3192120"/>
                <a:ext cx="82440" cy="79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2240" y="3194280"/>
                <a:ext cx="52200" cy="4464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6480" y="3192120"/>
                <a:ext cx="52200" cy="4932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3400" y="3246840"/>
                <a:ext cx="21960" cy="23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5680" y="3470760"/>
                <a:ext cx="601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4920" y="3513600"/>
                <a:ext cx="1728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7480" y="3461400"/>
                <a:ext cx="18720" cy="17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7400" y="3466080"/>
                <a:ext cx="712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1440" y="3468240"/>
                <a:ext cx="756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8280" y="3480480"/>
                <a:ext cx="1548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6200" y="3483720"/>
              <a:ext cx="11160" cy="18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29080" y="3491640"/>
              <a:ext cx="15840" cy="140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3040" y="3501720"/>
              <a:ext cx="15840" cy="162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6040" y="3008160"/>
              <a:ext cx="55440" cy="46080"/>
            </a:xfrm>
            <a:prstGeom prst="pie">
              <a:avLst/>
            </a:pr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1960" y="3026520"/>
              <a:ext cx="36360" cy="1260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6560" y="3020760"/>
              <a:ext cx="36360" cy="2376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0440" y="3004200"/>
              <a:ext cx="6480" cy="468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79560" y="3014280"/>
              <a:ext cx="44280" cy="2232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1960" y="3023280"/>
              <a:ext cx="3240" cy="7920"/>
            </a:xfrm>
            <a:prstGeom prst="pie">
              <a:avLst/>
            </a:pr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09800" y="3025800"/>
              <a:ext cx="7920" cy="7920"/>
            </a:xfrm>
            <a:prstGeom prst="pie">
              <a:avLst/>
            </a:pr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1720" y="3012120"/>
              <a:ext cx="44280" cy="270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1080" y="285732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3160" y="286848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500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39000" y="357876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8280" y="357948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0080" y="357660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39000" y="35755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9400" y="5931360"/>
              <a:ext cx="23760" cy="19080"/>
            </a:xfrm>
            <a:prstGeom prst="pie">
              <a:avLst/>
            </a:pr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6800" y="4763880"/>
              <a:ext cx="29880" cy="558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7160" y="4759200"/>
              <a:ext cx="41400" cy="982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8520" y="4800240"/>
              <a:ext cx="25560" cy="7632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4560" y="4804200"/>
              <a:ext cx="17640" cy="60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21320" y="4807440"/>
              <a:ext cx="11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8200" y="3897000"/>
              <a:ext cx="14040" cy="144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9960" y="3893760"/>
              <a:ext cx="55440" cy="5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8800" y="3908160"/>
              <a:ext cx="30240" cy="30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1600" y="3900960"/>
              <a:ext cx="33120" cy="25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8800" y="390816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7640" y="390024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7760" y="3946320"/>
              <a:ext cx="63720" cy="4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5680" y="3916080"/>
              <a:ext cx="41400" cy="63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4600" y="3954240"/>
              <a:ext cx="3816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6400" y="3942360"/>
              <a:ext cx="27000" cy="41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900440" y="3968640"/>
              <a:ext cx="36720" cy="29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3040" y="2253240"/>
              <a:ext cx="33120" cy="763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9720" y="2296800"/>
              <a:ext cx="33120" cy="716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70840" y="573480"/>
              <a:ext cx="7920" cy="1908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5000" y="507960"/>
              <a:ext cx="82440" cy="10476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9040" y="564120"/>
              <a:ext cx="30240" cy="3816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6520" y="569520"/>
              <a:ext cx="1116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2000" y="540360"/>
              <a:ext cx="30240" cy="190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8560" y="536400"/>
              <a:ext cx="2376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800720" y="559440"/>
              <a:ext cx="10800" cy="64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7640" y="530280"/>
              <a:ext cx="22320" cy="158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6440" y="525240"/>
              <a:ext cx="1440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5320" y="568080"/>
              <a:ext cx="30240" cy="1440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6200" y="566640"/>
              <a:ext cx="1404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5040" y="5323320"/>
              <a:ext cx="142560" cy="716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9400" y="5343480"/>
              <a:ext cx="115920" cy="1159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2720" y="709200"/>
              <a:ext cx="85680" cy="127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900800" y="1060920"/>
              <a:ext cx="16200" cy="1440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8920" y="1046160"/>
              <a:ext cx="25200" cy="25200"/>
            </a:xfrm>
            <a:prstGeom prst="pie">
              <a:avLst/>
            </a:pr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5480" y="1073880"/>
              <a:ext cx="2520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900800" y="1011960"/>
              <a:ext cx="34920" cy="3312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8600" y="1079280"/>
              <a:ext cx="41400" cy="414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3000" y="1019160"/>
              <a:ext cx="127080" cy="104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9560" y="1004040"/>
              <a:ext cx="27000" cy="795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2280" y="5181480"/>
              <a:ext cx="23760" cy="23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5280" y="5151960"/>
              <a:ext cx="44640" cy="96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9120" y="5197320"/>
              <a:ext cx="14400" cy="144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3560" y="5211720"/>
              <a:ext cx="15840" cy="15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8080" y="517824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5560" y="1830240"/>
              <a:ext cx="38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8880" y="1816560"/>
              <a:ext cx="41400" cy="6840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7200" y="2452680"/>
              <a:ext cx="158760" cy="792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3320" y="2471400"/>
              <a:ext cx="17604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3240" y="248976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5200" y="2470680"/>
              <a:ext cx="153720" cy="38160"/>
            </a:xfrm>
            <a:prstGeom prst="pie">
              <a:avLst/>
            </a:pr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5520" y="392760"/>
              <a:ext cx="93600" cy="1080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9040" y="1582560"/>
              <a:ext cx="164880" cy="1206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51040" y="1631880"/>
              <a:ext cx="38160" cy="38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6080" y="1591920"/>
              <a:ext cx="142920" cy="10152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4840" y="1138680"/>
              <a:ext cx="79200" cy="65160"/>
            </a:xfrm>
            <a:prstGeom prst="pie">
              <a:avLst/>
            </a:pr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2280" y="1150560"/>
              <a:ext cx="63360" cy="7956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20000" y="1111680"/>
              <a:ext cx="77760" cy="666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8160" y="1088640"/>
              <a:ext cx="65160" cy="748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1520" y="1118880"/>
              <a:ext cx="792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41160" y="1126800"/>
              <a:ext cx="3240" cy="648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8000" y="1131840"/>
              <a:ext cx="1116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6800" y="2401920"/>
              <a:ext cx="79200" cy="792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9960" y="2405880"/>
              <a:ext cx="60120" cy="680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8080" y="2439720"/>
              <a:ext cx="30240" cy="363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60520" y="1972800"/>
              <a:ext cx="71280" cy="716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8720" y="1987200"/>
              <a:ext cx="49320" cy="3672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5040" y="1987920"/>
              <a:ext cx="52200" cy="446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3920" y="1111320"/>
              <a:ext cx="30240" cy="489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1840" y="1133280"/>
              <a:ext cx="38160" cy="349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1880" y="3406680"/>
              <a:ext cx="25200" cy="219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9000" y="3400920"/>
              <a:ext cx="2196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7120" y="4321080"/>
              <a:ext cx="41400" cy="19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3080" y="432648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3080" y="432972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3800" y="4333680"/>
              <a:ext cx="468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1640" y="432792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2720" y="4329000"/>
              <a:ext cx="32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81280" y="522288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1440" y="5203440"/>
              <a:ext cx="33480" cy="36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3600" y="5205240"/>
              <a:ext cx="33480" cy="33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1800" y="5203440"/>
              <a:ext cx="14400" cy="1764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1080" y="285264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29640" y="355824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9400" y="167328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9280" y="476964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prstGeom prst="pie">
                <a:avLst/>
              </a:pr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prstGeom prst="pie">
                <a:avLst/>
              </a:pr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prstGeom prst="pie">
                <a:avLst/>
              </a:pr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0DE-F021-46A7-A455-A5CD7B31AF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prstGeom prst="pie">
            <a:avLst/>
          </a:pr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prstGeom prst="pie">
              <a:avLst/>
            </a:pr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prstGeom prst="pie">
            <a:avLst/>
          </a:pr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prstGeom prst="pie">
              <a:avLst/>
            </a:pr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prstGeom prst="pie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prstGeom prst="pi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prstGeom prst="pie">
              <a:avLst/>
            </a:pr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4440" y="5108760"/>
            <a:ext cx="322200" cy="3240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cp:keywords/>
  <dc:language>en-US</dc:language>
  <cp:lastModifiedBy>User</cp:lastModifiedBy>
  <dcterms:modified xsi:type="dcterms:W3CDTF">2015-03-15T12:52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