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02C-CADB-4B5A-94EA-C5DDE56D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CE2-3735-4CCF-9B8A-3FF54EF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026-ACA5-4B22-86CA-C203D008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69C-B7DF-4211-9942-8F9E5468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030A-244A-4626-B5A3-C96B7715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0ADA-1ADE-498C-A51A-D88761A4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CCC3-82C2-48D6-BF58-21ABBE6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567D-4BF3-489E-9D18-C4FA0F00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A6CE-1602-4A26-8AAA-015CF680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3E3-8861-4C54-9C20-C5A17015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AE6A-B433-4FA1-B9DF-2878E7D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701-464D-4E4B-90CA-717DFBE4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6067-D57A-46A9-BE26-E5B10EA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A01F-8013-4E73-A196-F016DFC0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C3F3-DE5A-4655-B870-6776B7FD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00C0-5357-4340-A3B0-5D5E1309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248E-F52E-44D7-ADFC-4260C522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FFD-F72A-4670-A38B-4CFC8C0A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478-04DA-4CC5-A95E-E91697A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FC4-189A-4CBA-AF84-384594E3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7D4-B0DD-4E08-9DD1-ABACC1D1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462-03AD-4B27-9A63-7E4FA69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17D-6106-498C-B54A-DF51AB1D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8E1-7D66-4351-8919-FDE2A40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C6E-1560-457A-84E9-0041336155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E321-A276-46F6-B81E-31E7BD305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3600" y="-1764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 Placeholder 2" descr="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asus</dc:creator>
  <dc:description/>
  <dc:language>en-US</dc:language>
  <cp:lastModifiedBy>zuazua W</cp:lastModifiedBy>
  <dcterms:modified xsi:type="dcterms:W3CDTF">2015-01-07T08:55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