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58DF-7246-441C-9DAD-353CFABAB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24B0-89FA-43F9-8156-A2DAE069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79FC-6175-402E-8AD8-C6737D49C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9EAB-E5D8-4FC8-A7EB-77C4B93F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8072-BFD4-4980-A5F9-8A8B5E929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D5B0-8F40-4A31-A3F8-4C3C4B52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BB64-3E0D-4E2A-B67A-0DC01E21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9E53-DC1A-47BB-8D79-D39C5CD1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5A02-D9DD-4EC8-AAB2-C1152B83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43D8-F914-486F-8503-BF219FB9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43F6-01B0-48FF-9BB1-2DACC6EA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D690-D5FF-4AB6-932D-6C1D2A4A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CC91-E448-4121-BD7D-CC218E95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4E6A-9CCF-4DAA-A66D-F11F9422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B71F-5865-443C-AAC0-495BC721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3F45-D141-4C56-8A1C-B33FCB7E6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2B42-CB2B-4B9B-904D-C7C1FED8A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1665-C678-4C42-AC3D-64E61D8C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09C8-9987-4559-9922-F5E811CF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65CB-5112-4C0D-9962-5B744CD8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7AA0-CB9D-46FE-A7B9-5D8EECFB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5353-9607-4C8F-B240-E810E56A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9EAA-8DB7-4314-AC3C-D7E47F49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D83B-1221-4B87-A672-C4C1A04C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ADE4-FABD-4618-84DA-0AA0D6D04E8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039E-A9CA-4E79-827E-54EAFD60C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image" Target="../media/image13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3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12192120" cy="6845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-71280" y="-55440"/>
            <a:ext cx="12452040" cy="6999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340000" y="158760"/>
            <a:ext cx="112680" cy="114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3600" y="-17640"/>
            <a:ext cx="422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7515360" y="1355760"/>
            <a:ext cx="447984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4680" y="0"/>
            <a:ext cx="12287160" cy="68961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759720" y="3286080"/>
            <a:ext cx="2760480" cy="1133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861240" y="3546360"/>
            <a:ext cx="4575240" cy="1343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854760" y="2381400"/>
            <a:ext cx="4576680" cy="1342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6854760" y="2770200"/>
            <a:ext cx="4575240" cy="1343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28440" y="-11160"/>
            <a:ext cx="7378920" cy="5121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919680" y="2857680"/>
            <a:ext cx="361476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900" spc="-1" strike="noStrike">
                <a:solidFill>
                  <a:srgbClr val="ffffff"/>
                </a:solidFill>
                <a:latin typeface="Calibri"/>
                <a:ea typeface="文鼎火柴体"/>
              </a:rPr>
              <a:t>演 讲 目 录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169040" y="2789280"/>
            <a:ext cx="3870360" cy="17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压历山大的社会现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安安然，悠然愉悦的心情制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7165800" y="3557520"/>
            <a:ext cx="452916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随心自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择机所需，在工作中也如鱼得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65160" y="-255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Text Placeholder 2" descr=""/>
          <p:cNvPicPr/>
          <p:nvPr/>
        </p:nvPicPr>
        <p:blipFill>
          <a:blip r:embed="rId7"/>
          <a:stretch/>
        </p:blipFill>
        <p:spPr>
          <a:xfrm>
            <a:off x="2333520" y="150840"/>
            <a:ext cx="120600" cy="1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924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802640" y="1190520"/>
            <a:ext cx="4357440" cy="2262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575160" y="1846440"/>
            <a:ext cx="5371920" cy="2939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5160" y="-111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2333520" y="179280"/>
            <a:ext cx="120600" cy="119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448160" y="1593720"/>
            <a:ext cx="467028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013555"/>
                </a:solidFill>
                <a:latin typeface="浪漫雅圆"/>
              </a:rPr>
              <a:t>PA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013555"/>
                </a:solidFill>
                <a:latin typeface="浪漫雅圆"/>
              </a:rPr>
              <a:t>RT.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6355800" y="870120"/>
            <a:ext cx="181584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500" spc="-1" strike="noStrike">
                <a:solidFill>
                  <a:srgbClr val="013555"/>
                </a:solidFill>
                <a:latin typeface="浪漫雅圆"/>
              </a:rPr>
              <a:t>1</a:t>
            </a:r>
            <a:endParaRPr b="0" lang="en-US" sz="2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6727680" y="1746360"/>
            <a:ext cx="1376640" cy="2752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36360" y="2981160"/>
            <a:ext cx="3738600" cy="29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19080" y="-14400"/>
            <a:ext cx="12180960" cy="68803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5160" y="-255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333520" y="150840"/>
            <a:ext cx="120600" cy="119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335320" y="146160"/>
            <a:ext cx="118800" cy="120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854920" y="985680"/>
            <a:ext cx="294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13555"/>
                </a:solidFill>
                <a:latin typeface="Calibri"/>
                <a:ea typeface="文鼎火柴体"/>
              </a:rPr>
              <a:t>如何制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8982000" y="1824120"/>
            <a:ext cx="3571920" cy="33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姜太公垂钓的悠然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陶渊明“采菊东篱下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悠然见南山”的闲散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在当今社会已是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说。信息的极度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胀，与社会的浮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之气，已将人们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忍耐逼至死角。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何制造悠然自得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                  </a:t>
            </a: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心情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-17640" y="1098720"/>
            <a:ext cx="8899560" cy="4572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8740800" y="911160"/>
            <a:ext cx="2992320" cy="1050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10953720" y="1730520"/>
            <a:ext cx="81756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12192120" cy="6845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025880" y="555480"/>
            <a:ext cx="7743960" cy="5212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54000" y="1314360"/>
            <a:ext cx="294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13555"/>
                </a:solidFill>
                <a:latin typeface="Calibri"/>
                <a:ea typeface="文鼎火柴体"/>
              </a:rPr>
              <a:t>愉悦体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1397160" y="2124000"/>
            <a:ext cx="3571560" cy="33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轻松的方式有多种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不论是哪种，让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脑停止思考，以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个愉悦的状态迎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体验，是最适宜的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爱生活，爱工作，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不同状态的自己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适时调整，重装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发。生活其实是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场修行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4994280" y="5222880"/>
            <a:ext cx="66769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音乐，电影，大海，访友，旅行，放松的不只是心情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65160" y="-255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335320" y="146160"/>
            <a:ext cx="118800" cy="120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853920" y="1254240"/>
            <a:ext cx="2948040" cy="1035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5143680" y="1028880"/>
            <a:ext cx="5160960" cy="4122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692280" y="1938240"/>
            <a:ext cx="85716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-6480" y="-12600"/>
            <a:ext cx="12322440" cy="6906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5160" y="-255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335320" y="146160"/>
            <a:ext cx="118800" cy="120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412120" y="884160"/>
            <a:ext cx="294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13555"/>
                </a:solidFill>
                <a:latin typeface="Calibri"/>
                <a:ea typeface="文鼎火柴体"/>
              </a:rPr>
              <a:t>随心自得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8837640" y="1857240"/>
            <a:ext cx="182556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Calibri"/>
                <a:ea typeface="微软雅黑"/>
              </a:rPr>
              <a:t>没有人一直处于逆境或顺境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Calibri"/>
                <a:ea typeface="微软雅黑"/>
              </a:rPr>
              <a:t>将自己的身心收放自如，处惊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Calibri"/>
                <a:ea typeface="微软雅黑"/>
              </a:rPr>
              <a:t>之不变。困闲世之蛰伏，佛曰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Calibri"/>
                <a:ea typeface="微软雅黑"/>
              </a:rPr>
              <a:t>心不动，人不妄动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8325000" y="809640"/>
            <a:ext cx="294768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0450440" y="1687680"/>
            <a:ext cx="817560" cy="3659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-4680" y="1771560"/>
            <a:ext cx="123188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12192120" cy="6896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5160" y="-255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335320" y="146160"/>
            <a:ext cx="118800" cy="120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197840" y="1285920"/>
            <a:ext cx="29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13555"/>
                </a:solidFill>
                <a:latin typeface="Calibri"/>
                <a:ea typeface="文鼎火柴体"/>
              </a:rPr>
              <a:t>如鱼得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7170840" y="3241800"/>
            <a:ext cx="474012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自信在自卑之上，在自负之下。知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者智，自知者明，了解自己，完善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我，自信来源于你内心强大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>
            <a:off x="7156440" y="2197080"/>
            <a:ext cx="474012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如鱼得水，不是因为鱼儿的安安然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在适应环境的同时，有效的利用现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环境，在自己的原则内，扬马驰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>
            <a:off x="7183440" y="4275000"/>
            <a:ext cx="474012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藏锋守拙，却也要适时的张扬自我，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时务者为俊杰，创造时机，把握时机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做个职场聪明人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7081920" y="1222200"/>
            <a:ext cx="2948040" cy="1035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6380280" y="2019240"/>
            <a:ext cx="817560" cy="36608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492120" y="1079640"/>
            <a:ext cx="11676240" cy="56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12192120" cy="6897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-30240" y="-57240"/>
            <a:ext cx="12254040" cy="5154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5160" y="-237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2335320" y="160200"/>
            <a:ext cx="118800" cy="119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2855880" y="4238640"/>
            <a:ext cx="3570480" cy="1641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1844640" y="1212840"/>
            <a:ext cx="949500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-20520" y="-17640"/>
            <a:ext cx="12266640" cy="6883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176480" y="1228680"/>
            <a:ext cx="10171080" cy="4200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5160" y="-93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SU    LA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2335320" y="189000"/>
            <a:ext cx="118800" cy="118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894120" y="1335240"/>
            <a:ext cx="13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Calibri"/>
                <a:ea typeface="文鼎火柴体"/>
              </a:rPr>
              <a:t>感</a:t>
            </a:r>
            <a:r>
              <a:rPr b="0" lang="zh-CN" sz="8000" spc="-1" strike="noStrike">
                <a:solidFill>
                  <a:srgbClr val="013555"/>
                </a:solidFill>
                <a:latin typeface="Calibri"/>
                <a:ea typeface="文鼎火柴体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/>
          <p:nvPr/>
        </p:nvSpPr>
        <p:spPr>
          <a:xfrm>
            <a:off x="4984920" y="1336680"/>
            <a:ext cx="13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Calibri"/>
                <a:ea typeface="文鼎火柴体"/>
              </a:rPr>
              <a:t>谢</a:t>
            </a:r>
            <a:r>
              <a:rPr b="0" lang="zh-CN" sz="8000" spc="-1" strike="noStrike">
                <a:solidFill>
                  <a:srgbClr val="013555"/>
                </a:solidFill>
                <a:latin typeface="Calibri"/>
                <a:ea typeface="文鼎火柴体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/>
          <p:nvPr/>
        </p:nvSpPr>
        <p:spPr>
          <a:xfrm>
            <a:off x="6056280" y="1338120"/>
            <a:ext cx="13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Calibri"/>
                <a:ea typeface="文鼎火柴体"/>
              </a:rPr>
              <a:t>关</a:t>
            </a:r>
            <a:r>
              <a:rPr b="0" lang="zh-CN" sz="8000" spc="-1" strike="noStrike">
                <a:solidFill>
                  <a:srgbClr val="013555"/>
                </a:solidFill>
                <a:latin typeface="Calibri"/>
                <a:ea typeface="文鼎火柴体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121520" y="1338120"/>
            <a:ext cx="13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Calibri"/>
                <a:ea typeface="文鼎火柴体"/>
              </a:rPr>
              <a:t>注</a:t>
            </a:r>
            <a:r>
              <a:rPr b="0" lang="zh-CN" sz="8000" spc="-1" strike="noStrike">
                <a:solidFill>
                  <a:srgbClr val="013555"/>
                </a:solidFill>
                <a:latin typeface="Calibri"/>
                <a:ea typeface="文鼎火柴体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3637080" y="2505240"/>
            <a:ext cx="524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浪漫雅圆"/>
              </a:rPr>
              <a:t>THANK YOU F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4194000" y="3044880"/>
            <a:ext cx="524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浪漫雅圆"/>
              </a:rPr>
              <a:t>YOUR ATTEN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asus</dc:creator>
  <dc:description/>
  <dc:language>en-US</dc:language>
  <cp:lastModifiedBy>zuazua W</cp:lastModifiedBy>
  <dcterms:modified xsi:type="dcterms:W3CDTF">2015-01-07T08:55:3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