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5F6-1693-44D9-84CE-B3B3DBB3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A48-7D6D-423C-A5A0-DACDE93A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047-20C9-4188-B1F1-055B53B2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069-A808-435E-9FA8-28F6F4FA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6B2-AEE2-4725-9015-85B3F680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077-765C-4CE2-96DB-A9A13338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300-5622-476C-801D-CED39989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8B3-5C83-4D4B-A575-882FE70A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1CD-05EC-41EE-B164-6D1DB088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215-BFEF-4D1E-8FC7-2B70F9B3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0A2-5F68-4ECA-BB95-F39D529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542-D299-465C-9B6C-028F798A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422-B4B9-4F4A-A82D-5F1919AC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无标题"/>
          <p:cNvPicPr/>
          <p:nvPr/>
        </p:nvPicPr>
        <p:blipFill>
          <a:blip r:embed="rId1"/>
          <a:stretch/>
        </p:blipFill>
        <p:spPr>
          <a:xfrm>
            <a:off x="1692360" y="105264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0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8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7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45:51Z</dcterms:created>
  <dc:creator>User</dc:creator>
  <dc:description/>
  <dc:language>en-US</dc:language>
  <cp:lastModifiedBy>zjp888</cp:lastModifiedBy>
  <dcterms:modified xsi:type="dcterms:W3CDTF">2012-01-01T06:43:24Z</dcterms:modified>
  <cp:revision>4</cp:revision>
  <dc:subject/>
  <dc:title>锐得PPT论坛独家收集</dc:title>
</cp:coreProperties>
</file>