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4B43-05D6-4375-AE74-1776CBD5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6E93-58B9-4042-B3DA-03F7B58D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DE9B-5398-44F2-AE33-043295F2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585F-4568-410F-8B80-853A21A4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690-D47C-4045-AAF8-A9935A61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DC7-0B60-487C-95C8-C1B52E23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D7CA-3190-4F2F-B219-9E71C69C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FD56-5F02-4BE3-90CF-770BD7E2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E03-9E03-4CD3-BEED-C7FDE3F8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B5A9-42C7-4B65-94EE-59463BFD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3AB5-7FCC-4CE0-8C90-4823E49F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3C9F-7542-4203-AAD6-C69C7FB7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D7EE-8800-40AE-B6F3-4E065F882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2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无标题"/>
          <p:cNvPicPr/>
          <p:nvPr/>
        </p:nvPicPr>
        <p:blipFill>
          <a:blip r:embed="rId1"/>
          <a:stretch/>
        </p:blipFill>
        <p:spPr>
          <a:xfrm>
            <a:off x="1692360" y="105264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10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9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8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7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6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5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6:45:51Z</dcterms:created>
  <dc:creator>User</dc:creator>
  <dc:description/>
  <dc:language>en-US</dc:language>
  <cp:lastModifiedBy>zjp888</cp:lastModifiedBy>
  <dcterms:modified xsi:type="dcterms:W3CDTF">2012-01-01T06:43:24Z</dcterms:modified>
  <cp:revision>4</cp:revision>
  <dc:subject/>
  <dc:title>锐得PPT论坛独家收集</dc:title>
</cp:coreProperties>
</file>