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5.png" ContentType="image/png"/>
  <Override PartName="/ppt/media/image35.png" ContentType="image/png"/>
  <Override PartName="/ppt/media/image17.png" ContentType="image/png"/>
  <Override PartName="/ppt/media/image32.jpeg" ContentType="image/jpeg"/>
  <Override PartName="/ppt/media/image11.png" ContentType="image/png"/>
  <Override PartName="/ppt/media/image7.png" ContentType="image/png"/>
  <Override PartName="/ppt/media/image8.png" ContentType="image/png"/>
  <Override PartName="/ppt/media/image9.png" ContentType="image/png"/>
  <Override PartName="/ppt/media/image31.jpeg" ContentType="image/jpeg"/>
  <Override PartName="/ppt/media/image2.png" ContentType="image/png"/>
  <Override PartName="/ppt/media/image25.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17A19-C536-4274-A4CB-C7E29B850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7B4D1-124F-469A-9B9B-ABF353C42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98B1C-0882-43E2-A670-91CD15074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B70C7-3587-4489-829E-F54B8753D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E481C-85DE-481A-8CFE-C934BD3248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73E0D-1994-4AF7-A9F3-DBF9F4AF1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350AB-B64B-4A79-B638-27931F8A7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42373-B77A-4E3E-95BA-B7CDBDAE9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F4141-2836-4CC3-BCE8-CB3A460F4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48DB6-029C-4910-99A2-A728CDB58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E2582-5065-48EF-B411-56460F511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DDC1C-5BE1-42FE-9E58-435E5C7D0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180C6-F25B-461B-8042-913745700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C8124-26E4-44EA-B0B1-27384BCEC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508D9-9363-426B-8F12-9386F8BB2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FF7BA-6B65-4FBE-9C9C-D63C2E88E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91753-AEAA-4E15-9CC2-B09F44FCD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945971-10E9-4576-B6F7-7C586A55EF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F69E62-CD58-4258-BFCD-302D76FEB9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4128BE-1020-4D04-BDD3-828DBD7EF3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9D310D-503B-427E-B8EA-1C399D8C4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F596DC-434B-449E-9E12-A392CB4E33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2BB1C-AF5B-43DA-9B53-02B0939F5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E6FA2-2AFA-43D7-BE47-21151C7855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2511A7-0040-4DAD-84E4-36324A757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B172D-2828-43B3-A65B-67A7F77943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36312A-307E-46BE-BF0D-D87CBFD2BD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86B464-7BF1-4E23-AC37-543E8CABCA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F2FEE0-22A7-477A-94E7-90A251AF14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6A3974-010D-43F9-9FD4-345E985FAD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8148DA-462F-4B9C-A3E9-CA192663B6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28A21F-A938-4FCF-887C-2212E802F6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9E84B9-EC4A-4CBE-93C3-BEB3AAE2B6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ED735-0BF0-4947-8DD4-62E4E0997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D566D4-FC95-41F8-9C89-7B38934331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3B079D-44E0-4477-B258-28436781ED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5E7760-35B8-4E03-9AAD-D9F2DE9366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3A45A6-4254-462E-915B-24B9E1721F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2ADB00-1225-4059-A932-4F34D9165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277D4A-56EE-475B-B3C6-E86CF7009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5FCED5-C865-48C3-91AA-2A5726F2F5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CFDD38-F189-4AB4-B377-0AEFCCCD09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3A8050-63CD-43C7-8C43-DDCDB4694E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D101E-2376-43A2-A113-1BAE8FD1B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767D1-83E7-483C-8455-A300D2DD0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0466B-351E-48EA-B5FB-E999FA378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C385D-B7DA-410C-8ECB-E19C199AA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EEFC9-A467-42CD-98F3-A26EA0CFF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B429-5A35-471A-B2BA-2EE09BFF1EB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F95C-1EAB-4733-88F5-BC8DF009285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6"/>
          <p:cNvSpPr/>
          <p:nvPr/>
        </p:nvSpPr>
        <p:spPr>
          <a:xfrm>
            <a:off x="0" y="-38160"/>
            <a:ext cx="12192120" cy="689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4"/>
          <p:cNvSpPr>
            <a:spLocks noGrp="1"/>
          </p:cNvSpPr>
          <p:nvPr>
            <p:ph type="ftr" idx="8"/>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5F60-16FF-40AF-8A8F-E8748988569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6"/>
          <p:cNvSpPr/>
          <p:nvPr/>
        </p:nvSpPr>
        <p:spPr>
          <a:xfrm>
            <a:off x="0" y="0"/>
            <a:ext cx="158760" cy="17319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矩形 7"/>
          <p:cNvSpPr/>
          <p:nvPr/>
        </p:nvSpPr>
        <p:spPr>
          <a:xfrm>
            <a:off x="0" y="1731960"/>
            <a:ext cx="158760" cy="169704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矩形 8"/>
          <p:cNvSpPr/>
          <p:nvPr/>
        </p:nvSpPr>
        <p:spPr>
          <a:xfrm>
            <a:off x="0" y="3429000"/>
            <a:ext cx="158760" cy="1731960"/>
          </a:xfrm>
          <a:prstGeom prst="rect">
            <a:avLst/>
          </a:prstGeom>
          <a:solidFill>
            <a:srgbClr val="0091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矩形 9"/>
          <p:cNvSpPr/>
          <p:nvPr/>
        </p:nvSpPr>
        <p:spPr>
          <a:xfrm>
            <a:off x="0" y="5160960"/>
            <a:ext cx="158760" cy="169704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矩形 10"/>
          <p:cNvSpPr/>
          <p:nvPr/>
        </p:nvSpPr>
        <p:spPr>
          <a:xfrm>
            <a:off x="12033360" y="0"/>
            <a:ext cx="158760" cy="1731960"/>
          </a:xfrm>
          <a:prstGeom prst="rect">
            <a:avLst/>
          </a:prstGeom>
          <a:solidFill>
            <a:srgbClr val="67a1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11"/>
          <p:cNvSpPr/>
          <p:nvPr/>
        </p:nvSpPr>
        <p:spPr>
          <a:xfrm>
            <a:off x="12033360" y="1731960"/>
            <a:ext cx="158760" cy="169704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矩形 12"/>
          <p:cNvSpPr/>
          <p:nvPr/>
        </p:nvSpPr>
        <p:spPr>
          <a:xfrm>
            <a:off x="12033360" y="3429000"/>
            <a:ext cx="158760" cy="17319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矩形 13"/>
          <p:cNvSpPr/>
          <p:nvPr/>
        </p:nvSpPr>
        <p:spPr>
          <a:xfrm>
            <a:off x="12033360" y="5160960"/>
            <a:ext cx="158760" cy="169704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矩形 14"/>
          <p:cNvSpPr/>
          <p:nvPr/>
        </p:nvSpPr>
        <p:spPr>
          <a:xfrm>
            <a:off x="158760" y="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矩形 15"/>
          <p:cNvSpPr/>
          <p:nvPr/>
        </p:nvSpPr>
        <p:spPr>
          <a:xfrm>
            <a:off x="2487600" y="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矩形 16"/>
          <p:cNvSpPr/>
          <p:nvPr/>
        </p:nvSpPr>
        <p:spPr>
          <a:xfrm>
            <a:off x="4816440" y="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矩形 17"/>
          <p:cNvSpPr/>
          <p:nvPr/>
        </p:nvSpPr>
        <p:spPr>
          <a:xfrm>
            <a:off x="7229520" y="0"/>
            <a:ext cx="231624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18"/>
          <p:cNvSpPr/>
          <p:nvPr/>
        </p:nvSpPr>
        <p:spPr>
          <a:xfrm>
            <a:off x="9545760" y="0"/>
            <a:ext cx="248760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矩形 19"/>
          <p:cNvSpPr/>
          <p:nvPr/>
        </p:nvSpPr>
        <p:spPr>
          <a:xfrm>
            <a:off x="146160" y="671184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20"/>
          <p:cNvSpPr/>
          <p:nvPr/>
        </p:nvSpPr>
        <p:spPr>
          <a:xfrm>
            <a:off x="2475000" y="671184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矩形 21"/>
          <p:cNvSpPr/>
          <p:nvPr/>
        </p:nvSpPr>
        <p:spPr>
          <a:xfrm>
            <a:off x="4803840" y="671184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矩形 22"/>
          <p:cNvSpPr/>
          <p:nvPr/>
        </p:nvSpPr>
        <p:spPr>
          <a:xfrm>
            <a:off x="7216920" y="6711840"/>
            <a:ext cx="231768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矩形 23"/>
          <p:cNvSpPr/>
          <p:nvPr/>
        </p:nvSpPr>
        <p:spPr>
          <a:xfrm>
            <a:off x="9534600" y="6711840"/>
            <a:ext cx="249876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5" name="PlaceHolder 3"/>
          <p:cNvSpPr>
            <a:spLocks noGrp="1"/>
          </p:cNvSpPr>
          <p:nvPr>
            <p:ph type="dt" idx="10"/>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PlaceHolder 4"/>
          <p:cNvSpPr>
            <a:spLocks noGrp="1"/>
          </p:cNvSpPr>
          <p:nvPr>
            <p:ph type="ftr" idx="11"/>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laceHolder 5"/>
          <p:cNvSpPr>
            <a:spLocks noGrp="1"/>
          </p:cNvSpPr>
          <p:nvPr>
            <p:ph type="sldNum" idx="12"/>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141A-C5E6-49B8-887A-019AD0290DB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13.jpeg"/><Relationship Id="rId5"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矩形 1"/>
          <p:cNvSpPr/>
          <p:nvPr/>
        </p:nvSpPr>
        <p:spPr>
          <a:xfrm>
            <a:off x="3225240" y="6089760"/>
            <a:ext cx="64274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    答辩人：理工大    时间：</a:t>
            </a:r>
            <a:r>
              <a:rPr b="0" lang="en-US" sz="1800" spc="-1" strike="noStrike">
                <a:solidFill>
                  <a:srgbClr val="ffffff"/>
                </a:solidFill>
                <a:latin typeface="微软雅黑"/>
                <a:ea typeface="微软雅黑"/>
              </a:rPr>
              <a:t>2015.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Calibri"/>
            </a:endParaRPr>
          </a:p>
        </p:txBody>
      </p:sp>
      <p:sp>
        <p:nvSpPr>
          <p:cNvPr id="185" name="矩形 7"/>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
        <p:nvSpPr>
          <p:cNvPr id="186" name="矩形 10"/>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Calibri"/>
            </a:endParaRPr>
          </a:p>
        </p:txBody>
      </p:sp>
      <p:sp>
        <p:nvSpPr>
          <p:cNvPr id="187" name="矩形 4"/>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组合 1"/>
          <p:cNvGrpSpPr/>
          <p:nvPr/>
        </p:nvGrpSpPr>
        <p:grpSpPr>
          <a:xfrm>
            <a:off x="2253960" y="2300400"/>
            <a:ext cx="7553520" cy="1442880"/>
            <a:chOff x="2253960" y="2300400"/>
            <a:chExt cx="7553520" cy="1442880"/>
          </a:xfrm>
        </p:grpSpPr>
        <p:sp>
          <p:nvSpPr>
            <p:cNvPr id="347" name="直接连接符 2"/>
            <p:cNvSpPr/>
            <p:nvPr/>
          </p:nvSpPr>
          <p:spPr>
            <a:xfrm>
              <a:off x="2254320" y="2932200"/>
              <a:ext cx="75531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48" name="直接箭头连接符 3"/>
            <p:cNvCxnSpPr/>
            <p:nvPr/>
          </p:nvCxnSpPr>
          <p:spPr>
            <a:xfrm>
              <a:off x="2253960" y="2931840"/>
              <a:ext cx="1080" cy="811800"/>
            </a:xfrm>
            <a:prstGeom prst="straightConnector1">
              <a:avLst/>
            </a:prstGeom>
            <a:ln w="6480">
              <a:solidFill>
                <a:srgbClr val="7f7f7f"/>
              </a:solidFill>
              <a:miter/>
              <a:tailEnd len="med" type="arrow" w="med"/>
            </a:ln>
          </p:spPr>
        </p:cxnSp>
        <p:cxnSp>
          <p:nvCxnSpPr>
            <p:cNvPr id="349" name="直接箭头连接符 4"/>
            <p:cNvCxnSpPr/>
            <p:nvPr/>
          </p:nvCxnSpPr>
          <p:spPr>
            <a:xfrm>
              <a:off x="4797000" y="2931840"/>
              <a:ext cx="1080" cy="811800"/>
            </a:xfrm>
            <a:prstGeom prst="straightConnector1">
              <a:avLst/>
            </a:prstGeom>
            <a:ln w="6480">
              <a:solidFill>
                <a:srgbClr val="7f7f7f"/>
              </a:solidFill>
              <a:miter/>
              <a:tailEnd len="med" type="arrow" w="med"/>
            </a:ln>
          </p:spPr>
        </p:cxnSp>
        <p:cxnSp>
          <p:nvCxnSpPr>
            <p:cNvPr id="350" name="直接箭头连接符 5"/>
            <p:cNvCxnSpPr/>
            <p:nvPr/>
          </p:nvCxnSpPr>
          <p:spPr>
            <a:xfrm>
              <a:off x="7443360" y="2931840"/>
              <a:ext cx="1080" cy="811800"/>
            </a:xfrm>
            <a:prstGeom prst="straightConnector1">
              <a:avLst/>
            </a:prstGeom>
            <a:ln w="6480">
              <a:solidFill>
                <a:srgbClr val="7f7f7f"/>
              </a:solidFill>
              <a:miter/>
              <a:tailEnd len="med" type="arrow" w="med"/>
            </a:ln>
          </p:spPr>
        </p:cxnSp>
        <p:cxnSp>
          <p:nvCxnSpPr>
            <p:cNvPr id="351" name="直接箭头连接符 6"/>
            <p:cNvCxnSpPr/>
            <p:nvPr/>
          </p:nvCxnSpPr>
          <p:spPr>
            <a:xfrm>
              <a:off x="9804240" y="2931840"/>
              <a:ext cx="1080" cy="811800"/>
            </a:xfrm>
            <a:prstGeom prst="straightConnector1">
              <a:avLst/>
            </a:prstGeom>
            <a:ln w="6480">
              <a:solidFill>
                <a:srgbClr val="7f7f7f"/>
              </a:solidFill>
              <a:miter/>
              <a:tailEnd len="med" type="arrow" w="med"/>
            </a:ln>
          </p:spPr>
        </p:cxnSp>
        <p:sp>
          <p:nvSpPr>
            <p:cNvPr id="352" name="直接连接符 7"/>
            <p:cNvSpPr/>
            <p:nvPr/>
          </p:nvSpPr>
          <p:spPr>
            <a:xfrm>
              <a:off x="6110280" y="2300400"/>
              <a:ext cx="0" cy="63180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53" name="TextBox 29"/>
          <p:cNvSpPr/>
          <p:nvPr/>
        </p:nvSpPr>
        <p:spPr>
          <a:xfrm>
            <a:off x="911160" y="454032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4" name="TextBox 30"/>
          <p:cNvSpPr/>
          <p:nvPr/>
        </p:nvSpPr>
        <p:spPr>
          <a:xfrm>
            <a:off x="3435480" y="454032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5" name="TextBox 31"/>
          <p:cNvSpPr/>
          <p:nvPr/>
        </p:nvSpPr>
        <p:spPr>
          <a:xfrm>
            <a:off x="605160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6" name="TextBox 32"/>
          <p:cNvSpPr/>
          <p:nvPr/>
        </p:nvSpPr>
        <p:spPr>
          <a:xfrm>
            <a:off x="875664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pic>
        <p:nvPicPr>
          <p:cNvPr id="357" name="组合 14" descr=""/>
          <p:cNvPicPr/>
          <p:nvPr/>
        </p:nvPicPr>
        <p:blipFill>
          <a:blip r:embed="rId1"/>
          <a:stretch/>
        </p:blipFill>
        <p:spPr>
          <a:xfrm>
            <a:off x="4643280" y="1577880"/>
            <a:ext cx="2905200" cy="722520"/>
          </a:xfrm>
          <a:prstGeom prst="rect">
            <a:avLst/>
          </a:prstGeom>
          <a:ln w="0">
            <a:noFill/>
          </a:ln>
        </p:spPr>
      </p:pic>
      <p:pic>
        <p:nvPicPr>
          <p:cNvPr id="358" name="组合 17" descr=""/>
          <p:cNvPicPr/>
          <p:nvPr/>
        </p:nvPicPr>
        <p:blipFill>
          <a:blip r:embed="rId2"/>
          <a:stretch/>
        </p:blipFill>
        <p:spPr>
          <a:xfrm>
            <a:off x="1000080" y="3743280"/>
            <a:ext cx="2386080" cy="720720"/>
          </a:xfrm>
          <a:prstGeom prst="rect">
            <a:avLst/>
          </a:prstGeom>
          <a:ln w="0">
            <a:noFill/>
          </a:ln>
        </p:spPr>
      </p:pic>
      <p:pic>
        <p:nvPicPr>
          <p:cNvPr id="359" name="组合 20" descr=""/>
          <p:cNvPicPr/>
          <p:nvPr/>
        </p:nvPicPr>
        <p:blipFill>
          <a:blip r:embed="rId3"/>
          <a:stretch/>
        </p:blipFill>
        <p:spPr>
          <a:xfrm>
            <a:off x="3575160" y="3743280"/>
            <a:ext cx="2384280" cy="720720"/>
          </a:xfrm>
          <a:prstGeom prst="rect">
            <a:avLst/>
          </a:prstGeom>
          <a:ln w="0">
            <a:noFill/>
          </a:ln>
        </p:spPr>
      </p:pic>
      <p:pic>
        <p:nvPicPr>
          <p:cNvPr id="360" name="组合 23" descr=""/>
          <p:cNvPicPr/>
          <p:nvPr/>
        </p:nvPicPr>
        <p:blipFill>
          <a:blip r:embed="rId4"/>
          <a:stretch/>
        </p:blipFill>
        <p:spPr>
          <a:xfrm>
            <a:off x="6191280" y="3743280"/>
            <a:ext cx="2384280" cy="720720"/>
          </a:xfrm>
          <a:prstGeom prst="rect">
            <a:avLst/>
          </a:prstGeom>
          <a:ln w="0">
            <a:noFill/>
          </a:ln>
        </p:spPr>
      </p:pic>
      <p:pic>
        <p:nvPicPr>
          <p:cNvPr id="361" name="组合 26" descr=""/>
          <p:cNvPicPr/>
          <p:nvPr/>
        </p:nvPicPr>
        <p:blipFill>
          <a:blip r:embed="rId5"/>
          <a:stretch/>
        </p:blipFill>
        <p:spPr>
          <a:xfrm>
            <a:off x="8805960" y="3743280"/>
            <a:ext cx="2384280" cy="72072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矩形 5"/>
          <p:cNvSpPr/>
          <p:nvPr/>
        </p:nvSpPr>
        <p:spPr>
          <a:xfrm>
            <a:off x="5796000" y="-42840"/>
            <a:ext cx="600120" cy="6001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363" name="矩形 1"/>
          <p:cNvSpPr/>
          <p:nvPr/>
        </p:nvSpPr>
        <p:spPr>
          <a:xfrm>
            <a:off x="4979880" y="4281480"/>
            <a:ext cx="22291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362c4"/>
                </a:solidFill>
                <a:latin typeface="微软雅黑"/>
                <a:ea typeface="微软雅黑"/>
              </a:rPr>
              <a:t>研究目的</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62c4"/>
                </a:solidFill>
                <a:latin typeface="微软雅黑"/>
                <a:ea typeface="微软雅黑"/>
              </a:rPr>
              <a:t>Research Goal</a:t>
            </a:r>
            <a:endParaRPr b="0" lang="en-US" sz="2400" spc="-1" strike="noStrike">
              <a:solidFill>
                <a:srgbClr val="000000"/>
              </a:solidFill>
              <a:latin typeface="Calibri"/>
            </a:endParaRPr>
          </a:p>
        </p:txBody>
      </p:sp>
      <p:grpSp>
        <p:nvGrpSpPr>
          <p:cNvPr id="364" name="组合 9"/>
          <p:cNvGrpSpPr/>
          <p:nvPr/>
        </p:nvGrpSpPr>
        <p:grpSpPr>
          <a:xfrm>
            <a:off x="4886280" y="1436760"/>
            <a:ext cx="2432160" cy="2431800"/>
            <a:chOff x="4886280" y="1436760"/>
            <a:chExt cx="2432160" cy="2431800"/>
          </a:xfrm>
        </p:grpSpPr>
        <p:sp>
          <p:nvSpPr>
            <p:cNvPr id="365" name="KSO_Shape"/>
            <p:cNvSpPr/>
            <p:nvPr/>
          </p:nvSpPr>
          <p:spPr>
            <a:xfrm>
              <a:off x="5314680" y="1855800"/>
              <a:ext cx="1575000" cy="159372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椭圆 14"/>
            <p:cNvSpPr/>
            <p:nvPr/>
          </p:nvSpPr>
          <p:spPr>
            <a:xfrm>
              <a:off x="4886280" y="1436760"/>
              <a:ext cx="2432160" cy="243180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等腰三角形 1"/>
          <p:cNvSpPr/>
          <p:nvPr/>
        </p:nvSpPr>
        <p:spPr>
          <a:xfrm>
            <a:off x="8680320" y="1498680"/>
            <a:ext cx="1730520" cy="3209760"/>
          </a:xfrm>
          <a:prstGeom prst="triangle">
            <a:avLst>
              <a:gd name="adj" fmla="val 50000"/>
            </a:avLst>
          </a:prstGeom>
          <a:solidFill>
            <a:srgbClr val="09839b">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等腰三角形 2"/>
          <p:cNvSpPr/>
          <p:nvPr/>
        </p:nvSpPr>
        <p:spPr>
          <a:xfrm>
            <a:off x="1781280" y="2211480"/>
            <a:ext cx="1785960" cy="2460600"/>
          </a:xfrm>
          <a:prstGeom prst="triangle">
            <a:avLst>
              <a:gd name="adj" fmla="val 50000"/>
            </a:avLst>
          </a:prstGeom>
          <a:solidFill>
            <a:srgbClr val="f05a2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等腰三角形 3"/>
          <p:cNvSpPr/>
          <p:nvPr/>
        </p:nvSpPr>
        <p:spPr>
          <a:xfrm>
            <a:off x="3567240" y="2892600"/>
            <a:ext cx="1604880" cy="1815840"/>
          </a:xfrm>
          <a:prstGeom prst="triangle">
            <a:avLst>
              <a:gd name="adj" fmla="val 50000"/>
            </a:avLst>
          </a:prstGeom>
          <a:solidFill>
            <a:srgbClr val="179a4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等腰三角形 4"/>
          <p:cNvSpPr/>
          <p:nvPr/>
        </p:nvSpPr>
        <p:spPr>
          <a:xfrm>
            <a:off x="5143680" y="1898640"/>
            <a:ext cx="1768320" cy="2809800"/>
          </a:xfrm>
          <a:prstGeom prst="triangle">
            <a:avLst>
              <a:gd name="adj" fmla="val 50000"/>
            </a:avLst>
          </a:prstGeom>
          <a:solidFill>
            <a:srgbClr val="a362c4">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等腰三角形 5"/>
          <p:cNvSpPr/>
          <p:nvPr/>
        </p:nvSpPr>
        <p:spPr>
          <a:xfrm>
            <a:off x="6926400" y="2211480"/>
            <a:ext cx="1752480" cy="2496960"/>
          </a:xfrm>
          <a:prstGeom prst="triangle">
            <a:avLst>
              <a:gd name="adj" fmla="val 50000"/>
            </a:avLst>
          </a:prstGeom>
          <a:solidFill>
            <a:srgbClr val="faaf3b">
              <a:alpha val="8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矩形 6"/>
          <p:cNvSpPr/>
          <p:nvPr/>
        </p:nvSpPr>
        <p:spPr>
          <a:xfrm>
            <a:off x="23670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3" name="矩形 7"/>
          <p:cNvSpPr/>
          <p:nvPr/>
        </p:nvSpPr>
        <p:spPr>
          <a:xfrm>
            <a:off x="410148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4" name="矩形 8"/>
          <p:cNvSpPr/>
          <p:nvPr/>
        </p:nvSpPr>
        <p:spPr>
          <a:xfrm>
            <a:off x="5662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5" name="矩形 9"/>
          <p:cNvSpPr/>
          <p:nvPr/>
        </p:nvSpPr>
        <p:spPr>
          <a:xfrm>
            <a:off x="739944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6" name="矩形 10"/>
          <p:cNvSpPr/>
          <p:nvPr/>
        </p:nvSpPr>
        <p:spPr>
          <a:xfrm>
            <a:off x="9028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任意多边形 1"/>
          <p:cNvSpPr/>
          <p:nvPr/>
        </p:nvSpPr>
        <p:spPr>
          <a:xfrm>
            <a:off x="4832280" y="99216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000000"/>
              </a:solidFill>
              <a:latin typeface="Calibri"/>
            </a:endParaRPr>
          </a:p>
        </p:txBody>
      </p:sp>
      <p:sp>
        <p:nvSpPr>
          <p:cNvPr id="378" name="任意多边形 2"/>
          <p:cNvSpPr/>
          <p:nvPr/>
        </p:nvSpPr>
        <p:spPr>
          <a:xfrm>
            <a:off x="5207040" y="2913120"/>
            <a:ext cx="1030320" cy="1031760"/>
          </a:xfrm>
          <a:custGeom>
            <a:avLst/>
            <a:gdLst/>
            <a:ahLst/>
            <a:rect l="l" t="t" r="r" b="b"/>
            <a:pathLst>
              <a:path w="1030520" h="1030520">
                <a:moveTo>
                  <a:pt x="136595" y="394071"/>
                </a:moveTo>
                <a:lnTo>
                  <a:pt x="394071" y="394071"/>
                </a:lnTo>
                <a:lnTo>
                  <a:pt x="394071" y="136595"/>
                </a:lnTo>
                <a:lnTo>
                  <a:pt x="636449" y="136595"/>
                </a:lnTo>
                <a:lnTo>
                  <a:pt x="636449" y="394071"/>
                </a:lnTo>
                <a:lnTo>
                  <a:pt x="893925" y="394071"/>
                </a:lnTo>
                <a:lnTo>
                  <a:pt x="893925" y="636449"/>
                </a:lnTo>
                <a:lnTo>
                  <a:pt x="636449" y="636449"/>
                </a:lnTo>
                <a:lnTo>
                  <a:pt x="636449" y="893925"/>
                </a:lnTo>
                <a:lnTo>
                  <a:pt x="394071" y="893925"/>
                </a:lnTo>
                <a:lnTo>
                  <a:pt x="394071" y="636449"/>
                </a:lnTo>
                <a:lnTo>
                  <a:pt x="136595" y="636449"/>
                </a:lnTo>
                <a:lnTo>
                  <a:pt x="136595" y="394071"/>
                </a:lnTo>
                <a:close/>
              </a:path>
            </a:pathLst>
          </a:custGeom>
          <a:solidFill>
            <a:srgbClr val="d9d9d9"/>
          </a:solidFill>
          <a:ln w="0">
            <a:noFill/>
          </a:ln>
        </p:spPr>
        <p:style>
          <a:lnRef idx="0"/>
          <a:fillRef idx="0"/>
          <a:effectRef idx="0"/>
          <a:fontRef idx="minor"/>
        </p:style>
        <p:txBody>
          <a:bodyPr lIns="136440" rIns="136440" tIns="394200" bIns="39420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000000"/>
              </a:solidFill>
              <a:latin typeface="Calibri"/>
            </a:endParaRPr>
          </a:p>
        </p:txBody>
      </p:sp>
      <p:sp>
        <p:nvSpPr>
          <p:cNvPr id="379" name="任意多边形 3"/>
          <p:cNvSpPr/>
          <p:nvPr/>
        </p:nvSpPr>
        <p:spPr>
          <a:xfrm>
            <a:off x="4832280" y="408780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000000"/>
              </a:solidFill>
              <a:latin typeface="Calibri"/>
            </a:endParaRPr>
          </a:p>
        </p:txBody>
      </p:sp>
      <p:sp>
        <p:nvSpPr>
          <p:cNvPr id="380" name="任意多边形 4"/>
          <p:cNvSpPr/>
          <p:nvPr/>
        </p:nvSpPr>
        <p:spPr>
          <a:xfrm>
            <a:off x="6877080" y="3098880"/>
            <a:ext cx="565200" cy="660240"/>
          </a:xfrm>
          <a:custGeom>
            <a:avLst/>
            <a:gdLst/>
            <a:ahLst/>
            <a:rect l="l" t="t" r="r" b="b"/>
            <a:pathLst>
              <a:path w="565009" h="660954">
                <a:moveTo>
                  <a:pt x="0" y="132191"/>
                </a:moveTo>
                <a:lnTo>
                  <a:pt x="282505" y="132191"/>
                </a:lnTo>
                <a:lnTo>
                  <a:pt x="282505" y="0"/>
                </a:lnTo>
                <a:lnTo>
                  <a:pt x="565009" y="330477"/>
                </a:lnTo>
                <a:lnTo>
                  <a:pt x="282505" y="660954"/>
                </a:lnTo>
                <a:lnTo>
                  <a:pt x="282505" y="528763"/>
                </a:lnTo>
                <a:lnTo>
                  <a:pt x="0" y="528763"/>
                </a:lnTo>
                <a:lnTo>
                  <a:pt x="0" y="132191"/>
                </a:lnTo>
                <a:close/>
              </a:path>
            </a:pathLst>
          </a:custGeom>
          <a:solidFill>
            <a:srgbClr val="d9d9d9"/>
          </a:solidFill>
          <a:ln w="0">
            <a:noFill/>
          </a:ln>
        </p:spPr>
        <p:style>
          <a:lnRef idx="0"/>
          <a:fillRef idx="0"/>
          <a:effectRef idx="0"/>
          <a:fontRef idx="minor"/>
        </p:style>
        <p:txBody>
          <a:bodyPr lIns="0" rIns="169560" tIns="132120" bIns="13212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000000"/>
              </a:solidFill>
              <a:latin typeface="Calibri"/>
            </a:endParaRPr>
          </a:p>
        </p:txBody>
      </p:sp>
      <p:sp>
        <p:nvSpPr>
          <p:cNvPr id="381" name="任意多边形 5"/>
          <p:cNvSpPr/>
          <p:nvPr/>
        </p:nvSpPr>
        <p:spPr>
          <a:xfrm>
            <a:off x="7675560" y="1652760"/>
            <a:ext cx="3554280" cy="3552480"/>
          </a:xfrm>
          <a:custGeom>
            <a:avLst/>
            <a:gdLst/>
            <a:ahLst/>
            <a:rect l="l" t="t" r="r" b="b"/>
            <a:pathLst>
              <a:path w="3553517" h="3553517">
                <a:moveTo>
                  <a:pt x="0" y="1776759"/>
                </a:moveTo>
                <a:cubicBezTo>
                  <a:pt x="0" y="795482"/>
                  <a:pt x="795482" y="0"/>
                  <a:pt x="1776759" y="0"/>
                </a:cubicBezTo>
                <a:cubicBezTo>
                  <a:pt x="2758036" y="0"/>
                  <a:pt x="3553518" y="795482"/>
                  <a:pt x="3553518" y="1776759"/>
                </a:cubicBezTo>
                <a:cubicBezTo>
                  <a:pt x="3553518" y="2758036"/>
                  <a:pt x="2758036" y="3553518"/>
                  <a:pt x="1776759" y="3553518"/>
                </a:cubicBezTo>
                <a:cubicBezTo>
                  <a:pt x="795482" y="3553518"/>
                  <a:pt x="0" y="2758036"/>
                  <a:pt x="0" y="1776759"/>
                </a:cubicBezTo>
                <a:close/>
              </a:path>
            </a:pathLst>
          </a:custGeom>
          <a:solidFill>
            <a:srgbClr val="62c4bc"/>
          </a:solidFill>
          <a:ln w="12600">
            <a:solidFill>
              <a:srgbClr val="ffffff"/>
            </a:solidFill>
            <a:miter/>
          </a:ln>
        </p:spPr>
        <p:style>
          <a:lnRef idx="0"/>
          <a:fillRef idx="0"/>
          <a:effectRef idx="0"/>
          <a:fontRef idx="minor"/>
        </p:style>
        <p:txBody>
          <a:bodyPr lIns="603000" rIns="603000" tIns="603000" bIns="603000" anchor="ctr">
            <a:noAutofit/>
          </a:bodyPr>
          <a:p>
            <a:pPr algn="ctr">
              <a:lnSpc>
                <a:spcPct val="90000"/>
              </a:lnSpc>
              <a:spcAft>
                <a:spcPts val="2837"/>
              </a:spcAft>
              <a:tabLst>
                <a:tab algn="l" pos="0"/>
                <a:tab algn="l" pos="2889360"/>
                <a:tab algn="l" pos="5778360"/>
                <a:tab algn="l" pos="8667720"/>
              </a:tabLst>
            </a:pPr>
            <a:endParaRPr b="0" lang="en-US" sz="1800" spc="-1" strike="noStrike">
              <a:solidFill>
                <a:srgbClr val="000000"/>
              </a:solidFill>
              <a:latin typeface="Calibri"/>
            </a:endParaRPr>
          </a:p>
        </p:txBody>
      </p:sp>
      <p:sp>
        <p:nvSpPr>
          <p:cNvPr id="382" name="KSO_Shape"/>
          <p:cNvSpPr/>
          <p:nvPr/>
        </p:nvSpPr>
        <p:spPr>
          <a:xfrm>
            <a:off x="8391600" y="2257560"/>
            <a:ext cx="2122560" cy="234288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KSO_Shape"/>
          <p:cNvSpPr/>
          <p:nvPr/>
        </p:nvSpPr>
        <p:spPr>
          <a:xfrm>
            <a:off x="5227560" y="1397160"/>
            <a:ext cx="987480" cy="968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KSO_Shape"/>
          <p:cNvSpPr/>
          <p:nvPr/>
        </p:nvSpPr>
        <p:spPr>
          <a:xfrm>
            <a:off x="5129280" y="4352760"/>
            <a:ext cx="1185840" cy="12481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KSO_Shape"/>
          <p:cNvSpPr/>
          <p:nvPr/>
        </p:nvSpPr>
        <p:spPr>
          <a:xfrm>
            <a:off x="961920" y="1668600"/>
            <a:ext cx="735120" cy="7207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0983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KSO_Shape"/>
          <p:cNvSpPr/>
          <p:nvPr/>
        </p:nvSpPr>
        <p:spPr>
          <a:xfrm>
            <a:off x="987480" y="4486320"/>
            <a:ext cx="68400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TextBox 42"/>
          <p:cNvSpPr/>
          <p:nvPr/>
        </p:nvSpPr>
        <p:spPr>
          <a:xfrm>
            <a:off x="1920960" y="16527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88" name="TextBox 43"/>
          <p:cNvSpPr/>
          <p:nvPr/>
        </p:nvSpPr>
        <p:spPr>
          <a:xfrm>
            <a:off x="1920960" y="19670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389" name="TextBox 42"/>
          <p:cNvSpPr/>
          <p:nvPr/>
        </p:nvSpPr>
        <p:spPr>
          <a:xfrm>
            <a:off x="1895400" y="4356000"/>
            <a:ext cx="197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90" name="TextBox 43"/>
          <p:cNvSpPr/>
          <p:nvPr/>
        </p:nvSpPr>
        <p:spPr>
          <a:xfrm>
            <a:off x="1895400" y="467208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391" name="直接连接符 15"/>
          <p:cNvSpPr/>
          <p:nvPr/>
        </p:nvSpPr>
        <p:spPr>
          <a:xfrm>
            <a:off x="4292640" y="1298520"/>
            <a:ext cx="0" cy="41306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2" name="KSO_Shape"/>
          <p:cNvSpPr/>
          <p:nvPr/>
        </p:nvSpPr>
        <p:spPr>
          <a:xfrm>
            <a:off x="992160" y="3076560"/>
            <a:ext cx="674640" cy="72072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42"/>
          <p:cNvSpPr/>
          <p:nvPr/>
        </p:nvSpPr>
        <p:spPr>
          <a:xfrm>
            <a:off x="1847880" y="29433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94" name="TextBox 43"/>
          <p:cNvSpPr/>
          <p:nvPr/>
        </p:nvSpPr>
        <p:spPr>
          <a:xfrm>
            <a:off x="1847880" y="325764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任意多边形 2"/>
          <p:cNvSpPr/>
          <p:nvPr/>
        </p:nvSpPr>
        <p:spPr>
          <a:xfrm>
            <a:off x="3865680" y="2627280"/>
            <a:ext cx="141264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6a6a6"/>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6" name="任意多边形 3"/>
          <p:cNvSpPr/>
          <p:nvPr/>
        </p:nvSpPr>
        <p:spPr>
          <a:xfrm>
            <a:off x="4633920" y="12970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05a24"/>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7" name="任意多边形 4"/>
          <p:cNvSpPr/>
          <p:nvPr/>
        </p:nvSpPr>
        <p:spPr>
          <a:xfrm>
            <a:off x="4633920" y="39574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362c4"/>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8" name="任意多边形 5"/>
          <p:cNvSpPr/>
          <p:nvPr/>
        </p:nvSpPr>
        <p:spPr>
          <a:xfrm>
            <a:off x="6126120" y="12970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8bc53f"/>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9" name="任意多边形 6"/>
          <p:cNvSpPr/>
          <p:nvPr/>
        </p:nvSpPr>
        <p:spPr>
          <a:xfrm>
            <a:off x="6126120" y="39574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62c4bc"/>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400" name="任意多边形 7"/>
          <p:cNvSpPr/>
          <p:nvPr/>
        </p:nvSpPr>
        <p:spPr>
          <a:xfrm>
            <a:off x="6913440" y="26272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aaf3b"/>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401" name="KSO_Shape"/>
          <p:cNvSpPr/>
          <p:nvPr/>
        </p:nvSpPr>
        <p:spPr>
          <a:xfrm>
            <a:off x="4302000" y="3068640"/>
            <a:ext cx="538200" cy="72072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KSO_Shape"/>
          <p:cNvSpPr/>
          <p:nvPr/>
        </p:nvSpPr>
        <p:spPr>
          <a:xfrm>
            <a:off x="7259760" y="3068640"/>
            <a:ext cx="720720" cy="7207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KSO_Shape"/>
          <p:cNvSpPr/>
          <p:nvPr/>
        </p:nvSpPr>
        <p:spPr>
          <a:xfrm>
            <a:off x="6472080" y="4392720"/>
            <a:ext cx="72072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KSO_Shape"/>
          <p:cNvSpPr/>
          <p:nvPr/>
        </p:nvSpPr>
        <p:spPr>
          <a:xfrm>
            <a:off x="6472080" y="1746360"/>
            <a:ext cx="720720" cy="7189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KSO_Shape"/>
          <p:cNvSpPr/>
          <p:nvPr/>
        </p:nvSpPr>
        <p:spPr>
          <a:xfrm>
            <a:off x="5011560" y="1701720"/>
            <a:ext cx="628920" cy="7192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KSO_Shape"/>
          <p:cNvSpPr/>
          <p:nvPr/>
        </p:nvSpPr>
        <p:spPr>
          <a:xfrm>
            <a:off x="4979880" y="4392720"/>
            <a:ext cx="719280" cy="71892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close/>
                <a:moveTo>
                  <a:pt x="3704648" y="908397"/>
                </a:moveTo>
                <a:lnTo>
                  <a:pt x="2413156" y="1136122"/>
                </a:lnTo>
                <a:lnTo>
                  <a:pt x="3048940" y="2044116"/>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TextBox 42"/>
          <p:cNvSpPr/>
          <p:nvPr/>
        </p:nvSpPr>
        <p:spPr>
          <a:xfrm>
            <a:off x="2246400" y="1571760"/>
            <a:ext cx="1977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08" name="TextBox 43"/>
          <p:cNvSpPr/>
          <p:nvPr/>
        </p:nvSpPr>
        <p:spPr>
          <a:xfrm>
            <a:off x="2063880" y="188604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09" name="TextBox 42"/>
          <p:cNvSpPr/>
          <p:nvPr/>
        </p:nvSpPr>
        <p:spPr>
          <a:xfrm>
            <a:off x="2181240" y="437832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0" name="TextBox 43"/>
          <p:cNvSpPr/>
          <p:nvPr/>
        </p:nvSpPr>
        <p:spPr>
          <a:xfrm>
            <a:off x="1996920" y="4692600"/>
            <a:ext cx="216072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1" name="TextBox 42"/>
          <p:cNvSpPr/>
          <p:nvPr/>
        </p:nvSpPr>
        <p:spPr>
          <a:xfrm>
            <a:off x="7980480" y="43545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2" name="TextBox 43"/>
          <p:cNvSpPr/>
          <p:nvPr/>
        </p:nvSpPr>
        <p:spPr>
          <a:xfrm>
            <a:off x="7980480" y="46688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3" name="TextBox 42"/>
          <p:cNvSpPr/>
          <p:nvPr/>
        </p:nvSpPr>
        <p:spPr>
          <a:xfrm>
            <a:off x="8672400" y="298764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4" name="TextBox 43"/>
          <p:cNvSpPr/>
          <p:nvPr/>
        </p:nvSpPr>
        <p:spPr>
          <a:xfrm>
            <a:off x="8672400" y="330372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5" name="TextBox 42"/>
          <p:cNvSpPr/>
          <p:nvPr/>
        </p:nvSpPr>
        <p:spPr>
          <a:xfrm>
            <a:off x="7885080" y="163368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6" name="TextBox 43"/>
          <p:cNvSpPr/>
          <p:nvPr/>
        </p:nvSpPr>
        <p:spPr>
          <a:xfrm>
            <a:off x="7885080" y="194796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7" name="TextBox 42"/>
          <p:cNvSpPr/>
          <p:nvPr/>
        </p:nvSpPr>
        <p:spPr>
          <a:xfrm>
            <a:off x="1542960" y="301608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8" name="TextBox 43"/>
          <p:cNvSpPr/>
          <p:nvPr/>
        </p:nvSpPr>
        <p:spPr>
          <a:xfrm>
            <a:off x="1359000" y="333072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组合 1"/>
          <p:cNvGrpSpPr/>
          <p:nvPr/>
        </p:nvGrpSpPr>
        <p:grpSpPr>
          <a:xfrm>
            <a:off x="4691160" y="1144440"/>
            <a:ext cx="6356160" cy="2378160"/>
            <a:chOff x="4691160" y="1144440"/>
            <a:chExt cx="6356160" cy="2378160"/>
          </a:xfrm>
        </p:grpSpPr>
        <p:sp>
          <p:nvSpPr>
            <p:cNvPr id="420" name="矩形 2"/>
            <p:cNvSpPr/>
            <p:nvPr/>
          </p:nvSpPr>
          <p:spPr>
            <a:xfrm>
              <a:off x="4691160" y="1252080"/>
              <a:ext cx="6356160" cy="22705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3"/>
            <p:cNvSpPr/>
            <p:nvPr/>
          </p:nvSpPr>
          <p:spPr>
            <a:xfrm>
              <a:off x="4691160" y="1144440"/>
              <a:ext cx="6356160" cy="10764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22" name="图片 5" descr=""/>
          <p:cNvPicPr/>
          <p:nvPr/>
        </p:nvPicPr>
        <p:blipFill>
          <a:blip r:embed="rId1"/>
          <a:srcRect l="24987" t="0" r="24987" b="0"/>
          <a:stretch/>
        </p:blipFill>
        <p:spPr>
          <a:xfrm>
            <a:off x="1144440" y="1144440"/>
            <a:ext cx="3426120" cy="4569120"/>
          </a:xfrm>
          <a:prstGeom prst="rect">
            <a:avLst/>
          </a:prstGeom>
          <a:ln w="0">
            <a:noFill/>
          </a:ln>
        </p:spPr>
      </p:pic>
      <p:sp>
        <p:nvSpPr>
          <p:cNvPr id="423" name="TextBox 15"/>
          <p:cNvSpPr/>
          <p:nvPr/>
        </p:nvSpPr>
        <p:spPr>
          <a:xfrm>
            <a:off x="4965840" y="194616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Calibri"/>
            </a:endParaRPr>
          </a:p>
        </p:txBody>
      </p:sp>
      <p:pic>
        <p:nvPicPr>
          <p:cNvPr id="424" name="图片 7" descr=""/>
          <p:cNvPicPr/>
          <p:nvPr/>
        </p:nvPicPr>
        <p:blipFill>
          <a:blip r:embed="rId2"/>
          <a:srcRect l="51804" t="0" r="1280" b="6233"/>
          <a:stretch/>
        </p:blipFill>
        <p:spPr>
          <a:xfrm>
            <a:off x="9545760" y="3708360"/>
            <a:ext cx="1501560" cy="2005200"/>
          </a:xfrm>
          <a:prstGeom prst="rect">
            <a:avLst/>
          </a:prstGeom>
          <a:ln w="0">
            <a:noFill/>
          </a:ln>
        </p:spPr>
      </p:pic>
      <p:grpSp>
        <p:nvGrpSpPr>
          <p:cNvPr id="425" name="组合 8"/>
          <p:cNvGrpSpPr/>
          <p:nvPr/>
        </p:nvGrpSpPr>
        <p:grpSpPr>
          <a:xfrm>
            <a:off x="4691160" y="3708360"/>
            <a:ext cx="4732200" cy="2005200"/>
            <a:chOff x="4691160" y="3708360"/>
            <a:chExt cx="4732200" cy="2005200"/>
          </a:xfrm>
        </p:grpSpPr>
        <p:sp>
          <p:nvSpPr>
            <p:cNvPr id="426" name="矩形 9"/>
            <p:cNvSpPr/>
            <p:nvPr/>
          </p:nvSpPr>
          <p:spPr>
            <a:xfrm>
              <a:off x="4691160" y="3798720"/>
              <a:ext cx="4732200" cy="191484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矩形 10"/>
            <p:cNvSpPr/>
            <p:nvPr/>
          </p:nvSpPr>
          <p:spPr>
            <a:xfrm>
              <a:off x="4691160" y="3708360"/>
              <a:ext cx="4732200" cy="90360"/>
            </a:xfrm>
            <a:prstGeom prst="rect">
              <a:avLst/>
            </a:prstGeom>
            <a:solidFill>
              <a:srgbClr val="179a44"/>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8" name="TextBox 15"/>
          <p:cNvSpPr/>
          <p:nvPr/>
        </p:nvSpPr>
        <p:spPr>
          <a:xfrm>
            <a:off x="4965840" y="45194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Calibri"/>
            </a:endParaRPr>
          </a:p>
        </p:txBody>
      </p:sp>
      <p:sp>
        <p:nvSpPr>
          <p:cNvPr id="429" name="矩形 12"/>
          <p:cNvSpPr/>
          <p:nvPr/>
        </p:nvSpPr>
        <p:spPr>
          <a:xfrm>
            <a:off x="5883480" y="13604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Calibri"/>
            </a:endParaRPr>
          </a:p>
        </p:txBody>
      </p:sp>
      <p:sp>
        <p:nvSpPr>
          <p:cNvPr id="430" name="矩形 13"/>
          <p:cNvSpPr/>
          <p:nvPr/>
        </p:nvSpPr>
        <p:spPr>
          <a:xfrm>
            <a:off x="6427800" y="3930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5"/>
          <p:cNvSpPr/>
          <p:nvPr/>
        </p:nvSpPr>
        <p:spPr>
          <a:xfrm>
            <a:off x="5796000" y="-28440"/>
            <a:ext cx="600120" cy="6015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grpSp>
        <p:nvGrpSpPr>
          <p:cNvPr id="432" name="组合 2"/>
          <p:cNvGrpSpPr/>
          <p:nvPr/>
        </p:nvGrpSpPr>
        <p:grpSpPr>
          <a:xfrm>
            <a:off x="4756680" y="1434960"/>
            <a:ext cx="2678400" cy="3979800"/>
            <a:chOff x="4756680" y="1434960"/>
            <a:chExt cx="2678400" cy="3979800"/>
          </a:xfrm>
        </p:grpSpPr>
        <p:sp>
          <p:nvSpPr>
            <p:cNvPr id="433" name="矩形 1"/>
            <p:cNvSpPr/>
            <p:nvPr/>
          </p:nvSpPr>
          <p:spPr>
            <a:xfrm>
              <a:off x="4756680" y="4284720"/>
              <a:ext cx="26784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方法</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Research Process</a:t>
              </a:r>
              <a:endParaRPr b="0" lang="en-US" sz="2400" spc="-1" strike="noStrike">
                <a:solidFill>
                  <a:srgbClr val="000000"/>
                </a:solidFill>
                <a:latin typeface="Calibri"/>
              </a:endParaRPr>
            </a:p>
          </p:txBody>
        </p:sp>
        <p:grpSp>
          <p:nvGrpSpPr>
            <p:cNvPr id="434" name="组合 18"/>
            <p:cNvGrpSpPr/>
            <p:nvPr/>
          </p:nvGrpSpPr>
          <p:grpSpPr>
            <a:xfrm>
              <a:off x="4937760" y="1434960"/>
              <a:ext cx="2430360" cy="2431080"/>
              <a:chOff x="4937760" y="1434960"/>
              <a:chExt cx="2430360" cy="2431080"/>
            </a:xfrm>
          </p:grpSpPr>
          <p:sp>
            <p:nvSpPr>
              <p:cNvPr id="435" name="KSO_Shape"/>
              <p:cNvSpPr/>
              <p:nvPr/>
            </p:nvSpPr>
            <p:spPr>
              <a:xfrm>
                <a:off x="5478840" y="1854000"/>
                <a:ext cx="1347840" cy="159264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椭圆 20"/>
              <p:cNvSpPr/>
              <p:nvPr/>
            </p:nvSpPr>
            <p:spPr>
              <a:xfrm>
                <a:off x="4937760" y="1434960"/>
                <a:ext cx="2430360" cy="243108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图表 1" descr=""/>
          <p:cNvPicPr/>
          <p:nvPr/>
        </p:nvPicPr>
        <p:blipFill>
          <a:blip r:embed="rId1"/>
          <a:stretch/>
        </p:blipFill>
        <p:spPr>
          <a:xfrm>
            <a:off x="493560" y="890640"/>
            <a:ext cx="11204640" cy="50767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图表 1" descr=""/>
          <p:cNvPicPr/>
          <p:nvPr/>
        </p:nvPicPr>
        <p:blipFill>
          <a:blip r:embed="rId1"/>
          <a:stretch/>
        </p:blipFill>
        <p:spPr>
          <a:xfrm>
            <a:off x="239760" y="793800"/>
            <a:ext cx="8229600" cy="5270400"/>
          </a:xfrm>
          <a:prstGeom prst="rect">
            <a:avLst/>
          </a:prstGeom>
          <a:ln w="0">
            <a:noFill/>
          </a:ln>
        </p:spPr>
      </p:pic>
      <p:grpSp>
        <p:nvGrpSpPr>
          <p:cNvPr id="439" name="组合 2"/>
          <p:cNvGrpSpPr/>
          <p:nvPr/>
        </p:nvGrpSpPr>
        <p:grpSpPr>
          <a:xfrm>
            <a:off x="8388360" y="2225520"/>
            <a:ext cx="655560" cy="654120"/>
            <a:chOff x="8388360" y="2225520"/>
            <a:chExt cx="655560" cy="654120"/>
          </a:xfrm>
        </p:grpSpPr>
        <p:sp>
          <p:nvSpPr>
            <p:cNvPr id="440" name="椭圆 3"/>
            <p:cNvSpPr/>
            <p:nvPr/>
          </p:nvSpPr>
          <p:spPr>
            <a:xfrm>
              <a:off x="8388360" y="2225520"/>
              <a:ext cx="655560" cy="65412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KSO_Shape"/>
            <p:cNvSpPr/>
            <p:nvPr/>
          </p:nvSpPr>
          <p:spPr>
            <a:xfrm>
              <a:off x="8582040" y="2369880"/>
              <a:ext cx="268200" cy="36504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2" name="组合 5"/>
          <p:cNvGrpSpPr/>
          <p:nvPr/>
        </p:nvGrpSpPr>
        <p:grpSpPr>
          <a:xfrm>
            <a:off x="8388360" y="3808440"/>
            <a:ext cx="655560" cy="654120"/>
            <a:chOff x="8388360" y="3808440"/>
            <a:chExt cx="655560" cy="654120"/>
          </a:xfrm>
        </p:grpSpPr>
        <p:sp>
          <p:nvSpPr>
            <p:cNvPr id="443" name="椭圆 6"/>
            <p:cNvSpPr/>
            <p:nvPr/>
          </p:nvSpPr>
          <p:spPr>
            <a:xfrm>
              <a:off x="8388360" y="3808440"/>
              <a:ext cx="655560" cy="65412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KSO_Shape"/>
            <p:cNvSpPr/>
            <p:nvPr/>
          </p:nvSpPr>
          <p:spPr>
            <a:xfrm>
              <a:off x="8553240" y="3979800"/>
              <a:ext cx="325440" cy="311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5" name="矩形 8"/>
          <p:cNvSpPr/>
          <p:nvPr/>
        </p:nvSpPr>
        <p:spPr>
          <a:xfrm>
            <a:off x="9132840" y="207648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p:txBody>
      </p:sp>
      <p:sp>
        <p:nvSpPr>
          <p:cNvPr id="446" name="矩形 9"/>
          <p:cNvSpPr/>
          <p:nvPr/>
        </p:nvSpPr>
        <p:spPr>
          <a:xfrm>
            <a:off x="9209160" y="371952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3"/>
          <p:cNvSpPr/>
          <p:nvPr/>
        </p:nvSpPr>
        <p:spPr>
          <a:xfrm>
            <a:off x="5315040" y="2806560"/>
            <a:ext cx="1476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Calibri"/>
            </a:endParaRPr>
          </a:p>
        </p:txBody>
      </p:sp>
      <p:grpSp>
        <p:nvGrpSpPr>
          <p:cNvPr id="448" name="组合 2"/>
          <p:cNvGrpSpPr/>
          <p:nvPr/>
        </p:nvGrpSpPr>
        <p:grpSpPr>
          <a:xfrm>
            <a:off x="2994120" y="702720"/>
            <a:ext cx="5872320" cy="5820840"/>
            <a:chOff x="2994120" y="702720"/>
            <a:chExt cx="5872320" cy="5820840"/>
          </a:xfrm>
        </p:grpSpPr>
        <p:sp>
          <p:nvSpPr>
            <p:cNvPr id="449" name="AutoShape 4"/>
            <p:cNvSpPr/>
            <p:nvPr/>
          </p:nvSpPr>
          <p:spPr>
            <a:xfrm rot="19367400">
              <a:off x="3776760" y="1593360"/>
              <a:ext cx="4306680" cy="4038840"/>
            </a:xfrm>
            <a:custGeom>
              <a:avLst/>
              <a:gdLst/>
              <a:ahLst/>
              <a:rect l="l" t="t" r="r" b="b"/>
              <a:pathLst>
                <a:path w="21600" h="2042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05a24"/>
            </a:solidFill>
            <a:ln w="0">
              <a:noFill/>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WordArt 7"/>
            <p:cNvSpPr txBox="1"/>
            <p:nvPr/>
          </p:nvSpPr>
          <p:spPr>
            <a:xfrm rot="3394200">
              <a:off x="5330160" y="2168640"/>
              <a:ext cx="2444400" cy="202716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51" name="组合 5"/>
          <p:cNvGrpSpPr/>
          <p:nvPr/>
        </p:nvGrpSpPr>
        <p:grpSpPr>
          <a:xfrm>
            <a:off x="7593120" y="1778040"/>
            <a:ext cx="2751120" cy="1005840"/>
            <a:chOff x="7593120" y="1778040"/>
            <a:chExt cx="2751120" cy="1005840"/>
          </a:xfrm>
        </p:grpSpPr>
        <p:grpSp>
          <p:nvGrpSpPr>
            <p:cNvPr id="452" name=""/>
            <p:cNvGrpSpPr/>
            <p:nvPr/>
          </p:nvGrpSpPr>
          <p:grpSpPr>
            <a:xfrm>
              <a:off x="7593120" y="2206440"/>
              <a:ext cx="2751120" cy="360"/>
              <a:chOff x="7593120" y="2206440"/>
              <a:chExt cx="2751120" cy="360"/>
            </a:xfrm>
          </p:grpSpPr>
          <p:sp>
            <p:nvSpPr>
              <p:cNvPr id="453" name="Line 19"/>
              <p:cNvSpPr/>
              <p:nvPr/>
            </p:nvSpPr>
            <p:spPr>
              <a:xfrm flipH="1">
                <a:off x="7593120" y="2206440"/>
                <a:ext cx="2751120" cy="0"/>
              </a:xfrm>
              <a:prstGeom prst="line">
                <a:avLst/>
              </a:prstGeom>
              <a:ln w="19080">
                <a:solidFill>
                  <a:srgbClr val="f05a2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
              <p:cNvSpPr txBox="1"/>
              <p:nvPr/>
            </p:nvSpPr>
            <p:spPr>
              <a:xfrm>
                <a:off x="7593120" y="2206440"/>
                <a:ext cx="2751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5" name="TextBox 19"/>
            <p:cNvSpPr/>
            <p:nvPr/>
          </p:nvSpPr>
          <p:spPr>
            <a:xfrm>
              <a:off x="8325000" y="177804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56" name="TextBox 20"/>
            <p:cNvSpPr/>
            <p:nvPr/>
          </p:nvSpPr>
          <p:spPr>
            <a:xfrm>
              <a:off x="8193240" y="2233440"/>
              <a:ext cx="214020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Calibri"/>
              </a:endParaRPr>
            </a:p>
          </p:txBody>
        </p:sp>
      </p:grpSp>
      <p:grpSp>
        <p:nvGrpSpPr>
          <p:cNvPr id="457" name="组合 1"/>
          <p:cNvGrpSpPr/>
          <p:nvPr/>
        </p:nvGrpSpPr>
        <p:grpSpPr>
          <a:xfrm>
            <a:off x="3472200" y="883080"/>
            <a:ext cx="5523840" cy="5377320"/>
            <a:chOff x="3472200" y="883080"/>
            <a:chExt cx="5523840" cy="5377320"/>
          </a:xfrm>
        </p:grpSpPr>
        <p:sp>
          <p:nvSpPr>
            <p:cNvPr id="458" name="AutoShape 6"/>
            <p:cNvSpPr/>
            <p:nvPr/>
          </p:nvSpPr>
          <p:spPr>
            <a:xfrm rot="12146400">
              <a:off x="4079880" y="1552320"/>
              <a:ext cx="4308480" cy="4038480"/>
            </a:xfrm>
            <a:custGeom>
              <a:avLst/>
              <a:gdLst/>
              <a:ahLst/>
              <a:rect l="l" t="t" r="r" b="b"/>
              <a:pathLst>
                <a:path w="21600" h="2042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a362c4"/>
            </a:solidFill>
            <a:ln w="3240">
              <a:solidFill>
                <a:srgbClr val="eaeaea"/>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WordArt 9"/>
            <p:cNvSpPr txBox="1"/>
            <p:nvPr/>
          </p:nvSpPr>
          <p:spPr>
            <a:xfrm rot="17984400">
              <a:off x="4313160" y="2237400"/>
              <a:ext cx="2444760" cy="202572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0" name="组合 12"/>
          <p:cNvGrpSpPr/>
          <p:nvPr/>
        </p:nvGrpSpPr>
        <p:grpSpPr>
          <a:xfrm>
            <a:off x="1847880" y="1784520"/>
            <a:ext cx="2770200" cy="1024920"/>
            <a:chOff x="1847880" y="1784520"/>
            <a:chExt cx="2770200" cy="1024920"/>
          </a:xfrm>
        </p:grpSpPr>
        <p:grpSp>
          <p:nvGrpSpPr>
            <p:cNvPr id="461" name=""/>
            <p:cNvGrpSpPr/>
            <p:nvPr/>
          </p:nvGrpSpPr>
          <p:grpSpPr>
            <a:xfrm>
              <a:off x="1865160" y="2206800"/>
              <a:ext cx="2752920" cy="360"/>
              <a:chOff x="1865160" y="2206800"/>
              <a:chExt cx="2752920" cy="360"/>
            </a:xfrm>
          </p:grpSpPr>
          <p:sp>
            <p:nvSpPr>
              <p:cNvPr id="462" name="Line 17"/>
              <p:cNvSpPr/>
              <p:nvPr/>
            </p:nvSpPr>
            <p:spPr>
              <a:xfrm>
                <a:off x="1865160" y="2206800"/>
                <a:ext cx="2752920" cy="0"/>
              </a:xfrm>
              <a:prstGeom prst="line">
                <a:avLst/>
              </a:prstGeom>
              <a:ln w="19080">
                <a:solidFill>
                  <a:srgbClr val="a362c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
              <p:cNvSpPr txBox="1"/>
              <p:nvPr/>
            </p:nvSpPr>
            <p:spPr>
              <a:xfrm>
                <a:off x="1865160" y="2206800"/>
                <a:ext cx="2752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4" name="TextBox 42"/>
            <p:cNvSpPr/>
            <p:nvPr/>
          </p:nvSpPr>
          <p:spPr>
            <a:xfrm>
              <a:off x="1847880" y="178452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65" name="TextBox 43"/>
            <p:cNvSpPr/>
            <p:nvPr/>
          </p:nvSpPr>
          <p:spPr>
            <a:xfrm>
              <a:off x="1847880" y="2259000"/>
              <a:ext cx="2160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Calibri"/>
              </a:endParaRPr>
            </a:p>
          </p:txBody>
        </p:sp>
      </p:grpSp>
      <p:grpSp>
        <p:nvGrpSpPr>
          <p:cNvPr id="466" name="组合 3"/>
          <p:cNvGrpSpPr/>
          <p:nvPr/>
        </p:nvGrpSpPr>
        <p:grpSpPr>
          <a:xfrm>
            <a:off x="3864960" y="973080"/>
            <a:ext cx="4369680" cy="4723560"/>
            <a:chOff x="3864960" y="973080"/>
            <a:chExt cx="4369680" cy="4723560"/>
          </a:xfrm>
        </p:grpSpPr>
        <p:sp>
          <p:nvSpPr>
            <p:cNvPr id="467" name="AutoShape 5"/>
            <p:cNvSpPr/>
            <p:nvPr/>
          </p:nvSpPr>
          <p:spPr>
            <a:xfrm rot="5077800">
              <a:off x="3864240" y="1345320"/>
              <a:ext cx="4370400" cy="3978360"/>
            </a:xfrm>
            <a:custGeom>
              <a:avLst/>
              <a:gdLst/>
              <a:ahLst/>
              <a:rect l="l" t="t" r="r" b="b"/>
              <a:pathLst>
                <a:path w="21600" h="2042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179a44"/>
            </a:solidFill>
            <a:ln w="3240">
              <a:solidFill>
                <a:srgbClr val="d4e4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WordArt 8"/>
            <p:cNvSpPr txBox="1"/>
            <p:nvPr/>
          </p:nvSpPr>
          <p:spPr>
            <a:xfrm rot="79200">
              <a:off x="4631400" y="3052080"/>
              <a:ext cx="2831760" cy="2056680"/>
            </a:xfrm>
            <a:prstGeom prst="rect">
              <a:avLst/>
            </a:prstGeom>
          </p:spPr>
          <p:txBody>
            <a:bodyPr wrap="none" fromWordArt="1" lIns="90000" rIns="90000" tIns="46800" bIns="46800" anchor="t" anchorCtr="1">
              <a:prstTxWarp prst="textArchDown">
                <a:avLst>
                  <a:gd name="adj" fmla="val 28914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9" name="组合 19"/>
          <p:cNvGrpSpPr/>
          <p:nvPr/>
        </p:nvGrpSpPr>
        <p:grpSpPr>
          <a:xfrm>
            <a:off x="7464600" y="4540320"/>
            <a:ext cx="2830320" cy="853920"/>
            <a:chOff x="7464600" y="4540320"/>
            <a:chExt cx="2830320" cy="853920"/>
          </a:xfrm>
        </p:grpSpPr>
        <p:grpSp>
          <p:nvGrpSpPr>
            <p:cNvPr id="470" name=""/>
            <p:cNvGrpSpPr/>
            <p:nvPr/>
          </p:nvGrpSpPr>
          <p:grpSpPr>
            <a:xfrm>
              <a:off x="7464600" y="4956120"/>
              <a:ext cx="2751120" cy="360"/>
              <a:chOff x="7464600" y="4956120"/>
              <a:chExt cx="2751120" cy="360"/>
            </a:xfrm>
          </p:grpSpPr>
          <p:sp>
            <p:nvSpPr>
              <p:cNvPr id="471" name="Line 18"/>
              <p:cNvSpPr/>
              <p:nvPr/>
            </p:nvSpPr>
            <p:spPr>
              <a:xfrm flipH="1">
                <a:off x="7464600" y="4956120"/>
                <a:ext cx="2751120" cy="0"/>
              </a:xfrm>
              <a:prstGeom prst="line">
                <a:avLst/>
              </a:prstGeom>
              <a:ln w="19080">
                <a:solidFill>
                  <a:srgbClr val="179a4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2" name=""/>
              <p:cNvSpPr txBox="1"/>
              <p:nvPr/>
            </p:nvSpPr>
            <p:spPr>
              <a:xfrm>
                <a:off x="7464600" y="4956120"/>
                <a:ext cx="2751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19"/>
            <p:cNvSpPr/>
            <p:nvPr/>
          </p:nvSpPr>
          <p:spPr>
            <a:xfrm>
              <a:off x="8255160" y="4540320"/>
              <a:ext cx="197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74" name="TextBox 20"/>
            <p:cNvSpPr/>
            <p:nvPr/>
          </p:nvSpPr>
          <p:spPr>
            <a:xfrm>
              <a:off x="8317080" y="5072040"/>
              <a:ext cx="19778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Calibri"/>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矩形 31"/>
          <p:cNvSpPr/>
          <p:nvPr/>
        </p:nvSpPr>
        <p:spPr>
          <a:xfrm>
            <a:off x="0" y="2336760"/>
            <a:ext cx="12212640" cy="2184480"/>
          </a:xfrm>
          <a:prstGeom prst="rect">
            <a:avLst/>
          </a:prstGeom>
          <a:solidFill>
            <a:srgbClr val="f2f2f2">
              <a:alpha val="9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矩形 1"/>
          <p:cNvSpPr/>
          <p:nvPr/>
        </p:nvSpPr>
        <p:spPr>
          <a:xfrm>
            <a:off x="3038760" y="890640"/>
            <a:ext cx="193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aaf3b"/>
                </a:solidFill>
                <a:latin typeface="微软雅黑"/>
                <a:ea typeface="微软雅黑"/>
              </a:rPr>
              <a:t>课题综述</a:t>
            </a:r>
            <a:r>
              <a:rPr b="0" lang="en-US" sz="1800" spc="-1" strike="noStrike">
                <a:solidFill>
                  <a:srgbClr val="faaf3b"/>
                </a:solidFill>
                <a:latin typeface="微软雅黑"/>
                <a:ea typeface="微软雅黑"/>
              </a:rPr>
              <a:t>/</a:t>
            </a:r>
            <a:r>
              <a:rPr b="0" lang="en-US" sz="1200" spc="-1" strike="noStrike">
                <a:solidFill>
                  <a:srgbClr val="ffffff"/>
                </a:solidFill>
                <a:latin typeface="Calibri"/>
              </a:rPr>
              <a:t>Project Overview</a:t>
            </a:r>
            <a:endParaRPr b="0" lang="en-US" sz="1200" spc="-1" strike="noStrike">
              <a:solidFill>
                <a:srgbClr val="000000"/>
              </a:solidFill>
              <a:latin typeface="Calibri"/>
            </a:endParaRPr>
          </a:p>
        </p:txBody>
      </p:sp>
      <p:sp>
        <p:nvSpPr>
          <p:cNvPr id="190" name="矩形 2"/>
          <p:cNvSpPr/>
          <p:nvPr/>
        </p:nvSpPr>
        <p:spPr>
          <a:xfrm>
            <a:off x="3035880" y="1846440"/>
            <a:ext cx="1872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05a24"/>
                </a:solidFill>
                <a:latin typeface="微软雅黑"/>
                <a:ea typeface="微软雅黑"/>
              </a:rPr>
              <a:t>研究背景</a:t>
            </a:r>
            <a:r>
              <a:rPr b="0" lang="en-US" sz="1800" spc="-1" strike="noStrike">
                <a:solidFill>
                  <a:srgbClr val="f05a24"/>
                </a:solidFill>
                <a:latin typeface="微软雅黑"/>
                <a:ea typeface="微软雅黑"/>
              </a:rPr>
              <a:t>/</a:t>
            </a:r>
            <a:r>
              <a:rPr b="0" lang="en-US" sz="1200" spc="-1" strike="noStrike">
                <a:solidFill>
                  <a:srgbClr val="ffffff"/>
                </a:solidFill>
                <a:latin typeface="Calibri"/>
              </a:rPr>
              <a:t>The Background</a:t>
            </a:r>
            <a:endParaRPr b="0" lang="en-US" sz="1200" spc="-1" strike="noStrike">
              <a:solidFill>
                <a:srgbClr val="000000"/>
              </a:solidFill>
              <a:latin typeface="Calibri"/>
            </a:endParaRPr>
          </a:p>
        </p:txBody>
      </p:sp>
      <p:sp>
        <p:nvSpPr>
          <p:cNvPr id="191" name="矩形 3"/>
          <p:cNvSpPr/>
          <p:nvPr/>
        </p:nvSpPr>
        <p:spPr>
          <a:xfrm>
            <a:off x="3036600" y="3757680"/>
            <a:ext cx="194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9839b"/>
                </a:solidFill>
                <a:latin typeface="微软雅黑"/>
                <a:ea typeface="微软雅黑"/>
              </a:rPr>
              <a:t>研究方法</a:t>
            </a:r>
            <a:r>
              <a:rPr b="0" lang="en-US" sz="1800" spc="-1" strike="noStrike">
                <a:solidFill>
                  <a:srgbClr val="09839b"/>
                </a:solidFill>
                <a:latin typeface="微软雅黑"/>
                <a:ea typeface="微软雅黑"/>
              </a:rPr>
              <a:t>/</a:t>
            </a:r>
            <a:r>
              <a:rPr b="0" lang="en-US" sz="1200" spc="-1" strike="noStrike">
                <a:solidFill>
                  <a:srgbClr val="09839b"/>
                </a:solidFill>
                <a:latin typeface="Calibri"/>
              </a:rPr>
              <a:t>Research Process</a:t>
            </a:r>
            <a:endParaRPr b="0" lang="en-US" sz="1200" spc="-1" strike="noStrike">
              <a:solidFill>
                <a:srgbClr val="000000"/>
              </a:solidFill>
              <a:latin typeface="Calibri"/>
            </a:endParaRPr>
          </a:p>
        </p:txBody>
      </p:sp>
      <p:sp>
        <p:nvSpPr>
          <p:cNvPr id="192" name="矩形 4"/>
          <p:cNvSpPr/>
          <p:nvPr/>
        </p:nvSpPr>
        <p:spPr>
          <a:xfrm>
            <a:off x="3035880" y="4711680"/>
            <a:ext cx="157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9a44"/>
                </a:solidFill>
                <a:latin typeface="微软雅黑"/>
                <a:ea typeface="微软雅黑"/>
              </a:rPr>
              <a:t>研究结果</a:t>
            </a:r>
            <a:r>
              <a:rPr b="0" lang="en-US" sz="1800" spc="-1" strike="noStrike">
                <a:solidFill>
                  <a:srgbClr val="179a44"/>
                </a:solidFill>
                <a:latin typeface="微软雅黑"/>
                <a:ea typeface="微软雅黑"/>
              </a:rPr>
              <a:t>/</a:t>
            </a:r>
            <a:r>
              <a:rPr b="0" lang="en-US" sz="1200" spc="-1" strike="noStrike">
                <a:solidFill>
                  <a:srgbClr val="ffffff"/>
                </a:solidFill>
                <a:latin typeface="Calibri"/>
              </a:rPr>
              <a:t>The Results</a:t>
            </a:r>
            <a:endParaRPr b="0" lang="en-US" sz="1200" spc="-1" strike="noStrike">
              <a:solidFill>
                <a:srgbClr val="000000"/>
              </a:solidFill>
              <a:latin typeface="Calibri"/>
            </a:endParaRPr>
          </a:p>
        </p:txBody>
      </p:sp>
      <p:sp>
        <p:nvSpPr>
          <p:cNvPr id="193" name="矩形 5"/>
          <p:cNvSpPr/>
          <p:nvPr/>
        </p:nvSpPr>
        <p:spPr>
          <a:xfrm>
            <a:off x="3036600" y="280188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362c4"/>
                </a:solidFill>
                <a:latin typeface="微软雅黑"/>
                <a:ea typeface="微软雅黑"/>
              </a:rPr>
              <a:t>研究目的</a:t>
            </a:r>
            <a:r>
              <a:rPr b="0" lang="en-US" sz="1800" spc="-1" strike="noStrike">
                <a:solidFill>
                  <a:srgbClr val="a362c4"/>
                </a:solidFill>
                <a:latin typeface="微软雅黑"/>
                <a:ea typeface="微软雅黑"/>
              </a:rPr>
              <a:t>/</a:t>
            </a:r>
            <a:r>
              <a:rPr b="0" lang="en-US" sz="1200" spc="-1" strike="noStrike">
                <a:solidFill>
                  <a:srgbClr val="09839b"/>
                </a:solidFill>
                <a:latin typeface="Calibri"/>
              </a:rPr>
              <a:t>Research Goal</a:t>
            </a:r>
            <a:endParaRPr b="0" lang="en-US" sz="1200" spc="-1" strike="noStrike">
              <a:solidFill>
                <a:srgbClr val="000000"/>
              </a:solidFill>
              <a:latin typeface="Calibri"/>
            </a:endParaRPr>
          </a:p>
        </p:txBody>
      </p:sp>
      <p:sp>
        <p:nvSpPr>
          <p:cNvPr id="194" name="矩形 6"/>
          <p:cNvSpPr/>
          <p:nvPr/>
        </p:nvSpPr>
        <p:spPr>
          <a:xfrm>
            <a:off x="3031200" y="5667480"/>
            <a:ext cx="176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文献</a:t>
            </a:r>
            <a:r>
              <a:rPr b="0" lang="en-US" sz="1800" spc="-1" strike="noStrike">
                <a:solidFill>
                  <a:srgbClr val="ffffff"/>
                </a:solidFill>
                <a:latin typeface="微软雅黑"/>
                <a:ea typeface="微软雅黑"/>
              </a:rPr>
              <a:t>/</a:t>
            </a:r>
            <a:r>
              <a:rPr b="0" lang="en-US" sz="1200" spc="-1" strike="noStrike">
                <a:solidFill>
                  <a:srgbClr val="ffffff"/>
                </a:solidFill>
                <a:latin typeface="Calibri"/>
              </a:rPr>
              <a:t>The Reference</a:t>
            </a:r>
            <a:endParaRPr b="0" lang="en-US" sz="1200" spc="-1" strike="noStrike">
              <a:solidFill>
                <a:srgbClr val="000000"/>
              </a:solidFill>
              <a:latin typeface="Calibri"/>
            </a:endParaRPr>
          </a:p>
        </p:txBody>
      </p:sp>
      <p:grpSp>
        <p:nvGrpSpPr>
          <p:cNvPr id="195" name="组合 7"/>
          <p:cNvGrpSpPr/>
          <p:nvPr/>
        </p:nvGrpSpPr>
        <p:grpSpPr>
          <a:xfrm>
            <a:off x="1870200" y="2583000"/>
            <a:ext cx="720720" cy="722160"/>
            <a:chOff x="1870200" y="2583000"/>
            <a:chExt cx="720720" cy="722160"/>
          </a:xfrm>
        </p:grpSpPr>
        <p:sp>
          <p:nvSpPr>
            <p:cNvPr id="196" name="KSO_Shape"/>
            <p:cNvSpPr/>
            <p:nvPr/>
          </p:nvSpPr>
          <p:spPr>
            <a:xfrm>
              <a:off x="1996920" y="2706840"/>
              <a:ext cx="466920" cy="47448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椭圆 9"/>
            <p:cNvSpPr/>
            <p:nvPr/>
          </p:nvSpPr>
          <p:spPr>
            <a:xfrm>
              <a:off x="1870200" y="2583000"/>
              <a:ext cx="720720" cy="72216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8" name="组合 10"/>
          <p:cNvGrpSpPr/>
          <p:nvPr/>
        </p:nvGrpSpPr>
        <p:grpSpPr>
          <a:xfrm>
            <a:off x="1870200" y="5491080"/>
            <a:ext cx="720720" cy="722520"/>
            <a:chOff x="1870200" y="5491080"/>
            <a:chExt cx="720720" cy="722520"/>
          </a:xfrm>
        </p:grpSpPr>
        <p:sp>
          <p:nvSpPr>
            <p:cNvPr id="199" name="KSO_Shape"/>
            <p:cNvSpPr/>
            <p:nvPr/>
          </p:nvSpPr>
          <p:spPr>
            <a:xfrm>
              <a:off x="2019240" y="5614920"/>
              <a:ext cx="422280" cy="47484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椭圆 12"/>
            <p:cNvSpPr/>
            <p:nvPr/>
          </p:nvSpPr>
          <p:spPr>
            <a:xfrm>
              <a:off x="1870200" y="5491080"/>
              <a:ext cx="720720" cy="7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1" name="椭圆 15"/>
          <p:cNvSpPr/>
          <p:nvPr/>
        </p:nvSpPr>
        <p:spPr>
          <a:xfrm>
            <a:off x="1870200" y="1614600"/>
            <a:ext cx="720720" cy="722160"/>
          </a:xfrm>
          <a:prstGeom prst="ellipse">
            <a:avLst/>
          </a:prstGeom>
          <a:noFill/>
          <a:ln w="12600">
            <a:solidFill>
              <a:srgbClr val="d35f3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2" name="组合 16"/>
          <p:cNvGrpSpPr/>
          <p:nvPr/>
        </p:nvGrpSpPr>
        <p:grpSpPr>
          <a:xfrm>
            <a:off x="1870200" y="3552840"/>
            <a:ext cx="720720" cy="722160"/>
            <a:chOff x="1870200" y="3552840"/>
            <a:chExt cx="720720" cy="722160"/>
          </a:xfrm>
        </p:grpSpPr>
        <p:sp>
          <p:nvSpPr>
            <p:cNvPr id="203" name="KSO_Shape"/>
            <p:cNvSpPr/>
            <p:nvPr/>
          </p:nvSpPr>
          <p:spPr>
            <a:xfrm>
              <a:off x="2030400" y="3676680"/>
              <a:ext cx="399960" cy="47448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09839b"/>
            </a:solidFill>
            <a:ln w="9360">
              <a:solidFill>
                <a:srgbClr val="609da7"/>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椭圆 18"/>
            <p:cNvSpPr/>
            <p:nvPr/>
          </p:nvSpPr>
          <p:spPr>
            <a:xfrm>
              <a:off x="1870200" y="3552840"/>
              <a:ext cx="720720" cy="722160"/>
            </a:xfrm>
            <a:prstGeom prst="ellipse">
              <a:avLst/>
            </a:prstGeom>
            <a:noFill/>
            <a:ln w="12600">
              <a:solidFill>
                <a:srgbClr val="0983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5" name="组合 19"/>
          <p:cNvGrpSpPr/>
          <p:nvPr/>
        </p:nvGrpSpPr>
        <p:grpSpPr>
          <a:xfrm>
            <a:off x="1870200" y="4521240"/>
            <a:ext cx="720720" cy="722160"/>
            <a:chOff x="1870200" y="4521240"/>
            <a:chExt cx="720720" cy="722160"/>
          </a:xfrm>
        </p:grpSpPr>
        <p:sp>
          <p:nvSpPr>
            <p:cNvPr id="206" name="KSO_Shape"/>
            <p:cNvSpPr/>
            <p:nvPr/>
          </p:nvSpPr>
          <p:spPr>
            <a:xfrm>
              <a:off x="1994040" y="4645080"/>
              <a:ext cx="473040" cy="47448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椭圆 21"/>
            <p:cNvSpPr/>
            <p:nvPr/>
          </p:nvSpPr>
          <p:spPr>
            <a:xfrm>
              <a:off x="1870200" y="4521240"/>
              <a:ext cx="720720" cy="722160"/>
            </a:xfrm>
            <a:prstGeom prst="ellipse">
              <a:avLst/>
            </a:prstGeom>
            <a:noFill/>
            <a:ln w="1260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8" name="组合 22"/>
          <p:cNvGrpSpPr/>
          <p:nvPr/>
        </p:nvGrpSpPr>
        <p:grpSpPr>
          <a:xfrm>
            <a:off x="1870200" y="644400"/>
            <a:ext cx="720720" cy="722520"/>
            <a:chOff x="1870200" y="644400"/>
            <a:chExt cx="720720" cy="722520"/>
          </a:xfrm>
        </p:grpSpPr>
        <p:sp>
          <p:nvSpPr>
            <p:cNvPr id="209" name="KSO_Shape"/>
            <p:cNvSpPr/>
            <p:nvPr/>
          </p:nvSpPr>
          <p:spPr>
            <a:xfrm>
              <a:off x="1994040" y="841320"/>
              <a:ext cx="473040" cy="32868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椭圆 24"/>
            <p:cNvSpPr/>
            <p:nvPr/>
          </p:nvSpPr>
          <p:spPr>
            <a:xfrm>
              <a:off x="1870200" y="644400"/>
              <a:ext cx="720720" cy="72252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1" name="直接连接符 26"/>
          <p:cNvSpPr/>
          <p:nvPr/>
        </p:nvSpPr>
        <p:spPr>
          <a:xfrm>
            <a:off x="2209680" y="136692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直接连接符 27"/>
          <p:cNvSpPr/>
          <p:nvPr/>
        </p:nvSpPr>
        <p:spPr>
          <a:xfrm>
            <a:off x="2209680" y="233676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直接连接符 28"/>
          <p:cNvSpPr/>
          <p:nvPr/>
        </p:nvSpPr>
        <p:spPr>
          <a:xfrm>
            <a:off x="2209680" y="3305160"/>
            <a:ext cx="0" cy="24768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直接连接符 29"/>
          <p:cNvSpPr/>
          <p:nvPr/>
        </p:nvSpPr>
        <p:spPr>
          <a:xfrm>
            <a:off x="2209680" y="427500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直接连接符 30"/>
          <p:cNvSpPr/>
          <p:nvPr/>
        </p:nvSpPr>
        <p:spPr>
          <a:xfrm>
            <a:off x="2209680" y="524340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KSO_Shape"/>
          <p:cNvSpPr/>
          <p:nvPr/>
        </p:nvSpPr>
        <p:spPr>
          <a:xfrm>
            <a:off x="1987560" y="1716120"/>
            <a:ext cx="515880" cy="54756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矩形 33"/>
          <p:cNvSpPr/>
          <p:nvPr/>
        </p:nvSpPr>
        <p:spPr>
          <a:xfrm>
            <a:off x="7698240" y="2859120"/>
            <a:ext cx="286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839b"/>
                </a:solidFill>
                <a:latin typeface="微软雅黑"/>
                <a:ea typeface="微软雅黑"/>
              </a:rPr>
              <a:t>点击添加标题文字</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839b"/>
                </a:solidFill>
                <a:latin typeface="微软雅黑"/>
                <a:ea typeface="微软雅黑"/>
              </a:rPr>
              <a:t>Add the title here</a:t>
            </a:r>
            <a:endParaRPr b="0" lang="en-US" sz="24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椭圆 1"/>
          <p:cNvSpPr/>
          <p:nvPr/>
        </p:nvSpPr>
        <p:spPr>
          <a:xfrm>
            <a:off x="1314360" y="2220840"/>
            <a:ext cx="2251080" cy="24066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椭圆 2"/>
          <p:cNvSpPr/>
          <p:nvPr/>
        </p:nvSpPr>
        <p:spPr>
          <a:xfrm>
            <a:off x="8070840" y="2239920"/>
            <a:ext cx="2406600" cy="24084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椭圆 1"/>
          <p:cNvSpPr/>
          <p:nvPr/>
        </p:nvSpPr>
        <p:spPr>
          <a:xfrm>
            <a:off x="356544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椭圆 1"/>
          <p:cNvSpPr/>
          <p:nvPr/>
        </p:nvSpPr>
        <p:spPr>
          <a:xfrm>
            <a:off x="581652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TextBox 14"/>
          <p:cNvSpPr/>
          <p:nvPr/>
        </p:nvSpPr>
        <p:spPr>
          <a:xfrm>
            <a:off x="218988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Calibri"/>
            </a:endParaRPr>
          </a:p>
        </p:txBody>
      </p:sp>
      <p:sp>
        <p:nvSpPr>
          <p:cNvPr id="480" name="TextBox 15"/>
          <p:cNvSpPr/>
          <p:nvPr/>
        </p:nvSpPr>
        <p:spPr>
          <a:xfrm>
            <a:off x="44791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Calibri"/>
            </a:endParaRPr>
          </a:p>
        </p:txBody>
      </p:sp>
      <p:sp>
        <p:nvSpPr>
          <p:cNvPr id="481" name="TextBox 16"/>
          <p:cNvSpPr/>
          <p:nvPr/>
        </p:nvSpPr>
        <p:spPr>
          <a:xfrm>
            <a:off x="667944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Calibri"/>
            </a:endParaRPr>
          </a:p>
        </p:txBody>
      </p:sp>
      <p:sp>
        <p:nvSpPr>
          <p:cNvPr id="482" name="TextBox 17"/>
          <p:cNvSpPr/>
          <p:nvPr/>
        </p:nvSpPr>
        <p:spPr>
          <a:xfrm>
            <a:off x="90115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Calibri"/>
            </a:endParaRPr>
          </a:p>
        </p:txBody>
      </p:sp>
      <p:sp>
        <p:nvSpPr>
          <p:cNvPr id="483" name="直接连接符 9"/>
          <p:cNvSpPr/>
          <p:nvPr/>
        </p:nvSpPr>
        <p:spPr>
          <a:xfrm>
            <a:off x="1590840" y="2986200"/>
            <a:ext cx="165240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4" name="直接连接符 10"/>
          <p:cNvSpPr/>
          <p:nvPr/>
        </p:nvSpPr>
        <p:spPr>
          <a:xfrm>
            <a:off x="386568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5" name="直接连接符 11"/>
          <p:cNvSpPr/>
          <p:nvPr/>
        </p:nvSpPr>
        <p:spPr>
          <a:xfrm>
            <a:off x="611676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直接连接符 12"/>
          <p:cNvSpPr/>
          <p:nvPr/>
        </p:nvSpPr>
        <p:spPr>
          <a:xfrm>
            <a:off x="8379000" y="2986200"/>
            <a:ext cx="184464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7" name="TextBox 22"/>
          <p:cNvSpPr/>
          <p:nvPr/>
        </p:nvSpPr>
        <p:spPr>
          <a:xfrm>
            <a:off x="135396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88" name="TextBox 23"/>
          <p:cNvSpPr/>
          <p:nvPr/>
        </p:nvSpPr>
        <p:spPr>
          <a:xfrm>
            <a:off x="135396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89" name="TextBox 24"/>
          <p:cNvSpPr/>
          <p:nvPr/>
        </p:nvSpPr>
        <p:spPr>
          <a:xfrm>
            <a:off x="36781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0" name="TextBox 25"/>
          <p:cNvSpPr/>
          <p:nvPr/>
        </p:nvSpPr>
        <p:spPr>
          <a:xfrm>
            <a:off x="3706920" y="3583080"/>
            <a:ext cx="224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1" name="TextBox 26"/>
          <p:cNvSpPr/>
          <p:nvPr/>
        </p:nvSpPr>
        <p:spPr>
          <a:xfrm>
            <a:off x="58579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2" name="TextBox 27"/>
          <p:cNvSpPr/>
          <p:nvPr/>
        </p:nvSpPr>
        <p:spPr>
          <a:xfrm>
            <a:off x="585792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3" name="TextBox 28"/>
          <p:cNvSpPr/>
          <p:nvPr/>
        </p:nvSpPr>
        <p:spPr>
          <a:xfrm>
            <a:off x="8253360" y="317340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4" name="TextBox 29"/>
          <p:cNvSpPr/>
          <p:nvPr/>
        </p:nvSpPr>
        <p:spPr>
          <a:xfrm>
            <a:off x="8282160" y="3619440"/>
            <a:ext cx="22460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5" name="KSO_Shape"/>
          <p:cNvSpPr/>
          <p:nvPr/>
        </p:nvSpPr>
        <p:spPr>
          <a:xfrm>
            <a:off x="1611360" y="1306440"/>
            <a:ext cx="47448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KSO_Shape"/>
          <p:cNvSpPr/>
          <p:nvPr/>
        </p:nvSpPr>
        <p:spPr>
          <a:xfrm>
            <a:off x="1611360" y="5059440"/>
            <a:ext cx="474480" cy="47448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KSO_Shape"/>
          <p:cNvSpPr/>
          <p:nvPr/>
        </p:nvSpPr>
        <p:spPr>
          <a:xfrm flipH="1">
            <a:off x="10404360" y="13064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KSO_Shape"/>
          <p:cNvSpPr/>
          <p:nvPr/>
        </p:nvSpPr>
        <p:spPr>
          <a:xfrm flipH="1">
            <a:off x="10404360" y="509436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文本框 25"/>
          <p:cNvSpPr/>
          <p:nvPr/>
        </p:nvSpPr>
        <p:spPr>
          <a:xfrm>
            <a:off x="223308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Calibri"/>
            </a:endParaRPr>
          </a:p>
        </p:txBody>
      </p:sp>
      <p:sp>
        <p:nvSpPr>
          <p:cNvPr id="500" name="TextBox 15"/>
          <p:cNvSpPr/>
          <p:nvPr/>
        </p:nvSpPr>
        <p:spPr>
          <a:xfrm>
            <a:off x="2192400" y="146844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1" name="文本框 27"/>
          <p:cNvSpPr/>
          <p:nvPr/>
        </p:nvSpPr>
        <p:spPr>
          <a:xfrm>
            <a:off x="2233080" y="5000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Calibri"/>
            </a:endParaRPr>
          </a:p>
        </p:txBody>
      </p:sp>
      <p:sp>
        <p:nvSpPr>
          <p:cNvPr id="502" name="TextBox 15"/>
          <p:cNvSpPr/>
          <p:nvPr/>
        </p:nvSpPr>
        <p:spPr>
          <a:xfrm>
            <a:off x="2192400" y="527220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3" name="文本框 29"/>
          <p:cNvSpPr/>
          <p:nvPr/>
        </p:nvSpPr>
        <p:spPr>
          <a:xfrm>
            <a:off x="897984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Calibri"/>
            </a:endParaRPr>
          </a:p>
        </p:txBody>
      </p:sp>
      <p:sp>
        <p:nvSpPr>
          <p:cNvPr id="504" name="TextBox 15"/>
          <p:cNvSpPr/>
          <p:nvPr/>
        </p:nvSpPr>
        <p:spPr>
          <a:xfrm>
            <a:off x="7112160" y="146844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5" name="文本框 31"/>
          <p:cNvSpPr/>
          <p:nvPr/>
        </p:nvSpPr>
        <p:spPr>
          <a:xfrm>
            <a:off x="8979840" y="501984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Calibri"/>
            </a:endParaRPr>
          </a:p>
        </p:txBody>
      </p:sp>
      <p:sp>
        <p:nvSpPr>
          <p:cNvPr id="506" name="TextBox 15"/>
          <p:cNvSpPr/>
          <p:nvPr/>
        </p:nvSpPr>
        <p:spPr>
          <a:xfrm>
            <a:off x="7112160" y="529128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reeform 4"/>
          <p:cNvSpPr/>
          <p:nvPr/>
        </p:nvSpPr>
        <p:spPr>
          <a:xfrm>
            <a:off x="4311720" y="3111480"/>
            <a:ext cx="1447560" cy="195408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179a44">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Freeform 5"/>
          <p:cNvSpPr/>
          <p:nvPr/>
        </p:nvSpPr>
        <p:spPr>
          <a:xfrm rot="7200000">
            <a:off x="6003360" y="2031840"/>
            <a:ext cx="1365120" cy="207324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faaf3b">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9" name="Group 6" descr=""/>
          <p:cNvPicPr/>
          <p:nvPr/>
        </p:nvPicPr>
        <p:blipFill>
          <a:blip r:embed="rId1"/>
          <a:stretch/>
        </p:blipFill>
        <p:spPr>
          <a:xfrm>
            <a:off x="4641840" y="2206800"/>
            <a:ext cx="2171880" cy="1838160"/>
          </a:xfrm>
          <a:prstGeom prst="rect">
            <a:avLst/>
          </a:prstGeom>
          <a:ln w="0">
            <a:noFill/>
          </a:ln>
        </p:spPr>
      </p:pic>
      <p:sp>
        <p:nvSpPr>
          <p:cNvPr id="510" name="Freeform 10"/>
          <p:cNvSpPr/>
          <p:nvPr/>
        </p:nvSpPr>
        <p:spPr>
          <a:xfrm rot="14400000">
            <a:off x="6117120" y="3883680"/>
            <a:ext cx="1365120" cy="207144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a362c4">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1" name="Group 11" descr=""/>
          <p:cNvPicPr/>
          <p:nvPr/>
        </p:nvPicPr>
        <p:blipFill>
          <a:blip r:embed="rId2"/>
          <a:stretch/>
        </p:blipFill>
        <p:spPr>
          <a:xfrm>
            <a:off x="6446880" y="3013200"/>
            <a:ext cx="1614600" cy="2385720"/>
          </a:xfrm>
          <a:prstGeom prst="rect">
            <a:avLst/>
          </a:prstGeom>
          <a:ln w="0">
            <a:noFill/>
          </a:ln>
        </p:spPr>
      </p:pic>
      <p:pic>
        <p:nvPicPr>
          <p:cNvPr id="512" name="Group 15" descr=""/>
          <p:cNvPicPr/>
          <p:nvPr/>
        </p:nvPicPr>
        <p:blipFill>
          <a:blip r:embed="rId3"/>
          <a:stretch/>
        </p:blipFill>
        <p:spPr>
          <a:xfrm>
            <a:off x="4303800" y="4316400"/>
            <a:ext cx="2495520" cy="1395360"/>
          </a:xfrm>
          <a:prstGeom prst="rect">
            <a:avLst/>
          </a:prstGeom>
          <a:ln w="0">
            <a:noFill/>
          </a:ln>
        </p:spPr>
      </p:pic>
      <p:sp>
        <p:nvSpPr>
          <p:cNvPr id="513" name="文本框 17"/>
          <p:cNvSpPr/>
          <p:nvPr/>
        </p:nvSpPr>
        <p:spPr>
          <a:xfrm>
            <a:off x="1601640" y="506412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Calibri"/>
            </a:endParaRPr>
          </a:p>
        </p:txBody>
      </p:sp>
      <p:sp>
        <p:nvSpPr>
          <p:cNvPr id="514" name="文本框 18"/>
          <p:cNvSpPr/>
          <p:nvPr/>
        </p:nvSpPr>
        <p:spPr>
          <a:xfrm>
            <a:off x="1601640" y="454356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Calibri"/>
            </a:endParaRPr>
          </a:p>
        </p:txBody>
      </p:sp>
      <p:sp>
        <p:nvSpPr>
          <p:cNvPr id="515" name="文本框 19"/>
          <p:cNvSpPr/>
          <p:nvPr/>
        </p:nvSpPr>
        <p:spPr>
          <a:xfrm>
            <a:off x="8032680" y="5022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点击此处添加文字说明</a:t>
            </a:r>
            <a:endParaRPr b="0" lang="en-US" sz="1800" spc="-1" strike="noStrike">
              <a:solidFill>
                <a:srgbClr val="000000"/>
              </a:solidFill>
              <a:latin typeface="Calibri"/>
            </a:endParaRPr>
          </a:p>
        </p:txBody>
      </p:sp>
      <p:sp>
        <p:nvSpPr>
          <p:cNvPr id="516" name="文本框 20"/>
          <p:cNvSpPr/>
          <p:nvPr/>
        </p:nvSpPr>
        <p:spPr>
          <a:xfrm>
            <a:off x="8032680" y="45021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040"/>
                </a:solidFill>
                <a:latin typeface="微软雅黑"/>
                <a:ea typeface="微软雅黑"/>
              </a:rPr>
              <a:t>添加标题</a:t>
            </a:r>
            <a:endParaRPr b="0" lang="en-US" sz="3200" spc="-1" strike="noStrike">
              <a:solidFill>
                <a:srgbClr val="000000"/>
              </a:solidFill>
              <a:latin typeface="Calibri"/>
            </a:endParaRPr>
          </a:p>
        </p:txBody>
      </p:sp>
      <p:sp>
        <p:nvSpPr>
          <p:cNvPr id="517" name="文本框 21"/>
          <p:cNvSpPr/>
          <p:nvPr/>
        </p:nvSpPr>
        <p:spPr>
          <a:xfrm>
            <a:off x="4816440" y="166860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Calibri"/>
            </a:endParaRPr>
          </a:p>
        </p:txBody>
      </p:sp>
      <p:sp>
        <p:nvSpPr>
          <p:cNvPr id="518" name="文本框 22"/>
          <p:cNvSpPr/>
          <p:nvPr/>
        </p:nvSpPr>
        <p:spPr>
          <a:xfrm>
            <a:off x="4816440" y="11462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矩形 5"/>
          <p:cNvSpPr/>
          <p:nvPr/>
        </p:nvSpPr>
        <p:spPr>
          <a:xfrm>
            <a:off x="5796000" y="-28440"/>
            <a:ext cx="600120" cy="60012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520" name="矩形 1"/>
          <p:cNvSpPr/>
          <p:nvPr/>
        </p:nvSpPr>
        <p:spPr>
          <a:xfrm>
            <a:off x="5183280" y="4281480"/>
            <a:ext cx="182196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272d"/>
                </a:solidFill>
                <a:latin typeface="微软雅黑"/>
                <a:ea typeface="微软雅黑"/>
              </a:rPr>
              <a:t>研究结果</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72d"/>
                </a:solidFill>
                <a:latin typeface="微软雅黑"/>
                <a:ea typeface="微软雅黑"/>
              </a:rPr>
              <a:t>The Results</a:t>
            </a:r>
            <a:endParaRPr b="0" lang="en-US" sz="2400" spc="-1" strike="noStrike">
              <a:solidFill>
                <a:srgbClr val="000000"/>
              </a:solidFill>
              <a:latin typeface="Calibri"/>
            </a:endParaRPr>
          </a:p>
        </p:txBody>
      </p:sp>
      <p:grpSp>
        <p:nvGrpSpPr>
          <p:cNvPr id="521" name="组合 21"/>
          <p:cNvGrpSpPr/>
          <p:nvPr/>
        </p:nvGrpSpPr>
        <p:grpSpPr>
          <a:xfrm>
            <a:off x="4886280" y="1436760"/>
            <a:ext cx="2432160" cy="2431800"/>
            <a:chOff x="4886280" y="1436760"/>
            <a:chExt cx="2432160" cy="2431800"/>
          </a:xfrm>
        </p:grpSpPr>
        <p:sp>
          <p:nvSpPr>
            <p:cNvPr id="522" name="KSO_Shape"/>
            <p:cNvSpPr/>
            <p:nvPr/>
          </p:nvSpPr>
          <p:spPr>
            <a:xfrm>
              <a:off x="5305320" y="1855800"/>
              <a:ext cx="1594080" cy="1593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椭圆 23"/>
            <p:cNvSpPr/>
            <p:nvPr/>
          </p:nvSpPr>
          <p:spPr>
            <a:xfrm>
              <a:off x="4886280" y="1436760"/>
              <a:ext cx="2432160" cy="243180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19"/>
          <p:cNvSpPr/>
          <p:nvPr/>
        </p:nvSpPr>
        <p:spPr>
          <a:xfrm>
            <a:off x="5479920" y="797040"/>
            <a:ext cx="5712120" cy="52639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TextBox 12"/>
          <p:cNvSpPr/>
          <p:nvPr/>
        </p:nvSpPr>
        <p:spPr>
          <a:xfrm>
            <a:off x="1000080" y="181944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Calibri"/>
            </a:endParaRPr>
          </a:p>
        </p:txBody>
      </p:sp>
      <p:sp>
        <p:nvSpPr>
          <p:cNvPr id="526" name="TextBox 13"/>
          <p:cNvSpPr/>
          <p:nvPr/>
        </p:nvSpPr>
        <p:spPr>
          <a:xfrm>
            <a:off x="1800360" y="135900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Calibri"/>
            </a:endParaRPr>
          </a:p>
        </p:txBody>
      </p:sp>
      <p:sp>
        <p:nvSpPr>
          <p:cNvPr id="527" name="TextBox 14"/>
          <p:cNvSpPr/>
          <p:nvPr/>
        </p:nvSpPr>
        <p:spPr>
          <a:xfrm>
            <a:off x="6280200" y="136836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5</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Calibri"/>
            </a:endParaRPr>
          </a:p>
        </p:txBody>
      </p:sp>
      <p:sp>
        <p:nvSpPr>
          <p:cNvPr id="528" name="TextBox 15"/>
          <p:cNvSpPr/>
          <p:nvPr/>
        </p:nvSpPr>
        <p:spPr>
          <a:xfrm>
            <a:off x="6303960" y="184932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Calibri"/>
            </a:endParaRPr>
          </a:p>
        </p:txBody>
      </p:sp>
      <p:sp>
        <p:nvSpPr>
          <p:cNvPr id="529" name="矩形 7"/>
          <p:cNvSpPr/>
          <p:nvPr/>
        </p:nvSpPr>
        <p:spPr>
          <a:xfrm>
            <a:off x="2481120" y="3884760"/>
            <a:ext cx="187992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矩形 8"/>
          <p:cNvSpPr/>
          <p:nvPr/>
        </p:nvSpPr>
        <p:spPr>
          <a:xfrm>
            <a:off x="1400040" y="4284720"/>
            <a:ext cx="294660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矩形 9"/>
          <p:cNvSpPr/>
          <p:nvPr/>
        </p:nvSpPr>
        <p:spPr>
          <a:xfrm>
            <a:off x="196056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TextBox 19"/>
          <p:cNvSpPr/>
          <p:nvPr/>
        </p:nvSpPr>
        <p:spPr>
          <a:xfrm>
            <a:off x="2868840" y="3884760"/>
            <a:ext cx="97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计划完成：</a:t>
            </a:r>
            <a:r>
              <a:rPr b="0" lang="en-US" sz="1200" spc="-1" strike="noStrike">
                <a:solidFill>
                  <a:srgbClr val="ffffff"/>
                </a:solidFill>
                <a:latin typeface="微软雅黑"/>
                <a:ea typeface="微软雅黑"/>
              </a:rPr>
              <a:t>30</a:t>
            </a:r>
            <a:r>
              <a:rPr b="0" lang="zh-CN" sz="1200" spc="-1" strike="noStrike">
                <a:solidFill>
                  <a:srgbClr val="ffffff"/>
                </a:solidFill>
                <a:latin typeface="微软雅黑"/>
                <a:ea typeface="微软雅黑"/>
              </a:rPr>
              <a:t>％</a:t>
            </a:r>
            <a:endParaRPr b="0" lang="en-US" sz="1200" spc="-1" strike="noStrike">
              <a:solidFill>
                <a:srgbClr val="000000"/>
              </a:solidFill>
              <a:latin typeface="Calibri"/>
            </a:endParaRPr>
          </a:p>
        </p:txBody>
      </p:sp>
      <p:sp>
        <p:nvSpPr>
          <p:cNvPr id="533" name="TextBox 20"/>
          <p:cNvSpPr/>
          <p:nvPr/>
        </p:nvSpPr>
        <p:spPr>
          <a:xfrm>
            <a:off x="2500560" y="4284720"/>
            <a:ext cx="124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实际完成数目：</a:t>
            </a:r>
            <a:r>
              <a:rPr b="0" lang="en-US" sz="1200" spc="-1" strike="noStrike">
                <a:solidFill>
                  <a:srgbClr val="ffffff"/>
                </a:solidFill>
                <a:latin typeface="微软雅黑"/>
                <a:ea typeface="微软雅黑"/>
              </a:rPr>
              <a:t>300</a:t>
            </a:r>
            <a:r>
              <a:rPr b="0" lang="zh-CN" sz="1200" spc="-1" strike="noStrike">
                <a:solidFill>
                  <a:srgbClr val="ffffff"/>
                </a:solidFill>
                <a:latin typeface="微软雅黑"/>
                <a:ea typeface="微软雅黑"/>
              </a:rPr>
              <a:t>万</a:t>
            </a:r>
            <a:endParaRPr b="0" lang="en-US" sz="1200" spc="-1" strike="noStrike">
              <a:solidFill>
                <a:srgbClr val="000000"/>
              </a:solidFill>
              <a:latin typeface="Calibri"/>
            </a:endParaRPr>
          </a:p>
        </p:txBody>
      </p:sp>
      <p:sp>
        <p:nvSpPr>
          <p:cNvPr id="534" name="TextBox 21"/>
          <p:cNvSpPr/>
          <p:nvPr/>
        </p:nvSpPr>
        <p:spPr>
          <a:xfrm>
            <a:off x="2886840" y="4757760"/>
            <a:ext cx="97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回款数：</a:t>
            </a:r>
            <a:r>
              <a:rPr b="0" lang="en-US" sz="1200" spc="-1" strike="noStrike">
                <a:solidFill>
                  <a:srgbClr val="ffffff"/>
                </a:solidFill>
                <a:latin typeface="微软雅黑"/>
                <a:ea typeface="微软雅黑"/>
              </a:rPr>
              <a:t>100</a:t>
            </a:r>
            <a:r>
              <a:rPr b="0" lang="zh-CN" sz="1200" spc="-1" strike="noStrike">
                <a:solidFill>
                  <a:srgbClr val="ffffff"/>
                </a:solidFill>
                <a:latin typeface="微软雅黑"/>
                <a:ea typeface="微软雅黑"/>
              </a:rPr>
              <a:t>万</a:t>
            </a:r>
            <a:endParaRPr b="0" lang="en-US" sz="1200" spc="-1" strike="noStrike">
              <a:solidFill>
                <a:srgbClr val="000000"/>
              </a:solidFill>
              <a:latin typeface="Calibri"/>
            </a:endParaRPr>
          </a:p>
        </p:txBody>
      </p:sp>
      <p:sp>
        <p:nvSpPr>
          <p:cNvPr id="535" name="矩形 13"/>
          <p:cNvSpPr/>
          <p:nvPr/>
        </p:nvSpPr>
        <p:spPr>
          <a:xfrm>
            <a:off x="6440400" y="3884760"/>
            <a:ext cx="187956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矩形 14"/>
          <p:cNvSpPr/>
          <p:nvPr/>
        </p:nvSpPr>
        <p:spPr>
          <a:xfrm>
            <a:off x="6453360" y="4284720"/>
            <a:ext cx="294624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矩形 15"/>
          <p:cNvSpPr/>
          <p:nvPr/>
        </p:nvSpPr>
        <p:spPr>
          <a:xfrm>
            <a:off x="644040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TextBox 25"/>
          <p:cNvSpPr/>
          <p:nvPr/>
        </p:nvSpPr>
        <p:spPr>
          <a:xfrm>
            <a:off x="6815160" y="388476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Calibri"/>
            </a:endParaRPr>
          </a:p>
        </p:txBody>
      </p:sp>
      <p:sp>
        <p:nvSpPr>
          <p:cNvPr id="539" name="TextBox 26"/>
          <p:cNvSpPr/>
          <p:nvPr/>
        </p:nvSpPr>
        <p:spPr>
          <a:xfrm>
            <a:off x="6881760" y="42847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Calibri"/>
            </a:endParaRPr>
          </a:p>
        </p:txBody>
      </p:sp>
      <p:sp>
        <p:nvSpPr>
          <p:cNvPr id="540" name="TextBox 27"/>
          <p:cNvSpPr/>
          <p:nvPr/>
        </p:nvSpPr>
        <p:spPr>
          <a:xfrm>
            <a:off x="6809040" y="475776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Calibri"/>
            </a:endParaRPr>
          </a:p>
        </p:txBody>
      </p:sp>
      <p:sp>
        <p:nvSpPr>
          <p:cNvPr id="541" name="椭圆 2"/>
          <p:cNvSpPr/>
          <p:nvPr/>
        </p:nvSpPr>
        <p:spPr>
          <a:xfrm>
            <a:off x="5010120" y="2496960"/>
            <a:ext cx="941400" cy="94320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矩形 36"/>
          <p:cNvSpPr/>
          <p:nvPr/>
        </p:nvSpPr>
        <p:spPr>
          <a:xfrm>
            <a:off x="366840" y="3143160"/>
            <a:ext cx="11458440" cy="2646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3" name="组合 1" descr=""/>
          <p:cNvPicPr/>
          <p:nvPr/>
        </p:nvPicPr>
        <p:blipFill>
          <a:blip r:embed="rId1"/>
          <a:stretch/>
        </p:blipFill>
        <p:spPr>
          <a:xfrm>
            <a:off x="2486160" y="3216240"/>
            <a:ext cx="2133360" cy="2141640"/>
          </a:xfrm>
          <a:prstGeom prst="rect">
            <a:avLst/>
          </a:prstGeom>
          <a:ln w="0">
            <a:noFill/>
          </a:ln>
        </p:spPr>
      </p:pic>
      <p:pic>
        <p:nvPicPr>
          <p:cNvPr id="544" name="组合 5" descr=""/>
          <p:cNvPicPr/>
          <p:nvPr/>
        </p:nvPicPr>
        <p:blipFill>
          <a:blip r:embed="rId2"/>
          <a:stretch/>
        </p:blipFill>
        <p:spPr>
          <a:xfrm>
            <a:off x="3925800" y="1063800"/>
            <a:ext cx="2135160" cy="2141280"/>
          </a:xfrm>
          <a:prstGeom prst="rect">
            <a:avLst/>
          </a:prstGeom>
          <a:ln w="0">
            <a:noFill/>
          </a:ln>
        </p:spPr>
      </p:pic>
      <p:pic>
        <p:nvPicPr>
          <p:cNvPr id="545" name="组合 9" descr=""/>
          <p:cNvPicPr/>
          <p:nvPr/>
        </p:nvPicPr>
        <p:blipFill>
          <a:blip r:embed="rId3"/>
          <a:stretch/>
        </p:blipFill>
        <p:spPr>
          <a:xfrm>
            <a:off x="5372280" y="3216240"/>
            <a:ext cx="2135160" cy="2141640"/>
          </a:xfrm>
          <a:prstGeom prst="rect">
            <a:avLst/>
          </a:prstGeom>
          <a:ln w="0">
            <a:noFill/>
          </a:ln>
        </p:spPr>
      </p:pic>
      <p:pic>
        <p:nvPicPr>
          <p:cNvPr id="546" name="组合 13" descr=""/>
          <p:cNvPicPr/>
          <p:nvPr/>
        </p:nvPicPr>
        <p:blipFill>
          <a:blip r:embed="rId4"/>
          <a:stretch/>
        </p:blipFill>
        <p:spPr>
          <a:xfrm>
            <a:off x="6813720" y="1063800"/>
            <a:ext cx="2133360" cy="2141280"/>
          </a:xfrm>
          <a:prstGeom prst="rect">
            <a:avLst/>
          </a:prstGeom>
          <a:ln w="0">
            <a:noFill/>
          </a:ln>
        </p:spPr>
      </p:pic>
      <p:sp>
        <p:nvSpPr>
          <p:cNvPr id="547" name="矩形 17"/>
          <p:cNvSpPr/>
          <p:nvPr/>
        </p:nvSpPr>
        <p:spPr>
          <a:xfrm>
            <a:off x="1236600" y="2928960"/>
            <a:ext cx="9144000" cy="48240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TextBox 24"/>
          <p:cNvSpPr/>
          <p:nvPr/>
        </p:nvSpPr>
        <p:spPr>
          <a:xfrm>
            <a:off x="3199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9a44"/>
                </a:solidFill>
                <a:latin typeface="Arial Unicode MS"/>
                <a:ea typeface="Arial Unicode MS"/>
              </a:rPr>
              <a:t>01</a:t>
            </a:r>
            <a:endParaRPr b="0" lang="en-US" sz="3600" spc="-1" strike="noStrike">
              <a:solidFill>
                <a:srgbClr val="000000"/>
              </a:solidFill>
              <a:latin typeface="Calibri"/>
            </a:endParaRPr>
          </a:p>
        </p:txBody>
      </p:sp>
      <p:sp>
        <p:nvSpPr>
          <p:cNvPr id="549" name="TextBox 25"/>
          <p:cNvSpPr/>
          <p:nvPr/>
        </p:nvSpPr>
        <p:spPr>
          <a:xfrm>
            <a:off x="33372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9a44"/>
                </a:solidFill>
                <a:latin typeface="Calibri"/>
              </a:rPr>
              <a:t>text</a:t>
            </a:r>
            <a:endParaRPr b="0" lang="en-US" sz="1400" spc="-1" strike="noStrike">
              <a:solidFill>
                <a:srgbClr val="000000"/>
              </a:solidFill>
              <a:latin typeface="Calibri"/>
            </a:endParaRPr>
          </a:p>
        </p:txBody>
      </p:sp>
      <p:sp>
        <p:nvSpPr>
          <p:cNvPr id="550" name="TextBox 26"/>
          <p:cNvSpPr/>
          <p:nvPr/>
        </p:nvSpPr>
        <p:spPr>
          <a:xfrm>
            <a:off x="464184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2</a:t>
            </a:r>
            <a:endParaRPr b="0" lang="en-US" sz="3600" spc="-1" strike="noStrike">
              <a:solidFill>
                <a:srgbClr val="000000"/>
              </a:solidFill>
              <a:latin typeface="Calibri"/>
            </a:endParaRPr>
          </a:p>
        </p:txBody>
      </p:sp>
      <p:sp>
        <p:nvSpPr>
          <p:cNvPr id="551" name="TextBox 27"/>
          <p:cNvSpPr/>
          <p:nvPr/>
        </p:nvSpPr>
        <p:spPr>
          <a:xfrm>
            <a:off x="475884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Calibri"/>
            </a:endParaRPr>
          </a:p>
        </p:txBody>
      </p:sp>
      <p:sp>
        <p:nvSpPr>
          <p:cNvPr id="552" name="TextBox 28"/>
          <p:cNvSpPr/>
          <p:nvPr/>
        </p:nvSpPr>
        <p:spPr>
          <a:xfrm>
            <a:off x="7528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272d"/>
                </a:solidFill>
                <a:latin typeface="Arial Unicode MS"/>
                <a:ea typeface="Arial Unicode MS"/>
              </a:rPr>
              <a:t>04</a:t>
            </a:r>
            <a:endParaRPr b="0" lang="en-US" sz="3600" spc="-1" strike="noStrike">
              <a:solidFill>
                <a:srgbClr val="000000"/>
              </a:solidFill>
              <a:latin typeface="Calibri"/>
            </a:endParaRPr>
          </a:p>
        </p:txBody>
      </p:sp>
      <p:sp>
        <p:nvSpPr>
          <p:cNvPr id="553" name="TextBox 29"/>
          <p:cNvSpPr/>
          <p:nvPr/>
        </p:nvSpPr>
        <p:spPr>
          <a:xfrm>
            <a:off x="764568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Calibri"/>
            </a:endParaRPr>
          </a:p>
        </p:txBody>
      </p:sp>
      <p:sp>
        <p:nvSpPr>
          <p:cNvPr id="554" name="TextBox 30"/>
          <p:cNvSpPr/>
          <p:nvPr/>
        </p:nvSpPr>
        <p:spPr>
          <a:xfrm>
            <a:off x="60580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3</a:t>
            </a:r>
            <a:endParaRPr b="0" lang="en-US" sz="3600" spc="-1" strike="noStrike">
              <a:solidFill>
                <a:srgbClr val="000000"/>
              </a:solidFill>
              <a:latin typeface="Calibri"/>
            </a:endParaRPr>
          </a:p>
        </p:txBody>
      </p:sp>
      <p:sp>
        <p:nvSpPr>
          <p:cNvPr id="555" name="TextBox 31"/>
          <p:cNvSpPr/>
          <p:nvPr/>
        </p:nvSpPr>
        <p:spPr>
          <a:xfrm>
            <a:off x="61956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62c4"/>
                </a:solidFill>
                <a:latin typeface="Calibri"/>
              </a:rPr>
              <a:t>text</a:t>
            </a:r>
            <a:endParaRPr b="0" lang="en-US" sz="1400" spc="-1" strike="noStrike">
              <a:solidFill>
                <a:srgbClr val="000000"/>
              </a:solidFill>
              <a:latin typeface="Calibri"/>
            </a:endParaRPr>
          </a:p>
        </p:txBody>
      </p:sp>
      <p:sp>
        <p:nvSpPr>
          <p:cNvPr id="556" name="矩形 26"/>
          <p:cNvSpPr/>
          <p:nvPr/>
        </p:nvSpPr>
        <p:spPr>
          <a:xfrm>
            <a:off x="326232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Calibri"/>
            </a:endParaRPr>
          </a:p>
        </p:txBody>
      </p:sp>
      <p:sp>
        <p:nvSpPr>
          <p:cNvPr id="557" name="矩形 27"/>
          <p:cNvSpPr/>
          <p:nvPr/>
        </p:nvSpPr>
        <p:spPr>
          <a:xfrm>
            <a:off x="471636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558" name="矩形 28"/>
          <p:cNvSpPr/>
          <p:nvPr/>
        </p:nvSpPr>
        <p:spPr>
          <a:xfrm>
            <a:off x="614844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Calibri"/>
            </a:endParaRPr>
          </a:p>
        </p:txBody>
      </p:sp>
      <p:sp>
        <p:nvSpPr>
          <p:cNvPr id="559" name="矩形 29"/>
          <p:cNvSpPr/>
          <p:nvPr/>
        </p:nvSpPr>
        <p:spPr>
          <a:xfrm>
            <a:off x="759132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560" name="文本框 30"/>
          <p:cNvSpPr/>
          <p:nvPr/>
        </p:nvSpPr>
        <p:spPr>
          <a:xfrm>
            <a:off x="7910640" y="4268880"/>
            <a:ext cx="25574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点击此处添加文字说明</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a:t>
            </a:r>
            <a:endParaRPr b="0" lang="en-US" sz="1600" spc="-1" strike="noStrike">
              <a:solidFill>
                <a:srgbClr val="000000"/>
              </a:solidFill>
              <a:latin typeface="Calibri"/>
            </a:endParaRPr>
          </a:p>
        </p:txBody>
      </p:sp>
      <p:sp>
        <p:nvSpPr>
          <p:cNvPr id="561" name="文本框 31"/>
          <p:cNvSpPr/>
          <p:nvPr/>
        </p:nvSpPr>
        <p:spPr>
          <a:xfrm>
            <a:off x="7910640" y="3746520"/>
            <a:ext cx="25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添加标题</a:t>
            </a:r>
            <a:endParaRPr b="0" lang="en-US" sz="2800" spc="-1" strike="noStrike">
              <a:solidFill>
                <a:srgbClr val="000000"/>
              </a:solidFill>
              <a:latin typeface="Calibri"/>
            </a:endParaRPr>
          </a:p>
        </p:txBody>
      </p:sp>
      <p:sp>
        <p:nvSpPr>
          <p:cNvPr id="562" name="Freeform 5"/>
          <p:cNvSpPr/>
          <p:nvPr/>
        </p:nvSpPr>
        <p:spPr>
          <a:xfrm>
            <a:off x="4778280" y="1943280"/>
            <a:ext cx="457200" cy="439560"/>
          </a:xfrm>
          <a:custGeom>
            <a:avLst/>
            <a:gdLst/>
            <a:ahLst/>
            <a:rect l="l" t="t" r="r" b="b"/>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0983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Freeform 9"/>
          <p:cNvSpPr/>
          <p:nvPr/>
        </p:nvSpPr>
        <p:spPr>
          <a:xfrm>
            <a:off x="3352680" y="3902040"/>
            <a:ext cx="482760" cy="476280"/>
          </a:xfrm>
          <a:custGeom>
            <a:avLst/>
            <a:gdLst/>
            <a:ahLst/>
            <a:rect l="l" t="t" r="r" b="b"/>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179a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Freeform 13"/>
          <p:cNvSpPr/>
          <p:nvPr/>
        </p:nvSpPr>
        <p:spPr>
          <a:xfrm>
            <a:off x="6261120" y="4006800"/>
            <a:ext cx="403200" cy="401760"/>
          </a:xfrm>
          <a:custGeom>
            <a:avLst/>
            <a:gdLst/>
            <a:ahLst/>
            <a:rect l="l" t="t" r="r" b="b"/>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a362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Freeform 17"/>
          <p:cNvSpPr/>
          <p:nvPr/>
        </p:nvSpPr>
        <p:spPr>
          <a:xfrm>
            <a:off x="7684920" y="2022480"/>
            <a:ext cx="451080" cy="326880"/>
          </a:xfrm>
          <a:custGeom>
            <a:avLst/>
            <a:gdLst/>
            <a:ahLst/>
            <a:rect l="l" t="t" r="r" b="b"/>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c027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十字箭头 6"/>
          <p:cNvSpPr/>
          <p:nvPr/>
        </p:nvSpPr>
        <p:spPr>
          <a:xfrm>
            <a:off x="925560" y="1133640"/>
            <a:ext cx="4592520" cy="4590720"/>
          </a:xfrm>
          <a:custGeom>
            <a:avLst/>
            <a:gdLst/>
            <a:ahLst/>
            <a:rect l="l" t="t" r="r" b="b"/>
            <a:pathLst>
              <a:path w="4592637" h="4591050">
                <a:moveTo>
                  <a:pt x="0" y="2295525"/>
                </a:moveTo>
                <a:lnTo>
                  <a:pt x="229552" y="2111883"/>
                </a:lnTo>
                <a:lnTo>
                  <a:pt x="229552" y="2249614"/>
                </a:lnTo>
                <a:lnTo>
                  <a:pt x="2250408" y="2249614"/>
                </a:lnTo>
                <a:lnTo>
                  <a:pt x="2250408" y="229552"/>
                </a:lnTo>
                <a:lnTo>
                  <a:pt x="2112676" y="229552"/>
                </a:lnTo>
                <a:lnTo>
                  <a:pt x="2296318" y="0"/>
                </a:lnTo>
                <a:lnTo>
                  <a:pt x="2479960" y="229552"/>
                </a:lnTo>
                <a:lnTo>
                  <a:pt x="2342229" y="229552"/>
                </a:lnTo>
                <a:lnTo>
                  <a:pt x="2342229" y="2249614"/>
                </a:lnTo>
                <a:lnTo>
                  <a:pt x="4363085" y="2249614"/>
                </a:lnTo>
                <a:lnTo>
                  <a:pt x="4363085" y="2111883"/>
                </a:lnTo>
                <a:lnTo>
                  <a:pt x="4592637" y="2295525"/>
                </a:lnTo>
                <a:lnTo>
                  <a:pt x="4363085" y="2479167"/>
                </a:lnTo>
                <a:lnTo>
                  <a:pt x="4363085" y="2341435"/>
                </a:lnTo>
                <a:lnTo>
                  <a:pt x="2342229" y="2341435"/>
                </a:lnTo>
                <a:lnTo>
                  <a:pt x="2342229" y="4361497"/>
                </a:lnTo>
                <a:lnTo>
                  <a:pt x="2479960" y="4361497"/>
                </a:lnTo>
                <a:lnTo>
                  <a:pt x="2296318" y="4591050"/>
                </a:lnTo>
                <a:lnTo>
                  <a:pt x="2112676" y="4361497"/>
                </a:lnTo>
                <a:lnTo>
                  <a:pt x="2250408" y="4361497"/>
                </a:lnTo>
                <a:lnTo>
                  <a:pt x="2250408" y="2341435"/>
                </a:lnTo>
                <a:lnTo>
                  <a:pt x="229552" y="2341435"/>
                </a:lnTo>
                <a:lnTo>
                  <a:pt x="229552" y="2479167"/>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7" name="任意多边形 7"/>
          <p:cNvSpPr/>
          <p:nvPr/>
        </p:nvSpPr>
        <p:spPr>
          <a:xfrm>
            <a:off x="122400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a362c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68" name="任意多边形 8"/>
          <p:cNvSpPr/>
          <p:nvPr/>
        </p:nvSpPr>
        <p:spPr>
          <a:xfrm>
            <a:off x="338148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aaf3b"/>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69" name="任意多边形 9"/>
          <p:cNvSpPr/>
          <p:nvPr/>
        </p:nvSpPr>
        <p:spPr>
          <a:xfrm>
            <a:off x="122400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05a2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70" name="任意多边形 10"/>
          <p:cNvSpPr/>
          <p:nvPr/>
        </p:nvSpPr>
        <p:spPr>
          <a:xfrm>
            <a:off x="338148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179a4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71" name="KSO_Shape"/>
          <p:cNvSpPr/>
          <p:nvPr/>
        </p:nvSpPr>
        <p:spPr>
          <a:xfrm>
            <a:off x="1835280" y="3909960"/>
            <a:ext cx="612720" cy="1017720"/>
          </a:xfrm>
          <a:custGeom>
            <a:avLst/>
            <a:gdLst/>
            <a:ahLst/>
            <a:rect l="l" t="t" r="r" b="b"/>
            <a:pathLst>
              <a:path w="1536700" h="2555648">
                <a:moveTo>
                  <a:pt x="588566" y="2172931"/>
                </a:moveTo>
                <a:lnTo>
                  <a:pt x="588566" y="2232462"/>
                </a:lnTo>
                <a:lnTo>
                  <a:pt x="948135" y="2232462"/>
                </a:lnTo>
                <a:lnTo>
                  <a:pt x="948135" y="2172931"/>
                </a:lnTo>
                <a:close/>
                <a:moveTo>
                  <a:pt x="588566" y="2014319"/>
                </a:moveTo>
                <a:lnTo>
                  <a:pt x="588566" y="2073850"/>
                </a:lnTo>
                <a:lnTo>
                  <a:pt x="948135" y="2073850"/>
                </a:lnTo>
                <a:lnTo>
                  <a:pt x="948135"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KSO_Shape"/>
          <p:cNvSpPr/>
          <p:nvPr/>
        </p:nvSpPr>
        <p:spPr>
          <a:xfrm>
            <a:off x="1649520" y="1731960"/>
            <a:ext cx="1017360" cy="988920"/>
          </a:xfrm>
          <a:custGeom>
            <a:avLst/>
            <a:gdLst/>
            <a:ahLst/>
            <a:rect l="l" t="t" r="r" b="b"/>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KSO_Shape"/>
          <p:cNvSpPr/>
          <p:nvPr/>
        </p:nvSpPr>
        <p:spPr>
          <a:xfrm>
            <a:off x="3900600" y="3909960"/>
            <a:ext cx="799920" cy="1017720"/>
          </a:xfrm>
          <a:custGeom>
            <a:avLst/>
            <a:gdLst/>
            <a:ahLst/>
            <a:rect l="l" t="t" r="r" b="b"/>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KSO_Shape"/>
          <p:cNvSpPr/>
          <p:nvPr/>
        </p:nvSpPr>
        <p:spPr>
          <a:xfrm>
            <a:off x="3760920" y="1717560"/>
            <a:ext cx="1015920" cy="1017720"/>
          </a:xfrm>
          <a:custGeom>
            <a:avLst/>
            <a:gdLst/>
            <a:ahLst/>
            <a:rect l="l" t="t" r="r" b="b"/>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文本框 19"/>
          <p:cNvSpPr/>
          <p:nvPr/>
        </p:nvSpPr>
        <p:spPr>
          <a:xfrm>
            <a:off x="168084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6" name="文本框 20"/>
          <p:cNvSpPr/>
          <p:nvPr/>
        </p:nvSpPr>
        <p:spPr>
          <a:xfrm>
            <a:off x="376056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7" name="文本框 21"/>
          <p:cNvSpPr/>
          <p:nvPr/>
        </p:nvSpPr>
        <p:spPr>
          <a:xfrm>
            <a:off x="37915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8" name="文本框 22"/>
          <p:cNvSpPr/>
          <p:nvPr/>
        </p:nvSpPr>
        <p:spPr>
          <a:xfrm>
            <a:off x="16189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9" name="KSO_Shape"/>
          <p:cNvSpPr/>
          <p:nvPr/>
        </p:nvSpPr>
        <p:spPr>
          <a:xfrm>
            <a:off x="6488280" y="145080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文本框 26"/>
          <p:cNvSpPr/>
          <p:nvPr/>
        </p:nvSpPr>
        <p:spPr>
          <a:xfrm>
            <a:off x="7002000" y="13939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Calibri"/>
            </a:endParaRPr>
          </a:p>
        </p:txBody>
      </p:sp>
      <p:sp>
        <p:nvSpPr>
          <p:cNvPr id="581" name="TextBox 15"/>
          <p:cNvSpPr/>
          <p:nvPr/>
        </p:nvSpPr>
        <p:spPr>
          <a:xfrm>
            <a:off x="6961320" y="16653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2" name="KSO_Shape"/>
          <p:cNvSpPr/>
          <p:nvPr/>
        </p:nvSpPr>
        <p:spPr>
          <a:xfrm>
            <a:off x="6488280" y="255888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文本框 36"/>
          <p:cNvSpPr/>
          <p:nvPr/>
        </p:nvSpPr>
        <p:spPr>
          <a:xfrm>
            <a:off x="7002000" y="25034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Calibri"/>
            </a:endParaRPr>
          </a:p>
        </p:txBody>
      </p:sp>
      <p:sp>
        <p:nvSpPr>
          <p:cNvPr id="584" name="TextBox 15"/>
          <p:cNvSpPr/>
          <p:nvPr/>
        </p:nvSpPr>
        <p:spPr>
          <a:xfrm>
            <a:off x="6961320" y="277488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5" name="KSO_Shape"/>
          <p:cNvSpPr/>
          <p:nvPr/>
        </p:nvSpPr>
        <p:spPr>
          <a:xfrm>
            <a:off x="6488280" y="3666960"/>
            <a:ext cx="473040" cy="4748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文本框 40"/>
          <p:cNvSpPr/>
          <p:nvPr/>
        </p:nvSpPr>
        <p:spPr>
          <a:xfrm>
            <a:off x="7002000" y="36115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Calibri"/>
            </a:endParaRPr>
          </a:p>
        </p:txBody>
      </p:sp>
      <p:sp>
        <p:nvSpPr>
          <p:cNvPr id="587" name="TextBox 15"/>
          <p:cNvSpPr/>
          <p:nvPr/>
        </p:nvSpPr>
        <p:spPr>
          <a:xfrm>
            <a:off x="6961320" y="38829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8" name="KSO_Shape"/>
          <p:cNvSpPr/>
          <p:nvPr/>
        </p:nvSpPr>
        <p:spPr>
          <a:xfrm>
            <a:off x="6488280" y="47768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文本框 44"/>
          <p:cNvSpPr/>
          <p:nvPr/>
        </p:nvSpPr>
        <p:spPr>
          <a:xfrm>
            <a:off x="7002000" y="47196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Calibri"/>
            </a:endParaRPr>
          </a:p>
        </p:txBody>
      </p:sp>
      <p:sp>
        <p:nvSpPr>
          <p:cNvPr id="590" name="TextBox 15"/>
          <p:cNvSpPr/>
          <p:nvPr/>
        </p:nvSpPr>
        <p:spPr>
          <a:xfrm>
            <a:off x="6961320" y="499104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直接连接符 3"/>
          <p:cNvSpPr/>
          <p:nvPr/>
        </p:nvSpPr>
        <p:spPr>
          <a:xfrm>
            <a:off x="1012680" y="4397400"/>
            <a:ext cx="10166400" cy="0"/>
          </a:xfrm>
          <a:prstGeom prst="line">
            <a:avLst/>
          </a:prstGeom>
          <a:ln w="12600">
            <a:solidFill>
              <a:srgbClr val="09839b"/>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92" name="组合 14" descr=""/>
          <p:cNvPicPr/>
          <p:nvPr/>
        </p:nvPicPr>
        <p:blipFill>
          <a:blip r:embed="rId1"/>
          <a:stretch/>
        </p:blipFill>
        <p:spPr>
          <a:xfrm>
            <a:off x="1622520" y="2593800"/>
            <a:ext cx="1251000" cy="2459160"/>
          </a:xfrm>
          <a:prstGeom prst="rect">
            <a:avLst/>
          </a:prstGeom>
          <a:ln w="0">
            <a:noFill/>
          </a:ln>
        </p:spPr>
      </p:pic>
      <p:pic>
        <p:nvPicPr>
          <p:cNvPr id="593" name="组合 15" descr=""/>
          <p:cNvPicPr/>
          <p:nvPr/>
        </p:nvPicPr>
        <p:blipFill>
          <a:blip r:embed="rId2"/>
          <a:stretch/>
        </p:blipFill>
        <p:spPr>
          <a:xfrm>
            <a:off x="3714840" y="1660680"/>
            <a:ext cx="1971720" cy="3392280"/>
          </a:xfrm>
          <a:prstGeom prst="rect">
            <a:avLst/>
          </a:prstGeom>
          <a:ln w="0">
            <a:noFill/>
          </a:ln>
        </p:spPr>
      </p:pic>
      <p:pic>
        <p:nvPicPr>
          <p:cNvPr id="594" name="组合 16" descr=""/>
          <p:cNvPicPr/>
          <p:nvPr/>
        </p:nvPicPr>
        <p:blipFill>
          <a:blip r:embed="rId3"/>
          <a:stretch/>
        </p:blipFill>
        <p:spPr>
          <a:xfrm>
            <a:off x="6489720" y="1660680"/>
            <a:ext cx="1968480" cy="3392280"/>
          </a:xfrm>
          <a:prstGeom prst="rect">
            <a:avLst/>
          </a:prstGeom>
          <a:ln w="0">
            <a:noFill/>
          </a:ln>
        </p:spPr>
      </p:pic>
      <p:pic>
        <p:nvPicPr>
          <p:cNvPr id="595" name="组合 21" descr=""/>
          <p:cNvPicPr/>
          <p:nvPr/>
        </p:nvPicPr>
        <p:blipFill>
          <a:blip r:embed="rId4"/>
          <a:stretch/>
        </p:blipFill>
        <p:spPr>
          <a:xfrm>
            <a:off x="9282240" y="2593800"/>
            <a:ext cx="1251000" cy="2459160"/>
          </a:xfrm>
          <a:prstGeom prst="rect">
            <a:avLst/>
          </a:prstGeom>
          <a:ln w="0">
            <a:noFill/>
          </a:ln>
        </p:spPr>
      </p:pic>
      <p:sp>
        <p:nvSpPr>
          <p:cNvPr id="596" name="KSO_Shape"/>
          <p:cNvSpPr/>
          <p:nvPr/>
        </p:nvSpPr>
        <p:spPr>
          <a:xfrm>
            <a:off x="9655200" y="2857680"/>
            <a:ext cx="504720" cy="839520"/>
          </a:xfrm>
          <a:custGeom>
            <a:avLst/>
            <a:gdLst/>
            <a:ahLst/>
            <a:rect l="l" t="t" r="r" b="b"/>
            <a:pathLst>
              <a:path w="1536700" h="2555648">
                <a:moveTo>
                  <a:pt x="588566" y="2172931"/>
                </a:moveTo>
                <a:lnTo>
                  <a:pt x="588566" y="2232462"/>
                </a:lnTo>
                <a:lnTo>
                  <a:pt x="948135" y="2232462"/>
                </a:lnTo>
                <a:lnTo>
                  <a:pt x="948135" y="2172931"/>
                </a:lnTo>
                <a:close/>
                <a:moveTo>
                  <a:pt x="588566" y="2014319"/>
                </a:moveTo>
                <a:lnTo>
                  <a:pt x="588566" y="2073850"/>
                </a:lnTo>
                <a:lnTo>
                  <a:pt x="948135" y="2073850"/>
                </a:lnTo>
                <a:lnTo>
                  <a:pt x="948135"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KSO_Shape"/>
          <p:cNvSpPr/>
          <p:nvPr/>
        </p:nvSpPr>
        <p:spPr>
          <a:xfrm>
            <a:off x="1832040" y="2873520"/>
            <a:ext cx="839880" cy="815760"/>
          </a:xfrm>
          <a:custGeom>
            <a:avLst/>
            <a:gdLst/>
            <a:ahLst/>
            <a:rect l="l" t="t" r="r" b="b"/>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KSO_Shape"/>
          <p:cNvSpPr/>
          <p:nvPr/>
        </p:nvSpPr>
        <p:spPr>
          <a:xfrm>
            <a:off x="7002360" y="2138400"/>
            <a:ext cx="944640" cy="1201680"/>
          </a:xfrm>
          <a:custGeom>
            <a:avLst/>
            <a:gdLst/>
            <a:ahLst/>
            <a:rect l="l" t="t" r="r" b="b"/>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KSO_Shape"/>
          <p:cNvSpPr/>
          <p:nvPr/>
        </p:nvSpPr>
        <p:spPr>
          <a:xfrm>
            <a:off x="4089240" y="2046240"/>
            <a:ext cx="1198800" cy="1200240"/>
          </a:xfrm>
          <a:custGeom>
            <a:avLst/>
            <a:gdLst/>
            <a:ahLst/>
            <a:rect l="l" t="t" r="r" b="b"/>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文本框 30"/>
          <p:cNvSpPr/>
          <p:nvPr/>
        </p:nvSpPr>
        <p:spPr>
          <a:xfrm>
            <a:off x="1608120" y="5048280"/>
            <a:ext cx="1279440" cy="368280"/>
          </a:xfrm>
          <a:prstGeom prst="rect">
            <a:avLst/>
          </a:prstGeom>
          <a:solidFill>
            <a:srgbClr val="f05a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1" name="文本框 31"/>
          <p:cNvSpPr/>
          <p:nvPr/>
        </p:nvSpPr>
        <p:spPr>
          <a:xfrm>
            <a:off x="4076640" y="5048280"/>
            <a:ext cx="1279440" cy="368280"/>
          </a:xfrm>
          <a:prstGeom prst="rect">
            <a:avLst/>
          </a:prstGeom>
          <a:solidFill>
            <a:srgbClr val="8bc53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2" name="文本框 32"/>
          <p:cNvSpPr/>
          <p:nvPr/>
        </p:nvSpPr>
        <p:spPr>
          <a:xfrm>
            <a:off x="6837480" y="5048280"/>
            <a:ext cx="1279440" cy="368280"/>
          </a:xfrm>
          <a:prstGeom prst="rect">
            <a:avLst/>
          </a:prstGeom>
          <a:solidFill>
            <a:srgbClr val="a362c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3" name="文本框 33"/>
          <p:cNvSpPr/>
          <p:nvPr/>
        </p:nvSpPr>
        <p:spPr>
          <a:xfrm>
            <a:off x="9316440" y="5048280"/>
            <a:ext cx="1279440" cy="368280"/>
          </a:xfrm>
          <a:prstGeom prst="rect">
            <a:avLst/>
          </a:prstGeom>
          <a:solidFill>
            <a:srgbClr val="faaf3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4" name="TextBox 15"/>
          <p:cNvSpPr/>
          <p:nvPr/>
        </p:nvSpPr>
        <p:spPr>
          <a:xfrm>
            <a:off x="124632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5" name="TextBox 15"/>
          <p:cNvSpPr/>
          <p:nvPr/>
        </p:nvSpPr>
        <p:spPr>
          <a:xfrm>
            <a:off x="36990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6" name="TextBox 15"/>
          <p:cNvSpPr/>
          <p:nvPr/>
        </p:nvSpPr>
        <p:spPr>
          <a:xfrm>
            <a:off x="64152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7" name="TextBox 15"/>
          <p:cNvSpPr/>
          <p:nvPr/>
        </p:nvSpPr>
        <p:spPr>
          <a:xfrm>
            <a:off x="890604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图片 2" descr=""/>
          <p:cNvPicPr/>
          <p:nvPr/>
        </p:nvPicPr>
        <p:blipFill>
          <a:blip r:embed="rId1"/>
          <a:srcRect l="0" t="0" r="6374" b="0"/>
          <a:stretch/>
        </p:blipFill>
        <p:spPr>
          <a:xfrm>
            <a:off x="379440" y="1359000"/>
            <a:ext cx="11433240" cy="2773440"/>
          </a:xfrm>
          <a:prstGeom prst="rect">
            <a:avLst/>
          </a:prstGeom>
          <a:ln w="0">
            <a:noFill/>
          </a:ln>
        </p:spPr>
      </p:pic>
      <p:sp>
        <p:nvSpPr>
          <p:cNvPr id="609" name="任意多边形 3"/>
          <p:cNvSpPr/>
          <p:nvPr/>
        </p:nvSpPr>
        <p:spPr>
          <a:xfrm flipH="1" rot="16200000">
            <a:off x="8502120" y="822960"/>
            <a:ext cx="2773440" cy="384516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KSO_Shape"/>
          <p:cNvSpPr/>
          <p:nvPr/>
        </p:nvSpPr>
        <p:spPr>
          <a:xfrm>
            <a:off x="9388440" y="1647720"/>
            <a:ext cx="1320840" cy="1306440"/>
          </a:xfrm>
          <a:custGeom>
            <a:avLst/>
            <a:gdLst/>
            <a:ahLst/>
            <a:rect l="l" t="t" r="r" b="b"/>
            <a:pathLst>
              <a:path w="4409" h="4408">
                <a:moveTo>
                  <a:pt x="3025" y="2127"/>
                </a:moveTo>
                <a:lnTo>
                  <a:pt x="3025" y="2127"/>
                </a:lnTo>
                <a:lnTo>
                  <a:pt x="3097" y="2107"/>
                </a:lnTo>
                <a:lnTo>
                  <a:pt x="3179" y="2081"/>
                </a:lnTo>
                <a:lnTo>
                  <a:pt x="3271" y="2053"/>
                </a:lnTo>
                <a:lnTo>
                  <a:pt x="3375" y="2020"/>
                </a:lnTo>
                <a:lnTo>
                  <a:pt x="3429" y="2002"/>
                </a:lnTo>
                <a:lnTo>
                  <a:pt x="3481" y="1982"/>
                </a:lnTo>
                <a:lnTo>
                  <a:pt x="3532" y="1961"/>
                </a:lnTo>
                <a:lnTo>
                  <a:pt x="3580" y="1938"/>
                </a:lnTo>
                <a:lnTo>
                  <a:pt x="3626" y="1914"/>
                </a:lnTo>
                <a:lnTo>
                  <a:pt x="3672" y="1889"/>
                </a:lnTo>
                <a:lnTo>
                  <a:pt x="3715" y="1861"/>
                </a:lnTo>
                <a:lnTo>
                  <a:pt x="3756" y="1834"/>
                </a:lnTo>
                <a:lnTo>
                  <a:pt x="3797" y="1804"/>
                </a:lnTo>
                <a:lnTo>
                  <a:pt x="3834" y="1774"/>
                </a:lnTo>
                <a:lnTo>
                  <a:pt x="3871" y="1744"/>
                </a:lnTo>
                <a:lnTo>
                  <a:pt x="3906" y="1711"/>
                </a:lnTo>
                <a:lnTo>
                  <a:pt x="3940" y="1679"/>
                </a:lnTo>
                <a:lnTo>
                  <a:pt x="3971" y="1644"/>
                </a:lnTo>
                <a:lnTo>
                  <a:pt x="4002" y="1610"/>
                </a:lnTo>
                <a:lnTo>
                  <a:pt x="4031" y="1575"/>
                </a:lnTo>
                <a:lnTo>
                  <a:pt x="4059" y="1539"/>
                </a:lnTo>
                <a:lnTo>
                  <a:pt x="4085" y="1502"/>
                </a:lnTo>
                <a:lnTo>
                  <a:pt x="4110" y="1466"/>
                </a:lnTo>
                <a:lnTo>
                  <a:pt x="4134" y="1428"/>
                </a:lnTo>
                <a:lnTo>
                  <a:pt x="4157" y="1390"/>
                </a:lnTo>
                <a:lnTo>
                  <a:pt x="4177" y="1351"/>
                </a:lnTo>
                <a:lnTo>
                  <a:pt x="4198" y="1312"/>
                </a:lnTo>
                <a:lnTo>
                  <a:pt x="4217" y="1274"/>
                </a:lnTo>
                <a:lnTo>
                  <a:pt x="4234" y="1235"/>
                </a:lnTo>
                <a:lnTo>
                  <a:pt x="4251" y="1196"/>
                </a:lnTo>
                <a:lnTo>
                  <a:pt x="4267" y="1156"/>
                </a:lnTo>
                <a:lnTo>
                  <a:pt x="4281" y="1117"/>
                </a:lnTo>
                <a:lnTo>
                  <a:pt x="4295" y="1078"/>
                </a:lnTo>
                <a:lnTo>
                  <a:pt x="4307" y="1039"/>
                </a:lnTo>
                <a:lnTo>
                  <a:pt x="4319" y="1000"/>
                </a:lnTo>
                <a:lnTo>
                  <a:pt x="4329" y="961"/>
                </a:lnTo>
                <a:lnTo>
                  <a:pt x="4340" y="923"/>
                </a:lnTo>
                <a:lnTo>
                  <a:pt x="4349" y="884"/>
                </a:lnTo>
                <a:lnTo>
                  <a:pt x="4357" y="847"/>
                </a:lnTo>
                <a:lnTo>
                  <a:pt x="4365" y="809"/>
                </a:lnTo>
                <a:lnTo>
                  <a:pt x="4377" y="736"/>
                </a:lnTo>
                <a:lnTo>
                  <a:pt x="4387" y="665"/>
                </a:lnTo>
                <a:lnTo>
                  <a:pt x="4395" y="598"/>
                </a:lnTo>
                <a:lnTo>
                  <a:pt x="4401" y="534"/>
                </a:lnTo>
                <a:lnTo>
                  <a:pt x="4405" y="474"/>
                </a:lnTo>
                <a:lnTo>
                  <a:pt x="4407" y="418"/>
                </a:lnTo>
                <a:lnTo>
                  <a:pt x="4409" y="367"/>
                </a:lnTo>
                <a:lnTo>
                  <a:pt x="4409" y="321"/>
                </a:lnTo>
                <a:lnTo>
                  <a:pt x="4409" y="281"/>
                </a:lnTo>
                <a:lnTo>
                  <a:pt x="4407" y="247"/>
                </a:lnTo>
                <a:lnTo>
                  <a:pt x="4404" y="201"/>
                </a:lnTo>
                <a:lnTo>
                  <a:pt x="4403" y="183"/>
                </a:lnTo>
                <a:lnTo>
                  <a:pt x="3786" y="183"/>
                </a:lnTo>
                <a:lnTo>
                  <a:pt x="3491" y="183"/>
                </a:lnTo>
                <a:lnTo>
                  <a:pt x="3491" y="0"/>
                </a:lnTo>
                <a:lnTo>
                  <a:pt x="919" y="0"/>
                </a:lnTo>
                <a:lnTo>
                  <a:pt x="919" y="183"/>
                </a:lnTo>
                <a:lnTo>
                  <a:pt x="624" y="183"/>
                </a:lnTo>
                <a:lnTo>
                  <a:pt x="6" y="183"/>
                </a:lnTo>
                <a:lnTo>
                  <a:pt x="5" y="201"/>
                </a:lnTo>
                <a:lnTo>
                  <a:pt x="2" y="247"/>
                </a:lnTo>
                <a:lnTo>
                  <a:pt x="1" y="282"/>
                </a:lnTo>
                <a:lnTo>
                  <a:pt x="0" y="321"/>
                </a:lnTo>
                <a:lnTo>
                  <a:pt x="1" y="367"/>
                </a:lnTo>
                <a:lnTo>
                  <a:pt x="2" y="419"/>
                </a:lnTo>
                <a:lnTo>
                  <a:pt x="4" y="475"/>
                </a:lnTo>
                <a:lnTo>
                  <a:pt x="8" y="535"/>
                </a:lnTo>
                <a:lnTo>
                  <a:pt x="14" y="599"/>
                </a:lnTo>
                <a:lnTo>
                  <a:pt x="22" y="667"/>
                </a:lnTo>
                <a:lnTo>
                  <a:pt x="32" y="737"/>
                </a:lnTo>
                <a:lnTo>
                  <a:pt x="45" y="811"/>
                </a:lnTo>
                <a:lnTo>
                  <a:pt x="52" y="848"/>
                </a:lnTo>
                <a:lnTo>
                  <a:pt x="61" y="886"/>
                </a:lnTo>
                <a:lnTo>
                  <a:pt x="69" y="924"/>
                </a:lnTo>
                <a:lnTo>
                  <a:pt x="79" y="962"/>
                </a:lnTo>
                <a:lnTo>
                  <a:pt x="91" y="1002"/>
                </a:lnTo>
                <a:lnTo>
                  <a:pt x="102" y="1041"/>
                </a:lnTo>
                <a:lnTo>
                  <a:pt x="115" y="1080"/>
                </a:lnTo>
                <a:lnTo>
                  <a:pt x="128" y="1120"/>
                </a:lnTo>
                <a:lnTo>
                  <a:pt x="142" y="1158"/>
                </a:lnTo>
                <a:lnTo>
                  <a:pt x="159" y="1198"/>
                </a:lnTo>
                <a:lnTo>
                  <a:pt x="175" y="1237"/>
                </a:lnTo>
                <a:lnTo>
                  <a:pt x="193" y="1276"/>
                </a:lnTo>
                <a:lnTo>
                  <a:pt x="211" y="1315"/>
                </a:lnTo>
                <a:lnTo>
                  <a:pt x="232" y="1354"/>
                </a:lnTo>
                <a:lnTo>
                  <a:pt x="253" y="1392"/>
                </a:lnTo>
                <a:lnTo>
                  <a:pt x="275" y="1430"/>
                </a:lnTo>
                <a:lnTo>
                  <a:pt x="299" y="1468"/>
                </a:lnTo>
                <a:lnTo>
                  <a:pt x="324" y="1504"/>
                </a:lnTo>
                <a:lnTo>
                  <a:pt x="350" y="1541"/>
                </a:lnTo>
                <a:lnTo>
                  <a:pt x="378" y="1577"/>
                </a:lnTo>
                <a:lnTo>
                  <a:pt x="407" y="1612"/>
                </a:lnTo>
                <a:lnTo>
                  <a:pt x="438" y="1646"/>
                </a:lnTo>
                <a:lnTo>
                  <a:pt x="470" y="1681"/>
                </a:lnTo>
                <a:lnTo>
                  <a:pt x="503" y="1713"/>
                </a:lnTo>
                <a:lnTo>
                  <a:pt x="538" y="1746"/>
                </a:lnTo>
                <a:lnTo>
                  <a:pt x="574" y="1776"/>
                </a:lnTo>
                <a:lnTo>
                  <a:pt x="613" y="1806"/>
                </a:lnTo>
                <a:lnTo>
                  <a:pt x="653" y="1835"/>
                </a:lnTo>
                <a:lnTo>
                  <a:pt x="694" y="1863"/>
                </a:lnTo>
                <a:lnTo>
                  <a:pt x="738" y="1890"/>
                </a:lnTo>
                <a:lnTo>
                  <a:pt x="782" y="1915"/>
                </a:lnTo>
                <a:lnTo>
                  <a:pt x="829" y="1939"/>
                </a:lnTo>
                <a:lnTo>
                  <a:pt x="878" y="1962"/>
                </a:lnTo>
                <a:lnTo>
                  <a:pt x="928" y="1983"/>
                </a:lnTo>
                <a:lnTo>
                  <a:pt x="981" y="2002"/>
                </a:lnTo>
                <a:lnTo>
                  <a:pt x="1035" y="2020"/>
                </a:lnTo>
                <a:lnTo>
                  <a:pt x="1137" y="2053"/>
                </a:lnTo>
                <a:lnTo>
                  <a:pt x="1230" y="2080"/>
                </a:lnTo>
                <a:lnTo>
                  <a:pt x="1311" y="2105"/>
                </a:lnTo>
                <a:lnTo>
                  <a:pt x="1384" y="2125"/>
                </a:lnTo>
                <a:lnTo>
                  <a:pt x="1417" y="2164"/>
                </a:lnTo>
                <a:lnTo>
                  <a:pt x="1452" y="2203"/>
                </a:lnTo>
                <a:lnTo>
                  <a:pt x="1488" y="2241"/>
                </a:lnTo>
                <a:lnTo>
                  <a:pt x="1525" y="2275"/>
                </a:lnTo>
                <a:lnTo>
                  <a:pt x="1562" y="2309"/>
                </a:lnTo>
                <a:lnTo>
                  <a:pt x="1600" y="2340"/>
                </a:lnTo>
                <a:lnTo>
                  <a:pt x="1639" y="2370"/>
                </a:lnTo>
                <a:lnTo>
                  <a:pt x="1679" y="2398"/>
                </a:lnTo>
                <a:lnTo>
                  <a:pt x="1720" y="2424"/>
                </a:lnTo>
                <a:lnTo>
                  <a:pt x="1761" y="2449"/>
                </a:lnTo>
                <a:lnTo>
                  <a:pt x="1803" y="2471"/>
                </a:lnTo>
                <a:lnTo>
                  <a:pt x="1845" y="2490"/>
                </a:lnTo>
                <a:lnTo>
                  <a:pt x="1888" y="2508"/>
                </a:lnTo>
                <a:lnTo>
                  <a:pt x="1933" y="2525"/>
                </a:lnTo>
                <a:lnTo>
                  <a:pt x="1976" y="2538"/>
                </a:lnTo>
                <a:lnTo>
                  <a:pt x="2021" y="2549"/>
                </a:lnTo>
                <a:lnTo>
                  <a:pt x="2021" y="3864"/>
                </a:lnTo>
                <a:lnTo>
                  <a:pt x="1963" y="3868"/>
                </a:lnTo>
                <a:lnTo>
                  <a:pt x="1906" y="3873"/>
                </a:lnTo>
                <a:lnTo>
                  <a:pt x="1850" y="3880"/>
                </a:lnTo>
                <a:lnTo>
                  <a:pt x="1795" y="3887"/>
                </a:lnTo>
                <a:lnTo>
                  <a:pt x="1741" y="3895"/>
                </a:lnTo>
                <a:lnTo>
                  <a:pt x="1688" y="3904"/>
                </a:lnTo>
                <a:lnTo>
                  <a:pt x="1636" y="3915"/>
                </a:lnTo>
                <a:lnTo>
                  <a:pt x="1587" y="3926"/>
                </a:lnTo>
                <a:lnTo>
                  <a:pt x="1537" y="3939"/>
                </a:lnTo>
                <a:lnTo>
                  <a:pt x="1489" y="3951"/>
                </a:lnTo>
                <a:lnTo>
                  <a:pt x="1444" y="3965"/>
                </a:lnTo>
                <a:lnTo>
                  <a:pt x="1399" y="3980"/>
                </a:lnTo>
                <a:lnTo>
                  <a:pt x="1355" y="3995"/>
                </a:lnTo>
                <a:lnTo>
                  <a:pt x="1314" y="4012"/>
                </a:lnTo>
                <a:lnTo>
                  <a:pt x="1274" y="4029"/>
                </a:lnTo>
                <a:lnTo>
                  <a:pt x="1237" y="4046"/>
                </a:lnTo>
                <a:lnTo>
                  <a:pt x="1200" y="4065"/>
                </a:lnTo>
                <a:lnTo>
                  <a:pt x="1166" y="4085"/>
                </a:lnTo>
                <a:lnTo>
                  <a:pt x="1134" y="4104"/>
                </a:lnTo>
                <a:lnTo>
                  <a:pt x="1104" y="4124"/>
                </a:lnTo>
                <a:lnTo>
                  <a:pt x="1076" y="4146"/>
                </a:lnTo>
                <a:lnTo>
                  <a:pt x="1049" y="4167"/>
                </a:lnTo>
                <a:lnTo>
                  <a:pt x="1026" y="4189"/>
                </a:lnTo>
                <a:lnTo>
                  <a:pt x="1004" y="4211"/>
                </a:lnTo>
                <a:lnTo>
                  <a:pt x="984" y="4235"/>
                </a:lnTo>
                <a:lnTo>
                  <a:pt x="968" y="4259"/>
                </a:lnTo>
                <a:lnTo>
                  <a:pt x="953" y="4282"/>
                </a:lnTo>
                <a:lnTo>
                  <a:pt x="947" y="4295"/>
                </a:lnTo>
                <a:lnTo>
                  <a:pt x="941" y="4307"/>
                </a:lnTo>
                <a:lnTo>
                  <a:pt x="936" y="4320"/>
                </a:lnTo>
                <a:lnTo>
                  <a:pt x="931" y="4332"/>
                </a:lnTo>
                <a:lnTo>
                  <a:pt x="927" y="4344"/>
                </a:lnTo>
                <a:lnTo>
                  <a:pt x="924" y="4358"/>
                </a:lnTo>
                <a:lnTo>
                  <a:pt x="922" y="4370"/>
                </a:lnTo>
                <a:lnTo>
                  <a:pt x="920" y="4383"/>
                </a:lnTo>
                <a:lnTo>
                  <a:pt x="919" y="4396"/>
                </a:lnTo>
                <a:lnTo>
                  <a:pt x="919" y="4408"/>
                </a:lnTo>
                <a:lnTo>
                  <a:pt x="3491" y="4408"/>
                </a:lnTo>
                <a:lnTo>
                  <a:pt x="3491" y="4396"/>
                </a:lnTo>
                <a:lnTo>
                  <a:pt x="3490" y="4383"/>
                </a:lnTo>
                <a:lnTo>
                  <a:pt x="3488" y="4370"/>
                </a:lnTo>
                <a:lnTo>
                  <a:pt x="3486" y="4358"/>
                </a:lnTo>
                <a:lnTo>
                  <a:pt x="3482" y="4344"/>
                </a:lnTo>
                <a:lnTo>
                  <a:pt x="3478" y="4332"/>
                </a:lnTo>
                <a:lnTo>
                  <a:pt x="3474" y="4320"/>
                </a:lnTo>
                <a:lnTo>
                  <a:pt x="3469" y="4307"/>
                </a:lnTo>
                <a:lnTo>
                  <a:pt x="3463" y="4295"/>
                </a:lnTo>
                <a:lnTo>
                  <a:pt x="3457" y="4282"/>
                </a:lnTo>
                <a:lnTo>
                  <a:pt x="3443" y="4259"/>
                </a:lnTo>
                <a:lnTo>
                  <a:pt x="3426" y="4235"/>
                </a:lnTo>
                <a:lnTo>
                  <a:pt x="3406" y="4211"/>
                </a:lnTo>
                <a:lnTo>
                  <a:pt x="3384" y="4189"/>
                </a:lnTo>
                <a:lnTo>
                  <a:pt x="3361" y="4167"/>
                </a:lnTo>
                <a:lnTo>
                  <a:pt x="3334" y="4146"/>
                </a:lnTo>
                <a:lnTo>
                  <a:pt x="3306" y="4124"/>
                </a:lnTo>
                <a:lnTo>
                  <a:pt x="3276" y="4104"/>
                </a:lnTo>
                <a:lnTo>
                  <a:pt x="3244" y="4085"/>
                </a:lnTo>
                <a:lnTo>
                  <a:pt x="3210" y="4065"/>
                </a:lnTo>
                <a:lnTo>
                  <a:pt x="3173" y="4046"/>
                </a:lnTo>
                <a:lnTo>
                  <a:pt x="3136" y="4029"/>
                </a:lnTo>
                <a:lnTo>
                  <a:pt x="3096" y="4012"/>
                </a:lnTo>
                <a:lnTo>
                  <a:pt x="3054" y="3995"/>
                </a:lnTo>
                <a:lnTo>
                  <a:pt x="3011" y="3980"/>
                </a:lnTo>
                <a:lnTo>
                  <a:pt x="2966" y="3965"/>
                </a:lnTo>
                <a:lnTo>
                  <a:pt x="2921" y="3951"/>
                </a:lnTo>
                <a:lnTo>
                  <a:pt x="2873" y="3939"/>
                </a:lnTo>
                <a:lnTo>
                  <a:pt x="2823" y="3926"/>
                </a:lnTo>
                <a:lnTo>
                  <a:pt x="2773" y="3915"/>
                </a:lnTo>
                <a:lnTo>
                  <a:pt x="2722" y="3904"/>
                </a:lnTo>
                <a:lnTo>
                  <a:pt x="2669" y="3895"/>
                </a:lnTo>
                <a:lnTo>
                  <a:pt x="2615" y="3887"/>
                </a:lnTo>
                <a:lnTo>
                  <a:pt x="2559" y="3880"/>
                </a:lnTo>
                <a:lnTo>
                  <a:pt x="2504" y="3873"/>
                </a:lnTo>
                <a:lnTo>
                  <a:pt x="2447" y="3868"/>
                </a:lnTo>
                <a:lnTo>
                  <a:pt x="2389" y="3864"/>
                </a:lnTo>
                <a:lnTo>
                  <a:pt x="2389" y="2549"/>
                </a:lnTo>
                <a:lnTo>
                  <a:pt x="2434" y="2538"/>
                </a:lnTo>
                <a:lnTo>
                  <a:pt x="2477" y="2525"/>
                </a:lnTo>
                <a:lnTo>
                  <a:pt x="2521" y="2508"/>
                </a:lnTo>
                <a:lnTo>
                  <a:pt x="2565" y="2491"/>
                </a:lnTo>
                <a:lnTo>
                  <a:pt x="2607" y="2471"/>
                </a:lnTo>
                <a:lnTo>
                  <a:pt x="2649" y="2449"/>
                </a:lnTo>
                <a:lnTo>
                  <a:pt x="2689" y="2425"/>
                </a:lnTo>
                <a:lnTo>
                  <a:pt x="2730" y="2399"/>
                </a:lnTo>
                <a:lnTo>
                  <a:pt x="2769" y="2370"/>
                </a:lnTo>
                <a:lnTo>
                  <a:pt x="2809" y="2341"/>
                </a:lnTo>
                <a:lnTo>
                  <a:pt x="2846" y="2310"/>
                </a:lnTo>
                <a:lnTo>
                  <a:pt x="2884" y="2276"/>
                </a:lnTo>
                <a:lnTo>
                  <a:pt x="2921" y="2242"/>
                </a:lnTo>
                <a:lnTo>
                  <a:pt x="2956" y="2205"/>
                </a:lnTo>
                <a:lnTo>
                  <a:pt x="2992" y="2167"/>
                </a:lnTo>
                <a:lnTo>
                  <a:pt x="3025" y="2127"/>
                </a:lnTo>
                <a:close/>
                <a:moveTo>
                  <a:pt x="3491" y="791"/>
                </a:moveTo>
                <a:lnTo>
                  <a:pt x="3491" y="367"/>
                </a:lnTo>
                <a:lnTo>
                  <a:pt x="3786" y="367"/>
                </a:lnTo>
                <a:lnTo>
                  <a:pt x="4226" y="367"/>
                </a:lnTo>
                <a:lnTo>
                  <a:pt x="4226" y="403"/>
                </a:lnTo>
                <a:lnTo>
                  <a:pt x="4225" y="441"/>
                </a:lnTo>
                <a:lnTo>
                  <a:pt x="4223" y="482"/>
                </a:lnTo>
                <a:lnTo>
                  <a:pt x="4220" y="525"/>
                </a:lnTo>
                <a:lnTo>
                  <a:pt x="4216" y="570"/>
                </a:lnTo>
                <a:lnTo>
                  <a:pt x="4211" y="617"/>
                </a:lnTo>
                <a:lnTo>
                  <a:pt x="4205" y="665"/>
                </a:lnTo>
                <a:lnTo>
                  <a:pt x="4198" y="716"/>
                </a:lnTo>
                <a:lnTo>
                  <a:pt x="4188" y="767"/>
                </a:lnTo>
                <a:lnTo>
                  <a:pt x="4177" y="819"/>
                </a:lnTo>
                <a:lnTo>
                  <a:pt x="4165" y="873"/>
                </a:lnTo>
                <a:lnTo>
                  <a:pt x="4152" y="927"/>
                </a:lnTo>
                <a:lnTo>
                  <a:pt x="4136" y="982"/>
                </a:lnTo>
                <a:lnTo>
                  <a:pt x="4117" y="1037"/>
                </a:lnTo>
                <a:lnTo>
                  <a:pt x="4097" y="1091"/>
                </a:lnTo>
                <a:lnTo>
                  <a:pt x="4075" y="1146"/>
                </a:lnTo>
                <a:lnTo>
                  <a:pt x="4050" y="1201"/>
                </a:lnTo>
                <a:lnTo>
                  <a:pt x="4037" y="1227"/>
                </a:lnTo>
                <a:lnTo>
                  <a:pt x="4023" y="1255"/>
                </a:lnTo>
                <a:lnTo>
                  <a:pt x="4009" y="1281"/>
                </a:lnTo>
                <a:lnTo>
                  <a:pt x="3994" y="1307"/>
                </a:lnTo>
                <a:lnTo>
                  <a:pt x="3977" y="1334"/>
                </a:lnTo>
                <a:lnTo>
                  <a:pt x="3961" y="1360"/>
                </a:lnTo>
                <a:lnTo>
                  <a:pt x="3944" y="1385"/>
                </a:lnTo>
                <a:lnTo>
                  <a:pt x="3926" y="1412"/>
                </a:lnTo>
                <a:lnTo>
                  <a:pt x="3907" y="1436"/>
                </a:lnTo>
                <a:lnTo>
                  <a:pt x="3887" y="1462"/>
                </a:lnTo>
                <a:lnTo>
                  <a:pt x="3867" y="1486"/>
                </a:lnTo>
                <a:lnTo>
                  <a:pt x="3847" y="1510"/>
                </a:lnTo>
                <a:lnTo>
                  <a:pt x="3824" y="1534"/>
                </a:lnTo>
                <a:lnTo>
                  <a:pt x="3802" y="1557"/>
                </a:lnTo>
                <a:lnTo>
                  <a:pt x="3779" y="1579"/>
                </a:lnTo>
                <a:lnTo>
                  <a:pt x="3754" y="1602"/>
                </a:lnTo>
                <a:lnTo>
                  <a:pt x="3729" y="1623"/>
                </a:lnTo>
                <a:lnTo>
                  <a:pt x="3703" y="1644"/>
                </a:lnTo>
                <a:lnTo>
                  <a:pt x="3676" y="1664"/>
                </a:lnTo>
                <a:lnTo>
                  <a:pt x="3649" y="1685"/>
                </a:lnTo>
                <a:lnTo>
                  <a:pt x="3619" y="1704"/>
                </a:lnTo>
                <a:lnTo>
                  <a:pt x="3590" y="1722"/>
                </a:lnTo>
                <a:lnTo>
                  <a:pt x="3560" y="1740"/>
                </a:lnTo>
                <a:lnTo>
                  <a:pt x="3528" y="1758"/>
                </a:lnTo>
                <a:lnTo>
                  <a:pt x="3496" y="1775"/>
                </a:lnTo>
                <a:lnTo>
                  <a:pt x="3462" y="1790"/>
                </a:lnTo>
                <a:lnTo>
                  <a:pt x="3428" y="1805"/>
                </a:lnTo>
                <a:lnTo>
                  <a:pt x="3392" y="1820"/>
                </a:lnTo>
                <a:lnTo>
                  <a:pt x="3357" y="1833"/>
                </a:lnTo>
                <a:lnTo>
                  <a:pt x="3319" y="1846"/>
                </a:lnTo>
                <a:lnTo>
                  <a:pt x="3192" y="1886"/>
                </a:lnTo>
                <a:lnTo>
                  <a:pt x="3227" y="1825"/>
                </a:lnTo>
                <a:lnTo>
                  <a:pt x="3258" y="1763"/>
                </a:lnTo>
                <a:lnTo>
                  <a:pt x="3289" y="1700"/>
                </a:lnTo>
                <a:lnTo>
                  <a:pt x="3317" y="1635"/>
                </a:lnTo>
                <a:lnTo>
                  <a:pt x="3345" y="1569"/>
                </a:lnTo>
                <a:lnTo>
                  <a:pt x="3369" y="1501"/>
                </a:lnTo>
                <a:lnTo>
                  <a:pt x="3391" y="1433"/>
                </a:lnTo>
                <a:lnTo>
                  <a:pt x="3411" y="1364"/>
                </a:lnTo>
                <a:lnTo>
                  <a:pt x="3430" y="1294"/>
                </a:lnTo>
                <a:lnTo>
                  <a:pt x="3446" y="1223"/>
                </a:lnTo>
                <a:lnTo>
                  <a:pt x="3459" y="1152"/>
                </a:lnTo>
                <a:lnTo>
                  <a:pt x="3470" y="1080"/>
                </a:lnTo>
                <a:lnTo>
                  <a:pt x="3475" y="1044"/>
                </a:lnTo>
                <a:lnTo>
                  <a:pt x="3479" y="1008"/>
                </a:lnTo>
                <a:lnTo>
                  <a:pt x="3482" y="972"/>
                </a:lnTo>
                <a:lnTo>
                  <a:pt x="3486" y="936"/>
                </a:lnTo>
                <a:lnTo>
                  <a:pt x="3488" y="900"/>
                </a:lnTo>
                <a:lnTo>
                  <a:pt x="3490" y="863"/>
                </a:lnTo>
                <a:lnTo>
                  <a:pt x="3491" y="828"/>
                </a:lnTo>
                <a:lnTo>
                  <a:pt x="3491" y="791"/>
                </a:lnTo>
                <a:close/>
                <a:moveTo>
                  <a:pt x="1091" y="1846"/>
                </a:moveTo>
                <a:lnTo>
                  <a:pt x="1091" y="1846"/>
                </a:lnTo>
                <a:lnTo>
                  <a:pt x="1053" y="1833"/>
                </a:lnTo>
                <a:lnTo>
                  <a:pt x="1017" y="1820"/>
                </a:lnTo>
                <a:lnTo>
                  <a:pt x="981" y="1805"/>
                </a:lnTo>
                <a:lnTo>
                  <a:pt x="947" y="1791"/>
                </a:lnTo>
                <a:lnTo>
                  <a:pt x="913" y="1775"/>
                </a:lnTo>
                <a:lnTo>
                  <a:pt x="881" y="1759"/>
                </a:lnTo>
                <a:lnTo>
                  <a:pt x="849" y="1741"/>
                </a:lnTo>
                <a:lnTo>
                  <a:pt x="819" y="1723"/>
                </a:lnTo>
                <a:lnTo>
                  <a:pt x="789" y="1705"/>
                </a:lnTo>
                <a:lnTo>
                  <a:pt x="760" y="1686"/>
                </a:lnTo>
                <a:lnTo>
                  <a:pt x="733" y="1665"/>
                </a:lnTo>
                <a:lnTo>
                  <a:pt x="705" y="1645"/>
                </a:lnTo>
                <a:lnTo>
                  <a:pt x="680" y="1624"/>
                </a:lnTo>
                <a:lnTo>
                  <a:pt x="655" y="1603"/>
                </a:lnTo>
                <a:lnTo>
                  <a:pt x="630" y="1580"/>
                </a:lnTo>
                <a:lnTo>
                  <a:pt x="607" y="1558"/>
                </a:lnTo>
                <a:lnTo>
                  <a:pt x="585" y="1535"/>
                </a:lnTo>
                <a:lnTo>
                  <a:pt x="562" y="1511"/>
                </a:lnTo>
                <a:lnTo>
                  <a:pt x="541" y="1487"/>
                </a:lnTo>
                <a:lnTo>
                  <a:pt x="521" y="1463"/>
                </a:lnTo>
                <a:lnTo>
                  <a:pt x="501" y="1438"/>
                </a:lnTo>
                <a:lnTo>
                  <a:pt x="483" y="1413"/>
                </a:lnTo>
                <a:lnTo>
                  <a:pt x="465" y="1387"/>
                </a:lnTo>
                <a:lnTo>
                  <a:pt x="448" y="1361"/>
                </a:lnTo>
                <a:lnTo>
                  <a:pt x="431" y="1336"/>
                </a:lnTo>
                <a:lnTo>
                  <a:pt x="415" y="1309"/>
                </a:lnTo>
                <a:lnTo>
                  <a:pt x="400" y="1283"/>
                </a:lnTo>
                <a:lnTo>
                  <a:pt x="386" y="1256"/>
                </a:lnTo>
                <a:lnTo>
                  <a:pt x="372" y="1229"/>
                </a:lnTo>
                <a:lnTo>
                  <a:pt x="358" y="1202"/>
                </a:lnTo>
                <a:lnTo>
                  <a:pt x="334" y="1147"/>
                </a:lnTo>
                <a:lnTo>
                  <a:pt x="312" y="1092"/>
                </a:lnTo>
                <a:lnTo>
                  <a:pt x="291" y="1038"/>
                </a:lnTo>
                <a:lnTo>
                  <a:pt x="273" y="983"/>
                </a:lnTo>
                <a:lnTo>
                  <a:pt x="258" y="928"/>
                </a:lnTo>
                <a:lnTo>
                  <a:pt x="244" y="874"/>
                </a:lnTo>
                <a:lnTo>
                  <a:pt x="232" y="820"/>
                </a:lnTo>
                <a:lnTo>
                  <a:pt x="221" y="768"/>
                </a:lnTo>
                <a:lnTo>
                  <a:pt x="212" y="716"/>
                </a:lnTo>
                <a:lnTo>
                  <a:pt x="204" y="666"/>
                </a:lnTo>
                <a:lnTo>
                  <a:pt x="198" y="618"/>
                </a:lnTo>
                <a:lnTo>
                  <a:pt x="194" y="570"/>
                </a:lnTo>
                <a:lnTo>
                  <a:pt x="190" y="525"/>
                </a:lnTo>
                <a:lnTo>
                  <a:pt x="187" y="482"/>
                </a:lnTo>
                <a:lnTo>
                  <a:pt x="185" y="441"/>
                </a:lnTo>
                <a:lnTo>
                  <a:pt x="184" y="404"/>
                </a:lnTo>
                <a:lnTo>
                  <a:pt x="184" y="367"/>
                </a:lnTo>
                <a:lnTo>
                  <a:pt x="624" y="367"/>
                </a:lnTo>
                <a:lnTo>
                  <a:pt x="919" y="367"/>
                </a:lnTo>
                <a:lnTo>
                  <a:pt x="919" y="791"/>
                </a:lnTo>
                <a:lnTo>
                  <a:pt x="919" y="828"/>
                </a:lnTo>
                <a:lnTo>
                  <a:pt x="920" y="863"/>
                </a:lnTo>
                <a:lnTo>
                  <a:pt x="922" y="900"/>
                </a:lnTo>
                <a:lnTo>
                  <a:pt x="924" y="936"/>
                </a:lnTo>
                <a:lnTo>
                  <a:pt x="927" y="972"/>
                </a:lnTo>
                <a:lnTo>
                  <a:pt x="930" y="1008"/>
                </a:lnTo>
                <a:lnTo>
                  <a:pt x="935" y="1044"/>
                </a:lnTo>
                <a:lnTo>
                  <a:pt x="940" y="1080"/>
                </a:lnTo>
                <a:lnTo>
                  <a:pt x="951" y="1151"/>
                </a:lnTo>
                <a:lnTo>
                  <a:pt x="964" y="1223"/>
                </a:lnTo>
                <a:lnTo>
                  <a:pt x="980" y="1293"/>
                </a:lnTo>
                <a:lnTo>
                  <a:pt x="998" y="1363"/>
                </a:lnTo>
                <a:lnTo>
                  <a:pt x="1019" y="1432"/>
                </a:lnTo>
                <a:lnTo>
                  <a:pt x="1041" y="1501"/>
                </a:lnTo>
                <a:lnTo>
                  <a:pt x="1065" y="1568"/>
                </a:lnTo>
                <a:lnTo>
                  <a:pt x="1092" y="1634"/>
                </a:lnTo>
                <a:lnTo>
                  <a:pt x="1120" y="1699"/>
                </a:lnTo>
                <a:lnTo>
                  <a:pt x="1151" y="1763"/>
                </a:lnTo>
                <a:lnTo>
                  <a:pt x="1183" y="1825"/>
                </a:lnTo>
                <a:lnTo>
                  <a:pt x="1217" y="1885"/>
                </a:lnTo>
                <a:lnTo>
                  <a:pt x="1091" y="1846"/>
                </a:lnTo>
                <a:close/>
                <a:moveTo>
                  <a:pt x="2205" y="1626"/>
                </a:moveTo>
                <a:lnTo>
                  <a:pt x="1637" y="2020"/>
                </a:lnTo>
                <a:lnTo>
                  <a:pt x="1837" y="1359"/>
                </a:lnTo>
                <a:lnTo>
                  <a:pt x="1287" y="940"/>
                </a:lnTo>
                <a:lnTo>
                  <a:pt x="1978" y="927"/>
                </a:lnTo>
                <a:lnTo>
                  <a:pt x="2205" y="274"/>
                </a:lnTo>
                <a:lnTo>
                  <a:pt x="2433" y="927"/>
                </a:lnTo>
                <a:lnTo>
                  <a:pt x="3123" y="940"/>
                </a:lnTo>
                <a:lnTo>
                  <a:pt x="2573" y="1359"/>
                </a:lnTo>
                <a:lnTo>
                  <a:pt x="2772" y="2020"/>
                </a:lnTo>
                <a:lnTo>
                  <a:pt x="2205" y="162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矩形 13"/>
          <p:cNvSpPr/>
          <p:nvPr/>
        </p:nvSpPr>
        <p:spPr>
          <a:xfrm>
            <a:off x="8751960" y="2908440"/>
            <a:ext cx="259236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Calibri"/>
            </a:endParaRPr>
          </a:p>
        </p:txBody>
      </p:sp>
      <p:sp>
        <p:nvSpPr>
          <p:cNvPr id="612" name="TextBox 15"/>
          <p:cNvSpPr/>
          <p:nvPr/>
        </p:nvSpPr>
        <p:spPr>
          <a:xfrm>
            <a:off x="1235160" y="4422600"/>
            <a:ext cx="9704160" cy="10674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a:t>
            </a:r>
            <a:endParaRPr b="0" lang="en-US" sz="16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矩形 5"/>
          <p:cNvSpPr/>
          <p:nvPr/>
        </p:nvSpPr>
        <p:spPr>
          <a:xfrm>
            <a:off x="5830920" y="-42840"/>
            <a:ext cx="60156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614" name="矩形 1"/>
          <p:cNvSpPr/>
          <p:nvPr/>
        </p:nvSpPr>
        <p:spPr>
          <a:xfrm>
            <a:off x="4725360" y="4257720"/>
            <a:ext cx="27410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应用价值</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Application Value </a:t>
            </a:r>
            <a:endParaRPr b="0" lang="en-US" sz="2400" spc="-1" strike="noStrike">
              <a:solidFill>
                <a:srgbClr val="000000"/>
              </a:solidFill>
              <a:latin typeface="Calibri"/>
            </a:endParaRPr>
          </a:p>
        </p:txBody>
      </p:sp>
      <p:grpSp>
        <p:nvGrpSpPr>
          <p:cNvPr id="615" name="组合 15"/>
          <p:cNvGrpSpPr/>
          <p:nvPr/>
        </p:nvGrpSpPr>
        <p:grpSpPr>
          <a:xfrm>
            <a:off x="4915080" y="1460520"/>
            <a:ext cx="2431800" cy="2432160"/>
            <a:chOff x="4915080" y="1460520"/>
            <a:chExt cx="2431800" cy="2432160"/>
          </a:xfrm>
        </p:grpSpPr>
        <p:sp>
          <p:nvSpPr>
            <p:cNvPr id="616" name="KSO_Shape"/>
            <p:cNvSpPr/>
            <p:nvPr/>
          </p:nvSpPr>
          <p:spPr>
            <a:xfrm>
              <a:off x="5418000" y="1879560"/>
              <a:ext cx="1425600" cy="159408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椭圆 17"/>
            <p:cNvSpPr/>
            <p:nvPr/>
          </p:nvSpPr>
          <p:spPr>
            <a:xfrm>
              <a:off x="4915080" y="1460520"/>
              <a:ext cx="2431800" cy="24321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六边形 2"/>
          <p:cNvSpPr/>
          <p:nvPr/>
        </p:nvSpPr>
        <p:spPr>
          <a:xfrm>
            <a:off x="2562120" y="2057400"/>
            <a:ext cx="2048040" cy="1765440"/>
          </a:xfrm>
          <a:prstGeom prst="hexagon">
            <a:avLst>
              <a:gd name="adj" fmla="val 25000"/>
              <a:gd name="vf" fmla="val 115470"/>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六边形 3"/>
          <p:cNvSpPr/>
          <p:nvPr/>
        </p:nvSpPr>
        <p:spPr>
          <a:xfrm>
            <a:off x="4235400" y="2940120"/>
            <a:ext cx="2048040" cy="1765080"/>
          </a:xfrm>
          <a:prstGeom prst="hexagon">
            <a:avLst>
              <a:gd name="adj" fmla="val 25006"/>
              <a:gd name="vf" fmla="val 115470"/>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六边形 4"/>
          <p:cNvSpPr/>
          <p:nvPr/>
        </p:nvSpPr>
        <p:spPr>
          <a:xfrm>
            <a:off x="5908680" y="2057400"/>
            <a:ext cx="2048040" cy="1765440"/>
          </a:xfrm>
          <a:prstGeom prst="hexagon">
            <a:avLst>
              <a:gd name="adj" fmla="val 25000"/>
              <a:gd name="vf" fmla="val 115470"/>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六边形 5"/>
          <p:cNvSpPr/>
          <p:nvPr/>
        </p:nvSpPr>
        <p:spPr>
          <a:xfrm>
            <a:off x="7581960" y="2940120"/>
            <a:ext cx="2047680" cy="1765080"/>
          </a:xfrm>
          <a:prstGeom prst="hexagon">
            <a:avLst>
              <a:gd name="adj" fmla="val 25001"/>
              <a:gd name="vf" fmla="val 115470"/>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六边形 18"/>
          <p:cNvSpPr/>
          <p:nvPr/>
        </p:nvSpPr>
        <p:spPr>
          <a:xfrm>
            <a:off x="888840" y="2940120"/>
            <a:ext cx="2048040" cy="1765080"/>
          </a:xfrm>
          <a:prstGeom prst="hexagon">
            <a:avLst>
              <a:gd name="adj" fmla="val 25006"/>
              <a:gd name="vf" fmla="val 115470"/>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六边形 19"/>
          <p:cNvSpPr/>
          <p:nvPr/>
        </p:nvSpPr>
        <p:spPr>
          <a:xfrm>
            <a:off x="9255240" y="2082960"/>
            <a:ext cx="2047680" cy="1765080"/>
          </a:xfrm>
          <a:prstGeom prst="hexagon">
            <a:avLst>
              <a:gd name="adj" fmla="val 25001"/>
              <a:gd name="vf" fmla="val 115470"/>
            </a:avLst>
          </a:prstGeom>
          <a:noFill/>
          <a:ln w="1260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文本框 20"/>
          <p:cNvSpPr/>
          <p:nvPr/>
        </p:nvSpPr>
        <p:spPr>
          <a:xfrm>
            <a:off x="323100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5" name="文本框 21"/>
          <p:cNvSpPr/>
          <p:nvPr/>
        </p:nvSpPr>
        <p:spPr>
          <a:xfrm>
            <a:off x="4927320" y="35305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6" name="文本框 22"/>
          <p:cNvSpPr/>
          <p:nvPr/>
        </p:nvSpPr>
        <p:spPr>
          <a:xfrm>
            <a:off x="659592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7" name="文本框 23"/>
          <p:cNvSpPr/>
          <p:nvPr/>
        </p:nvSpPr>
        <p:spPr>
          <a:xfrm>
            <a:off x="8272440" y="3556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8" name="矩形 1"/>
          <p:cNvSpPr/>
          <p:nvPr/>
        </p:nvSpPr>
        <p:spPr>
          <a:xfrm>
            <a:off x="293688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29" name="矩形 27"/>
          <p:cNvSpPr/>
          <p:nvPr/>
        </p:nvSpPr>
        <p:spPr>
          <a:xfrm>
            <a:off x="335448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0" name="矩形 1"/>
          <p:cNvSpPr/>
          <p:nvPr/>
        </p:nvSpPr>
        <p:spPr>
          <a:xfrm>
            <a:off x="634536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1" name="矩形 29"/>
          <p:cNvSpPr/>
          <p:nvPr/>
        </p:nvSpPr>
        <p:spPr>
          <a:xfrm>
            <a:off x="676296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2" name="矩形 1"/>
          <p:cNvSpPr/>
          <p:nvPr/>
        </p:nvSpPr>
        <p:spPr>
          <a:xfrm>
            <a:off x="46195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3" name="矩形 31"/>
          <p:cNvSpPr/>
          <p:nvPr/>
        </p:nvSpPr>
        <p:spPr>
          <a:xfrm>
            <a:off x="50378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4" name="矩形 1"/>
          <p:cNvSpPr/>
          <p:nvPr/>
        </p:nvSpPr>
        <p:spPr>
          <a:xfrm>
            <a:off x="79567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5" name="矩形 33"/>
          <p:cNvSpPr/>
          <p:nvPr/>
        </p:nvSpPr>
        <p:spPr>
          <a:xfrm>
            <a:off x="83750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pic>
        <p:nvPicPr>
          <p:cNvPr id="636" name="Group 98" descr=""/>
          <p:cNvPicPr/>
          <p:nvPr/>
        </p:nvPicPr>
        <p:blipFill>
          <a:blip r:embed="rId1"/>
          <a:stretch/>
        </p:blipFill>
        <p:spPr>
          <a:xfrm>
            <a:off x="9744120" y="2452680"/>
            <a:ext cx="1055520" cy="982800"/>
          </a:xfrm>
          <a:prstGeom prst="rect">
            <a:avLst/>
          </a:prstGeom>
          <a:ln w="0">
            <a:noFill/>
          </a:ln>
        </p:spPr>
      </p:pic>
      <p:pic>
        <p:nvPicPr>
          <p:cNvPr id="637" name="Group 78" descr=""/>
          <p:cNvPicPr/>
          <p:nvPr/>
        </p:nvPicPr>
        <p:blipFill>
          <a:blip r:embed="rId2"/>
          <a:stretch/>
        </p:blipFill>
        <p:spPr>
          <a:xfrm>
            <a:off x="1336680" y="3289320"/>
            <a:ext cx="1073160" cy="10382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矩形 1"/>
          <p:cNvSpPr/>
          <p:nvPr/>
        </p:nvSpPr>
        <p:spPr>
          <a:xfrm>
            <a:off x="4795200" y="4287960"/>
            <a:ext cx="26010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课题综述</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Project Overview</a:t>
            </a:r>
            <a:endParaRPr b="0" lang="en-US" sz="2400" spc="-1" strike="noStrike">
              <a:solidFill>
                <a:srgbClr val="000000"/>
              </a:solidFill>
              <a:latin typeface="Calibri"/>
            </a:endParaRPr>
          </a:p>
        </p:txBody>
      </p:sp>
      <p:grpSp>
        <p:nvGrpSpPr>
          <p:cNvPr id="219" name="组合 2"/>
          <p:cNvGrpSpPr/>
          <p:nvPr/>
        </p:nvGrpSpPr>
        <p:grpSpPr>
          <a:xfrm>
            <a:off x="4886280" y="1432080"/>
            <a:ext cx="2419560" cy="2417760"/>
            <a:chOff x="4886280" y="1432080"/>
            <a:chExt cx="2419560" cy="2417760"/>
          </a:xfrm>
        </p:grpSpPr>
        <p:sp>
          <p:nvSpPr>
            <p:cNvPr id="220" name="KSO_Shape"/>
            <p:cNvSpPr/>
            <p:nvPr/>
          </p:nvSpPr>
          <p:spPr>
            <a:xfrm>
              <a:off x="5302080" y="2092320"/>
              <a:ext cx="1587600" cy="109692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椭圆 4"/>
            <p:cNvSpPr/>
            <p:nvPr/>
          </p:nvSpPr>
          <p:spPr>
            <a:xfrm>
              <a:off x="4886280" y="1432080"/>
              <a:ext cx="2419560" cy="24177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2" name="矩形 5"/>
          <p:cNvSpPr/>
          <p:nvPr/>
        </p:nvSpPr>
        <p:spPr>
          <a:xfrm>
            <a:off x="5796000" y="-42840"/>
            <a:ext cx="60012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椭圆 6"/>
          <p:cNvSpPr/>
          <p:nvPr/>
        </p:nvSpPr>
        <p:spPr>
          <a:xfrm>
            <a:off x="7459560" y="2502000"/>
            <a:ext cx="228600" cy="2286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椭圆 7"/>
          <p:cNvSpPr/>
          <p:nvPr/>
        </p:nvSpPr>
        <p:spPr>
          <a:xfrm>
            <a:off x="7459560" y="4915080"/>
            <a:ext cx="228600" cy="228600"/>
          </a:xfrm>
          <a:prstGeom prst="ellipse">
            <a:avLst/>
          </a:pr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椭圆 17"/>
          <p:cNvSpPr/>
          <p:nvPr/>
        </p:nvSpPr>
        <p:spPr>
          <a:xfrm>
            <a:off x="7459560" y="4110120"/>
            <a:ext cx="228600" cy="22860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椭圆 18"/>
          <p:cNvSpPr/>
          <p:nvPr/>
        </p:nvSpPr>
        <p:spPr>
          <a:xfrm>
            <a:off x="7459560" y="1697040"/>
            <a:ext cx="228600" cy="22860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椭圆 31"/>
          <p:cNvSpPr/>
          <p:nvPr/>
        </p:nvSpPr>
        <p:spPr>
          <a:xfrm>
            <a:off x="7459560" y="3305160"/>
            <a:ext cx="228600" cy="228600"/>
          </a:xfrm>
          <a:prstGeom prst="ellipse">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矩形 13"/>
          <p:cNvSpPr/>
          <p:nvPr/>
        </p:nvSpPr>
        <p:spPr>
          <a:xfrm>
            <a:off x="7851600" y="151272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4" name="矩形 13"/>
          <p:cNvSpPr/>
          <p:nvPr/>
        </p:nvSpPr>
        <p:spPr>
          <a:xfrm>
            <a:off x="7851600" y="231624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5" name="矩形 13"/>
          <p:cNvSpPr/>
          <p:nvPr/>
        </p:nvSpPr>
        <p:spPr>
          <a:xfrm>
            <a:off x="7851600" y="31212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6" name="矩形 13"/>
          <p:cNvSpPr/>
          <p:nvPr/>
        </p:nvSpPr>
        <p:spPr>
          <a:xfrm>
            <a:off x="7851600" y="39258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7" name="矩形 13"/>
          <p:cNvSpPr/>
          <p:nvPr/>
        </p:nvSpPr>
        <p:spPr>
          <a:xfrm>
            <a:off x="7851600" y="473076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8" name="五边形 1"/>
          <p:cNvSpPr/>
          <p:nvPr/>
        </p:nvSpPr>
        <p:spPr>
          <a:xfrm>
            <a:off x="385920" y="180504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4" y="0"/>
                </a:lnTo>
                <a:lnTo>
                  <a:pt x="21600" y="10800"/>
                </a:lnTo>
                <a:lnTo>
                  <a:pt x="20354" y="21600"/>
                </a:lnTo>
                <a:lnTo>
                  <a:pt x="0" y="2160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五边形 29"/>
          <p:cNvSpPr/>
          <p:nvPr/>
        </p:nvSpPr>
        <p:spPr>
          <a:xfrm>
            <a:off x="385920" y="244332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0" name="五边形 37"/>
          <p:cNvSpPr/>
          <p:nvPr/>
        </p:nvSpPr>
        <p:spPr>
          <a:xfrm>
            <a:off x="385920" y="307980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五边形 38"/>
          <p:cNvSpPr/>
          <p:nvPr/>
        </p:nvSpPr>
        <p:spPr>
          <a:xfrm>
            <a:off x="385920" y="371628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4" y="0"/>
                </a:lnTo>
                <a:lnTo>
                  <a:pt x="21600" y="10800"/>
                </a:lnTo>
                <a:lnTo>
                  <a:pt x="20354" y="21600"/>
                </a:lnTo>
                <a:lnTo>
                  <a:pt x="0" y="2160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五边形 39"/>
          <p:cNvSpPr/>
          <p:nvPr/>
        </p:nvSpPr>
        <p:spPr>
          <a:xfrm>
            <a:off x="385920" y="435456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3" name="图片 2" descr=""/>
          <p:cNvPicPr/>
          <p:nvPr/>
        </p:nvPicPr>
        <p:blipFill>
          <a:blip r:embed="rId1"/>
          <a:stretch/>
        </p:blipFill>
        <p:spPr>
          <a:xfrm>
            <a:off x="1611360" y="928800"/>
            <a:ext cx="2566800" cy="5000400"/>
          </a:xfrm>
          <a:prstGeom prst="rect">
            <a:avLst/>
          </a:prstGeom>
          <a:ln w="0">
            <a:noFill/>
          </a:ln>
        </p:spPr>
      </p:pic>
      <p:sp>
        <p:nvSpPr>
          <p:cNvPr id="654" name="文本框 24"/>
          <p:cNvSpPr/>
          <p:nvPr/>
        </p:nvSpPr>
        <p:spPr>
          <a:xfrm>
            <a:off x="2155680" y="442908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Calibri"/>
            </a:endParaRPr>
          </a:p>
        </p:txBody>
      </p:sp>
      <p:sp>
        <p:nvSpPr>
          <p:cNvPr id="655" name="文本框 25"/>
          <p:cNvSpPr/>
          <p:nvPr/>
        </p:nvSpPr>
        <p:spPr>
          <a:xfrm>
            <a:off x="2155680" y="379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
        <p:nvSpPr>
          <p:cNvPr id="656" name="文本框 26"/>
          <p:cNvSpPr/>
          <p:nvPr/>
        </p:nvSpPr>
        <p:spPr>
          <a:xfrm>
            <a:off x="2155680" y="316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Calibri"/>
            </a:endParaRPr>
          </a:p>
        </p:txBody>
      </p:sp>
      <p:sp>
        <p:nvSpPr>
          <p:cNvPr id="657" name="文本框 27"/>
          <p:cNvSpPr/>
          <p:nvPr/>
        </p:nvSpPr>
        <p:spPr>
          <a:xfrm>
            <a:off x="2155680" y="25383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
        <p:nvSpPr>
          <p:cNvPr id="658" name="文本框 30"/>
          <p:cNvSpPr/>
          <p:nvPr/>
        </p:nvSpPr>
        <p:spPr>
          <a:xfrm>
            <a:off x="2155680" y="505944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图片 1" descr=""/>
          <p:cNvPicPr/>
          <p:nvPr/>
        </p:nvPicPr>
        <p:blipFill>
          <a:blip r:embed="rId1"/>
          <a:srcRect l="17019" t="8823" r="5692" b="26001"/>
          <a:stretch/>
        </p:blipFill>
        <p:spPr>
          <a:xfrm>
            <a:off x="173160" y="2176560"/>
            <a:ext cx="2922480" cy="1690560"/>
          </a:xfrm>
          <a:prstGeom prst="rect">
            <a:avLst/>
          </a:prstGeom>
          <a:ln w="0">
            <a:noFill/>
          </a:ln>
        </p:spPr>
      </p:pic>
      <p:pic>
        <p:nvPicPr>
          <p:cNvPr id="660" name="图片 2" descr=""/>
          <p:cNvPicPr/>
          <p:nvPr/>
        </p:nvPicPr>
        <p:blipFill>
          <a:blip r:embed="rId2"/>
          <a:srcRect l="16122" t="18319" r="13891" b="28480"/>
          <a:stretch/>
        </p:blipFill>
        <p:spPr>
          <a:xfrm>
            <a:off x="3147840" y="4087800"/>
            <a:ext cx="2922840" cy="1692360"/>
          </a:xfrm>
          <a:prstGeom prst="rect">
            <a:avLst/>
          </a:prstGeom>
          <a:ln w="0">
            <a:noFill/>
          </a:ln>
        </p:spPr>
      </p:pic>
      <p:pic>
        <p:nvPicPr>
          <p:cNvPr id="661" name="图片 3" descr=""/>
          <p:cNvPicPr/>
          <p:nvPr/>
        </p:nvPicPr>
        <p:blipFill>
          <a:blip r:embed="rId3"/>
          <a:srcRect l="20971" t="25637" r="7697" b="16213"/>
          <a:stretch/>
        </p:blipFill>
        <p:spPr>
          <a:xfrm>
            <a:off x="6121440" y="2176560"/>
            <a:ext cx="2922480" cy="1690560"/>
          </a:xfrm>
          <a:prstGeom prst="rect">
            <a:avLst/>
          </a:prstGeom>
          <a:ln w="0">
            <a:noFill/>
          </a:ln>
        </p:spPr>
      </p:pic>
      <p:pic>
        <p:nvPicPr>
          <p:cNvPr id="662" name="图片 4" descr=""/>
          <p:cNvPicPr/>
          <p:nvPr/>
        </p:nvPicPr>
        <p:blipFill>
          <a:blip r:embed="rId4"/>
          <a:srcRect l="15724" t="170" r="1621" b="30150"/>
          <a:stretch/>
        </p:blipFill>
        <p:spPr>
          <a:xfrm>
            <a:off x="9096480" y="4087800"/>
            <a:ext cx="2922480" cy="1692360"/>
          </a:xfrm>
          <a:prstGeom prst="rect">
            <a:avLst/>
          </a:prstGeom>
          <a:ln w="0">
            <a:noFill/>
          </a:ln>
        </p:spPr>
      </p:pic>
      <p:sp>
        <p:nvSpPr>
          <p:cNvPr id="663" name="矩形 5"/>
          <p:cNvSpPr/>
          <p:nvPr/>
        </p:nvSpPr>
        <p:spPr>
          <a:xfrm>
            <a:off x="173160" y="4087800"/>
            <a:ext cx="2922480" cy="1692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4" name="矩形 6"/>
          <p:cNvSpPr/>
          <p:nvPr/>
        </p:nvSpPr>
        <p:spPr>
          <a:xfrm>
            <a:off x="3147840" y="2176560"/>
            <a:ext cx="2922840" cy="1690560"/>
          </a:xfrm>
          <a:prstGeom prst="rect">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5" name="矩形 7"/>
          <p:cNvSpPr/>
          <p:nvPr/>
        </p:nvSpPr>
        <p:spPr>
          <a:xfrm>
            <a:off x="6121440" y="4087800"/>
            <a:ext cx="2922480" cy="16923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6" name="矩形 8"/>
          <p:cNvSpPr/>
          <p:nvPr/>
        </p:nvSpPr>
        <p:spPr>
          <a:xfrm>
            <a:off x="9096480" y="2176560"/>
            <a:ext cx="2922480" cy="16905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7" name="直接连接符 9"/>
          <p:cNvSpPr/>
          <p:nvPr/>
        </p:nvSpPr>
        <p:spPr>
          <a:xfrm>
            <a:off x="17316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直接连接符 10"/>
          <p:cNvSpPr/>
          <p:nvPr/>
        </p:nvSpPr>
        <p:spPr>
          <a:xfrm>
            <a:off x="772488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文本框 11"/>
          <p:cNvSpPr/>
          <p:nvPr/>
        </p:nvSpPr>
        <p:spPr>
          <a:xfrm>
            <a:off x="5117040" y="1077840"/>
            <a:ext cx="195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KEYWORD</a:t>
            </a:r>
            <a:endParaRPr b="0" lang="en-US" sz="2800" spc="-1" strike="noStrike">
              <a:solidFill>
                <a:srgbClr val="000000"/>
              </a:solidFill>
              <a:latin typeface="Calibri"/>
            </a:endParaRPr>
          </a:p>
        </p:txBody>
      </p:sp>
      <p:sp>
        <p:nvSpPr>
          <p:cNvPr id="670" name="TextBox 15"/>
          <p:cNvSpPr/>
          <p:nvPr/>
        </p:nvSpPr>
        <p:spPr>
          <a:xfrm>
            <a:off x="5122800" y="1509840"/>
            <a:ext cx="1946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a:t>
            </a:r>
            <a:endParaRPr b="0" lang="en-US" sz="1200" spc="-1" strike="noStrike">
              <a:solidFill>
                <a:srgbClr val="000000"/>
              </a:solidFill>
              <a:latin typeface="Calibri"/>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任意多边形 4"/>
          <p:cNvSpPr/>
          <p:nvPr/>
        </p:nvSpPr>
        <p:spPr>
          <a:xfrm>
            <a:off x="1082520" y="4324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2" name="任意多边形 5"/>
          <p:cNvSpPr/>
          <p:nvPr/>
        </p:nvSpPr>
        <p:spPr>
          <a:xfrm>
            <a:off x="1082520" y="2759040"/>
            <a:ext cx="10026720" cy="133992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3" name="任意多边形 6"/>
          <p:cNvSpPr/>
          <p:nvPr/>
        </p:nvSpPr>
        <p:spPr>
          <a:xfrm>
            <a:off x="1082520" y="1192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4" name="任意多边形 7"/>
          <p:cNvSpPr/>
          <p:nvPr/>
        </p:nvSpPr>
        <p:spPr>
          <a:xfrm>
            <a:off x="7346880" y="1305000"/>
            <a:ext cx="1685880" cy="112392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62c4bc"/>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75" name="任意多边形 8"/>
          <p:cNvSpPr/>
          <p:nvPr/>
        </p:nvSpPr>
        <p:spPr>
          <a:xfrm>
            <a:off x="6545160" y="2428920"/>
            <a:ext cx="1644840" cy="449280"/>
          </a:xfrm>
          <a:custGeom>
            <a:avLst/>
            <a:gdLst/>
            <a:ahLst/>
            <a:rect l="l" t="t" r="r" b="b"/>
            <a:pathLst>
              <a:path w="1644650" h="449262">
                <a:moveTo>
                  <a:pt x="1860415" y="0"/>
                </a:moveTo>
                <a:lnTo>
                  <a:pt x="1860415"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6" name="任意多边形 9"/>
          <p:cNvSpPr/>
          <p:nvPr/>
        </p:nvSpPr>
        <p:spPr>
          <a:xfrm>
            <a:off x="570240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8bc53f"/>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77" name="任意多边形 10"/>
          <p:cNvSpPr/>
          <p:nvPr/>
        </p:nvSpPr>
        <p:spPr>
          <a:xfrm>
            <a:off x="5334120" y="4003560"/>
            <a:ext cx="1095120" cy="449280"/>
          </a:xfrm>
          <a:custGeom>
            <a:avLst/>
            <a:gdLst/>
            <a:ahLst/>
            <a:rect l="l" t="t" r="r" b="b"/>
            <a:pathLst>
              <a:path w="1095375" h="449262">
                <a:moveTo>
                  <a:pt x="1240276" y="0"/>
                </a:moveTo>
                <a:lnTo>
                  <a:pt x="1240276"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任意多边形 11"/>
          <p:cNvSpPr/>
          <p:nvPr/>
        </p:nvSpPr>
        <p:spPr>
          <a:xfrm>
            <a:off x="4605480" y="4452840"/>
            <a:ext cx="1687320" cy="1123920"/>
          </a:xfrm>
          <a:prstGeom prst="pie">
            <a:avLst/>
          </a:prstGeom>
          <a:solidFill>
            <a:srgbClr val="ae73c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79" name="任意多边形 12"/>
          <p:cNvSpPr/>
          <p:nvPr/>
        </p:nvSpPr>
        <p:spPr>
          <a:xfrm>
            <a:off x="6576840" y="4011480"/>
            <a:ext cx="1003320" cy="449280"/>
          </a:xfrm>
          <a:custGeom>
            <a:avLst/>
            <a:gdLst/>
            <a:ahLst/>
            <a:rect l="l" t="t" r="r" b="b"/>
            <a:pathLst>
              <a:path w="1003300" h="449262">
                <a:moveTo>
                  <a:pt x="0" y="0"/>
                </a:moveTo>
                <a:lnTo>
                  <a:pt x="0" y="254415"/>
                </a:lnTo>
                <a:lnTo>
                  <a:pt x="1240276" y="254415"/>
                </a:lnTo>
                <a:lnTo>
                  <a:pt x="1240276"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0" name="任意多边形 13"/>
          <p:cNvSpPr/>
          <p:nvPr/>
        </p:nvSpPr>
        <p:spPr>
          <a:xfrm>
            <a:off x="6799320" y="4452840"/>
            <a:ext cx="1685880" cy="1123920"/>
          </a:xfrm>
          <a:prstGeom prst="pie">
            <a:avLst/>
          </a:prstGeom>
          <a:solidFill>
            <a:srgbClr val="f05a24"/>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81" name="任意多边形 14"/>
          <p:cNvSpPr/>
          <p:nvPr/>
        </p:nvSpPr>
        <p:spPr>
          <a:xfrm>
            <a:off x="8190000" y="2428920"/>
            <a:ext cx="1644480" cy="449280"/>
          </a:xfrm>
          <a:custGeom>
            <a:avLst/>
            <a:gdLst/>
            <a:ahLst/>
            <a:rect l="l" t="t" r="r" b="b"/>
            <a:pathLst>
              <a:path w="1644650" h="449262">
                <a:moveTo>
                  <a:pt x="0" y="0"/>
                </a:moveTo>
                <a:lnTo>
                  <a:pt x="0" y="254415"/>
                </a:lnTo>
                <a:lnTo>
                  <a:pt x="1860415" y="254415"/>
                </a:lnTo>
                <a:lnTo>
                  <a:pt x="1860415"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2" name="任意多边形 15"/>
          <p:cNvSpPr/>
          <p:nvPr/>
        </p:nvSpPr>
        <p:spPr>
          <a:xfrm>
            <a:off x="899172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faaf3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83" name="任意多边形 16"/>
          <p:cNvSpPr/>
          <p:nvPr/>
        </p:nvSpPr>
        <p:spPr>
          <a:xfrm>
            <a:off x="9793440" y="4003560"/>
            <a:ext cx="80640" cy="449280"/>
          </a:xfrm>
          <a:custGeom>
            <a:avLst/>
            <a:gdLst/>
            <a:ahLst/>
            <a:rect l="l" t="t" r="r" b="b"/>
            <a:pathLst>
              <a:path w="80962" h="449262">
                <a:moveTo>
                  <a:pt x="45720" y="0"/>
                </a:moveTo>
                <a:lnTo>
                  <a:pt x="4572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4" name="任意多边形 17"/>
          <p:cNvSpPr/>
          <p:nvPr/>
        </p:nvSpPr>
        <p:spPr>
          <a:xfrm>
            <a:off x="8991720" y="4452840"/>
            <a:ext cx="1685880" cy="1123920"/>
          </a:xfrm>
          <a:prstGeom prst="pie">
            <a:avLst/>
          </a:prstGeom>
          <a:solidFill>
            <a:srgbClr val="c0272d"/>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85" name="KSO_Shape"/>
          <p:cNvSpPr/>
          <p:nvPr/>
        </p:nvSpPr>
        <p:spPr>
          <a:xfrm>
            <a:off x="1347840" y="15717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0caa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KSO_Shape"/>
          <p:cNvSpPr/>
          <p:nvPr/>
        </p:nvSpPr>
        <p:spPr>
          <a:xfrm>
            <a:off x="1347840" y="3171960"/>
            <a:ext cx="487440" cy="4870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KSO_Shape"/>
          <p:cNvSpPr/>
          <p:nvPr/>
        </p:nvSpPr>
        <p:spPr>
          <a:xfrm>
            <a:off x="1347840" y="47703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KSO_Shape"/>
          <p:cNvSpPr/>
          <p:nvPr/>
        </p:nvSpPr>
        <p:spPr>
          <a:xfrm>
            <a:off x="6235560" y="3254400"/>
            <a:ext cx="559080" cy="4762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KSO_Shape"/>
          <p:cNvSpPr/>
          <p:nvPr/>
        </p:nvSpPr>
        <p:spPr>
          <a:xfrm>
            <a:off x="9513720" y="3203640"/>
            <a:ext cx="559080" cy="515880"/>
          </a:xfrm>
          <a:custGeom>
            <a:avLst/>
            <a:gdLst/>
            <a:ahLst/>
            <a:rect l="l" t="t" r="r" b="b"/>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TextBox 15"/>
          <p:cNvSpPr/>
          <p:nvPr/>
        </p:nvSpPr>
        <p:spPr>
          <a:xfrm>
            <a:off x="1886040" y="1353960"/>
            <a:ext cx="4879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a:t>
            </a:r>
            <a:endParaRPr b="0" lang="en-US" sz="1400" spc="-1" strike="noStrike">
              <a:solidFill>
                <a:srgbClr val="000000"/>
              </a:solidFill>
              <a:latin typeface="Calibri"/>
            </a:endParaRPr>
          </a:p>
        </p:txBody>
      </p:sp>
      <p:sp>
        <p:nvSpPr>
          <p:cNvPr id="691" name="TextBox 15"/>
          <p:cNvSpPr/>
          <p:nvPr/>
        </p:nvSpPr>
        <p:spPr>
          <a:xfrm>
            <a:off x="1886040" y="3049560"/>
            <a:ext cx="3681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a:t>
            </a:r>
            <a:endParaRPr b="0" lang="en-US" sz="1400" spc="-1" strike="noStrike">
              <a:solidFill>
                <a:srgbClr val="000000"/>
              </a:solidFill>
              <a:latin typeface="Calibri"/>
            </a:endParaRPr>
          </a:p>
        </p:txBody>
      </p:sp>
      <p:sp>
        <p:nvSpPr>
          <p:cNvPr id="692" name="TextBox 15"/>
          <p:cNvSpPr/>
          <p:nvPr/>
        </p:nvSpPr>
        <p:spPr>
          <a:xfrm>
            <a:off x="1886040" y="4626000"/>
            <a:ext cx="25779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a:t>
            </a:r>
            <a:endParaRPr b="0" lang="en-US" sz="1400" spc="-1" strike="noStrike">
              <a:solidFill>
                <a:srgbClr val="000000"/>
              </a:solidFill>
              <a:latin typeface="Calibri"/>
            </a:endParaRPr>
          </a:p>
        </p:txBody>
      </p:sp>
      <p:sp>
        <p:nvSpPr>
          <p:cNvPr id="693" name="KSO_Shape"/>
          <p:cNvSpPr/>
          <p:nvPr/>
        </p:nvSpPr>
        <p:spPr>
          <a:xfrm>
            <a:off x="7878600" y="1450800"/>
            <a:ext cx="622440" cy="847800"/>
          </a:xfrm>
          <a:custGeom>
            <a:avLst/>
            <a:gdLst/>
            <a:ahLst/>
            <a:rect l="l" t="t" r="r" b="b"/>
            <a:pathLst>
              <a:path w="4676" h="6235">
                <a:moveTo>
                  <a:pt x="4676" y="3897"/>
                </a:moveTo>
                <a:lnTo>
                  <a:pt x="4676" y="3897"/>
                </a:lnTo>
                <a:lnTo>
                  <a:pt x="4674" y="3817"/>
                </a:lnTo>
                <a:lnTo>
                  <a:pt x="4671" y="3736"/>
                </a:lnTo>
                <a:lnTo>
                  <a:pt x="4663" y="3656"/>
                </a:lnTo>
                <a:lnTo>
                  <a:pt x="4653" y="3575"/>
                </a:lnTo>
                <a:lnTo>
                  <a:pt x="4642" y="3493"/>
                </a:lnTo>
                <a:lnTo>
                  <a:pt x="4627" y="3412"/>
                </a:lnTo>
                <a:lnTo>
                  <a:pt x="4610" y="3330"/>
                </a:lnTo>
                <a:lnTo>
                  <a:pt x="4590" y="3249"/>
                </a:lnTo>
                <a:lnTo>
                  <a:pt x="4569" y="3167"/>
                </a:lnTo>
                <a:lnTo>
                  <a:pt x="4546" y="3086"/>
                </a:lnTo>
                <a:lnTo>
                  <a:pt x="4520" y="3005"/>
                </a:lnTo>
                <a:lnTo>
                  <a:pt x="4493" y="2923"/>
                </a:lnTo>
                <a:lnTo>
                  <a:pt x="4463" y="2842"/>
                </a:lnTo>
                <a:lnTo>
                  <a:pt x="4432" y="2761"/>
                </a:lnTo>
                <a:lnTo>
                  <a:pt x="4400" y="2680"/>
                </a:lnTo>
                <a:lnTo>
                  <a:pt x="4366" y="2600"/>
                </a:lnTo>
                <a:lnTo>
                  <a:pt x="4330" y="2520"/>
                </a:lnTo>
                <a:lnTo>
                  <a:pt x="4293" y="2441"/>
                </a:lnTo>
                <a:lnTo>
                  <a:pt x="4255" y="2362"/>
                </a:lnTo>
                <a:lnTo>
                  <a:pt x="4215" y="2283"/>
                </a:lnTo>
                <a:lnTo>
                  <a:pt x="4173" y="2205"/>
                </a:lnTo>
                <a:lnTo>
                  <a:pt x="4133" y="2127"/>
                </a:lnTo>
                <a:lnTo>
                  <a:pt x="4089" y="2051"/>
                </a:lnTo>
                <a:lnTo>
                  <a:pt x="4046" y="1975"/>
                </a:lnTo>
                <a:lnTo>
                  <a:pt x="4002" y="1900"/>
                </a:lnTo>
                <a:lnTo>
                  <a:pt x="3956" y="1825"/>
                </a:lnTo>
                <a:lnTo>
                  <a:pt x="3910" y="1752"/>
                </a:lnTo>
                <a:lnTo>
                  <a:pt x="3865" y="1679"/>
                </a:lnTo>
                <a:lnTo>
                  <a:pt x="3818" y="1608"/>
                </a:lnTo>
                <a:lnTo>
                  <a:pt x="3771" y="1537"/>
                </a:lnTo>
                <a:lnTo>
                  <a:pt x="3724" y="1468"/>
                </a:lnTo>
                <a:lnTo>
                  <a:pt x="3676" y="1399"/>
                </a:lnTo>
                <a:lnTo>
                  <a:pt x="3582" y="1266"/>
                </a:lnTo>
                <a:lnTo>
                  <a:pt x="3487" y="1139"/>
                </a:lnTo>
                <a:lnTo>
                  <a:pt x="3395" y="1016"/>
                </a:lnTo>
                <a:lnTo>
                  <a:pt x="3303" y="899"/>
                </a:lnTo>
                <a:lnTo>
                  <a:pt x="3214" y="789"/>
                </a:lnTo>
                <a:lnTo>
                  <a:pt x="3129" y="686"/>
                </a:lnTo>
                <a:lnTo>
                  <a:pt x="3048" y="590"/>
                </a:lnTo>
                <a:lnTo>
                  <a:pt x="2971" y="502"/>
                </a:lnTo>
                <a:lnTo>
                  <a:pt x="2901" y="420"/>
                </a:lnTo>
                <a:lnTo>
                  <a:pt x="2835" y="349"/>
                </a:lnTo>
                <a:lnTo>
                  <a:pt x="2777" y="285"/>
                </a:lnTo>
                <a:lnTo>
                  <a:pt x="2727" y="230"/>
                </a:lnTo>
                <a:lnTo>
                  <a:pt x="2650" y="151"/>
                </a:lnTo>
                <a:lnTo>
                  <a:pt x="2613" y="114"/>
                </a:lnTo>
                <a:lnTo>
                  <a:pt x="2600" y="100"/>
                </a:lnTo>
                <a:lnTo>
                  <a:pt x="2584" y="87"/>
                </a:lnTo>
                <a:lnTo>
                  <a:pt x="2569" y="75"/>
                </a:lnTo>
                <a:lnTo>
                  <a:pt x="2553" y="64"/>
                </a:lnTo>
                <a:lnTo>
                  <a:pt x="2536" y="54"/>
                </a:lnTo>
                <a:lnTo>
                  <a:pt x="2520" y="44"/>
                </a:lnTo>
                <a:lnTo>
                  <a:pt x="2502" y="37"/>
                </a:lnTo>
                <a:lnTo>
                  <a:pt x="2485" y="28"/>
                </a:lnTo>
                <a:lnTo>
                  <a:pt x="2466" y="22"/>
                </a:lnTo>
                <a:lnTo>
                  <a:pt x="2449" y="16"/>
                </a:lnTo>
                <a:lnTo>
                  <a:pt x="2431" y="11"/>
                </a:lnTo>
                <a:lnTo>
                  <a:pt x="2412" y="7"/>
                </a:lnTo>
                <a:lnTo>
                  <a:pt x="2394" y="5"/>
                </a:lnTo>
                <a:lnTo>
                  <a:pt x="2375" y="2"/>
                </a:lnTo>
                <a:lnTo>
                  <a:pt x="2357" y="1"/>
                </a:lnTo>
                <a:lnTo>
                  <a:pt x="2338" y="0"/>
                </a:lnTo>
                <a:lnTo>
                  <a:pt x="2320" y="1"/>
                </a:lnTo>
                <a:lnTo>
                  <a:pt x="2301" y="2"/>
                </a:lnTo>
                <a:lnTo>
                  <a:pt x="2283" y="5"/>
                </a:lnTo>
                <a:lnTo>
                  <a:pt x="2264" y="7"/>
                </a:lnTo>
                <a:lnTo>
                  <a:pt x="2246" y="11"/>
                </a:lnTo>
                <a:lnTo>
                  <a:pt x="2227" y="16"/>
                </a:lnTo>
                <a:lnTo>
                  <a:pt x="2209" y="22"/>
                </a:lnTo>
                <a:lnTo>
                  <a:pt x="2191" y="28"/>
                </a:lnTo>
                <a:lnTo>
                  <a:pt x="2174" y="37"/>
                </a:lnTo>
                <a:lnTo>
                  <a:pt x="2157" y="44"/>
                </a:lnTo>
                <a:lnTo>
                  <a:pt x="2139" y="54"/>
                </a:lnTo>
                <a:lnTo>
                  <a:pt x="2123" y="64"/>
                </a:lnTo>
                <a:lnTo>
                  <a:pt x="2107" y="75"/>
                </a:lnTo>
                <a:lnTo>
                  <a:pt x="2093" y="87"/>
                </a:lnTo>
                <a:lnTo>
                  <a:pt x="2077" y="100"/>
                </a:lnTo>
                <a:lnTo>
                  <a:pt x="2063" y="114"/>
                </a:lnTo>
                <a:lnTo>
                  <a:pt x="2026" y="151"/>
                </a:lnTo>
                <a:lnTo>
                  <a:pt x="1949" y="230"/>
                </a:lnTo>
                <a:lnTo>
                  <a:pt x="1899" y="285"/>
                </a:lnTo>
                <a:lnTo>
                  <a:pt x="1841" y="349"/>
                </a:lnTo>
                <a:lnTo>
                  <a:pt x="1775" y="420"/>
                </a:lnTo>
                <a:lnTo>
                  <a:pt x="1705" y="502"/>
                </a:lnTo>
                <a:lnTo>
                  <a:pt x="1629" y="590"/>
                </a:lnTo>
                <a:lnTo>
                  <a:pt x="1547" y="686"/>
                </a:lnTo>
                <a:lnTo>
                  <a:pt x="1462" y="789"/>
                </a:lnTo>
                <a:lnTo>
                  <a:pt x="1373" y="899"/>
                </a:lnTo>
                <a:lnTo>
                  <a:pt x="1282" y="1016"/>
                </a:lnTo>
                <a:lnTo>
                  <a:pt x="1188" y="1139"/>
                </a:lnTo>
                <a:lnTo>
                  <a:pt x="1094" y="1266"/>
                </a:lnTo>
                <a:lnTo>
                  <a:pt x="999" y="1399"/>
                </a:lnTo>
                <a:lnTo>
                  <a:pt x="952" y="1468"/>
                </a:lnTo>
                <a:lnTo>
                  <a:pt x="905" y="1537"/>
                </a:lnTo>
                <a:lnTo>
                  <a:pt x="858" y="1608"/>
                </a:lnTo>
                <a:lnTo>
                  <a:pt x="812" y="1679"/>
                </a:lnTo>
                <a:lnTo>
                  <a:pt x="766" y="1752"/>
                </a:lnTo>
                <a:lnTo>
                  <a:pt x="719" y="1825"/>
                </a:lnTo>
                <a:lnTo>
                  <a:pt x="675" y="1900"/>
                </a:lnTo>
                <a:lnTo>
                  <a:pt x="630" y="1975"/>
                </a:lnTo>
                <a:lnTo>
                  <a:pt x="587" y="2051"/>
                </a:lnTo>
                <a:lnTo>
                  <a:pt x="544" y="2127"/>
                </a:lnTo>
                <a:lnTo>
                  <a:pt x="502" y="2205"/>
                </a:lnTo>
                <a:lnTo>
                  <a:pt x="461" y="2283"/>
                </a:lnTo>
                <a:lnTo>
                  <a:pt x="422" y="2362"/>
                </a:lnTo>
                <a:lnTo>
                  <a:pt x="383" y="2441"/>
                </a:lnTo>
                <a:lnTo>
                  <a:pt x="346" y="2520"/>
                </a:lnTo>
                <a:lnTo>
                  <a:pt x="311" y="2600"/>
                </a:lnTo>
                <a:lnTo>
                  <a:pt x="276" y="2680"/>
                </a:lnTo>
                <a:lnTo>
                  <a:pt x="243" y="2761"/>
                </a:lnTo>
                <a:lnTo>
                  <a:pt x="212" y="2842"/>
                </a:lnTo>
                <a:lnTo>
                  <a:pt x="183" y="2923"/>
                </a:lnTo>
                <a:lnTo>
                  <a:pt x="155" y="3005"/>
                </a:lnTo>
                <a:lnTo>
                  <a:pt x="130" y="3086"/>
                </a:lnTo>
                <a:lnTo>
                  <a:pt x="106" y="3167"/>
                </a:lnTo>
                <a:lnTo>
                  <a:pt x="85" y="3249"/>
                </a:lnTo>
                <a:lnTo>
                  <a:pt x="66" y="3330"/>
                </a:lnTo>
                <a:lnTo>
                  <a:pt x="49" y="3412"/>
                </a:lnTo>
                <a:lnTo>
                  <a:pt x="34" y="3493"/>
                </a:lnTo>
                <a:lnTo>
                  <a:pt x="22" y="3575"/>
                </a:lnTo>
                <a:lnTo>
                  <a:pt x="12" y="3656"/>
                </a:lnTo>
                <a:lnTo>
                  <a:pt x="6" y="3736"/>
                </a:lnTo>
                <a:lnTo>
                  <a:pt x="1" y="3817"/>
                </a:lnTo>
                <a:lnTo>
                  <a:pt x="0" y="3897"/>
                </a:lnTo>
                <a:lnTo>
                  <a:pt x="1" y="3957"/>
                </a:lnTo>
                <a:lnTo>
                  <a:pt x="3" y="4016"/>
                </a:lnTo>
                <a:lnTo>
                  <a:pt x="7" y="4076"/>
                </a:lnTo>
                <a:lnTo>
                  <a:pt x="12" y="4135"/>
                </a:lnTo>
                <a:lnTo>
                  <a:pt x="18" y="4194"/>
                </a:lnTo>
                <a:lnTo>
                  <a:pt x="27" y="4252"/>
                </a:lnTo>
                <a:lnTo>
                  <a:pt x="37" y="4310"/>
                </a:lnTo>
                <a:lnTo>
                  <a:pt x="48" y="4367"/>
                </a:lnTo>
                <a:lnTo>
                  <a:pt x="60" y="4424"/>
                </a:lnTo>
                <a:lnTo>
                  <a:pt x="74" y="4480"/>
                </a:lnTo>
                <a:lnTo>
                  <a:pt x="88" y="4536"/>
                </a:lnTo>
                <a:lnTo>
                  <a:pt x="104" y="4591"/>
                </a:lnTo>
                <a:lnTo>
                  <a:pt x="123" y="4646"/>
                </a:lnTo>
                <a:lnTo>
                  <a:pt x="141" y="4700"/>
                </a:lnTo>
                <a:lnTo>
                  <a:pt x="162" y="4753"/>
                </a:lnTo>
                <a:lnTo>
                  <a:pt x="183" y="4806"/>
                </a:lnTo>
                <a:lnTo>
                  <a:pt x="207" y="4858"/>
                </a:lnTo>
                <a:lnTo>
                  <a:pt x="230" y="4910"/>
                </a:lnTo>
                <a:lnTo>
                  <a:pt x="256" y="4960"/>
                </a:lnTo>
                <a:lnTo>
                  <a:pt x="282" y="5010"/>
                </a:lnTo>
                <a:lnTo>
                  <a:pt x="311" y="5059"/>
                </a:lnTo>
                <a:lnTo>
                  <a:pt x="339" y="5109"/>
                </a:lnTo>
                <a:lnTo>
                  <a:pt x="369" y="5157"/>
                </a:lnTo>
                <a:lnTo>
                  <a:pt x="399" y="5204"/>
                </a:lnTo>
                <a:lnTo>
                  <a:pt x="431" y="5249"/>
                </a:lnTo>
                <a:lnTo>
                  <a:pt x="465" y="5295"/>
                </a:lnTo>
                <a:lnTo>
                  <a:pt x="499" y="5339"/>
                </a:lnTo>
                <a:lnTo>
                  <a:pt x="534" y="5384"/>
                </a:lnTo>
                <a:lnTo>
                  <a:pt x="571" y="5426"/>
                </a:lnTo>
                <a:lnTo>
                  <a:pt x="608" y="5468"/>
                </a:lnTo>
                <a:lnTo>
                  <a:pt x="646" y="5510"/>
                </a:lnTo>
                <a:lnTo>
                  <a:pt x="686" y="5549"/>
                </a:lnTo>
                <a:lnTo>
                  <a:pt x="725" y="5589"/>
                </a:lnTo>
                <a:lnTo>
                  <a:pt x="767" y="5627"/>
                </a:lnTo>
                <a:lnTo>
                  <a:pt x="809" y="5664"/>
                </a:lnTo>
                <a:lnTo>
                  <a:pt x="851" y="5701"/>
                </a:lnTo>
                <a:lnTo>
                  <a:pt x="895" y="5735"/>
                </a:lnTo>
                <a:lnTo>
                  <a:pt x="940" y="5770"/>
                </a:lnTo>
                <a:lnTo>
                  <a:pt x="986" y="5803"/>
                </a:lnTo>
                <a:lnTo>
                  <a:pt x="1031" y="5835"/>
                </a:lnTo>
                <a:lnTo>
                  <a:pt x="1078" y="5866"/>
                </a:lnTo>
                <a:lnTo>
                  <a:pt x="1126" y="5896"/>
                </a:lnTo>
                <a:lnTo>
                  <a:pt x="1176" y="5924"/>
                </a:lnTo>
                <a:lnTo>
                  <a:pt x="1225" y="5953"/>
                </a:lnTo>
                <a:lnTo>
                  <a:pt x="1274" y="5979"/>
                </a:lnTo>
                <a:lnTo>
                  <a:pt x="1325" y="6004"/>
                </a:lnTo>
                <a:lnTo>
                  <a:pt x="1377" y="6028"/>
                </a:lnTo>
                <a:lnTo>
                  <a:pt x="1429" y="6051"/>
                </a:lnTo>
                <a:lnTo>
                  <a:pt x="1482" y="6072"/>
                </a:lnTo>
                <a:lnTo>
                  <a:pt x="1535" y="6093"/>
                </a:lnTo>
                <a:lnTo>
                  <a:pt x="1589" y="6112"/>
                </a:lnTo>
                <a:lnTo>
                  <a:pt x="1643" y="6129"/>
                </a:lnTo>
                <a:lnTo>
                  <a:pt x="1699" y="6146"/>
                </a:lnTo>
                <a:lnTo>
                  <a:pt x="1754" y="6161"/>
                </a:lnTo>
                <a:lnTo>
                  <a:pt x="1811" y="6175"/>
                </a:lnTo>
                <a:lnTo>
                  <a:pt x="1868" y="6187"/>
                </a:lnTo>
                <a:lnTo>
                  <a:pt x="1925" y="6198"/>
                </a:lnTo>
                <a:lnTo>
                  <a:pt x="1983" y="6208"/>
                </a:lnTo>
                <a:lnTo>
                  <a:pt x="2041" y="6217"/>
                </a:lnTo>
                <a:lnTo>
                  <a:pt x="2100" y="6223"/>
                </a:lnTo>
                <a:lnTo>
                  <a:pt x="2158" y="6228"/>
                </a:lnTo>
                <a:lnTo>
                  <a:pt x="2218" y="6232"/>
                </a:lnTo>
                <a:lnTo>
                  <a:pt x="2278" y="6234"/>
                </a:lnTo>
                <a:lnTo>
                  <a:pt x="2338" y="6235"/>
                </a:lnTo>
                <a:lnTo>
                  <a:pt x="2399" y="6234"/>
                </a:lnTo>
                <a:lnTo>
                  <a:pt x="2458" y="6232"/>
                </a:lnTo>
                <a:lnTo>
                  <a:pt x="2518" y="6228"/>
                </a:lnTo>
                <a:lnTo>
                  <a:pt x="2576" y="6223"/>
                </a:lnTo>
                <a:lnTo>
                  <a:pt x="2636" y="6217"/>
                </a:lnTo>
                <a:lnTo>
                  <a:pt x="2694" y="6208"/>
                </a:lnTo>
                <a:lnTo>
                  <a:pt x="2752" y="6198"/>
                </a:lnTo>
                <a:lnTo>
                  <a:pt x="2808" y="6187"/>
                </a:lnTo>
                <a:lnTo>
                  <a:pt x="2865" y="6175"/>
                </a:lnTo>
                <a:lnTo>
                  <a:pt x="2922" y="6161"/>
                </a:lnTo>
                <a:lnTo>
                  <a:pt x="2977" y="6146"/>
                </a:lnTo>
                <a:lnTo>
                  <a:pt x="3033" y="6129"/>
                </a:lnTo>
                <a:lnTo>
                  <a:pt x="3087" y="6112"/>
                </a:lnTo>
                <a:lnTo>
                  <a:pt x="3142" y="6093"/>
                </a:lnTo>
                <a:lnTo>
                  <a:pt x="3195" y="6072"/>
                </a:lnTo>
                <a:lnTo>
                  <a:pt x="3248" y="6051"/>
                </a:lnTo>
                <a:lnTo>
                  <a:pt x="3299" y="6028"/>
                </a:lnTo>
                <a:lnTo>
                  <a:pt x="3351" y="6004"/>
                </a:lnTo>
                <a:lnTo>
                  <a:pt x="3402" y="5979"/>
                </a:lnTo>
                <a:lnTo>
                  <a:pt x="3451" y="5953"/>
                </a:lnTo>
                <a:lnTo>
                  <a:pt x="3501" y="5924"/>
                </a:lnTo>
                <a:lnTo>
                  <a:pt x="3550" y="5896"/>
                </a:lnTo>
                <a:lnTo>
                  <a:pt x="3597" y="5866"/>
                </a:lnTo>
                <a:lnTo>
                  <a:pt x="3644" y="5835"/>
                </a:lnTo>
                <a:lnTo>
                  <a:pt x="3691" y="5803"/>
                </a:lnTo>
                <a:lnTo>
                  <a:pt x="3736" y="5770"/>
                </a:lnTo>
                <a:lnTo>
                  <a:pt x="3781" y="5735"/>
                </a:lnTo>
                <a:lnTo>
                  <a:pt x="3824" y="5701"/>
                </a:lnTo>
                <a:lnTo>
                  <a:pt x="3867" y="5664"/>
                </a:lnTo>
                <a:lnTo>
                  <a:pt x="3909" y="5627"/>
                </a:lnTo>
                <a:lnTo>
                  <a:pt x="3950" y="5589"/>
                </a:lnTo>
                <a:lnTo>
                  <a:pt x="3991" y="5549"/>
                </a:lnTo>
                <a:lnTo>
                  <a:pt x="4030" y="5510"/>
                </a:lnTo>
                <a:lnTo>
                  <a:pt x="4068" y="5468"/>
                </a:lnTo>
                <a:lnTo>
                  <a:pt x="4105" y="5426"/>
                </a:lnTo>
                <a:lnTo>
                  <a:pt x="4141" y="5384"/>
                </a:lnTo>
                <a:lnTo>
                  <a:pt x="4177" y="5339"/>
                </a:lnTo>
                <a:lnTo>
                  <a:pt x="4211" y="5295"/>
                </a:lnTo>
                <a:lnTo>
                  <a:pt x="4244" y="5249"/>
                </a:lnTo>
                <a:lnTo>
                  <a:pt x="4276" y="5204"/>
                </a:lnTo>
                <a:lnTo>
                  <a:pt x="4308" y="5157"/>
                </a:lnTo>
                <a:lnTo>
                  <a:pt x="4337" y="5109"/>
                </a:lnTo>
                <a:lnTo>
                  <a:pt x="4366" y="5059"/>
                </a:lnTo>
                <a:lnTo>
                  <a:pt x="4393" y="5010"/>
                </a:lnTo>
                <a:lnTo>
                  <a:pt x="4420" y="4960"/>
                </a:lnTo>
                <a:lnTo>
                  <a:pt x="4445" y="4910"/>
                </a:lnTo>
                <a:lnTo>
                  <a:pt x="4469" y="4858"/>
                </a:lnTo>
                <a:lnTo>
                  <a:pt x="4492" y="4806"/>
                </a:lnTo>
                <a:lnTo>
                  <a:pt x="4514" y="4753"/>
                </a:lnTo>
                <a:lnTo>
                  <a:pt x="4534" y="4700"/>
                </a:lnTo>
                <a:lnTo>
                  <a:pt x="4553" y="4646"/>
                </a:lnTo>
                <a:lnTo>
                  <a:pt x="4571" y="4591"/>
                </a:lnTo>
                <a:lnTo>
                  <a:pt x="4587" y="4536"/>
                </a:lnTo>
                <a:lnTo>
                  <a:pt x="4603" y="4480"/>
                </a:lnTo>
                <a:lnTo>
                  <a:pt x="4616" y="4424"/>
                </a:lnTo>
                <a:lnTo>
                  <a:pt x="4629" y="4367"/>
                </a:lnTo>
                <a:lnTo>
                  <a:pt x="4640" y="4310"/>
                </a:lnTo>
                <a:lnTo>
                  <a:pt x="4648" y="4252"/>
                </a:lnTo>
                <a:lnTo>
                  <a:pt x="4657" y="4194"/>
                </a:lnTo>
                <a:lnTo>
                  <a:pt x="4664" y="4135"/>
                </a:lnTo>
                <a:lnTo>
                  <a:pt x="4669" y="4076"/>
                </a:lnTo>
                <a:lnTo>
                  <a:pt x="4673" y="4016"/>
                </a:lnTo>
                <a:lnTo>
                  <a:pt x="4676" y="3957"/>
                </a:lnTo>
                <a:lnTo>
                  <a:pt x="4676" y="3897"/>
                </a:lnTo>
                <a:close/>
                <a:moveTo>
                  <a:pt x="3835" y="4954"/>
                </a:moveTo>
                <a:lnTo>
                  <a:pt x="3835" y="4954"/>
                </a:lnTo>
                <a:lnTo>
                  <a:pt x="3807" y="4996"/>
                </a:lnTo>
                <a:lnTo>
                  <a:pt x="3778" y="5036"/>
                </a:lnTo>
                <a:lnTo>
                  <a:pt x="3747" y="5075"/>
                </a:lnTo>
                <a:lnTo>
                  <a:pt x="3715" y="5111"/>
                </a:lnTo>
                <a:lnTo>
                  <a:pt x="3683" y="5147"/>
                </a:lnTo>
                <a:lnTo>
                  <a:pt x="3649" y="5180"/>
                </a:lnTo>
                <a:lnTo>
                  <a:pt x="3614" y="5211"/>
                </a:lnTo>
                <a:lnTo>
                  <a:pt x="3578" y="5241"/>
                </a:lnTo>
                <a:lnTo>
                  <a:pt x="3543" y="5269"/>
                </a:lnTo>
                <a:lnTo>
                  <a:pt x="3506" y="5295"/>
                </a:lnTo>
                <a:lnTo>
                  <a:pt x="3467" y="5320"/>
                </a:lnTo>
                <a:lnTo>
                  <a:pt x="3429" y="5342"/>
                </a:lnTo>
                <a:lnTo>
                  <a:pt x="3390" y="5362"/>
                </a:lnTo>
                <a:lnTo>
                  <a:pt x="3350" y="5380"/>
                </a:lnTo>
                <a:lnTo>
                  <a:pt x="3311" y="5396"/>
                </a:lnTo>
                <a:lnTo>
                  <a:pt x="3271" y="5411"/>
                </a:lnTo>
                <a:lnTo>
                  <a:pt x="3230" y="5423"/>
                </a:lnTo>
                <a:lnTo>
                  <a:pt x="3190" y="5434"/>
                </a:lnTo>
                <a:lnTo>
                  <a:pt x="3150" y="5443"/>
                </a:lnTo>
                <a:lnTo>
                  <a:pt x="3109" y="5449"/>
                </a:lnTo>
                <a:lnTo>
                  <a:pt x="3069" y="5453"/>
                </a:lnTo>
                <a:lnTo>
                  <a:pt x="3029" y="5455"/>
                </a:lnTo>
                <a:lnTo>
                  <a:pt x="2989" y="5455"/>
                </a:lnTo>
                <a:lnTo>
                  <a:pt x="2949" y="5453"/>
                </a:lnTo>
                <a:lnTo>
                  <a:pt x="2911" y="5449"/>
                </a:lnTo>
                <a:lnTo>
                  <a:pt x="2871" y="5442"/>
                </a:lnTo>
                <a:lnTo>
                  <a:pt x="2833" y="5433"/>
                </a:lnTo>
                <a:lnTo>
                  <a:pt x="2796" y="5422"/>
                </a:lnTo>
                <a:lnTo>
                  <a:pt x="2759" y="5408"/>
                </a:lnTo>
                <a:lnTo>
                  <a:pt x="2722" y="5392"/>
                </a:lnTo>
                <a:lnTo>
                  <a:pt x="2687" y="5374"/>
                </a:lnTo>
                <a:lnTo>
                  <a:pt x="2653" y="5353"/>
                </a:lnTo>
                <a:lnTo>
                  <a:pt x="2620" y="5331"/>
                </a:lnTo>
                <a:lnTo>
                  <a:pt x="2589" y="5306"/>
                </a:lnTo>
                <a:lnTo>
                  <a:pt x="2559" y="5280"/>
                </a:lnTo>
                <a:lnTo>
                  <a:pt x="2532" y="5252"/>
                </a:lnTo>
                <a:lnTo>
                  <a:pt x="2506" y="5222"/>
                </a:lnTo>
                <a:lnTo>
                  <a:pt x="2481" y="5191"/>
                </a:lnTo>
                <a:lnTo>
                  <a:pt x="2459" y="5159"/>
                </a:lnTo>
                <a:lnTo>
                  <a:pt x="2439" y="5125"/>
                </a:lnTo>
                <a:lnTo>
                  <a:pt x="2421" y="5090"/>
                </a:lnTo>
                <a:lnTo>
                  <a:pt x="2404" y="5054"/>
                </a:lnTo>
                <a:lnTo>
                  <a:pt x="2389" y="5016"/>
                </a:lnTo>
                <a:lnTo>
                  <a:pt x="2376" y="4978"/>
                </a:lnTo>
                <a:lnTo>
                  <a:pt x="2365" y="4938"/>
                </a:lnTo>
                <a:lnTo>
                  <a:pt x="2355" y="4899"/>
                </a:lnTo>
                <a:lnTo>
                  <a:pt x="2348" y="4857"/>
                </a:lnTo>
                <a:lnTo>
                  <a:pt x="2343" y="4816"/>
                </a:lnTo>
                <a:lnTo>
                  <a:pt x="2339" y="4773"/>
                </a:lnTo>
                <a:lnTo>
                  <a:pt x="2338" y="4730"/>
                </a:lnTo>
                <a:lnTo>
                  <a:pt x="2338" y="4687"/>
                </a:lnTo>
                <a:lnTo>
                  <a:pt x="2341" y="4643"/>
                </a:lnTo>
                <a:lnTo>
                  <a:pt x="2346" y="4599"/>
                </a:lnTo>
                <a:lnTo>
                  <a:pt x="2352" y="4554"/>
                </a:lnTo>
                <a:lnTo>
                  <a:pt x="2359" y="4510"/>
                </a:lnTo>
                <a:lnTo>
                  <a:pt x="2370" y="4464"/>
                </a:lnTo>
                <a:lnTo>
                  <a:pt x="2381" y="4420"/>
                </a:lnTo>
                <a:lnTo>
                  <a:pt x="2396" y="4376"/>
                </a:lnTo>
                <a:lnTo>
                  <a:pt x="2412" y="4331"/>
                </a:lnTo>
                <a:lnTo>
                  <a:pt x="2431" y="4287"/>
                </a:lnTo>
                <a:lnTo>
                  <a:pt x="2450" y="4242"/>
                </a:lnTo>
                <a:lnTo>
                  <a:pt x="2473" y="4199"/>
                </a:lnTo>
                <a:lnTo>
                  <a:pt x="2496" y="4156"/>
                </a:lnTo>
                <a:lnTo>
                  <a:pt x="2523" y="4113"/>
                </a:lnTo>
                <a:lnTo>
                  <a:pt x="2550" y="4071"/>
                </a:lnTo>
                <a:lnTo>
                  <a:pt x="2580" y="4031"/>
                </a:lnTo>
                <a:lnTo>
                  <a:pt x="2611" y="3993"/>
                </a:lnTo>
                <a:lnTo>
                  <a:pt x="2642" y="3956"/>
                </a:lnTo>
                <a:lnTo>
                  <a:pt x="2675" y="3921"/>
                </a:lnTo>
                <a:lnTo>
                  <a:pt x="2708" y="3888"/>
                </a:lnTo>
                <a:lnTo>
                  <a:pt x="2744" y="3856"/>
                </a:lnTo>
                <a:lnTo>
                  <a:pt x="2780" y="3826"/>
                </a:lnTo>
                <a:lnTo>
                  <a:pt x="2816" y="3799"/>
                </a:lnTo>
                <a:lnTo>
                  <a:pt x="2853" y="3773"/>
                </a:lnTo>
                <a:lnTo>
                  <a:pt x="2891" y="3749"/>
                </a:lnTo>
                <a:lnTo>
                  <a:pt x="2929" y="3726"/>
                </a:lnTo>
                <a:lnTo>
                  <a:pt x="2969" y="3705"/>
                </a:lnTo>
                <a:lnTo>
                  <a:pt x="3007" y="3687"/>
                </a:lnTo>
                <a:lnTo>
                  <a:pt x="3048" y="3671"/>
                </a:lnTo>
                <a:lnTo>
                  <a:pt x="3087" y="3656"/>
                </a:lnTo>
                <a:lnTo>
                  <a:pt x="3128" y="3644"/>
                </a:lnTo>
                <a:lnTo>
                  <a:pt x="3167" y="3634"/>
                </a:lnTo>
                <a:lnTo>
                  <a:pt x="3208" y="3625"/>
                </a:lnTo>
                <a:lnTo>
                  <a:pt x="3249" y="3619"/>
                </a:lnTo>
                <a:lnTo>
                  <a:pt x="3290" y="3614"/>
                </a:lnTo>
                <a:lnTo>
                  <a:pt x="3329" y="3612"/>
                </a:lnTo>
                <a:lnTo>
                  <a:pt x="3369" y="3612"/>
                </a:lnTo>
                <a:lnTo>
                  <a:pt x="3408" y="3614"/>
                </a:lnTo>
                <a:lnTo>
                  <a:pt x="3448" y="3619"/>
                </a:lnTo>
                <a:lnTo>
                  <a:pt x="3487" y="3625"/>
                </a:lnTo>
                <a:lnTo>
                  <a:pt x="3525" y="3634"/>
                </a:lnTo>
                <a:lnTo>
                  <a:pt x="3562" y="3646"/>
                </a:lnTo>
                <a:lnTo>
                  <a:pt x="3599" y="3660"/>
                </a:lnTo>
                <a:lnTo>
                  <a:pt x="3635" y="3675"/>
                </a:lnTo>
                <a:lnTo>
                  <a:pt x="3671" y="3693"/>
                </a:lnTo>
                <a:lnTo>
                  <a:pt x="3706" y="3714"/>
                </a:lnTo>
                <a:lnTo>
                  <a:pt x="3739" y="3736"/>
                </a:lnTo>
                <a:lnTo>
                  <a:pt x="3770" y="3761"/>
                </a:lnTo>
                <a:lnTo>
                  <a:pt x="3799" y="3788"/>
                </a:lnTo>
                <a:lnTo>
                  <a:pt x="3826" y="3815"/>
                </a:lnTo>
                <a:lnTo>
                  <a:pt x="3852" y="3845"/>
                </a:lnTo>
                <a:lnTo>
                  <a:pt x="3877" y="3876"/>
                </a:lnTo>
                <a:lnTo>
                  <a:pt x="3899" y="3909"/>
                </a:lnTo>
                <a:lnTo>
                  <a:pt x="3919" y="3942"/>
                </a:lnTo>
                <a:lnTo>
                  <a:pt x="3938" y="3977"/>
                </a:lnTo>
                <a:lnTo>
                  <a:pt x="3955" y="4014"/>
                </a:lnTo>
                <a:lnTo>
                  <a:pt x="3970" y="4051"/>
                </a:lnTo>
                <a:lnTo>
                  <a:pt x="3982" y="4089"/>
                </a:lnTo>
                <a:lnTo>
                  <a:pt x="3993" y="4129"/>
                </a:lnTo>
                <a:lnTo>
                  <a:pt x="4002" y="4169"/>
                </a:lnTo>
                <a:lnTo>
                  <a:pt x="4009" y="4210"/>
                </a:lnTo>
                <a:lnTo>
                  <a:pt x="4015" y="4252"/>
                </a:lnTo>
                <a:lnTo>
                  <a:pt x="4018" y="4294"/>
                </a:lnTo>
                <a:lnTo>
                  <a:pt x="4020" y="4337"/>
                </a:lnTo>
                <a:lnTo>
                  <a:pt x="4019" y="4380"/>
                </a:lnTo>
                <a:lnTo>
                  <a:pt x="4017" y="4425"/>
                </a:lnTo>
                <a:lnTo>
                  <a:pt x="4013" y="4468"/>
                </a:lnTo>
                <a:lnTo>
                  <a:pt x="4007" y="4513"/>
                </a:lnTo>
                <a:lnTo>
                  <a:pt x="3998" y="4558"/>
                </a:lnTo>
                <a:lnTo>
                  <a:pt x="3988" y="4603"/>
                </a:lnTo>
                <a:lnTo>
                  <a:pt x="3976" y="4647"/>
                </a:lnTo>
                <a:lnTo>
                  <a:pt x="3962" y="4691"/>
                </a:lnTo>
                <a:lnTo>
                  <a:pt x="3946" y="4737"/>
                </a:lnTo>
                <a:lnTo>
                  <a:pt x="3928" y="4780"/>
                </a:lnTo>
                <a:lnTo>
                  <a:pt x="3908" y="4825"/>
                </a:lnTo>
                <a:lnTo>
                  <a:pt x="3886" y="4869"/>
                </a:lnTo>
                <a:lnTo>
                  <a:pt x="3861" y="4912"/>
                </a:lnTo>
                <a:lnTo>
                  <a:pt x="3835" y="49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KSO_Shape" descr=""/>
          <p:cNvPicPr/>
          <p:nvPr/>
        </p:nvPicPr>
        <p:blipFill>
          <a:blip r:embed="rId1"/>
          <a:stretch/>
        </p:blipFill>
        <p:spPr>
          <a:xfrm>
            <a:off x="1336680" y="1031760"/>
            <a:ext cx="5807160" cy="4861080"/>
          </a:xfrm>
          <a:prstGeom prst="rect">
            <a:avLst/>
          </a:prstGeom>
          <a:ln w="0">
            <a:noFill/>
          </a:ln>
        </p:spPr>
      </p:pic>
      <p:sp>
        <p:nvSpPr>
          <p:cNvPr id="695" name="矩形 1"/>
          <p:cNvSpPr/>
          <p:nvPr/>
        </p:nvSpPr>
        <p:spPr>
          <a:xfrm>
            <a:off x="8613720" y="197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96" name="矩形 35"/>
          <p:cNvSpPr/>
          <p:nvPr/>
        </p:nvSpPr>
        <p:spPr>
          <a:xfrm>
            <a:off x="9032040" y="160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
        <p:nvSpPr>
          <p:cNvPr id="697" name="矩形 1"/>
          <p:cNvSpPr/>
          <p:nvPr/>
        </p:nvSpPr>
        <p:spPr>
          <a:xfrm>
            <a:off x="8613720" y="31352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98" name="矩形 41"/>
          <p:cNvSpPr/>
          <p:nvPr/>
        </p:nvSpPr>
        <p:spPr>
          <a:xfrm>
            <a:off x="9032040" y="27637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
        <p:nvSpPr>
          <p:cNvPr id="699" name="矩形 1"/>
          <p:cNvSpPr/>
          <p:nvPr/>
        </p:nvSpPr>
        <p:spPr>
          <a:xfrm>
            <a:off x="8613720" y="431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700" name="矩形 43"/>
          <p:cNvSpPr/>
          <p:nvPr/>
        </p:nvSpPr>
        <p:spPr>
          <a:xfrm>
            <a:off x="9032040" y="394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组合 1" descr=""/>
          <p:cNvPicPr/>
          <p:nvPr/>
        </p:nvPicPr>
        <p:blipFill>
          <a:blip r:embed="rId1"/>
          <a:stretch/>
        </p:blipFill>
        <p:spPr>
          <a:xfrm>
            <a:off x="878040" y="1193760"/>
            <a:ext cx="10078920" cy="5095800"/>
          </a:xfrm>
          <a:prstGeom prst="rect">
            <a:avLst/>
          </a:prstGeom>
          <a:ln w="0">
            <a:noFill/>
          </a:ln>
        </p:spPr>
      </p:pic>
      <p:sp>
        <p:nvSpPr>
          <p:cNvPr id="702" name="椭圆 174"/>
          <p:cNvSpPr/>
          <p:nvPr/>
        </p:nvSpPr>
        <p:spPr>
          <a:xfrm>
            <a:off x="3087720" y="2616120"/>
            <a:ext cx="914400" cy="914400"/>
          </a:xfrm>
          <a:prstGeom prst="ellipse">
            <a:avLst/>
          </a:prstGeom>
          <a:solidFill>
            <a:srgbClr val="179a44">
              <a:alpha val="50000"/>
            </a:srgbClr>
          </a:solidFill>
          <a:ln w="2844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0%</a:t>
            </a:r>
            <a:endParaRPr b="0" lang="en-US" sz="1800" spc="-1" strike="noStrike">
              <a:solidFill>
                <a:srgbClr val="000000"/>
              </a:solidFill>
              <a:latin typeface="Calibri"/>
            </a:endParaRPr>
          </a:p>
        </p:txBody>
      </p:sp>
      <p:sp>
        <p:nvSpPr>
          <p:cNvPr id="703" name="椭圆 175"/>
          <p:cNvSpPr/>
          <p:nvPr/>
        </p:nvSpPr>
        <p:spPr>
          <a:xfrm>
            <a:off x="4192560" y="4361040"/>
            <a:ext cx="601560" cy="601560"/>
          </a:xfrm>
          <a:prstGeom prst="ellipse">
            <a:avLst/>
          </a:prstGeom>
          <a:solidFill>
            <a:srgbClr val="faaf3b">
              <a:alpha val="50000"/>
            </a:srgbClr>
          </a:solidFill>
          <a:ln w="2844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10%</a:t>
            </a:r>
            <a:endParaRPr b="0" lang="en-US" sz="1100" spc="-1" strike="noStrike">
              <a:solidFill>
                <a:srgbClr val="000000"/>
              </a:solidFill>
              <a:latin typeface="Calibri"/>
            </a:endParaRPr>
          </a:p>
        </p:txBody>
      </p:sp>
      <p:sp>
        <p:nvSpPr>
          <p:cNvPr id="704" name="椭圆 176"/>
          <p:cNvSpPr/>
          <p:nvPr/>
        </p:nvSpPr>
        <p:spPr>
          <a:xfrm>
            <a:off x="9540720" y="5246640"/>
            <a:ext cx="365400" cy="363600"/>
          </a:xfrm>
          <a:prstGeom prst="ellipse">
            <a:avLst/>
          </a:prstGeom>
          <a:solidFill>
            <a:srgbClr val="f05a24">
              <a:alpha val="50000"/>
            </a:srgbClr>
          </a:solidFill>
          <a:ln w="2844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椭圆 177"/>
          <p:cNvSpPr/>
          <p:nvPr/>
        </p:nvSpPr>
        <p:spPr>
          <a:xfrm>
            <a:off x="7677000" y="2416320"/>
            <a:ext cx="1632240" cy="1630080"/>
          </a:xfrm>
          <a:prstGeom prst="ellipse">
            <a:avLst/>
          </a:prstGeom>
          <a:solidFill>
            <a:srgbClr val="ae73cb">
              <a:alpha val="50000"/>
            </a:srgbClr>
          </a:solidFill>
          <a:ln w="28440">
            <a:solidFill>
              <a:srgbClr val="ae73c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a:t>
            </a:r>
            <a:endParaRPr b="0" lang="en-US" sz="3200" spc="-1" strike="noStrike">
              <a:solidFill>
                <a:srgbClr val="000000"/>
              </a:solidFill>
              <a:latin typeface="Calibri"/>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文本框 1"/>
          <p:cNvSpPr/>
          <p:nvPr/>
        </p:nvSpPr>
        <p:spPr>
          <a:xfrm>
            <a:off x="1578960" y="141588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73cb"/>
                </a:solidFill>
                <a:latin typeface="微软雅黑"/>
                <a:ea typeface="微软雅黑"/>
              </a:rPr>
              <a:t>章节目录修改及调整方法：</a:t>
            </a:r>
            <a:endParaRPr b="0" lang="en-US" sz="2000" spc="-1" strike="noStrike">
              <a:solidFill>
                <a:srgbClr val="000000"/>
              </a:solidFill>
              <a:latin typeface="Calibri"/>
            </a:endParaRPr>
          </a:p>
        </p:txBody>
      </p:sp>
      <p:sp>
        <p:nvSpPr>
          <p:cNvPr id="707" name="文本框 2"/>
          <p:cNvSpPr/>
          <p:nvPr/>
        </p:nvSpPr>
        <p:spPr>
          <a:xfrm>
            <a:off x="1268280" y="21049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179a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9a44"/>
                </a:solidFill>
                <a:latin typeface="微软雅黑"/>
                <a:ea typeface="微软雅黑"/>
              </a:rPr>
              <a:t>目录修改：</a:t>
            </a:r>
            <a:endParaRPr b="0" lang="en-US" sz="2400" spc="-1" strike="noStrike">
              <a:solidFill>
                <a:srgbClr val="000000"/>
              </a:solidFill>
              <a:latin typeface="Calibri"/>
            </a:endParaRPr>
          </a:p>
        </p:txBody>
      </p:sp>
      <p:sp>
        <p:nvSpPr>
          <p:cNvPr id="708" name="文本框 3"/>
          <p:cNvSpPr/>
          <p:nvPr/>
        </p:nvSpPr>
        <p:spPr>
          <a:xfrm>
            <a:off x="1268280" y="45115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62c4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2c4bc"/>
                </a:solidFill>
                <a:latin typeface="微软雅黑"/>
                <a:ea typeface="微软雅黑"/>
              </a:rPr>
              <a:t>目录调整：</a:t>
            </a:r>
            <a:endParaRPr b="0" lang="en-US" sz="2400" spc="-1" strike="noStrike">
              <a:solidFill>
                <a:srgbClr val="000000"/>
              </a:solidFill>
              <a:latin typeface="Calibri"/>
            </a:endParaRPr>
          </a:p>
        </p:txBody>
      </p:sp>
      <p:sp>
        <p:nvSpPr>
          <p:cNvPr id="709" name="文本框 5"/>
          <p:cNvSpPr/>
          <p:nvPr/>
        </p:nvSpPr>
        <p:spPr>
          <a:xfrm>
            <a:off x="2781000" y="5041800"/>
            <a:ext cx="442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5a24"/>
                </a:solidFill>
                <a:latin typeface="微软雅黑"/>
                <a:ea typeface="微软雅黑"/>
              </a:rPr>
              <a:t>选中左侧缩略图文件 </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右键“版式”</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选择需要调整的版式</a:t>
            </a:r>
            <a:endParaRPr b="0" lang="en-US" sz="2000" spc="-1" strike="noStrike">
              <a:solidFill>
                <a:srgbClr val="000000"/>
              </a:solidFill>
              <a:latin typeface="Calibri"/>
            </a:endParaRPr>
          </a:p>
        </p:txBody>
      </p:sp>
      <p:grpSp>
        <p:nvGrpSpPr>
          <p:cNvPr id="710" name="组合 11"/>
          <p:cNvGrpSpPr/>
          <p:nvPr/>
        </p:nvGrpSpPr>
        <p:grpSpPr>
          <a:xfrm>
            <a:off x="1434960" y="2468520"/>
            <a:ext cx="9804600" cy="1741680"/>
            <a:chOff x="1434960" y="2468520"/>
            <a:chExt cx="9804600" cy="1741680"/>
          </a:xfrm>
        </p:grpSpPr>
        <p:pic>
          <p:nvPicPr>
            <p:cNvPr id="711" name="图片 4" descr=""/>
            <p:cNvPicPr/>
            <p:nvPr/>
          </p:nvPicPr>
          <p:blipFill>
            <a:blip r:embed="rId1"/>
            <a:stretch/>
          </p:blipFill>
          <p:spPr>
            <a:xfrm>
              <a:off x="1434960" y="2648880"/>
              <a:ext cx="9804600" cy="1561320"/>
            </a:xfrm>
            <a:prstGeom prst="rect">
              <a:avLst/>
            </a:prstGeom>
            <a:ln w="0">
              <a:noFill/>
            </a:ln>
          </p:spPr>
        </p:pic>
        <p:sp>
          <p:nvSpPr>
            <p:cNvPr id="712" name="矩形 6"/>
            <p:cNvSpPr/>
            <p:nvPr/>
          </p:nvSpPr>
          <p:spPr>
            <a:xfrm>
              <a:off x="7873920" y="2757240"/>
              <a:ext cx="582480" cy="461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矩形 7"/>
            <p:cNvSpPr/>
            <p:nvPr/>
          </p:nvSpPr>
          <p:spPr>
            <a:xfrm>
              <a:off x="4362120" y="3198960"/>
              <a:ext cx="801720" cy="812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椭圆 8"/>
            <p:cNvSpPr/>
            <p:nvPr/>
          </p:nvSpPr>
          <p:spPr>
            <a:xfrm>
              <a:off x="7996320" y="2468520"/>
              <a:ext cx="338040" cy="33804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Calibri"/>
              </a:endParaRPr>
            </a:p>
          </p:txBody>
        </p:sp>
        <p:sp>
          <p:nvSpPr>
            <p:cNvPr id="715" name="椭圆 9"/>
            <p:cNvSpPr/>
            <p:nvPr/>
          </p:nvSpPr>
          <p:spPr>
            <a:xfrm>
              <a:off x="4593960" y="2922480"/>
              <a:ext cx="338040" cy="33948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Calibri"/>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矩形 5"/>
          <p:cNvSpPr/>
          <p:nvPr/>
        </p:nvSpPr>
        <p:spPr>
          <a:xfrm>
            <a:off x="3221640" y="6089760"/>
            <a:ext cx="6367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    答辩人：理工大    时间：</a:t>
            </a:r>
            <a:r>
              <a:rPr b="0" lang="en-US" sz="1800" spc="-1" strike="noStrike">
                <a:solidFill>
                  <a:srgbClr val="ffffff"/>
                </a:solidFill>
                <a:latin typeface="微软雅黑"/>
                <a:ea typeface="微软雅黑"/>
              </a:rPr>
              <a:t>2015.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Calibri"/>
            </a:endParaRPr>
          </a:p>
        </p:txBody>
      </p:sp>
      <p:sp>
        <p:nvSpPr>
          <p:cNvPr id="717" name="矩形 6"/>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
        <p:nvSpPr>
          <p:cNvPr id="718" name="矩形 8"/>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Calibri"/>
            </a:endParaRPr>
          </a:p>
        </p:txBody>
      </p:sp>
      <p:sp>
        <p:nvSpPr>
          <p:cNvPr id="719" name="矩形 9"/>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椭圆 2"/>
          <p:cNvSpPr/>
          <p:nvPr/>
        </p:nvSpPr>
        <p:spPr>
          <a:xfrm>
            <a:off x="885960" y="2163600"/>
            <a:ext cx="2558880" cy="2559240"/>
          </a:xfrm>
          <a:prstGeom prst="ellipse">
            <a:avLst/>
          </a:prstGeom>
          <a:noFill/>
          <a:ln w="76320">
            <a:solidFill>
              <a:srgbClr val="f6921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直接连接符 3"/>
          <p:cNvSpPr/>
          <p:nvPr/>
        </p:nvSpPr>
        <p:spPr>
          <a:xfrm>
            <a:off x="3444840" y="3443400"/>
            <a:ext cx="361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椭圆 4"/>
          <p:cNvSpPr/>
          <p:nvPr/>
        </p:nvSpPr>
        <p:spPr>
          <a:xfrm>
            <a:off x="7059600" y="2882880"/>
            <a:ext cx="1119240" cy="112068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直接连接符 5"/>
          <p:cNvSpPr/>
          <p:nvPr/>
        </p:nvSpPr>
        <p:spPr>
          <a:xfrm flipV="1">
            <a:off x="7620120" y="2010960"/>
            <a:ext cx="0" cy="87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直接连接符 6"/>
          <p:cNvSpPr/>
          <p:nvPr/>
        </p:nvSpPr>
        <p:spPr>
          <a:xfrm flipV="1">
            <a:off x="8015400" y="2400480"/>
            <a:ext cx="668160" cy="64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直接连接符 7"/>
          <p:cNvSpPr/>
          <p:nvPr/>
        </p:nvSpPr>
        <p:spPr>
          <a:xfrm>
            <a:off x="8015400" y="3838680"/>
            <a:ext cx="71280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直接连接符 8"/>
          <p:cNvSpPr/>
          <p:nvPr/>
        </p:nvSpPr>
        <p:spPr>
          <a:xfrm>
            <a:off x="7620120" y="4003560"/>
            <a:ext cx="11160" cy="84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直接连接符 9"/>
          <p:cNvSpPr/>
          <p:nvPr/>
        </p:nvSpPr>
        <p:spPr>
          <a:xfrm flipH="1">
            <a:off x="6539040" y="3838680"/>
            <a:ext cx="684000" cy="64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直接连接符 10"/>
          <p:cNvSpPr/>
          <p:nvPr/>
        </p:nvSpPr>
        <p:spPr>
          <a:xfrm flipH="1" flipV="1">
            <a:off x="6564240" y="2387520"/>
            <a:ext cx="658800" cy="65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椭圆 11"/>
          <p:cNvSpPr/>
          <p:nvPr/>
        </p:nvSpPr>
        <p:spPr>
          <a:xfrm>
            <a:off x="5970600" y="1822320"/>
            <a:ext cx="682560" cy="681120"/>
          </a:xfrm>
          <a:prstGeom prst="ellipse">
            <a:avLst/>
          </a:prstGeom>
          <a:noFill/>
          <a:ln w="12600">
            <a:solidFill>
              <a:srgbClr val="f6921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椭圆 12"/>
          <p:cNvSpPr/>
          <p:nvPr/>
        </p:nvSpPr>
        <p:spPr>
          <a:xfrm>
            <a:off x="7278840" y="1330200"/>
            <a:ext cx="68256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椭圆 13"/>
          <p:cNvSpPr/>
          <p:nvPr/>
        </p:nvSpPr>
        <p:spPr>
          <a:xfrm>
            <a:off x="8577360" y="1809720"/>
            <a:ext cx="682560" cy="682560"/>
          </a:xfrm>
          <a:prstGeom prst="ellipse">
            <a:avLst/>
          </a:prstGeom>
          <a:noFill/>
          <a:ln w="12600">
            <a:solidFill>
              <a:srgbClr val="66a1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椭圆 14"/>
          <p:cNvSpPr/>
          <p:nvPr/>
        </p:nvSpPr>
        <p:spPr>
          <a:xfrm>
            <a:off x="8623440" y="4429080"/>
            <a:ext cx="680760" cy="682560"/>
          </a:xfrm>
          <a:prstGeom prst="ellipse">
            <a:avLst/>
          </a:prstGeom>
          <a:noFill/>
          <a:ln w="12600">
            <a:solidFill>
              <a:srgbClr val="609d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椭圆 15"/>
          <p:cNvSpPr/>
          <p:nvPr/>
        </p:nvSpPr>
        <p:spPr>
          <a:xfrm>
            <a:off x="7289640" y="4846680"/>
            <a:ext cx="68292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椭圆 16"/>
          <p:cNvSpPr/>
          <p:nvPr/>
        </p:nvSpPr>
        <p:spPr>
          <a:xfrm>
            <a:off x="5956200" y="4381560"/>
            <a:ext cx="682560" cy="6825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椭圆 22"/>
          <p:cNvSpPr/>
          <p:nvPr/>
        </p:nvSpPr>
        <p:spPr>
          <a:xfrm>
            <a:off x="9021600" y="3098880"/>
            <a:ext cx="681120" cy="682560"/>
          </a:xfrm>
          <a:prstGeom prst="ellipse">
            <a:avLst/>
          </a:prstGeom>
          <a:solidFill>
            <a:srgbClr val="f05a24"/>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直接连接符 30"/>
          <p:cNvSpPr/>
          <p:nvPr/>
        </p:nvSpPr>
        <p:spPr>
          <a:xfrm flipV="1">
            <a:off x="8178840" y="3439800"/>
            <a:ext cx="8427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240" name="直接连接符 31"/>
          <p:cNvSpPr/>
          <p:nvPr/>
        </p:nvSpPr>
        <p:spPr>
          <a:xfrm>
            <a:off x="9710640" y="3443400"/>
            <a:ext cx="90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椭圆 32"/>
          <p:cNvSpPr/>
          <p:nvPr/>
        </p:nvSpPr>
        <p:spPr>
          <a:xfrm>
            <a:off x="10623600" y="3098880"/>
            <a:ext cx="682560" cy="682560"/>
          </a:xfrm>
          <a:prstGeom prst="ellipse">
            <a:avLst/>
          </a:prstGeom>
          <a:solidFill>
            <a:srgbClr val="00914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直接连接符 34"/>
          <p:cNvSpPr/>
          <p:nvPr/>
        </p:nvSpPr>
        <p:spPr>
          <a:xfrm flipV="1">
            <a:off x="9363240" y="232416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椭圆 35"/>
          <p:cNvSpPr/>
          <p:nvPr/>
        </p:nvSpPr>
        <p:spPr>
          <a:xfrm>
            <a:off x="9969480" y="1741320"/>
            <a:ext cx="682560" cy="68292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直接连接符 37"/>
          <p:cNvSpPr/>
          <p:nvPr/>
        </p:nvSpPr>
        <p:spPr>
          <a:xfrm>
            <a:off x="9372600" y="378144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椭圆 38"/>
          <p:cNvSpPr/>
          <p:nvPr/>
        </p:nvSpPr>
        <p:spPr>
          <a:xfrm flipV="1">
            <a:off x="9979200" y="4456080"/>
            <a:ext cx="682560" cy="68256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文本框 48"/>
          <p:cNvSpPr/>
          <p:nvPr/>
        </p:nvSpPr>
        <p:spPr>
          <a:xfrm>
            <a:off x="3556080" y="3033720"/>
            <a:ext cx="29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Calibri"/>
            </a:endParaRPr>
          </a:p>
        </p:txBody>
      </p:sp>
      <p:sp>
        <p:nvSpPr>
          <p:cNvPr id="247" name="矩形 49"/>
          <p:cNvSpPr/>
          <p:nvPr/>
        </p:nvSpPr>
        <p:spPr>
          <a:xfrm>
            <a:off x="3435480" y="3498840"/>
            <a:ext cx="33685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微软雅黑"/>
                <a:ea typeface="微软雅黑"/>
              </a:rPr>
              <a:t>This is an example text.</a:t>
            </a:r>
            <a:r>
              <a:rPr b="0" lang="ru-RU" sz="1200" spc="-1" strike="noStrike">
                <a:solidFill>
                  <a:srgbClr val="404040"/>
                </a:solidFill>
                <a:latin typeface="微软雅黑"/>
                <a:ea typeface="微软雅黑"/>
              </a:rPr>
              <a:t> </a:t>
            </a:r>
            <a:r>
              <a:rPr b="0" lang="en-US" sz="1200" spc="-1" strike="noStrike">
                <a:solidFill>
                  <a:srgbClr val="404040"/>
                </a:solidFill>
                <a:latin typeface="微软雅黑"/>
                <a:ea typeface="微软雅黑"/>
              </a:rPr>
              <a:t>Go ahead and replace it with your own text. </a:t>
            </a:r>
            <a:endParaRPr b="0" lang="en-US" sz="1200" spc="-1" strike="noStrike">
              <a:solidFill>
                <a:srgbClr val="000000"/>
              </a:solidFill>
              <a:latin typeface="Calibri"/>
            </a:endParaRPr>
          </a:p>
        </p:txBody>
      </p:sp>
      <p:sp>
        <p:nvSpPr>
          <p:cNvPr id="248" name="KSO_Shape"/>
          <p:cNvSpPr/>
          <p:nvPr/>
        </p:nvSpPr>
        <p:spPr>
          <a:xfrm>
            <a:off x="7386480" y="3083040"/>
            <a:ext cx="465120" cy="69840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KSO_Shape"/>
          <p:cNvSpPr/>
          <p:nvPr/>
        </p:nvSpPr>
        <p:spPr>
          <a:xfrm>
            <a:off x="1393920" y="2522520"/>
            <a:ext cx="1593720" cy="175896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KSO_Shape"/>
          <p:cNvSpPr/>
          <p:nvPr/>
        </p:nvSpPr>
        <p:spPr>
          <a:xfrm>
            <a:off x="8791560" y="4556160"/>
            <a:ext cx="368280" cy="38088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KSO_Shape"/>
          <p:cNvSpPr/>
          <p:nvPr/>
        </p:nvSpPr>
        <p:spPr>
          <a:xfrm>
            <a:off x="6107040" y="1995480"/>
            <a:ext cx="381240" cy="311040"/>
          </a:xfrm>
          <a:custGeom>
            <a:avLst/>
            <a:gdLst/>
            <a:ahLst/>
            <a:rect l="l" t="t" r="r" b="b"/>
            <a:pathLst>
              <a:path w="684048" h="556307">
                <a:moveTo>
                  <a:pt x="222901" y="383453"/>
                </a:moveTo>
                <a:cubicBezTo>
                  <a:pt x="218315" y="383977"/>
                  <a:pt x="213613" y="385281"/>
                  <a:pt x="209039" y="387420"/>
                </a:cubicBezTo>
                <a:cubicBezTo>
                  <a:pt x="190739" y="395979"/>
                  <a:pt x="181407" y="414680"/>
                  <a:pt x="188193" y="429191"/>
                </a:cubicBezTo>
                <a:cubicBezTo>
                  <a:pt x="194980" y="443702"/>
                  <a:pt x="215317" y="448527"/>
                  <a:pt x="233616" y="439969"/>
                </a:cubicBezTo>
                <a:cubicBezTo>
                  <a:pt x="251915" y="431410"/>
                  <a:pt x="261248" y="412709"/>
                  <a:pt x="254461" y="398198"/>
                </a:cubicBezTo>
                <a:cubicBezTo>
                  <a:pt x="249371" y="387315"/>
                  <a:pt x="236659" y="381879"/>
                  <a:pt x="222901" y="383453"/>
                </a:cubicBezTo>
                <a:close/>
                <a:moveTo>
                  <a:pt x="284035" y="369073"/>
                </a:moveTo>
                <a:cubicBezTo>
                  <a:pt x="281538" y="368297"/>
                  <a:pt x="278657" y="368441"/>
                  <a:pt x="275985" y="369691"/>
                </a:cubicBezTo>
                <a:cubicBezTo>
                  <a:pt x="270641" y="372190"/>
                  <a:pt x="268154" y="378164"/>
                  <a:pt x="270432" y="383034"/>
                </a:cubicBezTo>
                <a:cubicBezTo>
                  <a:pt x="272710" y="387904"/>
                  <a:pt x="278888" y="389825"/>
                  <a:pt x="284233" y="387325"/>
                </a:cubicBezTo>
                <a:cubicBezTo>
                  <a:pt x="289577" y="384826"/>
                  <a:pt x="292063" y="378852"/>
                  <a:pt x="289785" y="373982"/>
                </a:cubicBezTo>
                <a:cubicBezTo>
                  <a:pt x="288647" y="371547"/>
                  <a:pt x="286533" y="369850"/>
                  <a:pt x="284035" y="369073"/>
                </a:cubicBezTo>
                <a:close/>
                <a:moveTo>
                  <a:pt x="266604" y="297070"/>
                </a:moveTo>
                <a:cubicBezTo>
                  <a:pt x="319078" y="300338"/>
                  <a:pt x="362309" y="335548"/>
                  <a:pt x="367763" y="383070"/>
                </a:cubicBezTo>
                <a:cubicBezTo>
                  <a:pt x="373996" y="437381"/>
                  <a:pt x="328527" y="487207"/>
                  <a:pt x="266205" y="494360"/>
                </a:cubicBezTo>
                <a:cubicBezTo>
                  <a:pt x="203883" y="501513"/>
                  <a:pt x="148308" y="463284"/>
                  <a:pt x="142074" y="408972"/>
                </a:cubicBezTo>
                <a:cubicBezTo>
                  <a:pt x="135841" y="354661"/>
                  <a:pt x="181310" y="304835"/>
                  <a:pt x="243632" y="297682"/>
                </a:cubicBezTo>
                <a:cubicBezTo>
                  <a:pt x="251423" y="296788"/>
                  <a:pt x="259108" y="296603"/>
                  <a:pt x="266604" y="297070"/>
                </a:cubicBezTo>
                <a:close/>
                <a:moveTo>
                  <a:pt x="297042" y="252387"/>
                </a:moveTo>
                <a:cubicBezTo>
                  <a:pt x="283618" y="252176"/>
                  <a:pt x="269820" y="252839"/>
                  <a:pt x="255793" y="254449"/>
                </a:cubicBezTo>
                <a:cubicBezTo>
                  <a:pt x="143583" y="267328"/>
                  <a:pt x="59288" y="335880"/>
                  <a:pt x="67516" y="407566"/>
                </a:cubicBezTo>
                <a:cubicBezTo>
                  <a:pt x="75743" y="479252"/>
                  <a:pt x="173377" y="526925"/>
                  <a:pt x="285587" y="514046"/>
                </a:cubicBezTo>
                <a:cubicBezTo>
                  <a:pt x="397797" y="501168"/>
                  <a:pt x="482091" y="432615"/>
                  <a:pt x="473864" y="360929"/>
                </a:cubicBezTo>
                <a:cubicBezTo>
                  <a:pt x="466665" y="298204"/>
                  <a:pt x="391015" y="253864"/>
                  <a:pt x="297042" y="252387"/>
                </a:cubicBezTo>
                <a:close/>
                <a:moveTo>
                  <a:pt x="509416" y="97868"/>
                </a:moveTo>
                <a:cubicBezTo>
                  <a:pt x="544841" y="99182"/>
                  <a:pt x="588107" y="127580"/>
                  <a:pt x="590257" y="183051"/>
                </a:cubicBezTo>
                <a:cubicBezTo>
                  <a:pt x="592352" y="199448"/>
                  <a:pt x="588214" y="215684"/>
                  <a:pt x="579852" y="229407"/>
                </a:cubicBezTo>
                <a:lnTo>
                  <a:pt x="580228" y="229581"/>
                </a:lnTo>
                <a:cubicBezTo>
                  <a:pt x="580244" y="229743"/>
                  <a:pt x="580186" y="229872"/>
                  <a:pt x="580126" y="230000"/>
                </a:cubicBezTo>
                <a:lnTo>
                  <a:pt x="578707" y="232024"/>
                </a:lnTo>
                <a:cubicBezTo>
                  <a:pt x="578590" y="232839"/>
                  <a:pt x="578192" y="233485"/>
                  <a:pt x="577787" y="234126"/>
                </a:cubicBezTo>
                <a:lnTo>
                  <a:pt x="577385" y="233908"/>
                </a:lnTo>
                <a:cubicBezTo>
                  <a:pt x="572286" y="241165"/>
                  <a:pt x="563167" y="244302"/>
                  <a:pt x="554750" y="241632"/>
                </a:cubicBezTo>
                <a:lnTo>
                  <a:pt x="548315" y="238643"/>
                </a:lnTo>
                <a:cubicBezTo>
                  <a:pt x="539522" y="233101"/>
                  <a:pt x="536249" y="221620"/>
                  <a:pt x="540834" y="211750"/>
                </a:cubicBezTo>
                <a:lnTo>
                  <a:pt x="541088" y="211402"/>
                </a:lnTo>
                <a:lnTo>
                  <a:pt x="541243" y="211474"/>
                </a:lnTo>
                <a:cubicBezTo>
                  <a:pt x="549302" y="193084"/>
                  <a:pt x="546794" y="175359"/>
                  <a:pt x="541863" y="165391"/>
                </a:cubicBezTo>
                <a:cubicBezTo>
                  <a:pt x="534763" y="151042"/>
                  <a:pt x="514479" y="135118"/>
                  <a:pt x="480142" y="145181"/>
                </a:cubicBezTo>
                <a:lnTo>
                  <a:pt x="480025" y="144483"/>
                </a:lnTo>
                <a:cubicBezTo>
                  <a:pt x="471706" y="144624"/>
                  <a:pt x="464282" y="140887"/>
                  <a:pt x="461009" y="134412"/>
                </a:cubicBezTo>
                <a:lnTo>
                  <a:pt x="458966" y="128175"/>
                </a:lnTo>
                <a:cubicBezTo>
                  <a:pt x="457496" y="119354"/>
                  <a:pt x="463572" y="110158"/>
                  <a:pt x="473636" y="106144"/>
                </a:cubicBezTo>
                <a:lnTo>
                  <a:pt x="473571" y="105761"/>
                </a:lnTo>
                <a:cubicBezTo>
                  <a:pt x="485121" y="99922"/>
                  <a:pt x="497817" y="97438"/>
                  <a:pt x="509416" y="97868"/>
                </a:cubicBezTo>
                <a:close/>
                <a:moveTo>
                  <a:pt x="286518" y="82088"/>
                </a:moveTo>
                <a:cubicBezTo>
                  <a:pt x="376738" y="91976"/>
                  <a:pt x="317665" y="163994"/>
                  <a:pt x="337363" y="184000"/>
                </a:cubicBezTo>
                <a:cubicBezTo>
                  <a:pt x="387081" y="179119"/>
                  <a:pt x="437510" y="146098"/>
                  <a:pt x="486517" y="169358"/>
                </a:cubicBezTo>
                <a:cubicBezTo>
                  <a:pt x="533076" y="203014"/>
                  <a:pt x="494312" y="233925"/>
                  <a:pt x="501054" y="264835"/>
                </a:cubicBezTo>
                <a:cubicBezTo>
                  <a:pt x="649340" y="323962"/>
                  <a:pt x="585744" y="409170"/>
                  <a:pt x="562675" y="436725"/>
                </a:cubicBezTo>
                <a:cubicBezTo>
                  <a:pt x="354965" y="648778"/>
                  <a:pt x="45454" y="533772"/>
                  <a:pt x="10807" y="435328"/>
                </a:cubicBezTo>
                <a:cubicBezTo>
                  <a:pt x="-41075" y="330306"/>
                  <a:pt x="100878" y="89491"/>
                  <a:pt x="286518" y="82088"/>
                </a:cubicBezTo>
                <a:close/>
                <a:moveTo>
                  <a:pt x="489068" y="0"/>
                </a:moveTo>
                <a:cubicBezTo>
                  <a:pt x="596753" y="0"/>
                  <a:pt x="684048" y="87296"/>
                  <a:pt x="684048" y="194980"/>
                </a:cubicBezTo>
                <a:cubicBezTo>
                  <a:pt x="684048" y="216847"/>
                  <a:pt x="680448" y="237874"/>
                  <a:pt x="672966" y="257215"/>
                </a:cubicBezTo>
                <a:lnTo>
                  <a:pt x="672379" y="257003"/>
                </a:lnTo>
                <a:cubicBezTo>
                  <a:pt x="668967" y="265617"/>
                  <a:pt x="657523" y="269364"/>
                  <a:pt x="645725" y="265916"/>
                </a:cubicBezTo>
                <a:lnTo>
                  <a:pt x="637884" y="262819"/>
                </a:lnTo>
                <a:cubicBezTo>
                  <a:pt x="627530" y="257587"/>
                  <a:pt x="621785" y="247890"/>
                  <a:pt x="624308" y="239644"/>
                </a:cubicBezTo>
                <a:lnTo>
                  <a:pt x="623975" y="239524"/>
                </a:lnTo>
                <a:cubicBezTo>
                  <a:pt x="629260" y="225659"/>
                  <a:pt x="631774" y="210613"/>
                  <a:pt x="631774" y="194980"/>
                </a:cubicBezTo>
                <a:cubicBezTo>
                  <a:pt x="631774" y="116165"/>
                  <a:pt x="567883" y="52274"/>
                  <a:pt x="489068" y="52274"/>
                </a:cubicBezTo>
                <a:lnTo>
                  <a:pt x="469942" y="54202"/>
                </a:lnTo>
                <a:lnTo>
                  <a:pt x="469951" y="54239"/>
                </a:lnTo>
                <a:cubicBezTo>
                  <a:pt x="469861" y="54366"/>
                  <a:pt x="469744" y="54397"/>
                  <a:pt x="469627" y="54427"/>
                </a:cubicBezTo>
                <a:cubicBezTo>
                  <a:pt x="460634" y="56697"/>
                  <a:pt x="450861" y="49439"/>
                  <a:pt x="446718" y="37636"/>
                </a:cubicBezTo>
                <a:lnTo>
                  <a:pt x="444619" y="29323"/>
                </a:lnTo>
                <a:cubicBezTo>
                  <a:pt x="442667" y="16995"/>
                  <a:pt x="447797" y="5987"/>
                  <a:pt x="456757" y="3699"/>
                </a:cubicBezTo>
                <a:lnTo>
                  <a:pt x="456661" y="3267"/>
                </a:lnTo>
                <a:cubicBezTo>
                  <a:pt x="467135" y="923"/>
                  <a:pt x="477994" y="0"/>
                  <a:pt x="489068"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KSO_Shape"/>
          <p:cNvSpPr/>
          <p:nvPr/>
        </p:nvSpPr>
        <p:spPr>
          <a:xfrm>
            <a:off x="7456320" y="4998960"/>
            <a:ext cx="381240" cy="3556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KSO_Shape"/>
          <p:cNvSpPr/>
          <p:nvPr/>
        </p:nvSpPr>
        <p:spPr>
          <a:xfrm>
            <a:off x="6146640" y="4518000"/>
            <a:ext cx="279720" cy="38088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KSO_Shape"/>
          <p:cNvSpPr/>
          <p:nvPr/>
        </p:nvSpPr>
        <p:spPr>
          <a:xfrm>
            <a:off x="8737560" y="1960560"/>
            <a:ext cx="374760" cy="38088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KSO_Shape"/>
          <p:cNvSpPr/>
          <p:nvPr/>
        </p:nvSpPr>
        <p:spPr>
          <a:xfrm>
            <a:off x="10713960" y="3292560"/>
            <a:ext cx="501840" cy="295200"/>
          </a:xfrm>
          <a:custGeom>
            <a:avLst/>
            <a:gdLst/>
            <a:ahLst/>
            <a:rect l="l" t="t" r="r" b="b"/>
            <a:pathLst>
              <a:path w="6649" h="3908">
                <a:moveTo>
                  <a:pt x="6649" y="1054"/>
                </a:moveTo>
                <a:lnTo>
                  <a:pt x="3324" y="0"/>
                </a:lnTo>
                <a:lnTo>
                  <a:pt x="0" y="1054"/>
                </a:lnTo>
                <a:lnTo>
                  <a:pt x="1706" y="1594"/>
                </a:lnTo>
                <a:lnTo>
                  <a:pt x="1398" y="3223"/>
                </a:lnTo>
                <a:lnTo>
                  <a:pt x="3324" y="3908"/>
                </a:lnTo>
                <a:lnTo>
                  <a:pt x="5251" y="3223"/>
                </a:lnTo>
                <a:lnTo>
                  <a:pt x="4943" y="1594"/>
                </a:lnTo>
                <a:lnTo>
                  <a:pt x="6649" y="10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KSO_Shape"/>
          <p:cNvSpPr/>
          <p:nvPr/>
        </p:nvSpPr>
        <p:spPr>
          <a:xfrm>
            <a:off x="9193320" y="3255840"/>
            <a:ext cx="338040" cy="3254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KSO_Shape"/>
          <p:cNvSpPr/>
          <p:nvPr/>
        </p:nvSpPr>
        <p:spPr>
          <a:xfrm>
            <a:off x="7448400" y="1479600"/>
            <a:ext cx="322560" cy="3826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KSO_Shape"/>
          <p:cNvSpPr/>
          <p:nvPr/>
        </p:nvSpPr>
        <p:spPr>
          <a:xfrm>
            <a:off x="10145880" y="4629240"/>
            <a:ext cx="349200" cy="334800"/>
          </a:xfrm>
          <a:custGeom>
            <a:avLst/>
            <a:gdLst/>
            <a:ahLst/>
            <a:rect l="l" t="t" r="r" b="b"/>
            <a:pathLst>
              <a:path w="1889279" h="1810503">
                <a:moveTo>
                  <a:pt x="1408636" y="1462945"/>
                </a:moveTo>
                <a:cubicBezTo>
                  <a:pt x="1471912" y="1494489"/>
                  <a:pt x="1528819" y="1532588"/>
                  <a:pt x="1575786" y="1578162"/>
                </a:cubicBezTo>
                <a:cubicBezTo>
                  <a:pt x="1467281" y="1672800"/>
                  <a:pt x="1335058" y="1742507"/>
                  <a:pt x="1188886" y="1779443"/>
                </a:cubicBezTo>
                <a:cubicBezTo>
                  <a:pt x="1278166" y="1700386"/>
                  <a:pt x="1353810" y="1592053"/>
                  <a:pt x="1408636" y="1462945"/>
                </a:cubicBezTo>
                <a:close/>
                <a:moveTo>
                  <a:pt x="494888" y="1445849"/>
                </a:moveTo>
                <a:cubicBezTo>
                  <a:pt x="556747" y="1590569"/>
                  <a:pt x="643865" y="1709702"/>
                  <a:pt x="747068" y="1790925"/>
                </a:cubicBezTo>
                <a:cubicBezTo>
                  <a:pt x="576321" y="1756303"/>
                  <a:pt x="422614" y="1677538"/>
                  <a:pt x="300900" y="1566189"/>
                </a:cubicBezTo>
                <a:cubicBezTo>
                  <a:pt x="355309" y="1517036"/>
                  <a:pt x="421005" y="1476420"/>
                  <a:pt x="494888" y="1445849"/>
                </a:cubicBezTo>
                <a:close/>
                <a:moveTo>
                  <a:pt x="900586" y="1355871"/>
                </a:moveTo>
                <a:lnTo>
                  <a:pt x="900586" y="1808904"/>
                </a:lnTo>
                <a:lnTo>
                  <a:pt x="884222" y="1808113"/>
                </a:lnTo>
                <a:cubicBezTo>
                  <a:pt x="745280" y="1742581"/>
                  <a:pt x="627378" y="1604992"/>
                  <a:pt x="551037" y="1423344"/>
                </a:cubicBezTo>
                <a:cubicBezTo>
                  <a:pt x="655969" y="1381011"/>
                  <a:pt x="774745" y="1357337"/>
                  <a:pt x="900586" y="1355871"/>
                </a:cubicBezTo>
                <a:close/>
                <a:moveTo>
                  <a:pt x="953521" y="1355186"/>
                </a:moveTo>
                <a:cubicBezTo>
                  <a:pt x="1099660" y="1356509"/>
                  <a:pt x="1236550" y="1386650"/>
                  <a:pt x="1354036" y="1440083"/>
                </a:cubicBezTo>
                <a:cubicBezTo>
                  <a:pt x="1283551" y="1605630"/>
                  <a:pt x="1178611" y="1734316"/>
                  <a:pt x="1054486" y="1804443"/>
                </a:cubicBezTo>
                <a:lnTo>
                  <a:pt x="953521" y="1810503"/>
                </a:lnTo>
                <a:close/>
                <a:moveTo>
                  <a:pt x="1517159" y="931303"/>
                </a:moveTo>
                <a:lnTo>
                  <a:pt x="1889279" y="931303"/>
                </a:lnTo>
                <a:cubicBezTo>
                  <a:pt x="1883282" y="1167646"/>
                  <a:pt x="1781715" y="1381244"/>
                  <a:pt x="1618873" y="1536894"/>
                </a:cubicBezTo>
                <a:cubicBezTo>
                  <a:pt x="1566437" y="1485571"/>
                  <a:pt x="1502786" y="1442774"/>
                  <a:pt x="1431939" y="1407715"/>
                </a:cubicBezTo>
                <a:cubicBezTo>
                  <a:pt x="1485774" y="1266553"/>
                  <a:pt x="1516428" y="1104135"/>
                  <a:pt x="1517159" y="931303"/>
                </a:cubicBezTo>
                <a:close/>
                <a:moveTo>
                  <a:pt x="953521" y="931303"/>
                </a:moveTo>
                <a:lnTo>
                  <a:pt x="1456842" y="931303"/>
                </a:lnTo>
                <a:cubicBezTo>
                  <a:pt x="1456123" y="1096196"/>
                  <a:pt x="1427268" y="1250986"/>
                  <a:pt x="1375819" y="1384691"/>
                </a:cubicBezTo>
                <a:cubicBezTo>
                  <a:pt x="1251537" y="1327928"/>
                  <a:pt x="1107288" y="1296191"/>
                  <a:pt x="953521" y="1294902"/>
                </a:cubicBezTo>
                <a:close/>
                <a:moveTo>
                  <a:pt x="448568" y="931303"/>
                </a:moveTo>
                <a:lnTo>
                  <a:pt x="900586" y="931303"/>
                </a:lnTo>
                <a:lnTo>
                  <a:pt x="900586" y="1295603"/>
                </a:lnTo>
                <a:cubicBezTo>
                  <a:pt x="766605" y="1297053"/>
                  <a:pt x="640053" y="1322469"/>
                  <a:pt x="528061" y="1368046"/>
                </a:cubicBezTo>
                <a:cubicBezTo>
                  <a:pt x="478984" y="1238632"/>
                  <a:pt x="450499" y="1089843"/>
                  <a:pt x="448568" y="931303"/>
                </a:cubicBezTo>
                <a:close/>
                <a:moveTo>
                  <a:pt x="0" y="931303"/>
                </a:moveTo>
                <a:lnTo>
                  <a:pt x="388264" y="931303"/>
                </a:lnTo>
                <a:cubicBezTo>
                  <a:pt x="390220" y="1097785"/>
                  <a:pt x="420532" y="1254193"/>
                  <a:pt x="473139" y="1390578"/>
                </a:cubicBezTo>
                <a:cubicBezTo>
                  <a:pt x="391203" y="1423988"/>
                  <a:pt x="318506" y="1469260"/>
                  <a:pt x="258353" y="1524144"/>
                </a:cubicBezTo>
                <a:cubicBezTo>
                  <a:pt x="102364" y="1370026"/>
                  <a:pt x="5849" y="1161456"/>
                  <a:pt x="0" y="931303"/>
                </a:cubicBezTo>
                <a:close/>
                <a:moveTo>
                  <a:pt x="536834" y="421694"/>
                </a:moveTo>
                <a:cubicBezTo>
                  <a:pt x="646682" y="464986"/>
                  <a:pt x="770110" y="489176"/>
                  <a:pt x="900586" y="490537"/>
                </a:cubicBezTo>
                <a:lnTo>
                  <a:pt x="900586" y="875390"/>
                </a:lnTo>
                <a:lnTo>
                  <a:pt x="448805" y="875390"/>
                </a:lnTo>
                <a:cubicBezTo>
                  <a:pt x="451150" y="709592"/>
                  <a:pt x="482649" y="554587"/>
                  <a:pt x="536834" y="421694"/>
                </a:cubicBezTo>
                <a:close/>
                <a:moveTo>
                  <a:pt x="1356131" y="409527"/>
                </a:moveTo>
                <a:cubicBezTo>
                  <a:pt x="1415590" y="544412"/>
                  <a:pt x="1451132" y="703874"/>
                  <a:pt x="1455052" y="875390"/>
                </a:cubicBezTo>
                <a:lnTo>
                  <a:pt x="953521" y="875390"/>
                </a:lnTo>
                <a:lnTo>
                  <a:pt x="953521" y="491238"/>
                </a:lnTo>
                <a:cubicBezTo>
                  <a:pt x="1099303" y="490092"/>
                  <a:pt x="1236528" y="461431"/>
                  <a:pt x="1356131" y="409527"/>
                </a:cubicBezTo>
                <a:close/>
                <a:moveTo>
                  <a:pt x="271202" y="273767"/>
                </a:moveTo>
                <a:cubicBezTo>
                  <a:pt x="330895" y="324894"/>
                  <a:pt x="401533" y="367494"/>
                  <a:pt x="480768" y="398692"/>
                </a:cubicBezTo>
                <a:cubicBezTo>
                  <a:pt x="424147" y="539118"/>
                  <a:pt x="390867" y="701724"/>
                  <a:pt x="388496" y="875390"/>
                </a:cubicBezTo>
                <a:lnTo>
                  <a:pt x="238" y="875390"/>
                </a:lnTo>
                <a:cubicBezTo>
                  <a:pt x="7162" y="640451"/>
                  <a:pt x="108645" y="428248"/>
                  <a:pt x="271202" y="273767"/>
                </a:cubicBezTo>
                <a:close/>
                <a:moveTo>
                  <a:pt x="1605567" y="261436"/>
                </a:moveTo>
                <a:cubicBezTo>
                  <a:pt x="1775300" y="417133"/>
                  <a:pt x="1881942" y="634296"/>
                  <a:pt x="1889035" y="875390"/>
                </a:cubicBezTo>
                <a:lnTo>
                  <a:pt x="1515364" y="875390"/>
                </a:lnTo>
                <a:cubicBezTo>
                  <a:pt x="1511419" y="696081"/>
                  <a:pt x="1474168" y="529014"/>
                  <a:pt x="1413107" y="386152"/>
                </a:cubicBezTo>
                <a:cubicBezTo>
                  <a:pt x="1485941" y="353453"/>
                  <a:pt x="1551126" y="311628"/>
                  <a:pt x="1605567" y="261436"/>
                </a:cubicBezTo>
                <a:close/>
                <a:moveTo>
                  <a:pt x="748157" y="19413"/>
                </a:moveTo>
                <a:cubicBezTo>
                  <a:pt x="649482" y="96557"/>
                  <a:pt x="565491" y="208310"/>
                  <a:pt x="504779" y="344256"/>
                </a:cubicBezTo>
                <a:cubicBezTo>
                  <a:pt x="432706" y="315858"/>
                  <a:pt x="368354" y="277545"/>
                  <a:pt x="313920" y="231604"/>
                </a:cubicBezTo>
                <a:cubicBezTo>
                  <a:pt x="434240" y="127070"/>
                  <a:pt x="583275" y="52667"/>
                  <a:pt x="748157" y="19413"/>
                </a:cubicBezTo>
                <a:close/>
                <a:moveTo>
                  <a:pt x="1137621" y="18543"/>
                </a:moveTo>
                <a:cubicBezTo>
                  <a:pt x="1297904" y="50310"/>
                  <a:pt x="1443338" y="120918"/>
                  <a:pt x="1562575" y="219802"/>
                </a:cubicBezTo>
                <a:cubicBezTo>
                  <a:pt x="1512842" y="265093"/>
                  <a:pt x="1453308" y="302843"/>
                  <a:pt x="1386970" y="332857"/>
                </a:cubicBezTo>
                <a:cubicBezTo>
                  <a:pt x="1323718" y="199817"/>
                  <a:pt x="1237626" y="91674"/>
                  <a:pt x="1137621" y="18543"/>
                </a:cubicBezTo>
                <a:close/>
                <a:moveTo>
                  <a:pt x="900586" y="1702"/>
                </a:moveTo>
                <a:lnTo>
                  <a:pt x="900586" y="430269"/>
                </a:lnTo>
                <a:cubicBezTo>
                  <a:pt x="778345" y="428899"/>
                  <a:pt x="662774" y="406468"/>
                  <a:pt x="560047" y="366408"/>
                </a:cubicBezTo>
                <a:cubicBezTo>
                  <a:pt x="637783" y="193348"/>
                  <a:pt x="753999" y="63227"/>
                  <a:pt x="890213" y="2203"/>
                </a:cubicBezTo>
                <a:close/>
                <a:moveTo>
                  <a:pt x="953521" y="0"/>
                </a:moveTo>
                <a:lnTo>
                  <a:pt x="981035" y="1330"/>
                </a:lnTo>
                <a:cubicBezTo>
                  <a:pt x="1124068" y="53565"/>
                  <a:pt x="1247786" y="180867"/>
                  <a:pt x="1332000" y="354889"/>
                </a:cubicBezTo>
                <a:cubicBezTo>
                  <a:pt x="1219743" y="403080"/>
                  <a:pt x="1090709" y="429800"/>
                  <a:pt x="953521" y="430954"/>
                </a:cubicBezTo>
                <a:close/>
              </a:path>
            </a:pathLst>
          </a:custGeom>
          <a:solidFill>
            <a:srgbClr val="9d75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KSO_Shape"/>
          <p:cNvSpPr/>
          <p:nvPr/>
        </p:nvSpPr>
        <p:spPr>
          <a:xfrm>
            <a:off x="10166400" y="1908000"/>
            <a:ext cx="325440" cy="35100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close/>
                <a:moveTo>
                  <a:pt x="3704648" y="908397"/>
                </a:moveTo>
                <a:lnTo>
                  <a:pt x="2413156" y="1136122"/>
                </a:lnTo>
                <a:lnTo>
                  <a:pt x="3048940" y="2044116"/>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close/>
              </a:path>
            </a:pathLst>
          </a:custGeom>
          <a:solidFill>
            <a:srgbClr val="9d75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任意多边形 1"/>
          <p:cNvSpPr/>
          <p:nvPr/>
        </p:nvSpPr>
        <p:spPr>
          <a:xfrm>
            <a:off x="1247760" y="973080"/>
            <a:ext cx="3772080" cy="4913280"/>
          </a:xfrm>
          <a:custGeom>
            <a:avLst/>
            <a:gdLst/>
            <a:ahLst/>
            <a:rect l="l" t="t" r="r" b="b"/>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0092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任意多边形 2"/>
          <p:cNvSpPr/>
          <p:nvPr/>
        </p:nvSpPr>
        <p:spPr>
          <a:xfrm>
            <a:off x="6570720" y="973080"/>
            <a:ext cx="4424400" cy="4913280"/>
          </a:xfrm>
          <a:custGeom>
            <a:avLst/>
            <a:gdLst/>
            <a:ahLst/>
            <a:rect l="l" t="t" r="r" b="b"/>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close/>
              </a:path>
            </a:pathLst>
          </a:cu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椭圆 3"/>
          <p:cNvSpPr/>
          <p:nvPr/>
        </p:nvSpPr>
        <p:spPr>
          <a:xfrm>
            <a:off x="4506840" y="2762280"/>
            <a:ext cx="1027080" cy="1027080"/>
          </a:xfrm>
          <a:prstGeom prst="ellipse">
            <a:avLst/>
          </a:prstGeom>
          <a:solidFill>
            <a:srgbClr val="7cbb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椭圆 4"/>
          <p:cNvSpPr/>
          <p:nvPr/>
        </p:nvSpPr>
        <p:spPr>
          <a:xfrm>
            <a:off x="6689880" y="2773440"/>
            <a:ext cx="1027080" cy="102708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KSO_Shape"/>
          <p:cNvSpPr/>
          <p:nvPr/>
        </p:nvSpPr>
        <p:spPr>
          <a:xfrm>
            <a:off x="4600440" y="2968560"/>
            <a:ext cx="797040" cy="689040"/>
          </a:xfrm>
          <a:custGeom>
            <a:avLst/>
            <a:gdLst/>
            <a:ahLst/>
            <a:rect l="l" t="t" r="r" b="b"/>
            <a:pathLst>
              <a:path w="1360" h="1358">
                <a:moveTo>
                  <a:pt x="1331" y="0"/>
                </a:moveTo>
                <a:lnTo>
                  <a:pt x="1360" y="54"/>
                </a:lnTo>
                <a:lnTo>
                  <a:pt x="1287" y="109"/>
                </a:lnTo>
                <a:lnTo>
                  <a:pt x="1216" y="169"/>
                </a:lnTo>
                <a:lnTo>
                  <a:pt x="1145" y="232"/>
                </a:lnTo>
                <a:lnTo>
                  <a:pt x="1076" y="299"/>
                </a:lnTo>
                <a:lnTo>
                  <a:pt x="1007" y="368"/>
                </a:lnTo>
                <a:lnTo>
                  <a:pt x="941" y="443"/>
                </a:lnTo>
                <a:lnTo>
                  <a:pt x="876" y="520"/>
                </a:lnTo>
                <a:lnTo>
                  <a:pt x="813" y="602"/>
                </a:lnTo>
                <a:lnTo>
                  <a:pt x="751" y="685"/>
                </a:lnTo>
                <a:lnTo>
                  <a:pt x="693" y="765"/>
                </a:lnTo>
                <a:lnTo>
                  <a:pt x="642" y="848"/>
                </a:lnTo>
                <a:lnTo>
                  <a:pt x="594" y="930"/>
                </a:lnTo>
                <a:lnTo>
                  <a:pt x="551" y="1011"/>
                </a:lnTo>
                <a:lnTo>
                  <a:pt x="511" y="1091"/>
                </a:lnTo>
                <a:lnTo>
                  <a:pt x="476" y="1172"/>
                </a:lnTo>
                <a:lnTo>
                  <a:pt x="446" y="1251"/>
                </a:lnTo>
                <a:lnTo>
                  <a:pt x="401" y="1281"/>
                </a:lnTo>
                <a:lnTo>
                  <a:pt x="375" y="1300"/>
                </a:lnTo>
                <a:lnTo>
                  <a:pt x="348" y="1320"/>
                </a:lnTo>
                <a:lnTo>
                  <a:pt x="325" y="1339"/>
                </a:lnTo>
                <a:lnTo>
                  <a:pt x="304" y="1358"/>
                </a:lnTo>
                <a:lnTo>
                  <a:pt x="298" y="1337"/>
                </a:lnTo>
                <a:lnTo>
                  <a:pt x="290" y="1310"/>
                </a:lnTo>
                <a:lnTo>
                  <a:pt x="279" y="1276"/>
                </a:lnTo>
                <a:lnTo>
                  <a:pt x="263" y="1237"/>
                </a:lnTo>
                <a:lnTo>
                  <a:pt x="240" y="1178"/>
                </a:lnTo>
                <a:lnTo>
                  <a:pt x="221" y="1132"/>
                </a:lnTo>
                <a:lnTo>
                  <a:pt x="204" y="1088"/>
                </a:lnTo>
                <a:lnTo>
                  <a:pt x="186" y="1049"/>
                </a:lnTo>
                <a:lnTo>
                  <a:pt x="171" y="1013"/>
                </a:lnTo>
                <a:lnTo>
                  <a:pt x="156" y="982"/>
                </a:lnTo>
                <a:lnTo>
                  <a:pt x="140" y="953"/>
                </a:lnTo>
                <a:lnTo>
                  <a:pt x="125" y="928"/>
                </a:lnTo>
                <a:lnTo>
                  <a:pt x="111" y="907"/>
                </a:lnTo>
                <a:lnTo>
                  <a:pt x="100" y="890"/>
                </a:lnTo>
                <a:lnTo>
                  <a:pt x="86" y="873"/>
                </a:lnTo>
                <a:lnTo>
                  <a:pt x="71" y="859"/>
                </a:lnTo>
                <a:lnTo>
                  <a:pt x="58" y="848"/>
                </a:lnTo>
                <a:lnTo>
                  <a:pt x="44" y="838"/>
                </a:lnTo>
                <a:lnTo>
                  <a:pt x="29" y="832"/>
                </a:lnTo>
                <a:lnTo>
                  <a:pt x="15" y="827"/>
                </a:lnTo>
                <a:lnTo>
                  <a:pt x="0" y="825"/>
                </a:lnTo>
                <a:lnTo>
                  <a:pt x="19" y="806"/>
                </a:lnTo>
                <a:lnTo>
                  <a:pt x="38" y="790"/>
                </a:lnTo>
                <a:lnTo>
                  <a:pt x="58" y="777"/>
                </a:lnTo>
                <a:lnTo>
                  <a:pt x="77" y="765"/>
                </a:lnTo>
                <a:lnTo>
                  <a:pt x="94" y="758"/>
                </a:lnTo>
                <a:lnTo>
                  <a:pt x="109" y="752"/>
                </a:lnTo>
                <a:lnTo>
                  <a:pt x="127" y="748"/>
                </a:lnTo>
                <a:lnTo>
                  <a:pt x="142" y="746"/>
                </a:lnTo>
                <a:lnTo>
                  <a:pt x="163" y="750"/>
                </a:lnTo>
                <a:lnTo>
                  <a:pt x="184" y="761"/>
                </a:lnTo>
                <a:lnTo>
                  <a:pt x="207" y="779"/>
                </a:lnTo>
                <a:lnTo>
                  <a:pt x="231" y="806"/>
                </a:lnTo>
                <a:lnTo>
                  <a:pt x="254" y="838"/>
                </a:lnTo>
                <a:lnTo>
                  <a:pt x="277" y="878"/>
                </a:lnTo>
                <a:lnTo>
                  <a:pt x="302" y="924"/>
                </a:lnTo>
                <a:lnTo>
                  <a:pt x="327" y="980"/>
                </a:lnTo>
                <a:lnTo>
                  <a:pt x="363" y="1063"/>
                </a:lnTo>
                <a:lnTo>
                  <a:pt x="409" y="982"/>
                </a:lnTo>
                <a:lnTo>
                  <a:pt x="457" y="901"/>
                </a:lnTo>
                <a:lnTo>
                  <a:pt x="507" y="823"/>
                </a:lnTo>
                <a:lnTo>
                  <a:pt x="561" y="744"/>
                </a:lnTo>
                <a:lnTo>
                  <a:pt x="615" y="669"/>
                </a:lnTo>
                <a:lnTo>
                  <a:pt x="672" y="596"/>
                </a:lnTo>
                <a:lnTo>
                  <a:pt x="732" y="524"/>
                </a:lnTo>
                <a:lnTo>
                  <a:pt x="795" y="453"/>
                </a:lnTo>
                <a:lnTo>
                  <a:pt x="859" y="385"/>
                </a:lnTo>
                <a:lnTo>
                  <a:pt x="924" y="320"/>
                </a:lnTo>
                <a:lnTo>
                  <a:pt x="989" y="259"/>
                </a:lnTo>
                <a:lnTo>
                  <a:pt x="1055" y="199"/>
                </a:lnTo>
                <a:lnTo>
                  <a:pt x="1124" y="144"/>
                </a:lnTo>
                <a:lnTo>
                  <a:pt x="1191" y="92"/>
                </a:lnTo>
                <a:lnTo>
                  <a:pt x="1260" y="44"/>
                </a:lnTo>
                <a:lnTo>
                  <a:pt x="1331" y="0"/>
                </a:lnTo>
                <a:close/>
              </a:path>
            </a:pathLst>
          </a:cu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KSO_Shape"/>
          <p:cNvSpPr/>
          <p:nvPr/>
        </p:nvSpPr>
        <p:spPr>
          <a:xfrm>
            <a:off x="6819840" y="2889360"/>
            <a:ext cx="795240" cy="690480"/>
          </a:xfrm>
          <a:custGeom>
            <a:avLst/>
            <a:gdLst/>
            <a:ahLst/>
            <a:rect l="l" t="t" r="r" b="b"/>
            <a:pathLst>
              <a:path w="1360" h="1360">
                <a:moveTo>
                  <a:pt x="345" y="0"/>
                </a:moveTo>
                <a:lnTo>
                  <a:pt x="363" y="75"/>
                </a:lnTo>
                <a:lnTo>
                  <a:pt x="384" y="150"/>
                </a:lnTo>
                <a:lnTo>
                  <a:pt x="409" y="223"/>
                </a:lnTo>
                <a:lnTo>
                  <a:pt x="439" y="295"/>
                </a:lnTo>
                <a:lnTo>
                  <a:pt x="472" y="366"/>
                </a:lnTo>
                <a:lnTo>
                  <a:pt x="510" y="435"/>
                </a:lnTo>
                <a:lnTo>
                  <a:pt x="552" y="504"/>
                </a:lnTo>
                <a:lnTo>
                  <a:pt x="598" y="574"/>
                </a:lnTo>
                <a:lnTo>
                  <a:pt x="629" y="614"/>
                </a:lnTo>
                <a:lnTo>
                  <a:pt x="685" y="539"/>
                </a:lnTo>
                <a:lnTo>
                  <a:pt x="717" y="493"/>
                </a:lnTo>
                <a:lnTo>
                  <a:pt x="750" y="451"/>
                </a:lnTo>
                <a:lnTo>
                  <a:pt x="783" y="410"/>
                </a:lnTo>
                <a:lnTo>
                  <a:pt x="813" y="374"/>
                </a:lnTo>
                <a:lnTo>
                  <a:pt x="844" y="341"/>
                </a:lnTo>
                <a:lnTo>
                  <a:pt x="873" y="311"/>
                </a:lnTo>
                <a:lnTo>
                  <a:pt x="902" y="282"/>
                </a:lnTo>
                <a:lnTo>
                  <a:pt x="930" y="257"/>
                </a:lnTo>
                <a:lnTo>
                  <a:pt x="957" y="236"/>
                </a:lnTo>
                <a:lnTo>
                  <a:pt x="982" y="217"/>
                </a:lnTo>
                <a:lnTo>
                  <a:pt x="1007" y="199"/>
                </a:lnTo>
                <a:lnTo>
                  <a:pt x="1032" y="186"/>
                </a:lnTo>
                <a:lnTo>
                  <a:pt x="1055" y="176"/>
                </a:lnTo>
                <a:lnTo>
                  <a:pt x="1076" y="169"/>
                </a:lnTo>
                <a:lnTo>
                  <a:pt x="1099" y="165"/>
                </a:lnTo>
                <a:lnTo>
                  <a:pt x="1118" y="163"/>
                </a:lnTo>
                <a:lnTo>
                  <a:pt x="1139" y="165"/>
                </a:lnTo>
                <a:lnTo>
                  <a:pt x="1157" y="169"/>
                </a:lnTo>
                <a:lnTo>
                  <a:pt x="1176" y="176"/>
                </a:lnTo>
                <a:lnTo>
                  <a:pt x="1191" y="184"/>
                </a:lnTo>
                <a:lnTo>
                  <a:pt x="1208" y="198"/>
                </a:lnTo>
                <a:lnTo>
                  <a:pt x="1224" y="213"/>
                </a:lnTo>
                <a:lnTo>
                  <a:pt x="1237" y="230"/>
                </a:lnTo>
                <a:lnTo>
                  <a:pt x="1251" y="249"/>
                </a:lnTo>
                <a:lnTo>
                  <a:pt x="1262" y="269"/>
                </a:lnTo>
                <a:lnTo>
                  <a:pt x="1278" y="292"/>
                </a:lnTo>
                <a:lnTo>
                  <a:pt x="1226" y="320"/>
                </a:lnTo>
                <a:lnTo>
                  <a:pt x="1172" y="357"/>
                </a:lnTo>
                <a:lnTo>
                  <a:pt x="1116" y="399"/>
                </a:lnTo>
                <a:lnTo>
                  <a:pt x="1059" y="447"/>
                </a:lnTo>
                <a:lnTo>
                  <a:pt x="1001" y="503"/>
                </a:lnTo>
                <a:lnTo>
                  <a:pt x="942" y="564"/>
                </a:lnTo>
                <a:lnTo>
                  <a:pt x="880" y="633"/>
                </a:lnTo>
                <a:lnTo>
                  <a:pt x="817" y="708"/>
                </a:lnTo>
                <a:lnTo>
                  <a:pt x="762" y="777"/>
                </a:lnTo>
                <a:lnTo>
                  <a:pt x="802" y="825"/>
                </a:lnTo>
                <a:lnTo>
                  <a:pt x="832" y="861"/>
                </a:lnTo>
                <a:lnTo>
                  <a:pt x="861" y="894"/>
                </a:lnTo>
                <a:lnTo>
                  <a:pt x="892" y="925"/>
                </a:lnTo>
                <a:lnTo>
                  <a:pt x="921" y="953"/>
                </a:lnTo>
                <a:lnTo>
                  <a:pt x="950" y="980"/>
                </a:lnTo>
                <a:lnTo>
                  <a:pt x="978" y="1003"/>
                </a:lnTo>
                <a:lnTo>
                  <a:pt x="1007" y="1026"/>
                </a:lnTo>
                <a:lnTo>
                  <a:pt x="1034" y="1045"/>
                </a:lnTo>
                <a:lnTo>
                  <a:pt x="1063" y="1063"/>
                </a:lnTo>
                <a:lnTo>
                  <a:pt x="1090" y="1078"/>
                </a:lnTo>
                <a:lnTo>
                  <a:pt x="1116" y="1090"/>
                </a:lnTo>
                <a:lnTo>
                  <a:pt x="1143" y="1101"/>
                </a:lnTo>
                <a:lnTo>
                  <a:pt x="1170" y="1109"/>
                </a:lnTo>
                <a:lnTo>
                  <a:pt x="1197" y="1114"/>
                </a:lnTo>
                <a:lnTo>
                  <a:pt x="1222" y="1118"/>
                </a:lnTo>
                <a:lnTo>
                  <a:pt x="1247" y="1118"/>
                </a:lnTo>
                <a:lnTo>
                  <a:pt x="1291" y="1116"/>
                </a:lnTo>
                <a:lnTo>
                  <a:pt x="1333" y="1111"/>
                </a:lnTo>
                <a:lnTo>
                  <a:pt x="1360" y="1105"/>
                </a:lnTo>
                <a:lnTo>
                  <a:pt x="1360" y="1105"/>
                </a:lnTo>
                <a:lnTo>
                  <a:pt x="1343" y="1141"/>
                </a:lnTo>
                <a:lnTo>
                  <a:pt x="1329" y="1170"/>
                </a:lnTo>
                <a:lnTo>
                  <a:pt x="1316" y="1197"/>
                </a:lnTo>
                <a:lnTo>
                  <a:pt x="1304" y="1222"/>
                </a:lnTo>
                <a:lnTo>
                  <a:pt x="1291" y="1243"/>
                </a:lnTo>
                <a:lnTo>
                  <a:pt x="1279" y="1262"/>
                </a:lnTo>
                <a:lnTo>
                  <a:pt x="1270" y="1279"/>
                </a:lnTo>
                <a:lnTo>
                  <a:pt x="1258" y="1293"/>
                </a:lnTo>
                <a:lnTo>
                  <a:pt x="1249" y="1304"/>
                </a:lnTo>
                <a:lnTo>
                  <a:pt x="1224" y="1325"/>
                </a:lnTo>
                <a:lnTo>
                  <a:pt x="1195" y="1341"/>
                </a:lnTo>
                <a:lnTo>
                  <a:pt x="1164" y="1348"/>
                </a:lnTo>
                <a:lnTo>
                  <a:pt x="1128" y="1352"/>
                </a:lnTo>
                <a:lnTo>
                  <a:pt x="1107" y="1350"/>
                </a:lnTo>
                <a:lnTo>
                  <a:pt x="1084" y="1347"/>
                </a:lnTo>
                <a:lnTo>
                  <a:pt x="1061" y="1341"/>
                </a:lnTo>
                <a:lnTo>
                  <a:pt x="1038" y="1331"/>
                </a:lnTo>
                <a:lnTo>
                  <a:pt x="1013" y="1320"/>
                </a:lnTo>
                <a:lnTo>
                  <a:pt x="988" y="1306"/>
                </a:lnTo>
                <a:lnTo>
                  <a:pt x="961" y="1289"/>
                </a:lnTo>
                <a:lnTo>
                  <a:pt x="934" y="1270"/>
                </a:lnTo>
                <a:lnTo>
                  <a:pt x="907" y="1249"/>
                </a:lnTo>
                <a:lnTo>
                  <a:pt x="879" y="1224"/>
                </a:lnTo>
                <a:lnTo>
                  <a:pt x="850" y="1199"/>
                </a:lnTo>
                <a:lnTo>
                  <a:pt x="819" y="1168"/>
                </a:lnTo>
                <a:lnTo>
                  <a:pt x="788" y="1137"/>
                </a:lnTo>
                <a:lnTo>
                  <a:pt x="758" y="1103"/>
                </a:lnTo>
                <a:lnTo>
                  <a:pt x="725" y="1067"/>
                </a:lnTo>
                <a:lnTo>
                  <a:pt x="692" y="1026"/>
                </a:lnTo>
                <a:lnTo>
                  <a:pt x="629" y="951"/>
                </a:lnTo>
                <a:lnTo>
                  <a:pt x="597" y="997"/>
                </a:lnTo>
                <a:lnTo>
                  <a:pt x="568" y="1040"/>
                </a:lnTo>
                <a:lnTo>
                  <a:pt x="541" y="1078"/>
                </a:lnTo>
                <a:lnTo>
                  <a:pt x="512" y="1114"/>
                </a:lnTo>
                <a:lnTo>
                  <a:pt x="487" y="1147"/>
                </a:lnTo>
                <a:lnTo>
                  <a:pt x="460" y="1180"/>
                </a:lnTo>
                <a:lnTo>
                  <a:pt x="435" y="1207"/>
                </a:lnTo>
                <a:lnTo>
                  <a:pt x="412" y="1233"/>
                </a:lnTo>
                <a:lnTo>
                  <a:pt x="387" y="1256"/>
                </a:lnTo>
                <a:lnTo>
                  <a:pt x="366" y="1279"/>
                </a:lnTo>
                <a:lnTo>
                  <a:pt x="343" y="1297"/>
                </a:lnTo>
                <a:lnTo>
                  <a:pt x="322" y="1314"/>
                </a:lnTo>
                <a:lnTo>
                  <a:pt x="303" y="1327"/>
                </a:lnTo>
                <a:lnTo>
                  <a:pt x="282" y="1339"/>
                </a:lnTo>
                <a:lnTo>
                  <a:pt x="265" y="1348"/>
                </a:lnTo>
                <a:lnTo>
                  <a:pt x="246" y="1354"/>
                </a:lnTo>
                <a:lnTo>
                  <a:pt x="228" y="1358"/>
                </a:lnTo>
                <a:lnTo>
                  <a:pt x="211" y="1360"/>
                </a:lnTo>
                <a:lnTo>
                  <a:pt x="211" y="1360"/>
                </a:lnTo>
                <a:lnTo>
                  <a:pt x="198" y="1358"/>
                </a:lnTo>
                <a:lnTo>
                  <a:pt x="173" y="1352"/>
                </a:lnTo>
                <a:lnTo>
                  <a:pt x="150" y="1343"/>
                </a:lnTo>
                <a:lnTo>
                  <a:pt x="125" y="1327"/>
                </a:lnTo>
                <a:lnTo>
                  <a:pt x="100" y="1306"/>
                </a:lnTo>
                <a:lnTo>
                  <a:pt x="75" y="1279"/>
                </a:lnTo>
                <a:lnTo>
                  <a:pt x="50" y="1249"/>
                </a:lnTo>
                <a:lnTo>
                  <a:pt x="25" y="1212"/>
                </a:lnTo>
                <a:lnTo>
                  <a:pt x="0" y="1170"/>
                </a:lnTo>
                <a:lnTo>
                  <a:pt x="17" y="1174"/>
                </a:lnTo>
                <a:lnTo>
                  <a:pt x="33" y="1178"/>
                </a:lnTo>
                <a:lnTo>
                  <a:pt x="46" y="1180"/>
                </a:lnTo>
                <a:lnTo>
                  <a:pt x="58" y="1180"/>
                </a:lnTo>
                <a:lnTo>
                  <a:pt x="79" y="1178"/>
                </a:lnTo>
                <a:lnTo>
                  <a:pt x="102" y="1174"/>
                </a:lnTo>
                <a:lnTo>
                  <a:pt x="123" y="1168"/>
                </a:lnTo>
                <a:lnTo>
                  <a:pt x="146" y="1161"/>
                </a:lnTo>
                <a:lnTo>
                  <a:pt x="171" y="1149"/>
                </a:lnTo>
                <a:lnTo>
                  <a:pt x="194" y="1136"/>
                </a:lnTo>
                <a:lnTo>
                  <a:pt x="219" y="1118"/>
                </a:lnTo>
                <a:lnTo>
                  <a:pt x="242" y="1101"/>
                </a:lnTo>
                <a:lnTo>
                  <a:pt x="267" y="1080"/>
                </a:lnTo>
                <a:lnTo>
                  <a:pt x="293" y="1055"/>
                </a:lnTo>
                <a:lnTo>
                  <a:pt x="318" y="1030"/>
                </a:lnTo>
                <a:lnTo>
                  <a:pt x="345" y="1001"/>
                </a:lnTo>
                <a:lnTo>
                  <a:pt x="370" y="971"/>
                </a:lnTo>
                <a:lnTo>
                  <a:pt x="397" y="938"/>
                </a:lnTo>
                <a:lnTo>
                  <a:pt x="424" y="902"/>
                </a:lnTo>
                <a:lnTo>
                  <a:pt x="453" y="863"/>
                </a:lnTo>
                <a:lnTo>
                  <a:pt x="504" y="790"/>
                </a:lnTo>
                <a:lnTo>
                  <a:pt x="466" y="740"/>
                </a:lnTo>
                <a:lnTo>
                  <a:pt x="434" y="698"/>
                </a:lnTo>
                <a:lnTo>
                  <a:pt x="405" y="658"/>
                </a:lnTo>
                <a:lnTo>
                  <a:pt x="376" y="618"/>
                </a:lnTo>
                <a:lnTo>
                  <a:pt x="349" y="581"/>
                </a:lnTo>
                <a:lnTo>
                  <a:pt x="326" y="545"/>
                </a:lnTo>
                <a:lnTo>
                  <a:pt x="303" y="510"/>
                </a:lnTo>
                <a:lnTo>
                  <a:pt x="284" y="478"/>
                </a:lnTo>
                <a:lnTo>
                  <a:pt x="267" y="447"/>
                </a:lnTo>
                <a:lnTo>
                  <a:pt x="249" y="416"/>
                </a:lnTo>
                <a:lnTo>
                  <a:pt x="236" y="389"/>
                </a:lnTo>
                <a:lnTo>
                  <a:pt x="224" y="363"/>
                </a:lnTo>
                <a:lnTo>
                  <a:pt x="215" y="338"/>
                </a:lnTo>
                <a:lnTo>
                  <a:pt x="209" y="315"/>
                </a:lnTo>
                <a:lnTo>
                  <a:pt x="203" y="293"/>
                </a:lnTo>
                <a:lnTo>
                  <a:pt x="199" y="272"/>
                </a:lnTo>
                <a:lnTo>
                  <a:pt x="199" y="255"/>
                </a:lnTo>
                <a:lnTo>
                  <a:pt x="201" y="228"/>
                </a:lnTo>
                <a:lnTo>
                  <a:pt x="207" y="201"/>
                </a:lnTo>
                <a:lnTo>
                  <a:pt x="219" y="173"/>
                </a:lnTo>
                <a:lnTo>
                  <a:pt x="236" y="140"/>
                </a:lnTo>
                <a:lnTo>
                  <a:pt x="255" y="107"/>
                </a:lnTo>
                <a:lnTo>
                  <a:pt x="280" y="73"/>
                </a:lnTo>
                <a:lnTo>
                  <a:pt x="311" y="38"/>
                </a:lnTo>
                <a:lnTo>
                  <a:pt x="345" y="0"/>
                </a:lnTo>
                <a:close/>
              </a:path>
            </a:pathLst>
          </a:cu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KSO_Shape"/>
          <p:cNvSpPr/>
          <p:nvPr/>
        </p:nvSpPr>
        <p:spPr>
          <a:xfrm>
            <a:off x="1459080" y="146196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KSO_Shape"/>
          <p:cNvSpPr/>
          <p:nvPr/>
        </p:nvSpPr>
        <p:spPr>
          <a:xfrm>
            <a:off x="7756560" y="15890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文本框 18"/>
          <p:cNvSpPr/>
          <p:nvPr/>
        </p:nvSpPr>
        <p:spPr>
          <a:xfrm>
            <a:off x="2028240" y="1436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69" name="TextBox 15"/>
          <p:cNvSpPr/>
          <p:nvPr/>
        </p:nvSpPr>
        <p:spPr>
          <a:xfrm>
            <a:off x="1987560" y="170820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0" name="KSO_Shape"/>
          <p:cNvSpPr/>
          <p:nvPr/>
        </p:nvSpPr>
        <p:spPr>
          <a:xfrm>
            <a:off x="1459080" y="437184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文本框 21"/>
          <p:cNvSpPr/>
          <p:nvPr/>
        </p:nvSpPr>
        <p:spPr>
          <a:xfrm>
            <a:off x="2028240" y="43466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2" name="TextBox 15"/>
          <p:cNvSpPr/>
          <p:nvPr/>
        </p:nvSpPr>
        <p:spPr>
          <a:xfrm>
            <a:off x="1987560" y="461808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3" name="文本框 23"/>
          <p:cNvSpPr/>
          <p:nvPr/>
        </p:nvSpPr>
        <p:spPr>
          <a:xfrm>
            <a:off x="8344800" y="1517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4" name="TextBox 15"/>
          <p:cNvSpPr/>
          <p:nvPr/>
        </p:nvSpPr>
        <p:spPr>
          <a:xfrm>
            <a:off x="8304120" y="178920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5" name="KSO_Shape"/>
          <p:cNvSpPr/>
          <p:nvPr/>
        </p:nvSpPr>
        <p:spPr>
          <a:xfrm>
            <a:off x="7756560" y="43448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文本框 26"/>
          <p:cNvSpPr/>
          <p:nvPr/>
        </p:nvSpPr>
        <p:spPr>
          <a:xfrm>
            <a:off x="8344800" y="42847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7" name="TextBox 15"/>
          <p:cNvSpPr/>
          <p:nvPr/>
        </p:nvSpPr>
        <p:spPr>
          <a:xfrm>
            <a:off x="8304120" y="45496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8" name="KSO_Shape"/>
          <p:cNvSpPr/>
          <p:nvPr/>
        </p:nvSpPr>
        <p:spPr>
          <a:xfrm>
            <a:off x="1459080" y="2882880"/>
            <a:ext cx="488880" cy="48888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文本框 29"/>
          <p:cNvSpPr/>
          <p:nvPr/>
        </p:nvSpPr>
        <p:spPr>
          <a:xfrm>
            <a:off x="2028240" y="285768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80" name="TextBox 15"/>
          <p:cNvSpPr/>
          <p:nvPr/>
        </p:nvSpPr>
        <p:spPr>
          <a:xfrm>
            <a:off x="1987560" y="312912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81" name="KSO_Shape"/>
          <p:cNvSpPr/>
          <p:nvPr/>
        </p:nvSpPr>
        <p:spPr>
          <a:xfrm>
            <a:off x="7756560" y="2895480"/>
            <a:ext cx="488880" cy="4892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文本框 32"/>
          <p:cNvSpPr/>
          <p:nvPr/>
        </p:nvSpPr>
        <p:spPr>
          <a:xfrm>
            <a:off x="8344800" y="28940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83" name="TextBox 15"/>
          <p:cNvSpPr/>
          <p:nvPr/>
        </p:nvSpPr>
        <p:spPr>
          <a:xfrm>
            <a:off x="8304120" y="31654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椭圆 1"/>
          <p:cNvSpPr/>
          <p:nvPr/>
        </p:nvSpPr>
        <p:spPr>
          <a:xfrm>
            <a:off x="6068880" y="2854440"/>
            <a:ext cx="1752840" cy="175248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5" name="组合 69"/>
          <p:cNvGrpSpPr/>
          <p:nvPr/>
        </p:nvGrpSpPr>
        <p:grpSpPr>
          <a:xfrm>
            <a:off x="7929720" y="1881360"/>
            <a:ext cx="1774800" cy="3633480"/>
            <a:chOff x="7929720" y="1881360"/>
            <a:chExt cx="1774800" cy="3633480"/>
          </a:xfrm>
        </p:grpSpPr>
        <p:sp>
          <p:nvSpPr>
            <p:cNvPr id="286" name="直接连接符 11"/>
            <p:cNvSpPr/>
            <p:nvPr/>
          </p:nvSpPr>
          <p:spPr>
            <a:xfrm>
              <a:off x="8609040" y="1881360"/>
              <a:ext cx="0" cy="363348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直接连接符 12"/>
            <p:cNvSpPr/>
            <p:nvPr/>
          </p:nvSpPr>
          <p:spPr>
            <a:xfrm>
              <a:off x="7929720" y="3668760"/>
              <a:ext cx="67932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直接连接符 13"/>
            <p:cNvSpPr/>
            <p:nvPr/>
          </p:nvSpPr>
          <p:spPr>
            <a:xfrm>
              <a:off x="8609040" y="188136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直接连接符 14"/>
            <p:cNvSpPr/>
            <p:nvPr/>
          </p:nvSpPr>
          <p:spPr>
            <a:xfrm>
              <a:off x="8609040" y="30924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直接连接符 15"/>
            <p:cNvSpPr/>
            <p:nvPr/>
          </p:nvSpPr>
          <p:spPr>
            <a:xfrm>
              <a:off x="8609040" y="43038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直接连接符 16"/>
            <p:cNvSpPr/>
            <p:nvPr/>
          </p:nvSpPr>
          <p:spPr>
            <a:xfrm>
              <a:off x="8609040" y="551484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2" name="椭圆 17"/>
          <p:cNvSpPr/>
          <p:nvPr/>
        </p:nvSpPr>
        <p:spPr>
          <a:xfrm>
            <a:off x="9653760" y="1830240"/>
            <a:ext cx="101520" cy="103320"/>
          </a:xfrm>
          <a:prstGeom prst="ellipse">
            <a:avLst/>
          </a:prstGeom>
          <a:solidFill>
            <a:srgbClr val="f05a24"/>
          </a:solidFill>
          <a:ln w="12600">
            <a:solidFill>
              <a:srgbClr val="ffffff"/>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椭圆 18"/>
          <p:cNvSpPr/>
          <p:nvPr/>
        </p:nvSpPr>
        <p:spPr>
          <a:xfrm>
            <a:off x="9653760" y="3048120"/>
            <a:ext cx="101520" cy="101520"/>
          </a:xfrm>
          <a:prstGeom prst="ellipse">
            <a:avLst/>
          </a:prstGeom>
          <a:solidFill>
            <a:srgbClr val="009145"/>
          </a:solidFill>
          <a:ln w="1260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椭圆 19"/>
          <p:cNvSpPr/>
          <p:nvPr/>
        </p:nvSpPr>
        <p:spPr>
          <a:xfrm>
            <a:off x="9653760" y="4264200"/>
            <a:ext cx="101520" cy="101520"/>
          </a:xfrm>
          <a:prstGeom prst="ellipse">
            <a:avLst/>
          </a:prstGeom>
          <a:solidFill>
            <a:srgbClr val="c0272d"/>
          </a:solidFill>
          <a:ln w="1260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椭圆 20"/>
          <p:cNvSpPr/>
          <p:nvPr/>
        </p:nvSpPr>
        <p:spPr>
          <a:xfrm>
            <a:off x="9653760" y="5479920"/>
            <a:ext cx="101520" cy="101880"/>
          </a:xfrm>
          <a:prstGeom prst="ellipse">
            <a:avLst/>
          </a:prstGeom>
          <a:solidFill>
            <a:srgbClr val="f6921e"/>
          </a:solidFill>
          <a:ln w="12600">
            <a:solidFill>
              <a:srgbClr val="ffffff"/>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椭圆 21"/>
          <p:cNvSpPr/>
          <p:nvPr/>
        </p:nvSpPr>
        <p:spPr>
          <a:xfrm>
            <a:off x="5937120" y="2701800"/>
            <a:ext cx="1992600" cy="199260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KSO_Shape"/>
          <p:cNvSpPr/>
          <p:nvPr/>
        </p:nvSpPr>
        <p:spPr>
          <a:xfrm>
            <a:off x="6202440" y="3098880"/>
            <a:ext cx="1387440" cy="1141200"/>
          </a:xfrm>
          <a:custGeom>
            <a:avLst/>
            <a:gdLst/>
            <a:ahLst/>
            <a:rect l="l" t="t" r="r" b="b"/>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KSO_Shape"/>
          <p:cNvSpPr/>
          <p:nvPr/>
        </p:nvSpPr>
        <p:spPr>
          <a:xfrm>
            <a:off x="10194840" y="3930480"/>
            <a:ext cx="843120" cy="586080"/>
          </a:xfrm>
          <a:custGeom>
            <a:avLst/>
            <a:gdLst/>
            <a:ahLst/>
            <a:rect l="l" t="t" r="r" b="b"/>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KSO_Shape"/>
          <p:cNvSpPr/>
          <p:nvPr/>
        </p:nvSpPr>
        <p:spPr>
          <a:xfrm>
            <a:off x="10294920" y="2581200"/>
            <a:ext cx="370080" cy="844560"/>
          </a:xfrm>
          <a:custGeom>
            <a:avLst/>
            <a:gdLst/>
            <a:ahLst/>
            <a:rect l="l" t="t" r="r" b="b"/>
            <a:pathLst>
              <a:path w="1488" h="3386">
                <a:moveTo>
                  <a:pt x="1373" y="842"/>
                </a:moveTo>
                <a:lnTo>
                  <a:pt x="869" y="842"/>
                </a:lnTo>
                <a:lnTo>
                  <a:pt x="869" y="787"/>
                </a:lnTo>
                <a:lnTo>
                  <a:pt x="869" y="780"/>
                </a:lnTo>
                <a:lnTo>
                  <a:pt x="867" y="771"/>
                </a:lnTo>
                <a:lnTo>
                  <a:pt x="865" y="764"/>
                </a:lnTo>
                <a:lnTo>
                  <a:pt x="862" y="756"/>
                </a:lnTo>
                <a:lnTo>
                  <a:pt x="859" y="750"/>
                </a:lnTo>
                <a:lnTo>
                  <a:pt x="855" y="744"/>
                </a:lnTo>
                <a:lnTo>
                  <a:pt x="851" y="737"/>
                </a:lnTo>
                <a:lnTo>
                  <a:pt x="845" y="732"/>
                </a:lnTo>
                <a:lnTo>
                  <a:pt x="840" y="727"/>
                </a:lnTo>
                <a:lnTo>
                  <a:pt x="834" y="723"/>
                </a:lnTo>
                <a:lnTo>
                  <a:pt x="827" y="718"/>
                </a:lnTo>
                <a:lnTo>
                  <a:pt x="821" y="715"/>
                </a:lnTo>
                <a:lnTo>
                  <a:pt x="814" y="713"/>
                </a:lnTo>
                <a:lnTo>
                  <a:pt x="806" y="711"/>
                </a:lnTo>
                <a:lnTo>
                  <a:pt x="799" y="710"/>
                </a:lnTo>
                <a:lnTo>
                  <a:pt x="791" y="709"/>
                </a:lnTo>
                <a:lnTo>
                  <a:pt x="519" y="709"/>
                </a:lnTo>
                <a:lnTo>
                  <a:pt x="511" y="710"/>
                </a:lnTo>
                <a:lnTo>
                  <a:pt x="504" y="711"/>
                </a:lnTo>
                <a:lnTo>
                  <a:pt x="496" y="713"/>
                </a:lnTo>
                <a:lnTo>
                  <a:pt x="489" y="715"/>
                </a:lnTo>
                <a:lnTo>
                  <a:pt x="483" y="718"/>
                </a:lnTo>
                <a:lnTo>
                  <a:pt x="476" y="723"/>
                </a:lnTo>
                <a:lnTo>
                  <a:pt x="470" y="727"/>
                </a:lnTo>
                <a:lnTo>
                  <a:pt x="465" y="732"/>
                </a:lnTo>
                <a:lnTo>
                  <a:pt x="459" y="737"/>
                </a:lnTo>
                <a:lnTo>
                  <a:pt x="455" y="744"/>
                </a:lnTo>
                <a:lnTo>
                  <a:pt x="451" y="750"/>
                </a:lnTo>
                <a:lnTo>
                  <a:pt x="448" y="756"/>
                </a:lnTo>
                <a:lnTo>
                  <a:pt x="445" y="764"/>
                </a:lnTo>
                <a:lnTo>
                  <a:pt x="444" y="771"/>
                </a:lnTo>
                <a:lnTo>
                  <a:pt x="442" y="780"/>
                </a:lnTo>
                <a:lnTo>
                  <a:pt x="441" y="787"/>
                </a:lnTo>
                <a:lnTo>
                  <a:pt x="441" y="842"/>
                </a:lnTo>
                <a:lnTo>
                  <a:pt x="384" y="842"/>
                </a:lnTo>
                <a:lnTo>
                  <a:pt x="384" y="99"/>
                </a:lnTo>
                <a:lnTo>
                  <a:pt x="384" y="90"/>
                </a:lnTo>
                <a:lnTo>
                  <a:pt x="382" y="79"/>
                </a:lnTo>
                <a:lnTo>
                  <a:pt x="380" y="70"/>
                </a:lnTo>
                <a:lnTo>
                  <a:pt x="377" y="60"/>
                </a:lnTo>
                <a:lnTo>
                  <a:pt x="373" y="52"/>
                </a:lnTo>
                <a:lnTo>
                  <a:pt x="368" y="43"/>
                </a:lnTo>
                <a:lnTo>
                  <a:pt x="362" y="36"/>
                </a:lnTo>
                <a:lnTo>
                  <a:pt x="356" y="29"/>
                </a:lnTo>
                <a:lnTo>
                  <a:pt x="349" y="22"/>
                </a:lnTo>
                <a:lnTo>
                  <a:pt x="341" y="17"/>
                </a:lnTo>
                <a:lnTo>
                  <a:pt x="333" y="12"/>
                </a:lnTo>
                <a:lnTo>
                  <a:pt x="323" y="7"/>
                </a:lnTo>
                <a:lnTo>
                  <a:pt x="315" y="4"/>
                </a:lnTo>
                <a:lnTo>
                  <a:pt x="305" y="1"/>
                </a:lnTo>
                <a:lnTo>
                  <a:pt x="295" y="0"/>
                </a:lnTo>
                <a:lnTo>
                  <a:pt x="285" y="0"/>
                </a:lnTo>
                <a:lnTo>
                  <a:pt x="275" y="0"/>
                </a:lnTo>
                <a:lnTo>
                  <a:pt x="264" y="1"/>
                </a:lnTo>
                <a:lnTo>
                  <a:pt x="255" y="4"/>
                </a:lnTo>
                <a:lnTo>
                  <a:pt x="246" y="7"/>
                </a:lnTo>
                <a:lnTo>
                  <a:pt x="237" y="12"/>
                </a:lnTo>
                <a:lnTo>
                  <a:pt x="229" y="17"/>
                </a:lnTo>
                <a:lnTo>
                  <a:pt x="221" y="22"/>
                </a:lnTo>
                <a:lnTo>
                  <a:pt x="215" y="29"/>
                </a:lnTo>
                <a:lnTo>
                  <a:pt x="207" y="36"/>
                </a:lnTo>
                <a:lnTo>
                  <a:pt x="202" y="43"/>
                </a:lnTo>
                <a:lnTo>
                  <a:pt x="197" y="52"/>
                </a:lnTo>
                <a:lnTo>
                  <a:pt x="192" y="60"/>
                </a:lnTo>
                <a:lnTo>
                  <a:pt x="189" y="70"/>
                </a:lnTo>
                <a:lnTo>
                  <a:pt x="187" y="79"/>
                </a:lnTo>
                <a:lnTo>
                  <a:pt x="185" y="90"/>
                </a:lnTo>
                <a:lnTo>
                  <a:pt x="185" y="99"/>
                </a:lnTo>
                <a:lnTo>
                  <a:pt x="185" y="842"/>
                </a:lnTo>
                <a:lnTo>
                  <a:pt x="114" y="842"/>
                </a:lnTo>
                <a:lnTo>
                  <a:pt x="103" y="843"/>
                </a:lnTo>
                <a:lnTo>
                  <a:pt x="91" y="845"/>
                </a:lnTo>
                <a:lnTo>
                  <a:pt x="81" y="847"/>
                </a:lnTo>
                <a:lnTo>
                  <a:pt x="70" y="851"/>
                </a:lnTo>
                <a:lnTo>
                  <a:pt x="60" y="855"/>
                </a:lnTo>
                <a:lnTo>
                  <a:pt x="50" y="862"/>
                </a:lnTo>
                <a:lnTo>
                  <a:pt x="42" y="868"/>
                </a:lnTo>
                <a:lnTo>
                  <a:pt x="33" y="875"/>
                </a:lnTo>
                <a:lnTo>
                  <a:pt x="26" y="884"/>
                </a:lnTo>
                <a:lnTo>
                  <a:pt x="19" y="892"/>
                </a:lnTo>
                <a:lnTo>
                  <a:pt x="14" y="902"/>
                </a:lnTo>
                <a:lnTo>
                  <a:pt x="9" y="912"/>
                </a:lnTo>
                <a:lnTo>
                  <a:pt x="5" y="922"/>
                </a:lnTo>
                <a:lnTo>
                  <a:pt x="3" y="933"/>
                </a:lnTo>
                <a:lnTo>
                  <a:pt x="0" y="945"/>
                </a:lnTo>
                <a:lnTo>
                  <a:pt x="0" y="957"/>
                </a:lnTo>
                <a:lnTo>
                  <a:pt x="0" y="3271"/>
                </a:lnTo>
                <a:lnTo>
                  <a:pt x="0" y="3282"/>
                </a:lnTo>
                <a:lnTo>
                  <a:pt x="3" y="3294"/>
                </a:lnTo>
                <a:lnTo>
                  <a:pt x="5" y="3306"/>
                </a:lnTo>
                <a:lnTo>
                  <a:pt x="9" y="3316"/>
                </a:lnTo>
                <a:lnTo>
                  <a:pt x="14" y="3326"/>
                </a:lnTo>
                <a:lnTo>
                  <a:pt x="19" y="3335"/>
                </a:lnTo>
                <a:lnTo>
                  <a:pt x="26" y="3344"/>
                </a:lnTo>
                <a:lnTo>
                  <a:pt x="33" y="3352"/>
                </a:lnTo>
                <a:lnTo>
                  <a:pt x="42" y="3359"/>
                </a:lnTo>
                <a:lnTo>
                  <a:pt x="50" y="3366"/>
                </a:lnTo>
                <a:lnTo>
                  <a:pt x="60" y="3372"/>
                </a:lnTo>
                <a:lnTo>
                  <a:pt x="70" y="3376"/>
                </a:lnTo>
                <a:lnTo>
                  <a:pt x="81" y="3380"/>
                </a:lnTo>
                <a:lnTo>
                  <a:pt x="91" y="3383"/>
                </a:lnTo>
                <a:lnTo>
                  <a:pt x="103" y="3385"/>
                </a:lnTo>
                <a:lnTo>
                  <a:pt x="114" y="3386"/>
                </a:lnTo>
                <a:lnTo>
                  <a:pt x="1373" y="3386"/>
                </a:lnTo>
                <a:lnTo>
                  <a:pt x="1384" y="3385"/>
                </a:lnTo>
                <a:lnTo>
                  <a:pt x="1396" y="3383"/>
                </a:lnTo>
                <a:lnTo>
                  <a:pt x="1407" y="3380"/>
                </a:lnTo>
                <a:lnTo>
                  <a:pt x="1417" y="3376"/>
                </a:lnTo>
                <a:lnTo>
                  <a:pt x="1428" y="3372"/>
                </a:lnTo>
                <a:lnTo>
                  <a:pt x="1437" y="3366"/>
                </a:lnTo>
                <a:lnTo>
                  <a:pt x="1446" y="3359"/>
                </a:lnTo>
                <a:lnTo>
                  <a:pt x="1454" y="3352"/>
                </a:lnTo>
                <a:lnTo>
                  <a:pt x="1461" y="3344"/>
                </a:lnTo>
                <a:lnTo>
                  <a:pt x="1468" y="3335"/>
                </a:lnTo>
                <a:lnTo>
                  <a:pt x="1473" y="3326"/>
                </a:lnTo>
                <a:lnTo>
                  <a:pt x="1478" y="3316"/>
                </a:lnTo>
                <a:lnTo>
                  <a:pt x="1483" y="3306"/>
                </a:lnTo>
                <a:lnTo>
                  <a:pt x="1485" y="3294"/>
                </a:lnTo>
                <a:lnTo>
                  <a:pt x="1487" y="3282"/>
                </a:lnTo>
                <a:lnTo>
                  <a:pt x="1488" y="3271"/>
                </a:lnTo>
                <a:lnTo>
                  <a:pt x="1488" y="957"/>
                </a:lnTo>
                <a:lnTo>
                  <a:pt x="1487" y="945"/>
                </a:lnTo>
                <a:lnTo>
                  <a:pt x="1485" y="933"/>
                </a:lnTo>
                <a:lnTo>
                  <a:pt x="1483" y="922"/>
                </a:lnTo>
                <a:lnTo>
                  <a:pt x="1478" y="912"/>
                </a:lnTo>
                <a:lnTo>
                  <a:pt x="1473" y="902"/>
                </a:lnTo>
                <a:lnTo>
                  <a:pt x="1468" y="892"/>
                </a:lnTo>
                <a:lnTo>
                  <a:pt x="1461" y="884"/>
                </a:lnTo>
                <a:lnTo>
                  <a:pt x="1454" y="875"/>
                </a:lnTo>
                <a:lnTo>
                  <a:pt x="1446" y="868"/>
                </a:lnTo>
                <a:lnTo>
                  <a:pt x="1437" y="862"/>
                </a:lnTo>
                <a:lnTo>
                  <a:pt x="1428" y="855"/>
                </a:lnTo>
                <a:lnTo>
                  <a:pt x="1417" y="851"/>
                </a:lnTo>
                <a:lnTo>
                  <a:pt x="1407" y="847"/>
                </a:lnTo>
                <a:lnTo>
                  <a:pt x="1396" y="845"/>
                </a:lnTo>
                <a:lnTo>
                  <a:pt x="1384" y="843"/>
                </a:lnTo>
                <a:lnTo>
                  <a:pt x="1373" y="842"/>
                </a:lnTo>
                <a:close/>
                <a:moveTo>
                  <a:pt x="493" y="2805"/>
                </a:moveTo>
                <a:lnTo>
                  <a:pt x="493" y="2805"/>
                </a:lnTo>
                <a:lnTo>
                  <a:pt x="469" y="2804"/>
                </a:lnTo>
                <a:lnTo>
                  <a:pt x="447" y="2801"/>
                </a:lnTo>
                <a:lnTo>
                  <a:pt x="425" y="2798"/>
                </a:lnTo>
                <a:lnTo>
                  <a:pt x="403" y="2793"/>
                </a:lnTo>
                <a:lnTo>
                  <a:pt x="383" y="2788"/>
                </a:lnTo>
                <a:lnTo>
                  <a:pt x="365" y="2780"/>
                </a:lnTo>
                <a:lnTo>
                  <a:pt x="348" y="2773"/>
                </a:lnTo>
                <a:lnTo>
                  <a:pt x="332" y="2763"/>
                </a:lnTo>
                <a:lnTo>
                  <a:pt x="317" y="2754"/>
                </a:lnTo>
                <a:lnTo>
                  <a:pt x="303" y="2743"/>
                </a:lnTo>
                <a:lnTo>
                  <a:pt x="292" y="2732"/>
                </a:lnTo>
                <a:lnTo>
                  <a:pt x="282" y="2720"/>
                </a:lnTo>
                <a:lnTo>
                  <a:pt x="275" y="2708"/>
                </a:lnTo>
                <a:lnTo>
                  <a:pt x="269" y="2694"/>
                </a:lnTo>
                <a:lnTo>
                  <a:pt x="265" y="2680"/>
                </a:lnTo>
                <a:lnTo>
                  <a:pt x="264" y="2666"/>
                </a:lnTo>
                <a:lnTo>
                  <a:pt x="265" y="2653"/>
                </a:lnTo>
                <a:lnTo>
                  <a:pt x="269" y="2639"/>
                </a:lnTo>
                <a:lnTo>
                  <a:pt x="275" y="2625"/>
                </a:lnTo>
                <a:lnTo>
                  <a:pt x="282" y="2613"/>
                </a:lnTo>
                <a:lnTo>
                  <a:pt x="292" y="2601"/>
                </a:lnTo>
                <a:lnTo>
                  <a:pt x="303" y="2589"/>
                </a:lnTo>
                <a:lnTo>
                  <a:pt x="317" y="2579"/>
                </a:lnTo>
                <a:lnTo>
                  <a:pt x="332" y="2569"/>
                </a:lnTo>
                <a:lnTo>
                  <a:pt x="348" y="2560"/>
                </a:lnTo>
                <a:lnTo>
                  <a:pt x="365" y="2553"/>
                </a:lnTo>
                <a:lnTo>
                  <a:pt x="383" y="2545"/>
                </a:lnTo>
                <a:lnTo>
                  <a:pt x="403" y="2540"/>
                </a:lnTo>
                <a:lnTo>
                  <a:pt x="425" y="2535"/>
                </a:lnTo>
                <a:lnTo>
                  <a:pt x="447" y="2531"/>
                </a:lnTo>
                <a:lnTo>
                  <a:pt x="469" y="2529"/>
                </a:lnTo>
                <a:lnTo>
                  <a:pt x="493" y="2528"/>
                </a:lnTo>
                <a:lnTo>
                  <a:pt x="504" y="2529"/>
                </a:lnTo>
                <a:lnTo>
                  <a:pt x="515" y="2531"/>
                </a:lnTo>
                <a:lnTo>
                  <a:pt x="525" y="2536"/>
                </a:lnTo>
                <a:lnTo>
                  <a:pt x="534" y="2541"/>
                </a:lnTo>
                <a:lnTo>
                  <a:pt x="543" y="2546"/>
                </a:lnTo>
                <a:lnTo>
                  <a:pt x="550" y="2554"/>
                </a:lnTo>
                <a:lnTo>
                  <a:pt x="557" y="2562"/>
                </a:lnTo>
                <a:lnTo>
                  <a:pt x="564" y="2572"/>
                </a:lnTo>
                <a:lnTo>
                  <a:pt x="569" y="2582"/>
                </a:lnTo>
                <a:lnTo>
                  <a:pt x="574" y="2593"/>
                </a:lnTo>
                <a:lnTo>
                  <a:pt x="579" y="2604"/>
                </a:lnTo>
                <a:lnTo>
                  <a:pt x="582" y="2616"/>
                </a:lnTo>
                <a:lnTo>
                  <a:pt x="584" y="2628"/>
                </a:lnTo>
                <a:lnTo>
                  <a:pt x="586" y="2641"/>
                </a:lnTo>
                <a:lnTo>
                  <a:pt x="587" y="2654"/>
                </a:lnTo>
                <a:lnTo>
                  <a:pt x="587" y="2666"/>
                </a:lnTo>
                <a:lnTo>
                  <a:pt x="587" y="2679"/>
                </a:lnTo>
                <a:lnTo>
                  <a:pt x="586" y="2692"/>
                </a:lnTo>
                <a:lnTo>
                  <a:pt x="584" y="2704"/>
                </a:lnTo>
                <a:lnTo>
                  <a:pt x="582" y="2717"/>
                </a:lnTo>
                <a:lnTo>
                  <a:pt x="579" y="2729"/>
                </a:lnTo>
                <a:lnTo>
                  <a:pt x="574" y="2740"/>
                </a:lnTo>
                <a:lnTo>
                  <a:pt x="569" y="2751"/>
                </a:lnTo>
                <a:lnTo>
                  <a:pt x="564" y="2761"/>
                </a:lnTo>
                <a:lnTo>
                  <a:pt x="557" y="2771"/>
                </a:lnTo>
                <a:lnTo>
                  <a:pt x="550" y="2778"/>
                </a:lnTo>
                <a:lnTo>
                  <a:pt x="543" y="2786"/>
                </a:lnTo>
                <a:lnTo>
                  <a:pt x="534" y="2792"/>
                </a:lnTo>
                <a:lnTo>
                  <a:pt x="525" y="2797"/>
                </a:lnTo>
                <a:lnTo>
                  <a:pt x="515" y="2801"/>
                </a:lnTo>
                <a:lnTo>
                  <a:pt x="504" y="2804"/>
                </a:lnTo>
                <a:lnTo>
                  <a:pt x="493" y="2805"/>
                </a:lnTo>
                <a:close/>
                <a:moveTo>
                  <a:pt x="739" y="3128"/>
                </a:moveTo>
                <a:lnTo>
                  <a:pt x="739" y="3128"/>
                </a:lnTo>
                <a:lnTo>
                  <a:pt x="725" y="3127"/>
                </a:lnTo>
                <a:lnTo>
                  <a:pt x="711" y="3124"/>
                </a:lnTo>
                <a:lnTo>
                  <a:pt x="698" y="3118"/>
                </a:lnTo>
                <a:lnTo>
                  <a:pt x="685" y="3110"/>
                </a:lnTo>
                <a:lnTo>
                  <a:pt x="673" y="3101"/>
                </a:lnTo>
                <a:lnTo>
                  <a:pt x="662" y="3089"/>
                </a:lnTo>
                <a:lnTo>
                  <a:pt x="651" y="3077"/>
                </a:lnTo>
                <a:lnTo>
                  <a:pt x="642" y="3062"/>
                </a:lnTo>
                <a:lnTo>
                  <a:pt x="632" y="3045"/>
                </a:lnTo>
                <a:lnTo>
                  <a:pt x="625" y="3028"/>
                </a:lnTo>
                <a:lnTo>
                  <a:pt x="618" y="3009"/>
                </a:lnTo>
                <a:lnTo>
                  <a:pt x="612" y="2989"/>
                </a:lnTo>
                <a:lnTo>
                  <a:pt x="607" y="2968"/>
                </a:lnTo>
                <a:lnTo>
                  <a:pt x="604" y="2946"/>
                </a:lnTo>
                <a:lnTo>
                  <a:pt x="602" y="2924"/>
                </a:lnTo>
                <a:lnTo>
                  <a:pt x="601" y="2901"/>
                </a:lnTo>
                <a:lnTo>
                  <a:pt x="602" y="2889"/>
                </a:lnTo>
                <a:lnTo>
                  <a:pt x="604" y="2878"/>
                </a:lnTo>
                <a:lnTo>
                  <a:pt x="608" y="2868"/>
                </a:lnTo>
                <a:lnTo>
                  <a:pt x="613" y="2858"/>
                </a:lnTo>
                <a:lnTo>
                  <a:pt x="620" y="2850"/>
                </a:lnTo>
                <a:lnTo>
                  <a:pt x="627" y="2843"/>
                </a:lnTo>
                <a:lnTo>
                  <a:pt x="634" y="2835"/>
                </a:lnTo>
                <a:lnTo>
                  <a:pt x="644" y="2829"/>
                </a:lnTo>
                <a:lnTo>
                  <a:pt x="654" y="2824"/>
                </a:lnTo>
                <a:lnTo>
                  <a:pt x="665" y="2819"/>
                </a:lnTo>
                <a:lnTo>
                  <a:pt x="677" y="2815"/>
                </a:lnTo>
                <a:lnTo>
                  <a:pt x="688" y="2812"/>
                </a:lnTo>
                <a:lnTo>
                  <a:pt x="701" y="2809"/>
                </a:lnTo>
                <a:lnTo>
                  <a:pt x="714" y="2807"/>
                </a:lnTo>
                <a:lnTo>
                  <a:pt x="726" y="2806"/>
                </a:lnTo>
                <a:lnTo>
                  <a:pt x="739" y="2806"/>
                </a:lnTo>
                <a:lnTo>
                  <a:pt x="752" y="2806"/>
                </a:lnTo>
                <a:lnTo>
                  <a:pt x="764" y="2807"/>
                </a:lnTo>
                <a:lnTo>
                  <a:pt x="777" y="2809"/>
                </a:lnTo>
                <a:lnTo>
                  <a:pt x="790" y="2812"/>
                </a:lnTo>
                <a:lnTo>
                  <a:pt x="801" y="2815"/>
                </a:lnTo>
                <a:lnTo>
                  <a:pt x="813" y="2819"/>
                </a:lnTo>
                <a:lnTo>
                  <a:pt x="823" y="2824"/>
                </a:lnTo>
                <a:lnTo>
                  <a:pt x="834" y="2829"/>
                </a:lnTo>
                <a:lnTo>
                  <a:pt x="843" y="2835"/>
                </a:lnTo>
                <a:lnTo>
                  <a:pt x="852" y="2843"/>
                </a:lnTo>
                <a:lnTo>
                  <a:pt x="859" y="2850"/>
                </a:lnTo>
                <a:lnTo>
                  <a:pt x="864" y="2858"/>
                </a:lnTo>
                <a:lnTo>
                  <a:pt x="870" y="2868"/>
                </a:lnTo>
                <a:lnTo>
                  <a:pt x="874" y="2878"/>
                </a:lnTo>
                <a:lnTo>
                  <a:pt x="876" y="2889"/>
                </a:lnTo>
                <a:lnTo>
                  <a:pt x="877" y="2901"/>
                </a:lnTo>
                <a:lnTo>
                  <a:pt x="876" y="2924"/>
                </a:lnTo>
                <a:lnTo>
                  <a:pt x="874" y="2946"/>
                </a:lnTo>
                <a:lnTo>
                  <a:pt x="871" y="2968"/>
                </a:lnTo>
                <a:lnTo>
                  <a:pt x="865" y="2989"/>
                </a:lnTo>
                <a:lnTo>
                  <a:pt x="860" y="3009"/>
                </a:lnTo>
                <a:lnTo>
                  <a:pt x="853" y="3028"/>
                </a:lnTo>
                <a:lnTo>
                  <a:pt x="845" y="3045"/>
                </a:lnTo>
                <a:lnTo>
                  <a:pt x="836" y="3062"/>
                </a:lnTo>
                <a:lnTo>
                  <a:pt x="826" y="3077"/>
                </a:lnTo>
                <a:lnTo>
                  <a:pt x="816" y="3089"/>
                </a:lnTo>
                <a:lnTo>
                  <a:pt x="804" y="3101"/>
                </a:lnTo>
                <a:lnTo>
                  <a:pt x="793" y="3110"/>
                </a:lnTo>
                <a:lnTo>
                  <a:pt x="780" y="3118"/>
                </a:lnTo>
                <a:lnTo>
                  <a:pt x="766" y="3124"/>
                </a:lnTo>
                <a:lnTo>
                  <a:pt x="753" y="3127"/>
                </a:lnTo>
                <a:lnTo>
                  <a:pt x="739" y="3128"/>
                </a:lnTo>
                <a:close/>
                <a:moveTo>
                  <a:pt x="601" y="2433"/>
                </a:moveTo>
                <a:lnTo>
                  <a:pt x="601" y="2433"/>
                </a:lnTo>
                <a:lnTo>
                  <a:pt x="602" y="2410"/>
                </a:lnTo>
                <a:lnTo>
                  <a:pt x="604" y="2387"/>
                </a:lnTo>
                <a:lnTo>
                  <a:pt x="607" y="2365"/>
                </a:lnTo>
                <a:lnTo>
                  <a:pt x="612" y="2344"/>
                </a:lnTo>
                <a:lnTo>
                  <a:pt x="618" y="2325"/>
                </a:lnTo>
                <a:lnTo>
                  <a:pt x="625" y="2306"/>
                </a:lnTo>
                <a:lnTo>
                  <a:pt x="632" y="2288"/>
                </a:lnTo>
                <a:lnTo>
                  <a:pt x="642" y="2272"/>
                </a:lnTo>
                <a:lnTo>
                  <a:pt x="651" y="2257"/>
                </a:lnTo>
                <a:lnTo>
                  <a:pt x="662" y="2243"/>
                </a:lnTo>
                <a:lnTo>
                  <a:pt x="673" y="2232"/>
                </a:lnTo>
                <a:lnTo>
                  <a:pt x="685" y="2222"/>
                </a:lnTo>
                <a:lnTo>
                  <a:pt x="698" y="2215"/>
                </a:lnTo>
                <a:lnTo>
                  <a:pt x="711" y="2210"/>
                </a:lnTo>
                <a:lnTo>
                  <a:pt x="725" y="2206"/>
                </a:lnTo>
                <a:lnTo>
                  <a:pt x="739" y="2204"/>
                </a:lnTo>
                <a:lnTo>
                  <a:pt x="753" y="2206"/>
                </a:lnTo>
                <a:lnTo>
                  <a:pt x="766" y="2210"/>
                </a:lnTo>
                <a:lnTo>
                  <a:pt x="780" y="2215"/>
                </a:lnTo>
                <a:lnTo>
                  <a:pt x="793" y="2222"/>
                </a:lnTo>
                <a:lnTo>
                  <a:pt x="804" y="2232"/>
                </a:lnTo>
                <a:lnTo>
                  <a:pt x="816" y="2243"/>
                </a:lnTo>
                <a:lnTo>
                  <a:pt x="826" y="2257"/>
                </a:lnTo>
                <a:lnTo>
                  <a:pt x="836" y="2272"/>
                </a:lnTo>
                <a:lnTo>
                  <a:pt x="845" y="2288"/>
                </a:lnTo>
                <a:lnTo>
                  <a:pt x="853" y="2306"/>
                </a:lnTo>
                <a:lnTo>
                  <a:pt x="860" y="2325"/>
                </a:lnTo>
                <a:lnTo>
                  <a:pt x="865" y="2344"/>
                </a:lnTo>
                <a:lnTo>
                  <a:pt x="871" y="2365"/>
                </a:lnTo>
                <a:lnTo>
                  <a:pt x="874" y="2387"/>
                </a:lnTo>
                <a:lnTo>
                  <a:pt x="876" y="2410"/>
                </a:lnTo>
                <a:lnTo>
                  <a:pt x="877" y="2433"/>
                </a:lnTo>
                <a:lnTo>
                  <a:pt x="876" y="2445"/>
                </a:lnTo>
                <a:lnTo>
                  <a:pt x="874" y="2455"/>
                </a:lnTo>
                <a:lnTo>
                  <a:pt x="870" y="2465"/>
                </a:lnTo>
                <a:lnTo>
                  <a:pt x="864" y="2474"/>
                </a:lnTo>
                <a:lnTo>
                  <a:pt x="859" y="2483"/>
                </a:lnTo>
                <a:lnTo>
                  <a:pt x="852" y="2490"/>
                </a:lnTo>
                <a:lnTo>
                  <a:pt x="843" y="2498"/>
                </a:lnTo>
                <a:lnTo>
                  <a:pt x="834" y="2504"/>
                </a:lnTo>
                <a:lnTo>
                  <a:pt x="823" y="2509"/>
                </a:lnTo>
                <a:lnTo>
                  <a:pt x="813" y="2515"/>
                </a:lnTo>
                <a:lnTo>
                  <a:pt x="801" y="2519"/>
                </a:lnTo>
                <a:lnTo>
                  <a:pt x="790" y="2522"/>
                </a:lnTo>
                <a:lnTo>
                  <a:pt x="777" y="2524"/>
                </a:lnTo>
                <a:lnTo>
                  <a:pt x="764" y="2526"/>
                </a:lnTo>
                <a:lnTo>
                  <a:pt x="752" y="2527"/>
                </a:lnTo>
                <a:lnTo>
                  <a:pt x="739" y="2527"/>
                </a:lnTo>
                <a:lnTo>
                  <a:pt x="726" y="2527"/>
                </a:lnTo>
                <a:lnTo>
                  <a:pt x="714" y="2526"/>
                </a:lnTo>
                <a:lnTo>
                  <a:pt x="701" y="2524"/>
                </a:lnTo>
                <a:lnTo>
                  <a:pt x="688" y="2522"/>
                </a:lnTo>
                <a:lnTo>
                  <a:pt x="677" y="2519"/>
                </a:lnTo>
                <a:lnTo>
                  <a:pt x="665" y="2515"/>
                </a:lnTo>
                <a:lnTo>
                  <a:pt x="654" y="2509"/>
                </a:lnTo>
                <a:lnTo>
                  <a:pt x="644" y="2504"/>
                </a:lnTo>
                <a:lnTo>
                  <a:pt x="634" y="2498"/>
                </a:lnTo>
                <a:lnTo>
                  <a:pt x="627" y="2490"/>
                </a:lnTo>
                <a:lnTo>
                  <a:pt x="620" y="2483"/>
                </a:lnTo>
                <a:lnTo>
                  <a:pt x="613" y="2474"/>
                </a:lnTo>
                <a:lnTo>
                  <a:pt x="608" y="2465"/>
                </a:lnTo>
                <a:lnTo>
                  <a:pt x="604" y="2455"/>
                </a:lnTo>
                <a:lnTo>
                  <a:pt x="602" y="2445"/>
                </a:lnTo>
                <a:lnTo>
                  <a:pt x="601" y="2433"/>
                </a:lnTo>
                <a:close/>
                <a:moveTo>
                  <a:pt x="994" y="2805"/>
                </a:moveTo>
                <a:lnTo>
                  <a:pt x="994" y="2805"/>
                </a:lnTo>
                <a:lnTo>
                  <a:pt x="984" y="2804"/>
                </a:lnTo>
                <a:lnTo>
                  <a:pt x="972" y="2801"/>
                </a:lnTo>
                <a:lnTo>
                  <a:pt x="963" y="2797"/>
                </a:lnTo>
                <a:lnTo>
                  <a:pt x="953" y="2792"/>
                </a:lnTo>
                <a:lnTo>
                  <a:pt x="945" y="2786"/>
                </a:lnTo>
                <a:lnTo>
                  <a:pt x="937" y="2778"/>
                </a:lnTo>
                <a:lnTo>
                  <a:pt x="930" y="2771"/>
                </a:lnTo>
                <a:lnTo>
                  <a:pt x="923" y="2761"/>
                </a:lnTo>
                <a:lnTo>
                  <a:pt x="918" y="2751"/>
                </a:lnTo>
                <a:lnTo>
                  <a:pt x="913" y="2740"/>
                </a:lnTo>
                <a:lnTo>
                  <a:pt x="910" y="2729"/>
                </a:lnTo>
                <a:lnTo>
                  <a:pt x="906" y="2717"/>
                </a:lnTo>
                <a:lnTo>
                  <a:pt x="903" y="2704"/>
                </a:lnTo>
                <a:lnTo>
                  <a:pt x="901" y="2692"/>
                </a:lnTo>
                <a:lnTo>
                  <a:pt x="900" y="2679"/>
                </a:lnTo>
                <a:lnTo>
                  <a:pt x="900" y="2666"/>
                </a:lnTo>
                <a:lnTo>
                  <a:pt x="900" y="2654"/>
                </a:lnTo>
                <a:lnTo>
                  <a:pt x="901" y="2641"/>
                </a:lnTo>
                <a:lnTo>
                  <a:pt x="903" y="2628"/>
                </a:lnTo>
                <a:lnTo>
                  <a:pt x="906" y="2616"/>
                </a:lnTo>
                <a:lnTo>
                  <a:pt x="910" y="2604"/>
                </a:lnTo>
                <a:lnTo>
                  <a:pt x="913" y="2593"/>
                </a:lnTo>
                <a:lnTo>
                  <a:pt x="918" y="2582"/>
                </a:lnTo>
                <a:lnTo>
                  <a:pt x="923" y="2572"/>
                </a:lnTo>
                <a:lnTo>
                  <a:pt x="930" y="2562"/>
                </a:lnTo>
                <a:lnTo>
                  <a:pt x="937" y="2554"/>
                </a:lnTo>
                <a:lnTo>
                  <a:pt x="945" y="2546"/>
                </a:lnTo>
                <a:lnTo>
                  <a:pt x="953" y="2541"/>
                </a:lnTo>
                <a:lnTo>
                  <a:pt x="963" y="2536"/>
                </a:lnTo>
                <a:lnTo>
                  <a:pt x="972" y="2531"/>
                </a:lnTo>
                <a:lnTo>
                  <a:pt x="984" y="2529"/>
                </a:lnTo>
                <a:lnTo>
                  <a:pt x="994" y="2528"/>
                </a:lnTo>
                <a:lnTo>
                  <a:pt x="1018" y="2529"/>
                </a:lnTo>
                <a:lnTo>
                  <a:pt x="1041" y="2531"/>
                </a:lnTo>
                <a:lnTo>
                  <a:pt x="1063" y="2535"/>
                </a:lnTo>
                <a:lnTo>
                  <a:pt x="1084" y="2540"/>
                </a:lnTo>
                <a:lnTo>
                  <a:pt x="1104" y="2545"/>
                </a:lnTo>
                <a:lnTo>
                  <a:pt x="1122" y="2553"/>
                </a:lnTo>
                <a:lnTo>
                  <a:pt x="1140" y="2560"/>
                </a:lnTo>
                <a:lnTo>
                  <a:pt x="1157" y="2569"/>
                </a:lnTo>
                <a:lnTo>
                  <a:pt x="1170" y="2579"/>
                </a:lnTo>
                <a:lnTo>
                  <a:pt x="1184" y="2589"/>
                </a:lnTo>
                <a:lnTo>
                  <a:pt x="1196" y="2601"/>
                </a:lnTo>
                <a:lnTo>
                  <a:pt x="1205" y="2613"/>
                </a:lnTo>
                <a:lnTo>
                  <a:pt x="1213" y="2625"/>
                </a:lnTo>
                <a:lnTo>
                  <a:pt x="1219" y="2639"/>
                </a:lnTo>
                <a:lnTo>
                  <a:pt x="1222" y="2653"/>
                </a:lnTo>
                <a:lnTo>
                  <a:pt x="1223" y="2666"/>
                </a:lnTo>
                <a:lnTo>
                  <a:pt x="1222" y="2680"/>
                </a:lnTo>
                <a:lnTo>
                  <a:pt x="1219" y="2694"/>
                </a:lnTo>
                <a:lnTo>
                  <a:pt x="1213" y="2708"/>
                </a:lnTo>
                <a:lnTo>
                  <a:pt x="1205" y="2720"/>
                </a:lnTo>
                <a:lnTo>
                  <a:pt x="1196" y="2732"/>
                </a:lnTo>
                <a:lnTo>
                  <a:pt x="1184" y="2743"/>
                </a:lnTo>
                <a:lnTo>
                  <a:pt x="1170" y="2754"/>
                </a:lnTo>
                <a:lnTo>
                  <a:pt x="1157" y="2763"/>
                </a:lnTo>
                <a:lnTo>
                  <a:pt x="1140" y="2773"/>
                </a:lnTo>
                <a:lnTo>
                  <a:pt x="1122" y="2780"/>
                </a:lnTo>
                <a:lnTo>
                  <a:pt x="1104" y="2788"/>
                </a:lnTo>
                <a:lnTo>
                  <a:pt x="1084" y="2793"/>
                </a:lnTo>
                <a:lnTo>
                  <a:pt x="1063" y="2798"/>
                </a:lnTo>
                <a:lnTo>
                  <a:pt x="1041" y="2801"/>
                </a:lnTo>
                <a:lnTo>
                  <a:pt x="1018" y="2804"/>
                </a:lnTo>
                <a:lnTo>
                  <a:pt x="994" y="2805"/>
                </a:lnTo>
                <a:close/>
                <a:moveTo>
                  <a:pt x="1323" y="1909"/>
                </a:moveTo>
                <a:lnTo>
                  <a:pt x="1323" y="1909"/>
                </a:lnTo>
                <a:lnTo>
                  <a:pt x="1323" y="1921"/>
                </a:lnTo>
                <a:lnTo>
                  <a:pt x="1321" y="1932"/>
                </a:lnTo>
                <a:lnTo>
                  <a:pt x="1318" y="1943"/>
                </a:lnTo>
                <a:lnTo>
                  <a:pt x="1315" y="1953"/>
                </a:lnTo>
                <a:lnTo>
                  <a:pt x="1310" y="1963"/>
                </a:lnTo>
                <a:lnTo>
                  <a:pt x="1304" y="1972"/>
                </a:lnTo>
                <a:lnTo>
                  <a:pt x="1298" y="1982"/>
                </a:lnTo>
                <a:lnTo>
                  <a:pt x="1291" y="1989"/>
                </a:lnTo>
                <a:lnTo>
                  <a:pt x="1282" y="1997"/>
                </a:lnTo>
                <a:lnTo>
                  <a:pt x="1274" y="2004"/>
                </a:lnTo>
                <a:lnTo>
                  <a:pt x="1264" y="2009"/>
                </a:lnTo>
                <a:lnTo>
                  <a:pt x="1254" y="2015"/>
                </a:lnTo>
                <a:lnTo>
                  <a:pt x="1243" y="2018"/>
                </a:lnTo>
                <a:lnTo>
                  <a:pt x="1233" y="2021"/>
                </a:lnTo>
                <a:lnTo>
                  <a:pt x="1221" y="2023"/>
                </a:lnTo>
                <a:lnTo>
                  <a:pt x="1209" y="2023"/>
                </a:lnTo>
                <a:lnTo>
                  <a:pt x="299" y="2023"/>
                </a:lnTo>
                <a:lnTo>
                  <a:pt x="287" y="2023"/>
                </a:lnTo>
                <a:lnTo>
                  <a:pt x="276" y="2021"/>
                </a:lnTo>
                <a:lnTo>
                  <a:pt x="265" y="2018"/>
                </a:lnTo>
                <a:lnTo>
                  <a:pt x="255" y="2015"/>
                </a:lnTo>
                <a:lnTo>
                  <a:pt x="244" y="2009"/>
                </a:lnTo>
                <a:lnTo>
                  <a:pt x="236" y="2004"/>
                </a:lnTo>
                <a:lnTo>
                  <a:pt x="226" y="1997"/>
                </a:lnTo>
                <a:lnTo>
                  <a:pt x="218" y="1989"/>
                </a:lnTo>
                <a:lnTo>
                  <a:pt x="210" y="1982"/>
                </a:lnTo>
                <a:lnTo>
                  <a:pt x="204" y="1972"/>
                </a:lnTo>
                <a:lnTo>
                  <a:pt x="199" y="1963"/>
                </a:lnTo>
                <a:lnTo>
                  <a:pt x="194" y="1953"/>
                </a:lnTo>
                <a:lnTo>
                  <a:pt x="190" y="1943"/>
                </a:lnTo>
                <a:lnTo>
                  <a:pt x="187" y="1932"/>
                </a:lnTo>
                <a:lnTo>
                  <a:pt x="185" y="1921"/>
                </a:lnTo>
                <a:lnTo>
                  <a:pt x="185" y="1909"/>
                </a:lnTo>
                <a:lnTo>
                  <a:pt x="185" y="1177"/>
                </a:lnTo>
                <a:lnTo>
                  <a:pt x="185" y="1166"/>
                </a:lnTo>
                <a:lnTo>
                  <a:pt x="187" y="1154"/>
                </a:lnTo>
                <a:lnTo>
                  <a:pt x="190" y="1142"/>
                </a:lnTo>
                <a:lnTo>
                  <a:pt x="194" y="1132"/>
                </a:lnTo>
                <a:lnTo>
                  <a:pt x="199" y="1122"/>
                </a:lnTo>
                <a:lnTo>
                  <a:pt x="204" y="1113"/>
                </a:lnTo>
                <a:lnTo>
                  <a:pt x="210" y="1104"/>
                </a:lnTo>
                <a:lnTo>
                  <a:pt x="218" y="1096"/>
                </a:lnTo>
                <a:lnTo>
                  <a:pt x="226" y="1089"/>
                </a:lnTo>
                <a:lnTo>
                  <a:pt x="236" y="1082"/>
                </a:lnTo>
                <a:lnTo>
                  <a:pt x="244" y="1076"/>
                </a:lnTo>
                <a:lnTo>
                  <a:pt x="255" y="1072"/>
                </a:lnTo>
                <a:lnTo>
                  <a:pt x="265" y="1067"/>
                </a:lnTo>
                <a:lnTo>
                  <a:pt x="276" y="1065"/>
                </a:lnTo>
                <a:lnTo>
                  <a:pt x="287" y="1063"/>
                </a:lnTo>
                <a:lnTo>
                  <a:pt x="299" y="1062"/>
                </a:lnTo>
                <a:lnTo>
                  <a:pt x="1209" y="1062"/>
                </a:lnTo>
                <a:lnTo>
                  <a:pt x="1221" y="1063"/>
                </a:lnTo>
                <a:lnTo>
                  <a:pt x="1233" y="1065"/>
                </a:lnTo>
                <a:lnTo>
                  <a:pt x="1243" y="1067"/>
                </a:lnTo>
                <a:lnTo>
                  <a:pt x="1254" y="1072"/>
                </a:lnTo>
                <a:lnTo>
                  <a:pt x="1264" y="1076"/>
                </a:lnTo>
                <a:lnTo>
                  <a:pt x="1274" y="1082"/>
                </a:lnTo>
                <a:lnTo>
                  <a:pt x="1282" y="1089"/>
                </a:lnTo>
                <a:lnTo>
                  <a:pt x="1291" y="1096"/>
                </a:lnTo>
                <a:lnTo>
                  <a:pt x="1298" y="1104"/>
                </a:lnTo>
                <a:lnTo>
                  <a:pt x="1304" y="1113"/>
                </a:lnTo>
                <a:lnTo>
                  <a:pt x="1310" y="1122"/>
                </a:lnTo>
                <a:lnTo>
                  <a:pt x="1315" y="1132"/>
                </a:lnTo>
                <a:lnTo>
                  <a:pt x="1318" y="1142"/>
                </a:lnTo>
                <a:lnTo>
                  <a:pt x="1321" y="1154"/>
                </a:lnTo>
                <a:lnTo>
                  <a:pt x="1323" y="1166"/>
                </a:lnTo>
                <a:lnTo>
                  <a:pt x="1323" y="1177"/>
                </a:lnTo>
                <a:lnTo>
                  <a:pt x="1323" y="1909"/>
                </a:lnTo>
                <a:close/>
              </a:path>
            </a:pathLst>
          </a:custGeom>
          <a:solidFill>
            <a:srgbClr val="0091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KSO_Shape"/>
          <p:cNvSpPr/>
          <p:nvPr/>
        </p:nvSpPr>
        <p:spPr>
          <a:xfrm>
            <a:off x="10056960" y="1517760"/>
            <a:ext cx="844560" cy="62712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05a24"/>
          </a:solidFill>
          <a:ln w="0">
            <a:noFill/>
          </a:ln>
        </p:spPr>
        <p:style>
          <a:lnRef idx="0"/>
          <a:fillRef idx="0"/>
          <a:effectRef idx="0"/>
          <a:fontRef idx="minor"/>
        </p:style>
        <p:txBody>
          <a:bodyPr lIns="68760" rIns="68760" tIns="34200" bIns="54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KSO_Shape"/>
          <p:cNvSpPr/>
          <p:nvPr/>
        </p:nvSpPr>
        <p:spPr>
          <a:xfrm>
            <a:off x="10174320" y="5110200"/>
            <a:ext cx="844560" cy="598320"/>
          </a:xfrm>
          <a:custGeom>
            <a:avLst/>
            <a:gdLst/>
            <a:ahLst/>
            <a:rect l="l" t="t" r="r" b="b"/>
            <a:pathLst>
              <a:path w="472572" h="335351">
                <a:moveTo>
                  <a:pt x="236286" y="238384"/>
                </a:moveTo>
                <a:cubicBezTo>
                  <a:pt x="263564" y="238384"/>
                  <a:pt x="287156" y="254165"/>
                  <a:pt x="297849" y="277381"/>
                </a:cubicBezTo>
                <a:lnTo>
                  <a:pt x="236286" y="335351"/>
                </a:lnTo>
                <a:lnTo>
                  <a:pt x="174722" y="277381"/>
                </a:lnTo>
                <a:cubicBezTo>
                  <a:pt x="185416" y="254165"/>
                  <a:pt x="209008" y="238384"/>
                  <a:pt x="236286" y="238384"/>
                </a:cubicBezTo>
                <a:close/>
                <a:moveTo>
                  <a:pt x="236286" y="153779"/>
                </a:moveTo>
                <a:cubicBezTo>
                  <a:pt x="287723" y="153779"/>
                  <a:pt x="333263" y="179027"/>
                  <a:pt x="360886" y="218025"/>
                </a:cubicBezTo>
                <a:lnTo>
                  <a:pt x="331907" y="245311"/>
                </a:lnTo>
                <a:cubicBezTo>
                  <a:pt x="311651" y="213977"/>
                  <a:pt x="276380" y="193327"/>
                  <a:pt x="236286" y="193327"/>
                </a:cubicBezTo>
                <a:cubicBezTo>
                  <a:pt x="196191" y="193327"/>
                  <a:pt x="160920" y="213977"/>
                  <a:pt x="140664" y="245311"/>
                </a:cubicBezTo>
                <a:lnTo>
                  <a:pt x="111686" y="218025"/>
                </a:lnTo>
                <a:cubicBezTo>
                  <a:pt x="139308" y="179027"/>
                  <a:pt x="184848" y="153779"/>
                  <a:pt x="236286" y="153779"/>
                </a:cubicBezTo>
                <a:close/>
                <a:moveTo>
                  <a:pt x="236285" y="72334"/>
                </a:moveTo>
                <a:cubicBezTo>
                  <a:pt x="311099" y="72334"/>
                  <a:pt x="377756" y="107256"/>
                  <a:pt x="420037" y="162327"/>
                </a:cubicBezTo>
                <a:lnTo>
                  <a:pt x="389766" y="190830"/>
                </a:lnTo>
                <a:cubicBezTo>
                  <a:pt x="354994" y="143968"/>
                  <a:pt x="299138" y="114013"/>
                  <a:pt x="236285" y="114013"/>
                </a:cubicBezTo>
                <a:cubicBezTo>
                  <a:pt x="173433" y="114013"/>
                  <a:pt x="117576" y="143967"/>
                  <a:pt x="82804" y="190829"/>
                </a:cubicBezTo>
                <a:lnTo>
                  <a:pt x="52534" y="162327"/>
                </a:lnTo>
                <a:cubicBezTo>
                  <a:pt x="94815" y="107256"/>
                  <a:pt x="161472" y="72334"/>
                  <a:pt x="236285" y="72334"/>
                </a:cubicBezTo>
                <a:close/>
                <a:moveTo>
                  <a:pt x="236286" y="0"/>
                </a:moveTo>
                <a:cubicBezTo>
                  <a:pt x="331854" y="0"/>
                  <a:pt x="417244" y="43584"/>
                  <a:pt x="472572" y="112859"/>
                </a:cubicBezTo>
                <a:lnTo>
                  <a:pt x="443240" y="140479"/>
                </a:lnTo>
                <a:cubicBezTo>
                  <a:pt x="395198" y="79129"/>
                  <a:pt x="320266" y="40387"/>
                  <a:pt x="236286" y="40387"/>
                </a:cubicBezTo>
                <a:cubicBezTo>
                  <a:pt x="152305" y="40387"/>
                  <a:pt x="77373" y="79129"/>
                  <a:pt x="29332" y="140479"/>
                </a:cubicBezTo>
                <a:lnTo>
                  <a:pt x="0" y="112859"/>
                </a:lnTo>
                <a:cubicBezTo>
                  <a:pt x="55328" y="43584"/>
                  <a:pt x="140717" y="0"/>
                  <a:pt x="236286" y="0"/>
                </a:cubicBez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33"/>
          <p:cNvSpPr/>
          <p:nvPr/>
        </p:nvSpPr>
        <p:spPr>
          <a:xfrm>
            <a:off x="393840" y="1436760"/>
            <a:ext cx="49719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社会依据</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a:t>
            </a:r>
            <a:endParaRPr b="0" lang="en-US" sz="1600" spc="-1" strike="noStrike">
              <a:solidFill>
                <a:srgbClr val="000000"/>
              </a:solidFill>
              <a:latin typeface="Calibri"/>
            </a:endParaRPr>
          </a:p>
        </p:txBody>
      </p:sp>
      <p:sp>
        <p:nvSpPr>
          <p:cNvPr id="303" name="矩形 34"/>
          <p:cNvSpPr/>
          <p:nvPr/>
        </p:nvSpPr>
        <p:spPr>
          <a:xfrm>
            <a:off x="334800" y="3666960"/>
            <a:ext cx="51501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现实依据</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世界经济向全球化和信息化发展成为新世纪鲜明的特征和趋势。</a:t>
            </a:r>
            <a:endParaRPr b="0" lang="en-US" sz="16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5"/>
          <p:cNvSpPr/>
          <p:nvPr/>
        </p:nvSpPr>
        <p:spPr>
          <a:xfrm>
            <a:off x="5796000" y="-42840"/>
            <a:ext cx="600120" cy="6001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305" name="矩形 1"/>
          <p:cNvSpPr/>
          <p:nvPr/>
        </p:nvSpPr>
        <p:spPr>
          <a:xfrm>
            <a:off x="4829760" y="4287960"/>
            <a:ext cx="25322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背景</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The Background</a:t>
            </a:r>
            <a:endParaRPr b="0" lang="en-US" sz="2400" spc="-1" strike="noStrike">
              <a:solidFill>
                <a:srgbClr val="000000"/>
              </a:solidFill>
              <a:latin typeface="Calibri"/>
            </a:endParaRPr>
          </a:p>
        </p:txBody>
      </p:sp>
      <p:grpSp>
        <p:nvGrpSpPr>
          <p:cNvPr id="306" name="组合 9"/>
          <p:cNvGrpSpPr/>
          <p:nvPr/>
        </p:nvGrpSpPr>
        <p:grpSpPr>
          <a:xfrm>
            <a:off x="4886280" y="1432080"/>
            <a:ext cx="2419560" cy="2417760"/>
            <a:chOff x="4886280" y="1432080"/>
            <a:chExt cx="2419560" cy="2417760"/>
          </a:xfrm>
        </p:grpSpPr>
        <p:sp>
          <p:nvSpPr>
            <p:cNvPr id="307" name="KSO_Shape"/>
            <p:cNvSpPr/>
            <p:nvPr/>
          </p:nvSpPr>
          <p:spPr>
            <a:xfrm>
              <a:off x="5348160" y="1847880"/>
              <a:ext cx="1495440" cy="158580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椭圆 14"/>
            <p:cNvSpPr/>
            <p:nvPr/>
          </p:nvSpPr>
          <p:spPr>
            <a:xfrm>
              <a:off x="4886280" y="1432080"/>
              <a:ext cx="2419560" cy="24177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矩形 2"/>
          <p:cNvSpPr/>
          <p:nvPr/>
        </p:nvSpPr>
        <p:spPr>
          <a:xfrm>
            <a:off x="754200" y="1407960"/>
            <a:ext cx="2333520" cy="41119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TextBox 4"/>
          <p:cNvSpPr/>
          <p:nvPr/>
        </p:nvSpPr>
        <p:spPr>
          <a:xfrm>
            <a:off x="8953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pic>
        <p:nvPicPr>
          <p:cNvPr id="311" name="图片 5" descr=""/>
          <p:cNvPicPr/>
          <p:nvPr/>
        </p:nvPicPr>
        <p:blipFill>
          <a:blip r:embed="rId1"/>
          <a:stretch/>
        </p:blipFill>
        <p:spPr>
          <a:xfrm>
            <a:off x="984240" y="1809720"/>
            <a:ext cx="1871640" cy="1871640"/>
          </a:xfrm>
          <a:prstGeom prst="rect">
            <a:avLst/>
          </a:prstGeom>
          <a:ln w="0">
            <a:noFill/>
          </a:ln>
        </p:spPr>
      </p:pic>
      <p:sp>
        <p:nvSpPr>
          <p:cNvPr id="312" name="矩形 34"/>
          <p:cNvSpPr/>
          <p:nvPr/>
        </p:nvSpPr>
        <p:spPr>
          <a:xfrm>
            <a:off x="7542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矩形 36"/>
          <p:cNvSpPr/>
          <p:nvPr/>
        </p:nvSpPr>
        <p:spPr>
          <a:xfrm>
            <a:off x="3537000" y="1407960"/>
            <a:ext cx="2333520" cy="4111920"/>
          </a:xfrm>
          <a:prstGeom prst="rect">
            <a:avLst/>
          </a:pr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TextBox 4"/>
          <p:cNvSpPr/>
          <p:nvPr/>
        </p:nvSpPr>
        <p:spPr>
          <a:xfrm>
            <a:off x="36781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15" name="矩形 39"/>
          <p:cNvSpPr/>
          <p:nvPr/>
        </p:nvSpPr>
        <p:spPr>
          <a:xfrm>
            <a:off x="35370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矩形 41"/>
          <p:cNvSpPr/>
          <p:nvPr/>
        </p:nvSpPr>
        <p:spPr>
          <a:xfrm>
            <a:off x="6321600" y="1407960"/>
            <a:ext cx="2333520" cy="4111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TextBox 4"/>
          <p:cNvSpPr/>
          <p:nvPr/>
        </p:nvSpPr>
        <p:spPr>
          <a:xfrm>
            <a:off x="6461280" y="4017960"/>
            <a:ext cx="20523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18" name="矩形 43"/>
          <p:cNvSpPr/>
          <p:nvPr/>
        </p:nvSpPr>
        <p:spPr>
          <a:xfrm>
            <a:off x="63216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矩形 45"/>
          <p:cNvSpPr/>
          <p:nvPr/>
        </p:nvSpPr>
        <p:spPr>
          <a:xfrm>
            <a:off x="9104400" y="1407960"/>
            <a:ext cx="2333520" cy="411192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TextBox 4"/>
          <p:cNvSpPr/>
          <p:nvPr/>
        </p:nvSpPr>
        <p:spPr>
          <a:xfrm>
            <a:off x="924408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21" name="矩形 47"/>
          <p:cNvSpPr/>
          <p:nvPr/>
        </p:nvSpPr>
        <p:spPr>
          <a:xfrm>
            <a:off x="91044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2" name="图片 6" descr=""/>
          <p:cNvPicPr/>
          <p:nvPr/>
        </p:nvPicPr>
        <p:blipFill>
          <a:blip r:embed="rId2"/>
          <a:stretch/>
        </p:blipFill>
        <p:spPr>
          <a:xfrm>
            <a:off x="3768840" y="1809720"/>
            <a:ext cx="1869840" cy="1871640"/>
          </a:xfrm>
          <a:prstGeom prst="rect">
            <a:avLst/>
          </a:prstGeom>
          <a:ln w="0">
            <a:noFill/>
          </a:ln>
        </p:spPr>
      </p:pic>
      <p:pic>
        <p:nvPicPr>
          <p:cNvPr id="323" name="图片 7" descr=""/>
          <p:cNvPicPr/>
          <p:nvPr/>
        </p:nvPicPr>
        <p:blipFill>
          <a:blip r:embed="rId3"/>
          <a:stretch/>
        </p:blipFill>
        <p:spPr>
          <a:xfrm>
            <a:off x="6551640" y="1809720"/>
            <a:ext cx="1871640" cy="1871640"/>
          </a:xfrm>
          <a:prstGeom prst="rect">
            <a:avLst/>
          </a:prstGeom>
          <a:ln w="0">
            <a:noFill/>
          </a:ln>
        </p:spPr>
      </p:pic>
      <p:pic>
        <p:nvPicPr>
          <p:cNvPr id="324" name="图片 8" descr=""/>
          <p:cNvPicPr/>
          <p:nvPr/>
        </p:nvPicPr>
        <p:blipFill>
          <a:blip r:embed="rId4"/>
          <a:stretch/>
        </p:blipFill>
        <p:spPr>
          <a:xfrm>
            <a:off x="9334440" y="1809720"/>
            <a:ext cx="1871640" cy="187164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4"/>
          <p:cNvGrpSpPr/>
          <p:nvPr/>
        </p:nvGrpSpPr>
        <p:grpSpPr>
          <a:xfrm>
            <a:off x="1025640" y="1441440"/>
            <a:ext cx="2482200" cy="3719520"/>
            <a:chOff x="1025640" y="1441440"/>
            <a:chExt cx="2482200" cy="3719520"/>
          </a:xfrm>
        </p:grpSpPr>
        <p:sp>
          <p:nvSpPr>
            <p:cNvPr id="326" name="Freeform 5"/>
            <p:cNvSpPr/>
            <p:nvPr/>
          </p:nvSpPr>
          <p:spPr>
            <a:xfrm>
              <a:off x="1401480" y="1738440"/>
              <a:ext cx="2010960" cy="3117960"/>
            </a:xfrm>
            <a:custGeom>
              <a:avLst/>
              <a:gdLst/>
              <a:ahLst/>
              <a:rect l="l" t="t" r="r" b="b"/>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6"/>
            <p:cNvSpPr/>
            <p:nvPr/>
          </p:nvSpPr>
          <p:spPr>
            <a:xfrm>
              <a:off x="1025640" y="1441440"/>
              <a:ext cx="2441160" cy="3719520"/>
            </a:xfrm>
            <a:custGeom>
              <a:avLst/>
              <a:gdLst/>
              <a:ahLst/>
              <a:rect l="l" t="t" r="r" b="b"/>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Freeform 7"/>
            <p:cNvSpPr/>
            <p:nvPr/>
          </p:nvSpPr>
          <p:spPr>
            <a:xfrm>
              <a:off x="1066680" y="1441440"/>
              <a:ext cx="2441160" cy="3719520"/>
            </a:xfrm>
            <a:custGeom>
              <a:avLst/>
              <a:gdLst/>
              <a:ahLst/>
              <a:rect l="l" t="t" r="r" b="b"/>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9" name="任意多边形 17"/>
          <p:cNvSpPr/>
          <p:nvPr/>
        </p:nvSpPr>
        <p:spPr>
          <a:xfrm rot="10800000">
            <a:off x="9245520" y="2166840"/>
            <a:ext cx="1687680" cy="2185920"/>
          </a:xfrm>
          <a:custGeom>
            <a:avLst/>
            <a:gdLst/>
            <a:ahLst/>
            <a:rect l="l" t="t" r="r" b="b"/>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任意多边形 15"/>
          <p:cNvSpPr/>
          <p:nvPr/>
        </p:nvSpPr>
        <p:spPr>
          <a:xfrm rot="5400000">
            <a:off x="795384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任意多边形 14"/>
          <p:cNvSpPr/>
          <p:nvPr/>
        </p:nvSpPr>
        <p:spPr>
          <a:xfrm rot="5400000">
            <a:off x="656460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任意多边形 13"/>
          <p:cNvSpPr/>
          <p:nvPr/>
        </p:nvSpPr>
        <p:spPr>
          <a:xfrm rot="5400000">
            <a:off x="5144760" y="2476440"/>
            <a:ext cx="1312920" cy="156708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任意多边形 10"/>
          <p:cNvSpPr/>
          <p:nvPr/>
        </p:nvSpPr>
        <p:spPr>
          <a:xfrm rot="16200000">
            <a:off x="2698560" y="2028600"/>
            <a:ext cx="2449440" cy="2462040"/>
          </a:xfrm>
          <a:custGeom>
            <a:avLst/>
            <a:gdLst/>
            <a:ahLst/>
            <a:rect l="l" t="t" r="r" b="b"/>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4" name="Group 4" descr=""/>
          <p:cNvPicPr/>
          <p:nvPr/>
        </p:nvPicPr>
        <p:blipFill>
          <a:blip r:embed="rId1"/>
          <a:stretch/>
        </p:blipFill>
        <p:spPr>
          <a:xfrm>
            <a:off x="6916680" y="3021120"/>
            <a:ext cx="449280" cy="544320"/>
          </a:xfrm>
          <a:prstGeom prst="rect">
            <a:avLst/>
          </a:prstGeom>
          <a:ln w="0">
            <a:noFill/>
          </a:ln>
        </p:spPr>
      </p:pic>
      <p:sp>
        <p:nvSpPr>
          <p:cNvPr id="335" name="Freeform 13"/>
          <p:cNvSpPr/>
          <p:nvPr/>
        </p:nvSpPr>
        <p:spPr>
          <a:xfrm>
            <a:off x="5468760" y="3033720"/>
            <a:ext cx="452520" cy="442800"/>
          </a:xfrm>
          <a:custGeom>
            <a:avLst/>
            <a:gdLst/>
            <a:ahLst/>
            <a:rect l="l" t="t" r="r" b="b"/>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Freeform 21"/>
          <p:cNvSpPr/>
          <p:nvPr/>
        </p:nvSpPr>
        <p:spPr>
          <a:xfrm>
            <a:off x="8366040" y="3017880"/>
            <a:ext cx="471600" cy="474480"/>
          </a:xfrm>
          <a:custGeom>
            <a:avLst/>
            <a:gdLst/>
            <a:ahLst/>
            <a:rect l="l" t="t" r="r" b="b"/>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Freeform 25"/>
          <p:cNvSpPr/>
          <p:nvPr/>
        </p:nvSpPr>
        <p:spPr>
          <a:xfrm>
            <a:off x="9828360" y="3021120"/>
            <a:ext cx="468000" cy="468360"/>
          </a:xfrm>
          <a:custGeom>
            <a:avLst/>
            <a:gdLst/>
            <a:ahLst/>
            <a:rect l="l" t="t" r="r" b="b"/>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文本框 28"/>
          <p:cNvSpPr/>
          <p:nvPr/>
        </p:nvSpPr>
        <p:spPr>
          <a:xfrm>
            <a:off x="5078520" y="117144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39" name="文本框 29"/>
          <p:cNvSpPr/>
          <p:nvPr/>
        </p:nvSpPr>
        <p:spPr>
          <a:xfrm>
            <a:off x="5078520" y="191448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0" name="文本框 30"/>
          <p:cNvSpPr/>
          <p:nvPr/>
        </p:nvSpPr>
        <p:spPr>
          <a:xfrm>
            <a:off x="7826400" y="11620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1" name="文本框 31"/>
          <p:cNvSpPr/>
          <p:nvPr/>
        </p:nvSpPr>
        <p:spPr>
          <a:xfrm>
            <a:off x="7826400" y="19051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2" name="文本框 32"/>
          <p:cNvSpPr/>
          <p:nvPr/>
        </p:nvSpPr>
        <p:spPr>
          <a:xfrm>
            <a:off x="6413400" y="45385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3" name="文本框 33"/>
          <p:cNvSpPr/>
          <p:nvPr/>
        </p:nvSpPr>
        <p:spPr>
          <a:xfrm>
            <a:off x="6413400" y="405936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4" name="文本框 34"/>
          <p:cNvSpPr/>
          <p:nvPr/>
        </p:nvSpPr>
        <p:spPr>
          <a:xfrm>
            <a:off x="9366120" y="50497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5" name="文本框 35"/>
          <p:cNvSpPr/>
          <p:nvPr/>
        </p:nvSpPr>
        <p:spPr>
          <a:xfrm>
            <a:off x="9366120" y="45705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53Z</dcterms:created>
  <dc:creator>哎呀小小草</dc:creator>
  <dc:description/>
  <dc:language>en-US</dc:language>
  <cp:lastModifiedBy>Administrator</cp:lastModifiedBy>
  <dcterms:modified xsi:type="dcterms:W3CDTF">2016-08-02T07:58:52Z</dcterms:modified>
  <cp:revision>5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