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B588-FCAC-4CF7-9B3D-080A673E1F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002-35F6-4348-84FD-E79C01FC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499-72D1-4358-9A03-39B6F6FE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12F-39CC-4601-A635-8E45E9E0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E92-2F78-433C-8D17-20BA698C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632-4093-4629-B343-3CCD831D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BD0-9200-4180-BB2D-534BB780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FDD-000D-4D9D-A573-F3860196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94D-1485-4DD1-AC35-0C31CE0F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213-5EE5-4FE0-9482-9AB7851C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732-9779-495A-83C7-4405E45D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0D6-12EE-46DF-8CFD-C8223D5E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63E-7D4A-44A1-8D1A-3108DF7E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D006-366B-449D-BEF1-7867407BE3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5040360" y="620640"/>
            <a:ext cx="114120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431640" y="260280"/>
            <a:ext cx="1652760" cy="14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1512720" y="465300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333300"/>
                </a:solidFill>
                <a:latin typeface="黑体"/>
              </a:rPr>
              <a:t>单击此处添加标题</a:t>
            </a:r>
            <a:endParaRPr b="1" lang="en-US" sz="2000" spc="1" strike="noStrike">
              <a:ln w="0">
                <a:noFill/>
              </a:ln>
              <a:solidFill>
                <a:srgbClr val="333300"/>
              </a:solidFill>
              <a:latin typeface="黑体"/>
              <a:ea typeface="黑体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1503360" y="54943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08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2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6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19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3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0"/>
          <p:cNvSpPr txBox="1"/>
          <p:nvPr/>
        </p:nvSpPr>
        <p:spPr>
          <a:xfrm>
            <a:off x="1503360" y="31021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cp:keywords/>
  <dc:language>en-US</dc:language>
  <cp:lastModifiedBy>Lenovo</cp:lastModifiedBy>
  <dcterms:modified xsi:type="dcterms:W3CDTF">2013-10-18T16:36:09Z</dcterms:modified>
  <cp:revision>9</cp:revision>
  <dc:subject>心静，则自由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