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68A6-4174-4845-B424-A413699E9B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E70-4135-4EE6-92F8-74CB89C0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9D3-C107-4901-9511-3766CC82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6D0-7C90-4069-91A8-73FC4FF5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FEA-70B5-4B68-A75A-F84B6543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EF5-4645-4025-B8A2-19FAF8E5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4C5-3E72-4D07-9B90-9ECA2437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477-B94E-4852-83E1-8946ACB0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083-A367-4B87-8A32-6D07EA4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767-3480-4602-B8DB-8542EFE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B1E-0002-4DB1-8A9A-CD47983C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53A-F4ED-49A9-93D5-D19A1616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D4A-BAD7-48E1-8989-4046304A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F34A-E2F8-4B9E-971D-D09D572B48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5040360" y="620640"/>
            <a:ext cx="114120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431640" y="260280"/>
            <a:ext cx="1652760" cy="14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1512720" y="465300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333300"/>
                </a:solidFill>
                <a:latin typeface="黑体"/>
              </a:rPr>
              <a:t>单击此处添加标题</a:t>
            </a:r>
            <a:endParaRPr b="1" lang="en-US" sz="2000" spc="1" strike="noStrike">
              <a:ln w="0">
                <a:noFill/>
              </a:ln>
              <a:solidFill>
                <a:srgbClr val="333300"/>
              </a:solidFill>
              <a:latin typeface="黑体"/>
              <a:ea typeface="黑体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1503360" y="54943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08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2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6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19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3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0"/>
          <p:cNvSpPr txBox="1"/>
          <p:nvPr/>
        </p:nvSpPr>
        <p:spPr>
          <a:xfrm>
            <a:off x="1503360" y="31021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cp:keywords/>
  <dc:language>en-US</dc:language>
  <cp:lastModifiedBy>Lenovo</cp:lastModifiedBy>
  <dcterms:modified xsi:type="dcterms:W3CDTF">2013-10-18T16:36:09Z</dcterms:modified>
  <cp:revision>9</cp:revision>
  <dc:subject>心静，则自由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