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8AC-7A70-4758-9085-A5B92590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02A-5C3B-487B-8B76-4910468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EEB-5345-4AE6-8291-D0A98630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8B4-54B1-4A5C-A672-9336FBCF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3FB-4039-4E12-8C12-584AB61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4F5-769B-4832-B1F3-F45CFE0A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E8F-A419-466E-9EE8-488D6E31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B89-C578-46E3-BC97-2C0057BA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FF5-1BAB-4D21-BBD4-46781750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02E-CFD4-4776-BD52-CB2EF210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1B1-D114-418A-9390-1F1C5481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548-92FA-49B4-BCCC-56A13ADE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78A9-A18F-48E6-8513-BBDD0DFE4A6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79A5-F06D-4E9B-8366-912B7D91F6B2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67680" y="2736720"/>
            <a:ext cx="906480" cy="2415960"/>
            <a:chOff x="906768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1164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49896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3108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49896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3108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3108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49896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3108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49896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49896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3108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1600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2780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3220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2780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3220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3220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2780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3220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2780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2780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3220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6768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4616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19332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7296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3704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38340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5468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7152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4280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19620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0376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5372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7584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5856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6072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4292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38628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4292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3284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6720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38916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39996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7908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5624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6488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7136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7244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7152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7152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5100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5628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6060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4296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4944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4944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5952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78696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4780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7688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59544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78264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0012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0588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7688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58644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7688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7400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1164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1344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0480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3000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7400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7688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7688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4672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78264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78696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1920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2352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6068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4-09-10T02:32:48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_TemplateID">
    <vt:lpwstr>TC028952709991</vt:lpwstr>
  </property>
</Properties>
</file>