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072-D8DB-4C9C-944B-72645F05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5E9-938F-469A-8881-2609829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512-4482-4B0C-9909-392C572F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A8B-F630-4EDB-B378-DE98D02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EE9B-F8BA-4FC8-A00E-486BF2E1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3FF0-083F-4644-A2AC-FCECE60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A842-339D-4B46-BE23-D9CF40F9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D7DE-B156-48E7-AB40-7F7E5664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884-E7D4-44FE-8D4B-9A31D98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C2DD-1DAF-4D04-9809-E1DD5CD5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1BE-DB1C-4FD9-8CDD-F5670B34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07B-C829-425E-B89E-D81184DA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28A-9B84-43BF-8C6F-0F859D9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BBF-4B85-4FE5-9C7E-D34D70A5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2494-A921-4C4D-97DD-5285A500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A593-87A9-4B2E-AFB1-51B55F0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74C-CA35-41F8-B97C-7966585E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7C2-33BD-40F7-8301-DF3148C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713-D065-480D-82BC-740544E8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D56-9689-4791-913C-3EDBCAA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F13-72AB-401A-9059-6B8A52AF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0B5-C077-474B-9964-E9A43F6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D63-9CC6-4972-A61C-DB69DF0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BED-AEBE-4667-9683-661985F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24C-F32A-4521-9547-330E104BD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E89B-B0C6-498A-AD7C-CAD40A02CFB9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095-F4EB-4338-99F5-9F3C6A6C365C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526-B3A3-4314-9C9F-3AB0DF1446C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693-B0BF-4600-BF58-68F22280B10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水墨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C630-59E6-4122-841B-909F8E2793E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03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6ED-1D98-4542-9A54-F5F08882159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7DF6-CEFD-4C4B-BA17-68E96D5003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谢谢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>Administrator</dc:creator>
  <dc:description/>
  <dc:language>en-US</dc:language>
  <cp:lastModifiedBy>Administrator</cp:lastModifiedBy>
  <dcterms:modified xsi:type="dcterms:W3CDTF">2016-04-21T12:37:30Z</dcterms:modified>
  <cp:revision>59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