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ABA-7F3C-4FAD-B6FA-B7A1A9AE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A25-D408-415B-A1B2-8E678C05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73D-CDE8-4201-A9D9-5274EDF1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915-04B4-43A8-B3A9-DE907949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8783-FE92-4893-B0B9-B467A502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2D4C-0869-4AE7-A787-D3C107DF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B24F-A002-463E-8C26-85A108E7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2A1F-6094-4FEF-999B-E3A6CB4D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DCC8-8F83-4972-A06E-DCDE8E56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3462-C645-4EB3-99FC-279A9294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B0AC-F10C-42CC-9116-1CD79E4D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166-347F-457C-81FB-A55A0B6C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C20C-12FD-447B-A0E3-07A9F8B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41EE-153D-4236-AFBF-484475C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6392-242D-40E6-B2F1-8FE6CB55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A41D-FFFF-4CA4-93A9-1FE3EC08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C783-F4E4-4FC0-B4E6-BC0AC901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2C2-E1C9-4535-9136-E35C2F75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CCA-406D-4B8D-9D7D-8D6F727B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307-D75D-4A28-B7D7-22C6CC04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B00-8528-4794-B955-742C3358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EBB-4EB2-4554-8DAB-322C828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C50-D9EB-4F7D-A647-209D2B1F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C6E-7A63-4C83-98B5-566FC36E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E55E-AB47-4DE4-BD89-68CF712854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D166-33B0-49F4-8324-11B30B5FFB42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4400" y="0"/>
            <a:ext cx="91584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F499-DBC8-44AC-9C71-42C0CC7A7406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5318-25E9-4488-9C1E-274506AD75AE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D971-B17B-437B-8B38-3A00A1292C3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水墨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604B-17C6-43E2-B74B-BEE93489884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1040" y="169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033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70AB-11F6-4548-8183-0214FB5C4EF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19BC-12F7-49B9-AD2E-2D031F95444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谢谢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>Administrator</dc:creator>
  <dc:description/>
  <dc:language>en-US</dc:language>
  <cp:lastModifiedBy>Administrator</cp:lastModifiedBy>
  <dcterms:modified xsi:type="dcterms:W3CDTF">2016-04-21T12:37:30Z</dcterms:modified>
  <cp:revision>594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