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7E4-E22F-4A0D-B78D-E915EE46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789-BDAF-4203-B4F4-2193B65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740-3043-420C-9F44-782FBAF6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5DD-AA60-41E8-86C7-6896282C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EF87-FE49-47DA-A772-6980E29C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75E3-C5C3-42B9-BC68-D473555D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6886-7DF8-441C-B8F8-19C2CC98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773-4CD1-4BEB-BB5E-6072E9B1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70E3-080A-4AB8-AB74-BACB44CF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CBFA-FD55-433A-AD7B-88A52EC5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6F86-D529-4248-A43F-4D89465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707-3132-49C9-8915-C79E9F4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0CBF-A081-4872-AFAE-1126016B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94B3-FEC2-4BBC-9C8C-38B92745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2CD3-47DB-4166-8AC0-0D3217C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01D-50D7-42C3-BBDA-E23224E6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90F4-C8B5-4610-B599-8DCBEEDD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8B11C-3557-4FAC-9D1A-E5D1730F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3DF5-E3F8-493D-BF02-A545A3F2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E181-ACAE-41E8-A429-942172A0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C993-4753-4A71-8B23-F5962FFC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8374-C688-457A-A618-EEF3CB63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A77-4755-4527-B027-2D5E7209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AD8C-A60D-43EA-8DEE-79140D52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9C47-0435-4D6B-B474-A6E9B55D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410D-F771-4F58-AAEA-C95C359E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E2522-7ED8-493A-937E-204AE52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D252-C16C-4932-8651-B7E2EBCB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EE19-839B-49C7-BE08-54154A25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6DDD-2151-4395-8C47-70C7FA8F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AFC-A293-46A0-BE27-DF2A1ACC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293E-CA6E-48C1-88C9-90889D67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6BE-81A4-419B-B5C3-208DBF5C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D28-A194-487E-811B-43C456B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3CF-178E-4B01-B555-AADE298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123-47AF-48F5-8E5E-F51DF8F5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E343-F3C7-492C-AADC-AF01A430C46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or\桌面\å¢¨è¿¹.png"/>
          <p:cNvPicPr/>
          <p:nvPr/>
        </p:nvPicPr>
        <p:blipFill>
          <a:blip r:embed="rId2"/>
          <a:stretch/>
        </p:blipFill>
        <p:spPr>
          <a:xfrm>
            <a:off x="1363680" y="-4680"/>
            <a:ext cx="535608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矢量图素材\中国风\莲\33¹.png"/>
          <p:cNvPicPr/>
          <p:nvPr/>
        </p:nvPicPr>
        <p:blipFill>
          <a:blip r:embed="rId3"/>
          <a:srcRect l="22381" t="0" r="15558" b="23436"/>
          <a:stretch/>
        </p:blipFill>
        <p:spPr>
          <a:xfrm>
            <a:off x="2046240" y="-4680"/>
            <a:ext cx="5675400" cy="437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19595400">
            <a:off x="6513480" y="141876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矢量图素材\中国风\莲\å¢¨è¿¹.jpg"/>
          <p:cNvPicPr/>
          <p:nvPr/>
        </p:nvPicPr>
        <p:blipFill>
          <a:blip r:embed="rId5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5022720" y="242568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859280" y="2425680"/>
            <a:ext cx="9072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AB3B-CBDC-4FAD-95A5-9EBC818074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9"/>
          <p:cNvGrpSpPr/>
          <p:nvPr/>
        </p:nvGrpSpPr>
        <p:grpSpPr>
          <a:xfrm>
            <a:off x="826920" y="-50760"/>
            <a:ext cx="792360" cy="792000"/>
            <a:chOff x="826920" y="-50760"/>
            <a:chExt cx="792360" cy="792000"/>
          </a:xfrm>
        </p:grpSpPr>
        <p:pic>
          <p:nvPicPr>
            <p:cNvPr id="89" name="Picture 4" descr="E:\矢量图素材\中国风\莲\33¹.png"/>
            <p:cNvPicPr/>
            <p:nvPr/>
          </p:nvPicPr>
          <p:blipFill>
            <a:blip r:embed="rId2"/>
            <a:stretch/>
          </p:blipFill>
          <p:spPr>
            <a:xfrm>
              <a:off x="835200" y="-50760"/>
              <a:ext cx="784080" cy="60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" descr="C:\Documents and Settings\Administrator\桌面\å¢¨è¿¹.png"/>
            <p:cNvPicPr/>
            <p:nvPr/>
          </p:nvPicPr>
          <p:blipFill>
            <a:blip r:embed="rId3"/>
            <a:stretch/>
          </p:blipFill>
          <p:spPr>
            <a:xfrm>
              <a:off x="826920" y="49320"/>
              <a:ext cx="648360" cy="69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6" descr="C:\Documents and Settings\Administrator\桌面\图片4.png"/>
          <p:cNvPicPr/>
          <p:nvPr/>
        </p:nvPicPr>
        <p:blipFill>
          <a:blip r:embed="rId4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Administrator\桌面\图片1.jpg"/>
          <p:cNvPicPr/>
          <p:nvPr/>
        </p:nvPicPr>
        <p:blipFill>
          <a:blip r:embed="rId5"/>
          <a:stretch/>
        </p:blipFill>
        <p:spPr>
          <a:xfrm>
            <a:off x="0" y="-9540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93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75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E2D4-8BFD-4F7A-AFA8-4E2E6B55C9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extBox 39" descr=""/>
          <p:cNvPicPr/>
          <p:nvPr/>
        </p:nvPicPr>
        <p:blipFill>
          <a:blip r:embed="rId1"/>
          <a:stretch/>
        </p:blipFill>
        <p:spPr>
          <a:xfrm>
            <a:off x="5029200" y="2496960"/>
            <a:ext cx="411480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055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8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9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0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1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3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4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5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6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8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9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0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1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3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4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5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"/>
                            </p:stCondLst>
                            <p:childTnLst>
                              <p:par>
                                <p:cTn id="20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" dur="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7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5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"/>
                            </p:stCondLst>
                            <p:childTnLst>
                              <p:par>
                                <p:cTn id="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92360" y="2192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extBox 2" descr=""/>
          <p:cNvPicPr/>
          <p:nvPr/>
        </p:nvPicPr>
        <p:blipFill>
          <a:blip r:embed="rId1"/>
          <a:stretch/>
        </p:blipFill>
        <p:spPr>
          <a:xfrm>
            <a:off x="5003640" y="2496960"/>
            <a:ext cx="43214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1:50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