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0334-CE75-4497-898F-097ED0489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0823-5D06-4646-ABEF-39432171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D2ED-BD71-49CC-A600-30E38E0A6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A607-C173-468E-84C8-DADE13F87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CF13-B91E-4FDF-98AE-CDBCE245E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A843-0381-48CB-9AC9-BACBE118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4929-DA75-4BD7-942F-6059F5C8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BFD0-C1FF-4E15-A27C-A2B0AD81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73CC-4A6D-453B-BDAF-CA9BB0D6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7916-106A-4B71-BC3D-1EB56DD4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D24A-AD90-498A-A63F-57D3D412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E101-72C5-4BF8-8091-E3DC544F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B572-2031-4A52-812B-AFD47458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5C7E-A1CB-4EB8-BF94-B3FEEDCE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59B1-6EDE-427C-B3CA-1B1D8075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8F97-DF74-4781-A743-38B27CB08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3FDD-847B-4CA4-B64F-5B6B152C4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AE428-2B3E-475A-A1A1-DC2FA5CA2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A4E0D-3A95-40ED-BFF9-35637839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26C25-8A76-469F-BFCF-1D67D218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99B4D-7FDF-46BB-BF13-DF6EEB20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B9AC0-DAC2-4CC8-931A-D1015FF5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DABF-0A77-4F0A-B4E3-CD96351F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E5795-52FC-42C7-870C-4CD33EF2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AB8A0-0990-4C55-BF8E-A7288CCD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5DB7F-2DF3-41EA-A668-E805E093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EBC56-45F4-449D-89A4-D1BF8C59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B71F9-852E-469E-8C0A-00C05A28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FC1E0-79D8-40A4-B575-4F2004EA1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5570C-4D0E-4E07-B4C8-BB18D14FD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5CD7-B3FA-456E-9F3C-283DA589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F64A-DEA2-492E-8CEF-81E33852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9012-B982-4D24-88BC-59A543A2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853A-90C8-4613-8C66-C9DAB237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E485-6E68-47DB-8AD8-D68D3647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5D07-88A6-4EE1-854D-8012866E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2AC0-C9E8-4226-A8F8-8E2DC1D3FFE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Administrator\桌面\å¢¨è¿¹.png"/>
          <p:cNvPicPr/>
          <p:nvPr/>
        </p:nvPicPr>
        <p:blipFill>
          <a:blip r:embed="rId2"/>
          <a:stretch/>
        </p:blipFill>
        <p:spPr>
          <a:xfrm>
            <a:off x="1363680" y="-4680"/>
            <a:ext cx="5356080" cy="5715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E:\矢量图素材\中国风\莲\33¹.png"/>
          <p:cNvPicPr/>
          <p:nvPr/>
        </p:nvPicPr>
        <p:blipFill>
          <a:blip r:embed="rId3"/>
          <a:srcRect l="22381" t="0" r="15558" b="23436"/>
          <a:stretch/>
        </p:blipFill>
        <p:spPr>
          <a:xfrm>
            <a:off x="2046240" y="-4680"/>
            <a:ext cx="5675400" cy="4373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2" descr="C:\Documents and Settings\Administrator\桌面\2.png"/>
          <p:cNvPicPr/>
          <p:nvPr/>
        </p:nvPicPr>
        <p:blipFill>
          <a:blip r:embed="rId4"/>
          <a:stretch/>
        </p:blipFill>
        <p:spPr>
          <a:xfrm rot="19595400">
            <a:off x="6513480" y="1418760"/>
            <a:ext cx="3017880" cy="3252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E:\矢量图素材\中国风\莲\å¢¨è¿¹.jpg"/>
          <p:cNvPicPr/>
          <p:nvPr/>
        </p:nvPicPr>
        <p:blipFill>
          <a:blip r:embed="rId5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5" name="矩形 7"/>
          <p:cNvSpPr/>
          <p:nvPr/>
        </p:nvSpPr>
        <p:spPr>
          <a:xfrm>
            <a:off x="5022720" y="242568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4859280" y="2425680"/>
            <a:ext cx="9072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7A89-9E33-4CB5-92CC-30B68AEB326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组合 9"/>
          <p:cNvGrpSpPr/>
          <p:nvPr/>
        </p:nvGrpSpPr>
        <p:grpSpPr>
          <a:xfrm>
            <a:off x="826920" y="-50760"/>
            <a:ext cx="792360" cy="792000"/>
            <a:chOff x="826920" y="-50760"/>
            <a:chExt cx="792360" cy="792000"/>
          </a:xfrm>
        </p:grpSpPr>
        <p:pic>
          <p:nvPicPr>
            <p:cNvPr id="89" name="Picture 4" descr="E:\矢量图素材\中国风\莲\33¹.png"/>
            <p:cNvPicPr/>
            <p:nvPr/>
          </p:nvPicPr>
          <p:blipFill>
            <a:blip r:embed="rId2"/>
            <a:stretch/>
          </p:blipFill>
          <p:spPr>
            <a:xfrm>
              <a:off x="835200" y="-50760"/>
              <a:ext cx="784080" cy="60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3" descr="C:\Documents and Settings\Administrator\桌面\å¢¨è¿¹.png"/>
            <p:cNvPicPr/>
            <p:nvPr/>
          </p:nvPicPr>
          <p:blipFill>
            <a:blip r:embed="rId3"/>
            <a:stretch/>
          </p:blipFill>
          <p:spPr>
            <a:xfrm>
              <a:off x="826920" y="49320"/>
              <a:ext cx="648360" cy="691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Picture 6" descr="C:\Documents and Settings\Administrator\桌面\图片4.png"/>
          <p:cNvPicPr/>
          <p:nvPr/>
        </p:nvPicPr>
        <p:blipFill>
          <a:blip r:embed="rId4"/>
          <a:stretch/>
        </p:blipFill>
        <p:spPr>
          <a:xfrm>
            <a:off x="1116000" y="264960"/>
            <a:ext cx="2879640" cy="493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Documents and Settings\Administrator\桌面\图片1.jpg"/>
          <p:cNvPicPr/>
          <p:nvPr/>
        </p:nvPicPr>
        <p:blipFill>
          <a:blip r:embed="rId5"/>
          <a:stretch/>
        </p:blipFill>
        <p:spPr>
          <a:xfrm>
            <a:off x="0" y="-95400"/>
            <a:ext cx="9144000" cy="5810400"/>
          </a:xfrm>
          <a:prstGeom prst="rect">
            <a:avLst/>
          </a:prstGeom>
          <a:ln w="0">
            <a:noFill/>
          </a:ln>
        </p:spPr>
      </p:pic>
      <p:sp>
        <p:nvSpPr>
          <p:cNvPr id="93" name="矩形 7"/>
          <p:cNvSpPr/>
          <p:nvPr/>
        </p:nvSpPr>
        <p:spPr>
          <a:xfrm>
            <a:off x="395280" y="-95400"/>
            <a:ext cx="8353440" cy="5905800"/>
          </a:xfrm>
          <a:prstGeom prst="rect">
            <a:avLst/>
          </a:prstGeom>
          <a:solidFill>
            <a:srgbClr val="ffffff">
              <a:alpha val="75000"/>
            </a:srgbClr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DF4C-16BB-4D6B-B445-A2FBE4FB5B0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TextBox 39" descr=""/>
          <p:cNvPicPr/>
          <p:nvPr/>
        </p:nvPicPr>
        <p:blipFill>
          <a:blip r:embed="rId1"/>
          <a:stretch/>
        </p:blipFill>
        <p:spPr>
          <a:xfrm>
            <a:off x="5029200" y="2496960"/>
            <a:ext cx="411480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2055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" name="组合 46"/>
          <p:cNvGrpSpPr/>
          <p:nvPr/>
        </p:nvGrpSpPr>
        <p:grpSpPr>
          <a:xfrm>
            <a:off x="2556000" y="3240000"/>
            <a:ext cx="3960720" cy="554040"/>
            <a:chOff x="2556000" y="3240000"/>
            <a:chExt cx="3960720" cy="554040"/>
          </a:xfrm>
        </p:grpSpPr>
        <p:grpSp>
          <p:nvGrpSpPr>
            <p:cNvPr id="138" name="组合 47"/>
            <p:cNvGrpSpPr/>
            <p:nvPr/>
          </p:nvGrpSpPr>
          <p:grpSpPr>
            <a:xfrm>
              <a:off x="2700000" y="3240000"/>
              <a:ext cx="3816720" cy="554040"/>
              <a:chOff x="2700000" y="3240000"/>
              <a:chExt cx="3816720" cy="554040"/>
            </a:xfrm>
          </p:grpSpPr>
          <p:sp>
            <p:nvSpPr>
              <p:cNvPr id="139" name="矩形 49"/>
              <p:cNvSpPr/>
              <p:nvPr/>
            </p:nvSpPr>
            <p:spPr>
              <a:xfrm>
                <a:off x="2700000" y="324000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0" name="Picture 6" descr="C:\Documents and Settings\Administrator\桌面\图片4.png"/>
              <p:cNvPicPr/>
              <p:nvPr/>
            </p:nvPicPr>
            <p:blipFill>
              <a:blip r:embed="rId1"/>
              <a:stretch/>
            </p:blipFill>
            <p:spPr>
              <a:xfrm>
                <a:off x="3636360" y="324000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1" name="矩形 48"/>
            <p:cNvSpPr/>
            <p:nvPr/>
          </p:nvSpPr>
          <p:spPr>
            <a:xfrm>
              <a:off x="2556000" y="324000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组合 51"/>
          <p:cNvGrpSpPr/>
          <p:nvPr/>
        </p:nvGrpSpPr>
        <p:grpSpPr>
          <a:xfrm>
            <a:off x="2556000" y="4032360"/>
            <a:ext cx="3960720" cy="554040"/>
            <a:chOff x="2556000" y="4032360"/>
            <a:chExt cx="3960720" cy="554040"/>
          </a:xfrm>
        </p:grpSpPr>
        <p:grpSp>
          <p:nvGrpSpPr>
            <p:cNvPr id="143" name="组合 52"/>
            <p:cNvGrpSpPr/>
            <p:nvPr/>
          </p:nvGrpSpPr>
          <p:grpSpPr>
            <a:xfrm>
              <a:off x="2700000" y="4032360"/>
              <a:ext cx="3816720" cy="554040"/>
              <a:chOff x="2700000" y="4032360"/>
              <a:chExt cx="3816720" cy="554040"/>
            </a:xfrm>
          </p:grpSpPr>
          <p:sp>
            <p:nvSpPr>
              <p:cNvPr id="144" name="矩形 54"/>
              <p:cNvSpPr/>
              <p:nvPr/>
            </p:nvSpPr>
            <p:spPr>
              <a:xfrm>
                <a:off x="2700000" y="40323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5" name="Picture 6" descr="C:\Documents and Settings\Administrator\桌面\图片4.png"/>
              <p:cNvPicPr/>
              <p:nvPr/>
            </p:nvPicPr>
            <p:blipFill>
              <a:blip r:embed="rId2"/>
              <a:stretch/>
            </p:blipFill>
            <p:spPr>
              <a:xfrm>
                <a:off x="3636360" y="40323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6" name="矩形 53"/>
            <p:cNvSpPr/>
            <p:nvPr/>
          </p:nvSpPr>
          <p:spPr>
            <a:xfrm>
              <a:off x="2556000" y="40323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组合 56"/>
          <p:cNvGrpSpPr/>
          <p:nvPr/>
        </p:nvGrpSpPr>
        <p:grpSpPr>
          <a:xfrm>
            <a:off x="2556000" y="1676520"/>
            <a:ext cx="3960720" cy="554040"/>
            <a:chOff x="2556000" y="1676520"/>
            <a:chExt cx="3960720" cy="554040"/>
          </a:xfrm>
        </p:grpSpPr>
        <p:grpSp>
          <p:nvGrpSpPr>
            <p:cNvPr id="148" name="组合 57"/>
            <p:cNvGrpSpPr/>
            <p:nvPr/>
          </p:nvGrpSpPr>
          <p:grpSpPr>
            <a:xfrm>
              <a:off x="2700000" y="1676520"/>
              <a:ext cx="3816720" cy="554040"/>
              <a:chOff x="2700000" y="1676520"/>
              <a:chExt cx="3816720" cy="554040"/>
            </a:xfrm>
          </p:grpSpPr>
          <p:sp>
            <p:nvSpPr>
              <p:cNvPr id="149" name="矩形 59"/>
              <p:cNvSpPr/>
              <p:nvPr/>
            </p:nvSpPr>
            <p:spPr>
              <a:xfrm>
                <a:off x="2700000" y="167652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50" name="Picture 6" descr="C:\Documents and Settings\Administrator\桌面\图片4.png"/>
              <p:cNvPicPr/>
              <p:nvPr/>
            </p:nvPicPr>
            <p:blipFill>
              <a:blip r:embed="rId3"/>
              <a:stretch/>
            </p:blipFill>
            <p:spPr>
              <a:xfrm>
                <a:off x="3636360" y="167652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1" name="矩形 58"/>
            <p:cNvSpPr/>
            <p:nvPr/>
          </p:nvSpPr>
          <p:spPr>
            <a:xfrm>
              <a:off x="2556000" y="167652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组合 61"/>
          <p:cNvGrpSpPr/>
          <p:nvPr/>
        </p:nvGrpSpPr>
        <p:grpSpPr>
          <a:xfrm>
            <a:off x="2556000" y="2498760"/>
            <a:ext cx="3960720" cy="554040"/>
            <a:chOff x="2556000" y="2498760"/>
            <a:chExt cx="3960720" cy="554040"/>
          </a:xfrm>
        </p:grpSpPr>
        <p:grpSp>
          <p:nvGrpSpPr>
            <p:cNvPr id="153" name="组合 62"/>
            <p:cNvGrpSpPr/>
            <p:nvPr/>
          </p:nvGrpSpPr>
          <p:grpSpPr>
            <a:xfrm>
              <a:off x="2700000" y="2498760"/>
              <a:ext cx="3816720" cy="554040"/>
              <a:chOff x="2700000" y="2498760"/>
              <a:chExt cx="3816720" cy="554040"/>
            </a:xfrm>
          </p:grpSpPr>
          <p:sp>
            <p:nvSpPr>
              <p:cNvPr id="154" name="矩形 64"/>
              <p:cNvSpPr/>
              <p:nvPr/>
            </p:nvSpPr>
            <p:spPr>
              <a:xfrm>
                <a:off x="2700000" y="24987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55" name="Picture 6" descr="C:\Documents and Settings\Administrator\桌面\图片4.png"/>
              <p:cNvPicPr/>
              <p:nvPr/>
            </p:nvPicPr>
            <p:blipFill>
              <a:blip r:embed="rId4"/>
              <a:stretch/>
            </p:blipFill>
            <p:spPr>
              <a:xfrm>
                <a:off x="3636360" y="24987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6" name="矩形 63"/>
            <p:cNvSpPr/>
            <p:nvPr/>
          </p:nvSpPr>
          <p:spPr>
            <a:xfrm>
              <a:off x="2556000" y="24987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7" name="TextBox 66"/>
          <p:cNvSpPr/>
          <p:nvPr/>
        </p:nvSpPr>
        <p:spPr>
          <a:xfrm>
            <a:off x="2755800" y="1692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67"/>
          <p:cNvSpPr/>
          <p:nvPr/>
        </p:nvSpPr>
        <p:spPr>
          <a:xfrm>
            <a:off x="2755800" y="25146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68"/>
          <p:cNvSpPr/>
          <p:nvPr/>
        </p:nvSpPr>
        <p:spPr>
          <a:xfrm>
            <a:off x="2755800" y="3254400"/>
            <a:ext cx="37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69"/>
          <p:cNvSpPr/>
          <p:nvPr/>
        </p:nvSpPr>
        <p:spPr>
          <a:xfrm>
            <a:off x="2755800" y="40464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5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"/>
                            </p:stCondLst>
                            <p:childTnLst>
                              <p:par>
                                <p:cTn id="20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" dur="75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75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75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" dur="7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5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250"/>
                            </p:stCondLst>
                            <p:childTnLst>
                              <p:par>
                                <p:cTn id="3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5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5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5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5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750"/>
                            </p:stCondLst>
                            <p:childTnLst>
                              <p:par>
                                <p:cTn id="5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5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5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5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TextBox 2" descr=""/>
          <p:cNvPicPr/>
          <p:nvPr/>
        </p:nvPicPr>
        <p:blipFill>
          <a:blip r:embed="rId1"/>
          <a:stretch/>
        </p:blipFill>
        <p:spPr>
          <a:xfrm>
            <a:off x="5003640" y="2496960"/>
            <a:ext cx="432144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5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6:48:50Z</dcterms:created>
  <dc:creator>user</dc:creator>
  <dc:description/>
  <dc:language>en-US</dc:language>
  <cp:lastModifiedBy>Administrator</cp:lastModifiedBy>
  <dcterms:modified xsi:type="dcterms:W3CDTF">2016-04-18T03:11:50Z</dcterms:modified>
  <cp:revision>4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