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8361-3302-4A3C-8B30-F2C1937FE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10CA-A81F-423C-9ED2-8E67B6164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7F28-2DD9-4A75-8F2C-3064EB86A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05B6-9A33-4CE5-BB46-F7B0D9536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8916B-5DFC-4BF8-8220-239E4A884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A73FA-A40C-4730-A8F3-42C37E637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AE075-01B4-4E01-B3CF-07E0C6763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489C0-0EA2-41BE-90AB-90266EB8E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F007C-933C-4750-A6C3-439644549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D707F-DBDA-4AA8-93F2-112CBD611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0E38D-5446-452E-8F00-9571D1886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04B1-F2A1-47B2-8A68-1C94DEEDD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18533-5F9C-4155-9E26-8BF51ADB9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C4D71-A6C7-43D9-BF6D-64F37A2B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EEF82-DB16-49E1-B5FD-E16976FB3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BBEFC-EF41-4364-9EA4-9AE0456B9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10982-B3DE-4C01-920C-5EFA80E9C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D144F-3F2E-4481-AB62-47A4BE06F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B8DD8-1E25-44A5-8A04-36F4B8857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06B12-331B-4A65-9F36-C268223D4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301B1-DB84-4D5E-9502-7849FE8B9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AD894-A2D5-409D-AD78-13D2BA6D5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6C8B-A3BE-431A-B5DE-F07A132E7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DB387-EB86-461E-93E8-105C88815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81C9A-1136-44E9-A656-95848050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5250D-878A-4209-B99B-1E4E2E1DF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4E344-7E4A-4255-9829-2ADB37C3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79492-77F8-494E-89C9-C5C9A17E6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C4ACC-3B82-468E-9C36-5FCA7FC29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A870C-2554-42A0-A1E2-62F7C8206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DADF-9D16-49FF-B151-642DE222C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5192-6C38-4E3D-807F-C5C188458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D42B-C673-4D5E-AE07-EA5966365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0EF3-2EBF-44C6-B097-BE4781A5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34B5-020F-4752-8029-CF21A10B0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9168-F885-4D33-AC17-6F88AFA37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F2C60-37E2-4E5A-BBA2-E78E7B17654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2" descr="C:\Documents and Settings\Administrator\桌面\2.png"/>
          <p:cNvPicPr/>
          <p:nvPr/>
        </p:nvPicPr>
        <p:blipFill>
          <a:blip r:embed="rId2"/>
          <a:stretch/>
        </p:blipFill>
        <p:spPr>
          <a:xfrm rot="19595400">
            <a:off x="6513120" y="-252360"/>
            <a:ext cx="3017880" cy="32526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C:\Documents and Settings\Administrator\桌面\555.png"/>
          <p:cNvPicPr/>
          <p:nvPr/>
        </p:nvPicPr>
        <p:blipFill>
          <a:blip r:embed="rId3"/>
          <a:stretch/>
        </p:blipFill>
        <p:spPr>
          <a:xfrm>
            <a:off x="684360" y="163440"/>
            <a:ext cx="8459640" cy="5551560"/>
          </a:xfrm>
          <a:prstGeom prst="rect">
            <a:avLst/>
          </a:prstGeom>
          <a:ln w="0">
            <a:noFill/>
          </a:ln>
        </p:spPr>
      </p:pic>
      <p:sp>
        <p:nvSpPr>
          <p:cNvPr id="43" name="矩形 8"/>
          <p:cNvSpPr/>
          <p:nvPr/>
        </p:nvSpPr>
        <p:spPr>
          <a:xfrm>
            <a:off x="5022720" y="741240"/>
            <a:ext cx="412128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矩形 9"/>
          <p:cNvSpPr/>
          <p:nvPr/>
        </p:nvSpPr>
        <p:spPr>
          <a:xfrm>
            <a:off x="4859280" y="741240"/>
            <a:ext cx="9072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C:\Documents and Settings\Administrator\桌面\6666666.jpg"/>
          <p:cNvPicPr/>
          <p:nvPr/>
        </p:nvPicPr>
        <p:blipFill>
          <a:blip r:embed="rId4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27A2F-7C8C-4527-9728-A6C36E352C4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Documents and Settings\Administrator\桌面\莲 (2).png"/>
          <p:cNvPicPr/>
          <p:nvPr/>
        </p:nvPicPr>
        <p:blipFill>
          <a:blip r:embed="rId2"/>
          <a:stretch/>
        </p:blipFill>
        <p:spPr>
          <a:xfrm>
            <a:off x="611280" y="57240"/>
            <a:ext cx="971280" cy="928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C:\Documents and Settings\Administrator\桌面\图片4.png"/>
          <p:cNvPicPr/>
          <p:nvPr/>
        </p:nvPicPr>
        <p:blipFill>
          <a:blip r:embed="rId3"/>
          <a:stretch/>
        </p:blipFill>
        <p:spPr>
          <a:xfrm>
            <a:off x="1116000" y="264960"/>
            <a:ext cx="2879640" cy="493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C:\Documents and Settings\Administrator\桌面\6666666.jpg"/>
          <p:cNvPicPr/>
          <p:nvPr/>
        </p:nvPicPr>
        <p:blipFill>
          <a:blip r:embed="rId4"/>
          <a:stretch/>
        </p:blipFill>
        <p:spPr>
          <a:xfrm>
            <a:off x="0" y="-3240"/>
            <a:ext cx="9144000" cy="5813640"/>
          </a:xfrm>
          <a:prstGeom prst="rect">
            <a:avLst/>
          </a:prstGeom>
          <a:ln w="0">
            <a:noFill/>
          </a:ln>
        </p:spPr>
      </p:pic>
      <p:sp>
        <p:nvSpPr>
          <p:cNvPr id="90" name="矩形 7"/>
          <p:cNvSpPr/>
          <p:nvPr/>
        </p:nvSpPr>
        <p:spPr>
          <a:xfrm>
            <a:off x="395280" y="-95400"/>
            <a:ext cx="8353440" cy="5905800"/>
          </a:xfrm>
          <a:prstGeom prst="rect">
            <a:avLst/>
          </a:prstGeom>
          <a:solidFill>
            <a:srgbClr val="ffffff">
              <a:alpha val="70000"/>
            </a:srgbClr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2FB45-505D-4BCB-B2DA-C3876D676D4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TextBox 39" descr=""/>
          <p:cNvPicPr/>
          <p:nvPr/>
        </p:nvPicPr>
        <p:blipFill>
          <a:blip r:embed="rId1"/>
          <a:stretch/>
        </p:blipFill>
        <p:spPr>
          <a:xfrm>
            <a:off x="5029200" y="812880"/>
            <a:ext cx="3097080" cy="1108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5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5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5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2055"/>
          <p:cNvSpPr/>
          <p:nvPr/>
        </p:nvSpPr>
        <p:spPr>
          <a:xfrm>
            <a:off x="1692360" y="21924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  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4" name="组合 46"/>
          <p:cNvGrpSpPr/>
          <p:nvPr/>
        </p:nvGrpSpPr>
        <p:grpSpPr>
          <a:xfrm>
            <a:off x="2556000" y="3240000"/>
            <a:ext cx="3960720" cy="554040"/>
            <a:chOff x="2556000" y="3240000"/>
            <a:chExt cx="3960720" cy="554040"/>
          </a:xfrm>
        </p:grpSpPr>
        <p:grpSp>
          <p:nvGrpSpPr>
            <p:cNvPr id="135" name="组合 47"/>
            <p:cNvGrpSpPr/>
            <p:nvPr/>
          </p:nvGrpSpPr>
          <p:grpSpPr>
            <a:xfrm>
              <a:off x="2700000" y="3240000"/>
              <a:ext cx="3816720" cy="554040"/>
              <a:chOff x="2700000" y="3240000"/>
              <a:chExt cx="3816720" cy="554040"/>
            </a:xfrm>
          </p:grpSpPr>
          <p:sp>
            <p:nvSpPr>
              <p:cNvPr id="136" name="矩形 49"/>
              <p:cNvSpPr/>
              <p:nvPr/>
            </p:nvSpPr>
            <p:spPr>
              <a:xfrm>
                <a:off x="2700000" y="324000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37" name="Picture 6" descr="C:\Documents and Settings\Administrator\桌面\图片4.png"/>
              <p:cNvPicPr/>
              <p:nvPr/>
            </p:nvPicPr>
            <p:blipFill>
              <a:blip r:embed="rId1"/>
              <a:stretch/>
            </p:blipFill>
            <p:spPr>
              <a:xfrm>
                <a:off x="3636360" y="324000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8" name="矩形 48"/>
            <p:cNvSpPr/>
            <p:nvPr/>
          </p:nvSpPr>
          <p:spPr>
            <a:xfrm>
              <a:off x="2556000" y="324000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" name="组合 51"/>
          <p:cNvGrpSpPr/>
          <p:nvPr/>
        </p:nvGrpSpPr>
        <p:grpSpPr>
          <a:xfrm>
            <a:off x="2556000" y="4032360"/>
            <a:ext cx="3960720" cy="554040"/>
            <a:chOff x="2556000" y="4032360"/>
            <a:chExt cx="3960720" cy="554040"/>
          </a:xfrm>
        </p:grpSpPr>
        <p:grpSp>
          <p:nvGrpSpPr>
            <p:cNvPr id="140" name="组合 52"/>
            <p:cNvGrpSpPr/>
            <p:nvPr/>
          </p:nvGrpSpPr>
          <p:grpSpPr>
            <a:xfrm>
              <a:off x="2700000" y="4032360"/>
              <a:ext cx="3816720" cy="554040"/>
              <a:chOff x="2700000" y="4032360"/>
              <a:chExt cx="3816720" cy="554040"/>
            </a:xfrm>
          </p:grpSpPr>
          <p:sp>
            <p:nvSpPr>
              <p:cNvPr id="141" name="矩形 54"/>
              <p:cNvSpPr/>
              <p:nvPr/>
            </p:nvSpPr>
            <p:spPr>
              <a:xfrm>
                <a:off x="2700000" y="403236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42" name="Picture 6" descr="C:\Documents and Settings\Administrator\桌面\图片4.png"/>
              <p:cNvPicPr/>
              <p:nvPr/>
            </p:nvPicPr>
            <p:blipFill>
              <a:blip r:embed="rId2"/>
              <a:stretch/>
            </p:blipFill>
            <p:spPr>
              <a:xfrm>
                <a:off x="3636360" y="403236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3" name="矩形 53"/>
            <p:cNvSpPr/>
            <p:nvPr/>
          </p:nvSpPr>
          <p:spPr>
            <a:xfrm>
              <a:off x="2556000" y="403236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" name="组合 56"/>
          <p:cNvGrpSpPr/>
          <p:nvPr/>
        </p:nvGrpSpPr>
        <p:grpSpPr>
          <a:xfrm>
            <a:off x="2556000" y="1676520"/>
            <a:ext cx="3960720" cy="554040"/>
            <a:chOff x="2556000" y="1676520"/>
            <a:chExt cx="3960720" cy="554040"/>
          </a:xfrm>
        </p:grpSpPr>
        <p:grpSp>
          <p:nvGrpSpPr>
            <p:cNvPr id="145" name="组合 57"/>
            <p:cNvGrpSpPr/>
            <p:nvPr/>
          </p:nvGrpSpPr>
          <p:grpSpPr>
            <a:xfrm>
              <a:off x="2700000" y="1676520"/>
              <a:ext cx="3816720" cy="554040"/>
              <a:chOff x="2700000" y="1676520"/>
              <a:chExt cx="3816720" cy="554040"/>
            </a:xfrm>
          </p:grpSpPr>
          <p:sp>
            <p:nvSpPr>
              <p:cNvPr id="146" name="矩形 59"/>
              <p:cNvSpPr/>
              <p:nvPr/>
            </p:nvSpPr>
            <p:spPr>
              <a:xfrm>
                <a:off x="2700000" y="167652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47" name="Picture 6" descr="C:\Documents and Settings\Administrator\桌面\图片4.png"/>
              <p:cNvPicPr/>
              <p:nvPr/>
            </p:nvPicPr>
            <p:blipFill>
              <a:blip r:embed="rId3"/>
              <a:stretch/>
            </p:blipFill>
            <p:spPr>
              <a:xfrm>
                <a:off x="3636360" y="167652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8" name="矩形 58"/>
            <p:cNvSpPr/>
            <p:nvPr/>
          </p:nvSpPr>
          <p:spPr>
            <a:xfrm>
              <a:off x="2556000" y="167652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9" name="组合 61"/>
          <p:cNvGrpSpPr/>
          <p:nvPr/>
        </p:nvGrpSpPr>
        <p:grpSpPr>
          <a:xfrm>
            <a:off x="2556000" y="2498760"/>
            <a:ext cx="3960720" cy="554040"/>
            <a:chOff x="2556000" y="2498760"/>
            <a:chExt cx="3960720" cy="554040"/>
          </a:xfrm>
        </p:grpSpPr>
        <p:grpSp>
          <p:nvGrpSpPr>
            <p:cNvPr id="150" name="组合 62"/>
            <p:cNvGrpSpPr/>
            <p:nvPr/>
          </p:nvGrpSpPr>
          <p:grpSpPr>
            <a:xfrm>
              <a:off x="2700000" y="2498760"/>
              <a:ext cx="3816720" cy="554040"/>
              <a:chOff x="2700000" y="2498760"/>
              <a:chExt cx="3816720" cy="554040"/>
            </a:xfrm>
          </p:grpSpPr>
          <p:sp>
            <p:nvSpPr>
              <p:cNvPr id="151" name="矩形 64"/>
              <p:cNvSpPr/>
              <p:nvPr/>
            </p:nvSpPr>
            <p:spPr>
              <a:xfrm>
                <a:off x="2700000" y="249876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52" name="Picture 6" descr="C:\Documents and Settings\Administrator\桌面\图片4.png"/>
              <p:cNvPicPr/>
              <p:nvPr/>
            </p:nvPicPr>
            <p:blipFill>
              <a:blip r:embed="rId4"/>
              <a:stretch/>
            </p:blipFill>
            <p:spPr>
              <a:xfrm>
                <a:off x="3636360" y="249876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3" name="矩形 63"/>
            <p:cNvSpPr/>
            <p:nvPr/>
          </p:nvSpPr>
          <p:spPr>
            <a:xfrm>
              <a:off x="2556000" y="249876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4" name="TextBox 66"/>
          <p:cNvSpPr/>
          <p:nvPr/>
        </p:nvSpPr>
        <p:spPr>
          <a:xfrm>
            <a:off x="2755800" y="169236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67"/>
          <p:cNvSpPr/>
          <p:nvPr/>
        </p:nvSpPr>
        <p:spPr>
          <a:xfrm>
            <a:off x="2755800" y="2514600"/>
            <a:ext cx="37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68"/>
          <p:cNvSpPr/>
          <p:nvPr/>
        </p:nvSpPr>
        <p:spPr>
          <a:xfrm>
            <a:off x="2755800" y="3254400"/>
            <a:ext cx="376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69"/>
          <p:cNvSpPr/>
          <p:nvPr/>
        </p:nvSpPr>
        <p:spPr>
          <a:xfrm>
            <a:off x="2755800" y="4046400"/>
            <a:ext cx="37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5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5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5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"/>
                            </p:stCondLst>
                            <p:childTnLst>
                              <p:par>
                                <p:cTn id="20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" dur="75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5" dur="75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" dur="75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1" dur="75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5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5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5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250"/>
                            </p:stCondLst>
                            <p:childTnLst>
                              <p:par>
                                <p:cTn id="39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5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5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25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5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5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5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750"/>
                            </p:stCondLst>
                            <p:childTnLst>
                              <p:par>
                                <p:cTn id="51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5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5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5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1"/>
          <p:cNvSpPr/>
          <p:nvPr/>
        </p:nvSpPr>
        <p:spPr>
          <a:xfrm>
            <a:off x="1692360" y="21924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标题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5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5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25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TextBox 2" descr=""/>
          <p:cNvPicPr/>
          <p:nvPr/>
        </p:nvPicPr>
        <p:blipFill>
          <a:blip r:embed="rId1"/>
          <a:stretch/>
        </p:blipFill>
        <p:spPr>
          <a:xfrm>
            <a:off x="5003640" y="741240"/>
            <a:ext cx="4321440" cy="1108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5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5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5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8T06:48:50Z</dcterms:created>
  <dc:creator>user</dc:creator>
  <dc:description/>
  <dc:language>en-US</dc:language>
  <cp:lastModifiedBy>Administrator</cp:lastModifiedBy>
  <dcterms:modified xsi:type="dcterms:W3CDTF">2016-04-18T03:07:54Z</dcterms:modified>
  <cp:revision>3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