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141A-8358-4231-87CC-B0FFE1AE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042E-B536-451C-AA0B-F8451FDB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1B88-C439-4144-9EF1-FE0B5E92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116-EE0A-48D3-9419-43427D19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3100-F5EF-4F98-8911-ED201D05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993-2EE2-4062-A125-214E4129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E3D-A214-4FA6-BC1E-2D5B9AA8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CCA2-84CC-459C-AD86-21873D16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B1AE-762B-4FEB-8BAF-F2E42784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045-BB4D-42AF-B0BD-99B4AE3B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A68-8629-403D-9E77-3430E1DB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9602-5F64-4569-83BD-4FE6126C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5E8BA-EA59-4E94-B6BB-B68BEBD4F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2 CuadroTexto"/>
          <p:cNvSpPr/>
          <p:nvPr/>
        </p:nvSpPr>
        <p:spPr>
          <a:xfrm>
            <a:off x="1571760" y="857160"/>
            <a:ext cx="7358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7.- Para honrar nuestra palabra y renovar la vida pública: un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nuevo modelo de gobierno, con principios, racionalidad, eficacia, autonomía y dignidad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8.- Para darle poder a los ciudadanos: una política que aliente l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democracia participativa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2 CuadroTexto"/>
          <p:cNvSpPr/>
          <p:nvPr/>
        </p:nvSpPr>
        <p:spPr>
          <a:xfrm>
            <a:off x="1571760" y="857160"/>
            <a:ext cx="7358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9.- Para edificar un Jalisco sustentable y con visión de futuro: un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ambiental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transversal, responsable y comprometida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10.- Para sacudir la vida pública y limpiar a Jalisco: el compromiso indeclinable de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combatir la corrupción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y la impunidad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1" descr="12.80X7.jpg"/>
          <p:cNvPicPr/>
          <p:nvPr/>
        </p:nvPicPr>
        <p:blipFill>
          <a:blip r:embed="rId2"/>
          <a:stretch/>
        </p:blipFill>
        <p:spPr>
          <a:xfrm>
            <a:off x="1447920" y="1447920"/>
            <a:ext cx="6769080" cy="38098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n 2" descr="8X12 AYUDANOS.jpg"/>
          <p:cNvPicPr/>
          <p:nvPr/>
        </p:nvPicPr>
        <p:blipFill>
          <a:blip r:embed="rId2"/>
          <a:stretch/>
        </p:blipFill>
        <p:spPr>
          <a:xfrm>
            <a:off x="2514600" y="762120"/>
            <a:ext cx="3506760" cy="52560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n 3" descr="DIPTICO SEMIFINAL-1.jpg"/>
          <p:cNvPicPr/>
          <p:nvPr/>
        </p:nvPicPr>
        <p:blipFill>
          <a:blip r:embed="rId2"/>
          <a:stretch/>
        </p:blipFill>
        <p:spPr>
          <a:xfrm>
            <a:off x="1447920" y="685800"/>
            <a:ext cx="6296040" cy="4832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n 2" descr="DIPTICO SEMIFINAL-2.jpg"/>
          <p:cNvPicPr/>
          <p:nvPr/>
        </p:nvPicPr>
        <p:blipFill>
          <a:blip r:embed="rId2"/>
          <a:stretch/>
        </p:blipFill>
        <p:spPr>
          <a:xfrm>
            <a:off x="1447920" y="609480"/>
            <a:ext cx="6296040" cy="483264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3" descr="VOLANTE SEMIFINAL-1.jpg"/>
          <p:cNvPicPr/>
          <p:nvPr/>
        </p:nvPicPr>
        <p:blipFill>
          <a:blip r:embed="rId2"/>
          <a:stretch/>
        </p:blipFill>
        <p:spPr>
          <a:xfrm>
            <a:off x="1447920" y="990720"/>
            <a:ext cx="6705360" cy="4373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2" descr="VOLANTE SEMIFINAL-2.jpg"/>
          <p:cNvPicPr/>
          <p:nvPr/>
        </p:nvPicPr>
        <p:blipFill>
          <a:blip r:embed="rId2"/>
          <a:stretch/>
        </p:blipFill>
        <p:spPr>
          <a:xfrm>
            <a:off x="1523880" y="990720"/>
            <a:ext cx="6705720" cy="4373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2 CuadroTexto"/>
          <p:cNvSpPr/>
          <p:nvPr/>
        </p:nvSpPr>
        <p:spPr>
          <a:xfrm>
            <a:off x="1571760" y="1714680"/>
            <a:ext cx="735804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Este proyecto tiene una idea rectora: combatir la pobreza, la exclusión, la desigualdad y la falta de oportunidades, que son el caldo de cultivo de la inseguridad y la violencia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2 CuadroTexto"/>
          <p:cNvSpPr/>
          <p:nvPr/>
        </p:nvSpPr>
        <p:spPr>
          <a:xfrm>
            <a:off x="1571760" y="1179360"/>
            <a:ext cx="7358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ás de 2’700,000 personas (36.9 %) vive en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obreza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o pobreza extr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ás de 2’500,000 personas (35.2 %) no tienen acceso a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ingún servicio de salud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Casi el 50 % de la gente (1'700,000 personas) gana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menos de 3 salarios mínimos al mes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(menos de $ 5,400) por lo que ni siquiera les alcanza para la canasta bás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asamos de una tasa de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desempleo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de 1.97 % en 2000 a 5.25 en 2011. Es decir, de 56,400 personas a más de 180,000 ho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240,000 jóvenes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o tienen oportunidades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para estudiar o trabaj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2 CuadroTexto"/>
          <p:cNvSpPr/>
          <p:nvPr/>
        </p:nvSpPr>
        <p:spPr>
          <a:xfrm>
            <a:off x="1571760" y="1946160"/>
            <a:ext cx="7358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Casi 3’000,000 de personas (40.4 %) vive en condiciones de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vulnerabilidad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(no tienen acceso a servicios y satisfactores básic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1’627,000  personas (22.1 %) vive en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obreza aliment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529,000 personas ocupadas en el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sector inform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Casi el 60 % de los jóvenes son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rechazados de la Ud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2 CuadroTexto"/>
          <p:cNvSpPr/>
          <p:nvPr/>
        </p:nvSpPr>
        <p:spPr>
          <a:xfrm>
            <a:off x="1643040" y="2857680"/>
            <a:ext cx="73580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La pregunta es cómo hacer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2143080" y="2676600"/>
            <a:ext cx="628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10 Principios para Cambiar la Historia de Jalis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2 CuadroTexto"/>
          <p:cNvSpPr/>
          <p:nvPr/>
        </p:nvSpPr>
        <p:spPr>
          <a:xfrm>
            <a:off x="1571760" y="785880"/>
            <a:ext cx="7358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1.- Para transformar la realidad de Jalisco: una nuev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educativa, libre de poderes fácticos, con valores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y compromiso socia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2.- Para reconstruir el tejido social: una verdader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de combate a la desigualdad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, la marginación y la falta de oportunidades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2 CuadroTexto"/>
          <p:cNvSpPr/>
          <p:nvPr/>
        </p:nvSpPr>
        <p:spPr>
          <a:xfrm>
            <a:off x="1571760" y="1108080"/>
            <a:ext cx="73580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3.- Para recuperar la tranquilidad de la gente: un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nueva visión de seguridad ciudadana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4.- Para construir una sociedad justa: un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de competitividad, de generación de empleos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y desarrollo económico.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 CuadroTexto"/>
          <p:cNvSpPr/>
          <p:nvPr/>
        </p:nvSpPr>
        <p:spPr>
          <a:xfrm>
            <a:off x="1571760" y="785880"/>
            <a:ext cx="7358040" cy="64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5.- Para recuperar a las regiones de Jalisco y rescatar al campo: una visión responsable de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desarrollo agropecuario y competitividad regional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6.- Para construir un entorno digno y una mejor calidad de vida: un programa de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infraestructura estratégica 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que sea motor del desarrollo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21:42:39Z</dcterms:created>
  <dc:creator>Euzen</dc:creator>
  <dc:description/>
  <dc:language>en-US</dc:language>
  <cp:lastModifiedBy>微软用户</cp:lastModifiedBy>
  <dcterms:modified xsi:type="dcterms:W3CDTF">2014-09-06T14:35:53Z</dcterms:modified>
  <cp:revision>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