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0FB16-842B-4C04-BF6F-6C15ACEDE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47C85-8683-4165-BF0B-0AE2613A3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8B9B1-129B-4D76-9FA8-48183E2AF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33D3C-AB04-4EC9-88EA-5CB5682DD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F2E8F-B390-451B-8216-80FD7C3D2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AF529-DB96-4AFA-9F59-5CF03E975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5D8AD-4A9D-4E07-8B61-156213FA7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E5351-B9CE-495A-8BB7-145205F4C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8FD3C-A270-4B6F-BD07-AB6A2095A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38C72-A8CF-4569-AE7F-B5A24A7A2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7C67-9C79-44AD-A657-4BBABAB68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7A5DB-6B13-47DA-A51D-7A63ACABC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0D94-74D6-4280-BDD9-CEC82D7CBA4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60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52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矩形 2"/>
          <p:cNvSpPr/>
          <p:nvPr/>
        </p:nvSpPr>
        <p:spPr>
          <a:xfrm>
            <a:off x="1415880" y="2436840"/>
            <a:ext cx="10773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0000"/>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cp:lastModifiedBy>
  <dcterms:modified xsi:type="dcterms:W3CDTF">2016-03-21T00:18:39Z</dcterms:modified>
  <cp:revision>64</cp:revision>
  <dc:subject>12sc.taobao.com</dc:subject>
  <dc:title>PowerPoint 演示文稿</dc:title>
</cp:coreProperties>
</file>