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E8B-79A5-4BE5-96DC-D090AB3C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D95-E099-47A2-9C70-8BCBA50B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659-E15C-446D-8E72-3B2A1B50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785-D335-48FB-93E5-515AD15B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D71-1389-4568-B842-23D6D697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FE7-6DAA-4C51-A7B0-71EA72D7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AF0-A92B-4D36-986D-22B8BFDF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EE8-354D-4DFB-94A9-57A53625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42D-484D-4E80-B054-EFB01DD0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1BA-AC30-4A99-AE69-B24E4E08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22E-16FB-48B8-9397-6BACA916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68F-DFF1-45C5-A770-56C274CC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3364-EA89-42E0-8AAA-3113B29064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62360" y="450720"/>
            <a:ext cx="480060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94240" y="982800"/>
            <a:ext cx="4681440" cy="4663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1000" y="2790720"/>
            <a:ext cx="1257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16996"/>
                </a:solidFill>
                <a:latin typeface="Calibri"/>
                <a:ea typeface="微软雅黑"/>
              </a:rPr>
              <a:t>目录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114880" y="3257640"/>
            <a:ext cx="171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6996"/>
                </a:solidFill>
                <a:latin typeface="Arial"/>
                <a:ea typeface="微软雅黑"/>
              </a:rPr>
              <a:t>CONT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390760" y="1571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819440" y="152388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676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不能缺少的要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638360" y="462924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05400" y="56008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展现自己的价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55530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455292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围绕在身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7810560" y="45054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8972640" y="336240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变得简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8400960" y="331488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8620200" y="20764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做个快乐生活的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8048520" y="202896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896160" y="10191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用心去生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6305400" y="97164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4280" y="2523960"/>
            <a:ext cx="4095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819680" y="32194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81200" y="552600"/>
            <a:ext cx="170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2371680" y="8380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76240" y="1857240"/>
            <a:ext cx="4924440" cy="4124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43560" y="3152880"/>
            <a:ext cx="5210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活着永远有两个选择：快乐和悲伤，快乐的人活得洒脱活得知足， 悲伤的人活得苦恼活得压抑。 工作的乐趣就在工作是生活中的一部分，用好的心态去对待工作 中的每一件事，快乐地完成它，这样我们就可以享受工作带来的乐趣， 并且可以在整个工作过程中感受到自己成长的幸福。 生活的乐趣本来就是生存中非常重要的内容，但是由于社会竞争 的空前激烈和工作强度的不断提高，现代社会的人性，已经完全被金钱 淹没在无休止的打拼和无尽头的奋斗中了，很多人为了追求金钱和名 誉，把自己的健康、空闲时间、舒畅的心情等等全都牺牲掉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28840" y="973080"/>
            <a:ext cx="53215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4-09-06T14:43:5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