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02B-B252-4361-A118-9C31D03C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28E-024F-4A37-82F3-E7655D55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C7E-02A3-4F4F-A01B-CB6661F6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1F1-F449-4396-9D34-E923E34F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0B82-AF7D-43B2-98C7-206C0798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C606-1785-4FB0-AB77-42FA4AB6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8DA7-8698-47D5-B553-09250D62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213C-0A22-4F37-ADD2-438B4CB0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E231-0A51-44DA-A015-65D60A8E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D5BB-8B5A-44AF-ABFE-BF23FC03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A149-5B93-4241-B94D-FE838EB6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689-37BF-41B3-949A-48171286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52DE-9DAA-4DAE-ABE7-051D5F59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7786-1F0F-411C-9C39-C17DB7F5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883F-D0EB-4454-9B64-BA834F4C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F418-5955-482B-88D7-4D9AD591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2BCB-44C9-4D94-A47A-D8C88ADC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F6C-E8FC-4029-9CEC-E78A9FE4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B6E-7496-4006-A2FB-B1FB477A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638-6B40-4415-A02B-20ACEEAC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E51-A95D-4C21-B417-D7E4CEFE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127-C00E-47FA-94D8-109A22A2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0A70-C3A7-4CC7-8DB4-AC1A8F57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F12-EA6E-4A7B-8B3F-C6D2BECD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1249-AF62-4333-A10C-6C176B4F32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0ACC-99F3-4156-9BAD-A321C597BDA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round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round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6360" y="1955880"/>
            <a:ext cx="15084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3000" y="3660480"/>
            <a:ext cx="1962000" cy="20098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0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0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6" y="0"/>
                </a:lnTo>
                <a:lnTo>
                  <a:pt x="21600" y="10800"/>
                </a:lnTo>
                <a:lnTo>
                  <a:pt x="19066" y="21600"/>
                </a:lnTo>
                <a:lnTo>
                  <a:pt x="0" y="21600"/>
                </a:lnTo>
                <a:lnTo>
                  <a:pt x="2534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6" y="0"/>
                </a:lnTo>
                <a:lnTo>
                  <a:pt x="21600" y="10800"/>
                </a:lnTo>
                <a:lnTo>
                  <a:pt x="19066" y="21600"/>
                </a:lnTo>
                <a:lnTo>
                  <a:pt x="0" y="21600"/>
                </a:lnTo>
                <a:lnTo>
                  <a:pt x="2534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825"/>
                            </p:stCondLst>
                            <p:childTnLst>
                              <p:par>
                                <p:cTn id="5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6325"/>
                            </p:stCondLst>
                            <p:childTnLst>
                              <p:par>
                                <p:cTn id="5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6825"/>
                            </p:stCondLst>
                            <p:childTnLst>
                              <p:par>
                                <p:cTn id="6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dc:language>en-US</dc:language>
  <cp:lastModifiedBy>Administrator</cp:lastModifiedBy>
  <dcterms:modified xsi:type="dcterms:W3CDTF">2016-05-02T13:42:34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