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5B1-93BA-4602-966B-4F444B3E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B5A-52B1-437F-AAB6-51A43598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166-0AE1-4126-80D9-7E4058FB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FFC-5110-424C-BAC6-8F159E01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683-DE31-46FA-AF19-C21A377F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080-0898-4FC7-8AF4-9718492D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C8B-0586-4EC8-A4CC-F86B4D1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A01-4975-42AD-9454-61D0FDC2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13B-DF53-4020-B429-DA1AB3C5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06F-EE9B-4819-AB16-57E240B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9F2-8F20-48D5-9A9D-DF99C75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AFE-4488-45F8-B119-D6EE908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FA02-8AD6-41FF-8352-A3D71B2326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n.docer.com/works?userid=17449294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22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24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680" rIns="2268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28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30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34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37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9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43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7"/>
            <p:cNvSpPr/>
            <p:nvPr/>
          </p:nvSpPr>
          <p:spPr>
            <a:xfrm flipH="1">
              <a:off x="2732040" y="313344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73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75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9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83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9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92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94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98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402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11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13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26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9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32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35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37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41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51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54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57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60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63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4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65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7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1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3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92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94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98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33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34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44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46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8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5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6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6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7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7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993600"/>
            <a:ext cx="1103940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grpSp>
          <p:nvGrpSpPr>
            <p:cNvPr id="129" name="组合 2"/>
            <p:cNvGrpSpPr/>
            <p:nvPr/>
          </p:nvGrpSpPr>
          <p:grpSpPr>
            <a:xfrm>
              <a:off x="123840" y="264960"/>
              <a:ext cx="5734080" cy="660600"/>
              <a:chOff x="123840" y="264960"/>
              <a:chExt cx="5734080" cy="660600"/>
            </a:xfrm>
          </p:grpSpPr>
          <p:sp>
            <p:nvSpPr>
              <p:cNvPr id="130" name="任意多边形 3"/>
              <p:cNvSpPr/>
              <p:nvPr/>
            </p:nvSpPr>
            <p:spPr>
              <a:xfrm>
                <a:off x="123840" y="279720"/>
                <a:ext cx="5734080" cy="645840"/>
              </a:xfrm>
              <a:custGeom>
                <a:avLst/>
                <a:gdLst/>
                <a:ahLst/>
                <a:rect l="l" t="t" r="r" b="b"/>
                <a:pathLst>
                  <a:path w="4660173" h="790171">
                    <a:moveTo>
                      <a:pt x="0" y="0"/>
                    </a:moveTo>
                    <a:lnTo>
                      <a:pt x="4660173" y="0"/>
                    </a:lnTo>
                    <a:lnTo>
                      <a:pt x="4660173" y="790171"/>
                    </a:lnTo>
                    <a:lnTo>
                      <a:pt x="626808" y="790171"/>
                    </a:lnTo>
                    <a:cubicBezTo>
                      <a:pt x="374995" y="790171"/>
                      <a:pt x="170860" y="675269"/>
                      <a:pt x="170860" y="533531"/>
                    </a:cubicBezTo>
                    <a:cubicBezTo>
                      <a:pt x="145548" y="355688"/>
                      <a:pt x="158202" y="103043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41000"/>
                </a:srgbClr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任意多边形 4"/>
              <p:cNvGrpSpPr/>
              <p:nvPr/>
            </p:nvGrpSpPr>
            <p:grpSpPr>
              <a:xfrm>
                <a:off x="133920" y="264960"/>
                <a:ext cx="4182120" cy="637920"/>
                <a:chOff x="133920" y="264960"/>
                <a:chExt cx="4182120" cy="637920"/>
              </a:xfrm>
            </p:grpSpPr>
            <p:pic>
              <p:nvPicPr>
                <p:cNvPr id="132" name="任意多边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920" y="264960"/>
                  <a:ext cx="4182120" cy="63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0800000">
                  <a:off x="146160" y="279360"/>
                  <a:ext cx="415224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文本框 5"/>
              <p:cNvSpPr/>
              <p:nvPr/>
            </p:nvSpPr>
            <p:spPr>
              <a:xfrm>
                <a:off x="1163880" y="346320"/>
                <a:ext cx="40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灰黑商务大气专业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7"/>
            <p:cNvSpPr/>
            <p:nvPr/>
          </p:nvSpPr>
          <p:spPr>
            <a:xfrm>
              <a:off x="1140120" y="31788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9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92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5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6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7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98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0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0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7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20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23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26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9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31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47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8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9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73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4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75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7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8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9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9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9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70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70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70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23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26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9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3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3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34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6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38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44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5364360" y="4602240"/>
            <a:ext cx="1718280" cy="1659240"/>
            <a:chOff x="5364360" y="4602240"/>
            <a:chExt cx="1718280" cy="1659240"/>
          </a:xfrm>
        </p:grpSpPr>
        <p:sp>
          <p:nvSpPr>
            <p:cNvPr id="750" name="AutoShape 25"/>
            <p:cNvSpPr/>
            <p:nvPr/>
          </p:nvSpPr>
          <p:spPr>
            <a:xfrm rot="2829000">
              <a:off x="5665680" y="4844880"/>
              <a:ext cx="1174680" cy="117324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AutoShape 26"/>
            <p:cNvSpPr/>
            <p:nvPr/>
          </p:nvSpPr>
          <p:spPr>
            <a:xfrm flipH="1" flipV="1" rot="21185400">
              <a:off x="5430240" y="4877280"/>
              <a:ext cx="1173600" cy="11750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440 h 1175040"/>
                <a:gd name="textAreaBottom" fmla="*/ 1002600 h 11750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AutoShape 27"/>
            <p:cNvSpPr/>
            <p:nvPr/>
          </p:nvSpPr>
          <p:spPr>
            <a:xfrm flipH="1" flipV="1" rot="5931600">
              <a:off x="5514480" y="4701600"/>
              <a:ext cx="1174680" cy="117576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5760"/>
                <a:gd name="textAreaBottom" fmla="*/ 1003680 h 11757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6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64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77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80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83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86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9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91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2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6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15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17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23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28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0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33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9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0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41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40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45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50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57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9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55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>
                <a:gd name="textAreaLeft" fmla="*/ 167040 w 1357560"/>
                <a:gd name="textAreaRight" fmla="*/ 1190520 w 135756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9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>
                <a:gd name="textAreaLeft" fmla="*/ 210600 w 1708200"/>
                <a:gd name="textAreaRight" fmla="*/ 1497600 w 170820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63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>
                <a:gd name="textAreaLeft" fmla="*/ 264600 w 2143440"/>
                <a:gd name="textAreaRight" fmla="*/ 1878840 w 214344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67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>
                <a:gd name="textAreaLeft" fmla="*/ 331920 w 2691000"/>
                <a:gd name="textAreaRight" fmla="*/ 2359080 w 2691000"/>
                <a:gd name="textAreaTop" fmla="*/ 20160 h 163440"/>
                <a:gd name="textAreaBottom" fmla="*/ 14328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71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>
                <a:gd name="textAreaLeft" fmla="*/ 421920 w 3420000"/>
                <a:gd name="textAreaRight" fmla="*/ 2998080 w 3420000"/>
                <a:gd name="textAreaTop" fmla="*/ 15840 h 129960"/>
                <a:gd name="textAreaBottom" fmla="*/ 114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80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82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87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203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206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9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11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15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18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21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24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27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38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40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66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68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83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85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9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30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30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30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1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1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1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liang eva</cp:lastModifiedBy>
  <dcterms:modified xsi:type="dcterms:W3CDTF">2015-06-28T12:00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