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1F79-DD3D-445B-88B7-FC4EFC45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9AD8-4A00-49B9-A5D6-C5DE1082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369A-F847-4536-9AA6-3624EE99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1E9A-3A72-4291-BB71-789B665E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3BC5-D52C-42AF-AB52-A9B5AFE9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44FC-38C8-4377-A86C-8360970D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CFD0-F0F0-4B8D-9068-4C889B34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D6A1-0E0E-4146-918E-DB854D9C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04F1-94FE-4D03-ABC6-6DDDC635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1556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09D7-130D-41A1-B3A5-A03477C2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9045-EB51-4830-8AD0-03532C4B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FD81-D546-4C4A-A590-B4261AA6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42F2-17AB-4852-B38D-44F3F802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0F64-17FF-4B69-BE79-D282DCAD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E8EB-A70A-485B-9CC9-5578F529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D404-9B15-4E79-A75F-F26D6128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0888-1931-40EA-ADB1-25EF31BE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4F52-7251-4F9F-82B8-DF6C6CF6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D126-1B20-4EC5-AE24-E0D1396C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28FF-CD3C-4923-91AC-13D56D24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1556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390C-B292-49BC-BB5E-863E76BA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D6FC-39B1-4BAF-B829-9425F094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8563-D385-4063-BE58-E1FCB647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6BCC-CA76-4ED9-92A4-7B3E6D62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980A-7DFB-473D-8E4C-9A7490510D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1B90-871B-4D58-B49C-412793F909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2" descr="未标题-1副本"/>
          <p:cNvPicPr/>
          <p:nvPr/>
        </p:nvPicPr>
        <p:blipFill>
          <a:blip r:embed="rId1"/>
          <a:srcRect l="33481" t="0" r="27786" b="0"/>
          <a:stretch/>
        </p:blipFill>
        <p:spPr>
          <a:xfrm>
            <a:off x="2705040" y="736560"/>
            <a:ext cx="2924280" cy="53625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3"/>
          <p:cNvSpPr/>
          <p:nvPr/>
        </p:nvSpPr>
        <p:spPr>
          <a:xfrm rot="5400000">
            <a:off x="4830840" y="2703240"/>
            <a:ext cx="538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6662880" y="612720"/>
            <a:ext cx="43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微软雅黑"/>
              </a:rPr>
              <a:t>广告有限公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27"/>
          <p:cNvGrpSpPr/>
          <p:nvPr/>
        </p:nvGrpSpPr>
        <p:grpSpPr>
          <a:xfrm>
            <a:off x="5495760" y="3098880"/>
            <a:ext cx="2598480" cy="2522520"/>
            <a:chOff x="5495760" y="3098880"/>
            <a:chExt cx="2598480" cy="2522520"/>
          </a:xfrm>
        </p:grpSpPr>
        <p:sp>
          <p:nvSpPr>
            <p:cNvPr id="111" name="Freeform 28"/>
            <p:cNvSpPr/>
            <p:nvPr/>
          </p:nvSpPr>
          <p:spPr>
            <a:xfrm>
              <a:off x="5653080" y="3098880"/>
              <a:ext cx="1352160" cy="111924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5555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9"/>
            <p:cNvSpPr/>
            <p:nvPr/>
          </p:nvSpPr>
          <p:spPr>
            <a:xfrm>
              <a:off x="6557760" y="4497840"/>
              <a:ext cx="1322640" cy="112356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ff8465"/>
                </a:gs>
                <a:gs pos="100000">
                  <a:srgbClr val="ff3300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0"/>
            <p:cNvSpPr/>
            <p:nvPr/>
          </p:nvSpPr>
          <p:spPr>
            <a:xfrm>
              <a:off x="5495760" y="4089600"/>
              <a:ext cx="1190520" cy="133524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c78e8e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1"/>
            <p:cNvSpPr/>
            <p:nvPr/>
          </p:nvSpPr>
          <p:spPr>
            <a:xfrm>
              <a:off x="6886080" y="3274920"/>
              <a:ext cx="1208160" cy="132444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dd5555"/>
                </a:gs>
                <a:gs pos="100000">
                  <a:srgbClr val="cc0000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1785960" y="16635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32"/>
          <p:cNvGrpSpPr/>
          <p:nvPr/>
        </p:nvGrpSpPr>
        <p:grpSpPr>
          <a:xfrm>
            <a:off x="2000160" y="1571760"/>
            <a:ext cx="660600" cy="656640"/>
            <a:chOff x="2000160" y="1571760"/>
            <a:chExt cx="660600" cy="656640"/>
          </a:xfrm>
        </p:grpSpPr>
        <p:grpSp>
          <p:nvGrpSpPr>
            <p:cNvPr id="118" name="Group 34"/>
            <p:cNvGrpSpPr/>
            <p:nvPr/>
          </p:nvGrpSpPr>
          <p:grpSpPr>
            <a:xfrm>
              <a:off x="2000160" y="1571760"/>
              <a:ext cx="660600" cy="656640"/>
              <a:chOff x="2000160" y="1571760"/>
              <a:chExt cx="660600" cy="656640"/>
            </a:xfrm>
          </p:grpSpPr>
          <p:sp>
            <p:nvSpPr>
              <p:cNvPr id="119" name="Oval 35"/>
              <p:cNvSpPr/>
              <p:nvPr/>
            </p:nvSpPr>
            <p:spPr>
              <a:xfrm>
                <a:off x="2000160" y="1574640"/>
                <a:ext cx="660600" cy="65376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Picture 36" descr="cir_lighteffect0"/>
              <p:cNvPicPr/>
              <p:nvPr/>
            </p:nvPicPr>
            <p:blipFill>
              <a:blip r:embed="rId1"/>
              <a:stretch/>
            </p:blipFill>
            <p:spPr>
              <a:xfrm>
                <a:off x="2055960" y="15717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Text Box 40"/>
            <p:cNvSpPr/>
            <p:nvPr/>
          </p:nvSpPr>
          <p:spPr>
            <a:xfrm>
              <a:off x="2049120" y="16700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31"/>
          <p:cNvSpPr/>
          <p:nvPr/>
        </p:nvSpPr>
        <p:spPr>
          <a:xfrm>
            <a:off x="2714760" y="1746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1785960" y="25099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34"/>
          <p:cNvGrpSpPr/>
          <p:nvPr/>
        </p:nvGrpSpPr>
        <p:grpSpPr>
          <a:xfrm>
            <a:off x="2000160" y="2419200"/>
            <a:ext cx="660600" cy="657360"/>
            <a:chOff x="2000160" y="2419200"/>
            <a:chExt cx="660600" cy="657360"/>
          </a:xfrm>
        </p:grpSpPr>
        <p:grpSp>
          <p:nvGrpSpPr>
            <p:cNvPr id="125" name="Group 34"/>
            <p:cNvGrpSpPr/>
            <p:nvPr/>
          </p:nvGrpSpPr>
          <p:grpSpPr>
            <a:xfrm>
              <a:off x="2000160" y="2419200"/>
              <a:ext cx="660600" cy="657360"/>
              <a:chOff x="2000160" y="2419200"/>
              <a:chExt cx="660600" cy="657360"/>
            </a:xfrm>
          </p:grpSpPr>
          <p:sp>
            <p:nvSpPr>
              <p:cNvPr id="126" name="Oval 35"/>
              <p:cNvSpPr/>
              <p:nvPr/>
            </p:nvSpPr>
            <p:spPr>
              <a:xfrm>
                <a:off x="2000160" y="2422440"/>
                <a:ext cx="660600" cy="654120"/>
              </a:xfrm>
              <a:prstGeom prst="ellipse">
                <a:avLst/>
              </a:prstGeom>
              <a:solidFill>
                <a:srgbClr val="cc00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" name="Picture 36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2055960" y="24192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8" name="Text Box 40"/>
            <p:cNvSpPr/>
            <p:nvPr/>
          </p:nvSpPr>
          <p:spPr>
            <a:xfrm>
              <a:off x="2049120" y="2517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Box 39"/>
          <p:cNvSpPr/>
          <p:nvPr/>
        </p:nvSpPr>
        <p:spPr>
          <a:xfrm>
            <a:off x="2714760" y="2592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1785960" y="33577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41"/>
          <p:cNvGrpSpPr/>
          <p:nvPr/>
        </p:nvGrpSpPr>
        <p:grpSpPr>
          <a:xfrm>
            <a:off x="2000160" y="3265560"/>
            <a:ext cx="660600" cy="656640"/>
            <a:chOff x="2000160" y="3265560"/>
            <a:chExt cx="660600" cy="656640"/>
          </a:xfrm>
        </p:grpSpPr>
        <p:grpSp>
          <p:nvGrpSpPr>
            <p:cNvPr id="132" name="Group 34"/>
            <p:cNvGrpSpPr/>
            <p:nvPr/>
          </p:nvGrpSpPr>
          <p:grpSpPr>
            <a:xfrm>
              <a:off x="2000160" y="3265560"/>
              <a:ext cx="660600" cy="656640"/>
              <a:chOff x="2000160" y="3265560"/>
              <a:chExt cx="660600" cy="656640"/>
            </a:xfrm>
          </p:grpSpPr>
          <p:sp>
            <p:nvSpPr>
              <p:cNvPr id="133" name="Oval 35"/>
              <p:cNvSpPr/>
              <p:nvPr/>
            </p:nvSpPr>
            <p:spPr>
              <a:xfrm>
                <a:off x="2000160" y="3268440"/>
                <a:ext cx="660600" cy="65376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4" name="Picture 36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2055960" y="32655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5" name="Text Box 40"/>
            <p:cNvSpPr/>
            <p:nvPr/>
          </p:nvSpPr>
          <p:spPr>
            <a:xfrm>
              <a:off x="2049120" y="33638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Box 46"/>
          <p:cNvSpPr/>
          <p:nvPr/>
        </p:nvSpPr>
        <p:spPr>
          <a:xfrm>
            <a:off x="2714760" y="34401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1785960" y="42051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48"/>
          <p:cNvGrpSpPr/>
          <p:nvPr/>
        </p:nvGrpSpPr>
        <p:grpSpPr>
          <a:xfrm>
            <a:off x="2000160" y="4113360"/>
            <a:ext cx="660600" cy="656640"/>
            <a:chOff x="2000160" y="4113360"/>
            <a:chExt cx="660600" cy="656640"/>
          </a:xfrm>
        </p:grpSpPr>
        <p:grpSp>
          <p:nvGrpSpPr>
            <p:cNvPr id="139" name="Group 34"/>
            <p:cNvGrpSpPr/>
            <p:nvPr/>
          </p:nvGrpSpPr>
          <p:grpSpPr>
            <a:xfrm>
              <a:off x="2000160" y="4113360"/>
              <a:ext cx="660600" cy="656640"/>
              <a:chOff x="2000160" y="4113360"/>
              <a:chExt cx="660600" cy="656640"/>
            </a:xfrm>
          </p:grpSpPr>
          <p:sp>
            <p:nvSpPr>
              <p:cNvPr id="140" name="Oval 35"/>
              <p:cNvSpPr/>
              <p:nvPr/>
            </p:nvSpPr>
            <p:spPr>
              <a:xfrm>
                <a:off x="2000160" y="4116240"/>
                <a:ext cx="660600" cy="653760"/>
              </a:xfrm>
              <a:prstGeom prst="ellipse">
                <a:avLst/>
              </a:prstGeom>
              <a:solidFill>
                <a:srgbClr val="8000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1" name="Picture 36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2055960" y="41133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2" name="Text Box 40"/>
            <p:cNvSpPr/>
            <p:nvPr/>
          </p:nvSpPr>
          <p:spPr>
            <a:xfrm>
              <a:off x="2049120" y="42116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Box 53"/>
          <p:cNvSpPr/>
          <p:nvPr/>
        </p:nvSpPr>
        <p:spPr>
          <a:xfrm>
            <a:off x="2714760" y="42879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1785960" y="50515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55"/>
          <p:cNvGrpSpPr/>
          <p:nvPr/>
        </p:nvGrpSpPr>
        <p:grpSpPr>
          <a:xfrm>
            <a:off x="2000160" y="4960800"/>
            <a:ext cx="660600" cy="657360"/>
            <a:chOff x="2000160" y="4960800"/>
            <a:chExt cx="660600" cy="657360"/>
          </a:xfrm>
        </p:grpSpPr>
        <p:grpSp>
          <p:nvGrpSpPr>
            <p:cNvPr id="146" name="Group 34"/>
            <p:cNvGrpSpPr/>
            <p:nvPr/>
          </p:nvGrpSpPr>
          <p:grpSpPr>
            <a:xfrm>
              <a:off x="2000160" y="4960800"/>
              <a:ext cx="660600" cy="657360"/>
              <a:chOff x="2000160" y="4960800"/>
              <a:chExt cx="660600" cy="657360"/>
            </a:xfrm>
          </p:grpSpPr>
          <p:sp>
            <p:nvSpPr>
              <p:cNvPr id="147" name="Oval 35"/>
              <p:cNvSpPr/>
              <p:nvPr/>
            </p:nvSpPr>
            <p:spPr>
              <a:xfrm>
                <a:off x="2000160" y="4964040"/>
                <a:ext cx="660600" cy="654120"/>
              </a:xfrm>
              <a:prstGeom prst="ellipse">
                <a:avLst/>
              </a:prstGeom>
              <a:solidFill>
                <a:srgbClr val="ff9933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8" name="Picture 36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2055960" y="49608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9" name="Text Box 40"/>
            <p:cNvSpPr/>
            <p:nvPr/>
          </p:nvSpPr>
          <p:spPr>
            <a:xfrm>
              <a:off x="2049120" y="50590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Box 60"/>
          <p:cNvSpPr/>
          <p:nvPr/>
        </p:nvSpPr>
        <p:spPr>
          <a:xfrm>
            <a:off x="2714760" y="513540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Group 2"/>
          <p:cNvGrpSpPr/>
          <p:nvPr/>
        </p:nvGrpSpPr>
        <p:grpSpPr>
          <a:xfrm>
            <a:off x="2119320" y="1877760"/>
            <a:ext cx="5045400" cy="1544400"/>
            <a:chOff x="2119320" y="1877760"/>
            <a:chExt cx="5045400" cy="1544400"/>
          </a:xfrm>
        </p:grpSpPr>
        <p:cxnSp>
          <p:nvCxnSpPr>
            <p:cNvPr id="153" name="AutoShape 4"/>
            <p:cNvCxnSpPr/>
            <p:nvPr/>
          </p:nvCxnSpPr>
          <p:spPr>
            <a:xfrm>
              <a:off x="4619160" y="2888640"/>
              <a:ext cx="1080" cy="533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4" name="AutoShape 5"/>
            <p:cNvCxnSpPr>
              <a:stCxn id="155" idx="0"/>
            </p:cNvCxnSpPr>
            <p:nvPr/>
          </p:nvCxnSpPr>
          <p:spPr>
            <a:xfrm flipH="1" flipV="1" rot="5400000">
              <a:off x="4640760" y="873360"/>
              <a:ext cx="2160" cy="504576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6" name="AutoShape 4"/>
            <p:cNvCxnSpPr/>
            <p:nvPr/>
          </p:nvCxnSpPr>
          <p:spPr>
            <a:xfrm>
              <a:off x="4619160" y="1877760"/>
              <a:ext cx="1080" cy="533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57" name="Rectangle 7"/>
          <p:cNvSpPr/>
          <p:nvPr/>
        </p:nvSpPr>
        <p:spPr>
          <a:xfrm>
            <a:off x="720720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60436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9"/>
          <p:cNvGrpSpPr/>
          <p:nvPr/>
        </p:nvGrpSpPr>
        <p:grpSpPr>
          <a:xfrm>
            <a:off x="981000" y="3359160"/>
            <a:ext cx="2273400" cy="536040"/>
            <a:chOff x="981000" y="3359160"/>
            <a:chExt cx="2273400" cy="536040"/>
          </a:xfrm>
        </p:grpSpPr>
        <p:sp>
          <p:nvSpPr>
            <p:cNvPr id="155" name="AutoShape 10"/>
            <p:cNvSpPr/>
            <p:nvPr/>
          </p:nvSpPr>
          <p:spPr>
            <a:xfrm>
              <a:off x="9810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1"/>
            <p:cNvSpPr/>
            <p:nvPr/>
          </p:nvSpPr>
          <p:spPr>
            <a:xfrm>
              <a:off x="10162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18"/>
          <p:cNvSpPr/>
          <p:nvPr/>
        </p:nvSpPr>
        <p:spPr>
          <a:xfrm>
            <a:off x="10000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216360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10080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9000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2058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5"/>
          <p:cNvSpPr/>
          <p:nvPr/>
        </p:nvSpPr>
        <p:spPr>
          <a:xfrm>
            <a:off x="351792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6"/>
          <p:cNvSpPr/>
          <p:nvPr/>
        </p:nvSpPr>
        <p:spPr>
          <a:xfrm>
            <a:off x="468144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7"/>
          <p:cNvSpPr/>
          <p:nvPr/>
        </p:nvSpPr>
        <p:spPr>
          <a:xfrm>
            <a:off x="3417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8"/>
          <p:cNvSpPr/>
          <p:nvPr/>
        </p:nvSpPr>
        <p:spPr>
          <a:xfrm>
            <a:off x="457668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9"/>
          <p:cNvSpPr/>
          <p:nvPr/>
        </p:nvSpPr>
        <p:spPr>
          <a:xfrm>
            <a:off x="59436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0"/>
          <p:cNvSpPr/>
          <p:nvPr/>
        </p:nvSpPr>
        <p:spPr>
          <a:xfrm>
            <a:off x="71024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1"/>
          <p:cNvGrpSpPr/>
          <p:nvPr/>
        </p:nvGrpSpPr>
        <p:grpSpPr>
          <a:xfrm>
            <a:off x="3497400" y="2357280"/>
            <a:ext cx="2273040" cy="536400"/>
            <a:chOff x="3497400" y="2357280"/>
            <a:chExt cx="2273040" cy="536400"/>
          </a:xfrm>
        </p:grpSpPr>
        <p:sp>
          <p:nvSpPr>
            <p:cNvPr id="173" name="AutoShape 32"/>
            <p:cNvSpPr/>
            <p:nvPr/>
          </p:nvSpPr>
          <p:spPr>
            <a:xfrm>
              <a:off x="3497400" y="2357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33"/>
            <p:cNvSpPr/>
            <p:nvPr/>
          </p:nvSpPr>
          <p:spPr>
            <a:xfrm>
              <a:off x="3532680" y="2389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4901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34"/>
          <p:cNvSpPr/>
          <p:nvPr/>
        </p:nvSpPr>
        <p:spPr>
          <a:xfrm>
            <a:off x="3533760" y="243828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5"/>
          <p:cNvGrpSpPr/>
          <p:nvPr/>
        </p:nvGrpSpPr>
        <p:grpSpPr>
          <a:xfrm>
            <a:off x="3497400" y="1484280"/>
            <a:ext cx="2273040" cy="536400"/>
            <a:chOff x="3497400" y="1484280"/>
            <a:chExt cx="2273040" cy="536400"/>
          </a:xfrm>
        </p:grpSpPr>
        <p:sp>
          <p:nvSpPr>
            <p:cNvPr id="177" name="AutoShape 36"/>
            <p:cNvSpPr/>
            <p:nvPr/>
          </p:nvSpPr>
          <p:spPr>
            <a:xfrm>
              <a:off x="3497400" y="1484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37"/>
            <p:cNvSpPr/>
            <p:nvPr/>
          </p:nvSpPr>
          <p:spPr>
            <a:xfrm>
              <a:off x="3532680" y="1516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993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38"/>
          <p:cNvSpPr/>
          <p:nvPr/>
        </p:nvSpPr>
        <p:spPr>
          <a:xfrm>
            <a:off x="3533760" y="159552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3516480" y="3359160"/>
            <a:ext cx="2273040" cy="536040"/>
            <a:chOff x="3516480" y="3359160"/>
            <a:chExt cx="2273040" cy="536040"/>
          </a:xfrm>
        </p:grpSpPr>
        <p:sp>
          <p:nvSpPr>
            <p:cNvPr id="181" name="AutoShape 10"/>
            <p:cNvSpPr/>
            <p:nvPr/>
          </p:nvSpPr>
          <p:spPr>
            <a:xfrm>
              <a:off x="3516480" y="335916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3551760" y="339156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21"/>
          <p:cNvSpPr/>
          <p:nvPr/>
        </p:nvSpPr>
        <p:spPr>
          <a:xfrm>
            <a:off x="3543480" y="344016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9"/>
          <p:cNvGrpSpPr/>
          <p:nvPr/>
        </p:nvGrpSpPr>
        <p:grpSpPr>
          <a:xfrm>
            <a:off x="6022800" y="3359160"/>
            <a:ext cx="2273400" cy="536040"/>
            <a:chOff x="6022800" y="3359160"/>
            <a:chExt cx="2273400" cy="536040"/>
          </a:xfrm>
        </p:grpSpPr>
        <p:sp>
          <p:nvSpPr>
            <p:cNvPr id="185" name="AutoShape 10"/>
            <p:cNvSpPr/>
            <p:nvPr/>
          </p:nvSpPr>
          <p:spPr>
            <a:xfrm>
              <a:off x="60228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60580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21"/>
          <p:cNvSpPr/>
          <p:nvPr/>
        </p:nvSpPr>
        <p:spPr>
          <a:xfrm>
            <a:off x="60498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圆柱形 13"/>
          <p:cNvSpPr/>
          <p:nvPr/>
        </p:nvSpPr>
        <p:spPr>
          <a:xfrm>
            <a:off x="103824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eaeaea"/>
              </a:gs>
              <a:gs pos="100000">
                <a:srgbClr val="f8f8f8"/>
              </a:gs>
            </a:gsLst>
            <a:lin ang="10800000"/>
          </a:gradFill>
          <a:ln w="1908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1214280" y="3921120"/>
            <a:ext cx="214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柱形 21"/>
          <p:cNvSpPr/>
          <p:nvPr/>
        </p:nvSpPr>
        <p:spPr>
          <a:xfrm>
            <a:off x="346716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eaeaea"/>
              </a:gs>
              <a:gs pos="100000">
                <a:srgbClr val="f8f8f8"/>
              </a:gs>
            </a:gsLst>
            <a:lin ang="10800000"/>
          </a:gradFill>
          <a:ln w="1908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364320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柱形 26"/>
          <p:cNvSpPr/>
          <p:nvPr/>
        </p:nvSpPr>
        <p:spPr>
          <a:xfrm>
            <a:off x="589608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eaeaea"/>
              </a:gs>
              <a:gs pos="100000">
                <a:srgbClr val="f8f8f8"/>
              </a:gs>
            </a:gsLst>
            <a:lin ang="10800000"/>
          </a:gradFill>
          <a:ln w="1908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607212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Group 9"/>
          <p:cNvGrpSpPr/>
          <p:nvPr/>
        </p:nvGrpSpPr>
        <p:grpSpPr>
          <a:xfrm>
            <a:off x="1495440" y="2425680"/>
            <a:ext cx="1258920" cy="1079640"/>
            <a:chOff x="1495440" y="2425680"/>
            <a:chExt cx="1258920" cy="1079640"/>
          </a:xfrm>
        </p:grpSpPr>
        <p:sp>
          <p:nvSpPr>
            <p:cNvPr id="196" name="AutoShape 17"/>
            <p:cNvSpPr/>
            <p:nvPr/>
          </p:nvSpPr>
          <p:spPr>
            <a:xfrm>
              <a:off x="1495440" y="2425680"/>
              <a:ext cx="1258920" cy="1079640"/>
            </a:xfrm>
            <a:custGeom>
              <a:avLst/>
              <a:gdLst>
                <a:gd name="textAreaLeft" fmla="*/ 0 w 1258920"/>
                <a:gd name="textAreaRight" fmla="*/ 1259280 w 1258920"/>
                <a:gd name="textAreaTop" fmla="*/ 54000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8"/>
            <p:cNvSpPr/>
            <p:nvPr/>
          </p:nvSpPr>
          <p:spPr>
            <a:xfrm>
              <a:off x="14954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8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" name="图片 27" descr="无标题666.bmp"/>
          <p:cNvPicPr/>
          <p:nvPr/>
        </p:nvPicPr>
        <p:blipFill>
          <a:blip r:embed="rId1"/>
          <a:srcRect l="0" t="44931" r="84512" b="21700"/>
          <a:stretch/>
        </p:blipFill>
        <p:spPr>
          <a:xfrm>
            <a:off x="1768320" y="1652760"/>
            <a:ext cx="642960" cy="152064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13"/>
          <p:cNvGrpSpPr/>
          <p:nvPr/>
        </p:nvGrpSpPr>
        <p:grpSpPr>
          <a:xfrm>
            <a:off x="6348240" y="2425680"/>
            <a:ext cx="1258920" cy="1079640"/>
            <a:chOff x="6348240" y="2425680"/>
            <a:chExt cx="1258920" cy="1079640"/>
          </a:xfrm>
        </p:grpSpPr>
        <p:sp>
          <p:nvSpPr>
            <p:cNvPr id="200" name="AutoShape 3"/>
            <p:cNvSpPr/>
            <p:nvPr/>
          </p:nvSpPr>
          <p:spPr>
            <a:xfrm>
              <a:off x="6348240" y="2425680"/>
              <a:ext cx="1258920" cy="107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4"/>
            <p:cNvSpPr/>
            <p:nvPr/>
          </p:nvSpPr>
          <p:spPr>
            <a:xfrm>
              <a:off x="63482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8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6"/>
          <p:cNvGrpSpPr/>
          <p:nvPr/>
        </p:nvGrpSpPr>
        <p:grpSpPr>
          <a:xfrm>
            <a:off x="3890880" y="2425680"/>
            <a:ext cx="1260720" cy="1079640"/>
            <a:chOff x="3890880" y="2425680"/>
            <a:chExt cx="1260720" cy="1079640"/>
          </a:xfrm>
        </p:grpSpPr>
        <p:sp>
          <p:nvSpPr>
            <p:cNvPr id="203" name="AutoShape 10"/>
            <p:cNvSpPr/>
            <p:nvPr/>
          </p:nvSpPr>
          <p:spPr>
            <a:xfrm>
              <a:off x="3890880" y="2425680"/>
              <a:ext cx="1260720" cy="107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1"/>
            <p:cNvSpPr/>
            <p:nvPr/>
          </p:nvSpPr>
          <p:spPr>
            <a:xfrm>
              <a:off x="3890880" y="2860560"/>
              <a:ext cx="1260720" cy="2286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8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图片 27" descr="无标题666.bmp"/>
          <p:cNvPicPr/>
          <p:nvPr/>
        </p:nvPicPr>
        <p:blipFill>
          <a:blip r:embed="rId2"/>
          <a:srcRect l="15494" t="44931" r="63059" b="21700"/>
          <a:stretch/>
        </p:blipFill>
        <p:spPr>
          <a:xfrm>
            <a:off x="4095720" y="1521000"/>
            <a:ext cx="890640" cy="152064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27" descr="无标题666.bmp"/>
          <p:cNvPicPr/>
          <p:nvPr/>
        </p:nvPicPr>
        <p:blipFill>
          <a:blip r:embed="rId3"/>
          <a:srcRect l="68428" t="44931" r="-1122" b="21700"/>
          <a:stretch/>
        </p:blipFill>
        <p:spPr>
          <a:xfrm>
            <a:off x="6381720" y="1616040"/>
            <a:ext cx="135720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圆角矩形 57"/>
          <p:cNvSpPr/>
          <p:nvPr/>
        </p:nvSpPr>
        <p:spPr>
          <a:xfrm>
            <a:off x="930240" y="2071800"/>
            <a:ext cx="6999480" cy="3143160"/>
          </a:xfrm>
          <a:prstGeom prst="roundRect">
            <a:avLst>
              <a:gd name="adj" fmla="val 9074"/>
            </a:avLst>
          </a:prstGeom>
          <a:noFill/>
          <a:ln w="19080">
            <a:solidFill>
              <a:srgbClr val="dcdcd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58"/>
          <p:cNvGrpSpPr/>
          <p:nvPr/>
        </p:nvGrpSpPr>
        <p:grpSpPr>
          <a:xfrm>
            <a:off x="1233360" y="2500200"/>
            <a:ext cx="2887920" cy="928800"/>
            <a:chOff x="1233360" y="2500200"/>
            <a:chExt cx="2887920" cy="928800"/>
          </a:xfrm>
        </p:grpSpPr>
        <p:sp>
          <p:nvSpPr>
            <p:cNvPr id="210" name="AutoShape 54"/>
            <p:cNvSpPr/>
            <p:nvPr/>
          </p:nvSpPr>
          <p:spPr>
            <a:xfrm>
              <a:off x="1233360" y="250020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5"/>
            <p:cNvSpPr/>
            <p:nvPr/>
          </p:nvSpPr>
          <p:spPr>
            <a:xfrm>
              <a:off x="1504080" y="2632680"/>
              <a:ext cx="243684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61"/>
          <p:cNvGrpSpPr/>
          <p:nvPr/>
        </p:nvGrpSpPr>
        <p:grpSpPr>
          <a:xfrm>
            <a:off x="4795920" y="2500200"/>
            <a:ext cx="2887560" cy="928800"/>
            <a:chOff x="4795920" y="2500200"/>
            <a:chExt cx="2887560" cy="928800"/>
          </a:xfrm>
        </p:grpSpPr>
        <p:sp>
          <p:nvSpPr>
            <p:cNvPr id="213" name="AutoShape 54"/>
            <p:cNvSpPr/>
            <p:nvPr/>
          </p:nvSpPr>
          <p:spPr>
            <a:xfrm>
              <a:off x="4795920" y="2500200"/>
              <a:ext cx="288756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5"/>
            <p:cNvSpPr/>
            <p:nvPr/>
          </p:nvSpPr>
          <p:spPr>
            <a:xfrm>
              <a:off x="5066640" y="2632680"/>
              <a:ext cx="243648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64"/>
          <p:cNvGrpSpPr/>
          <p:nvPr/>
        </p:nvGrpSpPr>
        <p:grpSpPr>
          <a:xfrm>
            <a:off x="1233360" y="3786120"/>
            <a:ext cx="2887920" cy="928800"/>
            <a:chOff x="1233360" y="3786120"/>
            <a:chExt cx="2887920" cy="928800"/>
          </a:xfrm>
        </p:grpSpPr>
        <p:sp>
          <p:nvSpPr>
            <p:cNvPr id="216" name="AutoShape 54"/>
            <p:cNvSpPr/>
            <p:nvPr/>
          </p:nvSpPr>
          <p:spPr>
            <a:xfrm>
              <a:off x="123336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5"/>
            <p:cNvSpPr/>
            <p:nvPr/>
          </p:nvSpPr>
          <p:spPr>
            <a:xfrm>
              <a:off x="1504080" y="3918600"/>
              <a:ext cx="243684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67"/>
          <p:cNvGrpSpPr/>
          <p:nvPr/>
        </p:nvGrpSpPr>
        <p:grpSpPr>
          <a:xfrm>
            <a:off x="4805280" y="3786120"/>
            <a:ext cx="2887920" cy="928800"/>
            <a:chOff x="4805280" y="3786120"/>
            <a:chExt cx="2887920" cy="928800"/>
          </a:xfrm>
        </p:grpSpPr>
        <p:sp>
          <p:nvSpPr>
            <p:cNvPr id="219" name="AutoShape 54"/>
            <p:cNvSpPr/>
            <p:nvPr/>
          </p:nvSpPr>
          <p:spPr>
            <a:xfrm>
              <a:off x="480528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5"/>
            <p:cNvSpPr/>
            <p:nvPr/>
          </p:nvSpPr>
          <p:spPr>
            <a:xfrm>
              <a:off x="5076000" y="3918600"/>
              <a:ext cx="243684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6"/>
          <p:cNvGrpSpPr/>
          <p:nvPr/>
        </p:nvGrpSpPr>
        <p:grpSpPr>
          <a:xfrm>
            <a:off x="3419640" y="1790640"/>
            <a:ext cx="1936440" cy="523800"/>
            <a:chOff x="3419640" y="1790640"/>
            <a:chExt cx="1936440" cy="523800"/>
          </a:xfrm>
        </p:grpSpPr>
        <p:grpSp>
          <p:nvGrpSpPr>
            <p:cNvPr id="222" name="Group 15"/>
            <p:cNvGrpSpPr/>
            <p:nvPr/>
          </p:nvGrpSpPr>
          <p:grpSpPr>
            <a:xfrm>
              <a:off x="3419640" y="1790640"/>
              <a:ext cx="1936440" cy="523800"/>
              <a:chOff x="3419640" y="1790640"/>
              <a:chExt cx="1936440" cy="523800"/>
            </a:xfrm>
          </p:grpSpPr>
          <p:sp>
            <p:nvSpPr>
              <p:cNvPr id="223" name="AutoShape 16"/>
              <p:cNvSpPr/>
              <p:nvPr/>
            </p:nvSpPr>
            <p:spPr>
              <a:xfrm>
                <a:off x="3419640" y="179064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cc0000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AutoShape 17"/>
              <p:cNvSpPr/>
              <p:nvPr/>
            </p:nvSpPr>
            <p:spPr>
              <a:xfrm>
                <a:off x="3449520" y="182232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Rectangle 18"/>
            <p:cNvSpPr/>
            <p:nvPr/>
          </p:nvSpPr>
          <p:spPr>
            <a:xfrm>
              <a:off x="3458880" y="1841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1"/>
          <p:cNvGrpSpPr/>
          <p:nvPr/>
        </p:nvGrpSpPr>
        <p:grpSpPr>
          <a:xfrm>
            <a:off x="3419640" y="4921200"/>
            <a:ext cx="1936440" cy="523800"/>
            <a:chOff x="3419640" y="4921200"/>
            <a:chExt cx="1936440" cy="523800"/>
          </a:xfrm>
        </p:grpSpPr>
        <p:grpSp>
          <p:nvGrpSpPr>
            <p:cNvPr id="227" name="Group 15"/>
            <p:cNvGrpSpPr/>
            <p:nvPr/>
          </p:nvGrpSpPr>
          <p:grpSpPr>
            <a:xfrm>
              <a:off x="3419640" y="4921200"/>
              <a:ext cx="1936440" cy="523800"/>
              <a:chOff x="3419640" y="4921200"/>
              <a:chExt cx="1936440" cy="523800"/>
            </a:xfrm>
          </p:grpSpPr>
          <p:sp>
            <p:nvSpPr>
              <p:cNvPr id="228" name="AutoShape 16"/>
              <p:cNvSpPr/>
              <p:nvPr/>
            </p:nvSpPr>
            <p:spPr>
              <a:xfrm>
                <a:off x="3419640" y="492120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cc0000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AutoShape 17"/>
              <p:cNvSpPr/>
              <p:nvPr/>
            </p:nvSpPr>
            <p:spPr>
              <a:xfrm>
                <a:off x="3449520" y="495288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Rectangle 18"/>
            <p:cNvSpPr/>
            <p:nvPr/>
          </p:nvSpPr>
          <p:spPr>
            <a:xfrm>
              <a:off x="3458880" y="497196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AutoShape 12"/>
          <p:cNvSpPr/>
          <p:nvPr/>
        </p:nvSpPr>
        <p:spPr>
          <a:xfrm>
            <a:off x="519120" y="2863800"/>
            <a:ext cx="2995560" cy="1254240"/>
          </a:xfrm>
          <a:prstGeom prst="roundRect">
            <a:avLst>
              <a:gd name="adj" fmla="val 6343"/>
            </a:avLst>
          </a:prstGeom>
          <a:solidFill>
            <a:srgbClr val="dcdcdc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600120" y="3032280"/>
            <a:ext cx="23288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2"/>
          <p:cNvSpPr/>
          <p:nvPr/>
        </p:nvSpPr>
        <p:spPr>
          <a:xfrm>
            <a:off x="5467320" y="4430880"/>
            <a:ext cx="3119400" cy="1198440"/>
          </a:xfrm>
          <a:prstGeom prst="roundRect">
            <a:avLst>
              <a:gd name="adj" fmla="val 4750"/>
            </a:avLst>
          </a:prstGeom>
          <a:solidFill>
            <a:srgbClr val="dcdcdc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6054840" y="4618080"/>
            <a:ext cx="2446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2"/>
          <p:cNvSpPr/>
          <p:nvPr/>
        </p:nvSpPr>
        <p:spPr>
          <a:xfrm>
            <a:off x="5057640" y="1784520"/>
            <a:ext cx="3567240" cy="1096920"/>
          </a:xfrm>
          <a:prstGeom prst="roundRect">
            <a:avLst>
              <a:gd name="adj" fmla="val 6343"/>
            </a:avLst>
          </a:prstGeom>
          <a:solidFill>
            <a:srgbClr val="dcdcdc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5673600" y="1889280"/>
            <a:ext cx="284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 3" descr=""/>
          <p:cNvPicPr/>
          <p:nvPr/>
        </p:nvPicPr>
        <p:blipFill>
          <a:blip r:embed="rId1"/>
          <a:stretch/>
        </p:blipFill>
        <p:spPr>
          <a:xfrm>
            <a:off x="3773520" y="3833640"/>
            <a:ext cx="2316240" cy="2281320"/>
          </a:xfrm>
          <a:prstGeom prst="rect">
            <a:avLst/>
          </a:prstGeom>
          <a:ln w="0">
            <a:noFill/>
          </a:ln>
        </p:spPr>
      </p:pic>
      <p:pic>
        <p:nvPicPr>
          <p:cNvPr id="239" name=" 3" descr=""/>
          <p:cNvPicPr/>
          <p:nvPr/>
        </p:nvPicPr>
        <p:blipFill>
          <a:blip r:embed="rId2"/>
          <a:stretch/>
        </p:blipFill>
        <p:spPr>
          <a:xfrm>
            <a:off x="2779560" y="2548080"/>
            <a:ext cx="1908360" cy="1877760"/>
          </a:xfrm>
          <a:prstGeom prst="rect">
            <a:avLst/>
          </a:prstGeom>
          <a:ln w="0">
            <a:noFill/>
          </a:ln>
        </p:spPr>
      </p:pic>
      <p:pic>
        <p:nvPicPr>
          <p:cNvPr id="240" name=" 3" descr=""/>
          <p:cNvPicPr/>
          <p:nvPr/>
        </p:nvPicPr>
        <p:blipFill>
          <a:blip r:embed="rId3"/>
          <a:stretch/>
        </p:blipFill>
        <p:spPr>
          <a:xfrm>
            <a:off x="3968640" y="1474920"/>
            <a:ext cx="1657440" cy="163332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533520" y="1143000"/>
            <a:ext cx="796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13"/>
          <p:cNvGrpSpPr/>
          <p:nvPr/>
        </p:nvGrpSpPr>
        <p:grpSpPr>
          <a:xfrm>
            <a:off x="3133800" y="2854440"/>
            <a:ext cx="1182600" cy="1222200"/>
            <a:chOff x="3133800" y="2854440"/>
            <a:chExt cx="1182600" cy="1222200"/>
          </a:xfrm>
        </p:grpSpPr>
        <p:sp>
          <p:nvSpPr>
            <p:cNvPr id="243" name="Oval 173"/>
            <p:cNvSpPr/>
            <p:nvPr/>
          </p:nvSpPr>
          <p:spPr>
            <a:xfrm>
              <a:off x="3133800" y="2884320"/>
              <a:ext cx="1182600" cy="1192320"/>
            </a:xfrm>
            <a:prstGeom prst="ellipse">
              <a:avLst/>
            </a:prstGeom>
            <a:solidFill>
              <a:srgbClr val="cc0000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Picture 37" descr="cir_lighteffect0"/>
            <p:cNvPicPr/>
            <p:nvPr/>
          </p:nvPicPr>
          <p:blipFill>
            <a:blip r:embed="rId4"/>
            <a:stretch/>
          </p:blipFill>
          <p:spPr>
            <a:xfrm>
              <a:off x="3146400" y="2854440"/>
              <a:ext cx="1138320" cy="9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47"/>
            <p:cNvSpPr/>
            <p:nvPr/>
          </p:nvSpPr>
          <p:spPr>
            <a:xfrm>
              <a:off x="3294000" y="313704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7"/>
          <p:cNvGrpSpPr/>
          <p:nvPr/>
        </p:nvGrpSpPr>
        <p:grpSpPr>
          <a:xfrm>
            <a:off x="4192560" y="4164120"/>
            <a:ext cx="1498680" cy="1557360"/>
            <a:chOff x="4192560" y="4164120"/>
            <a:chExt cx="1498680" cy="1557360"/>
          </a:xfrm>
        </p:grpSpPr>
        <p:sp>
          <p:nvSpPr>
            <p:cNvPr id="247" name="Oval 173"/>
            <p:cNvSpPr/>
            <p:nvPr/>
          </p:nvSpPr>
          <p:spPr>
            <a:xfrm>
              <a:off x="4192560" y="4211640"/>
              <a:ext cx="1498680" cy="1509840"/>
            </a:xfrm>
            <a:prstGeom prst="ellipse">
              <a:avLst/>
            </a:prstGeom>
            <a:solidFill>
              <a:srgbClr val="ff9933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4241880" y="4164120"/>
              <a:ext cx="13968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47"/>
            <p:cNvSpPr/>
            <p:nvPr/>
          </p:nvSpPr>
          <p:spPr>
            <a:xfrm>
              <a:off x="4521240" y="463248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1"/>
          <p:cNvGrpSpPr/>
          <p:nvPr/>
        </p:nvGrpSpPr>
        <p:grpSpPr>
          <a:xfrm>
            <a:off x="4273560" y="1725480"/>
            <a:ext cx="1036800" cy="1076400"/>
            <a:chOff x="4273560" y="1725480"/>
            <a:chExt cx="1036800" cy="1076400"/>
          </a:xfrm>
        </p:grpSpPr>
        <p:sp>
          <p:nvSpPr>
            <p:cNvPr id="251" name="Oval 173"/>
            <p:cNvSpPr/>
            <p:nvPr/>
          </p:nvSpPr>
          <p:spPr>
            <a:xfrm>
              <a:off x="4273560" y="1755720"/>
              <a:ext cx="1036800" cy="104616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Picture 37" descr="cir_lighteffect0"/>
            <p:cNvPicPr/>
            <p:nvPr/>
          </p:nvPicPr>
          <p:blipFill>
            <a:blip r:embed="rId6"/>
            <a:stretch/>
          </p:blipFill>
          <p:spPr>
            <a:xfrm>
              <a:off x="4300560" y="1725480"/>
              <a:ext cx="97488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 Box 47"/>
            <p:cNvSpPr/>
            <p:nvPr/>
          </p:nvSpPr>
          <p:spPr>
            <a:xfrm>
              <a:off x="4359240" y="186696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AutoShape 3"/>
          <p:cNvSpPr/>
          <p:nvPr/>
        </p:nvSpPr>
        <p:spPr>
          <a:xfrm rot="18033600">
            <a:off x="1642680" y="1936440"/>
            <a:ext cx="5692680" cy="5629320"/>
          </a:xfrm>
          <a:custGeom>
            <a:avLst/>
            <a:gdLst>
              <a:gd name="textAreaLeft" fmla="*/ 987840 w 5692680"/>
              <a:gd name="textAreaRight" fmla="*/ 4704840 w 5692680"/>
              <a:gd name="textAreaTop" fmla="*/ 0 h 5629320"/>
              <a:gd name="textAreaBottom" fmla="*/ 2010960 h 5629320"/>
            </a:gdLst>
            <a:ahLst/>
            <a:rect l="textAreaLeft" t="textAreaTop" r="textAreaRight" b="textAreaBottom"/>
            <a:pathLst>
              <a:path w="21600" h="21600">
                <a:moveTo>
                  <a:pt x="8782" y="7264"/>
                </a:moveTo>
                <a:cubicBezTo>
                  <a:pt x="9396" y="6913"/>
                  <a:pt x="10092" y="6728"/>
                  <a:pt x="10800" y="6729"/>
                </a:cubicBezTo>
                <a:cubicBezTo>
                  <a:pt x="11507" y="6729"/>
                  <a:pt x="12203" y="6913"/>
                  <a:pt x="12817" y="7264"/>
                </a:cubicBezTo>
                <a:lnTo>
                  <a:pt x="16153" y="1420"/>
                </a:lnTo>
                <a:cubicBezTo>
                  <a:pt x="14522" y="489"/>
                  <a:pt x="12677" y="-1"/>
                  <a:pt x="10799" y="0"/>
                </a:cubicBezTo>
                <a:cubicBezTo>
                  <a:pt x="8922" y="0"/>
                  <a:pt x="7077" y="489"/>
                  <a:pt x="5446" y="1420"/>
                </a:cubicBezTo>
                <a:lnTo>
                  <a:pt x="8782" y="7264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1663560" y="1916280"/>
            <a:ext cx="5631120" cy="5692680"/>
          </a:xfrm>
          <a:custGeom>
            <a:avLst/>
            <a:gdLst>
              <a:gd name="textAreaLeft" fmla="*/ 1002240 w 5631120"/>
              <a:gd name="textAreaRight" fmla="*/ 4628880 w 5631120"/>
              <a:gd name="textAreaTop" fmla="*/ 0 h 5692680"/>
              <a:gd name="textAreaBottom" fmla="*/ 2021400 h 5692680"/>
            </a:gdLst>
            <a:ahLst/>
            <a:rect l="textAreaLeft" t="textAreaTop" r="textAreaRight" b="textAreaBottom"/>
            <a:pathLst>
              <a:path w="21600" h="21600">
                <a:moveTo>
                  <a:pt x="8810" y="7225"/>
                </a:moveTo>
                <a:cubicBezTo>
                  <a:pt x="9418" y="6886"/>
                  <a:pt x="10103" y="6708"/>
                  <a:pt x="10800" y="6709"/>
                </a:cubicBezTo>
                <a:cubicBezTo>
                  <a:pt x="11496" y="6709"/>
                  <a:pt x="12181" y="6886"/>
                  <a:pt x="12789" y="7225"/>
                </a:cubicBezTo>
                <a:lnTo>
                  <a:pt x="16052" y="1363"/>
                </a:lnTo>
                <a:cubicBezTo>
                  <a:pt x="14446" y="469"/>
                  <a:pt x="12638" y="-1"/>
                  <a:pt x="10799" y="0"/>
                </a:cubicBezTo>
                <a:cubicBezTo>
                  <a:pt x="8961" y="0"/>
                  <a:pt x="7153" y="469"/>
                  <a:pt x="5547" y="1363"/>
                </a:cubicBezTo>
                <a:lnTo>
                  <a:pt x="8810" y="7225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 rot="3543600">
            <a:off x="1652760" y="1958400"/>
            <a:ext cx="5693040" cy="5630760"/>
          </a:xfrm>
          <a:custGeom>
            <a:avLst/>
            <a:gdLst>
              <a:gd name="textAreaLeft" fmla="*/ 931680 w 5693040"/>
              <a:gd name="textAreaRight" fmla="*/ 4761360 w 5693040"/>
              <a:gd name="textAreaTop" fmla="*/ 0 h 5630760"/>
              <a:gd name="textAreaBottom" fmla="*/ 2023560 h 5630760"/>
            </a:gdLst>
            <a:ahLst/>
            <a:rect l="textAreaLeft" t="textAreaTop" r="textAreaRight" b="textAreaBottom"/>
            <a:pathLst>
              <a:path w="21600" h="21600">
                <a:moveTo>
                  <a:pt x="8680" y="7285"/>
                </a:moveTo>
                <a:cubicBezTo>
                  <a:pt x="9320" y="6899"/>
                  <a:pt x="10052" y="6695"/>
                  <a:pt x="10800" y="6696"/>
                </a:cubicBezTo>
                <a:cubicBezTo>
                  <a:pt x="11547" y="6696"/>
                  <a:pt x="12279" y="6899"/>
                  <a:pt x="12919" y="7285"/>
                </a:cubicBezTo>
                <a:lnTo>
                  <a:pt x="16377" y="1551"/>
                </a:lnTo>
                <a:cubicBezTo>
                  <a:pt x="14694" y="536"/>
                  <a:pt x="12765" y="-1"/>
                  <a:pt x="10799" y="0"/>
                </a:cubicBezTo>
                <a:cubicBezTo>
                  <a:pt x="8834" y="0"/>
                  <a:pt x="6905" y="536"/>
                  <a:pt x="5222" y="1551"/>
                </a:cubicBezTo>
                <a:lnTo>
                  <a:pt x="8680" y="7285"/>
                </a:lnTo>
                <a:close/>
              </a:path>
            </a:pathLst>
          </a:custGeom>
          <a:solidFill>
            <a:srgbClr val="ff9933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"/>
          <p:cNvSpPr/>
          <p:nvPr/>
        </p:nvSpPr>
        <p:spPr>
          <a:xfrm>
            <a:off x="3441600" y="3675240"/>
            <a:ext cx="2075040" cy="2001600"/>
          </a:xfrm>
          <a:custGeom>
            <a:avLst/>
            <a:gdLst>
              <a:gd name="textAreaLeft" fmla="*/ 352080 w 2075040"/>
              <a:gd name="textAreaRight" fmla="*/ 1722960 w 2075040"/>
              <a:gd name="textAreaTop" fmla="*/ 0 h 2001600"/>
              <a:gd name="textAreaBottom" fmla="*/ 330120 h 2001600"/>
            </a:gdLst>
            <a:ahLst/>
            <a:rect l="textAreaLeft" t="textAreaTop" r="textAreaRight" b="textAreaBottom"/>
            <a:pathLst>
              <a:path w="21600" h="21600">
                <a:moveTo>
                  <a:pt x="5943" y="2473"/>
                </a:moveTo>
                <a:cubicBezTo>
                  <a:pt x="7417" y="1614"/>
                  <a:pt x="9093" y="1160"/>
                  <a:pt x="10800" y="1161"/>
                </a:cubicBezTo>
                <a:cubicBezTo>
                  <a:pt x="12506" y="1161"/>
                  <a:pt x="14182" y="1614"/>
                  <a:pt x="15656" y="2473"/>
                </a:cubicBezTo>
                <a:lnTo>
                  <a:pt x="16241" y="1470"/>
                </a:lnTo>
                <a:cubicBezTo>
                  <a:pt x="14589" y="507"/>
                  <a:pt x="12712" y="-1"/>
                  <a:pt x="10799" y="0"/>
                </a:cubicBezTo>
                <a:cubicBezTo>
                  <a:pt x="8887" y="0"/>
                  <a:pt x="7010" y="507"/>
                  <a:pt x="5358" y="1470"/>
                </a:cubicBezTo>
                <a:lnTo>
                  <a:pt x="5943" y="2473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9"/>
          <p:cNvSpPr/>
          <p:nvPr/>
        </p:nvSpPr>
        <p:spPr>
          <a:xfrm rot="18061200">
            <a:off x="3364560" y="3724920"/>
            <a:ext cx="2098800" cy="1979640"/>
          </a:xfrm>
          <a:custGeom>
            <a:avLst/>
            <a:gdLst>
              <a:gd name="textAreaLeft" fmla="*/ 356040 w 2098800"/>
              <a:gd name="textAreaRight" fmla="*/ 1742760 w 2098800"/>
              <a:gd name="textAreaTop" fmla="*/ 0 h 1979640"/>
              <a:gd name="textAreaBottom" fmla="*/ 326520 h 1979640"/>
            </a:gdLst>
            <a:ahLst/>
            <a:rect l="textAreaLeft" t="textAreaTop" r="textAreaRight" b="textAreaBottom"/>
            <a:pathLst>
              <a:path w="21600" h="21600">
                <a:moveTo>
                  <a:pt x="5943" y="2473"/>
                </a:moveTo>
                <a:cubicBezTo>
                  <a:pt x="7417" y="1614"/>
                  <a:pt x="9093" y="1160"/>
                  <a:pt x="10800" y="1161"/>
                </a:cubicBezTo>
                <a:cubicBezTo>
                  <a:pt x="12506" y="1161"/>
                  <a:pt x="14182" y="1614"/>
                  <a:pt x="15656" y="2473"/>
                </a:cubicBezTo>
                <a:lnTo>
                  <a:pt x="16241" y="1470"/>
                </a:lnTo>
                <a:cubicBezTo>
                  <a:pt x="14589" y="507"/>
                  <a:pt x="12712" y="-1"/>
                  <a:pt x="10799" y="0"/>
                </a:cubicBezTo>
                <a:cubicBezTo>
                  <a:pt x="8887" y="0"/>
                  <a:pt x="7010" y="507"/>
                  <a:pt x="5358" y="1470"/>
                </a:cubicBezTo>
                <a:lnTo>
                  <a:pt x="5943" y="2473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0"/>
          <p:cNvSpPr/>
          <p:nvPr/>
        </p:nvSpPr>
        <p:spPr>
          <a:xfrm rot="3532200">
            <a:off x="3516840" y="3744000"/>
            <a:ext cx="2095560" cy="1979640"/>
          </a:xfrm>
          <a:custGeom>
            <a:avLst/>
            <a:gdLst>
              <a:gd name="textAreaLeft" fmla="*/ 341640 w 2095560"/>
              <a:gd name="textAreaRight" fmla="*/ 1753920 w 2095560"/>
              <a:gd name="textAreaTop" fmla="*/ 0 h 1979640"/>
              <a:gd name="textAreaBottom" fmla="*/ 330480 h 1979640"/>
            </a:gdLst>
            <a:ahLst/>
            <a:rect l="textAreaLeft" t="textAreaTop" r="textAreaRight" b="textAreaBottom"/>
            <a:pathLst>
              <a:path w="21600" h="21600">
                <a:moveTo>
                  <a:pt x="5759" y="2470"/>
                </a:moveTo>
                <a:cubicBezTo>
                  <a:pt x="7279" y="1550"/>
                  <a:pt x="9022" y="1063"/>
                  <a:pt x="10800" y="1064"/>
                </a:cubicBezTo>
                <a:cubicBezTo>
                  <a:pt x="12577" y="1064"/>
                  <a:pt x="14320" y="1550"/>
                  <a:pt x="15840" y="2470"/>
                </a:cubicBezTo>
                <a:lnTo>
                  <a:pt x="16391" y="1560"/>
                </a:lnTo>
                <a:cubicBezTo>
                  <a:pt x="14705" y="539"/>
                  <a:pt x="12771" y="-1"/>
                  <a:pt x="10799" y="0"/>
                </a:cubicBezTo>
                <a:cubicBezTo>
                  <a:pt x="8828" y="0"/>
                  <a:pt x="6894" y="539"/>
                  <a:pt x="5208" y="1560"/>
                </a:cubicBezTo>
                <a:lnTo>
                  <a:pt x="5759" y="2470"/>
                </a:lnTo>
                <a:close/>
              </a:path>
            </a:pathLst>
          </a:custGeom>
          <a:solidFill>
            <a:srgbClr val="ff9933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0"/>
          <p:cNvSpPr/>
          <p:nvPr/>
        </p:nvSpPr>
        <p:spPr>
          <a:xfrm>
            <a:off x="4000680" y="44164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纲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150012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557208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1785960" y="364320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5"/>
          <p:cNvSpPr/>
          <p:nvPr/>
        </p:nvSpPr>
        <p:spPr>
          <a:xfrm>
            <a:off x="3500280" y="257184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5357880" y="357192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0"/>
          <p:cNvGrpSpPr/>
          <p:nvPr/>
        </p:nvGrpSpPr>
        <p:grpSpPr>
          <a:xfrm>
            <a:off x="3649680" y="3871800"/>
            <a:ext cx="1692000" cy="1730160"/>
            <a:chOff x="3649680" y="3871800"/>
            <a:chExt cx="1692000" cy="1730160"/>
          </a:xfrm>
        </p:grpSpPr>
        <p:sp>
          <p:nvSpPr>
            <p:cNvPr id="268" name="Oval 11"/>
            <p:cNvSpPr/>
            <p:nvPr/>
          </p:nvSpPr>
          <p:spPr>
            <a:xfrm>
              <a:off x="3649680" y="3929760"/>
              <a:ext cx="1692000" cy="1672200"/>
            </a:xfrm>
            <a:prstGeom prst="ellipse">
              <a:avLst/>
            </a:prstGeom>
            <a:solidFill>
              <a:srgbClr val="ff9933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3793680" y="3871800"/>
              <a:ext cx="1395720" cy="139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Text Box 39"/>
          <p:cNvSpPr/>
          <p:nvPr/>
        </p:nvSpPr>
        <p:spPr>
          <a:xfrm>
            <a:off x="3932280" y="45561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WordArt 4"/>
          <p:cNvSpPr txBox="1"/>
          <p:nvPr/>
        </p:nvSpPr>
        <p:spPr>
          <a:xfrm>
            <a:off x="5364000" y="2708280"/>
            <a:ext cx="2794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72" name="WordArt 5"/>
          <p:cNvSpPr txBox="1"/>
          <p:nvPr/>
        </p:nvSpPr>
        <p:spPr>
          <a:xfrm>
            <a:off x="5842080" y="342252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北京锐得幻演广告有限公司</dc:creator>
  <dc:description/>
  <dc:language>en-US</dc:language>
  <cp:lastModifiedBy>Administrator</cp:lastModifiedBy>
  <dcterms:modified xsi:type="dcterms:W3CDTF">2016-08-22T03:11:11Z</dcterms:modified>
  <cp:revision>337</cp:revision>
  <dc:subject/>
  <dc:title>锐得PPT模板</dc:title>
</cp:coreProperties>
</file>