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8750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00" y="3682080"/>
            <a:ext cx="8750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000" y="368208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970160" y="368208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44480" y="160452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03320" y="160452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000" y="368208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44480" y="368208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403320" y="3682080"/>
            <a:ext cx="2817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86000" y="1604520"/>
            <a:ext cx="8750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8750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86000" y="273600"/>
            <a:ext cx="8750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86000" y="368208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70160" y="368208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73600"/>
            <a:ext cx="8750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0160" y="1604520"/>
            <a:ext cx="427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00" y="3682080"/>
            <a:ext cx="8750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2.png"/><Relationship Id="rId8" Type="http://schemas.openxmlformats.org/officeDocument/2006/relationships/image" Target="../media/image23.wmf"/><Relationship Id="rId9" Type="http://schemas.openxmlformats.org/officeDocument/2006/relationships/image" Target="../media/image22.png"/><Relationship Id="rId10" Type="http://schemas.openxmlformats.org/officeDocument/2006/relationships/image" Target="../media/image23.wmf"/><Relationship Id="rId11" Type="http://schemas.openxmlformats.org/officeDocument/2006/relationships/image" Target="../media/image22.png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WordArt 48" descr=""/>
          <p:cNvPicPr/>
          <p:nvPr/>
        </p:nvPicPr>
        <p:blipFill>
          <a:blip r:embed="rId2"/>
          <a:stretch/>
        </p:blipFill>
        <p:spPr>
          <a:xfrm>
            <a:off x="2766960" y="3352680"/>
            <a:ext cx="4541760" cy="586080"/>
          </a:xfrm>
          <a:prstGeom prst="rect">
            <a:avLst/>
          </a:prstGeom>
          <a:ln w="0">
            <a:noFill/>
          </a:ln>
        </p:spPr>
      </p:pic>
      <p:grpSp>
        <p:nvGrpSpPr>
          <p:cNvPr id="37" name="WordArt 49"/>
          <p:cNvGrpSpPr/>
          <p:nvPr/>
        </p:nvGrpSpPr>
        <p:grpSpPr>
          <a:xfrm>
            <a:off x="4857840" y="4078440"/>
            <a:ext cx="2437920" cy="353520"/>
            <a:chOff x="4857840" y="4078440"/>
            <a:chExt cx="2437920" cy="353520"/>
          </a:xfrm>
        </p:grpSpPr>
        <p:pic>
          <p:nvPicPr>
            <p:cNvPr id="38" name="WordArt 49" descr=""/>
            <p:cNvPicPr/>
            <p:nvPr/>
          </p:nvPicPr>
          <p:blipFill>
            <a:blip r:embed="rId3"/>
            <a:stretch/>
          </p:blipFill>
          <p:spPr>
            <a:xfrm>
              <a:off x="4857840" y="4079880"/>
              <a:ext cx="243504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" name=""/>
            <p:cNvSpPr/>
            <p:nvPr/>
          </p:nvSpPr>
          <p:spPr>
            <a:xfrm>
              <a:off x="4860720" y="4078440"/>
              <a:ext cx="2435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方正大黑简体"/>
                </a:rPr>
                <a:t>点击填写公司名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3"/>
          <p:cNvSpPr/>
          <p:nvPr/>
        </p:nvSpPr>
        <p:spPr>
          <a:xfrm>
            <a:off x="344520" y="1741320"/>
            <a:ext cx="5846760" cy="4496040"/>
          </a:xfrm>
          <a:prstGeom prst="rightArrow">
            <a:avLst>
              <a:gd name="adj1" fmla="val 79306"/>
              <a:gd name="adj2" fmla="val 30295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ff051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506520" y="2351160"/>
            <a:ext cx="42940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c000d"/>
              </a:gs>
              <a:gs pos="100000">
                <a:srgbClr val="d04d5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506520" y="3494160"/>
            <a:ext cx="42940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3b3b"/>
              </a:gs>
              <a:gs pos="100000">
                <a:srgbClr val="ff76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06520" y="4637160"/>
            <a:ext cx="42940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a0004"/>
              </a:gs>
              <a:gs pos="100000">
                <a:srgbClr val="754d5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6826320" y="2351160"/>
            <a:ext cx="2430000" cy="3309840"/>
            <a:chOff x="6826320" y="2351160"/>
            <a:chExt cx="2430000" cy="3309840"/>
          </a:xfrm>
        </p:grpSpPr>
        <p:sp>
          <p:nvSpPr>
            <p:cNvPr id="216" name="AutoShape 8"/>
            <p:cNvSpPr/>
            <p:nvPr/>
          </p:nvSpPr>
          <p:spPr>
            <a:xfrm>
              <a:off x="6826320" y="2351160"/>
              <a:ext cx="2430000" cy="3309840"/>
            </a:xfrm>
            <a:custGeom>
              <a:avLst/>
              <a:gdLst>
                <a:gd name="textAreaLeft" fmla="*/ 118440 w 2430000"/>
                <a:gd name="textAreaRight" fmla="*/ 2311560 w 2430000"/>
                <a:gd name="textAreaTop" fmla="*/ 118440 h 3309840"/>
                <a:gd name="textAreaBottom" fmla="*/ 3191400 h 3309840"/>
              </a:gdLst>
              <a:ahLst/>
              <a:rect l="textAreaLeft" t="textAreaTop" r="textAreaRight" b="textAreaBottom"/>
              <a:pathLst>
                <a:path w="21600" h="29420">
                  <a:moveTo>
                    <a:pt x="3600" y="0"/>
                  </a:moveTo>
                  <a:arcTo wR="3600" hR="3600" stAng="16200000" swAng="-5400000"/>
                  <a:lnTo>
                    <a:pt x="0" y="25820"/>
                  </a:lnTo>
                  <a:arcTo wR="3600" hR="3600" stAng="10800000" swAng="-5400000"/>
                  <a:lnTo>
                    <a:pt x="18000" y="294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c000d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9"/>
            <p:cNvSpPr/>
            <p:nvPr/>
          </p:nvSpPr>
          <p:spPr>
            <a:xfrm>
              <a:off x="6927120" y="2388960"/>
              <a:ext cx="223056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0"/>
          <p:cNvSpPr/>
          <p:nvPr/>
        </p:nvSpPr>
        <p:spPr>
          <a:xfrm>
            <a:off x="7149960" y="3232080"/>
            <a:ext cx="1862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me 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668160" y="2579760"/>
            <a:ext cx="582480" cy="512280"/>
            <a:chOff x="668160" y="2579760"/>
            <a:chExt cx="582480" cy="512280"/>
          </a:xfrm>
        </p:grpSpPr>
        <p:sp>
          <p:nvSpPr>
            <p:cNvPr id="220" name="Oval 12"/>
            <p:cNvSpPr/>
            <p:nvPr/>
          </p:nvSpPr>
          <p:spPr>
            <a:xfrm>
              <a:off x="668160" y="2579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>
              <a:off x="886680" y="2579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1105200" y="2579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"/>
            <p:cNvSpPr/>
            <p:nvPr/>
          </p:nvSpPr>
          <p:spPr>
            <a:xfrm>
              <a:off x="668160" y="2771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6"/>
            <p:cNvSpPr/>
            <p:nvPr/>
          </p:nvSpPr>
          <p:spPr>
            <a:xfrm>
              <a:off x="886680" y="2771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7"/>
            <p:cNvSpPr/>
            <p:nvPr/>
          </p:nvSpPr>
          <p:spPr>
            <a:xfrm>
              <a:off x="1105200" y="2771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"/>
            <p:cNvSpPr/>
            <p:nvPr/>
          </p:nvSpPr>
          <p:spPr>
            <a:xfrm>
              <a:off x="668160" y="2963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9"/>
            <p:cNvSpPr/>
            <p:nvPr/>
          </p:nvSpPr>
          <p:spPr>
            <a:xfrm>
              <a:off x="886680" y="2963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0"/>
            <p:cNvSpPr/>
            <p:nvPr/>
          </p:nvSpPr>
          <p:spPr>
            <a:xfrm>
              <a:off x="1105200" y="2963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1"/>
          <p:cNvGrpSpPr/>
          <p:nvPr/>
        </p:nvGrpSpPr>
        <p:grpSpPr>
          <a:xfrm>
            <a:off x="668160" y="3722760"/>
            <a:ext cx="582480" cy="512280"/>
            <a:chOff x="668160" y="3722760"/>
            <a:chExt cx="582480" cy="512280"/>
          </a:xfrm>
        </p:grpSpPr>
        <p:sp>
          <p:nvSpPr>
            <p:cNvPr id="230" name="Oval 22"/>
            <p:cNvSpPr/>
            <p:nvPr/>
          </p:nvSpPr>
          <p:spPr>
            <a:xfrm>
              <a:off x="668160" y="3722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3"/>
            <p:cNvSpPr/>
            <p:nvPr/>
          </p:nvSpPr>
          <p:spPr>
            <a:xfrm>
              <a:off x="886680" y="3722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4"/>
            <p:cNvSpPr/>
            <p:nvPr/>
          </p:nvSpPr>
          <p:spPr>
            <a:xfrm>
              <a:off x="1105200" y="3722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5"/>
            <p:cNvSpPr/>
            <p:nvPr/>
          </p:nvSpPr>
          <p:spPr>
            <a:xfrm>
              <a:off x="668160" y="3914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886680" y="3914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7"/>
            <p:cNvSpPr/>
            <p:nvPr/>
          </p:nvSpPr>
          <p:spPr>
            <a:xfrm>
              <a:off x="1105200" y="3914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8"/>
            <p:cNvSpPr/>
            <p:nvPr/>
          </p:nvSpPr>
          <p:spPr>
            <a:xfrm>
              <a:off x="668160" y="4106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9"/>
            <p:cNvSpPr/>
            <p:nvPr/>
          </p:nvSpPr>
          <p:spPr>
            <a:xfrm>
              <a:off x="886680" y="4106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0"/>
            <p:cNvSpPr/>
            <p:nvPr/>
          </p:nvSpPr>
          <p:spPr>
            <a:xfrm>
              <a:off x="1105200" y="4106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1"/>
          <p:cNvGrpSpPr/>
          <p:nvPr/>
        </p:nvGrpSpPr>
        <p:grpSpPr>
          <a:xfrm>
            <a:off x="668160" y="4865760"/>
            <a:ext cx="582480" cy="512280"/>
            <a:chOff x="668160" y="4865760"/>
            <a:chExt cx="582480" cy="512280"/>
          </a:xfrm>
        </p:grpSpPr>
        <p:sp>
          <p:nvSpPr>
            <p:cNvPr id="240" name="Oval 32"/>
            <p:cNvSpPr/>
            <p:nvPr/>
          </p:nvSpPr>
          <p:spPr>
            <a:xfrm>
              <a:off x="668160" y="4865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33"/>
            <p:cNvSpPr/>
            <p:nvPr/>
          </p:nvSpPr>
          <p:spPr>
            <a:xfrm>
              <a:off x="886680" y="4865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4"/>
            <p:cNvSpPr/>
            <p:nvPr/>
          </p:nvSpPr>
          <p:spPr>
            <a:xfrm>
              <a:off x="1105200" y="486576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5"/>
            <p:cNvSpPr/>
            <p:nvPr/>
          </p:nvSpPr>
          <p:spPr>
            <a:xfrm>
              <a:off x="668160" y="5057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6"/>
            <p:cNvSpPr/>
            <p:nvPr/>
          </p:nvSpPr>
          <p:spPr>
            <a:xfrm>
              <a:off x="886680" y="5057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7"/>
            <p:cNvSpPr/>
            <p:nvPr/>
          </p:nvSpPr>
          <p:spPr>
            <a:xfrm>
              <a:off x="1105200" y="505764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668160" y="5249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9"/>
            <p:cNvSpPr/>
            <p:nvPr/>
          </p:nvSpPr>
          <p:spPr>
            <a:xfrm>
              <a:off x="886680" y="5249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40"/>
            <p:cNvSpPr/>
            <p:nvPr/>
          </p:nvSpPr>
          <p:spPr>
            <a:xfrm>
              <a:off x="1105200" y="5249880"/>
              <a:ext cx="14544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WordArt 44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Oval 3"/>
          <p:cNvSpPr/>
          <p:nvPr/>
        </p:nvSpPr>
        <p:spPr>
          <a:xfrm>
            <a:off x="2394000" y="4048200"/>
            <a:ext cx="5913360" cy="1325520"/>
          </a:xfrm>
          <a:prstGeom prst="ellipse">
            <a:avLst/>
          </a:prstGeom>
          <a:gradFill rotWithShape="0">
            <a:gsLst>
              <a:gs pos="0">
                <a:srgbClr val="292929">
                  <a:alpha val="70196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 rot="20601600">
            <a:off x="1622520" y="1935000"/>
            <a:ext cx="6126120" cy="301644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50000">
                <a:srgbClr val="f3c1e6"/>
              </a:gs>
              <a:gs pos="100000">
                <a:srgbClr val="cc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5"/>
          <p:cNvSpPr/>
          <p:nvPr/>
        </p:nvSpPr>
        <p:spPr>
          <a:xfrm rot="20601600">
            <a:off x="1681200" y="1773000"/>
            <a:ext cx="5915160" cy="2922480"/>
          </a:xfrm>
          <a:prstGeom prst="ellipse">
            <a:avLst/>
          </a:prstGeom>
          <a:gradFill rotWithShape="0">
            <a:gsLst>
              <a:gs pos="0">
                <a:srgbClr val="8f3372"/>
              </a:gs>
              <a:gs pos="100000">
                <a:srgbClr val="e151b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rc 6"/>
          <p:cNvSpPr/>
          <p:nvPr/>
        </p:nvSpPr>
        <p:spPr>
          <a:xfrm rot="20601600">
            <a:off x="4497480" y="1851120"/>
            <a:ext cx="3030480" cy="1538280"/>
          </a:xfrm>
          <a:custGeom>
            <a:avLst/>
            <a:gdLst>
              <a:gd name="textAreaLeft" fmla="*/ 0 w 3030480"/>
              <a:gd name="textAreaRight" fmla="*/ 3030840 w 303048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c95079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7"/>
          <p:cNvSpPr/>
          <p:nvPr/>
        </p:nvSpPr>
        <p:spPr>
          <a:xfrm flipH="1" rot="20602200">
            <a:off x="1739160" y="3164040"/>
            <a:ext cx="3059280" cy="1630080"/>
          </a:xfrm>
          <a:custGeom>
            <a:avLst/>
            <a:gdLst>
              <a:gd name="textAreaLeft" fmla="*/ 360 w 3059280"/>
              <a:gd name="textAreaRight" fmla="*/ 3060000 w 305928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efb2e3"/>
              </a:gs>
              <a:gs pos="100000">
                <a:srgbClr val="dc56c2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8"/>
          <p:cNvSpPr/>
          <p:nvPr/>
        </p:nvSpPr>
        <p:spPr>
          <a:xfrm rot="20601600">
            <a:off x="3692160" y="1579680"/>
            <a:ext cx="2992320" cy="1417680"/>
          </a:xfrm>
          <a:custGeom>
            <a:avLst/>
            <a:gdLst>
              <a:gd name="textAreaLeft" fmla="*/ 0 w 2992320"/>
              <a:gd name="textAreaRight" fmla="*/ 2992680 w 299232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dd77bb"/>
              </a:gs>
              <a:gs pos="100000">
                <a:srgbClr val="cc3399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9"/>
          <p:cNvSpPr/>
          <p:nvPr/>
        </p:nvSpPr>
        <p:spPr>
          <a:xfrm flipH="1" rot="20602200">
            <a:off x="1524960" y="2232000"/>
            <a:ext cx="2936880" cy="1380960"/>
          </a:xfrm>
          <a:custGeom>
            <a:avLst/>
            <a:gdLst>
              <a:gd name="textAreaLeft" fmla="*/ 360 w 2936880"/>
              <a:gd name="textAreaRight" fmla="*/ 2937600 w 29368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dc8484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0"/>
          <p:cNvSpPr/>
          <p:nvPr/>
        </p:nvSpPr>
        <p:spPr>
          <a:xfrm rot="20601600">
            <a:off x="3235320" y="2487600"/>
            <a:ext cx="2865600" cy="1339920"/>
          </a:xfrm>
          <a:prstGeom prst="ellipse">
            <a:avLst/>
          </a:prstGeom>
          <a:gradFill rotWithShape="0">
            <a:gsLst>
              <a:gs pos="0">
                <a:srgbClr val="580d59"/>
              </a:gs>
              <a:gs pos="50000">
                <a:srgbClr val="98179b"/>
              </a:gs>
              <a:gs pos="100000">
                <a:srgbClr val="580d5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2483280" y="270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4509000" y="17953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6291720" y="2252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4"/>
          <p:cNvSpPr/>
          <p:nvPr/>
        </p:nvSpPr>
        <p:spPr>
          <a:xfrm>
            <a:off x="6767640" y="2786040"/>
            <a:ext cx="1377720" cy="171144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ffc3c5"/>
              </a:gs>
              <a:gs pos="100000">
                <a:srgbClr val="ff7c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15"/>
          <p:cNvSpPr/>
          <p:nvPr/>
        </p:nvSpPr>
        <p:spPr>
          <a:xfrm rot="20539200">
            <a:off x="5063760" y="2792160"/>
            <a:ext cx="3171960" cy="1346040"/>
          </a:xfrm>
          <a:custGeom>
            <a:avLst/>
            <a:gdLst>
              <a:gd name="textAreaLeft" fmla="*/ 0 w 3171960"/>
              <a:gd name="textAreaRight" fmla="*/ 3172320 w 3171960"/>
              <a:gd name="textAreaTop" fmla="*/ 0 h 1346040"/>
              <a:gd name="textAreaBottom" fmla="*/ 1346400 h 134604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gradFill rotWithShape="0">
            <a:gsLst>
              <a:gs pos="0">
                <a:srgbClr val="ffafb2"/>
              </a:gs>
              <a:gs pos="100000">
                <a:srgbClr val="ff7c80"/>
              </a:gs>
            </a:gsLst>
            <a:lin ang="37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6"/>
          <p:cNvSpPr/>
          <p:nvPr/>
        </p:nvSpPr>
        <p:spPr>
          <a:xfrm>
            <a:off x="4960800" y="3267000"/>
            <a:ext cx="1870200" cy="123660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be5c5f"/>
              </a:gs>
              <a:gs pos="100000">
                <a:srgbClr val="ff7c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6291720" y="3243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4428000" y="4005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2402280" y="3852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0"/>
          <p:cNvSpPr/>
          <p:nvPr/>
        </p:nvSpPr>
        <p:spPr>
          <a:xfrm rot="20601600">
            <a:off x="3341160" y="2739960"/>
            <a:ext cx="27514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1"/>
          <p:cNvSpPr/>
          <p:nvPr/>
        </p:nvSpPr>
        <p:spPr>
          <a:xfrm>
            <a:off x="5148360" y="3662280"/>
            <a:ext cx="1363680" cy="1028880"/>
          </a:xfrm>
          <a:custGeom>
            <a:avLst/>
            <a:gdLst>
              <a:gd name="textAreaLeft" fmla="*/ 0 w 1363680"/>
              <a:gd name="textAreaRight" fmla="*/ 1363680 w 136368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99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25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"/>
          <p:cNvGrpSpPr/>
          <p:nvPr/>
        </p:nvGrpSpPr>
        <p:grpSpPr>
          <a:xfrm>
            <a:off x="2086560" y="1319040"/>
            <a:ext cx="5532480" cy="5181840"/>
            <a:chOff x="2086560" y="1319040"/>
            <a:chExt cx="5532480" cy="5181840"/>
          </a:xfrm>
        </p:grpSpPr>
        <p:sp>
          <p:nvSpPr>
            <p:cNvPr id="271" name="Freeform 5"/>
            <p:cNvSpPr/>
            <p:nvPr/>
          </p:nvSpPr>
          <p:spPr>
            <a:xfrm>
              <a:off x="3970080" y="1319040"/>
              <a:ext cx="1698840" cy="26560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 rot="574800">
              <a:off x="2187720" y="2538360"/>
              <a:ext cx="2953080" cy="14670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21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 rot="21118800">
              <a:off x="2181240" y="3963600"/>
              <a:ext cx="2970000" cy="146988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3970080" y="3932280"/>
              <a:ext cx="1619640" cy="25686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 rot="521400">
              <a:off x="4530240" y="4051080"/>
              <a:ext cx="2835000" cy="13716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 rot="21130800">
              <a:off x="4617720" y="2614680"/>
              <a:ext cx="2916000" cy="14475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193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1"/>
            <p:cNvGrpSpPr/>
            <p:nvPr/>
          </p:nvGrpSpPr>
          <p:grpSpPr>
            <a:xfrm>
              <a:off x="4061160" y="3376440"/>
              <a:ext cx="1304280" cy="1219320"/>
              <a:chOff x="4061160" y="3376440"/>
              <a:chExt cx="1304280" cy="1219320"/>
            </a:xfrm>
          </p:grpSpPr>
          <p:sp>
            <p:nvSpPr>
              <p:cNvPr id="278" name="Oval 12"/>
              <p:cNvSpPr/>
              <p:nvPr/>
            </p:nvSpPr>
            <p:spPr>
              <a:xfrm>
                <a:off x="4061160" y="3376440"/>
                <a:ext cx="1304280" cy="121932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e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"/>
              <p:cNvSpPr/>
              <p:nvPr/>
            </p:nvSpPr>
            <p:spPr>
              <a:xfrm>
                <a:off x="4210200" y="3396600"/>
                <a:ext cx="1005480" cy="460080"/>
              </a:xfrm>
              <a:custGeom>
                <a:avLst/>
                <a:gdLst>
                  <a:gd name="textAreaLeft" fmla="*/ 0 w 1005480"/>
                  <a:gd name="textAreaRight" fmla="*/ 1005840 w 100548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Text Box 14"/>
            <p:cNvSpPr/>
            <p:nvPr/>
          </p:nvSpPr>
          <p:spPr>
            <a:xfrm>
              <a:off x="2732400" y="2738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5"/>
            <p:cNvSpPr/>
            <p:nvPr/>
          </p:nvSpPr>
          <p:spPr>
            <a:xfrm>
              <a:off x="4433400" y="19000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6"/>
            <p:cNvSpPr/>
            <p:nvPr/>
          </p:nvSpPr>
          <p:spPr>
            <a:xfrm>
              <a:off x="6053400" y="2738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7"/>
            <p:cNvSpPr/>
            <p:nvPr/>
          </p:nvSpPr>
          <p:spPr>
            <a:xfrm>
              <a:off x="2732400" y="47196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8"/>
            <p:cNvSpPr/>
            <p:nvPr/>
          </p:nvSpPr>
          <p:spPr>
            <a:xfrm>
              <a:off x="6053400" y="47196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9"/>
            <p:cNvSpPr/>
            <p:nvPr/>
          </p:nvSpPr>
          <p:spPr>
            <a:xfrm>
              <a:off x="4352400" y="5557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WordArt 22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Oval 30"/>
          <p:cNvSpPr/>
          <p:nvPr/>
        </p:nvSpPr>
        <p:spPr>
          <a:xfrm>
            <a:off x="2373480" y="1746360"/>
            <a:ext cx="4887720" cy="4540320"/>
          </a:xfrm>
          <a:prstGeom prst="ellipse">
            <a:avLst/>
          </a:prstGeom>
          <a:gradFill rotWithShape="0">
            <a:gsLst>
              <a:gs pos="0">
                <a:srgbClr val="ffcc00">
                  <a:alpha val="30196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19080">
            <a:solidFill>
              <a:srgbClr val="c0c0c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1"/>
          <p:cNvSpPr/>
          <p:nvPr/>
        </p:nvSpPr>
        <p:spPr>
          <a:xfrm>
            <a:off x="758880" y="2152800"/>
            <a:ext cx="1892160" cy="61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Electron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>
            <a:off x="758880" y="3024360"/>
            <a:ext cx="18921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3"/>
          <p:cNvSpPr/>
          <p:nvPr/>
        </p:nvSpPr>
        <p:spPr>
          <a:xfrm>
            <a:off x="758880" y="3774960"/>
            <a:ext cx="18921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E-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4"/>
          <p:cNvSpPr/>
          <p:nvPr/>
        </p:nvSpPr>
        <p:spPr>
          <a:xfrm>
            <a:off x="758880" y="4529160"/>
            <a:ext cx="18921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Sched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5"/>
          <p:cNvSpPr/>
          <p:nvPr/>
        </p:nvSpPr>
        <p:spPr>
          <a:xfrm>
            <a:off x="758880" y="5280120"/>
            <a:ext cx="18921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6"/>
          <p:cNvSpPr/>
          <p:nvPr/>
        </p:nvSpPr>
        <p:spPr>
          <a:xfrm>
            <a:off x="7008840" y="3029040"/>
            <a:ext cx="18921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Name 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7"/>
          <p:cNvSpPr/>
          <p:nvPr/>
        </p:nvSpPr>
        <p:spPr>
          <a:xfrm>
            <a:off x="7008840" y="3782880"/>
            <a:ext cx="18921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Car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8"/>
          <p:cNvSpPr/>
          <p:nvPr/>
        </p:nvSpPr>
        <p:spPr>
          <a:xfrm>
            <a:off x="7008840" y="2216160"/>
            <a:ext cx="1892160" cy="58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H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Relationsh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9"/>
          <p:cNvSpPr/>
          <p:nvPr/>
        </p:nvSpPr>
        <p:spPr>
          <a:xfrm>
            <a:off x="7008840" y="4519440"/>
            <a:ext cx="189216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0"/>
          <p:cNvSpPr/>
          <p:nvPr/>
        </p:nvSpPr>
        <p:spPr>
          <a:xfrm>
            <a:off x="7008840" y="5270400"/>
            <a:ext cx="18921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18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Dotum"/>
              </a:rPr>
              <a:t>me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1"/>
          <p:cNvSpPr/>
          <p:nvPr/>
        </p:nvSpPr>
        <p:spPr>
          <a:xfrm>
            <a:off x="2658960" y="3236760"/>
            <a:ext cx="1295640" cy="4780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768" h="301">
                <a:moveTo>
                  <a:pt x="0" y="0"/>
                </a:moveTo>
                <a:lnTo>
                  <a:pt x="396" y="7"/>
                </a:lnTo>
                <a:lnTo>
                  <a:pt x="768" y="301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2"/>
          <p:cNvSpPr/>
          <p:nvPr/>
        </p:nvSpPr>
        <p:spPr>
          <a:xfrm>
            <a:off x="2647800" y="4829040"/>
            <a:ext cx="1630440" cy="69552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966" h="438">
                <a:moveTo>
                  <a:pt x="0" y="430"/>
                </a:moveTo>
                <a:lnTo>
                  <a:pt x="396" y="438"/>
                </a:lnTo>
                <a:lnTo>
                  <a:pt x="966" y="0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3"/>
          <p:cNvSpPr/>
          <p:nvPr/>
        </p:nvSpPr>
        <p:spPr>
          <a:xfrm>
            <a:off x="2638440" y="4343400"/>
            <a:ext cx="1306440" cy="419040"/>
          </a:xfrm>
          <a:custGeom>
            <a:avLst/>
            <a:gdLst>
              <a:gd name="textAreaLeft" fmla="*/ 0 w 1306440"/>
              <a:gd name="textAreaRight" fmla="*/ 1306800 w 13064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774" h="264">
                <a:moveTo>
                  <a:pt x="0" y="247"/>
                </a:moveTo>
                <a:lnTo>
                  <a:pt x="396" y="264"/>
                </a:lnTo>
                <a:lnTo>
                  <a:pt x="774" y="0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4"/>
          <p:cNvSpPr/>
          <p:nvPr/>
        </p:nvSpPr>
        <p:spPr>
          <a:xfrm>
            <a:off x="2647800" y="2438280"/>
            <a:ext cx="1570320" cy="838440"/>
          </a:xfrm>
          <a:custGeom>
            <a:avLst/>
            <a:gdLst>
              <a:gd name="textAreaLeft" fmla="*/ 0 w 1570320"/>
              <a:gd name="textAreaRight" fmla="*/ 1570680 w 157032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30" h="528">
                <a:moveTo>
                  <a:pt x="0" y="16"/>
                </a:moveTo>
                <a:lnTo>
                  <a:pt x="402" y="0"/>
                </a:lnTo>
                <a:lnTo>
                  <a:pt x="930" y="528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5"/>
          <p:cNvSpPr/>
          <p:nvPr/>
        </p:nvSpPr>
        <p:spPr>
          <a:xfrm>
            <a:off x="2658960" y="3990960"/>
            <a:ext cx="1235160" cy="144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6"/>
          <p:cNvSpPr/>
          <p:nvPr/>
        </p:nvSpPr>
        <p:spPr>
          <a:xfrm>
            <a:off x="5605560" y="2486160"/>
            <a:ext cx="1417680" cy="77148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840" h="486">
                <a:moveTo>
                  <a:pt x="840" y="0"/>
                </a:moveTo>
                <a:lnTo>
                  <a:pt x="450" y="0"/>
                </a:lnTo>
                <a:lnTo>
                  <a:pt x="0" y="486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7"/>
          <p:cNvSpPr/>
          <p:nvPr/>
        </p:nvSpPr>
        <p:spPr>
          <a:xfrm>
            <a:off x="5878440" y="3230640"/>
            <a:ext cx="1123920" cy="44604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666" h="281">
                <a:moveTo>
                  <a:pt x="666" y="0"/>
                </a:moveTo>
                <a:lnTo>
                  <a:pt x="282" y="11"/>
                </a:lnTo>
                <a:lnTo>
                  <a:pt x="0" y="281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8"/>
          <p:cNvSpPr/>
          <p:nvPr/>
        </p:nvSpPr>
        <p:spPr>
          <a:xfrm flipH="1">
            <a:off x="5919840" y="4000680"/>
            <a:ext cx="1093680" cy="1440"/>
          </a:xfrm>
          <a:prstGeom prst="line">
            <a:avLst/>
          </a:prstGeom>
          <a:ln w="1908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9"/>
          <p:cNvSpPr/>
          <p:nvPr/>
        </p:nvSpPr>
        <p:spPr>
          <a:xfrm>
            <a:off x="5869080" y="4410000"/>
            <a:ext cx="1163520" cy="3240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690" h="204">
                <a:moveTo>
                  <a:pt x="690" y="204"/>
                </a:moveTo>
                <a:lnTo>
                  <a:pt x="294" y="20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0"/>
          <p:cNvSpPr/>
          <p:nvPr/>
        </p:nvSpPr>
        <p:spPr>
          <a:xfrm>
            <a:off x="5524560" y="4829040"/>
            <a:ext cx="1508040" cy="695520"/>
          </a:xfrm>
          <a:custGeom>
            <a:avLst/>
            <a:gdLst>
              <a:gd name="textAreaLeft" fmla="*/ 0 w 1508040"/>
              <a:gd name="textAreaRight" fmla="*/ 1508400 w 150804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894" h="438">
                <a:moveTo>
                  <a:pt x="894" y="438"/>
                </a:moveTo>
                <a:lnTo>
                  <a:pt x="486" y="43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1"/>
          <p:cNvSpPr/>
          <p:nvPr/>
        </p:nvSpPr>
        <p:spPr>
          <a:xfrm>
            <a:off x="3357720" y="2631960"/>
            <a:ext cx="2916000" cy="2698920"/>
          </a:xfrm>
          <a:custGeom>
            <a:avLst/>
            <a:gdLst>
              <a:gd name="textAreaLeft" fmla="*/ 426960 w 2916000"/>
              <a:gd name="textAreaRight" fmla="*/ 2489040 w 2916000"/>
              <a:gd name="textAreaTop" fmla="*/ 394920 h 2698920"/>
              <a:gd name="textAreaBottom" fmla="*/ 2304000 h 269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9c9c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2"/>
          <p:cNvSpPr/>
          <p:nvPr/>
        </p:nvSpPr>
        <p:spPr>
          <a:xfrm>
            <a:off x="3701880" y="2951280"/>
            <a:ext cx="2217960" cy="2050920"/>
          </a:xfrm>
          <a:custGeom>
            <a:avLst/>
            <a:gdLst>
              <a:gd name="textAreaLeft" fmla="*/ 324720 w 2217960"/>
              <a:gd name="textAreaRight" fmla="*/ 1893240 w 2217960"/>
              <a:gd name="textAreaTop" fmla="*/ 300240 h 2050920"/>
              <a:gd name="textAreaBottom" fmla="*/ 175068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421" y="10800"/>
                </a:moveTo>
                <a:cubicBezTo>
                  <a:pt x="4421" y="14323"/>
                  <a:pt x="7277" y="17179"/>
                  <a:pt x="10800" y="17179"/>
                </a:cubicBezTo>
                <a:cubicBezTo>
                  <a:pt x="14323" y="17179"/>
                  <a:pt x="17179" y="14323"/>
                  <a:pt x="17179" y="10800"/>
                </a:cubicBezTo>
                <a:cubicBezTo>
                  <a:pt x="17179" y="7277"/>
                  <a:pt x="14323" y="4421"/>
                  <a:pt x="10800" y="4421"/>
                </a:cubicBezTo>
                <a:cubicBezTo>
                  <a:pt x="7277" y="4421"/>
                  <a:pt x="4421" y="7277"/>
                  <a:pt x="4421" y="1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3932280" y="3164040"/>
            <a:ext cx="1717560" cy="16603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cc00"/>
                </a:solidFill>
                <a:latin typeface="Arial Black"/>
              </a:rPr>
              <a:t>eagl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4"/>
          <p:cNvSpPr/>
          <p:nvPr/>
        </p:nvSpPr>
        <p:spPr>
          <a:xfrm>
            <a:off x="4157640" y="4078440"/>
            <a:ext cx="1336680" cy="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31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2557440" y="2441520"/>
            <a:ext cx="4210920" cy="3729960"/>
            <a:chOff x="2557440" y="2441520"/>
            <a:chExt cx="4210920" cy="3729960"/>
          </a:xfrm>
        </p:grpSpPr>
        <p:sp>
          <p:nvSpPr>
            <p:cNvPr id="314" name="Freeform 3"/>
            <p:cNvSpPr/>
            <p:nvPr/>
          </p:nvSpPr>
          <p:spPr>
            <a:xfrm>
              <a:off x="2557440" y="2454120"/>
              <a:ext cx="2557440" cy="2942280"/>
            </a:xfrm>
            <a:custGeom>
              <a:avLst/>
              <a:gdLst>
                <a:gd name="textAreaLeft" fmla="*/ 0 w 2557440"/>
                <a:gd name="textAreaRight" fmla="*/ 2557440 w 2557440"/>
                <a:gd name="textAreaTop" fmla="*/ 0 h 2942280"/>
                <a:gd name="textAreaBottom" fmla="*/ 2942640 h 294228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"/>
            <p:cNvSpPr/>
            <p:nvPr/>
          </p:nvSpPr>
          <p:spPr>
            <a:xfrm>
              <a:off x="4656240" y="2441520"/>
              <a:ext cx="2112120" cy="226152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2261520"/>
                <a:gd name="textAreaBottom" fmla="*/ 2261880 h 226152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"/>
            <p:cNvSpPr/>
            <p:nvPr/>
          </p:nvSpPr>
          <p:spPr>
            <a:xfrm>
              <a:off x="3447360" y="4340520"/>
              <a:ext cx="3314160" cy="1830960"/>
            </a:xfrm>
            <a:custGeom>
              <a:avLst/>
              <a:gdLst>
                <a:gd name="textAreaLeft" fmla="*/ 0 w 3314160"/>
                <a:gd name="textAreaRight" fmla="*/ 3314520 w 3314160"/>
                <a:gd name="textAreaTop" fmla="*/ 0 h 1830960"/>
                <a:gd name="textAreaBottom" fmla="*/ 1831320 h 183096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7"/>
          <p:cNvGrpSpPr/>
          <p:nvPr/>
        </p:nvGrpSpPr>
        <p:grpSpPr>
          <a:xfrm>
            <a:off x="3043080" y="2822400"/>
            <a:ext cx="3404520" cy="3015720"/>
            <a:chOff x="3043080" y="2822400"/>
            <a:chExt cx="3404520" cy="3015720"/>
          </a:xfrm>
        </p:grpSpPr>
        <p:sp>
          <p:nvSpPr>
            <p:cNvPr id="318" name="Freeform 8"/>
            <p:cNvSpPr/>
            <p:nvPr/>
          </p:nvSpPr>
          <p:spPr>
            <a:xfrm>
              <a:off x="3043080" y="2832480"/>
              <a:ext cx="206748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d45d65"/>
                </a:gs>
                <a:gs pos="100000">
                  <a:srgbClr val="bc00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4739760" y="2822400"/>
              <a:ext cx="170784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d04d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3762720" y="4357800"/>
              <a:ext cx="26794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8e000a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1"/>
          <p:cNvSpPr/>
          <p:nvPr/>
        </p:nvSpPr>
        <p:spPr>
          <a:xfrm>
            <a:off x="4177440" y="397656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2"/>
          <p:cNvGrpSpPr/>
          <p:nvPr/>
        </p:nvGrpSpPr>
        <p:grpSpPr>
          <a:xfrm>
            <a:off x="5997600" y="2680200"/>
            <a:ext cx="418320" cy="413280"/>
            <a:chOff x="5997600" y="2680200"/>
            <a:chExt cx="418320" cy="413280"/>
          </a:xfrm>
        </p:grpSpPr>
        <p:pic>
          <p:nvPicPr>
            <p:cNvPr id="323" name="Picture 13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6066360" y="2737800"/>
              <a:ext cx="276480" cy="29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4" name="Oval 14"/>
            <p:cNvGrpSpPr/>
            <p:nvPr/>
          </p:nvGrpSpPr>
          <p:grpSpPr>
            <a:xfrm>
              <a:off x="6054120" y="2739240"/>
              <a:ext cx="304560" cy="285480"/>
              <a:chOff x="6054120" y="2739240"/>
              <a:chExt cx="304560" cy="285480"/>
            </a:xfrm>
          </p:grpSpPr>
          <p:pic>
            <p:nvPicPr>
              <p:cNvPr id="325" name="Oval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054120" y="2739240"/>
                <a:ext cx="30456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 Box 52"/>
              <p:cNvSpPr/>
              <p:nvPr/>
            </p:nvSpPr>
            <p:spPr>
              <a:xfrm rot="4976400">
                <a:off x="6107400" y="2781000"/>
                <a:ext cx="19368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5"/>
            <p:cNvGrpSpPr/>
            <p:nvPr/>
          </p:nvGrpSpPr>
          <p:grpSpPr>
            <a:xfrm>
              <a:off x="6059160" y="2780280"/>
              <a:ext cx="111240" cy="240840"/>
              <a:chOff x="6059160" y="2780280"/>
              <a:chExt cx="111240" cy="240840"/>
            </a:xfrm>
          </p:grpSpPr>
          <p:grpSp>
            <p:nvGrpSpPr>
              <p:cNvPr id="328" name="Group 16"/>
              <p:cNvGrpSpPr/>
              <p:nvPr/>
            </p:nvGrpSpPr>
            <p:grpSpPr>
              <a:xfrm>
                <a:off x="6062400" y="2824920"/>
                <a:ext cx="108000" cy="196200"/>
                <a:chOff x="6062400" y="2824920"/>
                <a:chExt cx="108000" cy="196200"/>
              </a:xfrm>
            </p:grpSpPr>
            <p:sp>
              <p:nvSpPr>
                <p:cNvPr id="329" name="AutoShape 17"/>
                <p:cNvSpPr/>
                <p:nvPr/>
              </p:nvSpPr>
              <p:spPr>
                <a:xfrm flipH="1" flipV="1" rot="8941800">
                  <a:off x="6096600" y="2876760"/>
                  <a:ext cx="3924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18"/>
                <p:cNvSpPr/>
                <p:nvPr/>
              </p:nvSpPr>
              <p:spPr>
                <a:xfrm flipH="1" flipV="1" rot="9757200">
                  <a:off x="6084720" y="285552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AutoShape 19"/>
                <p:cNvSpPr/>
                <p:nvPr/>
              </p:nvSpPr>
              <p:spPr>
                <a:xfrm flipH="1" flipV="1" rot="10053000">
                  <a:off x="6081840" y="2842200"/>
                  <a:ext cx="385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20"/>
                <p:cNvSpPr/>
                <p:nvPr/>
              </p:nvSpPr>
              <p:spPr>
                <a:xfrm flipH="1" flipV="1" rot="10585200">
                  <a:off x="6078960" y="282528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21"/>
              <p:cNvGrpSpPr/>
              <p:nvPr/>
            </p:nvGrpSpPr>
            <p:grpSpPr>
              <a:xfrm>
                <a:off x="6059160" y="2780280"/>
                <a:ext cx="83520" cy="202320"/>
                <a:chOff x="6059160" y="2780280"/>
                <a:chExt cx="83520" cy="202320"/>
              </a:xfrm>
            </p:grpSpPr>
            <p:sp>
              <p:nvSpPr>
                <p:cNvPr id="334" name="AutoShape 22"/>
                <p:cNvSpPr/>
                <p:nvPr/>
              </p:nvSpPr>
              <p:spPr>
                <a:xfrm flipH="1" flipV="1" rot="10294800">
                  <a:off x="6078240" y="2836440"/>
                  <a:ext cx="388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23"/>
                <p:cNvSpPr/>
                <p:nvPr/>
              </p:nvSpPr>
              <p:spPr>
                <a:xfrm flipH="1" flipV="1" rot="11110200">
                  <a:off x="6075000" y="281268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24"/>
                <p:cNvSpPr/>
                <p:nvPr/>
              </p:nvSpPr>
              <p:spPr>
                <a:xfrm flipH="1" flipV="1" rot="11406000">
                  <a:off x="6077160" y="279900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25"/>
                <p:cNvSpPr/>
                <p:nvPr/>
              </p:nvSpPr>
              <p:spPr>
                <a:xfrm flipH="1" flipV="1" rot="11938200">
                  <a:off x="6081480" y="278208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Arc 26"/>
            <p:cNvSpPr/>
            <p:nvPr/>
          </p:nvSpPr>
          <p:spPr>
            <a:xfrm flipH="1" rot="1129200">
              <a:off x="6040800" y="2724840"/>
              <a:ext cx="331560" cy="323640"/>
            </a:xfrm>
            <a:custGeom>
              <a:avLst/>
              <a:gdLst>
                <a:gd name="textAreaLeft" fmla="*/ -360 w 331560"/>
                <a:gd name="textAreaRight" fmla="*/ 331560 w 3315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27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6144480" y="2756880"/>
              <a:ext cx="204120" cy="14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28"/>
          <p:cNvGrpSpPr/>
          <p:nvPr/>
        </p:nvGrpSpPr>
        <p:grpSpPr>
          <a:xfrm>
            <a:off x="2841120" y="3183480"/>
            <a:ext cx="416880" cy="412920"/>
            <a:chOff x="2841120" y="3183480"/>
            <a:chExt cx="416880" cy="412920"/>
          </a:xfrm>
        </p:grpSpPr>
        <p:pic>
          <p:nvPicPr>
            <p:cNvPr id="341" name="Picture 29" descr="circuler_1"/>
            <p:cNvPicPr/>
            <p:nvPr/>
          </p:nvPicPr>
          <p:blipFill>
            <a:blip r:embed="rId4"/>
            <a:stretch/>
          </p:blipFill>
          <p:spPr>
            <a:xfrm rot="4978200">
              <a:off x="2909520" y="3241800"/>
              <a:ext cx="276480" cy="28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2" name="Oval 30"/>
            <p:cNvGrpSpPr/>
            <p:nvPr/>
          </p:nvGrpSpPr>
          <p:grpSpPr>
            <a:xfrm>
              <a:off x="2898000" y="3243240"/>
              <a:ext cx="303120" cy="285840"/>
              <a:chOff x="2898000" y="3243240"/>
              <a:chExt cx="303120" cy="285840"/>
            </a:xfrm>
          </p:grpSpPr>
          <p:pic>
            <p:nvPicPr>
              <p:cNvPr id="343" name="Oval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8000" y="3243240"/>
                <a:ext cx="30312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35"/>
              <p:cNvSpPr/>
              <p:nvPr/>
            </p:nvSpPr>
            <p:spPr>
              <a:xfrm rot="4976400">
                <a:off x="2950920" y="3282840"/>
                <a:ext cx="193680" cy="20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1"/>
            <p:cNvGrpSpPr/>
            <p:nvPr/>
          </p:nvGrpSpPr>
          <p:grpSpPr>
            <a:xfrm>
              <a:off x="2902320" y="3283920"/>
              <a:ext cx="111600" cy="240120"/>
              <a:chOff x="2902320" y="3283920"/>
              <a:chExt cx="111600" cy="240120"/>
            </a:xfrm>
          </p:grpSpPr>
          <p:grpSp>
            <p:nvGrpSpPr>
              <p:cNvPr id="346" name="Group 32"/>
              <p:cNvGrpSpPr/>
              <p:nvPr/>
            </p:nvGrpSpPr>
            <p:grpSpPr>
              <a:xfrm>
                <a:off x="2905920" y="3328200"/>
                <a:ext cx="108000" cy="195840"/>
                <a:chOff x="2905920" y="3328200"/>
                <a:chExt cx="108000" cy="195840"/>
              </a:xfrm>
            </p:grpSpPr>
            <p:sp>
              <p:nvSpPr>
                <p:cNvPr id="347" name="AutoShape 33"/>
                <p:cNvSpPr/>
                <p:nvPr/>
              </p:nvSpPr>
              <p:spPr>
                <a:xfrm flipH="1" flipV="1" rot="8941800">
                  <a:off x="2940120" y="3379680"/>
                  <a:ext cx="3924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34"/>
                <p:cNvSpPr/>
                <p:nvPr/>
              </p:nvSpPr>
              <p:spPr>
                <a:xfrm flipH="1" flipV="1" rot="9757200">
                  <a:off x="2928240" y="335880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35"/>
                <p:cNvSpPr/>
                <p:nvPr/>
              </p:nvSpPr>
              <p:spPr>
                <a:xfrm flipH="1" flipV="1" rot="10053000">
                  <a:off x="2925360" y="3345480"/>
                  <a:ext cx="385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AutoShape 36"/>
                <p:cNvSpPr/>
                <p:nvPr/>
              </p:nvSpPr>
              <p:spPr>
                <a:xfrm flipH="1" flipV="1" rot="10585200">
                  <a:off x="2922480" y="332856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2902320" y="3283920"/>
                <a:ext cx="83520" cy="201960"/>
                <a:chOff x="2902320" y="3283920"/>
                <a:chExt cx="83520" cy="201960"/>
              </a:xfrm>
            </p:grpSpPr>
            <p:sp>
              <p:nvSpPr>
                <p:cNvPr id="352" name="AutoShape 38"/>
                <p:cNvSpPr/>
                <p:nvPr/>
              </p:nvSpPr>
              <p:spPr>
                <a:xfrm flipH="1" flipV="1" rot="10294800">
                  <a:off x="2921400" y="3339720"/>
                  <a:ext cx="388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39"/>
                <p:cNvSpPr/>
                <p:nvPr/>
              </p:nvSpPr>
              <p:spPr>
                <a:xfrm flipH="1" flipV="1" rot="11110200">
                  <a:off x="2918160" y="331596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40"/>
                <p:cNvSpPr/>
                <p:nvPr/>
              </p:nvSpPr>
              <p:spPr>
                <a:xfrm flipH="1" flipV="1" rot="11406000">
                  <a:off x="2920320" y="330264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41"/>
                <p:cNvSpPr/>
                <p:nvPr/>
              </p:nvSpPr>
              <p:spPr>
                <a:xfrm flipH="1" flipV="1" rot="11938200">
                  <a:off x="2924640" y="328572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" name="Arc 42"/>
            <p:cNvSpPr/>
            <p:nvPr/>
          </p:nvSpPr>
          <p:spPr>
            <a:xfrm flipH="1" rot="1129200">
              <a:off x="2884320" y="3227760"/>
              <a:ext cx="330120" cy="323640"/>
            </a:xfrm>
            <a:custGeom>
              <a:avLst/>
              <a:gdLst>
                <a:gd name="textAreaLeft" fmla="*/ -360 w 330120"/>
                <a:gd name="textAreaRight" fmla="*/ 330120 w 3301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Picture 43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988360" y="3260880"/>
              <a:ext cx="204120" cy="1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44"/>
          <p:cNvGrpSpPr/>
          <p:nvPr/>
        </p:nvGrpSpPr>
        <p:grpSpPr>
          <a:xfrm>
            <a:off x="4939560" y="5629680"/>
            <a:ext cx="416520" cy="412920"/>
            <a:chOff x="4939560" y="5629680"/>
            <a:chExt cx="416520" cy="412920"/>
          </a:xfrm>
        </p:grpSpPr>
        <p:pic>
          <p:nvPicPr>
            <p:cNvPr id="359" name="Picture 45" descr="circuler_1"/>
            <p:cNvPicPr/>
            <p:nvPr/>
          </p:nvPicPr>
          <p:blipFill>
            <a:blip r:embed="rId7"/>
            <a:stretch/>
          </p:blipFill>
          <p:spPr>
            <a:xfrm rot="4978200">
              <a:off x="5007600" y="5688000"/>
              <a:ext cx="276480" cy="28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0" name="Oval 46"/>
            <p:cNvGrpSpPr/>
            <p:nvPr/>
          </p:nvGrpSpPr>
          <p:grpSpPr>
            <a:xfrm>
              <a:off x="4999680" y="5686200"/>
              <a:ext cx="297360" cy="285840"/>
              <a:chOff x="4999680" y="5686200"/>
              <a:chExt cx="297360" cy="285840"/>
            </a:xfrm>
          </p:grpSpPr>
          <p:pic>
            <p:nvPicPr>
              <p:cNvPr id="361" name="Oval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999680" y="5686200"/>
                <a:ext cx="29736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Text Box 18"/>
              <p:cNvSpPr/>
              <p:nvPr/>
            </p:nvSpPr>
            <p:spPr>
              <a:xfrm rot="4976400">
                <a:off x="5050440" y="5727960"/>
                <a:ext cx="19368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47"/>
            <p:cNvGrpSpPr/>
            <p:nvPr/>
          </p:nvGrpSpPr>
          <p:grpSpPr>
            <a:xfrm>
              <a:off x="5000760" y="5730120"/>
              <a:ext cx="111600" cy="240120"/>
              <a:chOff x="5000760" y="5730120"/>
              <a:chExt cx="111600" cy="240120"/>
            </a:xfrm>
          </p:grpSpPr>
          <p:grpSp>
            <p:nvGrpSpPr>
              <p:cNvPr id="364" name="Group 48"/>
              <p:cNvGrpSpPr/>
              <p:nvPr/>
            </p:nvGrpSpPr>
            <p:grpSpPr>
              <a:xfrm>
                <a:off x="5004360" y="5774400"/>
                <a:ext cx="108000" cy="195840"/>
                <a:chOff x="5004360" y="5774400"/>
                <a:chExt cx="108000" cy="195840"/>
              </a:xfrm>
            </p:grpSpPr>
            <p:sp>
              <p:nvSpPr>
                <p:cNvPr id="365" name="AutoShape 49"/>
                <p:cNvSpPr/>
                <p:nvPr/>
              </p:nvSpPr>
              <p:spPr>
                <a:xfrm flipH="1" flipV="1" rot="8941800">
                  <a:off x="5038560" y="5825880"/>
                  <a:ext cx="3924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AutoShape 50"/>
                <p:cNvSpPr/>
                <p:nvPr/>
              </p:nvSpPr>
              <p:spPr>
                <a:xfrm flipH="1" flipV="1" rot="9757200">
                  <a:off x="5026680" y="580500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51"/>
                <p:cNvSpPr/>
                <p:nvPr/>
              </p:nvSpPr>
              <p:spPr>
                <a:xfrm flipH="1" flipV="1" rot="10053000">
                  <a:off x="5023800" y="5791680"/>
                  <a:ext cx="385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52"/>
                <p:cNvSpPr/>
                <p:nvPr/>
              </p:nvSpPr>
              <p:spPr>
                <a:xfrm flipH="1" flipV="1" rot="10585200">
                  <a:off x="5020920" y="577476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Group 53"/>
              <p:cNvGrpSpPr/>
              <p:nvPr/>
            </p:nvGrpSpPr>
            <p:grpSpPr>
              <a:xfrm>
                <a:off x="5000760" y="5730120"/>
                <a:ext cx="83520" cy="201960"/>
                <a:chOff x="5000760" y="5730120"/>
                <a:chExt cx="83520" cy="201960"/>
              </a:xfrm>
            </p:grpSpPr>
            <p:sp>
              <p:nvSpPr>
                <p:cNvPr id="370" name="AutoShape 54"/>
                <p:cNvSpPr/>
                <p:nvPr/>
              </p:nvSpPr>
              <p:spPr>
                <a:xfrm flipH="1" flipV="1" rot="10294800">
                  <a:off x="5019840" y="5785920"/>
                  <a:ext cx="388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AutoShape 55"/>
                <p:cNvSpPr/>
                <p:nvPr/>
              </p:nvSpPr>
              <p:spPr>
                <a:xfrm flipH="1" flipV="1" rot="11110200">
                  <a:off x="5016600" y="576216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AutoShape 56"/>
                <p:cNvSpPr/>
                <p:nvPr/>
              </p:nvSpPr>
              <p:spPr>
                <a:xfrm flipH="1" flipV="1" rot="11406000">
                  <a:off x="5018760" y="5748840"/>
                  <a:ext cx="388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AutoShape 57"/>
                <p:cNvSpPr/>
                <p:nvPr/>
              </p:nvSpPr>
              <p:spPr>
                <a:xfrm flipH="1" flipV="1" rot="11938200">
                  <a:off x="5023080" y="5731920"/>
                  <a:ext cx="388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Arc 58"/>
            <p:cNvSpPr/>
            <p:nvPr/>
          </p:nvSpPr>
          <p:spPr>
            <a:xfrm flipH="1" rot="1129200">
              <a:off x="4982400" y="5673960"/>
              <a:ext cx="329760" cy="323640"/>
            </a:xfrm>
            <a:custGeom>
              <a:avLst/>
              <a:gdLst>
                <a:gd name="textAreaLeft" fmla="*/ 360 w 329760"/>
                <a:gd name="textAreaRight" fmla="*/ 330480 w 3297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59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5086440" y="5707080"/>
              <a:ext cx="204120" cy="14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Text Box 60"/>
          <p:cNvSpPr/>
          <p:nvPr/>
        </p:nvSpPr>
        <p:spPr>
          <a:xfrm>
            <a:off x="373896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1"/>
          <p:cNvSpPr/>
          <p:nvPr/>
        </p:nvSpPr>
        <p:spPr>
          <a:xfrm>
            <a:off x="525672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2"/>
          <p:cNvSpPr/>
          <p:nvPr/>
        </p:nvSpPr>
        <p:spPr>
          <a:xfrm>
            <a:off x="4734360" y="485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3"/>
          <p:cNvSpPr/>
          <p:nvPr/>
        </p:nvSpPr>
        <p:spPr>
          <a:xfrm>
            <a:off x="7432560" y="2376360"/>
            <a:ext cx="16052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6435720" y="5521320"/>
            <a:ext cx="160488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5"/>
          <p:cNvSpPr/>
          <p:nvPr/>
        </p:nvSpPr>
        <p:spPr>
          <a:xfrm>
            <a:off x="514440" y="3006720"/>
            <a:ext cx="160488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6"/>
          <p:cNvSpPr/>
          <p:nvPr/>
        </p:nvSpPr>
        <p:spPr>
          <a:xfrm>
            <a:off x="1260360" y="1447920"/>
            <a:ext cx="761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 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76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3"/>
          <p:cNvSpPr/>
          <p:nvPr/>
        </p:nvSpPr>
        <p:spPr>
          <a:xfrm>
            <a:off x="4662360" y="1557360"/>
            <a:ext cx="3552840" cy="426960"/>
          </a:xfrm>
          <a:prstGeom prst="bevel">
            <a:avLst>
              <a:gd name="adj" fmla="val 12639"/>
            </a:avLst>
          </a:pr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3598920" y="2735280"/>
            <a:ext cx="3552840" cy="426960"/>
          </a:xfrm>
          <a:prstGeom prst="bevel">
            <a:avLst>
              <a:gd name="adj" fmla="val 12639"/>
            </a:avLst>
          </a:prstGeom>
          <a:solidFill>
            <a:srgbClr val="bc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2495520" y="3905280"/>
            <a:ext cx="3552840" cy="426960"/>
          </a:xfrm>
          <a:prstGeom prst="bevel">
            <a:avLst>
              <a:gd name="adj" fmla="val 10407"/>
            </a:avLst>
          </a:prstGeom>
          <a:solidFill>
            <a:srgbClr val="3a0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1515960" y="5095800"/>
            <a:ext cx="3552840" cy="426960"/>
          </a:xfrm>
          <a:prstGeom prst="bevel">
            <a:avLst>
              <a:gd name="adj" fmla="val 12639"/>
            </a:avLst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"/>
          <p:cNvSpPr/>
          <p:nvPr/>
        </p:nvSpPr>
        <p:spPr>
          <a:xfrm flipH="1" rot="18321000">
            <a:off x="3517200" y="1938240"/>
            <a:ext cx="1074960" cy="640080"/>
          </a:xfrm>
          <a:custGeom>
            <a:avLst/>
            <a:gdLst>
              <a:gd name="textAreaLeft" fmla="*/ 360 w 1074960"/>
              <a:gd name="textAreaRight" fmla="*/ 1075680 w 107496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 flipH="1" rot="18321000">
            <a:off x="2415600" y="3101760"/>
            <a:ext cx="1074960" cy="640080"/>
          </a:xfrm>
          <a:custGeom>
            <a:avLst/>
            <a:gdLst>
              <a:gd name="textAreaLeft" fmla="*/ 360 w 1074960"/>
              <a:gd name="textAreaRight" fmla="*/ 1075680 w 107496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 flipH="1" rot="18321000">
            <a:off x="1420560" y="4311360"/>
            <a:ext cx="1074600" cy="639720"/>
          </a:xfrm>
          <a:custGeom>
            <a:avLst/>
            <a:gdLst>
              <a:gd name="textAreaLeft" fmla="*/ -360 w 1074600"/>
              <a:gd name="textAreaRight" fmla="*/ 1074600 w 10746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713040" y="2795760"/>
            <a:ext cx="217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4775040" y="1623960"/>
            <a:ext cx="2171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2611440" y="3957480"/>
            <a:ext cx="21715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1598760" y="5157720"/>
            <a:ext cx="21715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4662360" y="2023920"/>
            <a:ext cx="17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3598920" y="3224160"/>
            <a:ext cx="179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6"/>
          <p:cNvSpPr/>
          <p:nvPr/>
        </p:nvSpPr>
        <p:spPr>
          <a:xfrm>
            <a:off x="2579760" y="4395960"/>
            <a:ext cx="178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7"/>
          <p:cNvSpPr/>
          <p:nvPr/>
        </p:nvSpPr>
        <p:spPr>
          <a:xfrm>
            <a:off x="1557360" y="5595840"/>
            <a:ext cx="434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Theme 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8"/>
          <p:cNvSpPr/>
          <p:nvPr/>
        </p:nvSpPr>
        <p:spPr>
          <a:xfrm>
            <a:off x="6130800" y="2023920"/>
            <a:ext cx="17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9"/>
          <p:cNvSpPr/>
          <p:nvPr/>
        </p:nvSpPr>
        <p:spPr>
          <a:xfrm>
            <a:off x="5067360" y="3224160"/>
            <a:ext cx="179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0"/>
          <p:cNvSpPr/>
          <p:nvPr/>
        </p:nvSpPr>
        <p:spPr>
          <a:xfrm>
            <a:off x="4048200" y="4395960"/>
            <a:ext cx="178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3"/>
          <p:cNvSpPr/>
          <p:nvPr/>
        </p:nvSpPr>
        <p:spPr>
          <a:xfrm>
            <a:off x="2868480" y="2185920"/>
            <a:ext cx="398016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4"/>
          <p:cNvSpPr/>
          <p:nvPr/>
        </p:nvSpPr>
        <p:spPr>
          <a:xfrm>
            <a:off x="3394080" y="2665440"/>
            <a:ext cx="29242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900600" y="369108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454040" y="1884240"/>
            <a:ext cx="280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6320" y="4492800"/>
            <a:ext cx="247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7047000" y="4413240"/>
            <a:ext cx="251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9"/>
          <p:cNvGrpSpPr/>
          <p:nvPr/>
        </p:nvGrpSpPr>
        <p:grpSpPr>
          <a:xfrm>
            <a:off x="3971880" y="1660680"/>
            <a:ext cx="1735200" cy="1612800"/>
            <a:chOff x="3971880" y="1660680"/>
            <a:chExt cx="1735200" cy="1612800"/>
          </a:xfrm>
        </p:grpSpPr>
        <p:grpSp>
          <p:nvGrpSpPr>
            <p:cNvPr id="410" name="Group 10"/>
            <p:cNvGrpSpPr/>
            <p:nvPr/>
          </p:nvGrpSpPr>
          <p:grpSpPr>
            <a:xfrm>
              <a:off x="3971880" y="1660680"/>
              <a:ext cx="1735200" cy="1612800"/>
              <a:chOff x="3971880" y="1660680"/>
              <a:chExt cx="1735200" cy="1612800"/>
            </a:xfrm>
          </p:grpSpPr>
          <p:sp>
            <p:nvSpPr>
              <p:cNvPr id="411" name="Oval 11"/>
              <p:cNvSpPr/>
              <p:nvPr/>
            </p:nvSpPr>
            <p:spPr>
              <a:xfrm>
                <a:off x="3971880" y="1660680"/>
                <a:ext cx="173520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12"/>
              <p:cNvSpPr/>
              <p:nvPr/>
            </p:nvSpPr>
            <p:spPr>
              <a:xfrm>
                <a:off x="4010760" y="1697040"/>
                <a:ext cx="1659960" cy="1541880"/>
              </a:xfrm>
              <a:prstGeom prst="ellipse">
                <a:avLst/>
              </a:prstGeom>
              <a:solidFill>
                <a:srgbClr val="ff0517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13"/>
            <p:cNvGrpSpPr/>
            <p:nvPr/>
          </p:nvGrpSpPr>
          <p:grpSpPr>
            <a:xfrm>
              <a:off x="4048200" y="1730880"/>
              <a:ext cx="1603800" cy="1492200"/>
              <a:chOff x="4048200" y="1730880"/>
              <a:chExt cx="1603800" cy="1492200"/>
            </a:xfrm>
          </p:grpSpPr>
          <p:sp>
            <p:nvSpPr>
              <p:cNvPr id="414" name="Oval 14"/>
              <p:cNvSpPr/>
              <p:nvPr/>
            </p:nvSpPr>
            <p:spPr>
              <a:xfrm>
                <a:off x="4048200" y="1730880"/>
                <a:ext cx="1603800" cy="1492200"/>
              </a:xfrm>
              <a:prstGeom prst="ellipse">
                <a:avLst/>
              </a:prstGeom>
              <a:solidFill>
                <a:srgbClr val="ff0517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5"/>
              <p:cNvSpPr/>
              <p:nvPr/>
            </p:nvSpPr>
            <p:spPr>
              <a:xfrm>
                <a:off x="4084200" y="1764720"/>
                <a:ext cx="15343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Group 16"/>
          <p:cNvGrpSpPr/>
          <p:nvPr/>
        </p:nvGrpSpPr>
        <p:grpSpPr>
          <a:xfrm>
            <a:off x="2473200" y="4064040"/>
            <a:ext cx="1735200" cy="1612800"/>
            <a:chOff x="2473200" y="4064040"/>
            <a:chExt cx="1735200" cy="1612800"/>
          </a:xfrm>
        </p:grpSpPr>
        <p:grpSp>
          <p:nvGrpSpPr>
            <p:cNvPr id="417" name="Group 17"/>
            <p:cNvGrpSpPr/>
            <p:nvPr/>
          </p:nvGrpSpPr>
          <p:grpSpPr>
            <a:xfrm>
              <a:off x="2473200" y="4064040"/>
              <a:ext cx="1735200" cy="1612800"/>
              <a:chOff x="2473200" y="4064040"/>
              <a:chExt cx="1735200" cy="1612800"/>
            </a:xfrm>
          </p:grpSpPr>
          <p:sp>
            <p:nvSpPr>
              <p:cNvPr id="418" name="Oval 18"/>
              <p:cNvSpPr/>
              <p:nvPr/>
            </p:nvSpPr>
            <p:spPr>
              <a:xfrm>
                <a:off x="2473200" y="4064040"/>
                <a:ext cx="1735200" cy="1612800"/>
              </a:xfrm>
              <a:prstGeom prst="ellipse">
                <a:avLst/>
              </a:prstGeom>
              <a:solidFill>
                <a:srgbClr val="bc000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19"/>
              <p:cNvSpPr/>
              <p:nvPr/>
            </p:nvSpPr>
            <p:spPr>
              <a:xfrm>
                <a:off x="2512080" y="4100400"/>
                <a:ext cx="1659960" cy="1541880"/>
              </a:xfrm>
              <a:prstGeom prst="ellipse">
                <a:avLst/>
              </a:prstGeom>
              <a:solidFill>
                <a:srgbClr val="bc000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20"/>
            <p:cNvGrpSpPr/>
            <p:nvPr/>
          </p:nvGrpSpPr>
          <p:grpSpPr>
            <a:xfrm>
              <a:off x="2549520" y="4134240"/>
              <a:ext cx="1603800" cy="1492200"/>
              <a:chOff x="2549520" y="4134240"/>
              <a:chExt cx="1603800" cy="1492200"/>
            </a:xfrm>
          </p:grpSpPr>
          <p:sp>
            <p:nvSpPr>
              <p:cNvPr id="421" name="Oval 21"/>
              <p:cNvSpPr/>
              <p:nvPr/>
            </p:nvSpPr>
            <p:spPr>
              <a:xfrm>
                <a:off x="2549520" y="4134240"/>
                <a:ext cx="1603800" cy="1492200"/>
              </a:xfrm>
              <a:prstGeom prst="ellipse">
                <a:avLst/>
              </a:prstGeom>
              <a:solidFill>
                <a:srgbClr val="bc000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2585520" y="4168080"/>
                <a:ext cx="1534320" cy="1426680"/>
              </a:xfrm>
              <a:prstGeom prst="ellipse">
                <a:avLst/>
              </a:prstGeom>
              <a:solidFill>
                <a:srgbClr val="bc000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5375160" y="4064040"/>
            <a:ext cx="1735200" cy="1612800"/>
            <a:chOff x="5375160" y="4064040"/>
            <a:chExt cx="1735200" cy="1612800"/>
          </a:xfrm>
        </p:grpSpPr>
        <p:grpSp>
          <p:nvGrpSpPr>
            <p:cNvPr id="424" name="Group 24"/>
            <p:cNvGrpSpPr/>
            <p:nvPr/>
          </p:nvGrpSpPr>
          <p:grpSpPr>
            <a:xfrm>
              <a:off x="5375160" y="4064040"/>
              <a:ext cx="1735200" cy="1612800"/>
              <a:chOff x="5375160" y="4064040"/>
              <a:chExt cx="1735200" cy="1612800"/>
            </a:xfrm>
          </p:grpSpPr>
          <p:sp>
            <p:nvSpPr>
              <p:cNvPr id="425" name="Oval 25"/>
              <p:cNvSpPr/>
              <p:nvPr/>
            </p:nvSpPr>
            <p:spPr>
              <a:xfrm>
                <a:off x="5375160" y="4064040"/>
                <a:ext cx="1735200" cy="1612800"/>
              </a:xfrm>
              <a:prstGeom prst="ellipse">
                <a:avLst/>
              </a:prstGeom>
              <a:solidFill>
                <a:srgbClr val="3a0004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26"/>
              <p:cNvSpPr/>
              <p:nvPr/>
            </p:nvSpPr>
            <p:spPr>
              <a:xfrm>
                <a:off x="5414040" y="4100400"/>
                <a:ext cx="1659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5451480" y="4134240"/>
              <a:ext cx="1603800" cy="1492200"/>
              <a:chOff x="5451480" y="4134240"/>
              <a:chExt cx="1603800" cy="1492200"/>
            </a:xfrm>
          </p:grpSpPr>
          <p:sp>
            <p:nvSpPr>
              <p:cNvPr id="428" name="Oval 28"/>
              <p:cNvSpPr/>
              <p:nvPr/>
            </p:nvSpPr>
            <p:spPr>
              <a:xfrm>
                <a:off x="5451480" y="4134240"/>
                <a:ext cx="160380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9"/>
              <p:cNvSpPr/>
              <p:nvPr/>
            </p:nvSpPr>
            <p:spPr>
              <a:xfrm>
                <a:off x="5487480" y="4168080"/>
                <a:ext cx="15343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30"/>
          <p:cNvGrpSpPr/>
          <p:nvPr/>
        </p:nvGrpSpPr>
        <p:grpSpPr>
          <a:xfrm>
            <a:off x="4051440" y="1711440"/>
            <a:ext cx="1558440" cy="1447200"/>
            <a:chOff x="4051440" y="1711440"/>
            <a:chExt cx="1558440" cy="1447200"/>
          </a:xfrm>
        </p:grpSpPr>
        <p:sp>
          <p:nvSpPr>
            <p:cNvPr id="431" name="Oval 31"/>
            <p:cNvSpPr/>
            <p:nvPr/>
          </p:nvSpPr>
          <p:spPr>
            <a:xfrm>
              <a:off x="4092840" y="1773720"/>
              <a:ext cx="1486080" cy="138492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51020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32" descr="cir_lighteffect0"/>
            <p:cNvPicPr/>
            <p:nvPr/>
          </p:nvPicPr>
          <p:blipFill>
            <a:blip r:embed="rId1"/>
            <a:stretch/>
          </p:blipFill>
          <p:spPr>
            <a:xfrm>
              <a:off x="4051440" y="1711440"/>
              <a:ext cx="15584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Rectangle 33"/>
          <p:cNvSpPr/>
          <p:nvPr/>
        </p:nvSpPr>
        <p:spPr>
          <a:xfrm>
            <a:off x="4081320" y="2144880"/>
            <a:ext cx="15433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2548080" y="4125960"/>
            <a:ext cx="1559880" cy="1447560"/>
            <a:chOff x="2548080" y="4125960"/>
            <a:chExt cx="1559880" cy="1447560"/>
          </a:xfrm>
        </p:grpSpPr>
        <p:sp>
          <p:nvSpPr>
            <p:cNvPr id="435" name="Oval 35"/>
            <p:cNvSpPr/>
            <p:nvPr/>
          </p:nvSpPr>
          <p:spPr>
            <a:xfrm>
              <a:off x="2589480" y="4188240"/>
              <a:ext cx="1487520" cy="1385280"/>
            </a:xfrm>
            <a:prstGeom prst="ellipse">
              <a:avLst/>
            </a:prstGeom>
            <a:gradFill rotWithShape="0">
              <a:gsLst>
                <a:gs pos="0">
                  <a:srgbClr val="bc000d"/>
                </a:gs>
                <a:gs pos="100000">
                  <a:srgbClr val="3c0004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Picture 36" descr="cir_lighteffect0"/>
            <p:cNvPicPr/>
            <p:nvPr/>
          </p:nvPicPr>
          <p:blipFill>
            <a:blip r:embed="rId2"/>
            <a:stretch/>
          </p:blipFill>
          <p:spPr>
            <a:xfrm>
              <a:off x="2548080" y="4125960"/>
              <a:ext cx="15598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Rectangle 37"/>
          <p:cNvSpPr/>
          <p:nvPr/>
        </p:nvSpPr>
        <p:spPr>
          <a:xfrm>
            <a:off x="2565360" y="4543560"/>
            <a:ext cx="15429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8"/>
          <p:cNvGrpSpPr/>
          <p:nvPr/>
        </p:nvGrpSpPr>
        <p:grpSpPr>
          <a:xfrm>
            <a:off x="5483160" y="4125960"/>
            <a:ext cx="1560240" cy="1447560"/>
            <a:chOff x="5483160" y="4125960"/>
            <a:chExt cx="1560240" cy="1447560"/>
          </a:xfrm>
        </p:grpSpPr>
        <p:sp>
          <p:nvSpPr>
            <p:cNvPr id="439" name="Oval 39"/>
            <p:cNvSpPr/>
            <p:nvPr/>
          </p:nvSpPr>
          <p:spPr>
            <a:xfrm>
              <a:off x="5524560" y="4188240"/>
              <a:ext cx="148788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40" descr="cir_lighteffect0"/>
            <p:cNvPicPr/>
            <p:nvPr/>
          </p:nvPicPr>
          <p:blipFill>
            <a:blip r:embed="rId3"/>
            <a:stretch/>
          </p:blipFill>
          <p:spPr>
            <a:xfrm>
              <a:off x="5483160" y="4125960"/>
              <a:ext cx="15602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Group 41"/>
          <p:cNvGrpSpPr/>
          <p:nvPr/>
        </p:nvGrpSpPr>
        <p:grpSpPr>
          <a:xfrm>
            <a:off x="5465880" y="4125960"/>
            <a:ext cx="1558440" cy="1447560"/>
            <a:chOff x="5465880" y="4125960"/>
            <a:chExt cx="1558440" cy="1447560"/>
          </a:xfrm>
        </p:grpSpPr>
        <p:sp>
          <p:nvSpPr>
            <p:cNvPr id="442" name="Oval 42"/>
            <p:cNvSpPr/>
            <p:nvPr/>
          </p:nvSpPr>
          <p:spPr>
            <a:xfrm>
              <a:off x="5507280" y="4188240"/>
              <a:ext cx="1486080" cy="1385280"/>
            </a:xfrm>
            <a:prstGeom prst="ellipse">
              <a:avLst/>
            </a:prstGeom>
            <a:gradFill rotWithShape="0">
              <a:gsLst>
                <a:gs pos="0">
                  <a:srgbClr val="3a0004"/>
                </a:gs>
                <a:gs pos="100000">
                  <a:srgbClr val="12000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Picture 43" descr="cir_lighteffect0"/>
            <p:cNvPicPr/>
            <p:nvPr/>
          </p:nvPicPr>
          <p:blipFill>
            <a:blip r:embed="rId4"/>
            <a:stretch/>
          </p:blipFill>
          <p:spPr>
            <a:xfrm>
              <a:off x="5465880" y="4125960"/>
              <a:ext cx="15584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Rectangle 44"/>
          <p:cNvSpPr/>
          <p:nvPr/>
        </p:nvSpPr>
        <p:spPr>
          <a:xfrm>
            <a:off x="5467320" y="4554360"/>
            <a:ext cx="1541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WordArt 48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AutoShape 3"/>
          <p:cNvSpPr/>
          <p:nvPr/>
        </p:nvSpPr>
        <p:spPr>
          <a:xfrm>
            <a:off x="5761080" y="2957400"/>
            <a:ext cx="302904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f05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5827680" y="3022560"/>
            <a:ext cx="287496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fa0a7"/>
              </a:gs>
              <a:gs pos="100000">
                <a:srgbClr val="ff0517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954000" y="2394000"/>
            <a:ext cx="3036600" cy="466560"/>
            <a:chOff x="954000" y="2394000"/>
            <a:chExt cx="3036600" cy="466560"/>
          </a:xfrm>
        </p:grpSpPr>
        <p:sp>
          <p:nvSpPr>
            <p:cNvPr id="449" name="AutoShape 6"/>
            <p:cNvSpPr/>
            <p:nvPr/>
          </p:nvSpPr>
          <p:spPr>
            <a:xfrm>
              <a:off x="954000" y="2394000"/>
              <a:ext cx="30366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000a"/>
                </a:gs>
                <a:gs pos="50000">
                  <a:srgbClr val="bc000d"/>
                </a:gs>
                <a:gs pos="100000">
                  <a:srgbClr val="95000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AutoShape 7"/>
            <p:cNvGrpSpPr/>
            <p:nvPr/>
          </p:nvGrpSpPr>
          <p:grpSpPr>
            <a:xfrm>
              <a:off x="3841560" y="2462400"/>
              <a:ext cx="132840" cy="323640"/>
              <a:chOff x="3841560" y="2462400"/>
              <a:chExt cx="132840" cy="323640"/>
            </a:xfrm>
          </p:grpSpPr>
          <p:pic>
            <p:nvPicPr>
              <p:cNvPr id="45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41560" y="2462400"/>
                <a:ext cx="1328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3945240" y="2568240"/>
                <a:ext cx="20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AutoShape 8"/>
            <p:cNvGrpSpPr/>
            <p:nvPr/>
          </p:nvGrpSpPr>
          <p:grpSpPr>
            <a:xfrm>
              <a:off x="988200" y="2462400"/>
              <a:ext cx="133200" cy="323640"/>
              <a:chOff x="988200" y="2462400"/>
              <a:chExt cx="133200" cy="323640"/>
            </a:xfrm>
          </p:grpSpPr>
          <p:pic>
            <p:nvPicPr>
              <p:cNvPr id="45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88200" y="2462400"/>
                <a:ext cx="13320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995400" y="2568240"/>
                <a:ext cx="20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9"/>
          <p:cNvGrpSpPr/>
          <p:nvPr/>
        </p:nvGrpSpPr>
        <p:grpSpPr>
          <a:xfrm>
            <a:off x="5734080" y="2394000"/>
            <a:ext cx="3036600" cy="466560"/>
            <a:chOff x="5734080" y="2394000"/>
            <a:chExt cx="3036600" cy="466560"/>
          </a:xfrm>
        </p:grpSpPr>
        <p:sp>
          <p:nvSpPr>
            <p:cNvPr id="457" name="AutoShape 10"/>
            <p:cNvSpPr/>
            <p:nvPr/>
          </p:nvSpPr>
          <p:spPr>
            <a:xfrm>
              <a:off x="5734080" y="2394000"/>
              <a:ext cx="30366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30414"/>
                </a:gs>
                <a:gs pos="50000">
                  <a:srgbClr val="ff0517"/>
                </a:gs>
                <a:gs pos="100000">
                  <a:srgbClr val="e30414"/>
                </a:gs>
              </a:gsLst>
              <a:lin ang="0"/>
            </a:gradFill>
            <a:ln w="12600">
              <a:solidFill>
                <a:srgbClr val="ff0517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AutoShape 11"/>
            <p:cNvGrpSpPr/>
            <p:nvPr/>
          </p:nvGrpSpPr>
          <p:grpSpPr>
            <a:xfrm>
              <a:off x="8619120" y="2462400"/>
              <a:ext cx="132840" cy="323640"/>
              <a:chOff x="8619120" y="2462400"/>
              <a:chExt cx="132840" cy="323640"/>
            </a:xfrm>
          </p:grpSpPr>
          <p:pic>
            <p:nvPicPr>
              <p:cNvPr id="45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619120" y="2462400"/>
                <a:ext cx="13284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8723520" y="2568240"/>
                <a:ext cx="20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2"/>
            <p:cNvGrpSpPr/>
            <p:nvPr/>
          </p:nvGrpSpPr>
          <p:grpSpPr>
            <a:xfrm>
              <a:off x="5766120" y="2462400"/>
              <a:ext cx="133200" cy="323640"/>
              <a:chOff x="5766120" y="2462400"/>
              <a:chExt cx="133200" cy="323640"/>
            </a:xfrm>
          </p:grpSpPr>
          <p:pic>
            <p:nvPicPr>
              <p:cNvPr id="46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66120" y="2462400"/>
                <a:ext cx="13320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>
                <a:off x="5774040" y="2568240"/>
                <a:ext cx="20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AutoShape 13"/>
          <p:cNvSpPr/>
          <p:nvPr/>
        </p:nvSpPr>
        <p:spPr>
          <a:xfrm>
            <a:off x="954000" y="2957400"/>
            <a:ext cx="302904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bc0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8"/>
          <p:cNvSpPr/>
          <p:nvPr/>
        </p:nvSpPr>
        <p:spPr>
          <a:xfrm>
            <a:off x="1236600" y="2473200"/>
            <a:ext cx="2379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6073920" y="2473200"/>
            <a:ext cx="2381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6"/>
          <p:cNvSpPr/>
          <p:nvPr/>
        </p:nvSpPr>
        <p:spPr>
          <a:xfrm flipH="1" flipV="1" rot="10806000">
            <a:off x="4069800" y="3503160"/>
            <a:ext cx="1538280" cy="755640"/>
          </a:xfrm>
          <a:prstGeom prst="rightArrow">
            <a:avLst>
              <a:gd name="adj1" fmla="val 46509"/>
              <a:gd name="adj2" fmla="val 4205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c000d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7"/>
          <p:cNvSpPr/>
          <p:nvPr/>
        </p:nvSpPr>
        <p:spPr>
          <a:xfrm>
            <a:off x="602172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601056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157800" y="3403440"/>
            <a:ext cx="267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6157800" y="4624560"/>
            <a:ext cx="267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1"/>
          <p:cNvGrpSpPr/>
          <p:nvPr/>
        </p:nvGrpSpPr>
        <p:grpSpPr>
          <a:xfrm>
            <a:off x="5900760" y="3168720"/>
            <a:ext cx="179280" cy="168120"/>
            <a:chOff x="5900760" y="3168720"/>
            <a:chExt cx="179280" cy="168120"/>
          </a:xfrm>
        </p:grpSpPr>
        <p:sp>
          <p:nvSpPr>
            <p:cNvPr id="473" name="Oval 22"/>
            <p:cNvSpPr/>
            <p:nvPr/>
          </p:nvSpPr>
          <p:spPr>
            <a:xfrm>
              <a:off x="5900760" y="3168720"/>
              <a:ext cx="1792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23"/>
            <p:cNvSpPr/>
            <p:nvPr/>
          </p:nvSpPr>
          <p:spPr>
            <a:xfrm>
              <a:off x="5914800" y="3182760"/>
              <a:ext cx="150480" cy="14004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60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24"/>
          <p:cNvGrpSpPr/>
          <p:nvPr/>
        </p:nvGrpSpPr>
        <p:grpSpPr>
          <a:xfrm>
            <a:off x="5900760" y="4459320"/>
            <a:ext cx="179280" cy="168120"/>
            <a:chOff x="5900760" y="4459320"/>
            <a:chExt cx="179280" cy="168120"/>
          </a:xfrm>
        </p:grpSpPr>
        <p:sp>
          <p:nvSpPr>
            <p:cNvPr id="476" name="Oval 25"/>
            <p:cNvSpPr/>
            <p:nvPr/>
          </p:nvSpPr>
          <p:spPr>
            <a:xfrm>
              <a:off x="5900760" y="4459320"/>
              <a:ext cx="1792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26"/>
            <p:cNvSpPr/>
            <p:nvPr/>
          </p:nvSpPr>
          <p:spPr>
            <a:xfrm>
              <a:off x="5914800" y="4473360"/>
              <a:ext cx="150480" cy="140040"/>
            </a:xfrm>
            <a:prstGeom prst="ellipse">
              <a:avLst/>
            </a:prstGeom>
            <a:gradFill rotWithShape="0">
              <a:gsLst>
                <a:gs pos="0">
                  <a:srgbClr val="ff0517"/>
                </a:gs>
                <a:gs pos="100000">
                  <a:srgbClr val="ff60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27"/>
          <p:cNvSpPr/>
          <p:nvPr/>
        </p:nvSpPr>
        <p:spPr>
          <a:xfrm>
            <a:off x="1116000" y="4948200"/>
            <a:ext cx="279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8"/>
          <p:cNvSpPr/>
          <p:nvPr/>
        </p:nvSpPr>
        <p:spPr>
          <a:xfrm>
            <a:off x="1035000" y="3184560"/>
            <a:ext cx="2868840" cy="428760"/>
          </a:xfrm>
          <a:prstGeom prst="roundRect">
            <a:avLst>
              <a:gd name="adj" fmla="val 50000"/>
            </a:avLst>
          </a:prstGeom>
          <a:solidFill>
            <a:srgbClr val="bc00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035000" y="3768840"/>
            <a:ext cx="2868840" cy="428400"/>
          </a:xfrm>
          <a:prstGeom prst="roundRect">
            <a:avLst>
              <a:gd name="adj" fmla="val 50000"/>
            </a:avLst>
          </a:prstGeom>
          <a:solidFill>
            <a:srgbClr val="bc00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0"/>
          <p:cNvSpPr/>
          <p:nvPr/>
        </p:nvSpPr>
        <p:spPr>
          <a:xfrm>
            <a:off x="1035000" y="4329000"/>
            <a:ext cx="2868840" cy="428760"/>
          </a:xfrm>
          <a:prstGeom prst="roundRect">
            <a:avLst>
              <a:gd name="adj" fmla="val 50000"/>
            </a:avLst>
          </a:prstGeom>
          <a:solidFill>
            <a:srgbClr val="bc00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>
            <a:off x="106128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2"/>
          <p:cNvSpPr/>
          <p:nvPr/>
        </p:nvSpPr>
        <p:spPr>
          <a:xfrm>
            <a:off x="106128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3"/>
          <p:cNvSpPr/>
          <p:nvPr/>
        </p:nvSpPr>
        <p:spPr>
          <a:xfrm>
            <a:off x="106128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4"/>
          <p:cNvSpPr/>
          <p:nvPr/>
        </p:nvSpPr>
        <p:spPr>
          <a:xfrm flipV="1" rot="10794000">
            <a:off x="4036320" y="4107960"/>
            <a:ext cx="153972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517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1925640" y="1492200"/>
            <a:ext cx="62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6"/>
          <p:cNvSpPr/>
          <p:nvPr/>
        </p:nvSpPr>
        <p:spPr>
          <a:xfrm>
            <a:off x="8809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7"/>
          <p:cNvSpPr/>
          <p:nvPr/>
        </p:nvSpPr>
        <p:spPr>
          <a:xfrm>
            <a:off x="56610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49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274920"/>
            <a:ext cx="9721440" cy="142920"/>
            <a:chOff x="0" y="3274920"/>
            <a:chExt cx="9721440" cy="142920"/>
          </a:xfrm>
        </p:grpSpPr>
        <p:sp>
          <p:nvSpPr>
            <p:cNvPr id="491" name="Rectangle 3"/>
            <p:cNvSpPr/>
            <p:nvPr/>
          </p:nvSpPr>
          <p:spPr>
            <a:xfrm>
              <a:off x="0" y="3274920"/>
              <a:ext cx="972144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"/>
            <p:cNvSpPr/>
            <p:nvPr/>
          </p:nvSpPr>
          <p:spPr>
            <a:xfrm>
              <a:off x="0" y="3351240"/>
              <a:ext cx="972144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"/>
          <p:cNvGrpSpPr/>
          <p:nvPr/>
        </p:nvGrpSpPr>
        <p:grpSpPr>
          <a:xfrm>
            <a:off x="6966000" y="2712960"/>
            <a:ext cx="2420640" cy="3631680"/>
            <a:chOff x="6966000" y="2712960"/>
            <a:chExt cx="2420640" cy="3631680"/>
          </a:xfrm>
        </p:grpSpPr>
        <p:grpSp>
          <p:nvGrpSpPr>
            <p:cNvPr id="494" name="Group 6"/>
            <p:cNvGrpSpPr/>
            <p:nvPr/>
          </p:nvGrpSpPr>
          <p:grpSpPr>
            <a:xfrm>
              <a:off x="7626240" y="3641040"/>
              <a:ext cx="1760400" cy="2703600"/>
              <a:chOff x="7626240" y="3641040"/>
              <a:chExt cx="1760400" cy="2703600"/>
            </a:xfrm>
          </p:grpSpPr>
          <p:grpSp>
            <p:nvGrpSpPr>
              <p:cNvPr id="495" name="Group 7"/>
              <p:cNvGrpSpPr/>
              <p:nvPr/>
            </p:nvGrpSpPr>
            <p:grpSpPr>
              <a:xfrm>
                <a:off x="7626240" y="3829320"/>
                <a:ext cx="1607760" cy="2515320"/>
                <a:chOff x="7626240" y="3829320"/>
                <a:chExt cx="1607760" cy="2515320"/>
              </a:xfrm>
            </p:grpSpPr>
            <p:sp>
              <p:nvSpPr>
                <p:cNvPr id="496" name="Freeform 8"/>
                <p:cNvSpPr/>
                <p:nvPr/>
              </p:nvSpPr>
              <p:spPr>
                <a:xfrm rot="3876600">
                  <a:off x="7178040" y="4790880"/>
                  <a:ext cx="2503440" cy="5914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6"/>
                    </a:gs>
                    <a:gs pos="100000">
                      <a:srgbClr val="bc00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9"/>
                <p:cNvSpPr/>
                <p:nvPr/>
              </p:nvSpPr>
              <p:spPr>
                <a:xfrm rot="3876600">
                  <a:off x="8686440" y="5765040"/>
                  <a:ext cx="393480" cy="48420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84200"/>
                    <a:gd name="textAreaBottom" fmla="*/ 484560 h 4842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Group 10"/>
              <p:cNvGrpSpPr/>
              <p:nvPr/>
            </p:nvGrpSpPr>
            <p:grpSpPr>
              <a:xfrm>
                <a:off x="8152920" y="3641040"/>
                <a:ext cx="1233720" cy="1929960"/>
                <a:chOff x="8152920" y="3641040"/>
                <a:chExt cx="1233720" cy="1929960"/>
              </a:xfrm>
            </p:grpSpPr>
            <p:sp>
              <p:nvSpPr>
                <p:cNvPr id="499" name="Freeform 11"/>
                <p:cNvSpPr/>
                <p:nvPr/>
              </p:nvSpPr>
              <p:spPr>
                <a:xfrm flipV="1" rot="3876600">
                  <a:off x="7809120" y="4378680"/>
                  <a:ext cx="1920960" cy="453960"/>
                </a:xfrm>
                <a:custGeom>
                  <a:avLst/>
                  <a:gdLst>
                    <a:gd name="textAreaLeft" fmla="*/ 0 w 1920960"/>
                    <a:gd name="textAreaRight" fmla="*/ 1921320 w 1920960"/>
                    <a:gd name="textAreaTop" fmla="*/ -360 h 453960"/>
                    <a:gd name="textAreaBottom" fmla="*/ 453960 h 4539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bc00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12"/>
                <p:cNvSpPr/>
                <p:nvPr/>
              </p:nvSpPr>
              <p:spPr>
                <a:xfrm flipV="1" rot="3876600">
                  <a:off x="8945640" y="5132520"/>
                  <a:ext cx="301680" cy="3715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71520"/>
                    <a:gd name="textAreaBottom" fmla="*/ 372240 h 3715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Oval 13"/>
            <p:cNvSpPr/>
            <p:nvPr/>
          </p:nvSpPr>
          <p:spPr>
            <a:xfrm>
              <a:off x="7114320" y="3125880"/>
              <a:ext cx="18180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c000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4"/>
            <p:cNvSpPr/>
            <p:nvPr/>
          </p:nvSpPr>
          <p:spPr>
            <a:xfrm>
              <a:off x="7119360" y="3130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bc000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5"/>
            <p:cNvSpPr/>
            <p:nvPr/>
          </p:nvSpPr>
          <p:spPr>
            <a:xfrm>
              <a:off x="6970680" y="3125880"/>
              <a:ext cx="1597320" cy="480960"/>
            </a:xfrm>
            <a:prstGeom prst="ellipse">
              <a:avLst/>
            </a:prstGeom>
            <a:gradFill rotWithShape="0">
              <a:gsLst>
                <a:gs pos="0">
                  <a:srgbClr val="660007"/>
                </a:gs>
                <a:gs pos="50000">
                  <a:srgbClr val="bc000d"/>
                </a:gs>
                <a:gs pos="100000">
                  <a:srgbClr val="66000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6"/>
            <p:cNvSpPr/>
            <p:nvPr/>
          </p:nvSpPr>
          <p:spPr>
            <a:xfrm>
              <a:off x="6966000" y="3117960"/>
              <a:ext cx="1597320" cy="480960"/>
            </a:xfrm>
            <a:prstGeom prst="ellipse">
              <a:avLst/>
            </a:prstGeom>
            <a:gradFill rotWithShape="0">
              <a:gsLst>
                <a:gs pos="0">
                  <a:srgbClr val="770008"/>
                </a:gs>
                <a:gs pos="100000">
                  <a:srgbClr val="bc000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17"/>
            <p:cNvSpPr/>
            <p:nvPr/>
          </p:nvSpPr>
          <p:spPr>
            <a:xfrm>
              <a:off x="7052040" y="3125880"/>
              <a:ext cx="1437120" cy="480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18"/>
            <p:cNvGrpSpPr/>
            <p:nvPr/>
          </p:nvGrpSpPr>
          <p:grpSpPr>
            <a:xfrm>
              <a:off x="7084080" y="2712960"/>
              <a:ext cx="1392840" cy="1309680"/>
              <a:chOff x="7084080" y="2712960"/>
              <a:chExt cx="1392840" cy="1309680"/>
            </a:xfrm>
          </p:grpSpPr>
          <p:sp>
            <p:nvSpPr>
              <p:cNvPr id="507" name="Oval 19"/>
              <p:cNvSpPr/>
              <p:nvPr/>
            </p:nvSpPr>
            <p:spPr>
              <a:xfrm>
                <a:off x="7084080" y="2712960"/>
                <a:ext cx="1392840" cy="1309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20"/>
              <p:cNvSpPr/>
              <p:nvPr/>
            </p:nvSpPr>
            <p:spPr>
              <a:xfrm>
                <a:off x="7101720" y="2720160"/>
                <a:ext cx="1359360" cy="1277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21"/>
              <p:cNvSpPr/>
              <p:nvPr/>
            </p:nvSpPr>
            <p:spPr>
              <a:xfrm>
                <a:off x="7116120" y="2732760"/>
                <a:ext cx="1292760" cy="1193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22"/>
              <p:cNvSpPr/>
              <p:nvPr/>
            </p:nvSpPr>
            <p:spPr>
              <a:xfrm>
                <a:off x="7191720" y="2766240"/>
                <a:ext cx="1149120" cy="9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Text Box 23"/>
            <p:cNvSpPr/>
            <p:nvPr/>
          </p:nvSpPr>
          <p:spPr>
            <a:xfrm rot="3925800">
              <a:off x="7649280" y="4758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24"/>
            <p:cNvSpPr/>
            <p:nvPr/>
          </p:nvSpPr>
          <p:spPr>
            <a:xfrm rot="3925800">
              <a:off x="8172360" y="44733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13" name="AutoShape 29"/>
          <p:cNvCxnSpPr>
            <a:stCxn id="514" idx="3"/>
            <a:endCxn id="515" idx="1"/>
          </p:cNvCxnSpPr>
          <p:nvPr/>
        </p:nvCxnSpPr>
        <p:spPr>
          <a:xfrm>
            <a:off x="1553760" y="3338640"/>
            <a:ext cx="1407240" cy="10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516" name="AutoShape 30"/>
          <p:cNvCxnSpPr>
            <a:stCxn id="515" idx="3"/>
          </p:cNvCxnSpPr>
          <p:nvPr/>
        </p:nvCxnSpPr>
        <p:spPr>
          <a:xfrm>
            <a:off x="3652920" y="3347640"/>
            <a:ext cx="128952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517" name="Group 34"/>
          <p:cNvGrpSpPr/>
          <p:nvPr/>
        </p:nvGrpSpPr>
        <p:grpSpPr>
          <a:xfrm>
            <a:off x="4861080" y="2806560"/>
            <a:ext cx="2185200" cy="3339720"/>
            <a:chOff x="4861080" y="2806560"/>
            <a:chExt cx="2185200" cy="3339720"/>
          </a:xfrm>
        </p:grpSpPr>
        <p:grpSp>
          <p:nvGrpSpPr>
            <p:cNvPr id="518" name="Group 35"/>
            <p:cNvGrpSpPr/>
            <p:nvPr/>
          </p:nvGrpSpPr>
          <p:grpSpPr>
            <a:xfrm>
              <a:off x="5285880" y="3442680"/>
              <a:ext cx="1760400" cy="2703600"/>
              <a:chOff x="5285880" y="3442680"/>
              <a:chExt cx="1760400" cy="2703600"/>
            </a:xfrm>
          </p:grpSpPr>
          <p:grpSp>
            <p:nvGrpSpPr>
              <p:cNvPr id="519" name="Group 36"/>
              <p:cNvGrpSpPr/>
              <p:nvPr/>
            </p:nvGrpSpPr>
            <p:grpSpPr>
              <a:xfrm>
                <a:off x="5285880" y="3630960"/>
                <a:ext cx="1608120" cy="2515320"/>
                <a:chOff x="5285880" y="3630960"/>
                <a:chExt cx="1608120" cy="2515320"/>
              </a:xfrm>
            </p:grpSpPr>
            <p:sp>
              <p:nvSpPr>
                <p:cNvPr id="520" name="Freeform 37"/>
                <p:cNvSpPr/>
                <p:nvPr/>
              </p:nvSpPr>
              <p:spPr>
                <a:xfrm rot="3876600">
                  <a:off x="4838040" y="4592520"/>
                  <a:ext cx="2503440" cy="5918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b0002"/>
                    </a:gs>
                    <a:gs pos="100000">
                      <a:srgbClr val="3a00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8"/>
                <p:cNvSpPr/>
                <p:nvPr/>
              </p:nvSpPr>
              <p:spPr>
                <a:xfrm rot="3876600">
                  <a:off x="6346080" y="5566680"/>
                  <a:ext cx="393480" cy="48456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84560"/>
                    <a:gd name="textAreaBottom" fmla="*/ 484560 h 4845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39"/>
              <p:cNvGrpSpPr/>
              <p:nvPr/>
            </p:nvGrpSpPr>
            <p:grpSpPr>
              <a:xfrm>
                <a:off x="5812200" y="3442680"/>
                <a:ext cx="1234080" cy="1930320"/>
                <a:chOff x="5812200" y="3442680"/>
                <a:chExt cx="1234080" cy="1930320"/>
              </a:xfrm>
            </p:grpSpPr>
            <p:sp>
              <p:nvSpPr>
                <p:cNvPr id="523" name="Freeform 40"/>
                <p:cNvSpPr/>
                <p:nvPr/>
              </p:nvSpPr>
              <p:spPr>
                <a:xfrm flipV="1" rot="3876600">
                  <a:off x="5468760" y="4180680"/>
                  <a:ext cx="1920960" cy="454320"/>
                </a:xfrm>
                <a:custGeom>
                  <a:avLst/>
                  <a:gdLst>
                    <a:gd name="textAreaLeft" fmla="*/ 0 w 1920960"/>
                    <a:gd name="textAreaRight" fmla="*/ 1921320 w 1920960"/>
                    <a:gd name="textAreaTop" fmla="*/ 360 h 454320"/>
                    <a:gd name="textAreaBottom" fmla="*/ 455040 h 4543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a00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1"/>
                <p:cNvSpPr/>
                <p:nvPr/>
              </p:nvSpPr>
              <p:spPr>
                <a:xfrm flipV="1" rot="3876600">
                  <a:off x="6604920" y="4934520"/>
                  <a:ext cx="301680" cy="3715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71520"/>
                    <a:gd name="textAreaBottom" fmla="*/ 372240 h 3715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" name="Text Box 42"/>
            <p:cNvSpPr/>
            <p:nvPr/>
          </p:nvSpPr>
          <p:spPr>
            <a:xfrm rot="3925800">
              <a:off x="5300640" y="4482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43"/>
            <p:cNvSpPr/>
            <p:nvPr/>
          </p:nvSpPr>
          <p:spPr>
            <a:xfrm rot="3925800">
              <a:off x="582444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44"/>
            <p:cNvSpPr/>
            <p:nvPr/>
          </p:nvSpPr>
          <p:spPr>
            <a:xfrm>
              <a:off x="4977360" y="311148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45"/>
            <p:cNvSpPr/>
            <p:nvPr/>
          </p:nvSpPr>
          <p:spPr>
            <a:xfrm>
              <a:off x="4977360" y="31352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46"/>
            <p:cNvSpPr/>
            <p:nvPr/>
          </p:nvSpPr>
          <p:spPr>
            <a:xfrm>
              <a:off x="4876200" y="3111480"/>
              <a:ext cx="1326240" cy="48096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47"/>
            <p:cNvSpPr/>
            <p:nvPr/>
          </p:nvSpPr>
          <p:spPr>
            <a:xfrm>
              <a:off x="4861080" y="3120840"/>
              <a:ext cx="1327680" cy="481320"/>
            </a:xfrm>
            <a:prstGeom prst="ellipse">
              <a:avLst/>
            </a:prstGeom>
            <a:gradFill rotWithShape="0">
              <a:gsLst>
                <a:gs pos="0">
                  <a:srgbClr val="27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48"/>
            <p:cNvSpPr/>
            <p:nvPr/>
          </p:nvSpPr>
          <p:spPr>
            <a:xfrm>
              <a:off x="4942080" y="3120840"/>
              <a:ext cx="1196280" cy="481320"/>
            </a:xfrm>
            <a:prstGeom prst="ellipse">
              <a:avLst/>
            </a:prstGeom>
            <a:gradFill rotWithShape="0">
              <a:gsLst>
                <a:gs pos="0">
                  <a:srgbClr val="3a0004"/>
                </a:gs>
                <a:gs pos="100000">
                  <a:srgbClr val="03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49"/>
            <p:cNvGrpSpPr/>
            <p:nvPr/>
          </p:nvGrpSpPr>
          <p:grpSpPr>
            <a:xfrm>
              <a:off x="4967280" y="2806560"/>
              <a:ext cx="1159200" cy="1106640"/>
              <a:chOff x="4967280" y="2806560"/>
              <a:chExt cx="1159200" cy="1106640"/>
            </a:xfrm>
          </p:grpSpPr>
          <p:sp>
            <p:nvSpPr>
              <p:cNvPr id="533" name="Oval 50"/>
              <p:cNvSpPr/>
              <p:nvPr/>
            </p:nvSpPr>
            <p:spPr>
              <a:xfrm>
                <a:off x="4967280" y="2806560"/>
                <a:ext cx="115920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51"/>
              <p:cNvSpPr/>
              <p:nvPr/>
            </p:nvSpPr>
            <p:spPr>
              <a:xfrm>
                <a:off x="4981680" y="2812680"/>
                <a:ext cx="113148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52"/>
              <p:cNvSpPr/>
              <p:nvPr/>
            </p:nvSpPr>
            <p:spPr>
              <a:xfrm>
                <a:off x="4993920" y="2823120"/>
                <a:ext cx="107568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53"/>
              <p:cNvSpPr/>
              <p:nvPr/>
            </p:nvSpPr>
            <p:spPr>
              <a:xfrm>
                <a:off x="5056920" y="2851560"/>
                <a:ext cx="95616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7" name="Group 55"/>
          <p:cNvGrpSpPr/>
          <p:nvPr/>
        </p:nvGrpSpPr>
        <p:grpSpPr>
          <a:xfrm>
            <a:off x="2673360" y="2806560"/>
            <a:ext cx="2185200" cy="3339720"/>
            <a:chOff x="2673360" y="2806560"/>
            <a:chExt cx="2185200" cy="3339720"/>
          </a:xfrm>
        </p:grpSpPr>
        <p:grpSp>
          <p:nvGrpSpPr>
            <p:cNvPr id="538" name="Group 56"/>
            <p:cNvGrpSpPr/>
            <p:nvPr/>
          </p:nvGrpSpPr>
          <p:grpSpPr>
            <a:xfrm>
              <a:off x="3097800" y="3442680"/>
              <a:ext cx="1760760" cy="2703600"/>
              <a:chOff x="3097800" y="3442680"/>
              <a:chExt cx="1760760" cy="2703600"/>
            </a:xfrm>
          </p:grpSpPr>
          <p:grpSp>
            <p:nvGrpSpPr>
              <p:cNvPr id="539" name="Group 57"/>
              <p:cNvGrpSpPr/>
              <p:nvPr/>
            </p:nvGrpSpPr>
            <p:grpSpPr>
              <a:xfrm>
                <a:off x="3097800" y="3630960"/>
                <a:ext cx="1608120" cy="2515320"/>
                <a:chOff x="3097800" y="3630960"/>
                <a:chExt cx="1608120" cy="2515320"/>
              </a:xfrm>
            </p:grpSpPr>
            <p:sp>
              <p:nvSpPr>
                <p:cNvPr id="540" name="Freeform 58"/>
                <p:cNvSpPr/>
                <p:nvPr/>
              </p:nvSpPr>
              <p:spPr>
                <a:xfrm rot="3876600">
                  <a:off x="2649960" y="4592520"/>
                  <a:ext cx="2503440" cy="5918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b0002"/>
                    </a:gs>
                    <a:gs pos="100000">
                      <a:srgbClr val="3a00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59"/>
                <p:cNvSpPr/>
                <p:nvPr/>
              </p:nvSpPr>
              <p:spPr>
                <a:xfrm rot="3876600">
                  <a:off x="4158000" y="5566680"/>
                  <a:ext cx="393480" cy="48456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84560"/>
                    <a:gd name="textAreaBottom" fmla="*/ 484560 h 4845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0"/>
              <p:cNvGrpSpPr/>
              <p:nvPr/>
            </p:nvGrpSpPr>
            <p:grpSpPr>
              <a:xfrm>
                <a:off x="3624480" y="3442680"/>
                <a:ext cx="1234080" cy="1930320"/>
                <a:chOff x="3624480" y="3442680"/>
                <a:chExt cx="1234080" cy="1930320"/>
              </a:xfrm>
            </p:grpSpPr>
            <p:sp>
              <p:nvSpPr>
                <p:cNvPr id="543" name="Freeform 61"/>
                <p:cNvSpPr/>
                <p:nvPr/>
              </p:nvSpPr>
              <p:spPr>
                <a:xfrm flipV="1" rot="3876600">
                  <a:off x="3281040" y="4180680"/>
                  <a:ext cx="1920960" cy="454320"/>
                </a:xfrm>
                <a:custGeom>
                  <a:avLst/>
                  <a:gdLst>
                    <a:gd name="textAreaLeft" fmla="*/ 0 w 1920960"/>
                    <a:gd name="textAreaRight" fmla="*/ 1921320 w 1920960"/>
                    <a:gd name="textAreaTop" fmla="*/ 360 h 454320"/>
                    <a:gd name="textAreaBottom" fmla="*/ 455040 h 4543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a00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2"/>
                <p:cNvSpPr/>
                <p:nvPr/>
              </p:nvSpPr>
              <p:spPr>
                <a:xfrm flipV="1" rot="3876600">
                  <a:off x="4417200" y="4934520"/>
                  <a:ext cx="301680" cy="3715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71520"/>
                    <a:gd name="textAreaBottom" fmla="*/ 372240 h 3715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63"/>
            <p:cNvSpPr/>
            <p:nvPr/>
          </p:nvSpPr>
          <p:spPr>
            <a:xfrm rot="3925800">
              <a:off x="3113280" y="4482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64"/>
            <p:cNvSpPr/>
            <p:nvPr/>
          </p:nvSpPr>
          <p:spPr>
            <a:xfrm rot="3925800">
              <a:off x="363708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65"/>
            <p:cNvSpPr/>
            <p:nvPr/>
          </p:nvSpPr>
          <p:spPr>
            <a:xfrm>
              <a:off x="2789640" y="311148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66"/>
            <p:cNvSpPr/>
            <p:nvPr/>
          </p:nvSpPr>
          <p:spPr>
            <a:xfrm>
              <a:off x="2789640" y="31352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67"/>
            <p:cNvSpPr/>
            <p:nvPr/>
          </p:nvSpPr>
          <p:spPr>
            <a:xfrm>
              <a:off x="2688480" y="3111480"/>
              <a:ext cx="1326600" cy="48096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68"/>
            <p:cNvSpPr/>
            <p:nvPr/>
          </p:nvSpPr>
          <p:spPr>
            <a:xfrm>
              <a:off x="2673360" y="3120840"/>
              <a:ext cx="1328040" cy="481320"/>
            </a:xfrm>
            <a:prstGeom prst="ellipse">
              <a:avLst/>
            </a:prstGeom>
            <a:gradFill rotWithShape="0">
              <a:gsLst>
                <a:gs pos="0">
                  <a:srgbClr val="27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69"/>
            <p:cNvSpPr/>
            <p:nvPr/>
          </p:nvSpPr>
          <p:spPr>
            <a:xfrm>
              <a:off x="2754360" y="3120840"/>
              <a:ext cx="1196280" cy="481320"/>
            </a:xfrm>
            <a:prstGeom prst="ellipse">
              <a:avLst/>
            </a:prstGeom>
            <a:gradFill rotWithShape="0">
              <a:gsLst>
                <a:gs pos="0">
                  <a:srgbClr val="3a0004"/>
                </a:gs>
                <a:gs pos="100000">
                  <a:srgbClr val="03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70"/>
            <p:cNvGrpSpPr/>
            <p:nvPr/>
          </p:nvGrpSpPr>
          <p:grpSpPr>
            <a:xfrm>
              <a:off x="2779560" y="2806560"/>
              <a:ext cx="1159200" cy="1106640"/>
              <a:chOff x="2779560" y="2806560"/>
              <a:chExt cx="1159200" cy="1106640"/>
            </a:xfrm>
          </p:grpSpPr>
          <p:sp>
            <p:nvSpPr>
              <p:cNvPr id="553" name="Oval 71"/>
              <p:cNvSpPr/>
              <p:nvPr/>
            </p:nvSpPr>
            <p:spPr>
              <a:xfrm>
                <a:off x="2779560" y="2806560"/>
                <a:ext cx="115920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72"/>
              <p:cNvSpPr/>
              <p:nvPr/>
            </p:nvSpPr>
            <p:spPr>
              <a:xfrm>
                <a:off x="2793960" y="2812680"/>
                <a:ext cx="113148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73"/>
              <p:cNvSpPr/>
              <p:nvPr/>
            </p:nvSpPr>
            <p:spPr>
              <a:xfrm>
                <a:off x="2806200" y="2823120"/>
                <a:ext cx="107568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74"/>
              <p:cNvSpPr/>
              <p:nvPr/>
            </p:nvSpPr>
            <p:spPr>
              <a:xfrm>
                <a:off x="2869200" y="2851560"/>
                <a:ext cx="95616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75"/>
          <p:cNvGrpSpPr/>
          <p:nvPr/>
        </p:nvGrpSpPr>
        <p:grpSpPr>
          <a:xfrm>
            <a:off x="566640" y="2806560"/>
            <a:ext cx="2185200" cy="3339720"/>
            <a:chOff x="566640" y="2806560"/>
            <a:chExt cx="2185200" cy="3339720"/>
          </a:xfrm>
        </p:grpSpPr>
        <p:grpSp>
          <p:nvGrpSpPr>
            <p:cNvPr id="558" name="Group 76"/>
            <p:cNvGrpSpPr/>
            <p:nvPr/>
          </p:nvGrpSpPr>
          <p:grpSpPr>
            <a:xfrm>
              <a:off x="991080" y="3442680"/>
              <a:ext cx="1760760" cy="2703600"/>
              <a:chOff x="991080" y="3442680"/>
              <a:chExt cx="1760760" cy="2703600"/>
            </a:xfrm>
          </p:grpSpPr>
          <p:grpSp>
            <p:nvGrpSpPr>
              <p:cNvPr id="559" name="Group 77"/>
              <p:cNvGrpSpPr/>
              <p:nvPr/>
            </p:nvGrpSpPr>
            <p:grpSpPr>
              <a:xfrm>
                <a:off x="991080" y="3630960"/>
                <a:ext cx="1608120" cy="2515320"/>
                <a:chOff x="991080" y="3630960"/>
                <a:chExt cx="1608120" cy="2515320"/>
              </a:xfrm>
            </p:grpSpPr>
            <p:sp>
              <p:nvSpPr>
                <p:cNvPr id="560" name="Freeform 78"/>
                <p:cNvSpPr/>
                <p:nvPr/>
              </p:nvSpPr>
              <p:spPr>
                <a:xfrm rot="3876600">
                  <a:off x="543240" y="4592520"/>
                  <a:ext cx="2503440" cy="5918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b0002"/>
                    </a:gs>
                    <a:gs pos="100000">
                      <a:srgbClr val="3a00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79"/>
                <p:cNvSpPr/>
                <p:nvPr/>
              </p:nvSpPr>
              <p:spPr>
                <a:xfrm rot="3876600">
                  <a:off x="2051280" y="5566680"/>
                  <a:ext cx="393480" cy="48456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484560"/>
                    <a:gd name="textAreaBottom" fmla="*/ 484560 h 4845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80"/>
              <p:cNvGrpSpPr/>
              <p:nvPr/>
            </p:nvGrpSpPr>
            <p:grpSpPr>
              <a:xfrm>
                <a:off x="1517760" y="3442680"/>
                <a:ext cx="1234080" cy="1930320"/>
                <a:chOff x="1517760" y="3442680"/>
                <a:chExt cx="1234080" cy="1930320"/>
              </a:xfrm>
            </p:grpSpPr>
            <p:sp>
              <p:nvSpPr>
                <p:cNvPr id="563" name="Freeform 81"/>
                <p:cNvSpPr/>
                <p:nvPr/>
              </p:nvSpPr>
              <p:spPr>
                <a:xfrm flipV="1" rot="3876600">
                  <a:off x="1174320" y="4180680"/>
                  <a:ext cx="1920960" cy="454320"/>
                </a:xfrm>
                <a:custGeom>
                  <a:avLst/>
                  <a:gdLst>
                    <a:gd name="textAreaLeft" fmla="*/ 0 w 1920960"/>
                    <a:gd name="textAreaRight" fmla="*/ 1921320 w 1920960"/>
                    <a:gd name="textAreaTop" fmla="*/ 360 h 454320"/>
                    <a:gd name="textAreaBottom" fmla="*/ 455040 h 4543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a00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82"/>
                <p:cNvSpPr/>
                <p:nvPr/>
              </p:nvSpPr>
              <p:spPr>
                <a:xfrm flipV="1" rot="3876600">
                  <a:off x="2310480" y="4934520"/>
                  <a:ext cx="301680" cy="37152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360 h 371520"/>
                    <a:gd name="textAreaBottom" fmla="*/ 372240 h 37152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5" name="Text Box 83"/>
            <p:cNvSpPr/>
            <p:nvPr/>
          </p:nvSpPr>
          <p:spPr>
            <a:xfrm rot="3925800">
              <a:off x="1006560" y="4482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4"/>
            <p:cNvSpPr/>
            <p:nvPr/>
          </p:nvSpPr>
          <p:spPr>
            <a:xfrm rot="3925800">
              <a:off x="1530360" y="4195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5"/>
            <p:cNvSpPr/>
            <p:nvPr/>
          </p:nvSpPr>
          <p:spPr>
            <a:xfrm>
              <a:off x="682920" y="311148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86"/>
            <p:cNvSpPr/>
            <p:nvPr/>
          </p:nvSpPr>
          <p:spPr>
            <a:xfrm>
              <a:off x="682920" y="31352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87"/>
            <p:cNvSpPr/>
            <p:nvPr/>
          </p:nvSpPr>
          <p:spPr>
            <a:xfrm>
              <a:off x="581760" y="3111480"/>
              <a:ext cx="1326600" cy="48096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88"/>
            <p:cNvSpPr/>
            <p:nvPr/>
          </p:nvSpPr>
          <p:spPr>
            <a:xfrm>
              <a:off x="566640" y="3120840"/>
              <a:ext cx="1328040" cy="481320"/>
            </a:xfrm>
            <a:prstGeom prst="ellipse">
              <a:avLst/>
            </a:prstGeom>
            <a:gradFill rotWithShape="0">
              <a:gsLst>
                <a:gs pos="0">
                  <a:srgbClr val="27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89"/>
            <p:cNvSpPr/>
            <p:nvPr/>
          </p:nvSpPr>
          <p:spPr>
            <a:xfrm>
              <a:off x="647640" y="3120840"/>
              <a:ext cx="1196280" cy="481320"/>
            </a:xfrm>
            <a:prstGeom prst="ellipse">
              <a:avLst/>
            </a:prstGeom>
            <a:gradFill rotWithShape="0">
              <a:gsLst>
                <a:gs pos="0">
                  <a:srgbClr val="3a0004"/>
                </a:gs>
                <a:gs pos="100000">
                  <a:srgbClr val="03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90"/>
            <p:cNvGrpSpPr/>
            <p:nvPr/>
          </p:nvGrpSpPr>
          <p:grpSpPr>
            <a:xfrm>
              <a:off x="672840" y="2806560"/>
              <a:ext cx="1159200" cy="1106640"/>
              <a:chOff x="672840" y="2806560"/>
              <a:chExt cx="1159200" cy="1106640"/>
            </a:xfrm>
          </p:grpSpPr>
          <p:sp>
            <p:nvSpPr>
              <p:cNvPr id="573" name="Oval 91"/>
              <p:cNvSpPr/>
              <p:nvPr/>
            </p:nvSpPr>
            <p:spPr>
              <a:xfrm>
                <a:off x="672840" y="2806560"/>
                <a:ext cx="115920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92"/>
              <p:cNvSpPr/>
              <p:nvPr/>
            </p:nvSpPr>
            <p:spPr>
              <a:xfrm>
                <a:off x="687240" y="2812680"/>
                <a:ext cx="113148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93"/>
              <p:cNvSpPr/>
              <p:nvPr/>
            </p:nvSpPr>
            <p:spPr>
              <a:xfrm>
                <a:off x="699480" y="2823120"/>
                <a:ext cx="107568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94"/>
              <p:cNvSpPr/>
              <p:nvPr/>
            </p:nvSpPr>
            <p:spPr>
              <a:xfrm>
                <a:off x="762480" y="2851560"/>
                <a:ext cx="95616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25"/>
          <p:cNvSpPr/>
          <p:nvPr/>
        </p:nvSpPr>
        <p:spPr>
          <a:xfrm>
            <a:off x="86472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6"/>
          <p:cNvSpPr/>
          <p:nvPr/>
        </p:nvSpPr>
        <p:spPr>
          <a:xfrm>
            <a:off x="29635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2"/>
          <p:cNvSpPr/>
          <p:nvPr/>
        </p:nvSpPr>
        <p:spPr>
          <a:xfrm>
            <a:off x="517644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3"/>
          <p:cNvSpPr/>
          <p:nvPr/>
        </p:nvSpPr>
        <p:spPr>
          <a:xfrm>
            <a:off x="734832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5"/>
          <p:cNvSpPr/>
          <p:nvPr/>
        </p:nvSpPr>
        <p:spPr>
          <a:xfrm>
            <a:off x="809640" y="1600200"/>
            <a:ext cx="6886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 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96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AutoShape 3"/>
          <p:cNvSpPr/>
          <p:nvPr/>
        </p:nvSpPr>
        <p:spPr>
          <a:xfrm>
            <a:off x="485640" y="4191120"/>
            <a:ext cx="2703600" cy="1600200"/>
          </a:xfrm>
          <a:prstGeom prst="roundRect">
            <a:avLst>
              <a:gd name="adj" fmla="val 12699"/>
            </a:avLst>
          </a:pr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811680" y="3562200"/>
            <a:ext cx="20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5"/>
          <p:cNvSpPr/>
          <p:nvPr/>
        </p:nvSpPr>
        <p:spPr>
          <a:xfrm>
            <a:off x="542880" y="4619520"/>
            <a:ext cx="256068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969840" y="42148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587520" y="4697280"/>
            <a:ext cx="246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485640" y="1828800"/>
            <a:ext cx="2703600" cy="1600200"/>
          </a:xfrm>
          <a:prstGeom prst="roundRect">
            <a:avLst>
              <a:gd name="adj" fmla="val 12699"/>
            </a:avLst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9"/>
          <p:cNvSpPr/>
          <p:nvPr/>
        </p:nvSpPr>
        <p:spPr>
          <a:xfrm>
            <a:off x="542880" y="2257560"/>
            <a:ext cx="256068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8"/>
          <p:cNvSpPr/>
          <p:nvPr/>
        </p:nvSpPr>
        <p:spPr>
          <a:xfrm>
            <a:off x="969840" y="185256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587520" y="2335320"/>
            <a:ext cx="246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2"/>
          <p:cNvSpPr/>
          <p:nvPr/>
        </p:nvSpPr>
        <p:spPr>
          <a:xfrm>
            <a:off x="6451560" y="4191120"/>
            <a:ext cx="2703600" cy="1600200"/>
          </a:xfrm>
          <a:prstGeom prst="roundRect">
            <a:avLst>
              <a:gd name="adj" fmla="val 12699"/>
            </a:avLst>
          </a:prstGeom>
          <a:solidFill>
            <a:srgbClr val="3a00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6508800" y="4619520"/>
            <a:ext cx="256068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6935760" y="4214880"/>
            <a:ext cx="17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6551640" y="4697280"/>
            <a:ext cx="246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6"/>
          <p:cNvSpPr/>
          <p:nvPr/>
        </p:nvSpPr>
        <p:spPr>
          <a:xfrm>
            <a:off x="6451560" y="1828800"/>
            <a:ext cx="2703600" cy="1600200"/>
          </a:xfrm>
          <a:prstGeom prst="roundRect">
            <a:avLst>
              <a:gd name="adj" fmla="val 12699"/>
            </a:avLst>
          </a:prstGeom>
          <a:solidFill>
            <a:srgbClr val="bc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7"/>
          <p:cNvSpPr/>
          <p:nvPr/>
        </p:nvSpPr>
        <p:spPr>
          <a:xfrm>
            <a:off x="6508800" y="2257560"/>
            <a:ext cx="256068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6935760" y="1852560"/>
            <a:ext cx="17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6551640" y="2335320"/>
            <a:ext cx="246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20"/>
          <p:cNvGrpSpPr/>
          <p:nvPr/>
        </p:nvGrpSpPr>
        <p:grpSpPr>
          <a:xfrm>
            <a:off x="2889000" y="1997280"/>
            <a:ext cx="3800160" cy="3684960"/>
            <a:chOff x="2889000" y="1997280"/>
            <a:chExt cx="3800160" cy="3684960"/>
          </a:xfrm>
        </p:grpSpPr>
        <p:sp>
          <p:nvSpPr>
            <p:cNvPr id="599" name="AutoShape 21"/>
            <p:cNvSpPr/>
            <p:nvPr/>
          </p:nvSpPr>
          <p:spPr>
            <a:xfrm rot="6774000">
              <a:off x="3435840" y="2497680"/>
              <a:ext cx="2679480" cy="280800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411480 h 2808000"/>
                <a:gd name="textAreaBottom" fmla="*/ 2396520 h 28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a0004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22"/>
            <p:cNvSpPr/>
            <p:nvPr/>
          </p:nvSpPr>
          <p:spPr>
            <a:xfrm rot="12174000">
              <a:off x="3290400" y="2563200"/>
              <a:ext cx="2848680" cy="2641680"/>
            </a:xfrm>
            <a:custGeom>
              <a:avLst/>
              <a:gdLst>
                <a:gd name="textAreaLeft" fmla="*/ 416880 w 2848680"/>
                <a:gd name="textAreaRight" fmla="*/ 2431800 w 28486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517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23"/>
            <p:cNvSpPr/>
            <p:nvPr/>
          </p:nvSpPr>
          <p:spPr>
            <a:xfrm rot="17574600">
              <a:off x="3477960" y="2373480"/>
              <a:ext cx="2679480" cy="280800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411480 h 2808000"/>
                <a:gd name="textAreaBottom" fmla="*/ 2396520 h 28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100404"/>
                </a:gs>
                <a:gs pos="100000">
                  <a:srgbClr val="ff3b3b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24"/>
            <p:cNvSpPr/>
            <p:nvPr/>
          </p:nvSpPr>
          <p:spPr>
            <a:xfrm rot="1374000">
              <a:off x="3438720" y="2514240"/>
              <a:ext cx="2848680" cy="2641680"/>
            </a:xfrm>
            <a:custGeom>
              <a:avLst/>
              <a:gdLst>
                <a:gd name="textAreaLeft" fmla="*/ 416880 w 2848680"/>
                <a:gd name="textAreaRight" fmla="*/ 2431800 w 28486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c000d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WordArt 28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组合 46"/>
          <p:cNvGrpSpPr/>
          <p:nvPr/>
        </p:nvGrpSpPr>
        <p:grpSpPr>
          <a:xfrm>
            <a:off x="1547640" y="2781360"/>
            <a:ext cx="6696360" cy="671400"/>
            <a:chOff x="1547640" y="2781360"/>
            <a:chExt cx="6696360" cy="671400"/>
          </a:xfrm>
        </p:grpSpPr>
        <p:sp>
          <p:nvSpPr>
            <p:cNvPr id="41" name="矩形 39"/>
            <p:cNvSpPr/>
            <p:nvPr/>
          </p:nvSpPr>
          <p:spPr>
            <a:xfrm>
              <a:off x="1547640" y="2781360"/>
              <a:ext cx="6696360" cy="67140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81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矩形 37"/>
            <p:cNvSpPr/>
            <p:nvPr/>
          </p:nvSpPr>
          <p:spPr>
            <a:xfrm>
              <a:off x="1547640" y="2781360"/>
              <a:ext cx="792000" cy="671400"/>
            </a:xfrm>
            <a:prstGeom prst="rect">
              <a:avLst/>
            </a:prstGeom>
            <a:gradFill rotWithShape="0">
              <a:gsLst>
                <a:gs pos="0">
                  <a:srgbClr val="8d000a"/>
                </a:gs>
                <a:gs pos="100000">
                  <a:srgbClr val="ff3e4b"/>
                </a:gs>
              </a:gsLst>
              <a:lin ang="81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组合 45"/>
          <p:cNvGrpSpPr/>
          <p:nvPr/>
        </p:nvGrpSpPr>
        <p:grpSpPr>
          <a:xfrm>
            <a:off x="1541520" y="1798560"/>
            <a:ext cx="6696000" cy="673200"/>
            <a:chOff x="1541520" y="1798560"/>
            <a:chExt cx="6696000" cy="673200"/>
          </a:xfrm>
        </p:grpSpPr>
        <p:sp>
          <p:nvSpPr>
            <p:cNvPr id="44" name="矩形 36"/>
            <p:cNvSpPr/>
            <p:nvPr/>
          </p:nvSpPr>
          <p:spPr>
            <a:xfrm>
              <a:off x="1541520" y="1798560"/>
              <a:ext cx="6696000" cy="673200"/>
            </a:xfrm>
            <a:prstGeom prst="rect">
              <a:avLst/>
            </a:prstGeom>
            <a:gradFill rotWithShape="0">
              <a:gsLst>
                <a:gs pos="0">
                  <a:srgbClr val="8d000a"/>
                </a:gs>
                <a:gs pos="100000">
                  <a:srgbClr val="ff3e4b"/>
                </a:gs>
              </a:gsLst>
              <a:lin ang="81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40"/>
            <p:cNvSpPr/>
            <p:nvPr/>
          </p:nvSpPr>
          <p:spPr>
            <a:xfrm>
              <a:off x="1541520" y="1798560"/>
              <a:ext cx="792000" cy="67320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47"/>
          <p:cNvGrpSpPr/>
          <p:nvPr/>
        </p:nvGrpSpPr>
        <p:grpSpPr>
          <a:xfrm>
            <a:off x="1547640" y="3776760"/>
            <a:ext cx="6696360" cy="672840"/>
            <a:chOff x="1547640" y="3776760"/>
            <a:chExt cx="6696360" cy="672840"/>
          </a:xfrm>
        </p:grpSpPr>
        <p:sp>
          <p:nvSpPr>
            <p:cNvPr id="47" name="矩形 38"/>
            <p:cNvSpPr/>
            <p:nvPr/>
          </p:nvSpPr>
          <p:spPr>
            <a:xfrm>
              <a:off x="1547640" y="3776760"/>
              <a:ext cx="6696360" cy="672840"/>
            </a:xfrm>
            <a:prstGeom prst="rect">
              <a:avLst/>
            </a:prstGeom>
            <a:gradFill rotWithShape="0">
              <a:gsLst>
                <a:gs pos="0">
                  <a:srgbClr val="8d000a"/>
                </a:gs>
                <a:gs pos="100000">
                  <a:srgbClr val="ff3e4b"/>
                </a:gs>
              </a:gsLst>
              <a:lin ang="81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41"/>
            <p:cNvSpPr/>
            <p:nvPr/>
          </p:nvSpPr>
          <p:spPr>
            <a:xfrm>
              <a:off x="1547640" y="3776760"/>
              <a:ext cx="792000" cy="67284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48"/>
          <p:cNvGrpSpPr/>
          <p:nvPr/>
        </p:nvGrpSpPr>
        <p:grpSpPr>
          <a:xfrm>
            <a:off x="1547640" y="4848120"/>
            <a:ext cx="6696360" cy="673200"/>
            <a:chOff x="1547640" y="4848120"/>
            <a:chExt cx="6696360" cy="673200"/>
          </a:xfrm>
        </p:grpSpPr>
        <p:sp>
          <p:nvSpPr>
            <p:cNvPr id="50" name="矩形 42"/>
            <p:cNvSpPr/>
            <p:nvPr/>
          </p:nvSpPr>
          <p:spPr>
            <a:xfrm>
              <a:off x="1547640" y="4848120"/>
              <a:ext cx="6696360" cy="67320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bfbfbf"/>
                </a:gs>
              </a:gsLst>
              <a:lin ang="81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43"/>
            <p:cNvSpPr/>
            <p:nvPr/>
          </p:nvSpPr>
          <p:spPr>
            <a:xfrm>
              <a:off x="1547640" y="4848120"/>
              <a:ext cx="792000" cy="673200"/>
            </a:xfrm>
            <a:prstGeom prst="rect">
              <a:avLst/>
            </a:prstGeom>
            <a:gradFill rotWithShape="0">
              <a:gsLst>
                <a:gs pos="0">
                  <a:srgbClr val="8d000a"/>
                </a:gs>
                <a:gs pos="100000">
                  <a:srgbClr val="ff3e4b"/>
                </a:gs>
              </a:gsLst>
              <a:lin ang="8100000"/>
            </a:gradFill>
            <a:ln w="255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Box 50"/>
          <p:cNvSpPr/>
          <p:nvPr/>
        </p:nvSpPr>
        <p:spPr>
          <a:xfrm>
            <a:off x="3284640" y="1917720"/>
            <a:ext cx="420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6"/>
          <p:cNvSpPr/>
          <p:nvPr/>
        </p:nvSpPr>
        <p:spPr>
          <a:xfrm>
            <a:off x="3305160" y="3929040"/>
            <a:ext cx="421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7"/>
          <p:cNvSpPr/>
          <p:nvPr/>
        </p:nvSpPr>
        <p:spPr>
          <a:xfrm>
            <a:off x="3305160" y="4964040"/>
            <a:ext cx="421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8"/>
          <p:cNvSpPr/>
          <p:nvPr/>
        </p:nvSpPr>
        <p:spPr>
          <a:xfrm>
            <a:off x="3284640" y="2881440"/>
            <a:ext cx="4208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段落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2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3"/>
          <p:cNvSpPr/>
          <p:nvPr/>
        </p:nvSpPr>
        <p:spPr>
          <a:xfrm>
            <a:off x="1243080" y="2266920"/>
            <a:ext cx="750708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6710400" y="2627280"/>
            <a:ext cx="1658880" cy="2652840"/>
          </a:xfrm>
          <a:custGeom>
            <a:avLst/>
            <a:gdLst>
              <a:gd name="textAreaLeft" fmla="*/ 46080 w 1658880"/>
              <a:gd name="textAreaRight" fmla="*/ 1612800 w 1658880"/>
              <a:gd name="textAreaTop" fmla="*/ 46080 h 2652840"/>
              <a:gd name="textAreaBottom" fmla="*/ 2606760 h 2652840"/>
            </a:gdLst>
            <a:ahLst/>
            <a:rect l="textAreaLeft" t="textAreaTop" r="textAreaRight" b="textAreaBottom"/>
            <a:pathLst>
              <a:path w="21600" h="34539">
                <a:moveTo>
                  <a:pt x="2057" y="0"/>
                </a:moveTo>
                <a:arcTo wR="2057" hR="2057" stAng="16200000" swAng="-5400000"/>
                <a:lnTo>
                  <a:pt x="0" y="32482"/>
                </a:lnTo>
                <a:arcTo wR="2057" hR="2057" stAng="10800000" swAng="-5400000"/>
                <a:lnTo>
                  <a:pt x="19543" y="3453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3a000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994280" y="2627280"/>
            <a:ext cx="1658880" cy="2652840"/>
          </a:xfrm>
          <a:custGeom>
            <a:avLst/>
            <a:gdLst>
              <a:gd name="textAreaLeft" fmla="*/ 46080 w 1658880"/>
              <a:gd name="textAreaRight" fmla="*/ 1612800 w 1658880"/>
              <a:gd name="textAreaTop" fmla="*/ 46080 h 2652840"/>
              <a:gd name="textAreaBottom" fmla="*/ 2606760 h 2652840"/>
            </a:gdLst>
            <a:ahLst/>
            <a:rect l="textAreaLeft" t="textAreaTop" r="textAreaRight" b="textAreaBottom"/>
            <a:pathLst>
              <a:path w="21600" h="34539">
                <a:moveTo>
                  <a:pt x="2057" y="0"/>
                </a:moveTo>
                <a:arcTo wR="2057" hR="2057" stAng="16200000" swAng="-5400000"/>
                <a:lnTo>
                  <a:pt x="0" y="32482"/>
                </a:lnTo>
                <a:arcTo wR="2057" hR="2057" stAng="10800000" swAng="-5400000"/>
                <a:lnTo>
                  <a:pt x="19543" y="3453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3b3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3281400" y="2627280"/>
            <a:ext cx="1658880" cy="2652840"/>
          </a:xfrm>
          <a:custGeom>
            <a:avLst/>
            <a:gdLst>
              <a:gd name="textAreaLeft" fmla="*/ 46080 w 1658880"/>
              <a:gd name="textAreaRight" fmla="*/ 1612800 w 1658880"/>
              <a:gd name="textAreaTop" fmla="*/ 46080 h 2652840"/>
              <a:gd name="textAreaBottom" fmla="*/ 2606760 h 2652840"/>
            </a:gdLst>
            <a:ahLst/>
            <a:rect l="textAreaLeft" t="textAreaTop" r="textAreaRight" b="textAreaBottom"/>
            <a:pathLst>
              <a:path w="21600" h="34539">
                <a:moveTo>
                  <a:pt x="2057" y="0"/>
                </a:moveTo>
                <a:arcTo wR="2057" hR="2057" stAng="16200000" swAng="-5400000"/>
                <a:lnTo>
                  <a:pt x="0" y="32482"/>
                </a:lnTo>
                <a:arcTo wR="2057" hR="2057" stAng="10800000" swAng="-5400000"/>
                <a:lnTo>
                  <a:pt x="19543" y="3453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bc000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1565280" y="2627280"/>
            <a:ext cx="1658880" cy="2652840"/>
          </a:xfrm>
          <a:custGeom>
            <a:avLst/>
            <a:gdLst>
              <a:gd name="textAreaLeft" fmla="*/ 46080 w 1658880"/>
              <a:gd name="textAreaRight" fmla="*/ 1612800 w 1658880"/>
              <a:gd name="textAreaTop" fmla="*/ 46080 h 2652840"/>
              <a:gd name="textAreaBottom" fmla="*/ 2606760 h 2652840"/>
            </a:gdLst>
            <a:ahLst/>
            <a:rect l="textAreaLeft" t="textAreaTop" r="textAreaRight" b="textAreaBottom"/>
            <a:pathLst>
              <a:path w="21600" h="34539">
                <a:moveTo>
                  <a:pt x="2057" y="0"/>
                </a:moveTo>
                <a:arcTo wR="2057" hR="2057" stAng="16200000" swAng="-5400000"/>
                <a:lnTo>
                  <a:pt x="0" y="32482"/>
                </a:lnTo>
                <a:arcTo wR="2057" hR="2057" stAng="10800000" swAng="-5400000"/>
                <a:lnTo>
                  <a:pt x="19543" y="3453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051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2208240" y="1409760"/>
            <a:ext cx="542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 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9"/>
          <p:cNvGrpSpPr/>
          <p:nvPr/>
        </p:nvGrpSpPr>
        <p:grpSpPr>
          <a:xfrm>
            <a:off x="1569960" y="4975200"/>
            <a:ext cx="1652400" cy="704880"/>
            <a:chOff x="1569960" y="4975200"/>
            <a:chExt cx="1652400" cy="704880"/>
          </a:xfrm>
        </p:grpSpPr>
        <p:sp>
          <p:nvSpPr>
            <p:cNvPr id="611" name="AutoShape 10"/>
            <p:cNvSpPr/>
            <p:nvPr/>
          </p:nvSpPr>
          <p:spPr>
            <a:xfrm>
              <a:off x="1569960" y="4975200"/>
              <a:ext cx="165096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11"/>
            <p:cNvSpPr/>
            <p:nvPr/>
          </p:nvSpPr>
          <p:spPr>
            <a:xfrm>
              <a:off x="1571760" y="4976280"/>
              <a:ext cx="165060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2"/>
          <p:cNvGrpSpPr/>
          <p:nvPr/>
        </p:nvGrpSpPr>
        <p:grpSpPr>
          <a:xfrm>
            <a:off x="3290760" y="4975200"/>
            <a:ext cx="1652400" cy="704880"/>
            <a:chOff x="3290760" y="4975200"/>
            <a:chExt cx="1652400" cy="704880"/>
          </a:xfrm>
        </p:grpSpPr>
        <p:sp>
          <p:nvSpPr>
            <p:cNvPr id="614" name="AutoShape 13"/>
            <p:cNvSpPr/>
            <p:nvPr/>
          </p:nvSpPr>
          <p:spPr>
            <a:xfrm>
              <a:off x="3290760" y="4975200"/>
              <a:ext cx="165096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14"/>
            <p:cNvSpPr/>
            <p:nvPr/>
          </p:nvSpPr>
          <p:spPr>
            <a:xfrm>
              <a:off x="3292560" y="4976280"/>
              <a:ext cx="165060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76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5"/>
          <p:cNvGrpSpPr/>
          <p:nvPr/>
        </p:nvGrpSpPr>
        <p:grpSpPr>
          <a:xfrm>
            <a:off x="5011560" y="4975200"/>
            <a:ext cx="1650960" cy="704880"/>
            <a:chOff x="5011560" y="4975200"/>
            <a:chExt cx="1650960" cy="704880"/>
          </a:xfrm>
        </p:grpSpPr>
        <p:sp>
          <p:nvSpPr>
            <p:cNvPr id="617" name="AutoShape 16"/>
            <p:cNvSpPr/>
            <p:nvPr/>
          </p:nvSpPr>
          <p:spPr>
            <a:xfrm>
              <a:off x="5011560" y="4975200"/>
              <a:ext cx="16495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3333"/>
                </a:gs>
                <a:gs pos="100000">
                  <a:srgbClr val="ff3b3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17"/>
            <p:cNvSpPr/>
            <p:nvPr/>
          </p:nvSpPr>
          <p:spPr>
            <a:xfrm>
              <a:off x="5013360" y="4976280"/>
              <a:ext cx="164916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3b3b"/>
                </a:gs>
                <a:gs pos="100000">
                  <a:srgbClr val="ff8b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8"/>
          <p:cNvGrpSpPr/>
          <p:nvPr/>
        </p:nvGrpSpPr>
        <p:grpSpPr>
          <a:xfrm>
            <a:off x="6729480" y="4975200"/>
            <a:ext cx="1652040" cy="704880"/>
            <a:chOff x="6729480" y="4975200"/>
            <a:chExt cx="1652040" cy="704880"/>
          </a:xfrm>
        </p:grpSpPr>
        <p:sp>
          <p:nvSpPr>
            <p:cNvPr id="620" name="AutoShape 19"/>
            <p:cNvSpPr/>
            <p:nvPr/>
          </p:nvSpPr>
          <p:spPr>
            <a:xfrm>
              <a:off x="6729480" y="4975200"/>
              <a:ext cx="165060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20003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0"/>
            <p:cNvSpPr/>
            <p:nvPr/>
          </p:nvSpPr>
          <p:spPr>
            <a:xfrm>
              <a:off x="6731280" y="4976280"/>
              <a:ext cx="165024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3a0004"/>
                </a:gs>
                <a:gs pos="100000">
                  <a:srgbClr val="8460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Text Box 21"/>
          <p:cNvSpPr/>
          <p:nvPr/>
        </p:nvSpPr>
        <p:spPr>
          <a:xfrm>
            <a:off x="1638360" y="2789280"/>
            <a:ext cx="15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3355920" y="2789280"/>
            <a:ext cx="15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3"/>
          <p:cNvSpPr/>
          <p:nvPr/>
        </p:nvSpPr>
        <p:spPr>
          <a:xfrm>
            <a:off x="5078520" y="278928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24"/>
          <p:cNvSpPr/>
          <p:nvPr/>
        </p:nvSpPr>
        <p:spPr>
          <a:xfrm>
            <a:off x="6781680" y="2789280"/>
            <a:ext cx="15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1587600" y="4967280"/>
            <a:ext cx="38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6"/>
          <p:cNvSpPr/>
          <p:nvPr/>
        </p:nvSpPr>
        <p:spPr>
          <a:xfrm>
            <a:off x="3308400" y="4967280"/>
            <a:ext cx="38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5032440" y="4967280"/>
            <a:ext cx="38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6732720" y="4967280"/>
            <a:ext cx="388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29"/>
          <p:cNvGrpSpPr/>
          <p:nvPr/>
        </p:nvGrpSpPr>
        <p:grpSpPr>
          <a:xfrm>
            <a:off x="1573200" y="4781520"/>
            <a:ext cx="1649160" cy="154080"/>
            <a:chOff x="1573200" y="4781520"/>
            <a:chExt cx="1649160" cy="154080"/>
          </a:xfrm>
        </p:grpSpPr>
        <p:sp>
          <p:nvSpPr>
            <p:cNvPr id="631" name="AutoShape 30"/>
            <p:cNvSpPr/>
            <p:nvPr/>
          </p:nvSpPr>
          <p:spPr>
            <a:xfrm>
              <a:off x="1573200" y="478152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31"/>
            <p:cNvSpPr/>
            <p:nvPr/>
          </p:nvSpPr>
          <p:spPr>
            <a:xfrm>
              <a:off x="1574640" y="478152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2"/>
          <p:cNvGrpSpPr/>
          <p:nvPr/>
        </p:nvGrpSpPr>
        <p:grpSpPr>
          <a:xfrm>
            <a:off x="1573200" y="4627440"/>
            <a:ext cx="1649160" cy="152640"/>
            <a:chOff x="1573200" y="4627440"/>
            <a:chExt cx="1649160" cy="152640"/>
          </a:xfrm>
        </p:grpSpPr>
        <p:sp>
          <p:nvSpPr>
            <p:cNvPr id="634" name="AutoShape 33"/>
            <p:cNvSpPr/>
            <p:nvPr/>
          </p:nvSpPr>
          <p:spPr>
            <a:xfrm>
              <a:off x="1573200" y="4627440"/>
              <a:ext cx="164736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34"/>
            <p:cNvSpPr/>
            <p:nvPr/>
          </p:nvSpPr>
          <p:spPr>
            <a:xfrm>
              <a:off x="1574640" y="4627440"/>
              <a:ext cx="16477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5"/>
          <p:cNvGrpSpPr/>
          <p:nvPr/>
        </p:nvGrpSpPr>
        <p:grpSpPr>
          <a:xfrm>
            <a:off x="1573200" y="4440240"/>
            <a:ext cx="1649160" cy="154080"/>
            <a:chOff x="1573200" y="4440240"/>
            <a:chExt cx="1649160" cy="154080"/>
          </a:xfrm>
        </p:grpSpPr>
        <p:sp>
          <p:nvSpPr>
            <p:cNvPr id="637" name="AutoShape 36"/>
            <p:cNvSpPr/>
            <p:nvPr/>
          </p:nvSpPr>
          <p:spPr>
            <a:xfrm>
              <a:off x="1573200" y="444024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37"/>
            <p:cNvSpPr/>
            <p:nvPr/>
          </p:nvSpPr>
          <p:spPr>
            <a:xfrm>
              <a:off x="1574640" y="444024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38"/>
          <p:cNvGrpSpPr/>
          <p:nvPr/>
        </p:nvGrpSpPr>
        <p:grpSpPr>
          <a:xfrm>
            <a:off x="1573200" y="4253040"/>
            <a:ext cx="1649160" cy="153720"/>
            <a:chOff x="1573200" y="4253040"/>
            <a:chExt cx="1649160" cy="153720"/>
          </a:xfrm>
        </p:grpSpPr>
        <p:sp>
          <p:nvSpPr>
            <p:cNvPr id="640" name="AutoShape 39"/>
            <p:cNvSpPr/>
            <p:nvPr/>
          </p:nvSpPr>
          <p:spPr>
            <a:xfrm>
              <a:off x="1573200" y="4253040"/>
              <a:ext cx="164736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40"/>
            <p:cNvSpPr/>
            <p:nvPr/>
          </p:nvSpPr>
          <p:spPr>
            <a:xfrm>
              <a:off x="1574640" y="4253040"/>
              <a:ext cx="164772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41"/>
          <p:cNvGrpSpPr/>
          <p:nvPr/>
        </p:nvGrpSpPr>
        <p:grpSpPr>
          <a:xfrm>
            <a:off x="1573200" y="4070520"/>
            <a:ext cx="1649160" cy="153720"/>
            <a:chOff x="1573200" y="4070520"/>
            <a:chExt cx="1649160" cy="153720"/>
          </a:xfrm>
        </p:grpSpPr>
        <p:sp>
          <p:nvSpPr>
            <p:cNvPr id="643" name="AutoShape 42"/>
            <p:cNvSpPr/>
            <p:nvPr/>
          </p:nvSpPr>
          <p:spPr>
            <a:xfrm>
              <a:off x="1573200" y="4070520"/>
              <a:ext cx="164736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43"/>
            <p:cNvSpPr/>
            <p:nvPr/>
          </p:nvSpPr>
          <p:spPr>
            <a:xfrm>
              <a:off x="1574640" y="4070520"/>
              <a:ext cx="164772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44"/>
          <p:cNvGrpSpPr/>
          <p:nvPr/>
        </p:nvGrpSpPr>
        <p:grpSpPr>
          <a:xfrm>
            <a:off x="1573200" y="3882960"/>
            <a:ext cx="1649160" cy="154080"/>
            <a:chOff x="1573200" y="3882960"/>
            <a:chExt cx="1649160" cy="154080"/>
          </a:xfrm>
        </p:grpSpPr>
        <p:sp>
          <p:nvSpPr>
            <p:cNvPr id="646" name="AutoShape 45"/>
            <p:cNvSpPr/>
            <p:nvPr/>
          </p:nvSpPr>
          <p:spPr>
            <a:xfrm>
              <a:off x="1573200" y="388296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46"/>
            <p:cNvSpPr/>
            <p:nvPr/>
          </p:nvSpPr>
          <p:spPr>
            <a:xfrm>
              <a:off x="1574640" y="388296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47"/>
          <p:cNvGrpSpPr/>
          <p:nvPr/>
        </p:nvGrpSpPr>
        <p:grpSpPr>
          <a:xfrm>
            <a:off x="1573200" y="3695760"/>
            <a:ext cx="1649160" cy="154080"/>
            <a:chOff x="1573200" y="3695760"/>
            <a:chExt cx="1649160" cy="154080"/>
          </a:xfrm>
        </p:grpSpPr>
        <p:sp>
          <p:nvSpPr>
            <p:cNvPr id="649" name="AutoShape 48"/>
            <p:cNvSpPr/>
            <p:nvPr/>
          </p:nvSpPr>
          <p:spPr>
            <a:xfrm>
              <a:off x="1573200" y="369576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49"/>
            <p:cNvSpPr/>
            <p:nvPr/>
          </p:nvSpPr>
          <p:spPr>
            <a:xfrm>
              <a:off x="1574640" y="369576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50"/>
          <p:cNvGrpSpPr/>
          <p:nvPr/>
        </p:nvGrpSpPr>
        <p:grpSpPr>
          <a:xfrm>
            <a:off x="1573200" y="3510000"/>
            <a:ext cx="1649160" cy="154080"/>
            <a:chOff x="1573200" y="3510000"/>
            <a:chExt cx="1649160" cy="154080"/>
          </a:xfrm>
        </p:grpSpPr>
        <p:sp>
          <p:nvSpPr>
            <p:cNvPr id="652" name="AutoShape 51"/>
            <p:cNvSpPr/>
            <p:nvPr/>
          </p:nvSpPr>
          <p:spPr>
            <a:xfrm>
              <a:off x="1573200" y="3510000"/>
              <a:ext cx="16473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0414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52"/>
            <p:cNvSpPr/>
            <p:nvPr/>
          </p:nvSpPr>
          <p:spPr>
            <a:xfrm>
              <a:off x="1574640" y="3510000"/>
              <a:ext cx="16477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517"/>
                </a:gs>
                <a:gs pos="100000">
                  <a:srgbClr val="ff51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53"/>
          <p:cNvGrpSpPr/>
          <p:nvPr/>
        </p:nvGrpSpPr>
        <p:grpSpPr>
          <a:xfrm>
            <a:off x="3300480" y="4781520"/>
            <a:ext cx="1647360" cy="154080"/>
            <a:chOff x="3300480" y="4781520"/>
            <a:chExt cx="1647360" cy="154080"/>
          </a:xfrm>
        </p:grpSpPr>
        <p:sp>
          <p:nvSpPr>
            <p:cNvPr id="655" name="AutoShape 54"/>
            <p:cNvSpPr/>
            <p:nvPr/>
          </p:nvSpPr>
          <p:spPr>
            <a:xfrm>
              <a:off x="3300480" y="4781520"/>
              <a:ext cx="1645560" cy="154080"/>
            </a:xfrm>
            <a:prstGeom prst="roundRect">
              <a:avLst>
                <a:gd name="adj" fmla="val 20588"/>
              </a:avLst>
            </a:prstGeom>
            <a:solidFill>
              <a:srgbClr val="bc000d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55"/>
            <p:cNvSpPr/>
            <p:nvPr/>
          </p:nvSpPr>
          <p:spPr>
            <a:xfrm>
              <a:off x="3301920" y="478152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56"/>
          <p:cNvGrpSpPr/>
          <p:nvPr/>
        </p:nvGrpSpPr>
        <p:grpSpPr>
          <a:xfrm>
            <a:off x="3300480" y="4627440"/>
            <a:ext cx="1647360" cy="152640"/>
            <a:chOff x="3300480" y="4627440"/>
            <a:chExt cx="1647360" cy="152640"/>
          </a:xfrm>
        </p:grpSpPr>
        <p:sp>
          <p:nvSpPr>
            <p:cNvPr id="658" name="AutoShape 57"/>
            <p:cNvSpPr/>
            <p:nvPr/>
          </p:nvSpPr>
          <p:spPr>
            <a:xfrm>
              <a:off x="3300480" y="4627440"/>
              <a:ext cx="164556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58"/>
            <p:cNvSpPr/>
            <p:nvPr/>
          </p:nvSpPr>
          <p:spPr>
            <a:xfrm>
              <a:off x="3301920" y="4627440"/>
              <a:ext cx="16459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59"/>
          <p:cNvGrpSpPr/>
          <p:nvPr/>
        </p:nvGrpSpPr>
        <p:grpSpPr>
          <a:xfrm>
            <a:off x="5002200" y="4781520"/>
            <a:ext cx="1647360" cy="154080"/>
            <a:chOff x="5002200" y="4781520"/>
            <a:chExt cx="1647360" cy="154080"/>
          </a:xfrm>
        </p:grpSpPr>
        <p:sp>
          <p:nvSpPr>
            <p:cNvPr id="661" name="AutoShape 60"/>
            <p:cNvSpPr/>
            <p:nvPr/>
          </p:nvSpPr>
          <p:spPr>
            <a:xfrm>
              <a:off x="5002200" y="4781520"/>
              <a:ext cx="1645560" cy="154080"/>
            </a:xfrm>
            <a:prstGeom prst="roundRect">
              <a:avLst>
                <a:gd name="adj" fmla="val 20588"/>
              </a:avLst>
            </a:prstGeom>
            <a:solidFill>
              <a:srgbClr val="ff3b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61"/>
            <p:cNvSpPr/>
            <p:nvPr/>
          </p:nvSpPr>
          <p:spPr>
            <a:xfrm>
              <a:off x="5003640" y="478152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3b3b"/>
                </a:gs>
                <a:gs pos="100000">
                  <a:srgbClr val="ff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62"/>
          <p:cNvGrpSpPr/>
          <p:nvPr/>
        </p:nvGrpSpPr>
        <p:grpSpPr>
          <a:xfrm>
            <a:off x="6726240" y="4781520"/>
            <a:ext cx="1647360" cy="154080"/>
            <a:chOff x="6726240" y="4781520"/>
            <a:chExt cx="1647360" cy="154080"/>
          </a:xfrm>
        </p:grpSpPr>
        <p:sp>
          <p:nvSpPr>
            <p:cNvPr id="664" name="AutoShape 63"/>
            <p:cNvSpPr/>
            <p:nvPr/>
          </p:nvSpPr>
          <p:spPr>
            <a:xfrm>
              <a:off x="6726240" y="4781520"/>
              <a:ext cx="16455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20003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64"/>
            <p:cNvSpPr/>
            <p:nvPr/>
          </p:nvSpPr>
          <p:spPr>
            <a:xfrm>
              <a:off x="6727680" y="478152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0004"/>
                </a:gs>
                <a:gs pos="100000">
                  <a:srgbClr val="764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65"/>
          <p:cNvGrpSpPr/>
          <p:nvPr/>
        </p:nvGrpSpPr>
        <p:grpSpPr>
          <a:xfrm>
            <a:off x="3300480" y="4441680"/>
            <a:ext cx="1647360" cy="152640"/>
            <a:chOff x="3300480" y="4441680"/>
            <a:chExt cx="1647360" cy="152640"/>
          </a:xfrm>
        </p:grpSpPr>
        <p:sp>
          <p:nvSpPr>
            <p:cNvPr id="667" name="AutoShape 66"/>
            <p:cNvSpPr/>
            <p:nvPr/>
          </p:nvSpPr>
          <p:spPr>
            <a:xfrm>
              <a:off x="3300480" y="4441680"/>
              <a:ext cx="164556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67"/>
            <p:cNvSpPr/>
            <p:nvPr/>
          </p:nvSpPr>
          <p:spPr>
            <a:xfrm>
              <a:off x="3301920" y="4441680"/>
              <a:ext cx="16459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68"/>
          <p:cNvGrpSpPr/>
          <p:nvPr/>
        </p:nvGrpSpPr>
        <p:grpSpPr>
          <a:xfrm>
            <a:off x="3300480" y="4264200"/>
            <a:ext cx="1647360" cy="152280"/>
            <a:chOff x="3300480" y="4264200"/>
            <a:chExt cx="1647360" cy="152280"/>
          </a:xfrm>
        </p:grpSpPr>
        <p:sp>
          <p:nvSpPr>
            <p:cNvPr id="670" name="AutoShape 69"/>
            <p:cNvSpPr/>
            <p:nvPr/>
          </p:nvSpPr>
          <p:spPr>
            <a:xfrm>
              <a:off x="3300480" y="4264200"/>
              <a:ext cx="164556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70"/>
            <p:cNvSpPr/>
            <p:nvPr/>
          </p:nvSpPr>
          <p:spPr>
            <a:xfrm>
              <a:off x="3301920" y="4264200"/>
              <a:ext cx="16459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71"/>
          <p:cNvGrpSpPr/>
          <p:nvPr/>
        </p:nvGrpSpPr>
        <p:grpSpPr>
          <a:xfrm>
            <a:off x="3300480" y="4078440"/>
            <a:ext cx="1647360" cy="152280"/>
            <a:chOff x="3300480" y="4078440"/>
            <a:chExt cx="1647360" cy="152280"/>
          </a:xfrm>
        </p:grpSpPr>
        <p:sp>
          <p:nvSpPr>
            <p:cNvPr id="673" name="AutoShape 72"/>
            <p:cNvSpPr/>
            <p:nvPr/>
          </p:nvSpPr>
          <p:spPr>
            <a:xfrm>
              <a:off x="3300480" y="4078440"/>
              <a:ext cx="164556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a1000b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73"/>
            <p:cNvSpPr/>
            <p:nvPr/>
          </p:nvSpPr>
          <p:spPr>
            <a:xfrm>
              <a:off x="3301920" y="4078440"/>
              <a:ext cx="164592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000d"/>
                </a:gs>
                <a:gs pos="100000">
                  <a:srgbClr val="d04e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74"/>
          <p:cNvGrpSpPr/>
          <p:nvPr/>
        </p:nvGrpSpPr>
        <p:grpSpPr>
          <a:xfrm>
            <a:off x="5002200" y="4626000"/>
            <a:ext cx="1647360" cy="154080"/>
            <a:chOff x="5002200" y="4626000"/>
            <a:chExt cx="1647360" cy="154080"/>
          </a:xfrm>
        </p:grpSpPr>
        <p:sp>
          <p:nvSpPr>
            <p:cNvPr id="676" name="AutoShape 75"/>
            <p:cNvSpPr/>
            <p:nvPr/>
          </p:nvSpPr>
          <p:spPr>
            <a:xfrm>
              <a:off x="5002200" y="4626000"/>
              <a:ext cx="1645560" cy="154080"/>
            </a:xfrm>
            <a:prstGeom prst="roundRect">
              <a:avLst>
                <a:gd name="adj" fmla="val 20588"/>
              </a:avLst>
            </a:prstGeom>
            <a:solidFill>
              <a:srgbClr val="ff3b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76"/>
            <p:cNvSpPr/>
            <p:nvPr/>
          </p:nvSpPr>
          <p:spPr>
            <a:xfrm>
              <a:off x="5003640" y="462600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3b3b"/>
                </a:gs>
                <a:gs pos="100000">
                  <a:srgbClr val="ff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77"/>
          <p:cNvGrpSpPr/>
          <p:nvPr/>
        </p:nvGrpSpPr>
        <p:grpSpPr>
          <a:xfrm>
            <a:off x="5002200" y="4440240"/>
            <a:ext cx="1647360" cy="154080"/>
            <a:chOff x="5002200" y="4440240"/>
            <a:chExt cx="1647360" cy="154080"/>
          </a:xfrm>
        </p:grpSpPr>
        <p:sp>
          <p:nvSpPr>
            <p:cNvPr id="679" name="AutoShape 78"/>
            <p:cNvSpPr/>
            <p:nvPr/>
          </p:nvSpPr>
          <p:spPr>
            <a:xfrm>
              <a:off x="5002200" y="4440240"/>
              <a:ext cx="1645560" cy="154080"/>
            </a:xfrm>
            <a:prstGeom prst="roundRect">
              <a:avLst>
                <a:gd name="adj" fmla="val 20588"/>
              </a:avLst>
            </a:prstGeom>
            <a:solidFill>
              <a:srgbClr val="ff3b3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79"/>
            <p:cNvSpPr/>
            <p:nvPr/>
          </p:nvSpPr>
          <p:spPr>
            <a:xfrm>
              <a:off x="5003640" y="444024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3b3b"/>
                </a:gs>
                <a:gs pos="100000">
                  <a:srgbClr val="ff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80"/>
          <p:cNvGrpSpPr/>
          <p:nvPr/>
        </p:nvGrpSpPr>
        <p:grpSpPr>
          <a:xfrm>
            <a:off x="6726240" y="4618080"/>
            <a:ext cx="1647360" cy="154080"/>
            <a:chOff x="6726240" y="4618080"/>
            <a:chExt cx="1647360" cy="154080"/>
          </a:xfrm>
        </p:grpSpPr>
        <p:sp>
          <p:nvSpPr>
            <p:cNvPr id="682" name="AutoShape 81"/>
            <p:cNvSpPr/>
            <p:nvPr/>
          </p:nvSpPr>
          <p:spPr>
            <a:xfrm>
              <a:off x="6726240" y="4618080"/>
              <a:ext cx="164556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20003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82"/>
            <p:cNvSpPr/>
            <p:nvPr/>
          </p:nvSpPr>
          <p:spPr>
            <a:xfrm>
              <a:off x="6727680" y="4618080"/>
              <a:ext cx="164592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0004"/>
                </a:gs>
                <a:gs pos="100000">
                  <a:srgbClr val="764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WordArt 86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3"/>
          <p:cNvSpPr/>
          <p:nvPr/>
        </p:nvSpPr>
        <p:spPr>
          <a:xfrm>
            <a:off x="5783400" y="2860560"/>
            <a:ext cx="329868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4"/>
          <p:cNvSpPr/>
          <p:nvPr/>
        </p:nvSpPr>
        <p:spPr>
          <a:xfrm>
            <a:off x="5783400" y="2030400"/>
            <a:ext cx="329868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5"/>
          <p:cNvSpPr/>
          <p:nvPr/>
        </p:nvSpPr>
        <p:spPr>
          <a:xfrm rot="5760600">
            <a:off x="779760" y="2223000"/>
            <a:ext cx="3679920" cy="3913200"/>
          </a:xfrm>
          <a:prstGeom prst="ellipse">
            <a:avLst/>
          </a:prstGeom>
          <a:gradFill rotWithShape="0">
            <a:gsLst>
              <a:gs pos="0">
                <a:srgbClr val="ff3b3b"/>
              </a:gs>
              <a:gs pos="100000">
                <a:srgbClr val="b22929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6"/>
          <p:cNvSpPr/>
          <p:nvPr/>
        </p:nvSpPr>
        <p:spPr>
          <a:xfrm rot="5758800">
            <a:off x="1124640" y="2950200"/>
            <a:ext cx="2971800" cy="3160800"/>
          </a:xfrm>
          <a:prstGeom prst="ellipse">
            <a:avLst/>
          </a:prstGeom>
          <a:gradFill rotWithShape="0">
            <a:gsLst>
              <a:gs pos="0">
                <a:srgbClr val="ff0517"/>
              </a:gs>
              <a:gs pos="100000">
                <a:srgbClr val="ba0411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7"/>
          <p:cNvSpPr/>
          <p:nvPr/>
        </p:nvSpPr>
        <p:spPr>
          <a:xfrm rot="5751600">
            <a:off x="1475280" y="3680280"/>
            <a:ext cx="2263680" cy="2408400"/>
          </a:xfrm>
          <a:prstGeom prst="ellipse">
            <a:avLst/>
          </a:prstGeom>
          <a:gradFill rotWithShape="0">
            <a:gsLst>
              <a:gs pos="0">
                <a:srgbClr val="bc000d"/>
              </a:gs>
              <a:gs pos="100000">
                <a:srgbClr val="8f000a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8"/>
          <p:cNvSpPr/>
          <p:nvPr/>
        </p:nvSpPr>
        <p:spPr>
          <a:xfrm rot="5743800">
            <a:off x="1828440" y="4398840"/>
            <a:ext cx="1555920" cy="1657440"/>
          </a:xfrm>
          <a:prstGeom prst="ellipse">
            <a:avLst/>
          </a:prstGeom>
          <a:gradFill rotWithShape="0">
            <a:gsLst>
              <a:gs pos="0">
                <a:srgbClr val="3a0004"/>
              </a:gs>
              <a:gs pos="100000">
                <a:srgbClr val="2e0003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9"/>
          <p:cNvGrpSpPr/>
          <p:nvPr/>
        </p:nvGrpSpPr>
        <p:grpSpPr>
          <a:xfrm>
            <a:off x="833400" y="1609560"/>
            <a:ext cx="3654360" cy="432000"/>
            <a:chOff x="833400" y="1609560"/>
            <a:chExt cx="3654360" cy="432000"/>
          </a:xfrm>
        </p:grpSpPr>
        <p:sp>
          <p:nvSpPr>
            <p:cNvPr id="692" name="AutoShape 10"/>
            <p:cNvSpPr/>
            <p:nvPr/>
          </p:nvSpPr>
          <p:spPr>
            <a:xfrm>
              <a:off x="833400" y="1609560"/>
              <a:ext cx="3654360" cy="4320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05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AutoShape 11"/>
            <p:cNvGrpSpPr/>
            <p:nvPr/>
          </p:nvGrpSpPr>
          <p:grpSpPr>
            <a:xfrm>
              <a:off x="4304160" y="1645920"/>
              <a:ext cx="164520" cy="360000"/>
              <a:chOff x="4304160" y="1645920"/>
              <a:chExt cx="164520" cy="360000"/>
            </a:xfrm>
          </p:grpSpPr>
          <p:pic>
            <p:nvPicPr>
              <p:cNvPr id="694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4160" y="1645920"/>
                <a:ext cx="16452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33400" y="1763280"/>
                <a:ext cx="2520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AutoShape 12"/>
            <p:cNvGrpSpPr/>
            <p:nvPr/>
          </p:nvGrpSpPr>
          <p:grpSpPr>
            <a:xfrm>
              <a:off x="853920" y="1645920"/>
              <a:ext cx="164520" cy="360000"/>
              <a:chOff x="853920" y="1645920"/>
              <a:chExt cx="164520" cy="360000"/>
            </a:xfrm>
          </p:grpSpPr>
          <p:pic>
            <p:nvPicPr>
              <p:cNvPr id="697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53920" y="1645920"/>
                <a:ext cx="16452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>
                <a:off x="866160" y="1762920"/>
                <a:ext cx="2520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Text Box 18"/>
          <p:cNvSpPr/>
          <p:nvPr/>
        </p:nvSpPr>
        <p:spPr>
          <a:xfrm>
            <a:off x="1700280" y="1596960"/>
            <a:ext cx="18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000e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4"/>
          <p:cNvSpPr/>
          <p:nvPr/>
        </p:nvSpPr>
        <p:spPr>
          <a:xfrm>
            <a:off x="4859280" y="2162160"/>
            <a:ext cx="1408320" cy="496800"/>
          </a:xfrm>
          <a:custGeom>
            <a:avLst/>
            <a:gdLst>
              <a:gd name="textAreaLeft" fmla="*/ 0 w 1408320"/>
              <a:gd name="textAreaRight" fmla="*/ 1408680 w 14083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57" y="0"/>
                </a:lnTo>
                <a:lnTo>
                  <a:pt x="21600" y="10800"/>
                </a:lnTo>
                <a:lnTo>
                  <a:pt x="1855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b3b"/>
              </a:gs>
              <a:gs pos="100000">
                <a:srgbClr val="a0252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4784760" y="225108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6"/>
          <p:cNvSpPr/>
          <p:nvPr/>
        </p:nvSpPr>
        <p:spPr>
          <a:xfrm>
            <a:off x="4859280" y="2994120"/>
            <a:ext cx="1408320" cy="493560"/>
          </a:xfrm>
          <a:custGeom>
            <a:avLst/>
            <a:gdLst>
              <a:gd name="textAreaLeft" fmla="*/ 0 w 1408320"/>
              <a:gd name="textAreaRight" fmla="*/ 1408680 w 14083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57" y="0"/>
                </a:lnTo>
                <a:lnTo>
                  <a:pt x="21600" y="10800"/>
                </a:lnTo>
                <a:lnTo>
                  <a:pt x="1855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a0030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4784760" y="308304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8"/>
          <p:cNvSpPr/>
          <p:nvPr/>
        </p:nvSpPr>
        <p:spPr>
          <a:xfrm>
            <a:off x="5783400" y="4532400"/>
            <a:ext cx="329868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9"/>
          <p:cNvSpPr/>
          <p:nvPr/>
        </p:nvSpPr>
        <p:spPr>
          <a:xfrm>
            <a:off x="5783400" y="3697200"/>
            <a:ext cx="329868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0"/>
          <p:cNvSpPr/>
          <p:nvPr/>
        </p:nvSpPr>
        <p:spPr>
          <a:xfrm>
            <a:off x="4859280" y="3828960"/>
            <a:ext cx="1408320" cy="496800"/>
          </a:xfrm>
          <a:custGeom>
            <a:avLst/>
            <a:gdLst>
              <a:gd name="textAreaLeft" fmla="*/ 0 w 1408320"/>
              <a:gd name="textAreaRight" fmla="*/ 1408680 w 14083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57" y="0"/>
                </a:lnTo>
                <a:lnTo>
                  <a:pt x="21600" y="10800"/>
                </a:lnTo>
                <a:lnTo>
                  <a:pt x="1855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c000d"/>
              </a:gs>
              <a:gs pos="100000">
                <a:srgbClr val="760008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4784760" y="391788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2"/>
          <p:cNvSpPr/>
          <p:nvPr/>
        </p:nvSpPr>
        <p:spPr>
          <a:xfrm>
            <a:off x="4859280" y="4665600"/>
            <a:ext cx="1408320" cy="493920"/>
          </a:xfrm>
          <a:custGeom>
            <a:avLst/>
            <a:gdLst>
              <a:gd name="textAreaLeft" fmla="*/ 0 w 1408320"/>
              <a:gd name="textAreaRight" fmla="*/ 1408680 w 14083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57" y="0"/>
                </a:lnTo>
                <a:lnTo>
                  <a:pt x="21600" y="10800"/>
                </a:lnTo>
                <a:lnTo>
                  <a:pt x="1855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100000">
                <a:srgbClr val="240003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4784760" y="475452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4"/>
          <p:cNvSpPr/>
          <p:nvPr/>
        </p:nvSpPr>
        <p:spPr>
          <a:xfrm>
            <a:off x="6243480" y="2174760"/>
            <a:ext cx="2624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6257880" y="3833640"/>
            <a:ext cx="2627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8"/>
          <p:cNvSpPr/>
          <p:nvPr/>
        </p:nvSpPr>
        <p:spPr>
          <a:xfrm>
            <a:off x="1781280" y="5118120"/>
            <a:ext cx="16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8"/>
          <p:cNvSpPr/>
          <p:nvPr/>
        </p:nvSpPr>
        <p:spPr>
          <a:xfrm>
            <a:off x="1525680" y="40672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1525680" y="327816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8"/>
          <p:cNvSpPr/>
          <p:nvPr/>
        </p:nvSpPr>
        <p:spPr>
          <a:xfrm>
            <a:off x="1525680" y="256536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0"/>
          <p:cNvSpPr/>
          <p:nvPr/>
        </p:nvSpPr>
        <p:spPr>
          <a:xfrm>
            <a:off x="6243480" y="3040200"/>
            <a:ext cx="2624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1"/>
          <p:cNvSpPr/>
          <p:nvPr/>
        </p:nvSpPr>
        <p:spPr>
          <a:xfrm>
            <a:off x="6257880" y="4700520"/>
            <a:ext cx="2627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WordArt 39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reeform 3"/>
          <p:cNvSpPr/>
          <p:nvPr/>
        </p:nvSpPr>
        <p:spPr>
          <a:xfrm>
            <a:off x="1127160" y="3882960"/>
            <a:ext cx="7458120" cy="1785960"/>
          </a:xfrm>
          <a:custGeom>
            <a:avLst/>
            <a:gdLst>
              <a:gd name="textAreaLeft" fmla="*/ 0 w 7458120"/>
              <a:gd name="textAreaRight" fmla="*/ 7458480 w 74581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854440" y="4676760"/>
            <a:ext cx="53640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2870280" y="4260960"/>
            <a:ext cx="493560" cy="193680"/>
          </a:xfrm>
          <a:prstGeom prst="ellipse">
            <a:avLst/>
          </a:prstGeom>
          <a:solidFill>
            <a:srgbClr val="ff3b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158920" y="4564080"/>
            <a:ext cx="53676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7"/>
          <p:cNvSpPr/>
          <p:nvPr/>
        </p:nvSpPr>
        <p:spPr>
          <a:xfrm>
            <a:off x="2184480" y="2046240"/>
            <a:ext cx="492120" cy="193680"/>
          </a:xfrm>
          <a:prstGeom prst="ellipse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8"/>
          <p:cNvSpPr/>
          <p:nvPr/>
        </p:nvSpPr>
        <p:spPr>
          <a:xfrm>
            <a:off x="1471680" y="4626000"/>
            <a:ext cx="53640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"/>
          <p:cNvSpPr/>
          <p:nvPr/>
        </p:nvSpPr>
        <p:spPr>
          <a:xfrm>
            <a:off x="1496880" y="3713040"/>
            <a:ext cx="493920" cy="193680"/>
          </a:xfrm>
          <a:prstGeom prst="ellipse">
            <a:avLst/>
          </a:prstGeom>
          <a:solidFill>
            <a:srgbClr val="ff05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7721640" y="4654440"/>
            <a:ext cx="53640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7750080" y="3433680"/>
            <a:ext cx="493920" cy="193680"/>
          </a:xfrm>
          <a:prstGeom prst="ellipse">
            <a:avLst/>
          </a:prstGeom>
          <a:solidFill>
            <a:srgbClr val="ff3b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2"/>
          <p:cNvSpPr/>
          <p:nvPr/>
        </p:nvSpPr>
        <p:spPr>
          <a:xfrm>
            <a:off x="7026120" y="4510080"/>
            <a:ext cx="53676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3"/>
          <p:cNvSpPr/>
          <p:nvPr/>
        </p:nvSpPr>
        <p:spPr>
          <a:xfrm>
            <a:off x="7051680" y="3639960"/>
            <a:ext cx="492120" cy="193680"/>
          </a:xfrm>
          <a:prstGeom prst="ellipse">
            <a:avLst/>
          </a:prstGeom>
          <a:solidFill>
            <a:srgbClr val="bc00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4"/>
          <p:cNvSpPr/>
          <p:nvPr/>
        </p:nvSpPr>
        <p:spPr>
          <a:xfrm>
            <a:off x="6338880" y="4603680"/>
            <a:ext cx="53676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6362640" y="4414680"/>
            <a:ext cx="493920" cy="193680"/>
          </a:xfrm>
          <a:prstGeom prst="ellipse">
            <a:avLst/>
          </a:prstGeom>
          <a:solidFill>
            <a:srgbClr val="ff05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1438200" y="5070600"/>
            <a:ext cx="197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6335640" y="5092560"/>
            <a:ext cx="197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1353960" y="33591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1998720" y="169848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0"/>
          <p:cNvSpPr/>
          <p:nvPr/>
        </p:nvSpPr>
        <p:spPr>
          <a:xfrm>
            <a:off x="2774880" y="39052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6240600" y="409104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6907320" y="329256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7616880" y="309096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4"/>
          <p:cNvSpPr/>
          <p:nvPr/>
        </p:nvSpPr>
        <p:spPr>
          <a:xfrm>
            <a:off x="1352520" y="5641920"/>
            <a:ext cx="689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 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25"/>
          <p:cNvSpPr/>
          <p:nvPr/>
        </p:nvSpPr>
        <p:spPr>
          <a:xfrm>
            <a:off x="3816360" y="1928880"/>
            <a:ext cx="2228760" cy="1251000"/>
          </a:xfrm>
          <a:custGeom>
            <a:avLst/>
            <a:gdLst>
              <a:gd name="textAreaLeft" fmla="*/ 0 w 2228760"/>
              <a:gd name="textAreaRight" fmla="*/ 2229120 w 222876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3e3e3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6"/>
          <p:cNvSpPr/>
          <p:nvPr/>
        </p:nvSpPr>
        <p:spPr>
          <a:xfrm>
            <a:off x="4162320" y="2041560"/>
            <a:ext cx="239760" cy="225360"/>
          </a:xfrm>
          <a:prstGeom prst="ellipse">
            <a:avLst/>
          </a:prstGeom>
          <a:gradFill rotWithShape="0">
            <a:gsLst>
              <a:gs pos="0">
                <a:srgbClr val="ff0517"/>
              </a:gs>
              <a:gs pos="100000">
                <a:srgbClr val="aa030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7"/>
          <p:cNvSpPr/>
          <p:nvPr/>
        </p:nvSpPr>
        <p:spPr>
          <a:xfrm>
            <a:off x="4162320" y="2424240"/>
            <a:ext cx="239760" cy="225360"/>
          </a:xfrm>
          <a:prstGeom prst="ellipse">
            <a:avLst/>
          </a:prstGeom>
          <a:gradFill rotWithShape="0">
            <a:gsLst>
              <a:gs pos="0">
                <a:srgbClr val="bc000d"/>
              </a:gs>
              <a:gs pos="100000">
                <a:srgbClr val="4d000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8"/>
          <p:cNvSpPr/>
          <p:nvPr/>
        </p:nvSpPr>
        <p:spPr>
          <a:xfrm>
            <a:off x="4162320" y="2817720"/>
            <a:ext cx="239760" cy="225360"/>
          </a:xfrm>
          <a:prstGeom prst="ellipse">
            <a:avLst/>
          </a:prstGeom>
          <a:gradFill rotWithShape="0">
            <a:gsLst>
              <a:gs pos="0">
                <a:srgbClr val="ff3b3b"/>
              </a:gs>
              <a:gs pos="100000">
                <a:srgbClr val="aa272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4492800" y="1996920"/>
            <a:ext cx="15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4492800" y="2379600"/>
            <a:ext cx="15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4492800" y="2784600"/>
            <a:ext cx="15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14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2"/>
          <p:cNvSpPr/>
          <p:nvPr/>
        </p:nvSpPr>
        <p:spPr>
          <a:xfrm flipV="1">
            <a:off x="3803760" y="4048920"/>
            <a:ext cx="265428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80" y="-951"/>
                </a:moveTo>
                <a:lnTo>
                  <a:pt x="-660" y="11818"/>
                </a:lnTo>
              </a:path>
              <a:path w="21600" h="21600">
                <a:moveTo>
                  <a:pt x="-660" y="0"/>
                </a:moveTo>
                <a:lnTo>
                  <a:pt x="-660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Calibri"/>
              </a:rPr>
              <a:t>Coordinate Depth in </a:t>
            </a:r>
            <a:r>
              <a:rPr b="1" lang="en-US" sz="1200" spc="-1" strike="noStrike">
                <a:solidFill>
                  <a:srgbClr val="1c1c1c"/>
                </a:solidFill>
                <a:latin typeface="Calibri"/>
              </a:rPr>
              <a:t>3-D Settings</a:t>
            </a:r>
            <a:r>
              <a:rPr b="0" lang="en-US" sz="1200" spc="-1" strike="noStrike">
                <a:solidFill>
                  <a:srgbClr val="1c1c1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WordArt 36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0" y="3238560"/>
            <a:ext cx="9721800" cy="677880"/>
          </a:xfrm>
          <a:prstGeom prst="rect">
            <a:avLst/>
          </a:prstGeom>
          <a:solidFill>
            <a:srgbClr val="099c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0" y="3973680"/>
            <a:ext cx="9721800" cy="730080"/>
          </a:xfrm>
          <a:prstGeom prst="rect">
            <a:avLst/>
          </a:prstGeom>
          <a:solidFill>
            <a:srgbClr val="099ce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2130480" y="5573880"/>
            <a:ext cx="5568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 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62760" y="252720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7"/>
          <p:cNvSpPr/>
          <p:nvPr/>
        </p:nvSpPr>
        <p:spPr>
          <a:xfrm>
            <a:off x="3630600" y="1982880"/>
            <a:ext cx="265428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8"/>
          <p:cNvSpPr/>
          <p:nvPr/>
        </p:nvSpPr>
        <p:spPr>
          <a:xfrm>
            <a:off x="2293920" y="2865600"/>
            <a:ext cx="265428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9"/>
          <p:cNvSpPr/>
          <p:nvPr/>
        </p:nvSpPr>
        <p:spPr>
          <a:xfrm>
            <a:off x="4964040" y="2865600"/>
            <a:ext cx="265428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10"/>
          <p:cNvGrpSpPr/>
          <p:nvPr/>
        </p:nvGrpSpPr>
        <p:grpSpPr>
          <a:xfrm>
            <a:off x="3618000" y="1765440"/>
            <a:ext cx="2655360" cy="1985760"/>
            <a:chOff x="3618000" y="1765440"/>
            <a:chExt cx="2655360" cy="1985760"/>
          </a:xfrm>
        </p:grpSpPr>
        <p:sp>
          <p:nvSpPr>
            <p:cNvPr id="758" name="AutoShape 11"/>
            <p:cNvSpPr/>
            <p:nvPr/>
          </p:nvSpPr>
          <p:spPr>
            <a:xfrm>
              <a:off x="3618000" y="1765440"/>
              <a:ext cx="2655360" cy="1985760"/>
            </a:xfrm>
            <a:prstGeom prst="diamond">
              <a:avLst/>
            </a:prstGeom>
            <a:gradFill rotWithShape="0">
              <a:gsLst>
                <a:gs pos="0">
                  <a:srgbClr val="76020b"/>
                </a:gs>
                <a:gs pos="100000">
                  <a:srgbClr val="ff05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2"/>
            <p:cNvSpPr/>
            <p:nvPr/>
          </p:nvSpPr>
          <p:spPr>
            <a:xfrm>
              <a:off x="3618000" y="2759040"/>
              <a:ext cx="13287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3"/>
          <p:cNvGrpSpPr/>
          <p:nvPr/>
        </p:nvGrpSpPr>
        <p:grpSpPr>
          <a:xfrm>
            <a:off x="2281320" y="2676600"/>
            <a:ext cx="2655360" cy="1985760"/>
            <a:chOff x="2281320" y="2676600"/>
            <a:chExt cx="2655360" cy="1985760"/>
          </a:xfrm>
        </p:grpSpPr>
        <p:sp>
          <p:nvSpPr>
            <p:cNvPr id="761" name="AutoShape 14"/>
            <p:cNvSpPr/>
            <p:nvPr/>
          </p:nvSpPr>
          <p:spPr>
            <a:xfrm>
              <a:off x="2281320" y="2676600"/>
              <a:ext cx="2655360" cy="1985760"/>
            </a:xfrm>
            <a:prstGeom prst="diamond">
              <a:avLst/>
            </a:prstGeom>
            <a:gradFill rotWithShape="0">
              <a:gsLst>
                <a:gs pos="0">
                  <a:srgbClr val="570006"/>
                </a:gs>
                <a:gs pos="100000">
                  <a:srgbClr val="bc000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5"/>
            <p:cNvSpPr/>
            <p:nvPr/>
          </p:nvSpPr>
          <p:spPr>
            <a:xfrm>
              <a:off x="2286000" y="3665160"/>
              <a:ext cx="132876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6"/>
          <p:cNvGrpSpPr/>
          <p:nvPr/>
        </p:nvGrpSpPr>
        <p:grpSpPr>
          <a:xfrm>
            <a:off x="4951440" y="2676600"/>
            <a:ext cx="2655360" cy="1985760"/>
            <a:chOff x="4951440" y="2676600"/>
            <a:chExt cx="2655360" cy="1985760"/>
          </a:xfrm>
        </p:grpSpPr>
        <p:sp>
          <p:nvSpPr>
            <p:cNvPr id="764" name="AutoShape 17"/>
            <p:cNvSpPr/>
            <p:nvPr/>
          </p:nvSpPr>
          <p:spPr>
            <a:xfrm>
              <a:off x="4951440" y="2676600"/>
              <a:ext cx="2655360" cy="1985760"/>
            </a:xfrm>
            <a:prstGeom prst="diamond">
              <a:avLst/>
            </a:prstGeom>
            <a:gradFill rotWithShape="0">
              <a:gsLst>
                <a:gs pos="0">
                  <a:srgbClr val="1b0002"/>
                </a:gs>
                <a:gs pos="100000">
                  <a:srgbClr val="3a000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8"/>
            <p:cNvSpPr/>
            <p:nvPr/>
          </p:nvSpPr>
          <p:spPr>
            <a:xfrm>
              <a:off x="4962960" y="3666960"/>
              <a:ext cx="132840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19"/>
          <p:cNvSpPr/>
          <p:nvPr/>
        </p:nvSpPr>
        <p:spPr>
          <a:xfrm>
            <a:off x="3960720" y="255744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20"/>
          <p:cNvSpPr/>
          <p:nvPr/>
        </p:nvSpPr>
        <p:spPr>
          <a:xfrm>
            <a:off x="2610000" y="3473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1"/>
          <p:cNvSpPr/>
          <p:nvPr/>
        </p:nvSpPr>
        <p:spPr>
          <a:xfrm>
            <a:off x="5265720" y="343836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22"/>
          <p:cNvGrpSpPr/>
          <p:nvPr/>
        </p:nvGrpSpPr>
        <p:grpSpPr>
          <a:xfrm>
            <a:off x="4184640" y="3992400"/>
            <a:ext cx="1788840" cy="1552320"/>
            <a:chOff x="4184640" y="3992400"/>
            <a:chExt cx="1788840" cy="1552320"/>
          </a:xfrm>
        </p:grpSpPr>
        <p:sp>
          <p:nvSpPr>
            <p:cNvPr id="770" name="Freeform 23"/>
            <p:cNvSpPr/>
            <p:nvPr/>
          </p:nvSpPr>
          <p:spPr>
            <a:xfrm>
              <a:off x="4361400" y="5187960"/>
              <a:ext cx="696960" cy="33696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4"/>
            <p:cNvSpPr/>
            <p:nvPr/>
          </p:nvSpPr>
          <p:spPr>
            <a:xfrm>
              <a:off x="4840200" y="5065200"/>
              <a:ext cx="762840" cy="331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5"/>
            <p:cNvSpPr/>
            <p:nvPr/>
          </p:nvSpPr>
          <p:spPr>
            <a:xfrm>
              <a:off x="5334840" y="5265720"/>
              <a:ext cx="638640" cy="279000"/>
            </a:xfrm>
            <a:custGeom>
              <a:avLst/>
              <a:gdLst>
                <a:gd name="textAreaLeft" fmla="*/ 0 w 638640"/>
                <a:gd name="textAreaRight" fmla="*/ 639000 w 63864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6"/>
            <p:cNvSpPr/>
            <p:nvPr/>
          </p:nvSpPr>
          <p:spPr>
            <a:xfrm>
              <a:off x="4184640" y="4411440"/>
              <a:ext cx="465840" cy="11098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7"/>
            <p:cNvSpPr/>
            <p:nvPr/>
          </p:nvSpPr>
          <p:spPr>
            <a:xfrm>
              <a:off x="4633920" y="3992400"/>
              <a:ext cx="586440" cy="139644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8"/>
            <p:cNvSpPr/>
            <p:nvPr/>
          </p:nvSpPr>
          <p:spPr>
            <a:xfrm>
              <a:off x="5170680" y="4434840"/>
              <a:ext cx="465480" cy="11098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WordArt 32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AutoShape 4"/>
          <p:cNvSpPr/>
          <p:nvPr/>
        </p:nvSpPr>
        <p:spPr>
          <a:xfrm>
            <a:off x="2776680" y="3097080"/>
            <a:ext cx="48420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ff3b3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5"/>
          <p:cNvSpPr/>
          <p:nvPr/>
        </p:nvSpPr>
        <p:spPr>
          <a:xfrm>
            <a:off x="2719440" y="4446720"/>
            <a:ext cx="48420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bc000d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5622840" y="4167360"/>
            <a:ext cx="33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 Gallery is a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esign Digital Content &amp; Contents m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7"/>
          <p:cNvGrpSpPr/>
          <p:nvPr/>
        </p:nvGrpSpPr>
        <p:grpSpPr>
          <a:xfrm>
            <a:off x="855720" y="3532320"/>
            <a:ext cx="4306320" cy="914400"/>
            <a:chOff x="855720" y="3532320"/>
            <a:chExt cx="4306320" cy="914400"/>
          </a:xfrm>
        </p:grpSpPr>
        <p:sp>
          <p:nvSpPr>
            <p:cNvPr id="781" name="Rectangle 8"/>
            <p:cNvSpPr/>
            <p:nvPr/>
          </p:nvSpPr>
          <p:spPr>
            <a:xfrm>
              <a:off x="855720" y="3532320"/>
              <a:ext cx="430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9"/>
            <p:cNvSpPr/>
            <p:nvPr/>
          </p:nvSpPr>
          <p:spPr>
            <a:xfrm>
              <a:off x="867240" y="3541680"/>
              <a:ext cx="4279320" cy="425520"/>
            </a:xfrm>
            <a:prstGeom prst="rect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0"/>
            <p:cNvSpPr/>
            <p:nvPr/>
          </p:nvSpPr>
          <p:spPr>
            <a:xfrm>
              <a:off x="869040" y="3938760"/>
              <a:ext cx="4276080" cy="498240"/>
            </a:xfrm>
            <a:prstGeom prst="rect">
              <a:avLst/>
            </a:prstGeom>
            <a:gradFill rotWithShape="0">
              <a:gsLst>
                <a:gs pos="0">
                  <a:srgbClr val="d6636b"/>
                </a:gs>
                <a:gs pos="100000">
                  <a:srgbClr val="bc00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Text Box 11"/>
          <p:cNvSpPr/>
          <p:nvPr/>
        </p:nvSpPr>
        <p:spPr>
          <a:xfrm>
            <a:off x="1247760" y="4051440"/>
            <a:ext cx="34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12"/>
          <p:cNvGrpSpPr/>
          <p:nvPr/>
        </p:nvGrpSpPr>
        <p:grpSpPr>
          <a:xfrm>
            <a:off x="843120" y="4816440"/>
            <a:ext cx="4306320" cy="914400"/>
            <a:chOff x="843120" y="4816440"/>
            <a:chExt cx="4306320" cy="914400"/>
          </a:xfrm>
        </p:grpSpPr>
        <p:sp>
          <p:nvSpPr>
            <p:cNvPr id="786" name="Rectangle 13"/>
            <p:cNvSpPr/>
            <p:nvPr/>
          </p:nvSpPr>
          <p:spPr>
            <a:xfrm>
              <a:off x="843120" y="4816440"/>
              <a:ext cx="430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4"/>
            <p:cNvSpPr/>
            <p:nvPr/>
          </p:nvSpPr>
          <p:spPr>
            <a:xfrm>
              <a:off x="866160" y="4825800"/>
              <a:ext cx="4268160" cy="415800"/>
            </a:xfrm>
            <a:prstGeom prst="rect">
              <a:avLst/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5"/>
            <p:cNvSpPr/>
            <p:nvPr/>
          </p:nvSpPr>
          <p:spPr>
            <a:xfrm>
              <a:off x="856440" y="5222880"/>
              <a:ext cx="4276080" cy="498240"/>
            </a:xfrm>
            <a:prstGeom prst="rect">
              <a:avLst/>
            </a:prstGeom>
            <a:gradFill rotWithShape="0">
              <a:gsLst>
                <a:gs pos="0">
                  <a:srgbClr val="866365"/>
                </a:gs>
                <a:gs pos="100000">
                  <a:srgbClr val="3a00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Text Box 16"/>
          <p:cNvSpPr/>
          <p:nvPr/>
        </p:nvSpPr>
        <p:spPr>
          <a:xfrm>
            <a:off x="1247760" y="5342040"/>
            <a:ext cx="34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1754280" y="3525840"/>
            <a:ext cx="258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8"/>
          <p:cNvSpPr/>
          <p:nvPr/>
        </p:nvSpPr>
        <p:spPr>
          <a:xfrm>
            <a:off x="1754280" y="4794120"/>
            <a:ext cx="258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20"/>
          <p:cNvSpPr/>
          <p:nvPr/>
        </p:nvSpPr>
        <p:spPr>
          <a:xfrm flipH="1">
            <a:off x="6835680" y="3406680"/>
            <a:ext cx="1108080" cy="534960"/>
          </a:xfrm>
          <a:custGeom>
            <a:avLst/>
            <a:gdLst>
              <a:gd name="textAreaLeft" fmla="*/ 360 w 1108080"/>
              <a:gd name="textAreaRight" fmla="*/ 1108800 w 11080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21"/>
          <p:cNvSpPr/>
          <p:nvPr/>
        </p:nvSpPr>
        <p:spPr>
          <a:xfrm>
            <a:off x="6188040" y="3273480"/>
            <a:ext cx="1160640" cy="51912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22"/>
          <p:cNvSpPr/>
          <p:nvPr/>
        </p:nvSpPr>
        <p:spPr>
          <a:xfrm>
            <a:off x="5784840" y="3525840"/>
            <a:ext cx="984240" cy="438120"/>
          </a:xfrm>
          <a:custGeom>
            <a:avLst/>
            <a:gdLst>
              <a:gd name="textAreaLeft" fmla="*/ 0 w 984240"/>
              <a:gd name="textAreaRight" fmla="*/ 984600 w 98424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23"/>
          <p:cNvGrpSpPr/>
          <p:nvPr/>
        </p:nvGrpSpPr>
        <p:grpSpPr>
          <a:xfrm>
            <a:off x="6403680" y="2109960"/>
            <a:ext cx="1730160" cy="1845720"/>
            <a:chOff x="6403680" y="2109960"/>
            <a:chExt cx="1730160" cy="1845720"/>
          </a:xfrm>
        </p:grpSpPr>
        <p:sp>
          <p:nvSpPr>
            <p:cNvPr id="796" name="Freeform 24"/>
            <p:cNvSpPr/>
            <p:nvPr/>
          </p:nvSpPr>
          <p:spPr>
            <a:xfrm flipH="1">
              <a:off x="7578720" y="2608200"/>
              <a:ext cx="555120" cy="1319760"/>
            </a:xfrm>
            <a:custGeom>
              <a:avLst/>
              <a:gdLst>
                <a:gd name="textAreaLeft" fmla="*/ 360 w 555120"/>
                <a:gd name="textAreaRight" fmla="*/ 555840 w 55512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5"/>
            <p:cNvSpPr/>
            <p:nvPr/>
          </p:nvSpPr>
          <p:spPr>
            <a:xfrm flipH="1">
              <a:off x="6899760" y="2109960"/>
              <a:ext cx="698760" cy="1660680"/>
            </a:xfrm>
            <a:custGeom>
              <a:avLst/>
              <a:gdLst>
                <a:gd name="textAreaLeft" fmla="*/ -360 w 698760"/>
                <a:gd name="textAreaRight" fmla="*/ 698760 w 69876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"/>
            <p:cNvSpPr/>
            <p:nvPr/>
          </p:nvSpPr>
          <p:spPr>
            <a:xfrm flipH="1">
              <a:off x="6403320" y="2635560"/>
              <a:ext cx="555480" cy="132012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27"/>
          <p:cNvGrpSpPr/>
          <p:nvPr/>
        </p:nvGrpSpPr>
        <p:grpSpPr>
          <a:xfrm>
            <a:off x="843120" y="2185920"/>
            <a:ext cx="4306320" cy="914400"/>
            <a:chOff x="843120" y="2185920"/>
            <a:chExt cx="4306320" cy="914400"/>
          </a:xfrm>
        </p:grpSpPr>
        <p:sp>
          <p:nvSpPr>
            <p:cNvPr id="800" name="Rectangle 28"/>
            <p:cNvSpPr/>
            <p:nvPr/>
          </p:nvSpPr>
          <p:spPr>
            <a:xfrm>
              <a:off x="843120" y="2185920"/>
              <a:ext cx="43063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9"/>
            <p:cNvSpPr/>
            <p:nvPr/>
          </p:nvSpPr>
          <p:spPr>
            <a:xfrm>
              <a:off x="864720" y="2195280"/>
              <a:ext cx="4269600" cy="416160"/>
            </a:xfrm>
            <a:prstGeom prst="rect">
              <a:avLst/>
            </a:pr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30"/>
            <p:cNvSpPr/>
            <p:nvPr/>
          </p:nvSpPr>
          <p:spPr>
            <a:xfrm>
              <a:off x="856440" y="2592360"/>
              <a:ext cx="4276080" cy="498240"/>
            </a:xfrm>
            <a:prstGeom prst="rect">
              <a:avLst/>
            </a:prstGeom>
            <a:gradFill rotWithShape="0">
              <a:gsLst>
                <a:gs pos="0">
                  <a:srgbClr val="ff8787"/>
                </a:gs>
                <a:gs pos="100000">
                  <a:srgbClr val="ff3b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31"/>
          <p:cNvSpPr/>
          <p:nvPr/>
        </p:nvSpPr>
        <p:spPr>
          <a:xfrm>
            <a:off x="1247760" y="2708280"/>
            <a:ext cx="349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2"/>
          <p:cNvSpPr/>
          <p:nvPr/>
        </p:nvSpPr>
        <p:spPr>
          <a:xfrm>
            <a:off x="1754280" y="2158920"/>
            <a:ext cx="258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WordArt 34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reeform 3"/>
          <p:cNvSpPr/>
          <p:nvPr/>
        </p:nvSpPr>
        <p:spPr>
          <a:xfrm>
            <a:off x="669960" y="3005280"/>
            <a:ext cx="8505720" cy="2476440"/>
          </a:xfrm>
          <a:custGeom>
            <a:avLst/>
            <a:gdLst>
              <a:gd name="textAreaLeft" fmla="*/ 0 w 8505720"/>
              <a:gd name="textAreaRight" fmla="*/ 8506080 w 8505720"/>
              <a:gd name="textAreaTop" fmla="*/ 0 h 2476440"/>
              <a:gd name="textAreaBottom" fmla="*/ 2476800 h 247644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ff051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4"/>
          <p:cNvGrpSpPr/>
          <p:nvPr/>
        </p:nvGrpSpPr>
        <p:grpSpPr>
          <a:xfrm>
            <a:off x="1271520" y="4208400"/>
            <a:ext cx="1204560" cy="1044360"/>
            <a:chOff x="1271520" y="4208400"/>
            <a:chExt cx="1204560" cy="1044360"/>
          </a:xfrm>
        </p:grpSpPr>
        <p:sp>
          <p:nvSpPr>
            <p:cNvPr id="808" name="Freeform 5"/>
            <p:cNvSpPr/>
            <p:nvPr/>
          </p:nvSpPr>
          <p:spPr>
            <a:xfrm>
              <a:off x="1390320" y="5013000"/>
              <a:ext cx="469440" cy="22644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"/>
            <p:cNvSpPr/>
            <p:nvPr/>
          </p:nvSpPr>
          <p:spPr>
            <a:xfrm>
              <a:off x="1712880" y="4930200"/>
              <a:ext cx="513720" cy="22284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"/>
            <p:cNvSpPr/>
            <p:nvPr/>
          </p:nvSpPr>
          <p:spPr>
            <a:xfrm>
              <a:off x="2046240" y="5065200"/>
              <a:ext cx="429840" cy="18756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"/>
            <p:cNvSpPr/>
            <p:nvPr/>
          </p:nvSpPr>
          <p:spPr>
            <a:xfrm>
              <a:off x="1271520" y="4490280"/>
              <a:ext cx="313560" cy="74664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9"/>
            <p:cNvSpPr/>
            <p:nvPr/>
          </p:nvSpPr>
          <p:spPr>
            <a:xfrm>
              <a:off x="1573920" y="4208400"/>
              <a:ext cx="394920" cy="93960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0"/>
            <p:cNvSpPr/>
            <p:nvPr/>
          </p:nvSpPr>
          <p:spPr>
            <a:xfrm>
              <a:off x="1935720" y="4506120"/>
              <a:ext cx="313200" cy="74664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11" descr="161"/>
          <p:cNvPicPr/>
          <p:nvPr/>
        </p:nvPicPr>
        <p:blipFill>
          <a:blip r:embed="rId1"/>
          <a:stretch/>
        </p:blipFill>
        <p:spPr>
          <a:xfrm>
            <a:off x="7593120" y="2084400"/>
            <a:ext cx="850680" cy="7999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2" descr="232"/>
          <p:cNvPicPr/>
          <p:nvPr/>
        </p:nvPicPr>
        <p:blipFill>
          <a:blip r:embed="rId2"/>
          <a:stretch/>
        </p:blipFill>
        <p:spPr>
          <a:xfrm>
            <a:off x="5411880" y="2832120"/>
            <a:ext cx="1128600" cy="9288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3" descr="133"/>
          <p:cNvPicPr/>
          <p:nvPr/>
        </p:nvPicPr>
        <p:blipFill>
          <a:blip r:embed="rId3"/>
          <a:stretch/>
        </p:blipFill>
        <p:spPr>
          <a:xfrm>
            <a:off x="3384720" y="3359160"/>
            <a:ext cx="10810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17" name="Group 14"/>
          <p:cNvGrpSpPr/>
          <p:nvPr/>
        </p:nvGrpSpPr>
        <p:grpSpPr>
          <a:xfrm>
            <a:off x="593640" y="5573880"/>
            <a:ext cx="1922400" cy="314280"/>
            <a:chOff x="593640" y="5573880"/>
            <a:chExt cx="1922400" cy="314280"/>
          </a:xfrm>
        </p:grpSpPr>
        <p:sp>
          <p:nvSpPr>
            <p:cNvPr id="818" name="AutoShape 15"/>
            <p:cNvSpPr/>
            <p:nvPr/>
          </p:nvSpPr>
          <p:spPr>
            <a:xfrm>
              <a:off x="593640" y="5573880"/>
              <a:ext cx="192240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AutoShape 16"/>
            <p:cNvGrpSpPr/>
            <p:nvPr/>
          </p:nvGrpSpPr>
          <p:grpSpPr>
            <a:xfrm>
              <a:off x="2420280" y="5602680"/>
              <a:ext cx="84960" cy="261720"/>
              <a:chOff x="2420280" y="5602680"/>
              <a:chExt cx="84960" cy="261720"/>
            </a:xfrm>
          </p:grpSpPr>
          <p:pic>
            <p:nvPicPr>
              <p:cNvPr id="820" name="AutoShap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420280" y="5602680"/>
                <a:ext cx="8496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>
                <a:off x="2487240" y="5685840"/>
                <a:ext cx="1332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AutoShape 17"/>
            <p:cNvGrpSpPr/>
            <p:nvPr/>
          </p:nvGrpSpPr>
          <p:grpSpPr>
            <a:xfrm>
              <a:off x="603360" y="5602680"/>
              <a:ext cx="84600" cy="255600"/>
              <a:chOff x="603360" y="5602680"/>
              <a:chExt cx="84600" cy="255600"/>
            </a:xfrm>
          </p:grpSpPr>
          <p:pic>
            <p:nvPicPr>
              <p:cNvPr id="823" name="AutoShap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603360" y="5602680"/>
                <a:ext cx="8460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>
                <a:off x="610560" y="5685480"/>
                <a:ext cx="1296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Text Box 18"/>
          <p:cNvSpPr/>
          <p:nvPr/>
        </p:nvSpPr>
        <p:spPr>
          <a:xfrm>
            <a:off x="739800" y="555156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766800" y="170352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 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0"/>
          <p:cNvSpPr/>
          <p:nvPr/>
        </p:nvSpPr>
        <p:spPr>
          <a:xfrm>
            <a:off x="669960" y="5923080"/>
            <a:ext cx="187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1"/>
          <p:cNvSpPr/>
          <p:nvPr/>
        </p:nvSpPr>
        <p:spPr>
          <a:xfrm>
            <a:off x="2925720" y="5221440"/>
            <a:ext cx="18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2"/>
          <p:cNvSpPr/>
          <p:nvPr/>
        </p:nvSpPr>
        <p:spPr>
          <a:xfrm>
            <a:off x="5054760" y="4394160"/>
            <a:ext cx="18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3"/>
          <p:cNvSpPr/>
          <p:nvPr/>
        </p:nvSpPr>
        <p:spPr>
          <a:xfrm>
            <a:off x="7292880" y="3567240"/>
            <a:ext cx="188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24"/>
          <p:cNvGrpSpPr/>
          <p:nvPr/>
        </p:nvGrpSpPr>
        <p:grpSpPr>
          <a:xfrm>
            <a:off x="2859120" y="4775040"/>
            <a:ext cx="1922400" cy="312840"/>
            <a:chOff x="2859120" y="4775040"/>
            <a:chExt cx="1922400" cy="312840"/>
          </a:xfrm>
        </p:grpSpPr>
        <p:sp>
          <p:nvSpPr>
            <p:cNvPr id="832" name="AutoShape 25"/>
            <p:cNvSpPr/>
            <p:nvPr/>
          </p:nvSpPr>
          <p:spPr>
            <a:xfrm>
              <a:off x="2859120" y="4775040"/>
              <a:ext cx="192240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AutoShape 26"/>
            <p:cNvGrpSpPr/>
            <p:nvPr/>
          </p:nvGrpSpPr>
          <p:grpSpPr>
            <a:xfrm>
              <a:off x="4687560" y="4803480"/>
              <a:ext cx="84600" cy="261720"/>
              <a:chOff x="4687560" y="4803480"/>
              <a:chExt cx="84600" cy="261720"/>
            </a:xfrm>
          </p:grpSpPr>
          <p:pic>
            <p:nvPicPr>
              <p:cNvPr id="834" name="AutoShap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7560" y="4803480"/>
                <a:ext cx="8460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4752000" y="4885920"/>
                <a:ext cx="129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AutoShape 27"/>
            <p:cNvGrpSpPr/>
            <p:nvPr/>
          </p:nvGrpSpPr>
          <p:grpSpPr>
            <a:xfrm>
              <a:off x="2871360" y="4803480"/>
              <a:ext cx="84960" cy="256320"/>
              <a:chOff x="2871360" y="4803480"/>
              <a:chExt cx="84960" cy="256320"/>
            </a:xfrm>
          </p:grpSpPr>
          <p:pic>
            <p:nvPicPr>
              <p:cNvPr id="837" name="AutoShap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2871360" y="4803480"/>
                <a:ext cx="84960" cy="25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2876040" y="4885920"/>
                <a:ext cx="1332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Text Box 18"/>
          <p:cNvSpPr/>
          <p:nvPr/>
        </p:nvSpPr>
        <p:spPr>
          <a:xfrm>
            <a:off x="3000240" y="4753080"/>
            <a:ext cx="15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5018040" y="3962520"/>
            <a:ext cx="1922400" cy="314280"/>
            <a:chOff x="5018040" y="3962520"/>
            <a:chExt cx="1922400" cy="314280"/>
          </a:xfrm>
        </p:grpSpPr>
        <p:sp>
          <p:nvSpPr>
            <p:cNvPr id="841" name="AutoShape 30"/>
            <p:cNvSpPr/>
            <p:nvPr/>
          </p:nvSpPr>
          <p:spPr>
            <a:xfrm>
              <a:off x="5018040" y="3962520"/>
              <a:ext cx="192240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AutoShape 31"/>
            <p:cNvGrpSpPr/>
            <p:nvPr/>
          </p:nvGrpSpPr>
          <p:grpSpPr>
            <a:xfrm>
              <a:off x="6845400" y="3987000"/>
              <a:ext cx="84600" cy="268200"/>
              <a:chOff x="6845400" y="3987000"/>
              <a:chExt cx="84600" cy="268200"/>
            </a:xfrm>
          </p:grpSpPr>
          <p:pic>
            <p:nvPicPr>
              <p:cNvPr id="843" name="AutoShape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6845400" y="3987000"/>
                <a:ext cx="8460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6910920" y="4074480"/>
                <a:ext cx="1296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AutoShape 32"/>
            <p:cNvGrpSpPr/>
            <p:nvPr/>
          </p:nvGrpSpPr>
          <p:grpSpPr>
            <a:xfrm>
              <a:off x="5028840" y="3993120"/>
              <a:ext cx="84600" cy="255600"/>
              <a:chOff x="5028840" y="3993120"/>
              <a:chExt cx="84600" cy="255600"/>
            </a:xfrm>
          </p:grpSpPr>
          <p:pic>
            <p:nvPicPr>
              <p:cNvPr id="846" name="AutoShap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5028840" y="3993120"/>
                <a:ext cx="8460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5034600" y="4073760"/>
                <a:ext cx="1296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8" name="Text Box 18"/>
          <p:cNvSpPr/>
          <p:nvPr/>
        </p:nvSpPr>
        <p:spPr>
          <a:xfrm>
            <a:off x="5130720" y="3940200"/>
            <a:ext cx="16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34"/>
          <p:cNvGrpSpPr/>
          <p:nvPr/>
        </p:nvGrpSpPr>
        <p:grpSpPr>
          <a:xfrm>
            <a:off x="7269120" y="3171960"/>
            <a:ext cx="1922400" cy="314280"/>
            <a:chOff x="7269120" y="3171960"/>
            <a:chExt cx="1922400" cy="314280"/>
          </a:xfrm>
        </p:grpSpPr>
        <p:sp>
          <p:nvSpPr>
            <p:cNvPr id="850" name="AutoShape 35"/>
            <p:cNvSpPr/>
            <p:nvPr/>
          </p:nvSpPr>
          <p:spPr>
            <a:xfrm>
              <a:off x="7269120" y="3171960"/>
              <a:ext cx="192240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AutoShape 36"/>
            <p:cNvGrpSpPr/>
            <p:nvPr/>
          </p:nvGrpSpPr>
          <p:grpSpPr>
            <a:xfrm>
              <a:off x="9095040" y="3200760"/>
              <a:ext cx="84600" cy="261720"/>
              <a:chOff x="9095040" y="3200760"/>
              <a:chExt cx="84600" cy="261720"/>
            </a:xfrm>
          </p:grpSpPr>
          <p:pic>
            <p:nvPicPr>
              <p:cNvPr id="852" name="AutoShape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9095040" y="3200760"/>
                <a:ext cx="8460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9162000" y="3283920"/>
                <a:ext cx="1296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AutoShape 37"/>
            <p:cNvGrpSpPr/>
            <p:nvPr/>
          </p:nvGrpSpPr>
          <p:grpSpPr>
            <a:xfrm>
              <a:off x="7278120" y="3200760"/>
              <a:ext cx="84600" cy="255600"/>
              <a:chOff x="7278120" y="3200760"/>
              <a:chExt cx="84600" cy="255600"/>
            </a:xfrm>
          </p:grpSpPr>
          <p:pic>
            <p:nvPicPr>
              <p:cNvPr id="855" name="AutoShape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78120" y="3200760"/>
                <a:ext cx="8460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7285680" y="3283560"/>
                <a:ext cx="1296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7" name="Text Box 18"/>
          <p:cNvSpPr/>
          <p:nvPr/>
        </p:nvSpPr>
        <p:spPr>
          <a:xfrm>
            <a:off x="7365960" y="3149640"/>
            <a:ext cx="16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WordArt 58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3"/>
          <p:cNvSpPr/>
          <p:nvPr/>
        </p:nvSpPr>
        <p:spPr>
          <a:xfrm>
            <a:off x="5702400" y="2320920"/>
            <a:ext cx="2512800" cy="2362320"/>
          </a:xfrm>
          <a:prstGeom prst="ellipse">
            <a:avLst/>
          </a:prstGeom>
          <a:noFill/>
          <a:ln w="38160">
            <a:solidFill>
              <a:srgbClr val="ff3b3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066680" y="2320920"/>
            <a:ext cx="2511720" cy="2362320"/>
          </a:xfrm>
          <a:prstGeom prst="ellipse">
            <a:avLst/>
          </a:prstGeom>
          <a:noFill/>
          <a:ln w="38160">
            <a:solidFill>
              <a:srgbClr val="bc000d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9"/>
          <p:cNvSpPr/>
          <p:nvPr/>
        </p:nvSpPr>
        <p:spPr>
          <a:xfrm>
            <a:off x="1603440" y="2865600"/>
            <a:ext cx="13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15"/>
          <p:cNvGrpSpPr/>
          <p:nvPr/>
        </p:nvGrpSpPr>
        <p:grpSpPr>
          <a:xfrm>
            <a:off x="1519200" y="1522440"/>
            <a:ext cx="844560" cy="777960"/>
            <a:chOff x="1519200" y="1522440"/>
            <a:chExt cx="844560" cy="777960"/>
          </a:xfrm>
        </p:grpSpPr>
        <p:grpSp>
          <p:nvGrpSpPr>
            <p:cNvPr id="863" name="Group 16"/>
            <p:cNvGrpSpPr/>
            <p:nvPr/>
          </p:nvGrpSpPr>
          <p:grpSpPr>
            <a:xfrm>
              <a:off x="1519200" y="1522440"/>
              <a:ext cx="844560" cy="777960"/>
              <a:chOff x="1519200" y="1522440"/>
              <a:chExt cx="844560" cy="777960"/>
            </a:xfrm>
          </p:grpSpPr>
          <p:pic>
            <p:nvPicPr>
              <p:cNvPr id="864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522440"/>
                <a:ext cx="84456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Oval 18"/>
              <p:cNvSpPr/>
              <p:nvPr/>
            </p:nvSpPr>
            <p:spPr>
              <a:xfrm>
                <a:off x="1519200" y="1522440"/>
                <a:ext cx="838080" cy="77796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50000">
                    <a:srgbClr val="570006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66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603080" y="1530000"/>
              <a:ext cx="6670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Text Box 30"/>
          <p:cNvSpPr/>
          <p:nvPr/>
        </p:nvSpPr>
        <p:spPr>
          <a:xfrm>
            <a:off x="1549440" y="165096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6607080" y="2865600"/>
            <a:ext cx="13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45"/>
          <p:cNvGrpSpPr/>
          <p:nvPr/>
        </p:nvGrpSpPr>
        <p:grpSpPr>
          <a:xfrm>
            <a:off x="7380360" y="1552680"/>
            <a:ext cx="846000" cy="777600"/>
            <a:chOff x="7380360" y="1552680"/>
            <a:chExt cx="846000" cy="777600"/>
          </a:xfrm>
        </p:grpSpPr>
        <p:grpSp>
          <p:nvGrpSpPr>
            <p:cNvPr id="870" name="Group 46"/>
            <p:cNvGrpSpPr/>
            <p:nvPr/>
          </p:nvGrpSpPr>
          <p:grpSpPr>
            <a:xfrm>
              <a:off x="7380360" y="1552680"/>
              <a:ext cx="846000" cy="777600"/>
              <a:chOff x="7380360" y="1552680"/>
              <a:chExt cx="846000" cy="777600"/>
            </a:xfrm>
          </p:grpSpPr>
          <p:pic>
            <p:nvPicPr>
              <p:cNvPr id="871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7380360" y="1552680"/>
                <a:ext cx="84600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2" name="Oval 48"/>
              <p:cNvSpPr/>
              <p:nvPr/>
            </p:nvSpPr>
            <p:spPr>
              <a:xfrm>
                <a:off x="7380360" y="1552680"/>
                <a:ext cx="839520" cy="777600"/>
              </a:xfrm>
              <a:prstGeom prst="ellipse">
                <a:avLst/>
              </a:prstGeom>
              <a:gradFill rotWithShape="0">
                <a:gsLst>
                  <a:gs pos="0">
                    <a:srgbClr val="ff3b3b"/>
                  </a:gs>
                  <a:gs pos="50000">
                    <a:srgbClr val="8a2020"/>
                  </a:gs>
                  <a:gs pos="100000">
                    <a:srgbClr val="ff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3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7464600" y="1560240"/>
              <a:ext cx="66816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Text Box 50"/>
          <p:cNvSpPr/>
          <p:nvPr/>
        </p:nvSpPr>
        <p:spPr>
          <a:xfrm>
            <a:off x="7345440" y="1681200"/>
            <a:ext cx="89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4"/>
          <p:cNvSpPr/>
          <p:nvPr/>
        </p:nvSpPr>
        <p:spPr>
          <a:xfrm>
            <a:off x="1627200" y="5316480"/>
            <a:ext cx="53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 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15"/>
          <p:cNvGrpSpPr/>
          <p:nvPr/>
        </p:nvGrpSpPr>
        <p:grpSpPr>
          <a:xfrm>
            <a:off x="1519200" y="4275000"/>
            <a:ext cx="844560" cy="777960"/>
            <a:chOff x="1519200" y="4275000"/>
            <a:chExt cx="844560" cy="777960"/>
          </a:xfrm>
        </p:grpSpPr>
        <p:grpSp>
          <p:nvGrpSpPr>
            <p:cNvPr id="877" name="Group 16"/>
            <p:cNvGrpSpPr/>
            <p:nvPr/>
          </p:nvGrpSpPr>
          <p:grpSpPr>
            <a:xfrm>
              <a:off x="1519200" y="4275000"/>
              <a:ext cx="844560" cy="777960"/>
              <a:chOff x="1519200" y="4275000"/>
              <a:chExt cx="844560" cy="777960"/>
            </a:xfrm>
          </p:grpSpPr>
          <p:pic>
            <p:nvPicPr>
              <p:cNvPr id="878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19200" y="4275000"/>
                <a:ext cx="84456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Oval 18"/>
              <p:cNvSpPr/>
              <p:nvPr/>
            </p:nvSpPr>
            <p:spPr>
              <a:xfrm>
                <a:off x="1519200" y="4275000"/>
                <a:ext cx="838080" cy="77796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50000">
                    <a:srgbClr val="690007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0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603080" y="4282560"/>
              <a:ext cx="6670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1" name="Text Box 30"/>
          <p:cNvSpPr/>
          <p:nvPr/>
        </p:nvSpPr>
        <p:spPr>
          <a:xfrm>
            <a:off x="1549440" y="440388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15"/>
          <p:cNvGrpSpPr/>
          <p:nvPr/>
        </p:nvGrpSpPr>
        <p:grpSpPr>
          <a:xfrm>
            <a:off x="557280" y="2979720"/>
            <a:ext cx="844560" cy="777960"/>
            <a:chOff x="557280" y="2979720"/>
            <a:chExt cx="844560" cy="777960"/>
          </a:xfrm>
        </p:grpSpPr>
        <p:grpSp>
          <p:nvGrpSpPr>
            <p:cNvPr id="883" name="Group 16"/>
            <p:cNvGrpSpPr/>
            <p:nvPr/>
          </p:nvGrpSpPr>
          <p:grpSpPr>
            <a:xfrm>
              <a:off x="557280" y="2979720"/>
              <a:ext cx="844560" cy="777960"/>
              <a:chOff x="557280" y="2979720"/>
              <a:chExt cx="844560" cy="777960"/>
            </a:xfrm>
          </p:grpSpPr>
          <p:pic>
            <p:nvPicPr>
              <p:cNvPr id="884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57280" y="2979720"/>
                <a:ext cx="84456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Oval 18"/>
              <p:cNvSpPr/>
              <p:nvPr/>
            </p:nvSpPr>
            <p:spPr>
              <a:xfrm>
                <a:off x="557280" y="2979720"/>
                <a:ext cx="838080" cy="777960"/>
              </a:xfrm>
              <a:prstGeom prst="ellipse">
                <a:avLst/>
              </a:prstGeom>
              <a:gradFill rotWithShape="0">
                <a:gsLst>
                  <a:gs pos="0">
                    <a:srgbClr val="bc000d"/>
                  </a:gs>
                  <a:gs pos="50000">
                    <a:srgbClr val="690007"/>
                  </a:gs>
                  <a:gs pos="100000">
                    <a:srgbClr val="bc00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6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641160" y="2987280"/>
              <a:ext cx="6670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7" name="Text Box 30"/>
          <p:cNvSpPr/>
          <p:nvPr/>
        </p:nvSpPr>
        <p:spPr>
          <a:xfrm>
            <a:off x="587520" y="310824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45"/>
          <p:cNvGrpSpPr/>
          <p:nvPr/>
        </p:nvGrpSpPr>
        <p:grpSpPr>
          <a:xfrm>
            <a:off x="7380360" y="4162320"/>
            <a:ext cx="846000" cy="777960"/>
            <a:chOff x="7380360" y="4162320"/>
            <a:chExt cx="846000" cy="777960"/>
          </a:xfrm>
        </p:grpSpPr>
        <p:grpSp>
          <p:nvGrpSpPr>
            <p:cNvPr id="889" name="Group 46"/>
            <p:cNvGrpSpPr/>
            <p:nvPr/>
          </p:nvGrpSpPr>
          <p:grpSpPr>
            <a:xfrm>
              <a:off x="7380360" y="4162320"/>
              <a:ext cx="846000" cy="777960"/>
              <a:chOff x="7380360" y="4162320"/>
              <a:chExt cx="846000" cy="777960"/>
            </a:xfrm>
          </p:grpSpPr>
          <p:pic>
            <p:nvPicPr>
              <p:cNvPr id="890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380360" y="4162320"/>
                <a:ext cx="846000" cy="77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1" name="Oval 48"/>
              <p:cNvSpPr/>
              <p:nvPr/>
            </p:nvSpPr>
            <p:spPr>
              <a:xfrm>
                <a:off x="7380360" y="4162320"/>
                <a:ext cx="839520" cy="777960"/>
              </a:xfrm>
              <a:prstGeom prst="ellipse">
                <a:avLst/>
              </a:prstGeom>
              <a:gradFill rotWithShape="0">
                <a:gsLst>
                  <a:gs pos="0">
                    <a:srgbClr val="ff3b3b"/>
                  </a:gs>
                  <a:gs pos="50000">
                    <a:srgbClr val="8a2020"/>
                  </a:gs>
                  <a:gs pos="100000">
                    <a:srgbClr val="ff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2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7464600" y="4169880"/>
              <a:ext cx="66816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Text Box 50"/>
          <p:cNvSpPr/>
          <p:nvPr/>
        </p:nvSpPr>
        <p:spPr>
          <a:xfrm>
            <a:off x="7345440" y="4290840"/>
            <a:ext cx="89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45"/>
          <p:cNvGrpSpPr/>
          <p:nvPr/>
        </p:nvGrpSpPr>
        <p:grpSpPr>
          <a:xfrm>
            <a:off x="8282160" y="2924280"/>
            <a:ext cx="846000" cy="777600"/>
            <a:chOff x="8282160" y="2924280"/>
            <a:chExt cx="846000" cy="777600"/>
          </a:xfrm>
        </p:grpSpPr>
        <p:grpSp>
          <p:nvGrpSpPr>
            <p:cNvPr id="895" name="Group 46"/>
            <p:cNvGrpSpPr/>
            <p:nvPr/>
          </p:nvGrpSpPr>
          <p:grpSpPr>
            <a:xfrm>
              <a:off x="8282160" y="2924280"/>
              <a:ext cx="846000" cy="777600"/>
              <a:chOff x="8282160" y="2924280"/>
              <a:chExt cx="846000" cy="777600"/>
            </a:xfrm>
          </p:grpSpPr>
          <p:pic>
            <p:nvPicPr>
              <p:cNvPr id="896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282160" y="2924280"/>
                <a:ext cx="84600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Oval 48"/>
              <p:cNvSpPr/>
              <p:nvPr/>
            </p:nvSpPr>
            <p:spPr>
              <a:xfrm>
                <a:off x="8282160" y="2924280"/>
                <a:ext cx="839520" cy="777600"/>
              </a:xfrm>
              <a:prstGeom prst="ellipse">
                <a:avLst/>
              </a:prstGeom>
              <a:gradFill rotWithShape="0">
                <a:gsLst>
                  <a:gs pos="0">
                    <a:srgbClr val="ff3b3b"/>
                  </a:gs>
                  <a:gs pos="50000">
                    <a:srgbClr val="8a2020"/>
                  </a:gs>
                  <a:gs pos="100000">
                    <a:srgbClr val="ff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8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8366400" y="2931840"/>
              <a:ext cx="66816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Text Box 50"/>
          <p:cNvSpPr/>
          <p:nvPr/>
        </p:nvSpPr>
        <p:spPr>
          <a:xfrm>
            <a:off x="8245440" y="3052800"/>
            <a:ext cx="89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4"/>
          <p:cNvSpPr/>
          <p:nvPr/>
        </p:nvSpPr>
        <p:spPr>
          <a:xfrm>
            <a:off x="4226040" y="2025720"/>
            <a:ext cx="1160280" cy="923760"/>
          </a:xfrm>
          <a:custGeom>
            <a:avLst/>
            <a:gdLst>
              <a:gd name="textAreaLeft" fmla="*/ 169920 w 1160280"/>
              <a:gd name="textAreaRight" fmla="*/ 990360 w 1160280"/>
              <a:gd name="textAreaTop" fmla="*/ 135000 h 923760"/>
              <a:gd name="textAreaBottom" fmla="*/ 788760 h 92376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d45d65">
                  <a:alpha val="80000"/>
                </a:srgbClr>
              </a:gs>
              <a:gs pos="100000">
                <a:srgbClr val="bc000d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45"/>
          <p:cNvGrpSpPr/>
          <p:nvPr/>
        </p:nvGrpSpPr>
        <p:grpSpPr>
          <a:xfrm>
            <a:off x="5005440" y="2781360"/>
            <a:ext cx="1417680" cy="1116000"/>
            <a:chOff x="5005440" y="2781360"/>
            <a:chExt cx="1417680" cy="1116000"/>
          </a:xfrm>
        </p:grpSpPr>
        <p:sp>
          <p:nvSpPr>
            <p:cNvPr id="902" name="AutoShape 46"/>
            <p:cNvSpPr/>
            <p:nvPr/>
          </p:nvSpPr>
          <p:spPr>
            <a:xfrm>
              <a:off x="5005440" y="2781360"/>
              <a:ext cx="1417680" cy="111600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aeae"/>
                </a:gs>
                <a:gs pos="100000">
                  <a:srgbClr val="ff3b3b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47"/>
            <p:cNvSpPr/>
            <p:nvPr/>
          </p:nvSpPr>
          <p:spPr>
            <a:xfrm>
              <a:off x="5050800" y="2825280"/>
              <a:ext cx="1312560" cy="1023840"/>
            </a:xfrm>
            <a:custGeom>
              <a:avLst/>
              <a:gdLst>
                <a:gd name="textAreaLeft" fmla="*/ 0 w 1312560"/>
                <a:gd name="textAreaRight" fmla="*/ 1312920 w 131256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4" y="0"/>
                  </a:lnTo>
                  <a:lnTo>
                    <a:pt x="21600" y="10800"/>
                  </a:lnTo>
                  <a:lnTo>
                    <a:pt x="1620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2929"/>
                </a:gs>
                <a:gs pos="100000">
                  <a:srgbClr val="ff3b3b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48"/>
          <p:cNvGrpSpPr/>
          <p:nvPr/>
        </p:nvGrpSpPr>
        <p:grpSpPr>
          <a:xfrm>
            <a:off x="3173400" y="2798640"/>
            <a:ext cx="1416240" cy="1116000"/>
            <a:chOff x="3173400" y="2798640"/>
            <a:chExt cx="1416240" cy="1116000"/>
          </a:xfrm>
        </p:grpSpPr>
        <p:sp>
          <p:nvSpPr>
            <p:cNvPr id="905" name="AutoShape 49"/>
            <p:cNvSpPr/>
            <p:nvPr/>
          </p:nvSpPr>
          <p:spPr>
            <a:xfrm flipH="1">
              <a:off x="3173400" y="2798640"/>
              <a:ext cx="1416240" cy="1116000"/>
            </a:xfrm>
            <a:custGeom>
              <a:avLst/>
              <a:gdLst>
                <a:gd name="textAreaLeft" fmla="*/ 360 w 1416240"/>
                <a:gd name="textAreaRight" fmla="*/ 1416960 w 141624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dd7d84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50"/>
            <p:cNvSpPr/>
            <p:nvPr/>
          </p:nvSpPr>
          <p:spPr>
            <a:xfrm flipH="1">
              <a:off x="3232440" y="2842560"/>
              <a:ext cx="1311480" cy="1023840"/>
            </a:xfrm>
            <a:custGeom>
              <a:avLst/>
              <a:gdLst>
                <a:gd name="textAreaLeft" fmla="*/ -360 w 1311480"/>
                <a:gd name="textAreaRight" fmla="*/ 1311480 w 131148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4" y="0"/>
                  </a:lnTo>
                  <a:lnTo>
                    <a:pt x="21600" y="10800"/>
                  </a:lnTo>
                  <a:lnTo>
                    <a:pt x="1620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c000d"/>
                </a:gs>
                <a:gs pos="100000">
                  <a:srgbClr val="7d0009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Text Box 8"/>
          <p:cNvSpPr/>
          <p:nvPr/>
        </p:nvSpPr>
        <p:spPr>
          <a:xfrm>
            <a:off x="3454560" y="2957400"/>
            <a:ext cx="10825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8"/>
          <p:cNvSpPr/>
          <p:nvPr/>
        </p:nvSpPr>
        <p:spPr>
          <a:xfrm>
            <a:off x="5140440" y="2957400"/>
            <a:ext cx="10825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3983040" y="14810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0"/>
          <p:cNvSpPr/>
          <p:nvPr/>
        </p:nvSpPr>
        <p:spPr>
          <a:xfrm>
            <a:off x="3983040" y="47116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55"/>
          <p:cNvSpPr/>
          <p:nvPr/>
        </p:nvSpPr>
        <p:spPr>
          <a:xfrm flipH="1" flipV="1">
            <a:off x="4225320" y="3683160"/>
            <a:ext cx="1160280" cy="923760"/>
          </a:xfrm>
          <a:custGeom>
            <a:avLst/>
            <a:gdLst>
              <a:gd name="textAreaLeft" fmla="*/ 169920 w 1160280"/>
              <a:gd name="textAreaRight" fmla="*/ 990360 w 1160280"/>
              <a:gd name="textAreaTop" fmla="*/ 135000 h 923760"/>
              <a:gd name="textAreaBottom" fmla="*/ 788760 h 92376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f8282">
                  <a:alpha val="80000"/>
                </a:srgbClr>
              </a:gs>
              <a:gs pos="100000">
                <a:srgbClr val="ff3b3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WordArt 59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3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76020b"/>
              </a:gs>
              <a:gs pos="50000">
                <a:srgbClr val="ff0517"/>
              </a:gs>
              <a:gs pos="100000">
                <a:srgbClr val="76020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2341440" y="4915080"/>
            <a:ext cx="5131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Theme Gallery is a Design Digital Content &amp; Contents mall developed by Guild Design In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6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7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918" name="Oval 8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c000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9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bc000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0"/>
            <p:cNvSpPr/>
            <p:nvPr/>
          </p:nvSpPr>
          <p:spPr>
            <a:xfrm>
              <a:off x="3397680" y="252504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660007"/>
                </a:gs>
                <a:gs pos="50000">
                  <a:srgbClr val="bc000d"/>
                </a:gs>
                <a:gs pos="100000">
                  <a:srgbClr val="66000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1"/>
            <p:cNvSpPr/>
            <p:nvPr/>
          </p:nvSpPr>
          <p:spPr>
            <a:xfrm>
              <a:off x="3403800" y="2526480"/>
              <a:ext cx="1311840" cy="1305360"/>
            </a:xfrm>
            <a:prstGeom prst="ellipse">
              <a:avLst/>
            </a:prstGeom>
            <a:gradFill rotWithShape="0">
              <a:gsLst>
                <a:gs pos="0">
                  <a:srgbClr val="770008"/>
                </a:gs>
                <a:gs pos="100000">
                  <a:srgbClr val="bc000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2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3" name="Group 13"/>
            <p:cNvGrpSpPr/>
            <p:nvPr/>
          </p:nvGrpSpPr>
          <p:grpSpPr>
            <a:xfrm>
              <a:off x="3492720" y="2610720"/>
              <a:ext cx="1142280" cy="1140840"/>
              <a:chOff x="3492720" y="2610720"/>
              <a:chExt cx="1142280" cy="1140840"/>
            </a:xfrm>
          </p:grpSpPr>
          <p:sp>
            <p:nvSpPr>
              <p:cNvPr id="924" name="Oval 14"/>
              <p:cNvSpPr/>
              <p:nvPr/>
            </p:nvSpPr>
            <p:spPr>
              <a:xfrm>
                <a:off x="3492720" y="261072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Oval 15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Oval 16"/>
              <p:cNvSpPr/>
              <p:nvPr/>
            </p:nvSpPr>
            <p:spPr>
              <a:xfrm>
                <a:off x="3519000" y="262800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Oval 17"/>
              <p:cNvSpPr/>
              <p:nvPr/>
            </p:nvSpPr>
            <p:spPr>
              <a:xfrm>
                <a:off x="3581280" y="265716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Group 18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929" name="Oval 19"/>
            <p:cNvSpPr/>
            <p:nvPr/>
          </p:nvSpPr>
          <p:spPr>
            <a:xfrm>
              <a:off x="4884840" y="1584360"/>
              <a:ext cx="150012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20"/>
            <p:cNvSpPr/>
            <p:nvPr/>
          </p:nvSpPr>
          <p:spPr>
            <a:xfrm>
              <a:off x="4893840" y="1584360"/>
              <a:ext cx="1500120" cy="150012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21"/>
            <p:cNvSpPr/>
            <p:nvPr/>
          </p:nvSpPr>
          <p:spPr>
            <a:xfrm>
              <a:off x="4979880" y="1666080"/>
              <a:ext cx="1300680" cy="130104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22"/>
            <p:cNvSpPr/>
            <p:nvPr/>
          </p:nvSpPr>
          <p:spPr>
            <a:xfrm>
              <a:off x="4987440" y="1667520"/>
              <a:ext cx="1300680" cy="1302120"/>
            </a:xfrm>
            <a:prstGeom prst="ellipse">
              <a:avLst/>
            </a:prstGeom>
            <a:gradFill rotWithShape="0">
              <a:gsLst>
                <a:gs pos="0">
                  <a:srgbClr val="25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23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24"/>
            <p:cNvGrpSpPr/>
            <p:nvPr/>
          </p:nvGrpSpPr>
          <p:grpSpPr>
            <a:xfrm>
              <a:off x="5085360" y="1752120"/>
              <a:ext cx="1136160" cy="1137240"/>
              <a:chOff x="5085360" y="1752120"/>
              <a:chExt cx="1136160" cy="1137240"/>
            </a:xfrm>
          </p:grpSpPr>
          <p:sp>
            <p:nvSpPr>
              <p:cNvPr id="935" name="Oval 25"/>
              <p:cNvSpPr/>
              <p:nvPr/>
            </p:nvSpPr>
            <p:spPr>
              <a:xfrm>
                <a:off x="5085360" y="1752120"/>
                <a:ext cx="113616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26"/>
              <p:cNvSpPr/>
              <p:nvPr/>
            </p:nvSpPr>
            <p:spPr>
              <a:xfrm>
                <a:off x="5099760" y="1758240"/>
                <a:ext cx="110880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Oval 27"/>
              <p:cNvSpPr/>
              <p:nvPr/>
            </p:nvSpPr>
            <p:spPr>
              <a:xfrm>
                <a:off x="5111640" y="1769400"/>
                <a:ext cx="105444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Oval 28"/>
              <p:cNvSpPr/>
              <p:nvPr/>
            </p:nvSpPr>
            <p:spPr>
              <a:xfrm>
                <a:off x="5173200" y="179820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Group 29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940" name="Oval 30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3b3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31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ff3b3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32"/>
            <p:cNvSpPr/>
            <p:nvPr/>
          </p:nvSpPr>
          <p:spPr>
            <a:xfrm>
              <a:off x="6595920" y="244656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8a2020"/>
                </a:gs>
                <a:gs pos="50000">
                  <a:srgbClr val="ff3b3b"/>
                </a:gs>
                <a:gs pos="100000">
                  <a:srgbClr val="8a202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33"/>
            <p:cNvSpPr/>
            <p:nvPr/>
          </p:nvSpPr>
          <p:spPr>
            <a:xfrm>
              <a:off x="6595920" y="2428560"/>
              <a:ext cx="1300680" cy="1323000"/>
            </a:xfrm>
            <a:prstGeom prst="ellipse">
              <a:avLst/>
            </a:prstGeom>
            <a:gradFill rotWithShape="0">
              <a:gsLst>
                <a:gs pos="0">
                  <a:srgbClr val="a22525"/>
                </a:gs>
                <a:gs pos="100000">
                  <a:srgbClr val="ff3b3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34"/>
            <p:cNvSpPr/>
            <p:nvPr/>
          </p:nvSpPr>
          <p:spPr>
            <a:xfrm>
              <a:off x="6658560" y="2519280"/>
              <a:ext cx="1171080" cy="1193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Group 35"/>
            <p:cNvGrpSpPr/>
            <p:nvPr/>
          </p:nvGrpSpPr>
          <p:grpSpPr>
            <a:xfrm>
              <a:off x="6679080" y="2536920"/>
              <a:ext cx="1134360" cy="1155240"/>
              <a:chOff x="6679080" y="2536920"/>
              <a:chExt cx="1134360" cy="1155240"/>
            </a:xfrm>
          </p:grpSpPr>
          <p:sp>
            <p:nvSpPr>
              <p:cNvPr id="946" name="Oval 36"/>
              <p:cNvSpPr/>
              <p:nvPr/>
            </p:nvSpPr>
            <p:spPr>
              <a:xfrm>
                <a:off x="6679080" y="2536920"/>
                <a:ext cx="1134360" cy="1155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Oval 37"/>
              <p:cNvSpPr/>
              <p:nvPr/>
            </p:nvSpPr>
            <p:spPr>
              <a:xfrm>
                <a:off x="6693120" y="2543400"/>
                <a:ext cx="1107360" cy="1126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Oval 38"/>
              <p:cNvSpPr/>
              <p:nvPr/>
            </p:nvSpPr>
            <p:spPr>
              <a:xfrm>
                <a:off x="6705360" y="2554200"/>
                <a:ext cx="1052640" cy="1052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Oval 39"/>
              <p:cNvSpPr/>
              <p:nvPr/>
            </p:nvSpPr>
            <p:spPr>
              <a:xfrm>
                <a:off x="6766920" y="2583720"/>
                <a:ext cx="93600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0" name="Group 40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951" name="Oval 41"/>
            <p:cNvSpPr/>
            <p:nvPr/>
          </p:nvSpPr>
          <p:spPr>
            <a:xfrm>
              <a:off x="171288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51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42"/>
            <p:cNvSpPr/>
            <p:nvPr/>
          </p:nvSpPr>
          <p:spPr>
            <a:xfrm>
              <a:off x="17182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051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43"/>
            <p:cNvSpPr/>
            <p:nvPr/>
          </p:nvSpPr>
          <p:spPr>
            <a:xfrm>
              <a:off x="1811880" y="1686960"/>
              <a:ext cx="1333440" cy="1316880"/>
            </a:xfrm>
            <a:prstGeom prst="ellipse">
              <a:avLst/>
            </a:prstGeom>
            <a:gradFill rotWithShape="0">
              <a:gsLst>
                <a:gs pos="0">
                  <a:srgbClr val="8a030c"/>
                </a:gs>
                <a:gs pos="50000">
                  <a:srgbClr val="ff0517"/>
                </a:gs>
                <a:gs pos="100000">
                  <a:srgbClr val="8a03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44"/>
            <p:cNvSpPr/>
            <p:nvPr/>
          </p:nvSpPr>
          <p:spPr>
            <a:xfrm>
              <a:off x="1811880" y="1686960"/>
              <a:ext cx="1332000" cy="1316880"/>
            </a:xfrm>
            <a:prstGeom prst="ellipse">
              <a:avLst/>
            </a:prstGeom>
            <a:gradFill rotWithShape="0">
              <a:gsLst>
                <a:gs pos="0">
                  <a:srgbClr val="a2030f"/>
                </a:gs>
                <a:gs pos="100000">
                  <a:srgbClr val="ff051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45"/>
            <p:cNvSpPr/>
            <p:nvPr/>
          </p:nvSpPr>
          <p:spPr>
            <a:xfrm>
              <a:off x="1884960" y="175392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46"/>
            <p:cNvSpPr/>
            <p:nvPr/>
          </p:nvSpPr>
          <p:spPr>
            <a:xfrm>
              <a:off x="1904040" y="177300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47"/>
            <p:cNvSpPr/>
            <p:nvPr/>
          </p:nvSpPr>
          <p:spPr>
            <a:xfrm>
              <a:off x="1919160" y="178056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48"/>
            <p:cNvSpPr/>
            <p:nvPr/>
          </p:nvSpPr>
          <p:spPr>
            <a:xfrm>
              <a:off x="1931040" y="179100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49"/>
            <p:cNvSpPr/>
            <p:nvPr/>
          </p:nvSpPr>
          <p:spPr>
            <a:xfrm>
              <a:off x="1993320" y="182052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Line 50"/>
          <p:cNvSpPr/>
          <p:nvPr/>
        </p:nvSpPr>
        <p:spPr>
          <a:xfrm>
            <a:off x="2444760" y="312588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51"/>
          <p:cNvSpPr/>
          <p:nvPr/>
        </p:nvSpPr>
        <p:spPr>
          <a:xfrm flipH="1">
            <a:off x="4049280" y="3989520"/>
            <a:ext cx="180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52"/>
          <p:cNvSpPr/>
          <p:nvPr/>
        </p:nvSpPr>
        <p:spPr>
          <a:xfrm>
            <a:off x="5637240" y="3108240"/>
            <a:ext cx="0" cy="1284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53"/>
          <p:cNvSpPr/>
          <p:nvPr/>
        </p:nvSpPr>
        <p:spPr>
          <a:xfrm flipH="1">
            <a:off x="7191000" y="3927600"/>
            <a:ext cx="20520" cy="5205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4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5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6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7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WordArt 103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AutoShape 3"/>
          <p:cNvSpPr/>
          <p:nvPr/>
        </p:nvSpPr>
        <p:spPr>
          <a:xfrm rot="5400000">
            <a:off x="4414320" y="2868480"/>
            <a:ext cx="1466640" cy="609480"/>
          </a:xfrm>
          <a:prstGeom prst="triangle">
            <a:avLst>
              <a:gd name="adj" fmla="val 50000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4"/>
          <p:cNvGrpSpPr/>
          <p:nvPr/>
        </p:nvGrpSpPr>
        <p:grpSpPr>
          <a:xfrm>
            <a:off x="1130400" y="1994040"/>
            <a:ext cx="3038400" cy="576000"/>
            <a:chOff x="1130400" y="1994040"/>
            <a:chExt cx="3038400" cy="576000"/>
          </a:xfrm>
        </p:grpSpPr>
        <p:sp>
          <p:nvSpPr>
            <p:cNvPr id="971" name="AutoShape 5"/>
            <p:cNvSpPr/>
            <p:nvPr/>
          </p:nvSpPr>
          <p:spPr>
            <a:xfrm>
              <a:off x="1130400" y="1994040"/>
              <a:ext cx="3038400" cy="57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c000d"/>
                </a:gs>
                <a:gs pos="50000">
                  <a:srgbClr val="ad000c"/>
                </a:gs>
                <a:gs pos="100000">
                  <a:srgbClr val="bc0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6"/>
            <p:cNvGrpSpPr/>
            <p:nvPr/>
          </p:nvGrpSpPr>
          <p:grpSpPr>
            <a:xfrm>
              <a:off x="1136160" y="2011680"/>
              <a:ext cx="3027240" cy="532440"/>
              <a:chOff x="1136160" y="2011680"/>
              <a:chExt cx="3027240" cy="532440"/>
            </a:xfrm>
          </p:grpSpPr>
          <p:sp>
            <p:nvSpPr>
              <p:cNvPr id="973" name="AutoShape 7"/>
              <p:cNvSpPr/>
              <p:nvPr/>
            </p:nvSpPr>
            <p:spPr>
              <a:xfrm>
                <a:off x="1136160" y="2406240"/>
                <a:ext cx="3027240" cy="137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c000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8"/>
              <p:cNvSpPr/>
              <p:nvPr/>
            </p:nvSpPr>
            <p:spPr>
              <a:xfrm>
                <a:off x="1136160" y="2011680"/>
                <a:ext cx="30272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4d7d9"/>
                  </a:gs>
                  <a:gs pos="100000">
                    <a:srgbClr val="bc000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Group 9"/>
          <p:cNvGrpSpPr/>
          <p:nvPr/>
        </p:nvGrpSpPr>
        <p:grpSpPr>
          <a:xfrm>
            <a:off x="1130400" y="2782800"/>
            <a:ext cx="3038400" cy="576360"/>
            <a:chOff x="1130400" y="2782800"/>
            <a:chExt cx="3038400" cy="576360"/>
          </a:xfrm>
        </p:grpSpPr>
        <p:sp>
          <p:nvSpPr>
            <p:cNvPr id="976" name="AutoShape 10"/>
            <p:cNvSpPr/>
            <p:nvPr/>
          </p:nvSpPr>
          <p:spPr>
            <a:xfrm>
              <a:off x="1130400" y="2782800"/>
              <a:ext cx="3038400" cy="576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a0004"/>
                </a:gs>
                <a:gs pos="50000">
                  <a:srgbClr val="350004"/>
                </a:gs>
                <a:gs pos="100000">
                  <a:srgbClr val="3a00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11"/>
            <p:cNvGrpSpPr/>
            <p:nvPr/>
          </p:nvGrpSpPr>
          <p:grpSpPr>
            <a:xfrm>
              <a:off x="1136160" y="2800440"/>
              <a:ext cx="3027240" cy="532440"/>
              <a:chOff x="1136160" y="2800440"/>
              <a:chExt cx="3027240" cy="532440"/>
            </a:xfrm>
          </p:grpSpPr>
          <p:sp>
            <p:nvSpPr>
              <p:cNvPr id="978" name="AutoShape 12"/>
              <p:cNvSpPr/>
              <p:nvPr/>
            </p:nvSpPr>
            <p:spPr>
              <a:xfrm>
                <a:off x="1136160" y="3195000"/>
                <a:ext cx="3027240" cy="137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000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13"/>
              <p:cNvSpPr/>
              <p:nvPr/>
            </p:nvSpPr>
            <p:spPr>
              <a:xfrm>
                <a:off x="1136160" y="2800440"/>
                <a:ext cx="30272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dbebf"/>
                  </a:gs>
                  <a:gs pos="100000">
                    <a:srgbClr val="3a000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0" name="Group 14"/>
          <p:cNvGrpSpPr/>
          <p:nvPr/>
        </p:nvGrpSpPr>
        <p:grpSpPr>
          <a:xfrm>
            <a:off x="1130400" y="3564000"/>
            <a:ext cx="3038400" cy="576360"/>
            <a:chOff x="1130400" y="3564000"/>
            <a:chExt cx="3038400" cy="576360"/>
          </a:xfrm>
        </p:grpSpPr>
        <p:sp>
          <p:nvSpPr>
            <p:cNvPr id="981" name="AutoShape 15"/>
            <p:cNvSpPr/>
            <p:nvPr/>
          </p:nvSpPr>
          <p:spPr>
            <a:xfrm>
              <a:off x="1130400" y="3564000"/>
              <a:ext cx="3038400" cy="576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0517"/>
                </a:gs>
                <a:gs pos="50000">
                  <a:srgbClr val="eb0515"/>
                </a:gs>
                <a:gs pos="100000">
                  <a:srgbClr val="ff05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2" name="Group 16"/>
            <p:cNvGrpSpPr/>
            <p:nvPr/>
          </p:nvGrpSpPr>
          <p:grpSpPr>
            <a:xfrm>
              <a:off x="1136160" y="3581640"/>
              <a:ext cx="3027240" cy="532440"/>
              <a:chOff x="1136160" y="3581640"/>
              <a:chExt cx="3027240" cy="532440"/>
            </a:xfrm>
          </p:grpSpPr>
          <p:sp>
            <p:nvSpPr>
              <p:cNvPr id="983" name="AutoShape 17"/>
              <p:cNvSpPr/>
              <p:nvPr/>
            </p:nvSpPr>
            <p:spPr>
              <a:xfrm>
                <a:off x="1136160" y="3976200"/>
                <a:ext cx="3027240" cy="137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b3b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AutoShape 18"/>
              <p:cNvSpPr/>
              <p:nvPr/>
            </p:nvSpPr>
            <p:spPr>
              <a:xfrm>
                <a:off x="1136160" y="3581640"/>
                <a:ext cx="3027240" cy="138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7cb"/>
                  </a:gs>
                  <a:gs pos="100000">
                    <a:srgbClr val="ff051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5" name="Text Box 19"/>
          <p:cNvSpPr/>
          <p:nvPr/>
        </p:nvSpPr>
        <p:spPr>
          <a:xfrm>
            <a:off x="1189080" y="209088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20"/>
          <p:cNvSpPr/>
          <p:nvPr/>
        </p:nvSpPr>
        <p:spPr>
          <a:xfrm>
            <a:off x="1197000" y="2852640"/>
            <a:ext cx="29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21"/>
          <p:cNvSpPr/>
          <p:nvPr/>
        </p:nvSpPr>
        <p:spPr>
          <a:xfrm>
            <a:off x="1198440" y="363204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22"/>
          <p:cNvSpPr/>
          <p:nvPr/>
        </p:nvSpPr>
        <p:spPr>
          <a:xfrm>
            <a:off x="5727600" y="1916280"/>
            <a:ext cx="3021120" cy="251460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23"/>
          <p:cNvSpPr/>
          <p:nvPr/>
        </p:nvSpPr>
        <p:spPr>
          <a:xfrm>
            <a:off x="5815080" y="2028960"/>
            <a:ext cx="287496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 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116000" y="2049480"/>
            <a:ext cx="479520" cy="5778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330200" y="2838600"/>
            <a:ext cx="479520" cy="5778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116000" y="3629160"/>
            <a:ext cx="479520" cy="5778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7"/>
          <p:cNvSpPr/>
          <p:nvPr/>
        </p:nvSpPr>
        <p:spPr>
          <a:xfrm>
            <a:off x="1846440" y="4840200"/>
            <a:ext cx="54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 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WordArt 31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" descr="Picture555"/>
          <p:cNvPicPr/>
          <p:nvPr/>
        </p:nvPicPr>
        <p:blipFill>
          <a:blip r:embed="rId1"/>
          <a:stretch/>
        </p:blipFill>
        <p:spPr>
          <a:xfrm>
            <a:off x="2938320" y="1989000"/>
            <a:ext cx="4062600" cy="3311640"/>
          </a:xfrm>
          <a:prstGeom prst="rect">
            <a:avLst/>
          </a:prstGeom>
          <a:ln w="0">
            <a:noFill/>
          </a:ln>
        </p:spPr>
      </p:pic>
      <p:grpSp>
        <p:nvGrpSpPr>
          <p:cNvPr id="996" name="Group 3"/>
          <p:cNvGrpSpPr/>
          <p:nvPr/>
        </p:nvGrpSpPr>
        <p:grpSpPr>
          <a:xfrm>
            <a:off x="2062440" y="1210680"/>
            <a:ext cx="5370840" cy="5191920"/>
            <a:chOff x="2062440" y="1210680"/>
            <a:chExt cx="5370840" cy="5191920"/>
          </a:xfrm>
        </p:grpSpPr>
        <p:sp>
          <p:nvSpPr>
            <p:cNvPr id="997" name="AutoShape 4"/>
            <p:cNvSpPr/>
            <p:nvPr/>
          </p:nvSpPr>
          <p:spPr>
            <a:xfrm rot="19366800">
              <a:off x="2706840" y="2066760"/>
              <a:ext cx="4003200" cy="3479400"/>
            </a:xfrm>
            <a:custGeom>
              <a:avLst/>
              <a:gdLst>
                <a:gd name="textAreaLeft" fmla="*/ 586800 w 4003200"/>
                <a:gd name="textAreaRight" fmla="*/ 3416400 w 4003200"/>
                <a:gd name="textAreaTop" fmla="*/ 509040 h 3479400"/>
                <a:gd name="textAreaBottom" fmla="*/ 2970360 h 347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1b0002"/>
                </a:gs>
                <a:gs pos="100000">
                  <a:srgbClr val="3a0004"/>
                </a:gs>
              </a:gsLst>
              <a:lin ang="1102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5"/>
            <p:cNvSpPr/>
            <p:nvPr/>
          </p:nvSpPr>
          <p:spPr>
            <a:xfrm rot="5077800">
              <a:off x="2942640" y="1712160"/>
              <a:ext cx="3764160" cy="369864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41440 h 3698640"/>
                <a:gd name="textAreaBottom" fmla="*/ 3157200 h 369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ff3b3b"/>
                </a:gs>
                <a:gs pos="100000">
                  <a:srgbClr val="8f2121"/>
                </a:gs>
              </a:gsLst>
              <a:lin ang="371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6"/>
            <p:cNvSpPr/>
            <p:nvPr/>
          </p:nvSpPr>
          <p:spPr>
            <a:xfrm rot="12147000">
              <a:off x="3105360" y="1915920"/>
              <a:ext cx="3764160" cy="3698640"/>
            </a:xfrm>
            <a:custGeom>
              <a:avLst/>
              <a:gdLst>
                <a:gd name="textAreaLeft" fmla="*/ 551880 w 3764160"/>
                <a:gd name="textAreaRight" fmla="*/ 3212280 w 3764160"/>
                <a:gd name="textAreaTop" fmla="*/ 541440 h 3698640"/>
                <a:gd name="textAreaBottom" fmla="*/ 3157200 h 369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gradFill rotWithShape="0">
              <a:gsLst>
                <a:gs pos="0">
                  <a:srgbClr val="c20411"/>
                </a:gs>
                <a:gs pos="100000">
                  <a:srgbClr val="ff0517"/>
                </a:gs>
              </a:gsLst>
              <a:lin ang="1824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WordArt 7"/>
          <p:cNvSpPr txBox="1"/>
          <p:nvPr/>
        </p:nvSpPr>
        <p:spPr>
          <a:xfrm rot="3394200">
            <a:off x="4235040" y="2495160"/>
            <a:ext cx="2105280" cy="1882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1" name="WordArt 8"/>
          <p:cNvSpPr txBox="1"/>
          <p:nvPr/>
        </p:nvSpPr>
        <p:spPr>
          <a:xfrm rot="79200">
            <a:off x="3502080" y="3323880"/>
            <a:ext cx="2631960" cy="17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2" name="WordArt 9"/>
          <p:cNvSpPr txBox="1"/>
          <p:nvPr/>
        </p:nvSpPr>
        <p:spPr>
          <a:xfrm rot="17984400">
            <a:off x="3290760" y="2553840"/>
            <a:ext cx="2104920" cy="1882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3" name="Rectangle 11"/>
          <p:cNvSpPr/>
          <p:nvPr/>
        </p:nvSpPr>
        <p:spPr>
          <a:xfrm>
            <a:off x="981000" y="2271600"/>
            <a:ext cx="200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1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517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824040" y="26193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3"/>
          <p:cNvSpPr/>
          <p:nvPr/>
        </p:nvSpPr>
        <p:spPr>
          <a:xfrm>
            <a:off x="6111720" y="4924440"/>
            <a:ext cx="2119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b3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b3b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4"/>
          <p:cNvSpPr/>
          <p:nvPr/>
        </p:nvSpPr>
        <p:spPr>
          <a:xfrm>
            <a:off x="5911920" y="5315040"/>
            <a:ext cx="257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5"/>
          <p:cNvSpPr/>
          <p:nvPr/>
        </p:nvSpPr>
        <p:spPr>
          <a:xfrm>
            <a:off x="6580080" y="2265480"/>
            <a:ext cx="2195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00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a0004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6305400" y="262908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 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7"/>
          <p:cNvSpPr/>
          <p:nvPr/>
        </p:nvSpPr>
        <p:spPr>
          <a:xfrm>
            <a:off x="933480" y="2595600"/>
            <a:ext cx="2557440" cy="1440"/>
          </a:xfrm>
          <a:prstGeom prst="line">
            <a:avLst/>
          </a:prstGeom>
          <a:ln w="19080">
            <a:solidFill>
              <a:srgbClr val="ff05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"/>
          <p:cNvSpPr/>
          <p:nvPr/>
        </p:nvSpPr>
        <p:spPr>
          <a:xfrm flipH="1">
            <a:off x="5848200" y="5295960"/>
            <a:ext cx="2557440" cy="1440"/>
          </a:xfrm>
          <a:prstGeom prst="line">
            <a:avLst/>
          </a:prstGeom>
          <a:ln w="19080">
            <a:solidFill>
              <a:srgbClr val="ff3b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9"/>
          <p:cNvSpPr/>
          <p:nvPr/>
        </p:nvSpPr>
        <p:spPr>
          <a:xfrm flipH="1">
            <a:off x="6254640" y="2595600"/>
            <a:ext cx="2556000" cy="1440"/>
          </a:xfrm>
          <a:prstGeom prst="line">
            <a:avLst/>
          </a:prstGeom>
          <a:ln w="19080">
            <a:solidFill>
              <a:srgbClr val="3a00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4138560" y="3311640"/>
            <a:ext cx="137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WordArt 24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BlankMap-World1"/>
          <p:cNvPicPr/>
          <p:nvPr/>
        </p:nvPicPr>
        <p:blipFill>
          <a:blip r:embed="rId1"/>
          <a:stretch/>
        </p:blipFill>
        <p:spPr>
          <a:xfrm>
            <a:off x="38160" y="2479680"/>
            <a:ext cx="8351640" cy="34592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7"/>
          <p:cNvSpPr/>
          <p:nvPr/>
        </p:nvSpPr>
        <p:spPr>
          <a:xfrm>
            <a:off x="190440" y="3382920"/>
            <a:ext cx="1386000" cy="1193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1e1e1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2104920" y="3382920"/>
            <a:ext cx="1386000" cy="1193760"/>
          </a:xfrm>
          <a:prstGeom prst="rect">
            <a:avLst/>
          </a:prstGeom>
          <a:gradFill rotWithShape="0">
            <a:gsLst>
              <a:gs pos="0">
                <a:srgbClr val="ff3e4b"/>
              </a:gs>
              <a:gs pos="100000">
                <a:srgbClr val="ff778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4017960" y="3382920"/>
            <a:ext cx="1387440" cy="1193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1e1e1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5932440" y="3382920"/>
            <a:ext cx="1386000" cy="1193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1e1e1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7846920" y="3398760"/>
            <a:ext cx="1386000" cy="1193760"/>
          </a:xfrm>
          <a:prstGeom prst="rect">
            <a:avLst/>
          </a:prstGeom>
          <a:gradFill rotWithShape="0">
            <a:gsLst>
              <a:gs pos="0">
                <a:srgbClr val="ff3e4b"/>
              </a:gs>
              <a:gs pos="100000">
                <a:srgbClr val="ff778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99192" dir="3018055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2"/>
          <p:cNvSpPr/>
          <p:nvPr/>
        </p:nvSpPr>
        <p:spPr>
          <a:xfrm>
            <a:off x="879480" y="3830760"/>
            <a:ext cx="19836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2793960" y="3830760"/>
            <a:ext cx="19692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4"/>
          <p:cNvSpPr/>
          <p:nvPr/>
        </p:nvSpPr>
        <p:spPr>
          <a:xfrm>
            <a:off x="4707000" y="3830760"/>
            <a:ext cx="19836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5"/>
          <p:cNvSpPr/>
          <p:nvPr/>
        </p:nvSpPr>
        <p:spPr>
          <a:xfrm>
            <a:off x="6621480" y="3830760"/>
            <a:ext cx="19836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6"/>
          <p:cNvSpPr/>
          <p:nvPr/>
        </p:nvSpPr>
        <p:spPr>
          <a:xfrm>
            <a:off x="8535960" y="3830760"/>
            <a:ext cx="196920" cy="185760"/>
          </a:xfrm>
          <a:prstGeom prst="ellipse">
            <a:avLst/>
          </a:prstGeom>
          <a:gradFill rotWithShape="0">
            <a:gsLst>
              <a:gs pos="0">
                <a:srgbClr val="f1f1f1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12600" dir="54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28"/>
          <p:cNvCxnSpPr>
            <a:stCxn id="63" idx="6"/>
            <a:endCxn id="64" idx="2"/>
          </p:cNvCxnSpPr>
          <p:nvPr/>
        </p:nvCxnSpPr>
        <p:spPr>
          <a:xfrm>
            <a:off x="1077480" y="3924000"/>
            <a:ext cx="1716840" cy="1080"/>
          </a:xfrm>
          <a:prstGeom prst="straightConnector1">
            <a:avLst/>
          </a:prstGeom>
          <a:ln w="25560">
            <a:solidFill>
              <a:srgbClr val="18407b"/>
            </a:solidFill>
            <a:prstDash val="sysDot"/>
            <a:miter/>
          </a:ln>
        </p:spPr>
      </p:cxnSp>
      <p:cxnSp>
        <p:nvCxnSpPr>
          <p:cNvPr id="69" name="AutoShape 29"/>
          <p:cNvCxnSpPr>
            <a:stCxn id="64" idx="6"/>
            <a:endCxn id="65" idx="2"/>
          </p:cNvCxnSpPr>
          <p:nvPr/>
        </p:nvCxnSpPr>
        <p:spPr>
          <a:xfrm>
            <a:off x="2990520" y="3924000"/>
            <a:ext cx="1716840" cy="1080"/>
          </a:xfrm>
          <a:prstGeom prst="straightConnector1">
            <a:avLst/>
          </a:prstGeom>
          <a:ln w="25560">
            <a:solidFill>
              <a:srgbClr val="18407b"/>
            </a:solidFill>
            <a:prstDash val="sysDot"/>
            <a:miter/>
          </a:ln>
        </p:spPr>
      </p:cxnSp>
      <p:cxnSp>
        <p:nvCxnSpPr>
          <p:cNvPr id="70" name="AutoShape 30"/>
          <p:cNvCxnSpPr>
            <a:stCxn id="65" idx="6"/>
            <a:endCxn id="66" idx="2"/>
          </p:cNvCxnSpPr>
          <p:nvPr/>
        </p:nvCxnSpPr>
        <p:spPr>
          <a:xfrm>
            <a:off x="4905000" y="3924000"/>
            <a:ext cx="1716840" cy="1080"/>
          </a:xfrm>
          <a:prstGeom prst="straightConnector1">
            <a:avLst/>
          </a:prstGeom>
          <a:ln w="25560">
            <a:solidFill>
              <a:srgbClr val="18407b"/>
            </a:solidFill>
            <a:prstDash val="sysDot"/>
            <a:miter/>
          </a:ln>
        </p:spPr>
      </p:cxnSp>
      <p:cxnSp>
        <p:nvCxnSpPr>
          <p:cNvPr id="71" name="AutoShape 31"/>
          <p:cNvCxnSpPr>
            <a:stCxn id="66" idx="6"/>
            <a:endCxn id="67" idx="2"/>
          </p:cNvCxnSpPr>
          <p:nvPr/>
        </p:nvCxnSpPr>
        <p:spPr>
          <a:xfrm>
            <a:off x="6819480" y="3924000"/>
            <a:ext cx="1716840" cy="1080"/>
          </a:xfrm>
          <a:prstGeom prst="straightConnector1">
            <a:avLst/>
          </a:prstGeom>
          <a:ln w="25560">
            <a:solidFill>
              <a:srgbClr val="18407b"/>
            </a:solidFill>
            <a:prstDash val="sysDot"/>
            <a:miter/>
          </a:ln>
        </p:spPr>
      </p:cxnSp>
      <p:sp>
        <p:nvSpPr>
          <p:cNvPr id="72" name="WordArt 37"/>
          <p:cNvSpPr txBox="1"/>
          <p:nvPr/>
        </p:nvSpPr>
        <p:spPr>
          <a:xfrm>
            <a:off x="324000" y="4322880"/>
            <a:ext cx="12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3" name="WordArt 40"/>
          <p:cNvSpPr txBox="1"/>
          <p:nvPr/>
        </p:nvSpPr>
        <p:spPr>
          <a:xfrm>
            <a:off x="2238480" y="4322880"/>
            <a:ext cx="12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4" name="WordArt 41"/>
          <p:cNvSpPr txBox="1"/>
          <p:nvPr/>
        </p:nvSpPr>
        <p:spPr>
          <a:xfrm>
            <a:off x="4172040" y="4322880"/>
            <a:ext cx="120636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5" name="WordArt 42"/>
          <p:cNvSpPr txBox="1"/>
          <p:nvPr/>
        </p:nvSpPr>
        <p:spPr>
          <a:xfrm>
            <a:off x="6086520" y="4322880"/>
            <a:ext cx="12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6" name="WordArt 45"/>
          <p:cNvSpPr txBox="1"/>
          <p:nvPr/>
        </p:nvSpPr>
        <p:spPr>
          <a:xfrm>
            <a:off x="8001000" y="4322880"/>
            <a:ext cx="12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868686"/>
                  </a:outerShdw>
                </a:effectLst>
                <a:latin typeface="HY헤드라인M"/>
              </a:rPr>
              <a:t>Gangnam Sales Office</a:t>
            </a:r>
            <a:endParaRPr b="0" lang="en-US" sz="10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868686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77" name="직사각형 33"/>
          <p:cNvSpPr/>
          <p:nvPr/>
        </p:nvSpPr>
        <p:spPr>
          <a:xfrm>
            <a:off x="36828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맑은 고딕"/>
                <a:ea typeface="맑은 고딕"/>
              </a:rPr>
              <a:t>2007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사각형 34"/>
          <p:cNvSpPr/>
          <p:nvPr/>
        </p:nvSpPr>
        <p:spPr>
          <a:xfrm>
            <a:off x="226692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맑은 고딕"/>
                <a:ea typeface="맑은 고딕"/>
              </a:rPr>
              <a:t>2008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35"/>
          <p:cNvSpPr/>
          <p:nvPr/>
        </p:nvSpPr>
        <p:spPr>
          <a:xfrm>
            <a:off x="416556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맑은 고딕"/>
                <a:ea typeface="맑은 고딕"/>
              </a:rPr>
              <a:t>2009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6"/>
          <p:cNvSpPr/>
          <p:nvPr/>
        </p:nvSpPr>
        <p:spPr>
          <a:xfrm>
            <a:off x="612144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맑은 고딕"/>
                <a:ea typeface="맑은 고딕"/>
              </a:rPr>
              <a:t>2010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37"/>
          <p:cNvSpPr/>
          <p:nvPr/>
        </p:nvSpPr>
        <p:spPr>
          <a:xfrm>
            <a:off x="8039160" y="3314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f7f7"/>
                </a:solidFill>
                <a:latin typeface="맑은 고딕"/>
                <a:ea typeface="맑은 고딕"/>
              </a:rPr>
              <a:t>2011.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31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WordArt 5" descr=""/>
          <p:cNvPicPr/>
          <p:nvPr/>
        </p:nvPicPr>
        <p:blipFill>
          <a:blip r:embed="rId1"/>
          <a:stretch/>
        </p:blipFill>
        <p:spPr>
          <a:xfrm>
            <a:off x="3346560" y="2706840"/>
            <a:ext cx="448632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11240" y="57240"/>
            <a:ext cx="94993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3"/>
          <p:cNvGrpSpPr/>
          <p:nvPr/>
        </p:nvGrpSpPr>
        <p:grpSpPr>
          <a:xfrm>
            <a:off x="1782720" y="1596960"/>
            <a:ext cx="5886360" cy="1228680"/>
            <a:chOff x="1782720" y="1596960"/>
            <a:chExt cx="5886360" cy="1228680"/>
          </a:xfrm>
        </p:grpSpPr>
        <p:sp>
          <p:nvSpPr>
            <p:cNvPr id="84" name="AutoShape 4"/>
            <p:cNvSpPr/>
            <p:nvPr/>
          </p:nvSpPr>
          <p:spPr>
            <a:xfrm>
              <a:off x="1782720" y="1596960"/>
              <a:ext cx="58863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1910880" y="1713960"/>
              <a:ext cx="1130400" cy="1000800"/>
              <a:chOff x="1910880" y="1713960"/>
              <a:chExt cx="1130400" cy="1000800"/>
            </a:xfrm>
          </p:grpSpPr>
          <p:sp>
            <p:nvSpPr>
              <p:cNvPr id="86" name="AutoShape 6"/>
              <p:cNvSpPr/>
              <p:nvPr/>
            </p:nvSpPr>
            <p:spPr>
              <a:xfrm>
                <a:off x="1910880" y="1713960"/>
                <a:ext cx="1130400" cy="1000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0517"/>
                  </a:gs>
                  <a:gs pos="100000">
                    <a:srgbClr val="b2031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1983240" y="1774440"/>
                <a:ext cx="567360" cy="5018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7781"/>
                  </a:gs>
                  <a:gs pos="50000">
                    <a:srgbClr val="ff0517">
                      <a:alpha val="0"/>
                    </a:srgbClr>
                  </a:gs>
                  <a:gs pos="100000">
                    <a:srgbClr val="ff778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8"/>
              <p:cNvSpPr/>
              <p:nvPr/>
            </p:nvSpPr>
            <p:spPr>
              <a:xfrm>
                <a:off x="2058120" y="198468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 Box 9"/>
            <p:cNvSpPr/>
            <p:nvPr/>
          </p:nvSpPr>
          <p:spPr>
            <a:xfrm>
              <a:off x="3199680" y="1786680"/>
              <a:ext cx="432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me 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1782720" y="3127320"/>
            <a:ext cx="5886360" cy="1228680"/>
            <a:chOff x="1782720" y="3127320"/>
            <a:chExt cx="5886360" cy="1228680"/>
          </a:xfrm>
        </p:grpSpPr>
        <p:sp>
          <p:nvSpPr>
            <p:cNvPr id="91" name="AutoShape 11"/>
            <p:cNvSpPr/>
            <p:nvPr/>
          </p:nvSpPr>
          <p:spPr>
            <a:xfrm>
              <a:off x="1782720" y="3127320"/>
              <a:ext cx="58863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10880" y="3244320"/>
              <a:ext cx="1130400" cy="1000800"/>
              <a:chOff x="1910880" y="3244320"/>
              <a:chExt cx="1130400" cy="1000800"/>
            </a:xfrm>
          </p:grpSpPr>
          <p:sp>
            <p:nvSpPr>
              <p:cNvPr id="93" name="AutoShape 13"/>
              <p:cNvSpPr/>
              <p:nvPr/>
            </p:nvSpPr>
            <p:spPr>
              <a:xfrm>
                <a:off x="1910880" y="3244320"/>
                <a:ext cx="1130400" cy="1000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04649"/>
                  </a:gs>
                  <a:gs pos="100000">
                    <a:srgbClr val="3a000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83240" y="3304800"/>
                <a:ext cx="567360" cy="5018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9395"/>
                  </a:gs>
                  <a:gs pos="100000">
                    <a:srgbClr val="3a0004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5"/>
              <p:cNvSpPr/>
              <p:nvPr/>
            </p:nvSpPr>
            <p:spPr>
              <a:xfrm>
                <a:off x="2058120" y="351504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6"/>
            <p:cNvSpPr/>
            <p:nvPr/>
          </p:nvSpPr>
          <p:spPr>
            <a:xfrm>
              <a:off x="3199680" y="3295440"/>
              <a:ext cx="432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me 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7"/>
          <p:cNvGrpSpPr/>
          <p:nvPr/>
        </p:nvGrpSpPr>
        <p:grpSpPr>
          <a:xfrm>
            <a:off x="1782720" y="4667400"/>
            <a:ext cx="5886360" cy="1228680"/>
            <a:chOff x="1782720" y="4667400"/>
            <a:chExt cx="5886360" cy="1228680"/>
          </a:xfrm>
        </p:grpSpPr>
        <p:sp>
          <p:nvSpPr>
            <p:cNvPr id="98" name="AutoShape 18"/>
            <p:cNvSpPr/>
            <p:nvPr/>
          </p:nvSpPr>
          <p:spPr>
            <a:xfrm>
              <a:off x="1782720" y="4667400"/>
              <a:ext cx="58863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9"/>
            <p:cNvGrpSpPr/>
            <p:nvPr/>
          </p:nvGrpSpPr>
          <p:grpSpPr>
            <a:xfrm>
              <a:off x="1910880" y="4784400"/>
              <a:ext cx="1130400" cy="1000800"/>
              <a:chOff x="1910880" y="4784400"/>
              <a:chExt cx="1130400" cy="1000800"/>
            </a:xfrm>
          </p:grpSpPr>
          <p:sp>
            <p:nvSpPr>
              <p:cNvPr id="100" name="AutoShape 20"/>
              <p:cNvSpPr/>
              <p:nvPr/>
            </p:nvSpPr>
            <p:spPr>
              <a:xfrm>
                <a:off x="1910880" y="4784400"/>
                <a:ext cx="1130400" cy="1000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8282"/>
                  </a:gs>
                  <a:gs pos="100000">
                    <a:srgbClr val="ff3b3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>
                <a:off x="1983240" y="4844880"/>
                <a:ext cx="567360" cy="5014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0a0"/>
                  </a:gs>
                  <a:gs pos="100000">
                    <a:srgbClr val="ff3b3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22"/>
              <p:cNvSpPr/>
              <p:nvPr/>
            </p:nvSpPr>
            <p:spPr>
              <a:xfrm>
                <a:off x="2058120" y="5055120"/>
                <a:ext cx="81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23"/>
            <p:cNvSpPr/>
            <p:nvPr/>
          </p:nvSpPr>
          <p:spPr>
            <a:xfrm>
              <a:off x="3199680" y="4835520"/>
              <a:ext cx="432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me 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WordArt 27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1"/>
          <p:cNvGrpSpPr/>
          <p:nvPr/>
        </p:nvGrpSpPr>
        <p:grpSpPr>
          <a:xfrm>
            <a:off x="1297080" y="2031840"/>
            <a:ext cx="7208280" cy="3911760"/>
            <a:chOff x="1297080" y="2031840"/>
            <a:chExt cx="7208280" cy="3911760"/>
          </a:xfrm>
        </p:grpSpPr>
        <p:sp>
          <p:nvSpPr>
            <p:cNvPr id="106" name="AutoShape 2"/>
            <p:cNvSpPr/>
            <p:nvPr/>
          </p:nvSpPr>
          <p:spPr>
            <a:xfrm>
              <a:off x="3957840" y="3657600"/>
              <a:ext cx="1955520" cy="2286000"/>
            </a:xfrm>
            <a:custGeom>
              <a:avLst/>
              <a:gdLst>
                <a:gd name="textAreaLeft" fmla="*/ 78480 w 1955520"/>
                <a:gd name="textAreaRight" fmla="*/ 1877040 w 1955520"/>
                <a:gd name="textAreaTop" fmla="*/ 78480 h 2286000"/>
                <a:gd name="textAreaBottom" fmla="*/ 2207520 h 2286000"/>
              </a:gdLst>
              <a:ahLst/>
              <a:rect l="textAreaLeft" t="textAreaTop" r="textAreaRight" b="textAreaBottom"/>
              <a:pathLst>
                <a:path w="21600" h="25250">
                  <a:moveTo>
                    <a:pt x="2969" y="0"/>
                  </a:moveTo>
                  <a:arcTo wR="2969" hR="2969" stAng="16200000" swAng="-5400000"/>
                  <a:lnTo>
                    <a:pt x="0" y="22281"/>
                  </a:lnTo>
                  <a:arcTo wR="2969" hR="2969" stAng="10800000" swAng="-5400000"/>
                  <a:lnTo>
                    <a:pt x="18631" y="2525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 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"/>
            <p:cNvSpPr/>
            <p:nvPr/>
          </p:nvSpPr>
          <p:spPr>
            <a:xfrm>
              <a:off x="1297080" y="3657600"/>
              <a:ext cx="1943640" cy="2286000"/>
            </a:xfrm>
            <a:custGeom>
              <a:avLst/>
              <a:gdLst>
                <a:gd name="textAreaLeft" fmla="*/ 78120 w 1943640"/>
                <a:gd name="textAreaRight" fmla="*/ 1865520 w 1943640"/>
                <a:gd name="textAreaTop" fmla="*/ 78120 h 2286000"/>
                <a:gd name="textAreaBottom" fmla="*/ 2207880 h 2286000"/>
              </a:gdLst>
              <a:ahLst/>
              <a:rect l="textAreaLeft" t="textAreaTop" r="textAreaRight" b="textAreaBottom"/>
              <a:pathLst>
                <a:path w="21600" h="25404">
                  <a:moveTo>
                    <a:pt x="2969" y="0"/>
                  </a:moveTo>
                  <a:arcTo wR="2969" hR="2969" stAng="16200000" swAng="-5400000"/>
                  <a:lnTo>
                    <a:pt x="0" y="22435"/>
                  </a:lnTo>
                  <a:arcTo wR="2969" hR="2969" stAng="10800000" swAng="-5400000"/>
                  <a:lnTo>
                    <a:pt x="18631" y="2540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 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4"/>
            <p:cNvSpPr/>
            <p:nvPr/>
          </p:nvSpPr>
          <p:spPr>
            <a:xfrm>
              <a:off x="6642720" y="3657600"/>
              <a:ext cx="1862640" cy="2286000"/>
            </a:xfrm>
            <a:custGeom>
              <a:avLst/>
              <a:gdLst>
                <a:gd name="textAreaLeft" fmla="*/ 74880 w 1862640"/>
                <a:gd name="textAreaRight" fmla="*/ 1787760 w 1862640"/>
                <a:gd name="textAreaTop" fmla="*/ 74880 h 2286000"/>
                <a:gd name="textAreaBottom" fmla="*/ 2211120 h 2286000"/>
              </a:gdLst>
              <a:ahLst/>
              <a:rect l="textAreaLeft" t="textAreaTop" r="textAreaRight" b="textAreaBottom"/>
              <a:pathLst>
                <a:path w="21600" h="26509">
                  <a:moveTo>
                    <a:pt x="2969" y="0"/>
                  </a:moveTo>
                  <a:arcTo wR="2969" hR="2969" stAng="16200000" swAng="-5400000"/>
                  <a:lnTo>
                    <a:pt x="0" y="23540"/>
                  </a:lnTo>
                  <a:arcTo wR="2969" hR="2969" stAng="10800000" swAng="-5400000"/>
                  <a:lnTo>
                    <a:pt x="18631" y="2650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 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3350160" y="2452680"/>
              <a:ext cx="425520" cy="44928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0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5967720" y="2452680"/>
              <a:ext cx="423360" cy="44928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8"/>
            <p:cNvSpPr/>
            <p:nvPr/>
          </p:nvSpPr>
          <p:spPr>
            <a:xfrm>
              <a:off x="6851520" y="243684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a000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9"/>
            <p:cNvSpPr/>
            <p:nvPr/>
          </p:nvSpPr>
          <p:spPr>
            <a:xfrm>
              <a:off x="6613920" y="2436840"/>
              <a:ext cx="1810080" cy="480960"/>
            </a:xfrm>
            <a:prstGeom prst="ellipse">
              <a:avLst/>
            </a:prstGeom>
            <a:gradFill rotWithShape="0">
              <a:gsLst>
                <a:gs pos="0">
                  <a:srgbClr val="3a000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733800" y="243684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1f0002"/>
                </a:gs>
                <a:gs pos="50000">
                  <a:srgbClr val="3a0004"/>
                </a:gs>
                <a:gs pos="100000">
                  <a:srgbClr val="1f000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760440" y="244476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250003"/>
                </a:gs>
                <a:gs pos="100000">
                  <a:srgbClr val="3a000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816600" y="2436840"/>
              <a:ext cx="141876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1615680" y="24321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3b3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1615680" y="24321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3b3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1497240" y="243036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8a2020"/>
                </a:gs>
                <a:gs pos="50000">
                  <a:srgbClr val="ff3b3b"/>
                </a:gs>
                <a:gs pos="100000">
                  <a:srgbClr val="8a202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6"/>
            <p:cNvSpPr/>
            <p:nvPr/>
          </p:nvSpPr>
          <p:spPr>
            <a:xfrm>
              <a:off x="1497240" y="2433600"/>
              <a:ext cx="1574640" cy="480960"/>
            </a:xfrm>
            <a:prstGeom prst="ellipse">
              <a:avLst/>
            </a:prstGeom>
            <a:gradFill rotWithShape="0">
              <a:gsLst>
                <a:gs pos="0">
                  <a:srgbClr val="a22525"/>
                </a:gs>
                <a:gs pos="100000">
                  <a:srgbClr val="ff3b3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7"/>
            <p:cNvSpPr/>
            <p:nvPr/>
          </p:nvSpPr>
          <p:spPr>
            <a:xfrm>
              <a:off x="1575000" y="2433600"/>
              <a:ext cx="141552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8"/>
            <p:cNvGrpSpPr/>
            <p:nvPr/>
          </p:nvGrpSpPr>
          <p:grpSpPr>
            <a:xfrm>
              <a:off x="1597320" y="2031840"/>
              <a:ext cx="1371600" cy="1278000"/>
              <a:chOff x="1597320" y="2031840"/>
              <a:chExt cx="1371600" cy="1278000"/>
            </a:xfrm>
          </p:grpSpPr>
          <p:sp>
            <p:nvSpPr>
              <p:cNvPr id="122" name="Oval 19"/>
              <p:cNvSpPr/>
              <p:nvPr/>
            </p:nvSpPr>
            <p:spPr>
              <a:xfrm>
                <a:off x="1597320" y="2031840"/>
                <a:ext cx="1371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20"/>
              <p:cNvSpPr/>
              <p:nvPr/>
            </p:nvSpPr>
            <p:spPr>
              <a:xfrm>
                <a:off x="1614600" y="2038680"/>
                <a:ext cx="13388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1"/>
              <p:cNvSpPr/>
              <p:nvPr/>
            </p:nvSpPr>
            <p:spPr>
              <a:xfrm>
                <a:off x="1629000" y="2051280"/>
                <a:ext cx="12729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2"/>
              <p:cNvSpPr/>
              <p:nvPr/>
            </p:nvSpPr>
            <p:spPr>
              <a:xfrm>
                <a:off x="1703520" y="2083680"/>
                <a:ext cx="11314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23"/>
            <p:cNvSpPr/>
            <p:nvPr/>
          </p:nvSpPr>
          <p:spPr>
            <a:xfrm>
              <a:off x="4234680" y="2436840"/>
              <a:ext cx="18180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51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4"/>
            <p:cNvSpPr/>
            <p:nvPr/>
          </p:nvSpPr>
          <p:spPr>
            <a:xfrm>
              <a:off x="4234680" y="2436840"/>
              <a:ext cx="181800" cy="480960"/>
            </a:xfrm>
            <a:prstGeom prst="ellipse">
              <a:avLst/>
            </a:prstGeom>
            <a:gradFill rotWithShape="0">
              <a:gsLst>
                <a:gs pos="0">
                  <a:srgbClr val="ff0517">
                    <a:alpha val="32156"/>
                  </a:srgbClr>
                </a:gs>
                <a:gs pos="100000">
                  <a:srgbClr val="7602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5"/>
            <p:cNvSpPr/>
            <p:nvPr/>
          </p:nvSpPr>
          <p:spPr>
            <a:xfrm>
              <a:off x="4116240" y="243684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8a030c"/>
                </a:gs>
                <a:gs pos="50000">
                  <a:srgbClr val="ff0517"/>
                </a:gs>
                <a:gs pos="100000">
                  <a:srgbClr val="8a03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6"/>
            <p:cNvSpPr/>
            <p:nvPr/>
          </p:nvSpPr>
          <p:spPr>
            <a:xfrm>
              <a:off x="4118400" y="2438280"/>
              <a:ext cx="1572480" cy="480960"/>
            </a:xfrm>
            <a:prstGeom prst="ellipse">
              <a:avLst/>
            </a:prstGeom>
            <a:gradFill rotWithShape="0">
              <a:gsLst>
                <a:gs pos="0">
                  <a:srgbClr val="a2030f"/>
                </a:gs>
                <a:gs pos="100000">
                  <a:srgbClr val="ff051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4192560" y="2436840"/>
              <a:ext cx="141552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28"/>
            <p:cNvGrpSpPr/>
            <p:nvPr/>
          </p:nvGrpSpPr>
          <p:grpSpPr>
            <a:xfrm>
              <a:off x="4215960" y="2031840"/>
              <a:ext cx="1371960" cy="1278000"/>
              <a:chOff x="4215960" y="2031840"/>
              <a:chExt cx="1371960" cy="1278000"/>
            </a:xfrm>
          </p:grpSpPr>
          <p:sp>
            <p:nvSpPr>
              <p:cNvPr id="132" name="Oval 29"/>
              <p:cNvSpPr/>
              <p:nvPr/>
            </p:nvSpPr>
            <p:spPr>
              <a:xfrm>
                <a:off x="4215960" y="2031840"/>
                <a:ext cx="1371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30"/>
              <p:cNvSpPr/>
              <p:nvPr/>
            </p:nvSpPr>
            <p:spPr>
              <a:xfrm>
                <a:off x="4233240" y="2038680"/>
                <a:ext cx="13392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1"/>
              <p:cNvSpPr/>
              <p:nvPr/>
            </p:nvSpPr>
            <p:spPr>
              <a:xfrm>
                <a:off x="4247640" y="2051280"/>
                <a:ext cx="12733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32"/>
              <p:cNvSpPr/>
              <p:nvPr/>
            </p:nvSpPr>
            <p:spPr>
              <a:xfrm>
                <a:off x="4322160" y="2083680"/>
                <a:ext cx="113184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33"/>
            <p:cNvGrpSpPr/>
            <p:nvPr/>
          </p:nvGrpSpPr>
          <p:grpSpPr>
            <a:xfrm>
              <a:off x="6841800" y="2031840"/>
              <a:ext cx="1373760" cy="1278000"/>
              <a:chOff x="6841800" y="2031840"/>
              <a:chExt cx="1373760" cy="1278000"/>
            </a:xfrm>
          </p:grpSpPr>
          <p:sp>
            <p:nvSpPr>
              <p:cNvPr id="137" name="Oval 34"/>
              <p:cNvSpPr/>
              <p:nvPr/>
            </p:nvSpPr>
            <p:spPr>
              <a:xfrm>
                <a:off x="6841800" y="2031840"/>
                <a:ext cx="13737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35"/>
              <p:cNvSpPr/>
              <p:nvPr/>
            </p:nvSpPr>
            <p:spPr>
              <a:xfrm>
                <a:off x="6859080" y="2038680"/>
                <a:ext cx="1341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36"/>
              <p:cNvSpPr/>
              <p:nvPr/>
            </p:nvSpPr>
            <p:spPr>
              <a:xfrm>
                <a:off x="6873480" y="2051280"/>
                <a:ext cx="12747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37"/>
              <p:cNvSpPr/>
              <p:nvPr/>
            </p:nvSpPr>
            <p:spPr>
              <a:xfrm>
                <a:off x="6948000" y="2083680"/>
                <a:ext cx="11332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38"/>
            <p:cNvSpPr/>
            <p:nvPr/>
          </p:nvSpPr>
          <p:spPr>
            <a:xfrm>
              <a:off x="192996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9"/>
            <p:cNvSpPr/>
            <p:nvPr/>
          </p:nvSpPr>
          <p:spPr>
            <a:xfrm>
              <a:off x="455472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0"/>
            <p:cNvSpPr/>
            <p:nvPr/>
          </p:nvSpPr>
          <p:spPr>
            <a:xfrm>
              <a:off x="7175520" y="25052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WordArt 45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887400" y="2436840"/>
          <a:ext cx="7866000" cy="3198960"/>
        </p:xfrm>
        <a:graphic>
          <a:graphicData uri="http://schemas.openxmlformats.org/drawingml/2006/table">
            <a:tbl>
              <a:tblPr/>
              <a:tblGrid>
                <a:gridCol w="1774800"/>
                <a:gridCol w="1236600"/>
                <a:gridCol w="1212840"/>
                <a:gridCol w="1212840"/>
                <a:gridCol w="1217880"/>
                <a:gridCol w="121104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17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d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d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d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b3b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6" name="WordArt 65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1297080" y="1219320"/>
            <a:ext cx="6150960" cy="5078160"/>
            <a:chOff x="1297080" y="1219320"/>
            <a:chExt cx="6150960" cy="5078160"/>
          </a:xfrm>
        </p:grpSpPr>
        <p:sp>
          <p:nvSpPr>
            <p:cNvPr id="148" name="Oval 34"/>
            <p:cNvSpPr/>
            <p:nvPr/>
          </p:nvSpPr>
          <p:spPr>
            <a:xfrm>
              <a:off x="5458320" y="2079720"/>
              <a:ext cx="7898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3"/>
            <p:cNvSpPr/>
            <p:nvPr/>
          </p:nvSpPr>
          <p:spPr>
            <a:xfrm>
              <a:off x="4091400" y="3765600"/>
              <a:ext cx="13366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2"/>
            <p:cNvSpPr/>
            <p:nvPr/>
          </p:nvSpPr>
          <p:spPr>
            <a:xfrm>
              <a:off x="5509080" y="5791320"/>
              <a:ext cx="193896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1"/>
            <p:cNvSpPr/>
            <p:nvPr/>
          </p:nvSpPr>
          <p:spPr>
            <a:xfrm>
              <a:off x="1540080" y="4427640"/>
              <a:ext cx="157428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 rot="13770000">
              <a:off x="5010840" y="3654360"/>
              <a:ext cx="960480" cy="20412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 rot="20856000">
              <a:off x="2865960" y="3208320"/>
              <a:ext cx="1072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9"/>
            <p:cNvGrpSpPr/>
            <p:nvPr/>
          </p:nvGrpSpPr>
          <p:grpSpPr>
            <a:xfrm>
              <a:off x="3863880" y="1899720"/>
              <a:ext cx="1802160" cy="1838880"/>
              <a:chOff x="3863880" y="1899720"/>
              <a:chExt cx="1802160" cy="1838880"/>
            </a:xfrm>
          </p:grpSpPr>
          <p:sp>
            <p:nvSpPr>
              <p:cNvPr id="155" name="Rectangle 10"/>
              <p:cNvSpPr/>
              <p:nvPr/>
            </p:nvSpPr>
            <p:spPr>
              <a:xfrm rot="18394200">
                <a:off x="5133600" y="2111040"/>
                <a:ext cx="596880" cy="14004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11"/>
              <p:cNvGrpSpPr/>
              <p:nvPr/>
            </p:nvGrpSpPr>
            <p:grpSpPr>
              <a:xfrm>
                <a:off x="3863880" y="2147760"/>
                <a:ext cx="1710720" cy="1590840"/>
                <a:chOff x="3863880" y="2147760"/>
                <a:chExt cx="1710720" cy="1590840"/>
              </a:xfrm>
            </p:grpSpPr>
            <p:sp>
              <p:nvSpPr>
                <p:cNvPr id="157" name="Oval 12"/>
                <p:cNvSpPr/>
                <p:nvPr/>
              </p:nvSpPr>
              <p:spPr>
                <a:xfrm>
                  <a:off x="3863880" y="2147760"/>
                  <a:ext cx="171072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b3b"/>
                    </a:gs>
                    <a:gs pos="100000">
                      <a:srgbClr val="3e0e0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3"/>
                <p:cNvSpPr/>
                <p:nvPr/>
              </p:nvSpPr>
              <p:spPr>
                <a:xfrm>
                  <a:off x="4059360" y="2174040"/>
                  <a:ext cx="1319760" cy="600480"/>
                </a:xfrm>
                <a:custGeom>
                  <a:avLst/>
                  <a:gdLst>
                    <a:gd name="textAreaLeft" fmla="*/ 0 w 1319760"/>
                    <a:gd name="textAreaRight" fmla="*/ 1319760 w 1319760"/>
                    <a:gd name="textAreaTop" fmla="*/ 0 h 600480"/>
                    <a:gd name="textAreaBottom" fmla="*/ 600840 h 600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4"/>
              <p:cNvSpPr/>
              <p:nvPr/>
            </p:nvSpPr>
            <p:spPr>
              <a:xfrm>
                <a:off x="3954600" y="2840040"/>
                <a:ext cx="122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15"/>
            <p:cNvGrpSpPr/>
            <p:nvPr/>
          </p:nvGrpSpPr>
          <p:grpSpPr>
            <a:xfrm>
              <a:off x="5362560" y="1219320"/>
              <a:ext cx="925920" cy="861840"/>
              <a:chOff x="5362560" y="1219320"/>
              <a:chExt cx="925920" cy="861840"/>
            </a:xfrm>
          </p:grpSpPr>
          <p:grpSp>
            <p:nvGrpSpPr>
              <p:cNvPr id="161" name="Group 16"/>
              <p:cNvGrpSpPr/>
              <p:nvPr/>
            </p:nvGrpSpPr>
            <p:grpSpPr>
              <a:xfrm>
                <a:off x="5362560" y="1219320"/>
                <a:ext cx="925920" cy="861840"/>
                <a:chOff x="5362560" y="1219320"/>
                <a:chExt cx="925920" cy="861840"/>
              </a:xfrm>
            </p:grpSpPr>
            <p:sp>
              <p:nvSpPr>
                <p:cNvPr id="162" name="Oval 17"/>
                <p:cNvSpPr/>
                <p:nvPr/>
              </p:nvSpPr>
              <p:spPr>
                <a:xfrm>
                  <a:off x="5362560" y="1219320"/>
                  <a:ext cx="92592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/>
                    </a:gs>
                    <a:gs pos="100000">
                      <a:srgbClr val="7402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8"/>
                <p:cNvSpPr/>
                <p:nvPr/>
              </p:nvSpPr>
              <p:spPr>
                <a:xfrm>
                  <a:off x="5468040" y="1233360"/>
                  <a:ext cx="713880" cy="325080"/>
                </a:xfrm>
                <a:custGeom>
                  <a:avLst/>
                  <a:gdLst>
                    <a:gd name="textAreaLeft" fmla="*/ 0 w 713880"/>
                    <a:gd name="textAreaRight" fmla="*/ 714240 w 71388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051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19"/>
              <p:cNvSpPr/>
              <p:nvPr/>
            </p:nvSpPr>
            <p:spPr>
              <a:xfrm>
                <a:off x="538200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0"/>
            <p:cNvGrpSpPr/>
            <p:nvPr/>
          </p:nvGrpSpPr>
          <p:grpSpPr>
            <a:xfrm>
              <a:off x="1297080" y="2544840"/>
              <a:ext cx="1854000" cy="1790640"/>
              <a:chOff x="1297080" y="2544840"/>
              <a:chExt cx="1854000" cy="1790640"/>
            </a:xfrm>
          </p:grpSpPr>
          <p:grpSp>
            <p:nvGrpSpPr>
              <p:cNvPr id="166" name="Group 21"/>
              <p:cNvGrpSpPr/>
              <p:nvPr/>
            </p:nvGrpSpPr>
            <p:grpSpPr>
              <a:xfrm>
                <a:off x="1297080" y="2544840"/>
                <a:ext cx="1854000" cy="1790640"/>
                <a:chOff x="1297080" y="2544840"/>
                <a:chExt cx="1854000" cy="1790640"/>
              </a:xfrm>
            </p:grpSpPr>
            <p:sp>
              <p:nvSpPr>
                <p:cNvPr id="167" name="Oval 22"/>
                <p:cNvSpPr/>
                <p:nvPr/>
              </p:nvSpPr>
              <p:spPr>
                <a:xfrm>
                  <a:off x="1297080" y="2544840"/>
                  <a:ext cx="185400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8800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3"/>
                <p:cNvSpPr/>
                <p:nvPr/>
              </p:nvSpPr>
              <p:spPr>
                <a:xfrm>
                  <a:off x="1508760" y="2574360"/>
                  <a:ext cx="1430280" cy="675720"/>
                </a:xfrm>
                <a:custGeom>
                  <a:avLst/>
                  <a:gdLst>
                    <a:gd name="textAreaLeft" fmla="*/ 0 w 1430280"/>
                    <a:gd name="textAreaRight" fmla="*/ 1430640 w 1430280"/>
                    <a:gd name="textAreaTop" fmla="*/ 0 h 675720"/>
                    <a:gd name="textAreaBottom" fmla="*/ 676080 h 67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c00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24"/>
              <p:cNvSpPr/>
              <p:nvPr/>
            </p:nvSpPr>
            <p:spPr>
              <a:xfrm>
                <a:off x="1394640" y="3340080"/>
                <a:ext cx="13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alibri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25"/>
            <p:cNvGrpSpPr/>
            <p:nvPr/>
          </p:nvGrpSpPr>
          <p:grpSpPr>
            <a:xfrm>
              <a:off x="5289840" y="3805200"/>
              <a:ext cx="2139480" cy="1989000"/>
              <a:chOff x="5289840" y="3805200"/>
              <a:chExt cx="2139480" cy="1989000"/>
            </a:xfrm>
          </p:grpSpPr>
          <p:grpSp>
            <p:nvGrpSpPr>
              <p:cNvPr id="171" name="Group 26"/>
              <p:cNvGrpSpPr/>
              <p:nvPr/>
            </p:nvGrpSpPr>
            <p:grpSpPr>
              <a:xfrm>
                <a:off x="5289840" y="3805200"/>
                <a:ext cx="2139480" cy="1989000"/>
                <a:chOff x="5289840" y="3805200"/>
                <a:chExt cx="2139480" cy="1989000"/>
              </a:xfrm>
            </p:grpSpPr>
            <p:sp>
              <p:nvSpPr>
                <p:cNvPr id="172" name="Oval 27"/>
                <p:cNvSpPr/>
                <p:nvPr/>
              </p:nvSpPr>
              <p:spPr>
                <a:xfrm>
                  <a:off x="5289840" y="3805200"/>
                  <a:ext cx="213948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a0004"/>
                    </a:gs>
                    <a:gs pos="100000">
                      <a:srgbClr val="2000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8"/>
                <p:cNvSpPr/>
                <p:nvPr/>
              </p:nvSpPr>
              <p:spPr>
                <a:xfrm>
                  <a:off x="5534280" y="3837960"/>
                  <a:ext cx="16502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a00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 Box 29"/>
              <p:cNvSpPr/>
              <p:nvPr/>
            </p:nvSpPr>
            <p:spPr>
              <a:xfrm>
                <a:off x="5592240" y="4667040"/>
                <a:ext cx="139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alibri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WordArt 34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3"/>
          <p:cNvGrpSpPr/>
          <p:nvPr/>
        </p:nvGrpSpPr>
        <p:grpSpPr>
          <a:xfrm>
            <a:off x="326160" y="1341360"/>
            <a:ext cx="8792640" cy="4842720"/>
            <a:chOff x="326160" y="1341360"/>
            <a:chExt cx="8792640" cy="4842720"/>
          </a:xfrm>
        </p:grpSpPr>
        <p:sp>
          <p:nvSpPr>
            <p:cNvPr id="177" name="Text Box 4"/>
            <p:cNvSpPr/>
            <p:nvPr/>
          </p:nvSpPr>
          <p:spPr>
            <a:xfrm>
              <a:off x="7212960" y="286236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9"/>
            <p:cNvGrpSpPr/>
            <p:nvPr/>
          </p:nvGrpSpPr>
          <p:grpSpPr>
            <a:xfrm>
              <a:off x="1292400" y="2049480"/>
              <a:ext cx="1397520" cy="1355760"/>
              <a:chOff x="1292400" y="2049480"/>
              <a:chExt cx="1397520" cy="1355760"/>
            </a:xfrm>
          </p:grpSpPr>
          <p:sp>
            <p:nvSpPr>
              <p:cNvPr id="179" name="Rectangle 5"/>
              <p:cNvSpPr/>
              <p:nvPr/>
            </p:nvSpPr>
            <p:spPr>
              <a:xfrm rot="3418800">
                <a:off x="1529280" y="2193840"/>
                <a:ext cx="923760" cy="1066320"/>
              </a:xfrm>
              <a:prstGeom prst="rect">
                <a:avLst/>
              </a:prstGeom>
              <a:gradFill rotWithShape="0">
                <a:gsLst>
                  <a:gs pos="0">
                    <a:srgbClr val="ff0517"/>
                  </a:gs>
                  <a:gs pos="100000">
                    <a:srgbClr val="76020b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6"/>
              <p:cNvSpPr/>
              <p:nvPr/>
            </p:nvSpPr>
            <p:spPr>
              <a:xfrm>
                <a:off x="1643040" y="258444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20"/>
            <p:cNvGrpSpPr/>
            <p:nvPr/>
          </p:nvGrpSpPr>
          <p:grpSpPr>
            <a:xfrm>
              <a:off x="2818080" y="3954240"/>
              <a:ext cx="1397880" cy="1355760"/>
              <a:chOff x="2818080" y="3954240"/>
              <a:chExt cx="1397880" cy="1355760"/>
            </a:xfrm>
          </p:grpSpPr>
          <p:sp>
            <p:nvSpPr>
              <p:cNvPr id="182" name="Rectangle 7"/>
              <p:cNvSpPr/>
              <p:nvPr/>
            </p:nvSpPr>
            <p:spPr>
              <a:xfrm rot="3418800">
                <a:off x="3054960" y="4098960"/>
                <a:ext cx="924120" cy="1066320"/>
              </a:xfrm>
              <a:prstGeom prst="rect">
                <a:avLst/>
              </a:prstGeom>
              <a:gradFill rotWithShape="0">
                <a:gsLst>
                  <a:gs pos="0">
                    <a:srgbClr val="bc000d"/>
                  </a:gs>
                  <a:gs pos="100000">
                    <a:srgbClr val="570006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8"/>
              <p:cNvSpPr/>
              <p:nvPr/>
            </p:nvSpPr>
            <p:spPr>
              <a:xfrm>
                <a:off x="3169440" y="448956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21"/>
            <p:cNvGrpSpPr/>
            <p:nvPr/>
          </p:nvGrpSpPr>
          <p:grpSpPr>
            <a:xfrm>
              <a:off x="5019480" y="2801880"/>
              <a:ext cx="1397520" cy="1355760"/>
              <a:chOff x="5019480" y="2801880"/>
              <a:chExt cx="1397520" cy="1355760"/>
            </a:xfrm>
          </p:grpSpPr>
          <p:sp>
            <p:nvSpPr>
              <p:cNvPr id="185" name="Rectangle 9"/>
              <p:cNvSpPr/>
              <p:nvPr/>
            </p:nvSpPr>
            <p:spPr>
              <a:xfrm rot="3418800">
                <a:off x="5256360" y="2946240"/>
                <a:ext cx="923760" cy="1066320"/>
              </a:xfrm>
              <a:prstGeom prst="rect">
                <a:avLst/>
              </a:prstGeom>
              <a:gradFill rotWithShape="0">
                <a:gsLst>
                  <a:gs pos="0">
                    <a:srgbClr val="3a0004"/>
                  </a:gs>
                  <a:gs pos="100000">
                    <a:srgbClr val="1b0002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0"/>
              <p:cNvSpPr/>
              <p:nvPr/>
            </p:nvSpPr>
            <p:spPr>
              <a:xfrm>
                <a:off x="5370840" y="333684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2"/>
            <p:cNvGrpSpPr/>
            <p:nvPr/>
          </p:nvGrpSpPr>
          <p:grpSpPr>
            <a:xfrm>
              <a:off x="7517880" y="1341360"/>
              <a:ext cx="1397520" cy="1355760"/>
              <a:chOff x="7517880" y="1341360"/>
              <a:chExt cx="1397520" cy="1355760"/>
            </a:xfrm>
          </p:grpSpPr>
          <p:sp>
            <p:nvSpPr>
              <p:cNvPr id="188" name="Rectangle 3"/>
              <p:cNvSpPr/>
              <p:nvPr/>
            </p:nvSpPr>
            <p:spPr>
              <a:xfrm rot="3418800">
                <a:off x="7754760" y="1485720"/>
                <a:ext cx="923760" cy="1066320"/>
              </a:xfrm>
              <a:prstGeom prst="rect">
                <a:avLst/>
              </a:prstGeom>
              <a:gradFill rotWithShape="0">
                <a:gsLst>
                  <a:gs pos="0">
                    <a:srgbClr val="ff3b3b"/>
                  </a:gs>
                  <a:gs pos="100000">
                    <a:srgbClr val="761b1b"/>
                  </a:gs>
                </a:gsLst>
                <a:lin ang="198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285" dir="243158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1"/>
              <p:cNvSpPr/>
              <p:nvPr/>
            </p:nvSpPr>
            <p:spPr>
              <a:xfrm>
                <a:off x="7869240" y="1876320"/>
                <a:ext cx="64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12"/>
            <p:cNvSpPr/>
            <p:nvPr/>
          </p:nvSpPr>
          <p:spPr>
            <a:xfrm>
              <a:off x="2349000" y="3179880"/>
              <a:ext cx="810360" cy="10666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 flipV="1">
              <a:off x="4050720" y="3713040"/>
              <a:ext cx="1134360" cy="609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 flipV="1">
              <a:off x="6319440" y="2328840"/>
              <a:ext cx="1377000" cy="7747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2673360" y="1763640"/>
              <a:ext cx="43750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2594880" y="545292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5025600" y="438624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326160" y="3548160"/>
              <a:ext cx="190584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Calibri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WordArt 27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1033560" y="2324160"/>
            <a:ext cx="7696080" cy="396252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3949560" y="3009960"/>
            <a:ext cx="421344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949560" y="3543480"/>
            <a:ext cx="421344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c000d"/>
              </a:gs>
              <a:gs pos="100000">
                <a:srgbClr val="e499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949560" y="4076640"/>
            <a:ext cx="421344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3949560" y="4610160"/>
            <a:ext cx="421344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c000d"/>
              </a:gs>
              <a:gs pos="100000">
                <a:srgbClr val="e499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949560" y="5143680"/>
            <a:ext cx="421344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1681200" y="3162240"/>
            <a:ext cx="21873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0517"/>
              </a:gs>
              <a:gs pos="50000">
                <a:srgbClr val="ff4a57"/>
              </a:gs>
              <a:gs pos="100000">
                <a:srgbClr val="ff051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1681200" y="3695760"/>
            <a:ext cx="21873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c000d"/>
              </a:gs>
              <a:gs pos="50000">
                <a:srgbClr val="ce464f"/>
              </a:gs>
              <a:gs pos="100000">
                <a:srgbClr val="bc000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681200" y="4229280"/>
            <a:ext cx="21873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0517"/>
              </a:gs>
              <a:gs pos="50000">
                <a:srgbClr val="ff4a57"/>
              </a:gs>
              <a:gs pos="100000">
                <a:srgbClr val="ff051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81200" y="4762440"/>
            <a:ext cx="21873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c000d"/>
              </a:gs>
              <a:gs pos="50000">
                <a:srgbClr val="ce464f"/>
              </a:gs>
              <a:gs pos="100000">
                <a:srgbClr val="bc000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1681200" y="5295960"/>
            <a:ext cx="21873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f0517"/>
              </a:gs>
              <a:gs pos="50000">
                <a:srgbClr val="ff4a57"/>
              </a:gs>
              <a:gs pos="100000">
                <a:srgbClr val="ff051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1357200" y="1908000"/>
            <a:ext cx="696780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 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8"/>
          <p:cNvSpPr txBox="1"/>
          <p:nvPr/>
        </p:nvSpPr>
        <p:spPr>
          <a:xfrm>
            <a:off x="6300720" y="404640"/>
            <a:ext cx="2927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517"/>
                </a:solidFill>
                <a:latin typeface="方正黑体简体"/>
              </a:rPr>
              <a:t>单击此处添加备注</a:t>
            </a:r>
            <a:endParaRPr b="0" lang="en-US" sz="2400" spc="1" strike="noStrike">
              <a:ln w="0">
                <a:noFill/>
              </a:ln>
              <a:solidFill>
                <a:srgbClr val="ff0517"/>
              </a:solidFill>
              <a:latin typeface="方正黑体简体"/>
              <a:ea typeface="方正黑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ym148</dc:creator>
  <dc:description/>
  <cp:keywords>问号</cp:keywords>
  <dc:language>en-US</dc:language>
  <cp:lastModifiedBy>Administrator</cp:lastModifiedBy>
  <dcterms:modified xsi:type="dcterms:W3CDTF">2016-08-22T03:13:20Z</dcterms:modified>
  <cp:revision>59</cp:revision>
  <dc:subject>问号</dc:subject>
  <dc:title>问号</dc:title>
</cp:coreProperties>
</file>