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33B4-EA9E-4EAC-8A83-3B2543F1A3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32E6-6EF3-4D2C-960A-21BBB4EDAF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56FE-CE51-47E3-A27F-8BE454B609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E976-3054-4204-BAEE-A02EA346EF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C467-77A3-47C9-A130-E9F1FA0812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5EA8-BCB5-4A0B-BCF6-2035D03737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84A1-9640-4DDF-975F-2FB4DCB60C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0E73-4FFC-4E77-8C8E-693463C138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714A-4F57-43CC-9087-697B1EB776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480E-F76B-45FB-966D-59865BF353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B52A-6306-4F25-AA36-554EF09914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36F2-8F0A-40D7-BBF5-647EAA9A38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5D1D-69EC-4D95-85EF-7BB440E7BD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48AA-6973-4FC3-961F-C6C1581D7D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A691-0086-47F9-AA92-8AF4C15199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0D61-095A-463D-958D-ACB6BE3150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665C-3EEA-4FAF-870C-19DD160953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2CF0-FA22-4D8F-9F8F-C3B0687ED3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20FD-4ABE-4D7D-80BE-5D97F64E7E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FB92-0F92-42DB-BCFF-39F874DB0D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2FAB-0B79-4F07-8B24-76BA83CC90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8516-81F6-48DC-9B3D-2217739DF6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B83-EC7F-4B41-9D88-DFF75CBE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319-1E40-4B7C-AD4B-08FF9AA2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B55-09E4-455B-BA03-F3975CFF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0CE-829E-40B5-9A4F-62E87780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CCB-2C23-4584-A5FF-D51CCD5A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081-ED71-4BA8-975E-4BB7F7EE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DA4-CC03-49BA-948E-F5CFD6D2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31A-85C8-4992-8632-7D672191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34D-C0BA-4D3F-ABAC-A7C5E34F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34E-C8F7-467D-AEB7-5CF38E35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51BF-3ABE-4CB6-B960-376F6AA5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89D-09CC-46D4-88BB-D646B0EA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akoa.taobao.com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iloveppt.org/forum.php?mod=forumdisplay&amp;fid=51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1F79-4BC0-44F8-909C-3BD4D3D247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395280" y="110952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7"/>
          <p:cNvSpPr/>
          <p:nvPr/>
        </p:nvSpPr>
        <p:spPr>
          <a:xfrm>
            <a:off x="1089000" y="1374840"/>
            <a:ext cx="9349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原创整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4103640" y="1374840"/>
            <a:ext cx="936720" cy="93672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86868"/>
                </a:solidFill>
                <a:latin typeface="微软雅黑"/>
                <a:ea typeface="微软雅黑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7120080" y="1374840"/>
            <a:ext cx="934920" cy="936720"/>
          </a:xfrm>
          <a:prstGeom prst="ellipse">
            <a:avLst/>
          </a:prstGeom>
          <a:solidFill>
            <a:srgbClr val="e60000"/>
          </a:solidFill>
          <a:ln w="1260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素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395280" y="2971800"/>
            <a:ext cx="8353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84120" y="2523960"/>
            <a:ext cx="254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史上最新最全的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素材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3714840" y="2523960"/>
            <a:ext cx="25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享受二年期的免费更新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6445080" y="25239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1000G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高精度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SD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创意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1"/>
          <p:cNvSpPr/>
          <p:nvPr/>
        </p:nvSpPr>
        <p:spPr>
          <a:xfrm>
            <a:off x="395280" y="4096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梵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帝</a:t>
            </a:r>
            <a:r>
              <a:rPr b="1" lang="en-US" sz="3200" spc="-1" strike="noStrike">
                <a:solidFill>
                  <a:srgbClr val="19194d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19194d"/>
                </a:solidFill>
                <a:latin typeface="Arial"/>
              </a:rPr>
              <a:t>精品资源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395280" y="6078600"/>
            <a:ext cx="4680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更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模板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素材集  请访问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http://wakoa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395280" y="580248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搜集整理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-  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旺旺：梵帝尼    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QQ</a:t>
            </a:r>
            <a:r>
              <a:rPr b="0" lang="zh-CN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a6a6a6"/>
                </a:solidFill>
                <a:latin typeface="微软雅黑"/>
                <a:ea typeface="微软雅黑"/>
              </a:rPr>
              <a:t>56632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7"/>
          <p:cNvSpPr/>
          <p:nvPr/>
        </p:nvSpPr>
        <p:spPr>
          <a:xfrm>
            <a:off x="1655640" y="3840120"/>
            <a:ext cx="5832720" cy="72072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圆角矩形 18"/>
          <p:cNvGrpSpPr/>
          <p:nvPr/>
        </p:nvGrpSpPr>
        <p:grpSpPr>
          <a:xfrm>
            <a:off x="1773360" y="3986280"/>
            <a:ext cx="4383000" cy="549360"/>
            <a:chOff x="1773360" y="3986280"/>
            <a:chExt cx="4383000" cy="549360"/>
          </a:xfrm>
        </p:grpSpPr>
        <p:pic>
          <p:nvPicPr>
            <p:cNvPr id="54" name="圆角矩形 18" descr=""/>
            <p:cNvPicPr/>
            <p:nvPr/>
          </p:nvPicPr>
          <p:blipFill>
            <a:blip r:embed="rId3"/>
            <a:stretch/>
          </p:blipFill>
          <p:spPr>
            <a:xfrm>
              <a:off x="1773360" y="3986280"/>
              <a:ext cx="4383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98560" y="4013280"/>
              <a:ext cx="43308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86868"/>
                  </a:solidFill>
                  <a:latin typeface="微软雅黑"/>
                  <a:ea typeface="微软雅黑"/>
                </a:rPr>
                <a:t>http://wakoa.taobao.c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圆角矩形 19">
            <a:hlinkClick r:id="rId4"/>
          </p:cNvPr>
          <p:cNvSpPr/>
          <p:nvPr/>
        </p:nvSpPr>
        <p:spPr>
          <a:xfrm>
            <a:off x="6316560" y="3938760"/>
            <a:ext cx="1008000" cy="523800"/>
          </a:xfrm>
          <a:prstGeom prst="roundRect">
            <a:avLst>
              <a:gd name="adj" fmla="val 8602"/>
            </a:avLst>
          </a:prstGeom>
          <a:gradFill rotWithShape="0">
            <a:gsLst>
              <a:gs pos="0">
                <a:srgbClr val="f6bb00"/>
              </a:gs>
              <a:gs pos="100000">
                <a:srgbClr val="ffd243"/>
              </a:gs>
            </a:gsLst>
            <a:lin ang="16200000"/>
          </a:gradFill>
          <a:ln w="9360">
            <a:solidFill>
              <a:srgbClr val="ffd2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86868"/>
                </a:solidFill>
                <a:latin typeface="微软雅黑"/>
                <a:ea typeface="微软雅黑"/>
              </a:rPr>
              <a:t>搜 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1655640" y="4586400"/>
            <a:ext cx="583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微软雅黑"/>
                <a:ea typeface="微软雅黑"/>
              </a:rPr>
              <a:t>技术支持：梵帝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1"/>
          <p:cNvSpPr/>
          <p:nvPr/>
        </p:nvSpPr>
        <p:spPr>
          <a:xfrm>
            <a:off x="4071960" y="1357200"/>
            <a:ext cx="1000080" cy="100008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增值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glaza_23_foto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glaza_23_foto_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glaza_23_foto_17"/>
          <p:cNvPicPr/>
          <p:nvPr/>
        </p:nvPicPr>
        <p:blipFill>
          <a:blip r:embed="rId1"/>
          <a:stretch/>
        </p:blipFill>
        <p:spPr>
          <a:xfrm>
            <a:off x="1676520" y="0"/>
            <a:ext cx="5979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glaza_23_foto_5"/>
          <p:cNvPicPr/>
          <p:nvPr/>
        </p:nvPicPr>
        <p:blipFill>
          <a:blip r:embed="rId1"/>
          <a:stretch/>
        </p:blipFill>
        <p:spPr>
          <a:xfrm>
            <a:off x="2133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glaza_23_foto_22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glaza_23_foto_10"/>
          <p:cNvPicPr/>
          <p:nvPr/>
        </p:nvPicPr>
        <p:blipFill>
          <a:blip r:embed="rId1"/>
          <a:stretch/>
        </p:blipFill>
        <p:spPr>
          <a:xfrm>
            <a:off x="1873080" y="0"/>
            <a:ext cx="528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glaza_23_foto_4"/>
          <p:cNvPicPr/>
          <p:nvPr/>
        </p:nvPicPr>
        <p:blipFill>
          <a:blip r:embed="rId1"/>
          <a:stretch/>
        </p:blipFill>
        <p:spPr>
          <a:xfrm>
            <a:off x="1352520" y="0"/>
            <a:ext cx="6496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laza_23_foto_13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glaza_23_foto_14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37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glaza_23_foto_15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glaza_23_foto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glaza_23_foto_18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glaza_23_foto_19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93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glaza_23_foto_23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7037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glaza_23_foto_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glaza_23_foto_11"/>
          <p:cNvPicPr/>
          <p:nvPr/>
        </p:nvPicPr>
        <p:blipFill>
          <a:blip r:embed="rId1"/>
          <a:stretch/>
        </p:blipFill>
        <p:spPr>
          <a:xfrm>
            <a:off x="0" y="-20520"/>
            <a:ext cx="9448920" cy="7132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laza_23_foto_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glaza_23_foto_2"/>
          <p:cNvPicPr/>
          <p:nvPr/>
        </p:nvPicPr>
        <p:blipFill>
          <a:blip r:embed="rId1"/>
          <a:stretch/>
        </p:blipFill>
        <p:spPr>
          <a:xfrm>
            <a:off x="1982880" y="0"/>
            <a:ext cx="5256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glaza_23_foto_1"/>
          <p:cNvPicPr/>
          <p:nvPr/>
        </p:nvPicPr>
        <p:blipFill>
          <a:blip r:embed="rId1"/>
          <a:stretch/>
        </p:blipFill>
        <p:spPr>
          <a:xfrm>
            <a:off x="2016000" y="0"/>
            <a:ext cx="5146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glaza_23_foto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glaza_23_foto_7"/>
          <p:cNvPicPr/>
          <p:nvPr/>
        </p:nvPicPr>
        <p:blipFill>
          <a:blip r:embed="rId1"/>
          <a:stretch/>
        </p:blipFill>
        <p:spPr>
          <a:xfrm>
            <a:off x="178452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5:22:49Z</dcterms:created>
  <dc:creator>JAYATHRI</dc:creator>
  <dc:description/>
  <dc:language>en-US</dc:language>
  <cp:lastModifiedBy>zjp888</cp:lastModifiedBy>
  <dcterms:modified xsi:type="dcterms:W3CDTF">2012-04-10T13:30:54Z</dcterms:modified>
  <cp:revision>6</cp:revision>
  <dc:subject/>
  <dc:title>Slide 1</dc:title>
</cp:coreProperties>
</file>