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61B2-796C-4846-BAAD-B0D53A6D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788-FC64-4E01-B3FB-3BD283D3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DCD-AADB-4F03-9B05-D79F092E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543-0DE4-48F3-AE44-06B44791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CBB-0A9A-46A6-B87A-2E34DBD6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9DC-7E44-4077-9E58-BA70CB1B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BE7-937C-4733-AABD-8AA70CCD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248-F17F-46AA-9D53-F511230E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B04-6FB0-45C7-BFE5-BDE387A8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323-7318-4F67-8E20-6A6E557F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524-DA4C-459C-8B89-2A3969FB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165-13C6-401F-86F7-1B56386E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178E-6876-4423-AFCB-9776E6DD61A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8CDB-8823-4A2B-8052-D302C2D668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45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1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52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6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6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6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6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7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7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28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30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33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36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8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39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1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43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4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45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8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49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0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51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5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56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57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59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60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1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0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0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0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1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1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69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70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72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3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4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75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6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77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8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9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80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1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82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3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4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9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3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894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5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896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9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50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52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085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8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39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7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48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80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1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82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3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9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40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8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0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2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4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0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1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6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6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6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56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57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58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7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4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5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0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75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9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0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1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16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18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1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6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7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7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33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65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7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69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1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73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4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05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06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07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0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13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16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8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19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0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2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23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26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28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0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32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34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37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9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1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admin</dc:creator>
  <dc:description/>
  <cp:keywords/>
  <dc:language>en-US</dc:language>
  <cp:lastModifiedBy>风轻无痕</cp:lastModifiedBy>
  <dcterms:modified xsi:type="dcterms:W3CDTF">2016-01-20T13:01:17Z</dcterms:modified>
  <cp:revision>8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