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902C-E18B-4A3E-B17D-106F661F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D25-77C2-4187-89BE-59EA5E30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76D-7B61-4B16-8E0A-F2DBF308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6258-A43A-4721-8121-730781D2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1D58-45E0-4D2E-98DA-49A437AC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59DA-0816-4A9C-826E-BD6ECC4F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A057-B235-4B9C-8443-52DA2C3D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051B-331F-42E1-A51E-23CE9B93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63E9-1821-47F5-942C-62CD8A24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7208-176A-4A38-AC9B-583BF796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F67B-7B32-4A91-9A44-632F2B20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71E4-F390-40D2-B3DE-6AA04924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6F8F-34C6-48D0-84C5-B248CEA5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BE44-5D1C-42A0-8ED6-70A7F463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10C0-5E2C-477B-9184-5B8CDED3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1E87-C79A-48E7-9AC0-B8F774E3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1F0B-9348-45AE-BE02-DB1F0B1F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A5D5-5BC9-4DA1-8DE8-97532C16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270D-EF39-43E2-8BE4-49C48C25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EDCF-0F67-479D-8AFB-90A89FB2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060C-FB1F-4689-A60A-7EF21C89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98C5-3852-427C-9739-ECAC9410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E7B9-2F76-4A1A-955C-F4D71D93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E5ED-A0A6-4DD6-9205-F1618C45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96B6-C798-40BC-978A-E4AFC147B90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2FAE-FFAD-48A8-AEE6-45D7978F5FA7}" type="slidenum"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图片2"/>
          <p:cNvPicPr/>
          <p:nvPr/>
        </p:nvPicPr>
        <p:blipFill>
          <a:blip r:embed="rId2"/>
          <a:stretch/>
        </p:blipFill>
        <p:spPr>
          <a:xfrm>
            <a:off x="-15840" y="0"/>
            <a:ext cx="9159840" cy="68706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79A9-4537-420E-91BB-C2B5EF766B33}" type="slidenum"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D010-F440-4605-8D5C-297B185BFAB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E82F-8372-4AF2-87B1-9778ABF36C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1040" y="1698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0336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美乐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ilechen.tmal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A7CF-C36C-4A2F-89CA-0E17C8DA55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1981080" y="2666880"/>
            <a:ext cx="3581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出淤泥而不染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3276720" y="3352680"/>
            <a:ext cx="4038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濯清涟而不妖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2" descr="内页祥云"/>
          <p:cNvPicPr/>
          <p:nvPr/>
        </p:nvPicPr>
        <p:blipFill>
          <a:blip r:embed="rId1"/>
          <a:stretch/>
        </p:blipFill>
        <p:spPr>
          <a:xfrm>
            <a:off x="2590920" y="3505320"/>
            <a:ext cx="1285920" cy="600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3" descr="内页祥云"/>
          <p:cNvPicPr/>
          <p:nvPr/>
        </p:nvPicPr>
        <p:blipFill>
          <a:blip r:embed="rId2"/>
          <a:stretch/>
        </p:blipFill>
        <p:spPr>
          <a:xfrm>
            <a:off x="5372280" y="2259000"/>
            <a:ext cx="8762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7114-5BA4-479F-A143-2EE9A9AE9E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001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1857240" y="3645000"/>
            <a:ext cx="5905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中宋"/>
                <a:ea typeface="黑体"/>
              </a:rPr>
              <a:t>感谢聆听！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6900-9907-4C75-9A81-96178C370C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1981080" y="2666880"/>
            <a:ext cx="3581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出淤泥而不染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2"/>
          <p:cNvPicPr/>
          <p:nvPr/>
        </p:nvPicPr>
        <p:blipFill>
          <a:blip r:embed="rId2"/>
          <a:stretch/>
        </p:blipFill>
        <p:spPr>
          <a:xfrm>
            <a:off x="457200" y="5495760"/>
            <a:ext cx="1774800" cy="1362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1"/>
          <p:cNvPicPr/>
          <p:nvPr/>
        </p:nvPicPr>
        <p:blipFill>
          <a:blip r:embed="rId3"/>
          <a:stretch/>
        </p:blipFill>
        <p:spPr>
          <a:xfrm>
            <a:off x="0" y="5889600"/>
            <a:ext cx="3262320" cy="968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3"/>
          <p:cNvPicPr/>
          <p:nvPr/>
        </p:nvPicPr>
        <p:blipFill>
          <a:blip r:embed="rId4"/>
          <a:stretch/>
        </p:blipFill>
        <p:spPr>
          <a:xfrm>
            <a:off x="5199120" y="6046920"/>
            <a:ext cx="2895480" cy="887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4"/>
          <p:cNvPicPr/>
          <p:nvPr/>
        </p:nvPicPr>
        <p:blipFill>
          <a:blip r:embed="rId5"/>
          <a:stretch/>
        </p:blipFill>
        <p:spPr>
          <a:xfrm>
            <a:off x="3886200" y="5943600"/>
            <a:ext cx="2455920" cy="725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0"/>
          <p:cNvSpPr/>
          <p:nvPr/>
        </p:nvSpPr>
        <p:spPr>
          <a:xfrm>
            <a:off x="3276720" y="3352680"/>
            <a:ext cx="4038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濯清涟而不妖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内页祥云"/>
          <p:cNvPicPr/>
          <p:nvPr/>
        </p:nvPicPr>
        <p:blipFill>
          <a:blip r:embed="rId6"/>
          <a:stretch/>
        </p:blipFill>
        <p:spPr>
          <a:xfrm>
            <a:off x="2590920" y="3505320"/>
            <a:ext cx="1285920" cy="600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内页祥云"/>
          <p:cNvPicPr/>
          <p:nvPr/>
        </p:nvPicPr>
        <p:blipFill>
          <a:blip r:embed="rId7"/>
          <a:stretch/>
        </p:blipFill>
        <p:spPr>
          <a:xfrm>
            <a:off x="5372280" y="2259000"/>
            <a:ext cx="876240" cy="407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未命名-1"/>
          <p:cNvPicPr/>
          <p:nvPr/>
        </p:nvPicPr>
        <p:blipFill>
          <a:blip r:embed="rId8"/>
          <a:stretch/>
        </p:blipFill>
        <p:spPr>
          <a:xfrm>
            <a:off x="2165400" y="457200"/>
            <a:ext cx="349200" cy="2008080"/>
          </a:xfrm>
          <a:prstGeom prst="rect">
            <a:avLst/>
          </a:prstGeom>
          <a:ln w="0">
            <a:noFill/>
          </a:ln>
        </p:spPr>
      </p:pic>
      <p:pic>
        <p:nvPicPr>
          <p:cNvPr id="108" name="出水莲 古筝.mp3" descr=""/>
          <p:cNvPicPr/>
          <p:nvPr/>
        </p:nvPicPr>
        <p:blipFill>
          <a:blip r:embed="rId9"/>
          <a:stretch/>
        </p:blipFill>
        <p:spPr>
          <a:xfrm>
            <a:off x="80010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5:56:23Z</dcterms:created>
  <dc:creator/>
  <dc:description/>
  <dc:language>en-US</dc:language>
  <cp:lastModifiedBy>User</cp:lastModifiedBy>
  <dcterms:modified xsi:type="dcterms:W3CDTF">2016-07-25T06:01:12Z</dcterms:modified>
  <cp:revision>595</cp:revision>
  <dc:subject/>
  <dc:title> </dc:title>
</cp:coreProperties>
</file>