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C7D-3D9E-40B6-A3DD-7305D8FF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841-EAD4-47A3-9E34-AA93AD23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318B6-B708-4B1D-B8AD-C83BDE61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8A1CF-F678-463D-B5D8-E83BDB53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8CEF2-98FE-4EA0-996D-1145A19A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53373-F295-4BBC-A69C-44B90E0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9F7AD-063D-4813-BA5A-E7503EC6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9CC23-4C38-41DF-A3EF-BE157D4F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DF094-F074-4736-A339-9E9167A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2C729-7688-4B9B-A56C-056B04C2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6A314-8C37-4EB3-87EA-9C6CEABB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958A6-C1DB-4FBE-AD36-04C83D11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81F-1359-4272-A84D-7448CE6B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FD55C-2007-495E-A2E1-870DB75E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7FAB0-17E6-4DE3-BAD9-7365C118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F837D-1F59-42F2-BB4A-84A06E42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498A7-4A11-4528-A232-7A01B044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DA2DA-6102-40EC-8766-B6B4C80F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A8194-5E34-4E98-80D6-3E49DBB8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DC9BB-C359-434C-962A-B4E6301A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A89DF-26CB-49CA-80E5-8A31D7A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44D16-9E10-4401-B30E-9AF5F1A8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4685A-9EAB-4890-96E0-FD9147D9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DB4-659D-4D96-8E50-ACC625EA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E935F-BAA7-4BFA-903C-23D95358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22BAA-B5D4-47B1-B09E-CF5BF21D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31694-B6D0-4797-B8AA-AA144D27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74749-29D1-43C6-A2A4-6CEBF799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CFBA8-1E90-42F1-B5DD-6F6B09FA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0C1C4-03B9-4B70-A436-7DE31AE8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1D456-31C8-40B1-B422-C1696EFF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1FA5B-28F7-4F6E-A8D8-ECDC329C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0ADC1-5BB8-4288-9B4A-B7DDB9F8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B2D65-4EAC-4021-88F0-C199CCE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6A0F-E946-4FE1-B8E1-7D056304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02630-C22D-4E3D-A539-5163BA01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52ACE-E0BC-4B57-8552-DD7275B5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4FE6F-95E3-461F-BDBC-10160D28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304B9-F25E-46A0-9125-657F1FA6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9F28C-EAAA-42A0-8A00-9A6BEBAD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6C3DF-2170-486F-BE1A-9286A0E5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9FB99-D2DC-4A5E-9264-953049B9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8255E-334F-4A80-A82A-97C3A369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06507-3FAB-4FB2-BD36-3BE32883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615FB-47D8-4AE9-97FA-CB55EF08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8070-A1F0-4D58-9CA9-365BF9F7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352ED-0BF9-4386-A8AF-D662C658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7333A-BED0-471C-A1B6-E69525E1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033F6-1C19-445B-804B-4C31ECBE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2B38F-5EEB-47CE-9D72-41151489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9245F-8CA9-48E7-8D5A-FD2E2EE0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9578E-386D-4E62-BD7C-20EA241B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59B7E-D4E3-422F-A55C-25D19149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4E45D-DC1E-46A6-876B-45E3A2D7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79760-D1B9-48A0-8AE6-E62184DA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57030-FAA9-44F1-B832-83735DDB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C858-C755-40E7-8C4C-FEC88E96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AACBE-E50F-4C56-BD40-CB791631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CC156E-DA69-4427-A5DD-345380F4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D3597-CF2F-4943-A569-AEE5D865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47EFD-3DF5-48D9-A1E1-2760DA4A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36824-2031-498A-A127-F3551C4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233A9D-1EC9-4F16-BA2D-E299C6D1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FBA42-E58A-4034-B40A-F8AF7DC8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646C-338E-4C71-B8C1-93FE4D19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3AFF-131A-49E1-ADAA-60597C68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1A51-4160-44F3-9F1A-0F6908B9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2AB6-7F86-4A5B-A761-2E73BCA2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C40-0507-421E-B9CD-E3ED9D1C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0E31-1617-4701-96D4-291C7F0F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47C8-4F5D-4802-99E0-58EFBE43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2A3C-B2F3-42DA-8758-4F17FFB9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2698-0CDE-4800-A92B-06442C3E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416F-DCF7-4C65-8534-0A80DC48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96BB-2486-4986-86F7-91811493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C330-B3F7-46EB-8E91-A835793B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18E0-7552-48AC-9050-44C14E99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115EE-D984-44A6-B901-A2FB727A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09B17-F2D1-494B-BE15-FF89C9F1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972-D853-4E79-A860-1BDFDC36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8890A-E3F4-4C7F-844A-0FECC13B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E8DB2-9727-4BD3-A998-543C915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5F0E4-3FB6-4E01-8715-2AAF2AC5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4393-E05A-4A9E-8ED9-235F5C8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500F-0EDC-488C-A082-A9AD8A41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51326-CD4F-4DC2-B17E-1B1B12CF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11EC-EECB-4142-9C4E-2FF7B456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C5A0-D97B-4CF4-A09D-3BF08E40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57277-3A88-4B4D-84C0-8A8ADE0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B3F92-4444-4E41-ADB4-C8452357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6A5-F5AD-49E9-A8D5-D1549B78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7D3D-6B4F-4DB2-8B34-12DC423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5885F-EB21-4BCD-BFF8-736BCE96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5929C-A0F0-4A2D-8D77-07CAC54B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DFB18-6371-4D71-AA16-ACF119C9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9150E-BDAA-4543-9F1A-96175FF0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DFDB0-FE16-484D-92CE-7AB9AEE6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4621-EE91-4797-8BAA-8FCC77CF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9A238-B8BE-4676-8446-EEB51DAA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C391-CDA8-4057-994C-AE79BC95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3AA07-DEE1-4649-A465-8F8AC90B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981-CCA8-42B0-9115-8D955252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91E95-8A71-4760-89FF-B42D0A9B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02851-6917-405A-B142-0EF18E90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4510-88DF-4B16-8EB7-9A1AD01E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BC2D4-2EB5-4484-84D2-D67695E5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176D3-BFD3-4961-9246-F610B8F8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1FAD0-F80A-4BF4-828A-2111F98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CC625-C314-44BF-8EDC-8E0B9A3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E870A-406C-448A-A0D4-C700483C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9F76-CD30-418B-8A0C-47763B7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CE6A-3792-4E09-BD3D-FD9EFB89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79C-24EE-4650-B567-180B0305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CD00-FFD8-4906-B7D4-C03AD2A9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5E71C-CA21-4FB8-93DA-0DF64AA6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4B9F7-929C-44AA-BAF6-E9DF54B2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57A86-1D70-4B1F-B297-46E09225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FAB9-EE63-480A-B66F-95B6DB4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257B-93F1-4743-8D11-D8896DC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D57DF-DB5B-49F9-9973-A9A429F3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A90D1-5A94-4EDD-BEA1-42BD286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A11C3-BD4A-479F-913E-E090A9AF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913B6-AEA6-414D-9FDB-12AC9EBE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693-6904-4CC1-B3DF-B7683213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77CBD-E5D4-4859-B405-24CDC977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5F86C-AF30-4C76-A131-648212B3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F462A-9933-41B3-BB76-39CAE731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89AC2-BE79-4655-92AB-7ED40541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DEFA-5469-4335-9D0A-E6FF4CC5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CE6F7-B7AF-4D41-B90D-E8BF18B7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0F2BC-883B-45DC-9AD5-175E9086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E6917-4B1A-4128-AE96-63DEB1B1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9478A-91D1-4244-A2DF-52849E5C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2E66-0BB6-4BB7-9B55-06952493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51B-9BC4-4C6A-9383-2C3888BA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021F0-6592-40A2-9719-16BD7881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9DDEF-7B6B-4743-AB44-004A38A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D1652-ADAE-4238-9F7A-B2A3FD60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DEDBE-EDD9-45E0-AAAB-4BD6956F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A116E-AAC7-4354-B42A-3E54D3D6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33B87-04F6-4DC3-84B8-2B6798E7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2384E-A7DE-4260-8259-D73089E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AACF4-E066-423D-9933-8063BF99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F7FE5-46C1-41DD-A9E2-A2AA7AB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E4676-A956-4D73-A9EF-29AAE28F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D54-07FD-423B-96DA-968F3FE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6C601-605E-4DBC-95D8-4ACBE89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D2A78-65FB-4FC4-B911-5511086A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31EC4-5E3F-4687-BAAF-2B76571D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137F6-9DFC-40D8-BC88-06A0BBE1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643CE-DEAB-4672-B67A-164A4830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A1D30-2CF7-4545-A6E8-206A1887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3C97F-7613-4587-95C4-01B82A7C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B7A9A-BA4B-488C-9FC4-FC11D09F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E3A35-80D7-495D-9B45-5EC248F5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9C876-11EE-42E5-9167-71C76CD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DE2-56BD-4085-AD43-EF7AE1E5070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C942-3FF1-4A46-BA61-DCB12E66E580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248B-971F-42DA-B2FB-5F748EF2E4E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D846-94BA-459A-BA6D-93859AC1E176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176F-5262-4796-ADF8-25D6E09270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18DC-C883-421C-ABCF-C24D75418D55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1E4-CF4F-4155-9EFB-BE1D2E7205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3C18-8810-4523-8637-A8A55063B896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67D2-95B2-4428-955F-C36146D991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548B-FEC0-4248-97D5-51B4F00D0564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3C50-541B-4FD7-AE8A-918B45E7B0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CFE9-23F2-4A21-A106-A8E87E16E0D5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571D-0F0D-49C0-BB2F-DB079031FE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ABBF-223E-4898-BA24-FC1E742EAAF3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6E81-BAEC-423B-A622-6FDA801F374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2905-77E3-4D1B-A69B-9A7C2FDFD7E5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354C-1CBF-4B82-B948-9C22EE8ABB4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FF11-2D92-43D1-8A79-CF2272E44B0A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4427-472D-4096-94A5-4AD71C03926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098A-098B-4939-9853-645528C17060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6FBD-0819-41BD-B6E8-7F0B5B8B02B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03C6-9E1B-4A6F-B922-FDF0EE274612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DE07-5102-416F-A37F-0CD3635283C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AC34-D1AB-427E-A9A1-172E0E04B1A0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8A5C-8C41-4DC7-9F9A-0C35C4298E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B278-347B-4253-AD53-4DEA1634BA7E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534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537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9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27"/>
          <p:cNvSpPr/>
          <p:nvPr/>
        </p:nvSpPr>
        <p:spPr>
          <a:xfrm>
            <a:off x="3564000" y="299736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28"/>
          <p:cNvSpPr/>
          <p:nvPr/>
        </p:nvSpPr>
        <p:spPr>
          <a:xfrm>
            <a:off x="8305920" y="302580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 rot="6589800">
            <a:off x="802080" y="201528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1" descr=""/>
          <p:cNvPicPr/>
          <p:nvPr/>
        </p:nvPicPr>
        <p:blipFill>
          <a:blip r:embed="rId6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C:\Documents and Settings\Administrator\My Documents\My Pictures\1659_51.wmf"/>
          <p:cNvPicPr/>
          <p:nvPr/>
        </p:nvPicPr>
        <p:blipFill>
          <a:blip r:embed="rId7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4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35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549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551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554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557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560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563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564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565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6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9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570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1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72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573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6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578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581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582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583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5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87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588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9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90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591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4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接连接符 14"/>
          <p:cNvSpPr/>
          <p:nvPr/>
        </p:nvSpPr>
        <p:spPr>
          <a:xfrm>
            <a:off x="923760" y="2421000"/>
            <a:ext cx="165600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16"/>
          <p:cNvSpPr/>
          <p:nvPr/>
        </p:nvSpPr>
        <p:spPr>
          <a:xfrm>
            <a:off x="6550200" y="2421000"/>
            <a:ext cx="165708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17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18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19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2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3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24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26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27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30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5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46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47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48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9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52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53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55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56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9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直接连接符 14"/>
          <p:cNvSpPr/>
          <p:nvPr/>
        </p:nvSpPr>
        <p:spPr>
          <a:xfrm>
            <a:off x="1692360" y="1765440"/>
            <a:ext cx="0" cy="353520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接连接符 14"/>
          <p:cNvSpPr/>
          <p:nvPr/>
        </p:nvSpPr>
        <p:spPr>
          <a:xfrm flipH="1">
            <a:off x="1692000" y="5300640"/>
            <a:ext cx="6264360" cy="2376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接连接符 14"/>
          <p:cNvSpPr/>
          <p:nvPr/>
        </p:nvSpPr>
        <p:spPr>
          <a:xfrm>
            <a:off x="2397240" y="1765440"/>
            <a:ext cx="144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直接连接符 14"/>
          <p:cNvSpPr/>
          <p:nvPr/>
        </p:nvSpPr>
        <p:spPr>
          <a:xfrm>
            <a:off x="3112920" y="1765440"/>
            <a:ext cx="180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14"/>
          <p:cNvSpPr/>
          <p:nvPr/>
        </p:nvSpPr>
        <p:spPr>
          <a:xfrm>
            <a:off x="382896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直接连接符 14"/>
          <p:cNvSpPr/>
          <p:nvPr/>
        </p:nvSpPr>
        <p:spPr>
          <a:xfrm>
            <a:off x="4549680" y="1787400"/>
            <a:ext cx="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14"/>
          <p:cNvSpPr/>
          <p:nvPr/>
        </p:nvSpPr>
        <p:spPr>
          <a:xfrm>
            <a:off x="5292720" y="1827360"/>
            <a:ext cx="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直接连接符 14"/>
          <p:cNvSpPr/>
          <p:nvPr/>
        </p:nvSpPr>
        <p:spPr>
          <a:xfrm>
            <a:off x="60120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14"/>
          <p:cNvSpPr/>
          <p:nvPr/>
        </p:nvSpPr>
        <p:spPr>
          <a:xfrm>
            <a:off x="67374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直接连接符 14"/>
          <p:cNvSpPr/>
          <p:nvPr/>
        </p:nvSpPr>
        <p:spPr>
          <a:xfrm>
            <a:off x="745164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85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86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87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8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91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92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94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95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8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sp>
          <p:nvSpPr>
            <p:cNvPr id="700" name="直接连接符​​ 31"/>
            <p:cNvSpPr/>
            <p:nvPr/>
          </p:nvSpPr>
          <p:spPr>
            <a:xfrm>
              <a:off x="6078240" y="336636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1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702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接连接符​​ 41"/>
              <p:cNvSpPr/>
              <p:nvPr/>
            </p:nvSpPr>
            <p:spPr>
              <a:xfrm flipV="1">
                <a:off x="5893560" y="3418560"/>
                <a:ext cx="909000" cy="78156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接连接符​​ 42"/>
              <p:cNvSpPr/>
              <p:nvPr/>
            </p:nvSpPr>
            <p:spPr>
              <a:xfrm>
                <a:off x="7054920" y="3418920"/>
                <a:ext cx="348120" cy="6426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1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sp>
          <p:nvSpPr>
            <p:cNvPr id="712" name="直接连接符​​ 31"/>
            <p:cNvSpPr/>
            <p:nvPr/>
          </p:nvSpPr>
          <p:spPr>
            <a:xfrm>
              <a:off x="2939760" y="310752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3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714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直接连接符​​ 41"/>
              <p:cNvSpPr/>
              <p:nvPr/>
            </p:nvSpPr>
            <p:spPr>
              <a:xfrm flipV="1">
                <a:off x="2755080" y="3160080"/>
                <a:ext cx="909000" cy="7812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​​ 42"/>
              <p:cNvSpPr/>
              <p:nvPr/>
            </p:nvSpPr>
            <p:spPr>
              <a:xfrm>
                <a:off x="3916440" y="3160080"/>
                <a:ext cx="348120" cy="64188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3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sp>
          <p:nvSpPr>
            <p:cNvPr id="724" name="直接连接符​​ 33"/>
            <p:cNvSpPr/>
            <p:nvPr/>
          </p:nvSpPr>
          <p:spPr>
            <a:xfrm>
              <a:off x="4696560" y="1642320"/>
              <a:ext cx="14004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​​ 11"/>
            <p:cNvSpPr/>
            <p:nvPr/>
          </p:nvSpPr>
          <p:spPr>
            <a:xfrm flipV="1">
              <a:off x="4465080" y="1713240"/>
              <a:ext cx="880200" cy="756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接连接符​​ 13"/>
            <p:cNvSpPr/>
            <p:nvPr/>
          </p:nvSpPr>
          <p:spPr>
            <a:xfrm>
              <a:off x="5590080" y="1713600"/>
              <a:ext cx="336240" cy="621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35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36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37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8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0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41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42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44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745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8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/>
            <a:ahLst/>
            <a:rect l="l" t="t" r="r" b="b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/>
            <a:ahLst/>
            <a:rect l="l" t="t" r="r" b="b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/>
            <a:ahLst/>
            <a:rect l="l" t="t" r="r" b="b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12"/>
          <p:cNvSpPr/>
          <p:nvPr/>
        </p:nvSpPr>
        <p:spPr>
          <a:xfrm rot="3533400">
            <a:off x="5793480" y="41443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58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59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60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1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3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64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65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67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768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71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直接连接符 27"/>
          <p:cNvSpPr/>
          <p:nvPr/>
        </p:nvSpPr>
        <p:spPr>
          <a:xfrm>
            <a:off x="2141640" y="3135240"/>
            <a:ext cx="114768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直接连接符 28"/>
          <p:cNvSpPr/>
          <p:nvPr/>
        </p:nvSpPr>
        <p:spPr>
          <a:xfrm>
            <a:off x="5638680" y="3139920"/>
            <a:ext cx="116064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cp:keywords/>
  <dc:language>en-US</dc:language>
  <cp:lastModifiedBy>User</cp:lastModifiedBy>
  <dcterms:modified xsi:type="dcterms:W3CDTF">2016-07-25T08:45:54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