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2C1-7A4C-46E3-843A-7B54D73B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47E-8E97-440D-9BF5-EAC76123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9C45-76CC-4D6B-B2DE-C6D361C4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9C1-7319-45E4-B28F-8EDD806D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617-6475-4F7A-B728-3C4056CE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23C-C335-4EEE-B301-226841E3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C1D-68FF-40DD-8B84-7518B66E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234-0E4E-4AA8-BB9A-C6F33331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60A-7FF1-4255-9EE7-7BF16300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E00-1059-4D62-ACD4-4FDC4C8E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065-32CC-41F5-A400-1B180242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4D8-305B-446D-82DA-60AD6B7B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5172-982A-404A-915E-2E1504682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9.wmf"/><Relationship Id="rId6" Type="http://schemas.openxmlformats.org/officeDocument/2006/relationships/image" Target="../media/image22.png"/><Relationship Id="rId7" Type="http://schemas.openxmlformats.org/officeDocument/2006/relationships/image" Target="../media/image9.wmf"/><Relationship Id="rId8" Type="http://schemas.openxmlformats.org/officeDocument/2006/relationships/image" Target="../media/image22.png"/><Relationship Id="rId9" Type="http://schemas.openxmlformats.org/officeDocument/2006/relationships/image" Target="../media/image9.wmf"/><Relationship Id="rId10" Type="http://schemas.openxmlformats.org/officeDocument/2006/relationships/image" Target="../media/image22.png"/><Relationship Id="rId11" Type="http://schemas.openxmlformats.org/officeDocument/2006/relationships/image" Target="../media/image9.wmf"/><Relationship Id="rId12" Type="http://schemas.openxmlformats.org/officeDocument/2006/relationships/image" Target="../media/image22.png"/><Relationship Id="rId13" Type="http://schemas.openxmlformats.org/officeDocument/2006/relationships/image" Target="../media/image9.wmf"/><Relationship Id="rId14" Type="http://schemas.openxmlformats.org/officeDocument/2006/relationships/image" Target="../media/image22.png"/><Relationship Id="rId15" Type="http://schemas.openxmlformats.org/officeDocument/2006/relationships/image" Target="../media/image9.wmf"/><Relationship Id="rId16" Type="http://schemas.openxmlformats.org/officeDocument/2006/relationships/image" Target="../media/image22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9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wm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604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084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4160"/>
            <a:ext cx="412920" cy="479520"/>
            <a:chOff x="6814440" y="1064160"/>
            <a:chExt cx="412920" cy="47952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432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2160"/>
              <a:ext cx="368280" cy="443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9360" y="2071800"/>
            <a:ext cx="2312640" cy="1713960"/>
            <a:chOff x="5499360" y="2071800"/>
            <a:chExt cx="2312640" cy="171396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9360" y="2559960"/>
              <a:ext cx="1299960" cy="1225800"/>
              <a:chOff x="5499360" y="2559960"/>
              <a:chExt cx="1299960" cy="122580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35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84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26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56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560" y="2823840"/>
                <a:ext cx="864000" cy="356400"/>
                <a:chOff x="6226560" y="2823840"/>
                <a:chExt cx="864000" cy="35640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3840"/>
                  <a:ext cx="712800" cy="331920"/>
                  <a:chOff x="6377760" y="282384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0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15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560" y="2833920"/>
                  <a:ext cx="711000" cy="346320"/>
                  <a:chOff x="6226560" y="2833920"/>
                  <a:chExt cx="71100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110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202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11560" y="2071800"/>
            <a:ext cx="2312640" cy="1713960"/>
            <a:chOff x="511560" y="2071800"/>
            <a:chExt cx="2312640" cy="171396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11560" y="2559960"/>
              <a:ext cx="1299960" cy="1225800"/>
              <a:chOff x="511560" y="2559960"/>
              <a:chExt cx="1299960" cy="122580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57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306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48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8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760" y="2823840"/>
                <a:ext cx="864000" cy="356400"/>
                <a:chOff x="1238760" y="2823840"/>
                <a:chExt cx="864000" cy="35640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3840"/>
                  <a:ext cx="712800" cy="331920"/>
                  <a:chOff x="1389960" y="282384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2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37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760" y="2833920"/>
                  <a:ext cx="711000" cy="346320"/>
                  <a:chOff x="1238760" y="2833920"/>
                  <a:chExt cx="71100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32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4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4840" y="2071800"/>
            <a:ext cx="2313720" cy="1713960"/>
            <a:chOff x="2994840" y="2071800"/>
            <a:chExt cx="2313720" cy="171396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440"/>
              <a:ext cx="227160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1800"/>
              <a:ext cx="225540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4840" y="2559960"/>
              <a:ext cx="1299960" cy="1225800"/>
              <a:chOff x="2994840" y="2559960"/>
              <a:chExt cx="1299960" cy="122580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904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388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812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108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4880"/>
              <a:ext cx="146376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080"/>
              <a:chOff x="3643200" y="2071800"/>
              <a:chExt cx="1072080" cy="110808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200"/>
                <a:ext cx="864360" cy="355680"/>
                <a:chOff x="3721320" y="282420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200"/>
                  <a:ext cx="712800" cy="331920"/>
                  <a:chOff x="3872880" y="282420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4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560"/>
                  <a:ext cx="711360" cy="346320"/>
                  <a:chOff x="3721320" y="2833560"/>
                  <a:chExt cx="71136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616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88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4120" y="3987720"/>
            <a:ext cx="2309400" cy="1714320"/>
            <a:chOff x="1734120" y="3987720"/>
            <a:chExt cx="2309400" cy="171432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4120" y="4476240"/>
              <a:ext cx="1299960" cy="1225800"/>
              <a:chOff x="1734120" y="4476240"/>
              <a:chExt cx="1299960" cy="122580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832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316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776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36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000"/>
              <a:chOff x="2377080" y="3987720"/>
              <a:chExt cx="1072440" cy="110700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560" y="4738680"/>
                <a:ext cx="866160" cy="356040"/>
                <a:chOff x="2455560" y="4738680"/>
                <a:chExt cx="866160" cy="35604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560" y="4738680"/>
                  <a:ext cx="713160" cy="330840"/>
                  <a:chOff x="2608560" y="4738680"/>
                  <a:chExt cx="713160" cy="33084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96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204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60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560" y="4748040"/>
                  <a:ext cx="711360" cy="346680"/>
                  <a:chOff x="2455560" y="4748040"/>
                  <a:chExt cx="711360" cy="34668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48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4840" y="3987720"/>
            <a:ext cx="2309400" cy="1714320"/>
            <a:chOff x="4254840" y="3987720"/>
            <a:chExt cx="2309400" cy="171432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4840" y="4476240"/>
              <a:ext cx="1299960" cy="1225800"/>
              <a:chOff x="4254840" y="4476240"/>
              <a:chExt cx="1299960" cy="122580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904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88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848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108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000"/>
              <a:chOff x="4897800" y="3987720"/>
              <a:chExt cx="1072440" cy="110700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280" y="4738680"/>
                <a:ext cx="866160" cy="356040"/>
                <a:chOff x="4976280" y="4738680"/>
                <a:chExt cx="866160" cy="35604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280" y="4738680"/>
                  <a:ext cx="713160" cy="330840"/>
                  <a:chOff x="5129280" y="4738680"/>
                  <a:chExt cx="713160" cy="33084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268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76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32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280" y="4748040"/>
                  <a:ext cx="711360" cy="346680"/>
                  <a:chOff x="4976280" y="4748040"/>
                  <a:chExt cx="711360" cy="34668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720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49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520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295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61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298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576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66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208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560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00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164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64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66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8160" cy="42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85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816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511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2988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816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50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776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41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24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90"/>
          <p:cNvSpPr/>
          <p:nvPr/>
        </p:nvSpPr>
        <p:spPr>
          <a:xfrm>
            <a:off x="5213520" y="2575080"/>
            <a:ext cx="776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4"/>
          <p:cNvGrpSpPr/>
          <p:nvPr/>
        </p:nvGrpSpPr>
        <p:grpSpPr>
          <a:xfrm>
            <a:off x="-360" y="1988640"/>
            <a:ext cx="9144360" cy="1254240"/>
            <a:chOff x="-360" y="1988640"/>
            <a:chExt cx="9144360" cy="125424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2960"/>
              <a:ext cx="1035360" cy="360"/>
              <a:chOff x="-360" y="26229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29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29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2960"/>
              <a:ext cx="810000" cy="360"/>
              <a:chOff x="6094080" y="26229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29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29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4400" y="1713240"/>
              <a:ext cx="6548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5640" y="1709640"/>
              <a:ext cx="66420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2960"/>
              <a:ext cx="787680" cy="360"/>
              <a:chOff x="4157280" y="26229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29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29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20056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2960"/>
              <a:ext cx="1093680" cy="360"/>
              <a:chOff x="8050320" y="26229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29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29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2960"/>
              <a:ext cx="830160" cy="360"/>
              <a:chOff x="2185920" y="26229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29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29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906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5120"/>
            <a:chOff x="1096920" y="2101680"/>
            <a:chExt cx="1041480" cy="109512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000" cy="366120"/>
              <a:chOff x="1150200" y="2830680"/>
              <a:chExt cx="909000" cy="36612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320" cy="346320"/>
                <a:chOff x="1307880" y="2830680"/>
                <a:chExt cx="75132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3600" y="27309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8240" y="2771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360"/>
                <a:ext cx="750240" cy="361440"/>
                <a:chOff x="1150200" y="2835360"/>
                <a:chExt cx="75024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772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32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5120"/>
            <a:chOff x="3060720" y="2093760"/>
            <a:chExt cx="1041480" cy="109512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000" cy="366120"/>
              <a:chOff x="3114000" y="2822760"/>
              <a:chExt cx="909000" cy="36612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320" cy="346320"/>
                <a:chOff x="3271680" y="2822760"/>
                <a:chExt cx="75132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7400" y="2723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2040" y="27633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440"/>
                <a:ext cx="750240" cy="361440"/>
                <a:chOff x="3114000" y="2827440"/>
                <a:chExt cx="75024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52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5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600"/>
            <a:chOff x="4998960" y="2104920"/>
            <a:chExt cx="1041480" cy="107460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6120"/>
              <a:chOff x="5052600" y="2813400"/>
              <a:chExt cx="909000" cy="36612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8080"/>
                <a:ext cx="750240" cy="361440"/>
                <a:chOff x="5052600" y="281808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600"/>
            <a:chOff x="6961320" y="2097000"/>
            <a:chExt cx="1041120" cy="107460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000" cy="366120"/>
              <a:chOff x="7014600" y="2805480"/>
              <a:chExt cx="909000" cy="36612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320" cy="346320"/>
                <a:chOff x="7172280" y="2805480"/>
                <a:chExt cx="75132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000" y="2705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640" y="27460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10160"/>
                <a:ext cx="750240" cy="361440"/>
                <a:chOff x="7014600" y="2810160"/>
                <a:chExt cx="75024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12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8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420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9600"/>
                <a:ext cx="907920" cy="31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第一PPT模板网-WWW.1PPT.COM</dc:creator>
  <dc:description>第一PPT模板网-WWW.1PPT.COM</dc:description>
  <dc:language>en-US</dc:language>
  <cp:lastModifiedBy>Administrator</cp:lastModifiedBy>
  <dcterms:modified xsi:type="dcterms:W3CDTF">2016-04-21T13:35:37Z</dcterms:modified>
  <cp:revision>24</cp:revision>
  <dc:subject>第一PPT模板网-WWW.1PPT.COM</dc:subject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