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B63C-98A9-4D91-BC8D-05561B8A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BA1-B026-41F6-B876-8410C131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5085-A3B9-46D9-8B7B-DE80A03E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F2E8-1D24-4092-BDB6-EE22FB8D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FE92-E1A4-459C-A445-6AC4DBB0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D8E5-26C9-4460-873A-73BDB158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6CC3-D6AE-47D2-94AD-75926C7F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87FE-A0D2-4339-B0A4-1FC5F2FA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1A0A-7C8E-4551-9C25-384AF10A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5B8F-FAED-45BB-872A-57DA6BAE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65C9-D1B8-4603-9F0F-6D282AA4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A34D-B958-4176-AFD0-1F46C2DF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E60E-445A-49CC-AA99-66C57A4693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4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image" Target="../media/image42.png"/><Relationship Id="rId12" Type="http://schemas.openxmlformats.org/officeDocument/2006/relationships/image" Target="../media/image42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3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7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0.png"/><Relationship Id="rId6" Type="http://schemas.openxmlformats.org/officeDocument/2006/relationships/image" Target="../media/image17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6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6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47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0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6.png"/><Relationship Id="rId12" Type="http://schemas.openxmlformats.org/officeDocument/2006/relationships/image" Target="../media/image38.png"/><Relationship Id="rId13" Type="http://schemas.openxmlformats.org/officeDocument/2006/relationships/image" Target="../media/image38.png"/><Relationship Id="rId14" Type="http://schemas.openxmlformats.org/officeDocument/2006/relationships/image" Target="../media/image38.png"/><Relationship Id="rId15" Type="http://schemas.openxmlformats.org/officeDocument/2006/relationships/image" Target="../media/image38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76320" y="0"/>
            <a:ext cx="9144000" cy="6858000"/>
            <a:chOff x="-76320" y="0"/>
            <a:chExt cx="9144000" cy="6858000"/>
          </a:xfrm>
        </p:grpSpPr>
        <p:pic>
          <p:nvPicPr>
            <p:cNvPr id="42" name="图片 50" descr="1.png"/>
            <p:cNvPicPr/>
            <p:nvPr/>
          </p:nvPicPr>
          <p:blipFill>
            <a:blip r:embed="rId1"/>
            <a:stretch/>
          </p:blipFill>
          <p:spPr>
            <a:xfrm>
              <a:off x="-7632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51" descr="2.png"/>
            <p:cNvPicPr/>
            <p:nvPr/>
          </p:nvPicPr>
          <p:blipFill>
            <a:blip r:embed="rId2"/>
            <a:stretch/>
          </p:blipFill>
          <p:spPr>
            <a:xfrm>
              <a:off x="-7632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图片 23" descr="3.png"/>
          <p:cNvPicPr/>
          <p:nvPr/>
        </p:nvPicPr>
        <p:blipFill>
          <a:blip r:embed="rId3"/>
          <a:srcRect l="0" t="79263" r="0" b="0"/>
          <a:stretch/>
        </p:blipFill>
        <p:spPr>
          <a:xfrm>
            <a:off x="0" y="548640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3"/>
          <p:cNvPicPr/>
          <p:nvPr/>
        </p:nvPicPr>
        <p:blipFill>
          <a:blip r:embed="rId4"/>
          <a:srcRect l="-1511" t="30310" r="0" b="43175"/>
          <a:stretch/>
        </p:blipFill>
        <p:spPr>
          <a:xfrm>
            <a:off x="0" y="5791320"/>
            <a:ext cx="5105520" cy="1066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图片2"/>
          <p:cNvPicPr/>
          <p:nvPr/>
        </p:nvPicPr>
        <p:blipFill>
          <a:blip r:embed="rId5"/>
          <a:stretch/>
        </p:blipFill>
        <p:spPr>
          <a:xfrm>
            <a:off x="685800" y="2057400"/>
            <a:ext cx="1409760" cy="1924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4" descr="本本 (83)"/>
          <p:cNvPicPr/>
          <p:nvPr/>
        </p:nvPicPr>
        <p:blipFill>
          <a:blip r:embed="rId6"/>
          <a:stretch/>
        </p:blipFill>
        <p:spPr>
          <a:xfrm>
            <a:off x="7391520" y="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上"/>
          <p:cNvPicPr/>
          <p:nvPr/>
        </p:nvPicPr>
        <p:blipFill>
          <a:blip r:embed="rId7"/>
          <a:stretch/>
        </p:blipFill>
        <p:spPr>
          <a:xfrm>
            <a:off x="0" y="380880"/>
            <a:ext cx="919944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7" descr="中国风 (1)"/>
          <p:cNvPicPr/>
          <p:nvPr/>
        </p:nvPicPr>
        <p:blipFill>
          <a:blip r:embed="rId8"/>
          <a:stretch/>
        </p:blipFill>
        <p:spPr>
          <a:xfrm>
            <a:off x="-531720" y="3995640"/>
            <a:ext cx="2894040" cy="2862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9" descr="未标题-2"/>
          <p:cNvPicPr/>
          <p:nvPr/>
        </p:nvPicPr>
        <p:blipFill>
          <a:blip r:embed="rId9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3"/>
          <p:cNvPicPr/>
          <p:nvPr/>
        </p:nvPicPr>
        <p:blipFill>
          <a:blip r:embed="rId10"/>
          <a:srcRect l="-1511" t="30310" r="0" b="43175"/>
          <a:stretch/>
        </p:blipFill>
        <p:spPr>
          <a:xfrm>
            <a:off x="4038480" y="5791320"/>
            <a:ext cx="510552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2"/>
          <p:cNvPicPr/>
          <p:nvPr/>
        </p:nvPicPr>
        <p:blipFill>
          <a:blip r:embed="rId11"/>
          <a:stretch/>
        </p:blipFill>
        <p:spPr>
          <a:xfrm>
            <a:off x="7467480" y="54100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1" descr="1"/>
          <p:cNvPicPr/>
          <p:nvPr/>
        </p:nvPicPr>
        <p:blipFill>
          <a:blip r:embed="rId12"/>
          <a:stretch/>
        </p:blipFill>
        <p:spPr>
          <a:xfrm>
            <a:off x="7086600" y="5881680"/>
            <a:ext cx="1219320" cy="976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红2"/>
          <p:cNvPicPr/>
          <p:nvPr/>
        </p:nvPicPr>
        <p:blipFill>
          <a:blip r:embed="rId13"/>
          <a:stretch/>
        </p:blipFill>
        <p:spPr>
          <a:xfrm>
            <a:off x="-912960" y="4246560"/>
            <a:ext cx="4532400" cy="2611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红2"/>
          <p:cNvPicPr/>
          <p:nvPr/>
        </p:nvPicPr>
        <p:blipFill>
          <a:blip r:embed="rId14"/>
          <a:stretch/>
        </p:blipFill>
        <p:spPr>
          <a:xfrm>
            <a:off x="2438280" y="4114800"/>
            <a:ext cx="4534200" cy="2611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红2"/>
          <p:cNvPicPr/>
          <p:nvPr/>
        </p:nvPicPr>
        <p:blipFill>
          <a:blip r:embed="rId15"/>
          <a:stretch/>
        </p:blipFill>
        <p:spPr>
          <a:xfrm>
            <a:off x="4610160" y="4246560"/>
            <a:ext cx="4533840" cy="2611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2819520"/>
            <a:ext cx="789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612 0.102276 C -0.031462 0.082366 0.005868 0.062456 0.059858 0.055746 C 0.113858 0.049036 0.189898 0.063616 0.255168 0.062226 C 0.320278 0.060836 0.385208 0.056666 0.450488 0.047416 C 0.515588 0.038156 0.586949 0.004356 0.647188 0.007136 C 0.707428 0.009916 0.784858 0.054816 0.812289 0.064306 E">
                                      <p:cBhvr>
                                        <p:cTn id="41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9" descr="栏杆_副本"/>
          <p:cNvPicPr/>
          <p:nvPr/>
        </p:nvPicPr>
        <p:blipFill>
          <a:blip r:embed="rId3"/>
          <a:stretch/>
        </p:blipFill>
        <p:spPr>
          <a:xfrm>
            <a:off x="-227160" y="6173640"/>
            <a:ext cx="9371160" cy="684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0" descr="1_210011_3_副本"/>
          <p:cNvPicPr/>
          <p:nvPr/>
        </p:nvPicPr>
        <p:blipFill>
          <a:blip r:embed="rId4"/>
          <a:stretch/>
        </p:blipFill>
        <p:spPr>
          <a:xfrm>
            <a:off x="0" y="5078520"/>
            <a:ext cx="2514600" cy="1779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1" descr="荷花 9_副本"/>
          <p:cNvPicPr/>
          <p:nvPr/>
        </p:nvPicPr>
        <p:blipFill>
          <a:blip r:embed="rId5"/>
          <a:stretch/>
        </p:blipFill>
        <p:spPr>
          <a:xfrm>
            <a:off x="3962520" y="4371840"/>
            <a:ext cx="2685960" cy="2486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57200" y="15192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上"/>
          <p:cNvPicPr/>
          <p:nvPr/>
        </p:nvPicPr>
        <p:blipFill>
          <a:blip r:embed="rId4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8"/>
          <p:cNvSpPr/>
          <p:nvPr/>
        </p:nvSpPr>
        <p:spPr>
          <a:xfrm>
            <a:off x="1185480" y="-258840"/>
            <a:ext cx="154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荷飏客栈的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OT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89"/>
          <p:cNvSpPr/>
          <p:nvPr/>
        </p:nvSpPr>
        <p:spPr>
          <a:xfrm>
            <a:off x="2879640" y="-76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5"/>
          <p:cNvSpPr/>
          <p:nvPr/>
        </p:nvSpPr>
        <p:spPr>
          <a:xfrm>
            <a:off x="4041720" y="646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6"/>
          <p:cNvSpPr/>
          <p:nvPr/>
        </p:nvSpPr>
        <p:spPr>
          <a:xfrm>
            <a:off x="4041720" y="8269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8"/>
          <p:cNvSpPr/>
          <p:nvPr/>
        </p:nvSpPr>
        <p:spPr>
          <a:xfrm>
            <a:off x="4041720" y="465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9"/>
          <p:cNvSpPr/>
          <p:nvPr/>
        </p:nvSpPr>
        <p:spPr>
          <a:xfrm>
            <a:off x="4041720" y="646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未知"/>
          <p:cNvSpPr/>
          <p:nvPr/>
        </p:nvSpPr>
        <p:spPr>
          <a:xfrm>
            <a:off x="1079640" y="1614600"/>
            <a:ext cx="7462800" cy="890640"/>
          </a:xfrm>
          <a:custGeom>
            <a:avLst/>
            <a:gdLst/>
            <a:ahLst/>
            <a:rect l="l" t="t" r="r" b="b"/>
            <a:pathLst>
              <a:path w="3701" h="772">
                <a:moveTo>
                  <a:pt x="3315" y="0"/>
                </a:moveTo>
                <a:lnTo>
                  <a:pt x="3315" y="0"/>
                </a:lnTo>
                <a:lnTo>
                  <a:pt x="3298" y="0"/>
                </a:lnTo>
                <a:lnTo>
                  <a:pt x="3281" y="1"/>
                </a:lnTo>
                <a:lnTo>
                  <a:pt x="3264" y="4"/>
                </a:lnTo>
                <a:lnTo>
                  <a:pt x="3247" y="6"/>
                </a:lnTo>
                <a:lnTo>
                  <a:pt x="3230" y="9"/>
                </a:lnTo>
                <a:lnTo>
                  <a:pt x="3214" y="13"/>
                </a:lnTo>
                <a:lnTo>
                  <a:pt x="3199" y="17"/>
                </a:lnTo>
                <a:lnTo>
                  <a:pt x="3183" y="23"/>
                </a:lnTo>
                <a:lnTo>
                  <a:pt x="3080" y="23"/>
                </a:lnTo>
                <a:lnTo>
                  <a:pt x="3080" y="23"/>
                </a:lnTo>
                <a:lnTo>
                  <a:pt x="3064" y="17"/>
                </a:lnTo>
                <a:lnTo>
                  <a:pt x="3048" y="13"/>
                </a:lnTo>
                <a:lnTo>
                  <a:pt x="3032" y="9"/>
                </a:lnTo>
                <a:lnTo>
                  <a:pt x="3016" y="6"/>
                </a:lnTo>
                <a:lnTo>
                  <a:pt x="2999" y="4"/>
                </a:lnTo>
                <a:lnTo>
                  <a:pt x="2983" y="1"/>
                </a:lnTo>
                <a:lnTo>
                  <a:pt x="2966" y="0"/>
                </a:lnTo>
                <a:lnTo>
                  <a:pt x="2949" y="0"/>
                </a:lnTo>
                <a:lnTo>
                  <a:pt x="2949" y="0"/>
                </a:lnTo>
                <a:lnTo>
                  <a:pt x="2931" y="0"/>
                </a:lnTo>
                <a:lnTo>
                  <a:pt x="2914" y="1"/>
                </a:lnTo>
                <a:lnTo>
                  <a:pt x="2897" y="4"/>
                </a:lnTo>
                <a:lnTo>
                  <a:pt x="2881" y="6"/>
                </a:lnTo>
                <a:lnTo>
                  <a:pt x="2865" y="9"/>
                </a:lnTo>
                <a:lnTo>
                  <a:pt x="2849" y="13"/>
                </a:lnTo>
                <a:lnTo>
                  <a:pt x="2833" y="17"/>
                </a:lnTo>
                <a:lnTo>
                  <a:pt x="2817" y="23"/>
                </a:lnTo>
                <a:lnTo>
                  <a:pt x="2714" y="23"/>
                </a:lnTo>
                <a:lnTo>
                  <a:pt x="2714" y="23"/>
                </a:lnTo>
                <a:lnTo>
                  <a:pt x="2698" y="17"/>
                </a:lnTo>
                <a:lnTo>
                  <a:pt x="2683" y="13"/>
                </a:lnTo>
                <a:lnTo>
                  <a:pt x="2666" y="9"/>
                </a:lnTo>
                <a:lnTo>
                  <a:pt x="2650" y="6"/>
                </a:lnTo>
                <a:lnTo>
                  <a:pt x="2634" y="4"/>
                </a:lnTo>
                <a:lnTo>
                  <a:pt x="2617" y="1"/>
                </a:lnTo>
                <a:lnTo>
                  <a:pt x="2599" y="0"/>
                </a:lnTo>
                <a:lnTo>
                  <a:pt x="2582" y="0"/>
                </a:lnTo>
                <a:lnTo>
                  <a:pt x="2582" y="0"/>
                </a:lnTo>
                <a:lnTo>
                  <a:pt x="2565" y="0"/>
                </a:lnTo>
                <a:lnTo>
                  <a:pt x="2548" y="1"/>
                </a:lnTo>
                <a:lnTo>
                  <a:pt x="2532" y="4"/>
                </a:lnTo>
                <a:lnTo>
                  <a:pt x="2515" y="6"/>
                </a:lnTo>
                <a:lnTo>
                  <a:pt x="2499" y="9"/>
                </a:lnTo>
                <a:lnTo>
                  <a:pt x="2483" y="13"/>
                </a:lnTo>
                <a:lnTo>
                  <a:pt x="2467" y="17"/>
                </a:lnTo>
                <a:lnTo>
                  <a:pt x="2452" y="23"/>
                </a:lnTo>
                <a:lnTo>
                  <a:pt x="2347" y="23"/>
                </a:lnTo>
                <a:lnTo>
                  <a:pt x="2347" y="23"/>
                </a:lnTo>
                <a:lnTo>
                  <a:pt x="2333" y="17"/>
                </a:lnTo>
                <a:lnTo>
                  <a:pt x="2317" y="13"/>
                </a:lnTo>
                <a:lnTo>
                  <a:pt x="2301" y="9"/>
                </a:lnTo>
                <a:lnTo>
                  <a:pt x="2284" y="6"/>
                </a:lnTo>
                <a:lnTo>
                  <a:pt x="2267" y="4"/>
                </a:lnTo>
                <a:lnTo>
                  <a:pt x="2250" y="1"/>
                </a:lnTo>
                <a:lnTo>
                  <a:pt x="2234" y="0"/>
                </a:lnTo>
                <a:lnTo>
                  <a:pt x="2217" y="0"/>
                </a:lnTo>
                <a:lnTo>
                  <a:pt x="2217" y="0"/>
                </a:lnTo>
                <a:lnTo>
                  <a:pt x="2200" y="0"/>
                </a:lnTo>
                <a:lnTo>
                  <a:pt x="2183" y="1"/>
                </a:lnTo>
                <a:lnTo>
                  <a:pt x="2165" y="4"/>
                </a:lnTo>
                <a:lnTo>
                  <a:pt x="2149" y="6"/>
                </a:lnTo>
                <a:lnTo>
                  <a:pt x="2132" y="9"/>
                </a:lnTo>
                <a:lnTo>
                  <a:pt x="2116" y="13"/>
                </a:lnTo>
                <a:lnTo>
                  <a:pt x="2101" y="17"/>
                </a:lnTo>
                <a:lnTo>
                  <a:pt x="2085" y="23"/>
                </a:lnTo>
                <a:lnTo>
                  <a:pt x="1982" y="23"/>
                </a:lnTo>
                <a:lnTo>
                  <a:pt x="1982" y="23"/>
                </a:lnTo>
                <a:lnTo>
                  <a:pt x="1966" y="17"/>
                </a:lnTo>
                <a:lnTo>
                  <a:pt x="1950" y="13"/>
                </a:lnTo>
                <a:lnTo>
                  <a:pt x="1934" y="9"/>
                </a:lnTo>
                <a:lnTo>
                  <a:pt x="1918" y="6"/>
                </a:lnTo>
                <a:lnTo>
                  <a:pt x="1901" y="4"/>
                </a:lnTo>
                <a:lnTo>
                  <a:pt x="1885" y="1"/>
                </a:lnTo>
                <a:lnTo>
                  <a:pt x="1868" y="0"/>
                </a:lnTo>
                <a:lnTo>
                  <a:pt x="1851" y="0"/>
                </a:lnTo>
                <a:lnTo>
                  <a:pt x="1851" y="0"/>
                </a:lnTo>
                <a:lnTo>
                  <a:pt x="1833" y="0"/>
                </a:lnTo>
                <a:lnTo>
                  <a:pt x="1816" y="1"/>
                </a:lnTo>
                <a:lnTo>
                  <a:pt x="1799" y="4"/>
                </a:lnTo>
                <a:lnTo>
                  <a:pt x="1783" y="6"/>
                </a:lnTo>
                <a:lnTo>
                  <a:pt x="1767" y="9"/>
                </a:lnTo>
                <a:lnTo>
                  <a:pt x="1751" y="13"/>
                </a:lnTo>
                <a:lnTo>
                  <a:pt x="1735" y="17"/>
                </a:lnTo>
                <a:lnTo>
                  <a:pt x="1719" y="23"/>
                </a:lnTo>
                <a:lnTo>
                  <a:pt x="1616" y="23"/>
                </a:lnTo>
                <a:lnTo>
                  <a:pt x="1616" y="23"/>
                </a:lnTo>
                <a:lnTo>
                  <a:pt x="1600" y="17"/>
                </a:lnTo>
                <a:lnTo>
                  <a:pt x="1584" y="13"/>
                </a:lnTo>
                <a:lnTo>
                  <a:pt x="1568" y="9"/>
                </a:lnTo>
                <a:lnTo>
                  <a:pt x="1552" y="6"/>
                </a:lnTo>
                <a:lnTo>
                  <a:pt x="1536" y="4"/>
                </a:lnTo>
                <a:lnTo>
                  <a:pt x="1518" y="1"/>
                </a:lnTo>
                <a:lnTo>
                  <a:pt x="1501" y="0"/>
                </a:lnTo>
                <a:lnTo>
                  <a:pt x="1484" y="0"/>
                </a:lnTo>
                <a:lnTo>
                  <a:pt x="1484" y="0"/>
                </a:lnTo>
                <a:lnTo>
                  <a:pt x="1467" y="0"/>
                </a:lnTo>
                <a:lnTo>
                  <a:pt x="1450" y="1"/>
                </a:lnTo>
                <a:lnTo>
                  <a:pt x="1434" y="4"/>
                </a:lnTo>
                <a:lnTo>
                  <a:pt x="1417" y="6"/>
                </a:lnTo>
                <a:lnTo>
                  <a:pt x="1400" y="9"/>
                </a:lnTo>
                <a:lnTo>
                  <a:pt x="1384" y="13"/>
                </a:lnTo>
                <a:lnTo>
                  <a:pt x="1368" y="17"/>
                </a:lnTo>
                <a:lnTo>
                  <a:pt x="1354" y="23"/>
                </a:lnTo>
                <a:lnTo>
                  <a:pt x="1249" y="23"/>
                </a:lnTo>
                <a:lnTo>
                  <a:pt x="1249" y="23"/>
                </a:lnTo>
                <a:lnTo>
                  <a:pt x="1234" y="17"/>
                </a:lnTo>
                <a:lnTo>
                  <a:pt x="1218" y="13"/>
                </a:lnTo>
                <a:lnTo>
                  <a:pt x="1202" y="9"/>
                </a:lnTo>
                <a:lnTo>
                  <a:pt x="1186" y="6"/>
                </a:lnTo>
                <a:lnTo>
                  <a:pt x="1169" y="4"/>
                </a:lnTo>
                <a:lnTo>
                  <a:pt x="1152" y="1"/>
                </a:lnTo>
                <a:lnTo>
                  <a:pt x="1136" y="0"/>
                </a:lnTo>
                <a:lnTo>
                  <a:pt x="1119" y="0"/>
                </a:lnTo>
                <a:lnTo>
                  <a:pt x="1119" y="0"/>
                </a:lnTo>
                <a:lnTo>
                  <a:pt x="1102" y="0"/>
                </a:lnTo>
                <a:lnTo>
                  <a:pt x="1084" y="1"/>
                </a:lnTo>
                <a:lnTo>
                  <a:pt x="1067" y="4"/>
                </a:lnTo>
                <a:lnTo>
                  <a:pt x="1051" y="6"/>
                </a:lnTo>
                <a:lnTo>
                  <a:pt x="1034" y="9"/>
                </a:lnTo>
                <a:lnTo>
                  <a:pt x="1018" y="13"/>
                </a:lnTo>
                <a:lnTo>
                  <a:pt x="1003" y="17"/>
                </a:lnTo>
                <a:lnTo>
                  <a:pt x="987" y="23"/>
                </a:lnTo>
                <a:lnTo>
                  <a:pt x="883" y="23"/>
                </a:lnTo>
                <a:lnTo>
                  <a:pt x="883" y="23"/>
                </a:lnTo>
                <a:lnTo>
                  <a:pt x="868" y="17"/>
                </a:lnTo>
                <a:lnTo>
                  <a:pt x="852" y="13"/>
                </a:lnTo>
                <a:lnTo>
                  <a:pt x="836" y="9"/>
                </a:lnTo>
                <a:lnTo>
                  <a:pt x="820" y="6"/>
                </a:lnTo>
                <a:lnTo>
                  <a:pt x="803" y="4"/>
                </a:lnTo>
                <a:lnTo>
                  <a:pt x="787" y="1"/>
                </a:lnTo>
                <a:lnTo>
                  <a:pt x="770" y="0"/>
                </a:lnTo>
                <a:lnTo>
                  <a:pt x="752" y="0"/>
                </a:lnTo>
                <a:lnTo>
                  <a:pt x="752" y="0"/>
                </a:lnTo>
                <a:lnTo>
                  <a:pt x="735" y="0"/>
                </a:lnTo>
                <a:lnTo>
                  <a:pt x="718" y="1"/>
                </a:lnTo>
                <a:lnTo>
                  <a:pt x="701" y="4"/>
                </a:lnTo>
                <a:lnTo>
                  <a:pt x="685" y="6"/>
                </a:lnTo>
                <a:lnTo>
                  <a:pt x="669" y="9"/>
                </a:lnTo>
                <a:lnTo>
                  <a:pt x="653" y="13"/>
                </a:lnTo>
                <a:lnTo>
                  <a:pt x="637" y="17"/>
                </a:lnTo>
                <a:lnTo>
                  <a:pt x="621" y="23"/>
                </a:lnTo>
                <a:lnTo>
                  <a:pt x="518" y="23"/>
                </a:lnTo>
                <a:lnTo>
                  <a:pt x="518" y="23"/>
                </a:lnTo>
                <a:lnTo>
                  <a:pt x="502" y="17"/>
                </a:lnTo>
                <a:lnTo>
                  <a:pt x="486" y="13"/>
                </a:lnTo>
                <a:lnTo>
                  <a:pt x="470" y="9"/>
                </a:lnTo>
                <a:lnTo>
                  <a:pt x="454" y="6"/>
                </a:lnTo>
                <a:lnTo>
                  <a:pt x="437" y="4"/>
                </a:lnTo>
                <a:lnTo>
                  <a:pt x="420" y="1"/>
                </a:lnTo>
                <a:lnTo>
                  <a:pt x="403" y="0"/>
                </a:lnTo>
                <a:lnTo>
                  <a:pt x="386" y="0"/>
                </a:lnTo>
                <a:lnTo>
                  <a:pt x="386" y="0"/>
                </a:lnTo>
                <a:lnTo>
                  <a:pt x="366" y="0"/>
                </a:lnTo>
                <a:lnTo>
                  <a:pt x="347" y="2"/>
                </a:lnTo>
                <a:lnTo>
                  <a:pt x="328" y="5"/>
                </a:lnTo>
                <a:lnTo>
                  <a:pt x="308" y="8"/>
                </a:lnTo>
                <a:lnTo>
                  <a:pt x="290" y="12"/>
                </a:lnTo>
                <a:lnTo>
                  <a:pt x="271" y="17"/>
                </a:lnTo>
                <a:lnTo>
                  <a:pt x="253" y="23"/>
                </a:lnTo>
                <a:lnTo>
                  <a:pt x="236" y="30"/>
                </a:lnTo>
                <a:lnTo>
                  <a:pt x="219" y="38"/>
                </a:lnTo>
                <a:lnTo>
                  <a:pt x="202" y="47"/>
                </a:lnTo>
                <a:lnTo>
                  <a:pt x="186" y="56"/>
                </a:lnTo>
                <a:lnTo>
                  <a:pt x="171" y="65"/>
                </a:lnTo>
                <a:lnTo>
                  <a:pt x="155" y="77"/>
                </a:lnTo>
                <a:lnTo>
                  <a:pt x="141" y="88"/>
                </a:lnTo>
                <a:lnTo>
                  <a:pt x="126" y="100"/>
                </a:lnTo>
                <a:lnTo>
                  <a:pt x="113" y="113"/>
                </a:lnTo>
                <a:lnTo>
                  <a:pt x="100" y="126"/>
                </a:lnTo>
                <a:lnTo>
                  <a:pt x="88" y="141"/>
                </a:lnTo>
                <a:lnTo>
                  <a:pt x="77" y="155"/>
                </a:lnTo>
                <a:lnTo>
                  <a:pt x="65" y="171"/>
                </a:lnTo>
                <a:lnTo>
                  <a:pt x="56" y="186"/>
                </a:lnTo>
                <a:lnTo>
                  <a:pt x="47" y="202"/>
                </a:lnTo>
                <a:lnTo>
                  <a:pt x="38" y="219"/>
                </a:lnTo>
                <a:lnTo>
                  <a:pt x="30" y="236"/>
                </a:lnTo>
                <a:lnTo>
                  <a:pt x="23" y="253"/>
                </a:lnTo>
                <a:lnTo>
                  <a:pt x="17" y="271"/>
                </a:lnTo>
                <a:lnTo>
                  <a:pt x="12" y="290"/>
                </a:lnTo>
                <a:lnTo>
                  <a:pt x="8" y="308"/>
                </a:lnTo>
                <a:lnTo>
                  <a:pt x="5" y="328"/>
                </a:lnTo>
                <a:lnTo>
                  <a:pt x="2" y="347"/>
                </a:lnTo>
                <a:lnTo>
                  <a:pt x="0" y="367"/>
                </a:lnTo>
                <a:lnTo>
                  <a:pt x="0" y="386"/>
                </a:lnTo>
                <a:lnTo>
                  <a:pt x="0" y="386"/>
                </a:lnTo>
                <a:lnTo>
                  <a:pt x="0" y="407"/>
                </a:lnTo>
                <a:lnTo>
                  <a:pt x="2" y="426"/>
                </a:lnTo>
                <a:lnTo>
                  <a:pt x="5" y="446"/>
                </a:lnTo>
                <a:lnTo>
                  <a:pt x="8" y="464"/>
                </a:lnTo>
                <a:lnTo>
                  <a:pt x="12" y="482"/>
                </a:lnTo>
                <a:lnTo>
                  <a:pt x="17" y="501"/>
                </a:lnTo>
                <a:lnTo>
                  <a:pt x="23" y="519"/>
                </a:lnTo>
                <a:lnTo>
                  <a:pt x="30" y="536"/>
                </a:lnTo>
                <a:lnTo>
                  <a:pt x="38" y="553"/>
                </a:lnTo>
                <a:lnTo>
                  <a:pt x="47" y="570"/>
                </a:lnTo>
                <a:lnTo>
                  <a:pt x="56" y="586"/>
                </a:lnTo>
                <a:lnTo>
                  <a:pt x="65" y="602"/>
                </a:lnTo>
                <a:lnTo>
                  <a:pt x="77" y="617"/>
                </a:lnTo>
                <a:lnTo>
                  <a:pt x="88" y="632"/>
                </a:lnTo>
                <a:lnTo>
                  <a:pt x="100" y="646"/>
                </a:lnTo>
                <a:lnTo>
                  <a:pt x="113" y="660"/>
                </a:lnTo>
                <a:lnTo>
                  <a:pt x="126" y="672"/>
                </a:lnTo>
                <a:lnTo>
                  <a:pt x="141" y="684"/>
                </a:lnTo>
                <a:lnTo>
                  <a:pt x="155" y="695"/>
                </a:lnTo>
                <a:lnTo>
                  <a:pt x="171" y="707"/>
                </a:lnTo>
                <a:lnTo>
                  <a:pt x="186" y="717"/>
                </a:lnTo>
                <a:lnTo>
                  <a:pt x="202" y="726"/>
                </a:lnTo>
                <a:lnTo>
                  <a:pt x="219" y="734"/>
                </a:lnTo>
                <a:lnTo>
                  <a:pt x="236" y="742"/>
                </a:lnTo>
                <a:lnTo>
                  <a:pt x="253" y="749"/>
                </a:lnTo>
                <a:lnTo>
                  <a:pt x="271" y="755"/>
                </a:lnTo>
                <a:lnTo>
                  <a:pt x="290" y="760"/>
                </a:lnTo>
                <a:lnTo>
                  <a:pt x="308" y="765"/>
                </a:lnTo>
                <a:lnTo>
                  <a:pt x="328" y="768"/>
                </a:lnTo>
                <a:lnTo>
                  <a:pt x="347" y="771"/>
                </a:lnTo>
                <a:lnTo>
                  <a:pt x="366" y="772"/>
                </a:lnTo>
                <a:lnTo>
                  <a:pt x="386" y="772"/>
                </a:lnTo>
                <a:lnTo>
                  <a:pt x="386" y="772"/>
                </a:lnTo>
                <a:lnTo>
                  <a:pt x="416" y="771"/>
                </a:lnTo>
                <a:lnTo>
                  <a:pt x="444" y="768"/>
                </a:lnTo>
                <a:lnTo>
                  <a:pt x="473" y="763"/>
                </a:lnTo>
                <a:lnTo>
                  <a:pt x="500" y="755"/>
                </a:lnTo>
                <a:lnTo>
                  <a:pt x="638" y="755"/>
                </a:lnTo>
                <a:lnTo>
                  <a:pt x="638" y="755"/>
                </a:lnTo>
                <a:lnTo>
                  <a:pt x="665" y="763"/>
                </a:lnTo>
                <a:lnTo>
                  <a:pt x="694" y="768"/>
                </a:lnTo>
                <a:lnTo>
                  <a:pt x="723" y="771"/>
                </a:lnTo>
                <a:lnTo>
                  <a:pt x="752" y="772"/>
                </a:lnTo>
                <a:lnTo>
                  <a:pt x="752" y="772"/>
                </a:lnTo>
                <a:lnTo>
                  <a:pt x="782" y="771"/>
                </a:lnTo>
                <a:lnTo>
                  <a:pt x="811" y="768"/>
                </a:lnTo>
                <a:lnTo>
                  <a:pt x="839" y="763"/>
                </a:lnTo>
                <a:lnTo>
                  <a:pt x="867" y="755"/>
                </a:lnTo>
                <a:lnTo>
                  <a:pt x="1003" y="755"/>
                </a:lnTo>
                <a:lnTo>
                  <a:pt x="1003" y="755"/>
                </a:lnTo>
                <a:lnTo>
                  <a:pt x="1032" y="763"/>
                </a:lnTo>
                <a:lnTo>
                  <a:pt x="1059" y="768"/>
                </a:lnTo>
                <a:lnTo>
                  <a:pt x="1089" y="771"/>
                </a:lnTo>
                <a:lnTo>
                  <a:pt x="1119" y="772"/>
                </a:lnTo>
                <a:lnTo>
                  <a:pt x="1119" y="772"/>
                </a:lnTo>
                <a:lnTo>
                  <a:pt x="1147" y="771"/>
                </a:lnTo>
                <a:lnTo>
                  <a:pt x="1177" y="768"/>
                </a:lnTo>
                <a:lnTo>
                  <a:pt x="1206" y="763"/>
                </a:lnTo>
                <a:lnTo>
                  <a:pt x="1233" y="755"/>
                </a:lnTo>
                <a:lnTo>
                  <a:pt x="1370" y="755"/>
                </a:lnTo>
                <a:lnTo>
                  <a:pt x="1370" y="755"/>
                </a:lnTo>
                <a:lnTo>
                  <a:pt x="1397" y="763"/>
                </a:lnTo>
                <a:lnTo>
                  <a:pt x="1426" y="768"/>
                </a:lnTo>
                <a:lnTo>
                  <a:pt x="1454" y="771"/>
                </a:lnTo>
                <a:lnTo>
                  <a:pt x="1484" y="772"/>
                </a:lnTo>
                <a:lnTo>
                  <a:pt x="1484" y="772"/>
                </a:lnTo>
                <a:lnTo>
                  <a:pt x="1514" y="771"/>
                </a:lnTo>
                <a:lnTo>
                  <a:pt x="1544" y="768"/>
                </a:lnTo>
                <a:lnTo>
                  <a:pt x="1571" y="763"/>
                </a:lnTo>
                <a:lnTo>
                  <a:pt x="1599" y="755"/>
                </a:lnTo>
                <a:lnTo>
                  <a:pt x="1736" y="755"/>
                </a:lnTo>
                <a:lnTo>
                  <a:pt x="1736" y="755"/>
                </a:lnTo>
                <a:lnTo>
                  <a:pt x="1763" y="763"/>
                </a:lnTo>
                <a:lnTo>
                  <a:pt x="1792" y="768"/>
                </a:lnTo>
                <a:lnTo>
                  <a:pt x="1821" y="771"/>
                </a:lnTo>
                <a:lnTo>
                  <a:pt x="1851" y="772"/>
                </a:lnTo>
                <a:lnTo>
                  <a:pt x="1851" y="772"/>
                </a:lnTo>
                <a:lnTo>
                  <a:pt x="1880" y="771"/>
                </a:lnTo>
                <a:lnTo>
                  <a:pt x="1909" y="768"/>
                </a:lnTo>
                <a:lnTo>
                  <a:pt x="1938" y="763"/>
                </a:lnTo>
                <a:lnTo>
                  <a:pt x="1965" y="755"/>
                </a:lnTo>
                <a:lnTo>
                  <a:pt x="2101" y="755"/>
                </a:lnTo>
                <a:lnTo>
                  <a:pt x="2101" y="755"/>
                </a:lnTo>
                <a:lnTo>
                  <a:pt x="2130" y="763"/>
                </a:lnTo>
                <a:lnTo>
                  <a:pt x="2157" y="768"/>
                </a:lnTo>
                <a:lnTo>
                  <a:pt x="2187" y="771"/>
                </a:lnTo>
                <a:lnTo>
                  <a:pt x="2217" y="772"/>
                </a:lnTo>
                <a:lnTo>
                  <a:pt x="2217" y="772"/>
                </a:lnTo>
                <a:lnTo>
                  <a:pt x="2247" y="771"/>
                </a:lnTo>
                <a:lnTo>
                  <a:pt x="2275" y="768"/>
                </a:lnTo>
                <a:lnTo>
                  <a:pt x="2304" y="763"/>
                </a:lnTo>
                <a:lnTo>
                  <a:pt x="2331" y="755"/>
                </a:lnTo>
                <a:lnTo>
                  <a:pt x="2468" y="755"/>
                </a:lnTo>
                <a:lnTo>
                  <a:pt x="2468" y="755"/>
                </a:lnTo>
                <a:lnTo>
                  <a:pt x="2495" y="763"/>
                </a:lnTo>
                <a:lnTo>
                  <a:pt x="2524" y="768"/>
                </a:lnTo>
                <a:lnTo>
                  <a:pt x="2552" y="771"/>
                </a:lnTo>
                <a:lnTo>
                  <a:pt x="2582" y="772"/>
                </a:lnTo>
                <a:lnTo>
                  <a:pt x="2582" y="772"/>
                </a:lnTo>
                <a:lnTo>
                  <a:pt x="2612" y="771"/>
                </a:lnTo>
                <a:lnTo>
                  <a:pt x="2642" y="768"/>
                </a:lnTo>
                <a:lnTo>
                  <a:pt x="2669" y="763"/>
                </a:lnTo>
                <a:lnTo>
                  <a:pt x="2697" y="755"/>
                </a:lnTo>
                <a:lnTo>
                  <a:pt x="2834" y="755"/>
                </a:lnTo>
                <a:lnTo>
                  <a:pt x="2834" y="755"/>
                </a:lnTo>
                <a:lnTo>
                  <a:pt x="2862" y="763"/>
                </a:lnTo>
                <a:lnTo>
                  <a:pt x="2890" y="768"/>
                </a:lnTo>
                <a:lnTo>
                  <a:pt x="2919" y="771"/>
                </a:lnTo>
                <a:lnTo>
                  <a:pt x="2949" y="772"/>
                </a:lnTo>
                <a:lnTo>
                  <a:pt x="2949" y="772"/>
                </a:lnTo>
                <a:lnTo>
                  <a:pt x="2978" y="771"/>
                </a:lnTo>
                <a:lnTo>
                  <a:pt x="3007" y="768"/>
                </a:lnTo>
                <a:lnTo>
                  <a:pt x="3036" y="763"/>
                </a:lnTo>
                <a:lnTo>
                  <a:pt x="3063" y="755"/>
                </a:lnTo>
                <a:lnTo>
                  <a:pt x="3201" y="755"/>
                </a:lnTo>
                <a:lnTo>
                  <a:pt x="3201" y="755"/>
                </a:lnTo>
                <a:lnTo>
                  <a:pt x="3228" y="763"/>
                </a:lnTo>
                <a:lnTo>
                  <a:pt x="3256" y="768"/>
                </a:lnTo>
                <a:lnTo>
                  <a:pt x="3285" y="771"/>
                </a:lnTo>
                <a:lnTo>
                  <a:pt x="3315" y="772"/>
                </a:lnTo>
                <a:lnTo>
                  <a:pt x="3315" y="772"/>
                </a:lnTo>
                <a:lnTo>
                  <a:pt x="3335" y="772"/>
                </a:lnTo>
                <a:lnTo>
                  <a:pt x="3354" y="771"/>
                </a:lnTo>
                <a:lnTo>
                  <a:pt x="3373" y="768"/>
                </a:lnTo>
                <a:lnTo>
                  <a:pt x="3393" y="765"/>
                </a:lnTo>
                <a:lnTo>
                  <a:pt x="3411" y="760"/>
                </a:lnTo>
                <a:lnTo>
                  <a:pt x="3430" y="755"/>
                </a:lnTo>
                <a:lnTo>
                  <a:pt x="3448" y="749"/>
                </a:lnTo>
                <a:lnTo>
                  <a:pt x="3465" y="742"/>
                </a:lnTo>
                <a:lnTo>
                  <a:pt x="3482" y="734"/>
                </a:lnTo>
                <a:lnTo>
                  <a:pt x="3498" y="726"/>
                </a:lnTo>
                <a:lnTo>
                  <a:pt x="3515" y="717"/>
                </a:lnTo>
                <a:lnTo>
                  <a:pt x="3530" y="707"/>
                </a:lnTo>
                <a:lnTo>
                  <a:pt x="3545" y="695"/>
                </a:lnTo>
                <a:lnTo>
                  <a:pt x="3560" y="684"/>
                </a:lnTo>
                <a:lnTo>
                  <a:pt x="3574" y="672"/>
                </a:lnTo>
                <a:lnTo>
                  <a:pt x="3588" y="660"/>
                </a:lnTo>
                <a:lnTo>
                  <a:pt x="3600" y="646"/>
                </a:lnTo>
                <a:lnTo>
                  <a:pt x="3613" y="632"/>
                </a:lnTo>
                <a:lnTo>
                  <a:pt x="3624" y="617"/>
                </a:lnTo>
                <a:lnTo>
                  <a:pt x="3635" y="602"/>
                </a:lnTo>
                <a:lnTo>
                  <a:pt x="3645" y="586"/>
                </a:lnTo>
                <a:lnTo>
                  <a:pt x="3654" y="570"/>
                </a:lnTo>
                <a:lnTo>
                  <a:pt x="3663" y="553"/>
                </a:lnTo>
                <a:lnTo>
                  <a:pt x="3670" y="536"/>
                </a:lnTo>
                <a:lnTo>
                  <a:pt x="3677" y="519"/>
                </a:lnTo>
                <a:lnTo>
                  <a:pt x="3684" y="501"/>
                </a:lnTo>
                <a:lnTo>
                  <a:pt x="3688" y="482"/>
                </a:lnTo>
                <a:lnTo>
                  <a:pt x="3693" y="464"/>
                </a:lnTo>
                <a:lnTo>
                  <a:pt x="3696" y="446"/>
                </a:lnTo>
                <a:lnTo>
                  <a:pt x="3699" y="426"/>
                </a:lnTo>
                <a:lnTo>
                  <a:pt x="3701" y="407"/>
                </a:lnTo>
                <a:lnTo>
                  <a:pt x="3701" y="386"/>
                </a:lnTo>
                <a:lnTo>
                  <a:pt x="3701" y="386"/>
                </a:lnTo>
                <a:lnTo>
                  <a:pt x="3701" y="367"/>
                </a:lnTo>
                <a:lnTo>
                  <a:pt x="3699" y="347"/>
                </a:lnTo>
                <a:lnTo>
                  <a:pt x="3696" y="328"/>
                </a:lnTo>
                <a:lnTo>
                  <a:pt x="3693" y="308"/>
                </a:lnTo>
                <a:lnTo>
                  <a:pt x="3688" y="290"/>
                </a:lnTo>
                <a:lnTo>
                  <a:pt x="3684" y="271"/>
                </a:lnTo>
                <a:lnTo>
                  <a:pt x="3677" y="253"/>
                </a:lnTo>
                <a:lnTo>
                  <a:pt x="3670" y="236"/>
                </a:lnTo>
                <a:lnTo>
                  <a:pt x="3663" y="219"/>
                </a:lnTo>
                <a:lnTo>
                  <a:pt x="3654" y="202"/>
                </a:lnTo>
                <a:lnTo>
                  <a:pt x="3645" y="186"/>
                </a:lnTo>
                <a:lnTo>
                  <a:pt x="3635" y="171"/>
                </a:lnTo>
                <a:lnTo>
                  <a:pt x="3624" y="155"/>
                </a:lnTo>
                <a:lnTo>
                  <a:pt x="3613" y="141"/>
                </a:lnTo>
                <a:lnTo>
                  <a:pt x="3600" y="126"/>
                </a:lnTo>
                <a:lnTo>
                  <a:pt x="3588" y="113"/>
                </a:lnTo>
                <a:lnTo>
                  <a:pt x="3574" y="100"/>
                </a:lnTo>
                <a:lnTo>
                  <a:pt x="3560" y="88"/>
                </a:lnTo>
                <a:lnTo>
                  <a:pt x="3545" y="77"/>
                </a:lnTo>
                <a:lnTo>
                  <a:pt x="3530" y="65"/>
                </a:lnTo>
                <a:lnTo>
                  <a:pt x="3515" y="56"/>
                </a:lnTo>
                <a:lnTo>
                  <a:pt x="3498" y="47"/>
                </a:lnTo>
                <a:lnTo>
                  <a:pt x="3482" y="38"/>
                </a:lnTo>
                <a:lnTo>
                  <a:pt x="3465" y="30"/>
                </a:lnTo>
                <a:lnTo>
                  <a:pt x="3448" y="23"/>
                </a:lnTo>
                <a:lnTo>
                  <a:pt x="3430" y="17"/>
                </a:lnTo>
                <a:lnTo>
                  <a:pt x="3411" y="12"/>
                </a:lnTo>
                <a:lnTo>
                  <a:pt x="3393" y="8"/>
                </a:lnTo>
                <a:lnTo>
                  <a:pt x="3373" y="5"/>
                </a:lnTo>
                <a:lnTo>
                  <a:pt x="3354" y="2"/>
                </a:lnTo>
                <a:lnTo>
                  <a:pt x="3335" y="0"/>
                </a:lnTo>
                <a:lnTo>
                  <a:pt x="3315" y="0"/>
                </a:lnTo>
                <a:lnTo>
                  <a:pt x="3315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그림 28" descr="Untitled-20.png"/>
          <p:cNvPicPr/>
          <p:nvPr/>
        </p:nvPicPr>
        <p:blipFill>
          <a:blip r:embed="rId5"/>
          <a:srcRect l="34947" t="18826" r="28862" b="37884"/>
          <a:stretch/>
        </p:blipFill>
        <p:spPr>
          <a:xfrm>
            <a:off x="304920" y="1447920"/>
            <a:ext cx="2516040" cy="1143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59"/>
          <p:cNvSpPr/>
          <p:nvPr/>
        </p:nvSpPr>
        <p:spPr>
          <a:xfrm>
            <a:off x="457200" y="7621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隶书"/>
              </a:rPr>
              <a:t>EPST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宏观环境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未知"/>
          <p:cNvSpPr/>
          <p:nvPr/>
        </p:nvSpPr>
        <p:spPr>
          <a:xfrm>
            <a:off x="1079640" y="5195880"/>
            <a:ext cx="7462800" cy="890640"/>
          </a:xfrm>
          <a:custGeom>
            <a:avLst/>
            <a:gdLst/>
            <a:ahLst/>
            <a:rect l="l" t="t" r="r" b="b"/>
            <a:pathLst>
              <a:path w="3701" h="772">
                <a:moveTo>
                  <a:pt x="3315" y="0"/>
                </a:moveTo>
                <a:lnTo>
                  <a:pt x="3315" y="0"/>
                </a:lnTo>
                <a:lnTo>
                  <a:pt x="3298" y="0"/>
                </a:lnTo>
                <a:lnTo>
                  <a:pt x="3281" y="1"/>
                </a:lnTo>
                <a:lnTo>
                  <a:pt x="3264" y="4"/>
                </a:lnTo>
                <a:lnTo>
                  <a:pt x="3247" y="6"/>
                </a:lnTo>
                <a:lnTo>
                  <a:pt x="3230" y="9"/>
                </a:lnTo>
                <a:lnTo>
                  <a:pt x="3214" y="13"/>
                </a:lnTo>
                <a:lnTo>
                  <a:pt x="3199" y="17"/>
                </a:lnTo>
                <a:lnTo>
                  <a:pt x="3183" y="23"/>
                </a:lnTo>
                <a:lnTo>
                  <a:pt x="3080" y="23"/>
                </a:lnTo>
                <a:lnTo>
                  <a:pt x="3080" y="23"/>
                </a:lnTo>
                <a:lnTo>
                  <a:pt x="3064" y="17"/>
                </a:lnTo>
                <a:lnTo>
                  <a:pt x="3048" y="13"/>
                </a:lnTo>
                <a:lnTo>
                  <a:pt x="3032" y="9"/>
                </a:lnTo>
                <a:lnTo>
                  <a:pt x="3016" y="6"/>
                </a:lnTo>
                <a:lnTo>
                  <a:pt x="2999" y="4"/>
                </a:lnTo>
                <a:lnTo>
                  <a:pt x="2983" y="1"/>
                </a:lnTo>
                <a:lnTo>
                  <a:pt x="2966" y="0"/>
                </a:lnTo>
                <a:lnTo>
                  <a:pt x="2949" y="0"/>
                </a:lnTo>
                <a:lnTo>
                  <a:pt x="2949" y="0"/>
                </a:lnTo>
                <a:lnTo>
                  <a:pt x="2931" y="0"/>
                </a:lnTo>
                <a:lnTo>
                  <a:pt x="2914" y="1"/>
                </a:lnTo>
                <a:lnTo>
                  <a:pt x="2897" y="4"/>
                </a:lnTo>
                <a:lnTo>
                  <a:pt x="2881" y="6"/>
                </a:lnTo>
                <a:lnTo>
                  <a:pt x="2865" y="9"/>
                </a:lnTo>
                <a:lnTo>
                  <a:pt x="2849" y="13"/>
                </a:lnTo>
                <a:lnTo>
                  <a:pt x="2833" y="17"/>
                </a:lnTo>
                <a:lnTo>
                  <a:pt x="2817" y="23"/>
                </a:lnTo>
                <a:lnTo>
                  <a:pt x="2714" y="23"/>
                </a:lnTo>
                <a:lnTo>
                  <a:pt x="2714" y="23"/>
                </a:lnTo>
                <a:lnTo>
                  <a:pt x="2698" y="17"/>
                </a:lnTo>
                <a:lnTo>
                  <a:pt x="2683" y="13"/>
                </a:lnTo>
                <a:lnTo>
                  <a:pt x="2666" y="9"/>
                </a:lnTo>
                <a:lnTo>
                  <a:pt x="2650" y="6"/>
                </a:lnTo>
                <a:lnTo>
                  <a:pt x="2634" y="4"/>
                </a:lnTo>
                <a:lnTo>
                  <a:pt x="2617" y="1"/>
                </a:lnTo>
                <a:lnTo>
                  <a:pt x="2599" y="0"/>
                </a:lnTo>
                <a:lnTo>
                  <a:pt x="2582" y="0"/>
                </a:lnTo>
                <a:lnTo>
                  <a:pt x="2582" y="0"/>
                </a:lnTo>
                <a:lnTo>
                  <a:pt x="2565" y="0"/>
                </a:lnTo>
                <a:lnTo>
                  <a:pt x="2548" y="1"/>
                </a:lnTo>
                <a:lnTo>
                  <a:pt x="2532" y="4"/>
                </a:lnTo>
                <a:lnTo>
                  <a:pt x="2515" y="6"/>
                </a:lnTo>
                <a:lnTo>
                  <a:pt x="2499" y="9"/>
                </a:lnTo>
                <a:lnTo>
                  <a:pt x="2483" y="13"/>
                </a:lnTo>
                <a:lnTo>
                  <a:pt x="2467" y="17"/>
                </a:lnTo>
                <a:lnTo>
                  <a:pt x="2452" y="23"/>
                </a:lnTo>
                <a:lnTo>
                  <a:pt x="2347" y="23"/>
                </a:lnTo>
                <a:lnTo>
                  <a:pt x="2347" y="23"/>
                </a:lnTo>
                <a:lnTo>
                  <a:pt x="2333" y="17"/>
                </a:lnTo>
                <a:lnTo>
                  <a:pt x="2317" y="13"/>
                </a:lnTo>
                <a:lnTo>
                  <a:pt x="2301" y="9"/>
                </a:lnTo>
                <a:lnTo>
                  <a:pt x="2284" y="6"/>
                </a:lnTo>
                <a:lnTo>
                  <a:pt x="2267" y="4"/>
                </a:lnTo>
                <a:lnTo>
                  <a:pt x="2250" y="1"/>
                </a:lnTo>
                <a:lnTo>
                  <a:pt x="2234" y="0"/>
                </a:lnTo>
                <a:lnTo>
                  <a:pt x="2217" y="0"/>
                </a:lnTo>
                <a:lnTo>
                  <a:pt x="2217" y="0"/>
                </a:lnTo>
                <a:lnTo>
                  <a:pt x="2200" y="0"/>
                </a:lnTo>
                <a:lnTo>
                  <a:pt x="2183" y="1"/>
                </a:lnTo>
                <a:lnTo>
                  <a:pt x="2165" y="4"/>
                </a:lnTo>
                <a:lnTo>
                  <a:pt x="2149" y="6"/>
                </a:lnTo>
                <a:lnTo>
                  <a:pt x="2132" y="9"/>
                </a:lnTo>
                <a:lnTo>
                  <a:pt x="2116" y="13"/>
                </a:lnTo>
                <a:lnTo>
                  <a:pt x="2101" y="17"/>
                </a:lnTo>
                <a:lnTo>
                  <a:pt x="2085" y="23"/>
                </a:lnTo>
                <a:lnTo>
                  <a:pt x="1982" y="23"/>
                </a:lnTo>
                <a:lnTo>
                  <a:pt x="1982" y="23"/>
                </a:lnTo>
                <a:lnTo>
                  <a:pt x="1966" y="17"/>
                </a:lnTo>
                <a:lnTo>
                  <a:pt x="1950" y="13"/>
                </a:lnTo>
                <a:lnTo>
                  <a:pt x="1934" y="9"/>
                </a:lnTo>
                <a:lnTo>
                  <a:pt x="1918" y="6"/>
                </a:lnTo>
                <a:lnTo>
                  <a:pt x="1901" y="4"/>
                </a:lnTo>
                <a:lnTo>
                  <a:pt x="1885" y="1"/>
                </a:lnTo>
                <a:lnTo>
                  <a:pt x="1868" y="0"/>
                </a:lnTo>
                <a:lnTo>
                  <a:pt x="1851" y="0"/>
                </a:lnTo>
                <a:lnTo>
                  <a:pt x="1851" y="0"/>
                </a:lnTo>
                <a:lnTo>
                  <a:pt x="1833" y="0"/>
                </a:lnTo>
                <a:lnTo>
                  <a:pt x="1816" y="1"/>
                </a:lnTo>
                <a:lnTo>
                  <a:pt x="1799" y="4"/>
                </a:lnTo>
                <a:lnTo>
                  <a:pt x="1783" y="6"/>
                </a:lnTo>
                <a:lnTo>
                  <a:pt x="1767" y="9"/>
                </a:lnTo>
                <a:lnTo>
                  <a:pt x="1751" y="13"/>
                </a:lnTo>
                <a:lnTo>
                  <a:pt x="1735" y="17"/>
                </a:lnTo>
                <a:lnTo>
                  <a:pt x="1719" y="23"/>
                </a:lnTo>
                <a:lnTo>
                  <a:pt x="1616" y="23"/>
                </a:lnTo>
                <a:lnTo>
                  <a:pt x="1616" y="23"/>
                </a:lnTo>
                <a:lnTo>
                  <a:pt x="1600" y="17"/>
                </a:lnTo>
                <a:lnTo>
                  <a:pt x="1584" y="13"/>
                </a:lnTo>
                <a:lnTo>
                  <a:pt x="1568" y="9"/>
                </a:lnTo>
                <a:lnTo>
                  <a:pt x="1552" y="6"/>
                </a:lnTo>
                <a:lnTo>
                  <a:pt x="1536" y="4"/>
                </a:lnTo>
                <a:lnTo>
                  <a:pt x="1518" y="1"/>
                </a:lnTo>
                <a:lnTo>
                  <a:pt x="1501" y="0"/>
                </a:lnTo>
                <a:lnTo>
                  <a:pt x="1484" y="0"/>
                </a:lnTo>
                <a:lnTo>
                  <a:pt x="1484" y="0"/>
                </a:lnTo>
                <a:lnTo>
                  <a:pt x="1467" y="0"/>
                </a:lnTo>
                <a:lnTo>
                  <a:pt x="1450" y="1"/>
                </a:lnTo>
                <a:lnTo>
                  <a:pt x="1434" y="4"/>
                </a:lnTo>
                <a:lnTo>
                  <a:pt x="1417" y="6"/>
                </a:lnTo>
                <a:lnTo>
                  <a:pt x="1400" y="9"/>
                </a:lnTo>
                <a:lnTo>
                  <a:pt x="1384" y="13"/>
                </a:lnTo>
                <a:lnTo>
                  <a:pt x="1368" y="17"/>
                </a:lnTo>
                <a:lnTo>
                  <a:pt x="1354" y="23"/>
                </a:lnTo>
                <a:lnTo>
                  <a:pt x="1249" y="23"/>
                </a:lnTo>
                <a:lnTo>
                  <a:pt x="1249" y="23"/>
                </a:lnTo>
                <a:lnTo>
                  <a:pt x="1234" y="17"/>
                </a:lnTo>
                <a:lnTo>
                  <a:pt x="1218" y="13"/>
                </a:lnTo>
                <a:lnTo>
                  <a:pt x="1202" y="9"/>
                </a:lnTo>
                <a:lnTo>
                  <a:pt x="1186" y="6"/>
                </a:lnTo>
                <a:lnTo>
                  <a:pt x="1169" y="4"/>
                </a:lnTo>
                <a:lnTo>
                  <a:pt x="1152" y="1"/>
                </a:lnTo>
                <a:lnTo>
                  <a:pt x="1136" y="0"/>
                </a:lnTo>
                <a:lnTo>
                  <a:pt x="1119" y="0"/>
                </a:lnTo>
                <a:lnTo>
                  <a:pt x="1119" y="0"/>
                </a:lnTo>
                <a:lnTo>
                  <a:pt x="1102" y="0"/>
                </a:lnTo>
                <a:lnTo>
                  <a:pt x="1084" y="1"/>
                </a:lnTo>
                <a:lnTo>
                  <a:pt x="1067" y="4"/>
                </a:lnTo>
                <a:lnTo>
                  <a:pt x="1051" y="6"/>
                </a:lnTo>
                <a:lnTo>
                  <a:pt x="1034" y="9"/>
                </a:lnTo>
                <a:lnTo>
                  <a:pt x="1018" y="13"/>
                </a:lnTo>
                <a:lnTo>
                  <a:pt x="1003" y="17"/>
                </a:lnTo>
                <a:lnTo>
                  <a:pt x="987" y="23"/>
                </a:lnTo>
                <a:lnTo>
                  <a:pt x="883" y="23"/>
                </a:lnTo>
                <a:lnTo>
                  <a:pt x="883" y="23"/>
                </a:lnTo>
                <a:lnTo>
                  <a:pt x="868" y="17"/>
                </a:lnTo>
                <a:lnTo>
                  <a:pt x="852" y="13"/>
                </a:lnTo>
                <a:lnTo>
                  <a:pt x="836" y="9"/>
                </a:lnTo>
                <a:lnTo>
                  <a:pt x="820" y="6"/>
                </a:lnTo>
                <a:lnTo>
                  <a:pt x="803" y="4"/>
                </a:lnTo>
                <a:lnTo>
                  <a:pt x="787" y="1"/>
                </a:lnTo>
                <a:lnTo>
                  <a:pt x="770" y="0"/>
                </a:lnTo>
                <a:lnTo>
                  <a:pt x="752" y="0"/>
                </a:lnTo>
                <a:lnTo>
                  <a:pt x="752" y="0"/>
                </a:lnTo>
                <a:lnTo>
                  <a:pt x="735" y="0"/>
                </a:lnTo>
                <a:lnTo>
                  <a:pt x="718" y="1"/>
                </a:lnTo>
                <a:lnTo>
                  <a:pt x="701" y="4"/>
                </a:lnTo>
                <a:lnTo>
                  <a:pt x="685" y="6"/>
                </a:lnTo>
                <a:lnTo>
                  <a:pt x="669" y="9"/>
                </a:lnTo>
                <a:lnTo>
                  <a:pt x="653" y="13"/>
                </a:lnTo>
                <a:lnTo>
                  <a:pt x="637" y="17"/>
                </a:lnTo>
                <a:lnTo>
                  <a:pt x="621" y="23"/>
                </a:lnTo>
                <a:lnTo>
                  <a:pt x="518" y="23"/>
                </a:lnTo>
                <a:lnTo>
                  <a:pt x="518" y="23"/>
                </a:lnTo>
                <a:lnTo>
                  <a:pt x="502" y="17"/>
                </a:lnTo>
                <a:lnTo>
                  <a:pt x="486" y="13"/>
                </a:lnTo>
                <a:lnTo>
                  <a:pt x="470" y="9"/>
                </a:lnTo>
                <a:lnTo>
                  <a:pt x="454" y="6"/>
                </a:lnTo>
                <a:lnTo>
                  <a:pt x="437" y="4"/>
                </a:lnTo>
                <a:lnTo>
                  <a:pt x="420" y="1"/>
                </a:lnTo>
                <a:lnTo>
                  <a:pt x="403" y="0"/>
                </a:lnTo>
                <a:lnTo>
                  <a:pt x="386" y="0"/>
                </a:lnTo>
                <a:lnTo>
                  <a:pt x="386" y="0"/>
                </a:lnTo>
                <a:lnTo>
                  <a:pt x="366" y="0"/>
                </a:lnTo>
                <a:lnTo>
                  <a:pt x="347" y="2"/>
                </a:lnTo>
                <a:lnTo>
                  <a:pt x="328" y="5"/>
                </a:lnTo>
                <a:lnTo>
                  <a:pt x="308" y="8"/>
                </a:lnTo>
                <a:lnTo>
                  <a:pt x="290" y="12"/>
                </a:lnTo>
                <a:lnTo>
                  <a:pt x="271" y="17"/>
                </a:lnTo>
                <a:lnTo>
                  <a:pt x="253" y="23"/>
                </a:lnTo>
                <a:lnTo>
                  <a:pt x="236" y="30"/>
                </a:lnTo>
                <a:lnTo>
                  <a:pt x="219" y="38"/>
                </a:lnTo>
                <a:lnTo>
                  <a:pt x="202" y="47"/>
                </a:lnTo>
                <a:lnTo>
                  <a:pt x="186" y="56"/>
                </a:lnTo>
                <a:lnTo>
                  <a:pt x="171" y="65"/>
                </a:lnTo>
                <a:lnTo>
                  <a:pt x="155" y="77"/>
                </a:lnTo>
                <a:lnTo>
                  <a:pt x="141" y="88"/>
                </a:lnTo>
                <a:lnTo>
                  <a:pt x="126" y="100"/>
                </a:lnTo>
                <a:lnTo>
                  <a:pt x="113" y="113"/>
                </a:lnTo>
                <a:lnTo>
                  <a:pt x="100" y="126"/>
                </a:lnTo>
                <a:lnTo>
                  <a:pt x="88" y="141"/>
                </a:lnTo>
                <a:lnTo>
                  <a:pt x="77" y="155"/>
                </a:lnTo>
                <a:lnTo>
                  <a:pt x="65" y="171"/>
                </a:lnTo>
                <a:lnTo>
                  <a:pt x="56" y="186"/>
                </a:lnTo>
                <a:lnTo>
                  <a:pt x="47" y="202"/>
                </a:lnTo>
                <a:lnTo>
                  <a:pt x="38" y="219"/>
                </a:lnTo>
                <a:lnTo>
                  <a:pt x="30" y="236"/>
                </a:lnTo>
                <a:lnTo>
                  <a:pt x="23" y="253"/>
                </a:lnTo>
                <a:lnTo>
                  <a:pt x="17" y="271"/>
                </a:lnTo>
                <a:lnTo>
                  <a:pt x="12" y="290"/>
                </a:lnTo>
                <a:lnTo>
                  <a:pt x="8" y="308"/>
                </a:lnTo>
                <a:lnTo>
                  <a:pt x="5" y="328"/>
                </a:lnTo>
                <a:lnTo>
                  <a:pt x="2" y="347"/>
                </a:lnTo>
                <a:lnTo>
                  <a:pt x="0" y="367"/>
                </a:lnTo>
                <a:lnTo>
                  <a:pt x="0" y="386"/>
                </a:lnTo>
                <a:lnTo>
                  <a:pt x="0" y="386"/>
                </a:lnTo>
                <a:lnTo>
                  <a:pt x="0" y="407"/>
                </a:lnTo>
                <a:lnTo>
                  <a:pt x="2" y="426"/>
                </a:lnTo>
                <a:lnTo>
                  <a:pt x="5" y="446"/>
                </a:lnTo>
                <a:lnTo>
                  <a:pt x="8" y="464"/>
                </a:lnTo>
                <a:lnTo>
                  <a:pt x="12" y="482"/>
                </a:lnTo>
                <a:lnTo>
                  <a:pt x="17" y="501"/>
                </a:lnTo>
                <a:lnTo>
                  <a:pt x="23" y="519"/>
                </a:lnTo>
                <a:lnTo>
                  <a:pt x="30" y="536"/>
                </a:lnTo>
                <a:lnTo>
                  <a:pt x="38" y="553"/>
                </a:lnTo>
                <a:lnTo>
                  <a:pt x="47" y="570"/>
                </a:lnTo>
                <a:lnTo>
                  <a:pt x="56" y="586"/>
                </a:lnTo>
                <a:lnTo>
                  <a:pt x="65" y="602"/>
                </a:lnTo>
                <a:lnTo>
                  <a:pt x="77" y="617"/>
                </a:lnTo>
                <a:lnTo>
                  <a:pt x="88" y="632"/>
                </a:lnTo>
                <a:lnTo>
                  <a:pt x="100" y="646"/>
                </a:lnTo>
                <a:lnTo>
                  <a:pt x="113" y="660"/>
                </a:lnTo>
                <a:lnTo>
                  <a:pt x="126" y="672"/>
                </a:lnTo>
                <a:lnTo>
                  <a:pt x="141" y="684"/>
                </a:lnTo>
                <a:lnTo>
                  <a:pt x="155" y="695"/>
                </a:lnTo>
                <a:lnTo>
                  <a:pt x="171" y="707"/>
                </a:lnTo>
                <a:lnTo>
                  <a:pt x="186" y="717"/>
                </a:lnTo>
                <a:lnTo>
                  <a:pt x="202" y="726"/>
                </a:lnTo>
                <a:lnTo>
                  <a:pt x="219" y="734"/>
                </a:lnTo>
                <a:lnTo>
                  <a:pt x="236" y="742"/>
                </a:lnTo>
                <a:lnTo>
                  <a:pt x="253" y="749"/>
                </a:lnTo>
                <a:lnTo>
                  <a:pt x="271" y="755"/>
                </a:lnTo>
                <a:lnTo>
                  <a:pt x="290" y="760"/>
                </a:lnTo>
                <a:lnTo>
                  <a:pt x="308" y="765"/>
                </a:lnTo>
                <a:lnTo>
                  <a:pt x="328" y="768"/>
                </a:lnTo>
                <a:lnTo>
                  <a:pt x="347" y="771"/>
                </a:lnTo>
                <a:lnTo>
                  <a:pt x="366" y="772"/>
                </a:lnTo>
                <a:lnTo>
                  <a:pt x="386" y="772"/>
                </a:lnTo>
                <a:lnTo>
                  <a:pt x="386" y="772"/>
                </a:lnTo>
                <a:lnTo>
                  <a:pt x="416" y="771"/>
                </a:lnTo>
                <a:lnTo>
                  <a:pt x="444" y="768"/>
                </a:lnTo>
                <a:lnTo>
                  <a:pt x="473" y="763"/>
                </a:lnTo>
                <a:lnTo>
                  <a:pt x="500" y="755"/>
                </a:lnTo>
                <a:lnTo>
                  <a:pt x="638" y="755"/>
                </a:lnTo>
                <a:lnTo>
                  <a:pt x="638" y="755"/>
                </a:lnTo>
                <a:lnTo>
                  <a:pt x="665" y="763"/>
                </a:lnTo>
                <a:lnTo>
                  <a:pt x="694" y="768"/>
                </a:lnTo>
                <a:lnTo>
                  <a:pt x="723" y="771"/>
                </a:lnTo>
                <a:lnTo>
                  <a:pt x="752" y="772"/>
                </a:lnTo>
                <a:lnTo>
                  <a:pt x="752" y="772"/>
                </a:lnTo>
                <a:lnTo>
                  <a:pt x="782" y="771"/>
                </a:lnTo>
                <a:lnTo>
                  <a:pt x="811" y="768"/>
                </a:lnTo>
                <a:lnTo>
                  <a:pt x="839" y="763"/>
                </a:lnTo>
                <a:lnTo>
                  <a:pt x="867" y="755"/>
                </a:lnTo>
                <a:lnTo>
                  <a:pt x="1003" y="755"/>
                </a:lnTo>
                <a:lnTo>
                  <a:pt x="1003" y="755"/>
                </a:lnTo>
                <a:lnTo>
                  <a:pt x="1032" y="763"/>
                </a:lnTo>
                <a:lnTo>
                  <a:pt x="1059" y="768"/>
                </a:lnTo>
                <a:lnTo>
                  <a:pt x="1089" y="771"/>
                </a:lnTo>
                <a:lnTo>
                  <a:pt x="1119" y="772"/>
                </a:lnTo>
                <a:lnTo>
                  <a:pt x="1119" y="772"/>
                </a:lnTo>
                <a:lnTo>
                  <a:pt x="1147" y="771"/>
                </a:lnTo>
                <a:lnTo>
                  <a:pt x="1177" y="768"/>
                </a:lnTo>
                <a:lnTo>
                  <a:pt x="1206" y="763"/>
                </a:lnTo>
                <a:lnTo>
                  <a:pt x="1233" y="755"/>
                </a:lnTo>
                <a:lnTo>
                  <a:pt x="1370" y="755"/>
                </a:lnTo>
                <a:lnTo>
                  <a:pt x="1370" y="755"/>
                </a:lnTo>
                <a:lnTo>
                  <a:pt x="1397" y="763"/>
                </a:lnTo>
                <a:lnTo>
                  <a:pt x="1426" y="768"/>
                </a:lnTo>
                <a:lnTo>
                  <a:pt x="1454" y="771"/>
                </a:lnTo>
                <a:lnTo>
                  <a:pt x="1484" y="772"/>
                </a:lnTo>
                <a:lnTo>
                  <a:pt x="1484" y="772"/>
                </a:lnTo>
                <a:lnTo>
                  <a:pt x="1514" y="771"/>
                </a:lnTo>
                <a:lnTo>
                  <a:pt x="1544" y="768"/>
                </a:lnTo>
                <a:lnTo>
                  <a:pt x="1571" y="763"/>
                </a:lnTo>
                <a:lnTo>
                  <a:pt x="1599" y="755"/>
                </a:lnTo>
                <a:lnTo>
                  <a:pt x="1736" y="755"/>
                </a:lnTo>
                <a:lnTo>
                  <a:pt x="1736" y="755"/>
                </a:lnTo>
                <a:lnTo>
                  <a:pt x="1763" y="763"/>
                </a:lnTo>
                <a:lnTo>
                  <a:pt x="1792" y="768"/>
                </a:lnTo>
                <a:lnTo>
                  <a:pt x="1821" y="771"/>
                </a:lnTo>
                <a:lnTo>
                  <a:pt x="1851" y="772"/>
                </a:lnTo>
                <a:lnTo>
                  <a:pt x="1851" y="772"/>
                </a:lnTo>
                <a:lnTo>
                  <a:pt x="1880" y="771"/>
                </a:lnTo>
                <a:lnTo>
                  <a:pt x="1909" y="768"/>
                </a:lnTo>
                <a:lnTo>
                  <a:pt x="1938" y="763"/>
                </a:lnTo>
                <a:lnTo>
                  <a:pt x="1965" y="755"/>
                </a:lnTo>
                <a:lnTo>
                  <a:pt x="2101" y="755"/>
                </a:lnTo>
                <a:lnTo>
                  <a:pt x="2101" y="755"/>
                </a:lnTo>
                <a:lnTo>
                  <a:pt x="2130" y="763"/>
                </a:lnTo>
                <a:lnTo>
                  <a:pt x="2157" y="768"/>
                </a:lnTo>
                <a:lnTo>
                  <a:pt x="2187" y="771"/>
                </a:lnTo>
                <a:lnTo>
                  <a:pt x="2217" y="772"/>
                </a:lnTo>
                <a:lnTo>
                  <a:pt x="2217" y="772"/>
                </a:lnTo>
                <a:lnTo>
                  <a:pt x="2247" y="771"/>
                </a:lnTo>
                <a:lnTo>
                  <a:pt x="2275" y="768"/>
                </a:lnTo>
                <a:lnTo>
                  <a:pt x="2304" y="763"/>
                </a:lnTo>
                <a:lnTo>
                  <a:pt x="2331" y="755"/>
                </a:lnTo>
                <a:lnTo>
                  <a:pt x="2468" y="755"/>
                </a:lnTo>
                <a:lnTo>
                  <a:pt x="2468" y="755"/>
                </a:lnTo>
                <a:lnTo>
                  <a:pt x="2495" y="763"/>
                </a:lnTo>
                <a:lnTo>
                  <a:pt x="2524" y="768"/>
                </a:lnTo>
                <a:lnTo>
                  <a:pt x="2552" y="771"/>
                </a:lnTo>
                <a:lnTo>
                  <a:pt x="2582" y="772"/>
                </a:lnTo>
                <a:lnTo>
                  <a:pt x="2582" y="772"/>
                </a:lnTo>
                <a:lnTo>
                  <a:pt x="2612" y="771"/>
                </a:lnTo>
                <a:lnTo>
                  <a:pt x="2642" y="768"/>
                </a:lnTo>
                <a:lnTo>
                  <a:pt x="2669" y="763"/>
                </a:lnTo>
                <a:lnTo>
                  <a:pt x="2697" y="755"/>
                </a:lnTo>
                <a:lnTo>
                  <a:pt x="2834" y="755"/>
                </a:lnTo>
                <a:lnTo>
                  <a:pt x="2834" y="755"/>
                </a:lnTo>
                <a:lnTo>
                  <a:pt x="2862" y="763"/>
                </a:lnTo>
                <a:lnTo>
                  <a:pt x="2890" y="768"/>
                </a:lnTo>
                <a:lnTo>
                  <a:pt x="2919" y="771"/>
                </a:lnTo>
                <a:lnTo>
                  <a:pt x="2949" y="772"/>
                </a:lnTo>
                <a:lnTo>
                  <a:pt x="2949" y="772"/>
                </a:lnTo>
                <a:lnTo>
                  <a:pt x="2978" y="771"/>
                </a:lnTo>
                <a:lnTo>
                  <a:pt x="3007" y="768"/>
                </a:lnTo>
                <a:lnTo>
                  <a:pt x="3036" y="763"/>
                </a:lnTo>
                <a:lnTo>
                  <a:pt x="3063" y="755"/>
                </a:lnTo>
                <a:lnTo>
                  <a:pt x="3201" y="755"/>
                </a:lnTo>
                <a:lnTo>
                  <a:pt x="3201" y="755"/>
                </a:lnTo>
                <a:lnTo>
                  <a:pt x="3228" y="763"/>
                </a:lnTo>
                <a:lnTo>
                  <a:pt x="3256" y="768"/>
                </a:lnTo>
                <a:lnTo>
                  <a:pt x="3285" y="771"/>
                </a:lnTo>
                <a:lnTo>
                  <a:pt x="3315" y="772"/>
                </a:lnTo>
                <a:lnTo>
                  <a:pt x="3315" y="772"/>
                </a:lnTo>
                <a:lnTo>
                  <a:pt x="3335" y="772"/>
                </a:lnTo>
                <a:lnTo>
                  <a:pt x="3354" y="771"/>
                </a:lnTo>
                <a:lnTo>
                  <a:pt x="3373" y="768"/>
                </a:lnTo>
                <a:lnTo>
                  <a:pt x="3393" y="765"/>
                </a:lnTo>
                <a:lnTo>
                  <a:pt x="3411" y="760"/>
                </a:lnTo>
                <a:lnTo>
                  <a:pt x="3430" y="755"/>
                </a:lnTo>
                <a:lnTo>
                  <a:pt x="3448" y="749"/>
                </a:lnTo>
                <a:lnTo>
                  <a:pt x="3465" y="742"/>
                </a:lnTo>
                <a:lnTo>
                  <a:pt x="3482" y="734"/>
                </a:lnTo>
                <a:lnTo>
                  <a:pt x="3498" y="726"/>
                </a:lnTo>
                <a:lnTo>
                  <a:pt x="3515" y="717"/>
                </a:lnTo>
                <a:lnTo>
                  <a:pt x="3530" y="707"/>
                </a:lnTo>
                <a:lnTo>
                  <a:pt x="3545" y="695"/>
                </a:lnTo>
                <a:lnTo>
                  <a:pt x="3560" y="684"/>
                </a:lnTo>
                <a:lnTo>
                  <a:pt x="3574" y="672"/>
                </a:lnTo>
                <a:lnTo>
                  <a:pt x="3588" y="660"/>
                </a:lnTo>
                <a:lnTo>
                  <a:pt x="3600" y="646"/>
                </a:lnTo>
                <a:lnTo>
                  <a:pt x="3613" y="632"/>
                </a:lnTo>
                <a:lnTo>
                  <a:pt x="3624" y="617"/>
                </a:lnTo>
                <a:lnTo>
                  <a:pt x="3635" y="602"/>
                </a:lnTo>
                <a:lnTo>
                  <a:pt x="3645" y="586"/>
                </a:lnTo>
                <a:lnTo>
                  <a:pt x="3654" y="570"/>
                </a:lnTo>
                <a:lnTo>
                  <a:pt x="3663" y="553"/>
                </a:lnTo>
                <a:lnTo>
                  <a:pt x="3670" y="536"/>
                </a:lnTo>
                <a:lnTo>
                  <a:pt x="3677" y="519"/>
                </a:lnTo>
                <a:lnTo>
                  <a:pt x="3684" y="501"/>
                </a:lnTo>
                <a:lnTo>
                  <a:pt x="3688" y="482"/>
                </a:lnTo>
                <a:lnTo>
                  <a:pt x="3693" y="464"/>
                </a:lnTo>
                <a:lnTo>
                  <a:pt x="3696" y="446"/>
                </a:lnTo>
                <a:lnTo>
                  <a:pt x="3699" y="426"/>
                </a:lnTo>
                <a:lnTo>
                  <a:pt x="3701" y="407"/>
                </a:lnTo>
                <a:lnTo>
                  <a:pt x="3701" y="386"/>
                </a:lnTo>
                <a:lnTo>
                  <a:pt x="3701" y="386"/>
                </a:lnTo>
                <a:lnTo>
                  <a:pt x="3701" y="367"/>
                </a:lnTo>
                <a:lnTo>
                  <a:pt x="3699" y="347"/>
                </a:lnTo>
                <a:lnTo>
                  <a:pt x="3696" y="328"/>
                </a:lnTo>
                <a:lnTo>
                  <a:pt x="3693" y="308"/>
                </a:lnTo>
                <a:lnTo>
                  <a:pt x="3688" y="290"/>
                </a:lnTo>
                <a:lnTo>
                  <a:pt x="3684" y="271"/>
                </a:lnTo>
                <a:lnTo>
                  <a:pt x="3677" y="253"/>
                </a:lnTo>
                <a:lnTo>
                  <a:pt x="3670" y="236"/>
                </a:lnTo>
                <a:lnTo>
                  <a:pt x="3663" y="219"/>
                </a:lnTo>
                <a:lnTo>
                  <a:pt x="3654" y="202"/>
                </a:lnTo>
                <a:lnTo>
                  <a:pt x="3645" y="186"/>
                </a:lnTo>
                <a:lnTo>
                  <a:pt x="3635" y="171"/>
                </a:lnTo>
                <a:lnTo>
                  <a:pt x="3624" y="155"/>
                </a:lnTo>
                <a:lnTo>
                  <a:pt x="3613" y="141"/>
                </a:lnTo>
                <a:lnTo>
                  <a:pt x="3600" y="126"/>
                </a:lnTo>
                <a:lnTo>
                  <a:pt x="3588" y="113"/>
                </a:lnTo>
                <a:lnTo>
                  <a:pt x="3574" y="100"/>
                </a:lnTo>
                <a:lnTo>
                  <a:pt x="3560" y="88"/>
                </a:lnTo>
                <a:lnTo>
                  <a:pt x="3545" y="77"/>
                </a:lnTo>
                <a:lnTo>
                  <a:pt x="3530" y="65"/>
                </a:lnTo>
                <a:lnTo>
                  <a:pt x="3515" y="56"/>
                </a:lnTo>
                <a:lnTo>
                  <a:pt x="3498" y="47"/>
                </a:lnTo>
                <a:lnTo>
                  <a:pt x="3482" y="38"/>
                </a:lnTo>
                <a:lnTo>
                  <a:pt x="3465" y="30"/>
                </a:lnTo>
                <a:lnTo>
                  <a:pt x="3448" y="23"/>
                </a:lnTo>
                <a:lnTo>
                  <a:pt x="3430" y="17"/>
                </a:lnTo>
                <a:lnTo>
                  <a:pt x="3411" y="12"/>
                </a:lnTo>
                <a:lnTo>
                  <a:pt x="3393" y="8"/>
                </a:lnTo>
                <a:lnTo>
                  <a:pt x="3373" y="5"/>
                </a:lnTo>
                <a:lnTo>
                  <a:pt x="3354" y="2"/>
                </a:lnTo>
                <a:lnTo>
                  <a:pt x="3335" y="0"/>
                </a:lnTo>
                <a:lnTo>
                  <a:pt x="3315" y="0"/>
                </a:lnTo>
                <a:lnTo>
                  <a:pt x="3315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그림 28" descr="Untitled-20.png"/>
          <p:cNvPicPr/>
          <p:nvPr/>
        </p:nvPicPr>
        <p:blipFill>
          <a:blip r:embed="rId6"/>
          <a:srcRect l="34947" t="18826" r="28862" b="37884"/>
          <a:stretch/>
        </p:blipFill>
        <p:spPr>
          <a:xfrm>
            <a:off x="304920" y="5029200"/>
            <a:ext cx="2516040" cy="1143000"/>
          </a:xfrm>
          <a:prstGeom prst="rect">
            <a:avLst/>
          </a:prstGeom>
          <a:ln w="0">
            <a:noFill/>
          </a:ln>
        </p:spPr>
      </p:pic>
      <p:sp>
        <p:nvSpPr>
          <p:cNvPr id="182" name="未知"/>
          <p:cNvSpPr/>
          <p:nvPr/>
        </p:nvSpPr>
        <p:spPr>
          <a:xfrm>
            <a:off x="1079640" y="4052880"/>
            <a:ext cx="7462800" cy="890640"/>
          </a:xfrm>
          <a:custGeom>
            <a:avLst/>
            <a:gdLst/>
            <a:ahLst/>
            <a:rect l="l" t="t" r="r" b="b"/>
            <a:pathLst>
              <a:path w="3701" h="772">
                <a:moveTo>
                  <a:pt x="3315" y="0"/>
                </a:moveTo>
                <a:lnTo>
                  <a:pt x="3315" y="0"/>
                </a:lnTo>
                <a:lnTo>
                  <a:pt x="3298" y="0"/>
                </a:lnTo>
                <a:lnTo>
                  <a:pt x="3281" y="1"/>
                </a:lnTo>
                <a:lnTo>
                  <a:pt x="3264" y="4"/>
                </a:lnTo>
                <a:lnTo>
                  <a:pt x="3247" y="6"/>
                </a:lnTo>
                <a:lnTo>
                  <a:pt x="3230" y="9"/>
                </a:lnTo>
                <a:lnTo>
                  <a:pt x="3214" y="13"/>
                </a:lnTo>
                <a:lnTo>
                  <a:pt x="3199" y="17"/>
                </a:lnTo>
                <a:lnTo>
                  <a:pt x="3183" y="23"/>
                </a:lnTo>
                <a:lnTo>
                  <a:pt x="3080" y="23"/>
                </a:lnTo>
                <a:lnTo>
                  <a:pt x="3080" y="23"/>
                </a:lnTo>
                <a:lnTo>
                  <a:pt x="3064" y="17"/>
                </a:lnTo>
                <a:lnTo>
                  <a:pt x="3048" y="13"/>
                </a:lnTo>
                <a:lnTo>
                  <a:pt x="3032" y="9"/>
                </a:lnTo>
                <a:lnTo>
                  <a:pt x="3016" y="6"/>
                </a:lnTo>
                <a:lnTo>
                  <a:pt x="2999" y="4"/>
                </a:lnTo>
                <a:lnTo>
                  <a:pt x="2983" y="1"/>
                </a:lnTo>
                <a:lnTo>
                  <a:pt x="2966" y="0"/>
                </a:lnTo>
                <a:lnTo>
                  <a:pt x="2949" y="0"/>
                </a:lnTo>
                <a:lnTo>
                  <a:pt x="2949" y="0"/>
                </a:lnTo>
                <a:lnTo>
                  <a:pt x="2931" y="0"/>
                </a:lnTo>
                <a:lnTo>
                  <a:pt x="2914" y="1"/>
                </a:lnTo>
                <a:lnTo>
                  <a:pt x="2897" y="4"/>
                </a:lnTo>
                <a:lnTo>
                  <a:pt x="2881" y="6"/>
                </a:lnTo>
                <a:lnTo>
                  <a:pt x="2865" y="9"/>
                </a:lnTo>
                <a:lnTo>
                  <a:pt x="2849" y="13"/>
                </a:lnTo>
                <a:lnTo>
                  <a:pt x="2833" y="17"/>
                </a:lnTo>
                <a:lnTo>
                  <a:pt x="2817" y="23"/>
                </a:lnTo>
                <a:lnTo>
                  <a:pt x="2714" y="23"/>
                </a:lnTo>
                <a:lnTo>
                  <a:pt x="2714" y="23"/>
                </a:lnTo>
                <a:lnTo>
                  <a:pt x="2698" y="17"/>
                </a:lnTo>
                <a:lnTo>
                  <a:pt x="2683" y="13"/>
                </a:lnTo>
                <a:lnTo>
                  <a:pt x="2666" y="9"/>
                </a:lnTo>
                <a:lnTo>
                  <a:pt x="2650" y="6"/>
                </a:lnTo>
                <a:lnTo>
                  <a:pt x="2634" y="4"/>
                </a:lnTo>
                <a:lnTo>
                  <a:pt x="2617" y="1"/>
                </a:lnTo>
                <a:lnTo>
                  <a:pt x="2599" y="0"/>
                </a:lnTo>
                <a:lnTo>
                  <a:pt x="2582" y="0"/>
                </a:lnTo>
                <a:lnTo>
                  <a:pt x="2582" y="0"/>
                </a:lnTo>
                <a:lnTo>
                  <a:pt x="2565" y="0"/>
                </a:lnTo>
                <a:lnTo>
                  <a:pt x="2548" y="1"/>
                </a:lnTo>
                <a:lnTo>
                  <a:pt x="2532" y="4"/>
                </a:lnTo>
                <a:lnTo>
                  <a:pt x="2515" y="6"/>
                </a:lnTo>
                <a:lnTo>
                  <a:pt x="2499" y="9"/>
                </a:lnTo>
                <a:lnTo>
                  <a:pt x="2483" y="13"/>
                </a:lnTo>
                <a:lnTo>
                  <a:pt x="2467" y="17"/>
                </a:lnTo>
                <a:lnTo>
                  <a:pt x="2452" y="23"/>
                </a:lnTo>
                <a:lnTo>
                  <a:pt x="2347" y="23"/>
                </a:lnTo>
                <a:lnTo>
                  <a:pt x="2347" y="23"/>
                </a:lnTo>
                <a:lnTo>
                  <a:pt x="2333" y="17"/>
                </a:lnTo>
                <a:lnTo>
                  <a:pt x="2317" y="13"/>
                </a:lnTo>
                <a:lnTo>
                  <a:pt x="2301" y="9"/>
                </a:lnTo>
                <a:lnTo>
                  <a:pt x="2284" y="6"/>
                </a:lnTo>
                <a:lnTo>
                  <a:pt x="2267" y="4"/>
                </a:lnTo>
                <a:lnTo>
                  <a:pt x="2250" y="1"/>
                </a:lnTo>
                <a:lnTo>
                  <a:pt x="2234" y="0"/>
                </a:lnTo>
                <a:lnTo>
                  <a:pt x="2217" y="0"/>
                </a:lnTo>
                <a:lnTo>
                  <a:pt x="2217" y="0"/>
                </a:lnTo>
                <a:lnTo>
                  <a:pt x="2200" y="0"/>
                </a:lnTo>
                <a:lnTo>
                  <a:pt x="2183" y="1"/>
                </a:lnTo>
                <a:lnTo>
                  <a:pt x="2165" y="4"/>
                </a:lnTo>
                <a:lnTo>
                  <a:pt x="2149" y="6"/>
                </a:lnTo>
                <a:lnTo>
                  <a:pt x="2132" y="9"/>
                </a:lnTo>
                <a:lnTo>
                  <a:pt x="2116" y="13"/>
                </a:lnTo>
                <a:lnTo>
                  <a:pt x="2101" y="17"/>
                </a:lnTo>
                <a:lnTo>
                  <a:pt x="2085" y="23"/>
                </a:lnTo>
                <a:lnTo>
                  <a:pt x="1982" y="23"/>
                </a:lnTo>
                <a:lnTo>
                  <a:pt x="1982" y="23"/>
                </a:lnTo>
                <a:lnTo>
                  <a:pt x="1966" y="17"/>
                </a:lnTo>
                <a:lnTo>
                  <a:pt x="1950" y="13"/>
                </a:lnTo>
                <a:lnTo>
                  <a:pt x="1934" y="9"/>
                </a:lnTo>
                <a:lnTo>
                  <a:pt x="1918" y="6"/>
                </a:lnTo>
                <a:lnTo>
                  <a:pt x="1901" y="4"/>
                </a:lnTo>
                <a:lnTo>
                  <a:pt x="1885" y="1"/>
                </a:lnTo>
                <a:lnTo>
                  <a:pt x="1868" y="0"/>
                </a:lnTo>
                <a:lnTo>
                  <a:pt x="1851" y="0"/>
                </a:lnTo>
                <a:lnTo>
                  <a:pt x="1851" y="0"/>
                </a:lnTo>
                <a:lnTo>
                  <a:pt x="1833" y="0"/>
                </a:lnTo>
                <a:lnTo>
                  <a:pt x="1816" y="1"/>
                </a:lnTo>
                <a:lnTo>
                  <a:pt x="1799" y="4"/>
                </a:lnTo>
                <a:lnTo>
                  <a:pt x="1783" y="6"/>
                </a:lnTo>
                <a:lnTo>
                  <a:pt x="1767" y="9"/>
                </a:lnTo>
                <a:lnTo>
                  <a:pt x="1751" y="13"/>
                </a:lnTo>
                <a:lnTo>
                  <a:pt x="1735" y="17"/>
                </a:lnTo>
                <a:lnTo>
                  <a:pt x="1719" y="23"/>
                </a:lnTo>
                <a:lnTo>
                  <a:pt x="1616" y="23"/>
                </a:lnTo>
                <a:lnTo>
                  <a:pt x="1616" y="23"/>
                </a:lnTo>
                <a:lnTo>
                  <a:pt x="1600" y="17"/>
                </a:lnTo>
                <a:lnTo>
                  <a:pt x="1584" y="13"/>
                </a:lnTo>
                <a:lnTo>
                  <a:pt x="1568" y="9"/>
                </a:lnTo>
                <a:lnTo>
                  <a:pt x="1552" y="6"/>
                </a:lnTo>
                <a:lnTo>
                  <a:pt x="1536" y="4"/>
                </a:lnTo>
                <a:lnTo>
                  <a:pt x="1518" y="1"/>
                </a:lnTo>
                <a:lnTo>
                  <a:pt x="1501" y="0"/>
                </a:lnTo>
                <a:lnTo>
                  <a:pt x="1484" y="0"/>
                </a:lnTo>
                <a:lnTo>
                  <a:pt x="1484" y="0"/>
                </a:lnTo>
                <a:lnTo>
                  <a:pt x="1467" y="0"/>
                </a:lnTo>
                <a:lnTo>
                  <a:pt x="1450" y="1"/>
                </a:lnTo>
                <a:lnTo>
                  <a:pt x="1434" y="4"/>
                </a:lnTo>
                <a:lnTo>
                  <a:pt x="1417" y="6"/>
                </a:lnTo>
                <a:lnTo>
                  <a:pt x="1400" y="9"/>
                </a:lnTo>
                <a:lnTo>
                  <a:pt x="1384" y="13"/>
                </a:lnTo>
                <a:lnTo>
                  <a:pt x="1368" y="17"/>
                </a:lnTo>
                <a:lnTo>
                  <a:pt x="1354" y="23"/>
                </a:lnTo>
                <a:lnTo>
                  <a:pt x="1249" y="23"/>
                </a:lnTo>
                <a:lnTo>
                  <a:pt x="1249" y="23"/>
                </a:lnTo>
                <a:lnTo>
                  <a:pt x="1234" y="17"/>
                </a:lnTo>
                <a:lnTo>
                  <a:pt x="1218" y="13"/>
                </a:lnTo>
                <a:lnTo>
                  <a:pt x="1202" y="9"/>
                </a:lnTo>
                <a:lnTo>
                  <a:pt x="1186" y="6"/>
                </a:lnTo>
                <a:lnTo>
                  <a:pt x="1169" y="4"/>
                </a:lnTo>
                <a:lnTo>
                  <a:pt x="1152" y="1"/>
                </a:lnTo>
                <a:lnTo>
                  <a:pt x="1136" y="0"/>
                </a:lnTo>
                <a:lnTo>
                  <a:pt x="1119" y="0"/>
                </a:lnTo>
                <a:lnTo>
                  <a:pt x="1119" y="0"/>
                </a:lnTo>
                <a:lnTo>
                  <a:pt x="1102" y="0"/>
                </a:lnTo>
                <a:lnTo>
                  <a:pt x="1084" y="1"/>
                </a:lnTo>
                <a:lnTo>
                  <a:pt x="1067" y="4"/>
                </a:lnTo>
                <a:lnTo>
                  <a:pt x="1051" y="6"/>
                </a:lnTo>
                <a:lnTo>
                  <a:pt x="1034" y="9"/>
                </a:lnTo>
                <a:lnTo>
                  <a:pt x="1018" y="13"/>
                </a:lnTo>
                <a:lnTo>
                  <a:pt x="1003" y="17"/>
                </a:lnTo>
                <a:lnTo>
                  <a:pt x="987" y="23"/>
                </a:lnTo>
                <a:lnTo>
                  <a:pt x="883" y="23"/>
                </a:lnTo>
                <a:lnTo>
                  <a:pt x="883" y="23"/>
                </a:lnTo>
                <a:lnTo>
                  <a:pt x="868" y="17"/>
                </a:lnTo>
                <a:lnTo>
                  <a:pt x="852" y="13"/>
                </a:lnTo>
                <a:lnTo>
                  <a:pt x="836" y="9"/>
                </a:lnTo>
                <a:lnTo>
                  <a:pt x="820" y="6"/>
                </a:lnTo>
                <a:lnTo>
                  <a:pt x="803" y="4"/>
                </a:lnTo>
                <a:lnTo>
                  <a:pt x="787" y="1"/>
                </a:lnTo>
                <a:lnTo>
                  <a:pt x="770" y="0"/>
                </a:lnTo>
                <a:lnTo>
                  <a:pt x="752" y="0"/>
                </a:lnTo>
                <a:lnTo>
                  <a:pt x="752" y="0"/>
                </a:lnTo>
                <a:lnTo>
                  <a:pt x="735" y="0"/>
                </a:lnTo>
                <a:lnTo>
                  <a:pt x="718" y="1"/>
                </a:lnTo>
                <a:lnTo>
                  <a:pt x="701" y="4"/>
                </a:lnTo>
                <a:lnTo>
                  <a:pt x="685" y="6"/>
                </a:lnTo>
                <a:lnTo>
                  <a:pt x="669" y="9"/>
                </a:lnTo>
                <a:lnTo>
                  <a:pt x="653" y="13"/>
                </a:lnTo>
                <a:lnTo>
                  <a:pt x="637" y="17"/>
                </a:lnTo>
                <a:lnTo>
                  <a:pt x="621" y="23"/>
                </a:lnTo>
                <a:lnTo>
                  <a:pt x="518" y="23"/>
                </a:lnTo>
                <a:lnTo>
                  <a:pt x="518" y="23"/>
                </a:lnTo>
                <a:lnTo>
                  <a:pt x="502" y="17"/>
                </a:lnTo>
                <a:lnTo>
                  <a:pt x="486" y="13"/>
                </a:lnTo>
                <a:lnTo>
                  <a:pt x="470" y="9"/>
                </a:lnTo>
                <a:lnTo>
                  <a:pt x="454" y="6"/>
                </a:lnTo>
                <a:lnTo>
                  <a:pt x="437" y="4"/>
                </a:lnTo>
                <a:lnTo>
                  <a:pt x="420" y="1"/>
                </a:lnTo>
                <a:lnTo>
                  <a:pt x="403" y="0"/>
                </a:lnTo>
                <a:lnTo>
                  <a:pt x="386" y="0"/>
                </a:lnTo>
                <a:lnTo>
                  <a:pt x="386" y="0"/>
                </a:lnTo>
                <a:lnTo>
                  <a:pt x="366" y="0"/>
                </a:lnTo>
                <a:lnTo>
                  <a:pt x="347" y="2"/>
                </a:lnTo>
                <a:lnTo>
                  <a:pt x="328" y="5"/>
                </a:lnTo>
                <a:lnTo>
                  <a:pt x="308" y="8"/>
                </a:lnTo>
                <a:lnTo>
                  <a:pt x="290" y="12"/>
                </a:lnTo>
                <a:lnTo>
                  <a:pt x="271" y="17"/>
                </a:lnTo>
                <a:lnTo>
                  <a:pt x="253" y="23"/>
                </a:lnTo>
                <a:lnTo>
                  <a:pt x="236" y="30"/>
                </a:lnTo>
                <a:lnTo>
                  <a:pt x="219" y="38"/>
                </a:lnTo>
                <a:lnTo>
                  <a:pt x="202" y="47"/>
                </a:lnTo>
                <a:lnTo>
                  <a:pt x="186" y="56"/>
                </a:lnTo>
                <a:lnTo>
                  <a:pt x="171" y="65"/>
                </a:lnTo>
                <a:lnTo>
                  <a:pt x="155" y="77"/>
                </a:lnTo>
                <a:lnTo>
                  <a:pt x="141" y="88"/>
                </a:lnTo>
                <a:lnTo>
                  <a:pt x="126" y="100"/>
                </a:lnTo>
                <a:lnTo>
                  <a:pt x="113" y="113"/>
                </a:lnTo>
                <a:lnTo>
                  <a:pt x="100" y="126"/>
                </a:lnTo>
                <a:lnTo>
                  <a:pt x="88" y="141"/>
                </a:lnTo>
                <a:lnTo>
                  <a:pt x="77" y="155"/>
                </a:lnTo>
                <a:lnTo>
                  <a:pt x="65" y="171"/>
                </a:lnTo>
                <a:lnTo>
                  <a:pt x="56" y="186"/>
                </a:lnTo>
                <a:lnTo>
                  <a:pt x="47" y="202"/>
                </a:lnTo>
                <a:lnTo>
                  <a:pt x="38" y="219"/>
                </a:lnTo>
                <a:lnTo>
                  <a:pt x="30" y="236"/>
                </a:lnTo>
                <a:lnTo>
                  <a:pt x="23" y="253"/>
                </a:lnTo>
                <a:lnTo>
                  <a:pt x="17" y="271"/>
                </a:lnTo>
                <a:lnTo>
                  <a:pt x="12" y="290"/>
                </a:lnTo>
                <a:lnTo>
                  <a:pt x="8" y="308"/>
                </a:lnTo>
                <a:lnTo>
                  <a:pt x="5" y="328"/>
                </a:lnTo>
                <a:lnTo>
                  <a:pt x="2" y="347"/>
                </a:lnTo>
                <a:lnTo>
                  <a:pt x="0" y="367"/>
                </a:lnTo>
                <a:lnTo>
                  <a:pt x="0" y="386"/>
                </a:lnTo>
                <a:lnTo>
                  <a:pt x="0" y="386"/>
                </a:lnTo>
                <a:lnTo>
                  <a:pt x="0" y="407"/>
                </a:lnTo>
                <a:lnTo>
                  <a:pt x="2" y="426"/>
                </a:lnTo>
                <a:lnTo>
                  <a:pt x="5" y="446"/>
                </a:lnTo>
                <a:lnTo>
                  <a:pt x="8" y="464"/>
                </a:lnTo>
                <a:lnTo>
                  <a:pt x="12" y="482"/>
                </a:lnTo>
                <a:lnTo>
                  <a:pt x="17" y="501"/>
                </a:lnTo>
                <a:lnTo>
                  <a:pt x="23" y="519"/>
                </a:lnTo>
                <a:lnTo>
                  <a:pt x="30" y="536"/>
                </a:lnTo>
                <a:lnTo>
                  <a:pt x="38" y="553"/>
                </a:lnTo>
                <a:lnTo>
                  <a:pt x="47" y="570"/>
                </a:lnTo>
                <a:lnTo>
                  <a:pt x="56" y="586"/>
                </a:lnTo>
                <a:lnTo>
                  <a:pt x="65" y="602"/>
                </a:lnTo>
                <a:lnTo>
                  <a:pt x="77" y="617"/>
                </a:lnTo>
                <a:lnTo>
                  <a:pt x="88" y="632"/>
                </a:lnTo>
                <a:lnTo>
                  <a:pt x="100" y="646"/>
                </a:lnTo>
                <a:lnTo>
                  <a:pt x="113" y="660"/>
                </a:lnTo>
                <a:lnTo>
                  <a:pt x="126" y="672"/>
                </a:lnTo>
                <a:lnTo>
                  <a:pt x="141" y="684"/>
                </a:lnTo>
                <a:lnTo>
                  <a:pt x="155" y="695"/>
                </a:lnTo>
                <a:lnTo>
                  <a:pt x="171" y="707"/>
                </a:lnTo>
                <a:lnTo>
                  <a:pt x="186" y="717"/>
                </a:lnTo>
                <a:lnTo>
                  <a:pt x="202" y="726"/>
                </a:lnTo>
                <a:lnTo>
                  <a:pt x="219" y="734"/>
                </a:lnTo>
                <a:lnTo>
                  <a:pt x="236" y="742"/>
                </a:lnTo>
                <a:lnTo>
                  <a:pt x="253" y="749"/>
                </a:lnTo>
                <a:lnTo>
                  <a:pt x="271" y="755"/>
                </a:lnTo>
                <a:lnTo>
                  <a:pt x="290" y="760"/>
                </a:lnTo>
                <a:lnTo>
                  <a:pt x="308" y="765"/>
                </a:lnTo>
                <a:lnTo>
                  <a:pt x="328" y="768"/>
                </a:lnTo>
                <a:lnTo>
                  <a:pt x="347" y="771"/>
                </a:lnTo>
                <a:lnTo>
                  <a:pt x="366" y="772"/>
                </a:lnTo>
                <a:lnTo>
                  <a:pt x="386" y="772"/>
                </a:lnTo>
                <a:lnTo>
                  <a:pt x="386" y="772"/>
                </a:lnTo>
                <a:lnTo>
                  <a:pt x="416" y="771"/>
                </a:lnTo>
                <a:lnTo>
                  <a:pt x="444" y="768"/>
                </a:lnTo>
                <a:lnTo>
                  <a:pt x="473" y="763"/>
                </a:lnTo>
                <a:lnTo>
                  <a:pt x="500" y="755"/>
                </a:lnTo>
                <a:lnTo>
                  <a:pt x="638" y="755"/>
                </a:lnTo>
                <a:lnTo>
                  <a:pt x="638" y="755"/>
                </a:lnTo>
                <a:lnTo>
                  <a:pt x="665" y="763"/>
                </a:lnTo>
                <a:lnTo>
                  <a:pt x="694" y="768"/>
                </a:lnTo>
                <a:lnTo>
                  <a:pt x="723" y="771"/>
                </a:lnTo>
                <a:lnTo>
                  <a:pt x="752" y="772"/>
                </a:lnTo>
                <a:lnTo>
                  <a:pt x="752" y="772"/>
                </a:lnTo>
                <a:lnTo>
                  <a:pt x="782" y="771"/>
                </a:lnTo>
                <a:lnTo>
                  <a:pt x="811" y="768"/>
                </a:lnTo>
                <a:lnTo>
                  <a:pt x="839" y="763"/>
                </a:lnTo>
                <a:lnTo>
                  <a:pt x="867" y="755"/>
                </a:lnTo>
                <a:lnTo>
                  <a:pt x="1003" y="755"/>
                </a:lnTo>
                <a:lnTo>
                  <a:pt x="1003" y="755"/>
                </a:lnTo>
                <a:lnTo>
                  <a:pt x="1032" y="763"/>
                </a:lnTo>
                <a:lnTo>
                  <a:pt x="1059" y="768"/>
                </a:lnTo>
                <a:lnTo>
                  <a:pt x="1089" y="771"/>
                </a:lnTo>
                <a:lnTo>
                  <a:pt x="1119" y="772"/>
                </a:lnTo>
                <a:lnTo>
                  <a:pt x="1119" y="772"/>
                </a:lnTo>
                <a:lnTo>
                  <a:pt x="1147" y="771"/>
                </a:lnTo>
                <a:lnTo>
                  <a:pt x="1177" y="768"/>
                </a:lnTo>
                <a:lnTo>
                  <a:pt x="1206" y="763"/>
                </a:lnTo>
                <a:lnTo>
                  <a:pt x="1233" y="755"/>
                </a:lnTo>
                <a:lnTo>
                  <a:pt x="1370" y="755"/>
                </a:lnTo>
                <a:lnTo>
                  <a:pt x="1370" y="755"/>
                </a:lnTo>
                <a:lnTo>
                  <a:pt x="1397" y="763"/>
                </a:lnTo>
                <a:lnTo>
                  <a:pt x="1426" y="768"/>
                </a:lnTo>
                <a:lnTo>
                  <a:pt x="1454" y="771"/>
                </a:lnTo>
                <a:lnTo>
                  <a:pt x="1484" y="772"/>
                </a:lnTo>
                <a:lnTo>
                  <a:pt x="1484" y="772"/>
                </a:lnTo>
                <a:lnTo>
                  <a:pt x="1514" y="771"/>
                </a:lnTo>
                <a:lnTo>
                  <a:pt x="1544" y="768"/>
                </a:lnTo>
                <a:lnTo>
                  <a:pt x="1571" y="763"/>
                </a:lnTo>
                <a:lnTo>
                  <a:pt x="1599" y="755"/>
                </a:lnTo>
                <a:lnTo>
                  <a:pt x="1736" y="755"/>
                </a:lnTo>
                <a:lnTo>
                  <a:pt x="1736" y="755"/>
                </a:lnTo>
                <a:lnTo>
                  <a:pt x="1763" y="763"/>
                </a:lnTo>
                <a:lnTo>
                  <a:pt x="1792" y="768"/>
                </a:lnTo>
                <a:lnTo>
                  <a:pt x="1821" y="771"/>
                </a:lnTo>
                <a:lnTo>
                  <a:pt x="1851" y="772"/>
                </a:lnTo>
                <a:lnTo>
                  <a:pt x="1851" y="772"/>
                </a:lnTo>
                <a:lnTo>
                  <a:pt x="1880" y="771"/>
                </a:lnTo>
                <a:lnTo>
                  <a:pt x="1909" y="768"/>
                </a:lnTo>
                <a:lnTo>
                  <a:pt x="1938" y="763"/>
                </a:lnTo>
                <a:lnTo>
                  <a:pt x="1965" y="755"/>
                </a:lnTo>
                <a:lnTo>
                  <a:pt x="2101" y="755"/>
                </a:lnTo>
                <a:lnTo>
                  <a:pt x="2101" y="755"/>
                </a:lnTo>
                <a:lnTo>
                  <a:pt x="2130" y="763"/>
                </a:lnTo>
                <a:lnTo>
                  <a:pt x="2157" y="768"/>
                </a:lnTo>
                <a:lnTo>
                  <a:pt x="2187" y="771"/>
                </a:lnTo>
                <a:lnTo>
                  <a:pt x="2217" y="772"/>
                </a:lnTo>
                <a:lnTo>
                  <a:pt x="2217" y="772"/>
                </a:lnTo>
                <a:lnTo>
                  <a:pt x="2247" y="771"/>
                </a:lnTo>
                <a:lnTo>
                  <a:pt x="2275" y="768"/>
                </a:lnTo>
                <a:lnTo>
                  <a:pt x="2304" y="763"/>
                </a:lnTo>
                <a:lnTo>
                  <a:pt x="2331" y="755"/>
                </a:lnTo>
                <a:lnTo>
                  <a:pt x="2468" y="755"/>
                </a:lnTo>
                <a:lnTo>
                  <a:pt x="2468" y="755"/>
                </a:lnTo>
                <a:lnTo>
                  <a:pt x="2495" y="763"/>
                </a:lnTo>
                <a:lnTo>
                  <a:pt x="2524" y="768"/>
                </a:lnTo>
                <a:lnTo>
                  <a:pt x="2552" y="771"/>
                </a:lnTo>
                <a:lnTo>
                  <a:pt x="2582" y="772"/>
                </a:lnTo>
                <a:lnTo>
                  <a:pt x="2582" y="772"/>
                </a:lnTo>
                <a:lnTo>
                  <a:pt x="2612" y="771"/>
                </a:lnTo>
                <a:lnTo>
                  <a:pt x="2642" y="768"/>
                </a:lnTo>
                <a:lnTo>
                  <a:pt x="2669" y="763"/>
                </a:lnTo>
                <a:lnTo>
                  <a:pt x="2697" y="755"/>
                </a:lnTo>
                <a:lnTo>
                  <a:pt x="2834" y="755"/>
                </a:lnTo>
                <a:lnTo>
                  <a:pt x="2834" y="755"/>
                </a:lnTo>
                <a:lnTo>
                  <a:pt x="2862" y="763"/>
                </a:lnTo>
                <a:lnTo>
                  <a:pt x="2890" y="768"/>
                </a:lnTo>
                <a:lnTo>
                  <a:pt x="2919" y="771"/>
                </a:lnTo>
                <a:lnTo>
                  <a:pt x="2949" y="772"/>
                </a:lnTo>
                <a:lnTo>
                  <a:pt x="2949" y="772"/>
                </a:lnTo>
                <a:lnTo>
                  <a:pt x="2978" y="771"/>
                </a:lnTo>
                <a:lnTo>
                  <a:pt x="3007" y="768"/>
                </a:lnTo>
                <a:lnTo>
                  <a:pt x="3036" y="763"/>
                </a:lnTo>
                <a:lnTo>
                  <a:pt x="3063" y="755"/>
                </a:lnTo>
                <a:lnTo>
                  <a:pt x="3201" y="755"/>
                </a:lnTo>
                <a:lnTo>
                  <a:pt x="3201" y="755"/>
                </a:lnTo>
                <a:lnTo>
                  <a:pt x="3228" y="763"/>
                </a:lnTo>
                <a:lnTo>
                  <a:pt x="3256" y="768"/>
                </a:lnTo>
                <a:lnTo>
                  <a:pt x="3285" y="771"/>
                </a:lnTo>
                <a:lnTo>
                  <a:pt x="3315" y="772"/>
                </a:lnTo>
                <a:lnTo>
                  <a:pt x="3315" y="772"/>
                </a:lnTo>
                <a:lnTo>
                  <a:pt x="3335" y="772"/>
                </a:lnTo>
                <a:lnTo>
                  <a:pt x="3354" y="771"/>
                </a:lnTo>
                <a:lnTo>
                  <a:pt x="3373" y="768"/>
                </a:lnTo>
                <a:lnTo>
                  <a:pt x="3393" y="765"/>
                </a:lnTo>
                <a:lnTo>
                  <a:pt x="3411" y="760"/>
                </a:lnTo>
                <a:lnTo>
                  <a:pt x="3430" y="755"/>
                </a:lnTo>
                <a:lnTo>
                  <a:pt x="3448" y="749"/>
                </a:lnTo>
                <a:lnTo>
                  <a:pt x="3465" y="742"/>
                </a:lnTo>
                <a:lnTo>
                  <a:pt x="3482" y="734"/>
                </a:lnTo>
                <a:lnTo>
                  <a:pt x="3498" y="726"/>
                </a:lnTo>
                <a:lnTo>
                  <a:pt x="3515" y="717"/>
                </a:lnTo>
                <a:lnTo>
                  <a:pt x="3530" y="707"/>
                </a:lnTo>
                <a:lnTo>
                  <a:pt x="3545" y="695"/>
                </a:lnTo>
                <a:lnTo>
                  <a:pt x="3560" y="684"/>
                </a:lnTo>
                <a:lnTo>
                  <a:pt x="3574" y="672"/>
                </a:lnTo>
                <a:lnTo>
                  <a:pt x="3588" y="660"/>
                </a:lnTo>
                <a:lnTo>
                  <a:pt x="3600" y="646"/>
                </a:lnTo>
                <a:lnTo>
                  <a:pt x="3613" y="632"/>
                </a:lnTo>
                <a:lnTo>
                  <a:pt x="3624" y="617"/>
                </a:lnTo>
                <a:lnTo>
                  <a:pt x="3635" y="602"/>
                </a:lnTo>
                <a:lnTo>
                  <a:pt x="3645" y="586"/>
                </a:lnTo>
                <a:lnTo>
                  <a:pt x="3654" y="570"/>
                </a:lnTo>
                <a:lnTo>
                  <a:pt x="3663" y="553"/>
                </a:lnTo>
                <a:lnTo>
                  <a:pt x="3670" y="536"/>
                </a:lnTo>
                <a:lnTo>
                  <a:pt x="3677" y="519"/>
                </a:lnTo>
                <a:lnTo>
                  <a:pt x="3684" y="501"/>
                </a:lnTo>
                <a:lnTo>
                  <a:pt x="3688" y="482"/>
                </a:lnTo>
                <a:lnTo>
                  <a:pt x="3693" y="464"/>
                </a:lnTo>
                <a:lnTo>
                  <a:pt x="3696" y="446"/>
                </a:lnTo>
                <a:lnTo>
                  <a:pt x="3699" y="426"/>
                </a:lnTo>
                <a:lnTo>
                  <a:pt x="3701" y="407"/>
                </a:lnTo>
                <a:lnTo>
                  <a:pt x="3701" y="386"/>
                </a:lnTo>
                <a:lnTo>
                  <a:pt x="3701" y="386"/>
                </a:lnTo>
                <a:lnTo>
                  <a:pt x="3701" y="367"/>
                </a:lnTo>
                <a:lnTo>
                  <a:pt x="3699" y="347"/>
                </a:lnTo>
                <a:lnTo>
                  <a:pt x="3696" y="328"/>
                </a:lnTo>
                <a:lnTo>
                  <a:pt x="3693" y="308"/>
                </a:lnTo>
                <a:lnTo>
                  <a:pt x="3688" y="290"/>
                </a:lnTo>
                <a:lnTo>
                  <a:pt x="3684" y="271"/>
                </a:lnTo>
                <a:lnTo>
                  <a:pt x="3677" y="253"/>
                </a:lnTo>
                <a:lnTo>
                  <a:pt x="3670" y="236"/>
                </a:lnTo>
                <a:lnTo>
                  <a:pt x="3663" y="219"/>
                </a:lnTo>
                <a:lnTo>
                  <a:pt x="3654" y="202"/>
                </a:lnTo>
                <a:lnTo>
                  <a:pt x="3645" y="186"/>
                </a:lnTo>
                <a:lnTo>
                  <a:pt x="3635" y="171"/>
                </a:lnTo>
                <a:lnTo>
                  <a:pt x="3624" y="155"/>
                </a:lnTo>
                <a:lnTo>
                  <a:pt x="3613" y="141"/>
                </a:lnTo>
                <a:lnTo>
                  <a:pt x="3600" y="126"/>
                </a:lnTo>
                <a:lnTo>
                  <a:pt x="3588" y="113"/>
                </a:lnTo>
                <a:lnTo>
                  <a:pt x="3574" y="100"/>
                </a:lnTo>
                <a:lnTo>
                  <a:pt x="3560" y="88"/>
                </a:lnTo>
                <a:lnTo>
                  <a:pt x="3545" y="77"/>
                </a:lnTo>
                <a:lnTo>
                  <a:pt x="3530" y="65"/>
                </a:lnTo>
                <a:lnTo>
                  <a:pt x="3515" y="56"/>
                </a:lnTo>
                <a:lnTo>
                  <a:pt x="3498" y="47"/>
                </a:lnTo>
                <a:lnTo>
                  <a:pt x="3482" y="38"/>
                </a:lnTo>
                <a:lnTo>
                  <a:pt x="3465" y="30"/>
                </a:lnTo>
                <a:lnTo>
                  <a:pt x="3448" y="23"/>
                </a:lnTo>
                <a:lnTo>
                  <a:pt x="3430" y="17"/>
                </a:lnTo>
                <a:lnTo>
                  <a:pt x="3411" y="12"/>
                </a:lnTo>
                <a:lnTo>
                  <a:pt x="3393" y="8"/>
                </a:lnTo>
                <a:lnTo>
                  <a:pt x="3373" y="5"/>
                </a:lnTo>
                <a:lnTo>
                  <a:pt x="3354" y="2"/>
                </a:lnTo>
                <a:lnTo>
                  <a:pt x="3335" y="0"/>
                </a:lnTo>
                <a:lnTo>
                  <a:pt x="3315" y="0"/>
                </a:lnTo>
                <a:lnTo>
                  <a:pt x="3315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그림 28" descr="Untitled-20.png"/>
          <p:cNvPicPr/>
          <p:nvPr/>
        </p:nvPicPr>
        <p:blipFill>
          <a:blip r:embed="rId7"/>
          <a:srcRect l="34947" t="18826" r="28862" b="37884"/>
          <a:stretch/>
        </p:blipFill>
        <p:spPr>
          <a:xfrm>
            <a:off x="304920" y="3886200"/>
            <a:ext cx="2516040" cy="1143000"/>
          </a:xfrm>
          <a:prstGeom prst="rect">
            <a:avLst/>
          </a:prstGeom>
          <a:ln w="0">
            <a:noFill/>
          </a:ln>
        </p:spPr>
      </p:pic>
      <p:sp>
        <p:nvSpPr>
          <p:cNvPr id="184" name="未知"/>
          <p:cNvSpPr/>
          <p:nvPr/>
        </p:nvSpPr>
        <p:spPr>
          <a:xfrm>
            <a:off x="1079640" y="2833560"/>
            <a:ext cx="7462800" cy="890640"/>
          </a:xfrm>
          <a:custGeom>
            <a:avLst/>
            <a:gdLst/>
            <a:ahLst/>
            <a:rect l="l" t="t" r="r" b="b"/>
            <a:pathLst>
              <a:path w="3701" h="772">
                <a:moveTo>
                  <a:pt x="3315" y="0"/>
                </a:moveTo>
                <a:lnTo>
                  <a:pt x="3315" y="0"/>
                </a:lnTo>
                <a:lnTo>
                  <a:pt x="3298" y="0"/>
                </a:lnTo>
                <a:lnTo>
                  <a:pt x="3281" y="1"/>
                </a:lnTo>
                <a:lnTo>
                  <a:pt x="3264" y="4"/>
                </a:lnTo>
                <a:lnTo>
                  <a:pt x="3247" y="6"/>
                </a:lnTo>
                <a:lnTo>
                  <a:pt x="3230" y="9"/>
                </a:lnTo>
                <a:lnTo>
                  <a:pt x="3214" y="13"/>
                </a:lnTo>
                <a:lnTo>
                  <a:pt x="3199" y="17"/>
                </a:lnTo>
                <a:lnTo>
                  <a:pt x="3183" y="23"/>
                </a:lnTo>
                <a:lnTo>
                  <a:pt x="3080" y="23"/>
                </a:lnTo>
                <a:lnTo>
                  <a:pt x="3080" y="23"/>
                </a:lnTo>
                <a:lnTo>
                  <a:pt x="3064" y="17"/>
                </a:lnTo>
                <a:lnTo>
                  <a:pt x="3048" y="13"/>
                </a:lnTo>
                <a:lnTo>
                  <a:pt x="3032" y="9"/>
                </a:lnTo>
                <a:lnTo>
                  <a:pt x="3016" y="6"/>
                </a:lnTo>
                <a:lnTo>
                  <a:pt x="2999" y="4"/>
                </a:lnTo>
                <a:lnTo>
                  <a:pt x="2983" y="1"/>
                </a:lnTo>
                <a:lnTo>
                  <a:pt x="2966" y="0"/>
                </a:lnTo>
                <a:lnTo>
                  <a:pt x="2949" y="0"/>
                </a:lnTo>
                <a:lnTo>
                  <a:pt x="2949" y="0"/>
                </a:lnTo>
                <a:lnTo>
                  <a:pt x="2931" y="0"/>
                </a:lnTo>
                <a:lnTo>
                  <a:pt x="2914" y="1"/>
                </a:lnTo>
                <a:lnTo>
                  <a:pt x="2897" y="4"/>
                </a:lnTo>
                <a:lnTo>
                  <a:pt x="2881" y="6"/>
                </a:lnTo>
                <a:lnTo>
                  <a:pt x="2865" y="9"/>
                </a:lnTo>
                <a:lnTo>
                  <a:pt x="2849" y="13"/>
                </a:lnTo>
                <a:lnTo>
                  <a:pt x="2833" y="17"/>
                </a:lnTo>
                <a:lnTo>
                  <a:pt x="2817" y="23"/>
                </a:lnTo>
                <a:lnTo>
                  <a:pt x="2714" y="23"/>
                </a:lnTo>
                <a:lnTo>
                  <a:pt x="2714" y="23"/>
                </a:lnTo>
                <a:lnTo>
                  <a:pt x="2698" y="17"/>
                </a:lnTo>
                <a:lnTo>
                  <a:pt x="2683" y="13"/>
                </a:lnTo>
                <a:lnTo>
                  <a:pt x="2666" y="9"/>
                </a:lnTo>
                <a:lnTo>
                  <a:pt x="2650" y="6"/>
                </a:lnTo>
                <a:lnTo>
                  <a:pt x="2634" y="4"/>
                </a:lnTo>
                <a:lnTo>
                  <a:pt x="2617" y="1"/>
                </a:lnTo>
                <a:lnTo>
                  <a:pt x="2599" y="0"/>
                </a:lnTo>
                <a:lnTo>
                  <a:pt x="2582" y="0"/>
                </a:lnTo>
                <a:lnTo>
                  <a:pt x="2582" y="0"/>
                </a:lnTo>
                <a:lnTo>
                  <a:pt x="2565" y="0"/>
                </a:lnTo>
                <a:lnTo>
                  <a:pt x="2548" y="1"/>
                </a:lnTo>
                <a:lnTo>
                  <a:pt x="2532" y="4"/>
                </a:lnTo>
                <a:lnTo>
                  <a:pt x="2515" y="6"/>
                </a:lnTo>
                <a:lnTo>
                  <a:pt x="2499" y="9"/>
                </a:lnTo>
                <a:lnTo>
                  <a:pt x="2483" y="13"/>
                </a:lnTo>
                <a:lnTo>
                  <a:pt x="2467" y="17"/>
                </a:lnTo>
                <a:lnTo>
                  <a:pt x="2452" y="23"/>
                </a:lnTo>
                <a:lnTo>
                  <a:pt x="2347" y="23"/>
                </a:lnTo>
                <a:lnTo>
                  <a:pt x="2347" y="23"/>
                </a:lnTo>
                <a:lnTo>
                  <a:pt x="2333" y="17"/>
                </a:lnTo>
                <a:lnTo>
                  <a:pt x="2317" y="13"/>
                </a:lnTo>
                <a:lnTo>
                  <a:pt x="2301" y="9"/>
                </a:lnTo>
                <a:lnTo>
                  <a:pt x="2284" y="6"/>
                </a:lnTo>
                <a:lnTo>
                  <a:pt x="2267" y="4"/>
                </a:lnTo>
                <a:lnTo>
                  <a:pt x="2250" y="1"/>
                </a:lnTo>
                <a:lnTo>
                  <a:pt x="2234" y="0"/>
                </a:lnTo>
                <a:lnTo>
                  <a:pt x="2217" y="0"/>
                </a:lnTo>
                <a:lnTo>
                  <a:pt x="2217" y="0"/>
                </a:lnTo>
                <a:lnTo>
                  <a:pt x="2200" y="0"/>
                </a:lnTo>
                <a:lnTo>
                  <a:pt x="2183" y="1"/>
                </a:lnTo>
                <a:lnTo>
                  <a:pt x="2165" y="4"/>
                </a:lnTo>
                <a:lnTo>
                  <a:pt x="2149" y="6"/>
                </a:lnTo>
                <a:lnTo>
                  <a:pt x="2132" y="9"/>
                </a:lnTo>
                <a:lnTo>
                  <a:pt x="2116" y="13"/>
                </a:lnTo>
                <a:lnTo>
                  <a:pt x="2101" y="17"/>
                </a:lnTo>
                <a:lnTo>
                  <a:pt x="2085" y="23"/>
                </a:lnTo>
                <a:lnTo>
                  <a:pt x="1982" y="23"/>
                </a:lnTo>
                <a:lnTo>
                  <a:pt x="1982" y="23"/>
                </a:lnTo>
                <a:lnTo>
                  <a:pt x="1966" y="17"/>
                </a:lnTo>
                <a:lnTo>
                  <a:pt x="1950" y="13"/>
                </a:lnTo>
                <a:lnTo>
                  <a:pt x="1934" y="9"/>
                </a:lnTo>
                <a:lnTo>
                  <a:pt x="1918" y="6"/>
                </a:lnTo>
                <a:lnTo>
                  <a:pt x="1901" y="4"/>
                </a:lnTo>
                <a:lnTo>
                  <a:pt x="1885" y="1"/>
                </a:lnTo>
                <a:lnTo>
                  <a:pt x="1868" y="0"/>
                </a:lnTo>
                <a:lnTo>
                  <a:pt x="1851" y="0"/>
                </a:lnTo>
                <a:lnTo>
                  <a:pt x="1851" y="0"/>
                </a:lnTo>
                <a:lnTo>
                  <a:pt x="1833" y="0"/>
                </a:lnTo>
                <a:lnTo>
                  <a:pt x="1816" y="1"/>
                </a:lnTo>
                <a:lnTo>
                  <a:pt x="1799" y="4"/>
                </a:lnTo>
                <a:lnTo>
                  <a:pt x="1783" y="6"/>
                </a:lnTo>
                <a:lnTo>
                  <a:pt x="1767" y="9"/>
                </a:lnTo>
                <a:lnTo>
                  <a:pt x="1751" y="13"/>
                </a:lnTo>
                <a:lnTo>
                  <a:pt x="1735" y="17"/>
                </a:lnTo>
                <a:lnTo>
                  <a:pt x="1719" y="23"/>
                </a:lnTo>
                <a:lnTo>
                  <a:pt x="1616" y="23"/>
                </a:lnTo>
                <a:lnTo>
                  <a:pt x="1616" y="23"/>
                </a:lnTo>
                <a:lnTo>
                  <a:pt x="1600" y="17"/>
                </a:lnTo>
                <a:lnTo>
                  <a:pt x="1584" y="13"/>
                </a:lnTo>
                <a:lnTo>
                  <a:pt x="1568" y="9"/>
                </a:lnTo>
                <a:lnTo>
                  <a:pt x="1552" y="6"/>
                </a:lnTo>
                <a:lnTo>
                  <a:pt x="1536" y="4"/>
                </a:lnTo>
                <a:lnTo>
                  <a:pt x="1518" y="1"/>
                </a:lnTo>
                <a:lnTo>
                  <a:pt x="1501" y="0"/>
                </a:lnTo>
                <a:lnTo>
                  <a:pt x="1484" y="0"/>
                </a:lnTo>
                <a:lnTo>
                  <a:pt x="1484" y="0"/>
                </a:lnTo>
                <a:lnTo>
                  <a:pt x="1467" y="0"/>
                </a:lnTo>
                <a:lnTo>
                  <a:pt x="1450" y="1"/>
                </a:lnTo>
                <a:lnTo>
                  <a:pt x="1434" y="4"/>
                </a:lnTo>
                <a:lnTo>
                  <a:pt x="1417" y="6"/>
                </a:lnTo>
                <a:lnTo>
                  <a:pt x="1400" y="9"/>
                </a:lnTo>
                <a:lnTo>
                  <a:pt x="1384" y="13"/>
                </a:lnTo>
                <a:lnTo>
                  <a:pt x="1368" y="17"/>
                </a:lnTo>
                <a:lnTo>
                  <a:pt x="1354" y="23"/>
                </a:lnTo>
                <a:lnTo>
                  <a:pt x="1249" y="23"/>
                </a:lnTo>
                <a:lnTo>
                  <a:pt x="1249" y="23"/>
                </a:lnTo>
                <a:lnTo>
                  <a:pt x="1234" y="17"/>
                </a:lnTo>
                <a:lnTo>
                  <a:pt x="1218" y="13"/>
                </a:lnTo>
                <a:lnTo>
                  <a:pt x="1202" y="9"/>
                </a:lnTo>
                <a:lnTo>
                  <a:pt x="1186" y="6"/>
                </a:lnTo>
                <a:lnTo>
                  <a:pt x="1169" y="4"/>
                </a:lnTo>
                <a:lnTo>
                  <a:pt x="1152" y="1"/>
                </a:lnTo>
                <a:lnTo>
                  <a:pt x="1136" y="0"/>
                </a:lnTo>
                <a:lnTo>
                  <a:pt x="1119" y="0"/>
                </a:lnTo>
                <a:lnTo>
                  <a:pt x="1119" y="0"/>
                </a:lnTo>
                <a:lnTo>
                  <a:pt x="1102" y="0"/>
                </a:lnTo>
                <a:lnTo>
                  <a:pt x="1084" y="1"/>
                </a:lnTo>
                <a:lnTo>
                  <a:pt x="1067" y="4"/>
                </a:lnTo>
                <a:lnTo>
                  <a:pt x="1051" y="6"/>
                </a:lnTo>
                <a:lnTo>
                  <a:pt x="1034" y="9"/>
                </a:lnTo>
                <a:lnTo>
                  <a:pt x="1018" y="13"/>
                </a:lnTo>
                <a:lnTo>
                  <a:pt x="1003" y="17"/>
                </a:lnTo>
                <a:lnTo>
                  <a:pt x="987" y="23"/>
                </a:lnTo>
                <a:lnTo>
                  <a:pt x="883" y="23"/>
                </a:lnTo>
                <a:lnTo>
                  <a:pt x="883" y="23"/>
                </a:lnTo>
                <a:lnTo>
                  <a:pt x="868" y="17"/>
                </a:lnTo>
                <a:lnTo>
                  <a:pt x="852" y="13"/>
                </a:lnTo>
                <a:lnTo>
                  <a:pt x="836" y="9"/>
                </a:lnTo>
                <a:lnTo>
                  <a:pt x="820" y="6"/>
                </a:lnTo>
                <a:lnTo>
                  <a:pt x="803" y="4"/>
                </a:lnTo>
                <a:lnTo>
                  <a:pt x="787" y="1"/>
                </a:lnTo>
                <a:lnTo>
                  <a:pt x="770" y="0"/>
                </a:lnTo>
                <a:lnTo>
                  <a:pt x="752" y="0"/>
                </a:lnTo>
                <a:lnTo>
                  <a:pt x="752" y="0"/>
                </a:lnTo>
                <a:lnTo>
                  <a:pt x="735" y="0"/>
                </a:lnTo>
                <a:lnTo>
                  <a:pt x="718" y="1"/>
                </a:lnTo>
                <a:lnTo>
                  <a:pt x="701" y="4"/>
                </a:lnTo>
                <a:lnTo>
                  <a:pt x="685" y="6"/>
                </a:lnTo>
                <a:lnTo>
                  <a:pt x="669" y="9"/>
                </a:lnTo>
                <a:lnTo>
                  <a:pt x="653" y="13"/>
                </a:lnTo>
                <a:lnTo>
                  <a:pt x="637" y="17"/>
                </a:lnTo>
                <a:lnTo>
                  <a:pt x="621" y="23"/>
                </a:lnTo>
                <a:lnTo>
                  <a:pt x="518" y="23"/>
                </a:lnTo>
                <a:lnTo>
                  <a:pt x="518" y="23"/>
                </a:lnTo>
                <a:lnTo>
                  <a:pt x="502" y="17"/>
                </a:lnTo>
                <a:lnTo>
                  <a:pt x="486" y="13"/>
                </a:lnTo>
                <a:lnTo>
                  <a:pt x="470" y="9"/>
                </a:lnTo>
                <a:lnTo>
                  <a:pt x="454" y="6"/>
                </a:lnTo>
                <a:lnTo>
                  <a:pt x="437" y="4"/>
                </a:lnTo>
                <a:lnTo>
                  <a:pt x="420" y="1"/>
                </a:lnTo>
                <a:lnTo>
                  <a:pt x="403" y="0"/>
                </a:lnTo>
                <a:lnTo>
                  <a:pt x="386" y="0"/>
                </a:lnTo>
                <a:lnTo>
                  <a:pt x="386" y="0"/>
                </a:lnTo>
                <a:lnTo>
                  <a:pt x="366" y="0"/>
                </a:lnTo>
                <a:lnTo>
                  <a:pt x="347" y="2"/>
                </a:lnTo>
                <a:lnTo>
                  <a:pt x="328" y="5"/>
                </a:lnTo>
                <a:lnTo>
                  <a:pt x="308" y="8"/>
                </a:lnTo>
                <a:lnTo>
                  <a:pt x="290" y="12"/>
                </a:lnTo>
                <a:lnTo>
                  <a:pt x="271" y="17"/>
                </a:lnTo>
                <a:lnTo>
                  <a:pt x="253" y="23"/>
                </a:lnTo>
                <a:lnTo>
                  <a:pt x="236" y="30"/>
                </a:lnTo>
                <a:lnTo>
                  <a:pt x="219" y="38"/>
                </a:lnTo>
                <a:lnTo>
                  <a:pt x="202" y="47"/>
                </a:lnTo>
                <a:lnTo>
                  <a:pt x="186" y="56"/>
                </a:lnTo>
                <a:lnTo>
                  <a:pt x="171" y="65"/>
                </a:lnTo>
                <a:lnTo>
                  <a:pt x="155" y="77"/>
                </a:lnTo>
                <a:lnTo>
                  <a:pt x="141" y="88"/>
                </a:lnTo>
                <a:lnTo>
                  <a:pt x="126" y="100"/>
                </a:lnTo>
                <a:lnTo>
                  <a:pt x="113" y="113"/>
                </a:lnTo>
                <a:lnTo>
                  <a:pt x="100" y="126"/>
                </a:lnTo>
                <a:lnTo>
                  <a:pt x="88" y="141"/>
                </a:lnTo>
                <a:lnTo>
                  <a:pt x="77" y="155"/>
                </a:lnTo>
                <a:lnTo>
                  <a:pt x="65" y="171"/>
                </a:lnTo>
                <a:lnTo>
                  <a:pt x="56" y="186"/>
                </a:lnTo>
                <a:lnTo>
                  <a:pt x="47" y="202"/>
                </a:lnTo>
                <a:lnTo>
                  <a:pt x="38" y="219"/>
                </a:lnTo>
                <a:lnTo>
                  <a:pt x="30" y="236"/>
                </a:lnTo>
                <a:lnTo>
                  <a:pt x="23" y="253"/>
                </a:lnTo>
                <a:lnTo>
                  <a:pt x="17" y="271"/>
                </a:lnTo>
                <a:lnTo>
                  <a:pt x="12" y="290"/>
                </a:lnTo>
                <a:lnTo>
                  <a:pt x="8" y="308"/>
                </a:lnTo>
                <a:lnTo>
                  <a:pt x="5" y="328"/>
                </a:lnTo>
                <a:lnTo>
                  <a:pt x="2" y="347"/>
                </a:lnTo>
                <a:lnTo>
                  <a:pt x="0" y="367"/>
                </a:lnTo>
                <a:lnTo>
                  <a:pt x="0" y="386"/>
                </a:lnTo>
                <a:lnTo>
                  <a:pt x="0" y="386"/>
                </a:lnTo>
                <a:lnTo>
                  <a:pt x="0" y="407"/>
                </a:lnTo>
                <a:lnTo>
                  <a:pt x="2" y="426"/>
                </a:lnTo>
                <a:lnTo>
                  <a:pt x="5" y="446"/>
                </a:lnTo>
                <a:lnTo>
                  <a:pt x="8" y="464"/>
                </a:lnTo>
                <a:lnTo>
                  <a:pt x="12" y="482"/>
                </a:lnTo>
                <a:lnTo>
                  <a:pt x="17" y="501"/>
                </a:lnTo>
                <a:lnTo>
                  <a:pt x="23" y="519"/>
                </a:lnTo>
                <a:lnTo>
                  <a:pt x="30" y="536"/>
                </a:lnTo>
                <a:lnTo>
                  <a:pt x="38" y="553"/>
                </a:lnTo>
                <a:lnTo>
                  <a:pt x="47" y="570"/>
                </a:lnTo>
                <a:lnTo>
                  <a:pt x="56" y="586"/>
                </a:lnTo>
                <a:lnTo>
                  <a:pt x="65" y="602"/>
                </a:lnTo>
                <a:lnTo>
                  <a:pt x="77" y="617"/>
                </a:lnTo>
                <a:lnTo>
                  <a:pt x="88" y="632"/>
                </a:lnTo>
                <a:lnTo>
                  <a:pt x="100" y="646"/>
                </a:lnTo>
                <a:lnTo>
                  <a:pt x="113" y="660"/>
                </a:lnTo>
                <a:lnTo>
                  <a:pt x="126" y="672"/>
                </a:lnTo>
                <a:lnTo>
                  <a:pt x="141" y="684"/>
                </a:lnTo>
                <a:lnTo>
                  <a:pt x="155" y="695"/>
                </a:lnTo>
                <a:lnTo>
                  <a:pt x="171" y="707"/>
                </a:lnTo>
                <a:lnTo>
                  <a:pt x="186" y="717"/>
                </a:lnTo>
                <a:lnTo>
                  <a:pt x="202" y="726"/>
                </a:lnTo>
                <a:lnTo>
                  <a:pt x="219" y="734"/>
                </a:lnTo>
                <a:lnTo>
                  <a:pt x="236" y="742"/>
                </a:lnTo>
                <a:lnTo>
                  <a:pt x="253" y="749"/>
                </a:lnTo>
                <a:lnTo>
                  <a:pt x="271" y="755"/>
                </a:lnTo>
                <a:lnTo>
                  <a:pt x="290" y="760"/>
                </a:lnTo>
                <a:lnTo>
                  <a:pt x="308" y="765"/>
                </a:lnTo>
                <a:lnTo>
                  <a:pt x="328" y="768"/>
                </a:lnTo>
                <a:lnTo>
                  <a:pt x="347" y="771"/>
                </a:lnTo>
                <a:lnTo>
                  <a:pt x="366" y="772"/>
                </a:lnTo>
                <a:lnTo>
                  <a:pt x="386" y="772"/>
                </a:lnTo>
                <a:lnTo>
                  <a:pt x="386" y="772"/>
                </a:lnTo>
                <a:lnTo>
                  <a:pt x="416" y="771"/>
                </a:lnTo>
                <a:lnTo>
                  <a:pt x="444" y="768"/>
                </a:lnTo>
                <a:lnTo>
                  <a:pt x="473" y="763"/>
                </a:lnTo>
                <a:lnTo>
                  <a:pt x="500" y="755"/>
                </a:lnTo>
                <a:lnTo>
                  <a:pt x="638" y="755"/>
                </a:lnTo>
                <a:lnTo>
                  <a:pt x="638" y="755"/>
                </a:lnTo>
                <a:lnTo>
                  <a:pt x="665" y="763"/>
                </a:lnTo>
                <a:lnTo>
                  <a:pt x="694" y="768"/>
                </a:lnTo>
                <a:lnTo>
                  <a:pt x="723" y="771"/>
                </a:lnTo>
                <a:lnTo>
                  <a:pt x="752" y="772"/>
                </a:lnTo>
                <a:lnTo>
                  <a:pt x="752" y="772"/>
                </a:lnTo>
                <a:lnTo>
                  <a:pt x="782" y="771"/>
                </a:lnTo>
                <a:lnTo>
                  <a:pt x="811" y="768"/>
                </a:lnTo>
                <a:lnTo>
                  <a:pt x="839" y="763"/>
                </a:lnTo>
                <a:lnTo>
                  <a:pt x="867" y="755"/>
                </a:lnTo>
                <a:lnTo>
                  <a:pt x="1003" y="755"/>
                </a:lnTo>
                <a:lnTo>
                  <a:pt x="1003" y="755"/>
                </a:lnTo>
                <a:lnTo>
                  <a:pt x="1032" y="763"/>
                </a:lnTo>
                <a:lnTo>
                  <a:pt x="1059" y="768"/>
                </a:lnTo>
                <a:lnTo>
                  <a:pt x="1089" y="771"/>
                </a:lnTo>
                <a:lnTo>
                  <a:pt x="1119" y="772"/>
                </a:lnTo>
                <a:lnTo>
                  <a:pt x="1119" y="772"/>
                </a:lnTo>
                <a:lnTo>
                  <a:pt x="1147" y="771"/>
                </a:lnTo>
                <a:lnTo>
                  <a:pt x="1177" y="768"/>
                </a:lnTo>
                <a:lnTo>
                  <a:pt x="1206" y="763"/>
                </a:lnTo>
                <a:lnTo>
                  <a:pt x="1233" y="755"/>
                </a:lnTo>
                <a:lnTo>
                  <a:pt x="1370" y="755"/>
                </a:lnTo>
                <a:lnTo>
                  <a:pt x="1370" y="755"/>
                </a:lnTo>
                <a:lnTo>
                  <a:pt x="1397" y="763"/>
                </a:lnTo>
                <a:lnTo>
                  <a:pt x="1426" y="768"/>
                </a:lnTo>
                <a:lnTo>
                  <a:pt x="1454" y="771"/>
                </a:lnTo>
                <a:lnTo>
                  <a:pt x="1484" y="772"/>
                </a:lnTo>
                <a:lnTo>
                  <a:pt x="1484" y="772"/>
                </a:lnTo>
                <a:lnTo>
                  <a:pt x="1514" y="771"/>
                </a:lnTo>
                <a:lnTo>
                  <a:pt x="1544" y="768"/>
                </a:lnTo>
                <a:lnTo>
                  <a:pt x="1571" y="763"/>
                </a:lnTo>
                <a:lnTo>
                  <a:pt x="1599" y="755"/>
                </a:lnTo>
                <a:lnTo>
                  <a:pt x="1736" y="755"/>
                </a:lnTo>
                <a:lnTo>
                  <a:pt x="1736" y="755"/>
                </a:lnTo>
                <a:lnTo>
                  <a:pt x="1763" y="763"/>
                </a:lnTo>
                <a:lnTo>
                  <a:pt x="1792" y="768"/>
                </a:lnTo>
                <a:lnTo>
                  <a:pt x="1821" y="771"/>
                </a:lnTo>
                <a:lnTo>
                  <a:pt x="1851" y="772"/>
                </a:lnTo>
                <a:lnTo>
                  <a:pt x="1851" y="772"/>
                </a:lnTo>
                <a:lnTo>
                  <a:pt x="1880" y="771"/>
                </a:lnTo>
                <a:lnTo>
                  <a:pt x="1909" y="768"/>
                </a:lnTo>
                <a:lnTo>
                  <a:pt x="1938" y="763"/>
                </a:lnTo>
                <a:lnTo>
                  <a:pt x="1965" y="755"/>
                </a:lnTo>
                <a:lnTo>
                  <a:pt x="2101" y="755"/>
                </a:lnTo>
                <a:lnTo>
                  <a:pt x="2101" y="755"/>
                </a:lnTo>
                <a:lnTo>
                  <a:pt x="2130" y="763"/>
                </a:lnTo>
                <a:lnTo>
                  <a:pt x="2157" y="768"/>
                </a:lnTo>
                <a:lnTo>
                  <a:pt x="2187" y="771"/>
                </a:lnTo>
                <a:lnTo>
                  <a:pt x="2217" y="772"/>
                </a:lnTo>
                <a:lnTo>
                  <a:pt x="2217" y="772"/>
                </a:lnTo>
                <a:lnTo>
                  <a:pt x="2247" y="771"/>
                </a:lnTo>
                <a:lnTo>
                  <a:pt x="2275" y="768"/>
                </a:lnTo>
                <a:lnTo>
                  <a:pt x="2304" y="763"/>
                </a:lnTo>
                <a:lnTo>
                  <a:pt x="2331" y="755"/>
                </a:lnTo>
                <a:lnTo>
                  <a:pt x="2468" y="755"/>
                </a:lnTo>
                <a:lnTo>
                  <a:pt x="2468" y="755"/>
                </a:lnTo>
                <a:lnTo>
                  <a:pt x="2495" y="763"/>
                </a:lnTo>
                <a:lnTo>
                  <a:pt x="2524" y="768"/>
                </a:lnTo>
                <a:lnTo>
                  <a:pt x="2552" y="771"/>
                </a:lnTo>
                <a:lnTo>
                  <a:pt x="2582" y="772"/>
                </a:lnTo>
                <a:lnTo>
                  <a:pt x="2582" y="772"/>
                </a:lnTo>
                <a:lnTo>
                  <a:pt x="2612" y="771"/>
                </a:lnTo>
                <a:lnTo>
                  <a:pt x="2642" y="768"/>
                </a:lnTo>
                <a:lnTo>
                  <a:pt x="2669" y="763"/>
                </a:lnTo>
                <a:lnTo>
                  <a:pt x="2697" y="755"/>
                </a:lnTo>
                <a:lnTo>
                  <a:pt x="2834" y="755"/>
                </a:lnTo>
                <a:lnTo>
                  <a:pt x="2834" y="755"/>
                </a:lnTo>
                <a:lnTo>
                  <a:pt x="2862" y="763"/>
                </a:lnTo>
                <a:lnTo>
                  <a:pt x="2890" y="768"/>
                </a:lnTo>
                <a:lnTo>
                  <a:pt x="2919" y="771"/>
                </a:lnTo>
                <a:lnTo>
                  <a:pt x="2949" y="772"/>
                </a:lnTo>
                <a:lnTo>
                  <a:pt x="2949" y="772"/>
                </a:lnTo>
                <a:lnTo>
                  <a:pt x="2978" y="771"/>
                </a:lnTo>
                <a:lnTo>
                  <a:pt x="3007" y="768"/>
                </a:lnTo>
                <a:lnTo>
                  <a:pt x="3036" y="763"/>
                </a:lnTo>
                <a:lnTo>
                  <a:pt x="3063" y="755"/>
                </a:lnTo>
                <a:lnTo>
                  <a:pt x="3201" y="755"/>
                </a:lnTo>
                <a:lnTo>
                  <a:pt x="3201" y="755"/>
                </a:lnTo>
                <a:lnTo>
                  <a:pt x="3228" y="763"/>
                </a:lnTo>
                <a:lnTo>
                  <a:pt x="3256" y="768"/>
                </a:lnTo>
                <a:lnTo>
                  <a:pt x="3285" y="771"/>
                </a:lnTo>
                <a:lnTo>
                  <a:pt x="3315" y="772"/>
                </a:lnTo>
                <a:lnTo>
                  <a:pt x="3315" y="772"/>
                </a:lnTo>
                <a:lnTo>
                  <a:pt x="3335" y="772"/>
                </a:lnTo>
                <a:lnTo>
                  <a:pt x="3354" y="771"/>
                </a:lnTo>
                <a:lnTo>
                  <a:pt x="3373" y="768"/>
                </a:lnTo>
                <a:lnTo>
                  <a:pt x="3393" y="765"/>
                </a:lnTo>
                <a:lnTo>
                  <a:pt x="3411" y="760"/>
                </a:lnTo>
                <a:lnTo>
                  <a:pt x="3430" y="755"/>
                </a:lnTo>
                <a:lnTo>
                  <a:pt x="3448" y="749"/>
                </a:lnTo>
                <a:lnTo>
                  <a:pt x="3465" y="742"/>
                </a:lnTo>
                <a:lnTo>
                  <a:pt x="3482" y="734"/>
                </a:lnTo>
                <a:lnTo>
                  <a:pt x="3498" y="726"/>
                </a:lnTo>
                <a:lnTo>
                  <a:pt x="3515" y="717"/>
                </a:lnTo>
                <a:lnTo>
                  <a:pt x="3530" y="707"/>
                </a:lnTo>
                <a:lnTo>
                  <a:pt x="3545" y="695"/>
                </a:lnTo>
                <a:lnTo>
                  <a:pt x="3560" y="684"/>
                </a:lnTo>
                <a:lnTo>
                  <a:pt x="3574" y="672"/>
                </a:lnTo>
                <a:lnTo>
                  <a:pt x="3588" y="660"/>
                </a:lnTo>
                <a:lnTo>
                  <a:pt x="3600" y="646"/>
                </a:lnTo>
                <a:lnTo>
                  <a:pt x="3613" y="632"/>
                </a:lnTo>
                <a:lnTo>
                  <a:pt x="3624" y="617"/>
                </a:lnTo>
                <a:lnTo>
                  <a:pt x="3635" y="602"/>
                </a:lnTo>
                <a:lnTo>
                  <a:pt x="3645" y="586"/>
                </a:lnTo>
                <a:lnTo>
                  <a:pt x="3654" y="570"/>
                </a:lnTo>
                <a:lnTo>
                  <a:pt x="3663" y="553"/>
                </a:lnTo>
                <a:lnTo>
                  <a:pt x="3670" y="536"/>
                </a:lnTo>
                <a:lnTo>
                  <a:pt x="3677" y="519"/>
                </a:lnTo>
                <a:lnTo>
                  <a:pt x="3684" y="501"/>
                </a:lnTo>
                <a:lnTo>
                  <a:pt x="3688" y="482"/>
                </a:lnTo>
                <a:lnTo>
                  <a:pt x="3693" y="464"/>
                </a:lnTo>
                <a:lnTo>
                  <a:pt x="3696" y="446"/>
                </a:lnTo>
                <a:lnTo>
                  <a:pt x="3699" y="426"/>
                </a:lnTo>
                <a:lnTo>
                  <a:pt x="3701" y="407"/>
                </a:lnTo>
                <a:lnTo>
                  <a:pt x="3701" y="386"/>
                </a:lnTo>
                <a:lnTo>
                  <a:pt x="3701" y="386"/>
                </a:lnTo>
                <a:lnTo>
                  <a:pt x="3701" y="367"/>
                </a:lnTo>
                <a:lnTo>
                  <a:pt x="3699" y="347"/>
                </a:lnTo>
                <a:lnTo>
                  <a:pt x="3696" y="328"/>
                </a:lnTo>
                <a:lnTo>
                  <a:pt x="3693" y="308"/>
                </a:lnTo>
                <a:lnTo>
                  <a:pt x="3688" y="290"/>
                </a:lnTo>
                <a:lnTo>
                  <a:pt x="3684" y="271"/>
                </a:lnTo>
                <a:lnTo>
                  <a:pt x="3677" y="253"/>
                </a:lnTo>
                <a:lnTo>
                  <a:pt x="3670" y="236"/>
                </a:lnTo>
                <a:lnTo>
                  <a:pt x="3663" y="219"/>
                </a:lnTo>
                <a:lnTo>
                  <a:pt x="3654" y="202"/>
                </a:lnTo>
                <a:lnTo>
                  <a:pt x="3645" y="186"/>
                </a:lnTo>
                <a:lnTo>
                  <a:pt x="3635" y="171"/>
                </a:lnTo>
                <a:lnTo>
                  <a:pt x="3624" y="155"/>
                </a:lnTo>
                <a:lnTo>
                  <a:pt x="3613" y="141"/>
                </a:lnTo>
                <a:lnTo>
                  <a:pt x="3600" y="126"/>
                </a:lnTo>
                <a:lnTo>
                  <a:pt x="3588" y="113"/>
                </a:lnTo>
                <a:lnTo>
                  <a:pt x="3574" y="100"/>
                </a:lnTo>
                <a:lnTo>
                  <a:pt x="3560" y="88"/>
                </a:lnTo>
                <a:lnTo>
                  <a:pt x="3545" y="77"/>
                </a:lnTo>
                <a:lnTo>
                  <a:pt x="3530" y="65"/>
                </a:lnTo>
                <a:lnTo>
                  <a:pt x="3515" y="56"/>
                </a:lnTo>
                <a:lnTo>
                  <a:pt x="3498" y="47"/>
                </a:lnTo>
                <a:lnTo>
                  <a:pt x="3482" y="38"/>
                </a:lnTo>
                <a:lnTo>
                  <a:pt x="3465" y="30"/>
                </a:lnTo>
                <a:lnTo>
                  <a:pt x="3448" y="23"/>
                </a:lnTo>
                <a:lnTo>
                  <a:pt x="3430" y="17"/>
                </a:lnTo>
                <a:lnTo>
                  <a:pt x="3411" y="12"/>
                </a:lnTo>
                <a:lnTo>
                  <a:pt x="3393" y="8"/>
                </a:lnTo>
                <a:lnTo>
                  <a:pt x="3373" y="5"/>
                </a:lnTo>
                <a:lnTo>
                  <a:pt x="3354" y="2"/>
                </a:lnTo>
                <a:lnTo>
                  <a:pt x="3335" y="0"/>
                </a:lnTo>
                <a:lnTo>
                  <a:pt x="3315" y="0"/>
                </a:lnTo>
                <a:lnTo>
                  <a:pt x="3315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그림 28" descr="Untitled-20.png"/>
          <p:cNvPicPr/>
          <p:nvPr/>
        </p:nvPicPr>
        <p:blipFill>
          <a:blip r:embed="rId8"/>
          <a:srcRect l="34947" t="18826" r="28862" b="37884"/>
          <a:stretch/>
        </p:blipFill>
        <p:spPr>
          <a:xfrm>
            <a:off x="304920" y="2666880"/>
            <a:ext cx="2516040" cy="1143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669"/>
          <p:cNvSpPr/>
          <p:nvPr/>
        </p:nvSpPr>
        <p:spPr>
          <a:xfrm>
            <a:off x="-1141560" y="1219320"/>
            <a:ext cx="1522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70"/>
          <p:cNvSpPr/>
          <p:nvPr/>
        </p:nvSpPr>
        <p:spPr>
          <a:xfrm>
            <a:off x="533520" y="18288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隶书"/>
              </a:rPr>
              <a:t>政治法律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71"/>
          <p:cNvSpPr/>
          <p:nvPr/>
        </p:nvSpPr>
        <p:spPr>
          <a:xfrm>
            <a:off x="609480" y="54100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隶书"/>
              </a:rPr>
              <a:t>技术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72"/>
          <p:cNvSpPr/>
          <p:nvPr/>
        </p:nvSpPr>
        <p:spPr>
          <a:xfrm>
            <a:off x="533520" y="4267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隶书"/>
              </a:rPr>
              <a:t>社会文化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73"/>
          <p:cNvSpPr/>
          <p:nvPr/>
        </p:nvSpPr>
        <p:spPr>
          <a:xfrm>
            <a:off x="533520" y="30481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隶书"/>
              </a:rPr>
              <a:t>经济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75"/>
          <p:cNvSpPr/>
          <p:nvPr/>
        </p:nvSpPr>
        <p:spPr>
          <a:xfrm>
            <a:off x="2438280" y="54864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78" descr="2008518225319305"/>
          <p:cNvPicPr/>
          <p:nvPr/>
        </p:nvPicPr>
        <p:blipFill>
          <a:blip r:embed="rId9"/>
          <a:stretch/>
        </p:blipFill>
        <p:spPr>
          <a:xfrm rot="20163000">
            <a:off x="7772400" y="19047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79" descr="2008518225319305"/>
          <p:cNvPicPr/>
          <p:nvPr/>
        </p:nvPicPr>
        <p:blipFill>
          <a:blip r:embed="rId10"/>
          <a:stretch/>
        </p:blipFill>
        <p:spPr>
          <a:xfrm rot="20163000">
            <a:off x="7696080" y="3123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80" descr="2008518225319305"/>
          <p:cNvPicPr/>
          <p:nvPr/>
        </p:nvPicPr>
        <p:blipFill>
          <a:blip r:embed="rId11"/>
          <a:stretch/>
        </p:blipFill>
        <p:spPr>
          <a:xfrm rot="20163000">
            <a:off x="7772400" y="43430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81" descr="2008518225319305"/>
          <p:cNvPicPr/>
          <p:nvPr/>
        </p:nvPicPr>
        <p:blipFill>
          <a:blip r:embed="rId12"/>
          <a:stretch/>
        </p:blipFill>
        <p:spPr>
          <a:xfrm rot="20163000">
            <a:off x="7772400" y="548604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124080" y="17524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1840" y="30481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54400" y="423396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05160" y="53434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5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60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8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8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上"/>
          <p:cNvPicPr/>
          <p:nvPr/>
        </p:nvPicPr>
        <p:blipFill>
          <a:blip r:embed="rId4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5" descr="ppt宝藏_www"/>
          <p:cNvPicPr/>
          <p:nvPr/>
        </p:nvPicPr>
        <p:blipFill>
          <a:blip r:embed="rId5"/>
          <a:stretch/>
        </p:blipFill>
        <p:spPr>
          <a:xfrm>
            <a:off x="731520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7" descr="2008518225319305"/>
          <p:cNvPicPr/>
          <p:nvPr/>
        </p:nvPicPr>
        <p:blipFill>
          <a:blip r:embed="rId6"/>
          <a:stretch/>
        </p:blipFill>
        <p:spPr>
          <a:xfrm>
            <a:off x="5867280" y="28195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9" descr="2008518225319305"/>
          <p:cNvPicPr/>
          <p:nvPr/>
        </p:nvPicPr>
        <p:blipFill>
          <a:blip r:embed="rId7"/>
          <a:stretch/>
        </p:blipFill>
        <p:spPr>
          <a:xfrm>
            <a:off x="0" y="28195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1" descr="2008518225319305"/>
          <p:cNvPicPr/>
          <p:nvPr/>
        </p:nvPicPr>
        <p:blipFill>
          <a:blip r:embed="rId8"/>
          <a:stretch/>
        </p:blipFill>
        <p:spPr>
          <a:xfrm>
            <a:off x="2895480" y="28195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3" descr="2008518225319305"/>
          <p:cNvPicPr/>
          <p:nvPr/>
        </p:nvPicPr>
        <p:blipFill>
          <a:blip r:embed="rId9"/>
          <a:stretch/>
        </p:blipFill>
        <p:spPr>
          <a:xfrm>
            <a:off x="1447920" y="91440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5" descr="2008518225319305"/>
          <p:cNvPicPr/>
          <p:nvPr/>
        </p:nvPicPr>
        <p:blipFill>
          <a:blip r:embed="rId10"/>
          <a:stretch/>
        </p:blipFill>
        <p:spPr>
          <a:xfrm>
            <a:off x="4495680" y="990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830240" y="175248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请在此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52880" y="182880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请在此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680" y="365760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请在此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365760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请在此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6280" y="35845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请在此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5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65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85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上"/>
          <p:cNvPicPr/>
          <p:nvPr/>
        </p:nvPicPr>
        <p:blipFill>
          <a:blip r:embed="rId4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sp>
        <p:nvSpPr>
          <p:cNvPr id="219" name="Freeform 82"/>
          <p:cNvSpPr/>
          <p:nvPr/>
        </p:nvSpPr>
        <p:spPr>
          <a:xfrm rot="20856600">
            <a:off x="1371240" y="1066320"/>
            <a:ext cx="5181480" cy="2017800"/>
          </a:xfrm>
          <a:custGeom>
            <a:avLst/>
            <a:gdLst>
              <a:gd name="textAreaLeft" fmla="*/ 0 w 5181480"/>
              <a:gd name="textAreaRight" fmla="*/ 5181840 w 5181480"/>
              <a:gd name="textAreaTop" fmla="*/ 0 h 2017800"/>
              <a:gd name="textAreaBottom" fmla="*/ 2018160 h 2017800"/>
            </a:gdLst>
            <a:ahLst/>
            <a:rect l="textAreaLeft" t="textAreaTop" r="textAreaRight" b="textAreaBottom"/>
            <a:pathLst>
              <a:path w="2048" h="1194">
                <a:moveTo>
                  <a:pt x="0" y="1194"/>
                </a:moveTo>
                <a:lnTo>
                  <a:pt x="0" y="1194"/>
                </a:lnTo>
                <a:lnTo>
                  <a:pt x="50" y="1184"/>
                </a:lnTo>
                <a:lnTo>
                  <a:pt x="108" y="1170"/>
                </a:lnTo>
                <a:lnTo>
                  <a:pt x="186" y="1152"/>
                </a:lnTo>
                <a:lnTo>
                  <a:pt x="282" y="1124"/>
                </a:lnTo>
                <a:lnTo>
                  <a:pt x="394" y="1090"/>
                </a:lnTo>
                <a:lnTo>
                  <a:pt x="520" y="1046"/>
                </a:lnTo>
                <a:lnTo>
                  <a:pt x="588" y="1022"/>
                </a:lnTo>
                <a:lnTo>
                  <a:pt x="658" y="994"/>
                </a:lnTo>
                <a:lnTo>
                  <a:pt x="730" y="964"/>
                </a:lnTo>
                <a:lnTo>
                  <a:pt x="806" y="932"/>
                </a:lnTo>
                <a:lnTo>
                  <a:pt x="882" y="896"/>
                </a:lnTo>
                <a:lnTo>
                  <a:pt x="960" y="858"/>
                </a:lnTo>
                <a:lnTo>
                  <a:pt x="1040" y="818"/>
                </a:lnTo>
                <a:lnTo>
                  <a:pt x="1122" y="774"/>
                </a:lnTo>
                <a:lnTo>
                  <a:pt x="1204" y="728"/>
                </a:lnTo>
                <a:lnTo>
                  <a:pt x="1288" y="678"/>
                </a:lnTo>
                <a:lnTo>
                  <a:pt x="1370" y="624"/>
                </a:lnTo>
                <a:lnTo>
                  <a:pt x="1454" y="568"/>
                </a:lnTo>
                <a:lnTo>
                  <a:pt x="1538" y="510"/>
                </a:lnTo>
                <a:lnTo>
                  <a:pt x="1622" y="446"/>
                </a:lnTo>
                <a:lnTo>
                  <a:pt x="1704" y="380"/>
                </a:lnTo>
                <a:lnTo>
                  <a:pt x="1788" y="310"/>
                </a:lnTo>
                <a:lnTo>
                  <a:pt x="1868" y="236"/>
                </a:lnTo>
                <a:lnTo>
                  <a:pt x="1948" y="158"/>
                </a:lnTo>
                <a:lnTo>
                  <a:pt x="1984" y="206"/>
                </a:lnTo>
                <a:lnTo>
                  <a:pt x="2048" y="0"/>
                </a:lnTo>
                <a:lnTo>
                  <a:pt x="1900" y="112"/>
                </a:lnTo>
                <a:lnTo>
                  <a:pt x="1924" y="136"/>
                </a:lnTo>
                <a:lnTo>
                  <a:pt x="1892" y="170"/>
                </a:lnTo>
                <a:lnTo>
                  <a:pt x="1854" y="208"/>
                </a:lnTo>
                <a:lnTo>
                  <a:pt x="1800" y="258"/>
                </a:lnTo>
                <a:lnTo>
                  <a:pt x="1732" y="320"/>
                </a:lnTo>
                <a:lnTo>
                  <a:pt x="1650" y="388"/>
                </a:lnTo>
                <a:lnTo>
                  <a:pt x="1552" y="464"/>
                </a:lnTo>
                <a:lnTo>
                  <a:pt x="1500" y="502"/>
                </a:lnTo>
                <a:lnTo>
                  <a:pt x="1442" y="542"/>
                </a:lnTo>
                <a:lnTo>
                  <a:pt x="1382" y="582"/>
                </a:lnTo>
                <a:lnTo>
                  <a:pt x="1318" y="624"/>
                </a:lnTo>
                <a:lnTo>
                  <a:pt x="1252" y="664"/>
                </a:lnTo>
                <a:lnTo>
                  <a:pt x="1182" y="706"/>
                </a:lnTo>
                <a:lnTo>
                  <a:pt x="1108" y="746"/>
                </a:lnTo>
                <a:lnTo>
                  <a:pt x="1032" y="786"/>
                </a:lnTo>
                <a:lnTo>
                  <a:pt x="954" y="826"/>
                </a:lnTo>
                <a:lnTo>
                  <a:pt x="870" y="862"/>
                </a:lnTo>
                <a:lnTo>
                  <a:pt x="786" y="900"/>
                </a:lnTo>
                <a:lnTo>
                  <a:pt x="696" y="934"/>
                </a:lnTo>
                <a:lnTo>
                  <a:pt x="606" y="968"/>
                </a:lnTo>
                <a:lnTo>
                  <a:pt x="510" y="998"/>
                </a:lnTo>
                <a:lnTo>
                  <a:pt x="414" y="1028"/>
                </a:lnTo>
                <a:lnTo>
                  <a:pt x="314" y="1054"/>
                </a:lnTo>
                <a:lnTo>
                  <a:pt x="210" y="1076"/>
                </a:lnTo>
                <a:lnTo>
                  <a:pt x="106" y="1096"/>
                </a:lnTo>
                <a:lnTo>
                  <a:pt x="78" y="1126"/>
                </a:lnTo>
                <a:lnTo>
                  <a:pt x="44" y="1158"/>
                </a:lnTo>
                <a:lnTo>
                  <a:pt x="0" y="1194"/>
                </a:lnTo>
                <a:close/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404040"/>
              </a:gs>
            </a:gsLst>
            <a:lin ang="8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982880" y="3733920"/>
            <a:ext cx="1371240" cy="1600200"/>
            <a:chOff x="1982880" y="3733920"/>
            <a:chExt cx="1371240" cy="1600200"/>
          </a:xfrm>
        </p:grpSpPr>
        <p:sp>
          <p:nvSpPr>
            <p:cNvPr id="221" name="Freeform 7"/>
            <p:cNvSpPr/>
            <p:nvPr/>
          </p:nvSpPr>
          <p:spPr>
            <a:xfrm>
              <a:off x="1982880" y="3800520"/>
              <a:ext cx="1371240" cy="153360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1533600"/>
                <a:gd name="textAreaBottom" fmla="*/ 1533960 h 1533600"/>
              </a:gdLst>
              <a:ahLst/>
              <a:rect l="textAreaLeft" t="textAreaTop" r="textAreaRight" b="textAreaBottom"/>
              <a:pathLst>
                <a:path w="384" h="1244">
                  <a:moveTo>
                    <a:pt x="0" y="0"/>
                  </a:moveTo>
                  <a:lnTo>
                    <a:pt x="0" y="1188"/>
                  </a:lnTo>
                  <a:lnTo>
                    <a:pt x="8" y="1194"/>
                  </a:lnTo>
                  <a:lnTo>
                    <a:pt x="32" y="1206"/>
                  </a:lnTo>
                  <a:lnTo>
                    <a:pt x="70" y="1222"/>
                  </a:lnTo>
                  <a:lnTo>
                    <a:pt x="94" y="1228"/>
                  </a:lnTo>
                  <a:lnTo>
                    <a:pt x="120" y="1234"/>
                  </a:lnTo>
                  <a:lnTo>
                    <a:pt x="148" y="1240"/>
                  </a:lnTo>
                  <a:lnTo>
                    <a:pt x="178" y="1242"/>
                  </a:lnTo>
                  <a:lnTo>
                    <a:pt x="210" y="1244"/>
                  </a:lnTo>
                  <a:lnTo>
                    <a:pt x="242" y="1240"/>
                  </a:lnTo>
                  <a:lnTo>
                    <a:pt x="276" y="1234"/>
                  </a:lnTo>
                  <a:lnTo>
                    <a:pt x="312" y="1224"/>
                  </a:lnTo>
                  <a:lnTo>
                    <a:pt x="348" y="1208"/>
                  </a:lnTo>
                  <a:lnTo>
                    <a:pt x="366" y="1200"/>
                  </a:lnTo>
                  <a:lnTo>
                    <a:pt x="384" y="1188"/>
                  </a:lnTo>
                  <a:lnTo>
                    <a:pt x="38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"/>
            <p:cNvSpPr/>
            <p:nvPr/>
          </p:nvSpPr>
          <p:spPr>
            <a:xfrm>
              <a:off x="1982880" y="3733920"/>
              <a:ext cx="1371240" cy="11988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384" h="128">
                  <a:moveTo>
                    <a:pt x="384" y="64"/>
                  </a:moveTo>
                  <a:lnTo>
                    <a:pt x="384" y="64"/>
                  </a:lnTo>
                  <a:lnTo>
                    <a:pt x="382" y="70"/>
                  </a:lnTo>
                  <a:lnTo>
                    <a:pt x="380" y="76"/>
                  </a:lnTo>
                  <a:lnTo>
                    <a:pt x="374" y="82"/>
                  </a:lnTo>
                  <a:lnTo>
                    <a:pt x="368" y="88"/>
                  </a:lnTo>
                  <a:lnTo>
                    <a:pt x="350" y="100"/>
                  </a:lnTo>
                  <a:lnTo>
                    <a:pt x="326" y="110"/>
                  </a:lnTo>
                  <a:lnTo>
                    <a:pt x="298" y="116"/>
                  </a:lnTo>
                  <a:lnTo>
                    <a:pt x="266" y="122"/>
                  </a:lnTo>
                  <a:lnTo>
                    <a:pt x="230" y="126"/>
                  </a:lnTo>
                  <a:lnTo>
                    <a:pt x="192" y="128"/>
                  </a:lnTo>
                  <a:lnTo>
                    <a:pt x="152" y="126"/>
                  </a:lnTo>
                  <a:lnTo>
                    <a:pt x="116" y="122"/>
                  </a:lnTo>
                  <a:lnTo>
                    <a:pt x="84" y="116"/>
                  </a:lnTo>
                  <a:lnTo>
                    <a:pt x="56" y="110"/>
                  </a:lnTo>
                  <a:lnTo>
                    <a:pt x="32" y="100"/>
                  </a:lnTo>
                  <a:lnTo>
                    <a:pt x="14" y="88"/>
                  </a:lnTo>
                  <a:lnTo>
                    <a:pt x="8" y="82"/>
                  </a:lnTo>
                  <a:lnTo>
                    <a:pt x="4" y="76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4" y="52"/>
                  </a:lnTo>
                  <a:lnTo>
                    <a:pt x="8" y="44"/>
                  </a:lnTo>
                  <a:lnTo>
                    <a:pt x="14" y="40"/>
                  </a:lnTo>
                  <a:lnTo>
                    <a:pt x="32" y="28"/>
                  </a:lnTo>
                  <a:lnTo>
                    <a:pt x="56" y="18"/>
                  </a:lnTo>
                  <a:lnTo>
                    <a:pt x="84" y="10"/>
                  </a:lnTo>
                  <a:lnTo>
                    <a:pt x="116" y="4"/>
                  </a:lnTo>
                  <a:lnTo>
                    <a:pt x="152" y="2"/>
                  </a:lnTo>
                  <a:lnTo>
                    <a:pt x="192" y="0"/>
                  </a:lnTo>
                  <a:lnTo>
                    <a:pt x="230" y="2"/>
                  </a:lnTo>
                  <a:lnTo>
                    <a:pt x="266" y="4"/>
                  </a:lnTo>
                  <a:lnTo>
                    <a:pt x="298" y="10"/>
                  </a:lnTo>
                  <a:lnTo>
                    <a:pt x="326" y="18"/>
                  </a:lnTo>
                  <a:lnTo>
                    <a:pt x="350" y="28"/>
                  </a:lnTo>
                  <a:lnTo>
                    <a:pt x="368" y="40"/>
                  </a:lnTo>
                  <a:lnTo>
                    <a:pt x="374" y="44"/>
                  </a:lnTo>
                  <a:lnTo>
                    <a:pt x="380" y="52"/>
                  </a:lnTo>
                  <a:lnTo>
                    <a:pt x="382" y="58"/>
                  </a:lnTo>
                  <a:lnTo>
                    <a:pt x="384" y="6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019920" y="1371600"/>
            <a:ext cx="1371240" cy="3962160"/>
            <a:chOff x="6019920" y="1371600"/>
            <a:chExt cx="1371240" cy="3962160"/>
          </a:xfrm>
        </p:grpSpPr>
        <p:sp>
          <p:nvSpPr>
            <p:cNvPr id="224" name="Freeform 7"/>
            <p:cNvSpPr/>
            <p:nvPr/>
          </p:nvSpPr>
          <p:spPr>
            <a:xfrm>
              <a:off x="6019920" y="1536480"/>
              <a:ext cx="1371240" cy="379728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3797280"/>
                <a:gd name="textAreaBottom" fmla="*/ 3797640 h 3797280"/>
              </a:gdLst>
              <a:ahLst/>
              <a:rect l="textAreaLeft" t="textAreaTop" r="textAreaRight" b="textAreaBottom"/>
              <a:pathLst>
                <a:path w="384" h="1244">
                  <a:moveTo>
                    <a:pt x="0" y="0"/>
                  </a:moveTo>
                  <a:lnTo>
                    <a:pt x="0" y="1188"/>
                  </a:lnTo>
                  <a:lnTo>
                    <a:pt x="8" y="1194"/>
                  </a:lnTo>
                  <a:lnTo>
                    <a:pt x="32" y="1206"/>
                  </a:lnTo>
                  <a:lnTo>
                    <a:pt x="70" y="1222"/>
                  </a:lnTo>
                  <a:lnTo>
                    <a:pt x="94" y="1228"/>
                  </a:lnTo>
                  <a:lnTo>
                    <a:pt x="120" y="1234"/>
                  </a:lnTo>
                  <a:lnTo>
                    <a:pt x="148" y="1240"/>
                  </a:lnTo>
                  <a:lnTo>
                    <a:pt x="178" y="1242"/>
                  </a:lnTo>
                  <a:lnTo>
                    <a:pt x="210" y="1244"/>
                  </a:lnTo>
                  <a:lnTo>
                    <a:pt x="242" y="1240"/>
                  </a:lnTo>
                  <a:lnTo>
                    <a:pt x="276" y="1234"/>
                  </a:lnTo>
                  <a:lnTo>
                    <a:pt x="312" y="1224"/>
                  </a:lnTo>
                  <a:lnTo>
                    <a:pt x="348" y="1208"/>
                  </a:lnTo>
                  <a:lnTo>
                    <a:pt x="366" y="1200"/>
                  </a:lnTo>
                  <a:lnTo>
                    <a:pt x="384" y="1188"/>
                  </a:lnTo>
                  <a:lnTo>
                    <a:pt x="38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"/>
            <p:cNvSpPr/>
            <p:nvPr/>
          </p:nvSpPr>
          <p:spPr>
            <a:xfrm>
              <a:off x="6019920" y="1371600"/>
              <a:ext cx="1371240" cy="29736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384" h="128">
                  <a:moveTo>
                    <a:pt x="384" y="64"/>
                  </a:moveTo>
                  <a:lnTo>
                    <a:pt x="384" y="64"/>
                  </a:lnTo>
                  <a:lnTo>
                    <a:pt x="382" y="70"/>
                  </a:lnTo>
                  <a:lnTo>
                    <a:pt x="380" y="76"/>
                  </a:lnTo>
                  <a:lnTo>
                    <a:pt x="374" y="82"/>
                  </a:lnTo>
                  <a:lnTo>
                    <a:pt x="368" y="88"/>
                  </a:lnTo>
                  <a:lnTo>
                    <a:pt x="350" y="100"/>
                  </a:lnTo>
                  <a:lnTo>
                    <a:pt x="326" y="110"/>
                  </a:lnTo>
                  <a:lnTo>
                    <a:pt x="298" y="116"/>
                  </a:lnTo>
                  <a:lnTo>
                    <a:pt x="266" y="122"/>
                  </a:lnTo>
                  <a:lnTo>
                    <a:pt x="230" y="126"/>
                  </a:lnTo>
                  <a:lnTo>
                    <a:pt x="192" y="128"/>
                  </a:lnTo>
                  <a:lnTo>
                    <a:pt x="152" y="126"/>
                  </a:lnTo>
                  <a:lnTo>
                    <a:pt x="116" y="122"/>
                  </a:lnTo>
                  <a:lnTo>
                    <a:pt x="84" y="116"/>
                  </a:lnTo>
                  <a:lnTo>
                    <a:pt x="56" y="110"/>
                  </a:lnTo>
                  <a:lnTo>
                    <a:pt x="32" y="100"/>
                  </a:lnTo>
                  <a:lnTo>
                    <a:pt x="14" y="88"/>
                  </a:lnTo>
                  <a:lnTo>
                    <a:pt x="8" y="82"/>
                  </a:lnTo>
                  <a:lnTo>
                    <a:pt x="4" y="76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4" y="52"/>
                  </a:lnTo>
                  <a:lnTo>
                    <a:pt x="8" y="44"/>
                  </a:lnTo>
                  <a:lnTo>
                    <a:pt x="14" y="40"/>
                  </a:lnTo>
                  <a:lnTo>
                    <a:pt x="32" y="28"/>
                  </a:lnTo>
                  <a:lnTo>
                    <a:pt x="56" y="18"/>
                  </a:lnTo>
                  <a:lnTo>
                    <a:pt x="84" y="10"/>
                  </a:lnTo>
                  <a:lnTo>
                    <a:pt x="116" y="4"/>
                  </a:lnTo>
                  <a:lnTo>
                    <a:pt x="152" y="2"/>
                  </a:lnTo>
                  <a:lnTo>
                    <a:pt x="192" y="0"/>
                  </a:lnTo>
                  <a:lnTo>
                    <a:pt x="230" y="2"/>
                  </a:lnTo>
                  <a:lnTo>
                    <a:pt x="266" y="4"/>
                  </a:lnTo>
                  <a:lnTo>
                    <a:pt x="298" y="10"/>
                  </a:lnTo>
                  <a:lnTo>
                    <a:pt x="326" y="18"/>
                  </a:lnTo>
                  <a:lnTo>
                    <a:pt x="350" y="28"/>
                  </a:lnTo>
                  <a:lnTo>
                    <a:pt x="368" y="40"/>
                  </a:lnTo>
                  <a:lnTo>
                    <a:pt x="374" y="44"/>
                  </a:lnTo>
                  <a:lnTo>
                    <a:pt x="380" y="52"/>
                  </a:lnTo>
                  <a:lnTo>
                    <a:pt x="382" y="58"/>
                  </a:lnTo>
                  <a:lnTo>
                    <a:pt x="384" y="6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038480" y="2819520"/>
            <a:ext cx="1371240" cy="2514240"/>
            <a:chOff x="4038480" y="2819520"/>
            <a:chExt cx="1371240" cy="2514240"/>
          </a:xfrm>
        </p:grpSpPr>
        <p:sp>
          <p:nvSpPr>
            <p:cNvPr id="227" name="Freeform 7"/>
            <p:cNvSpPr/>
            <p:nvPr/>
          </p:nvSpPr>
          <p:spPr>
            <a:xfrm>
              <a:off x="4038480" y="2923920"/>
              <a:ext cx="1371240" cy="240984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2409840"/>
                <a:gd name="textAreaBottom" fmla="*/ 2410200 h 2409840"/>
              </a:gdLst>
              <a:ahLst/>
              <a:rect l="textAreaLeft" t="textAreaTop" r="textAreaRight" b="textAreaBottom"/>
              <a:pathLst>
                <a:path w="384" h="1244">
                  <a:moveTo>
                    <a:pt x="0" y="0"/>
                  </a:moveTo>
                  <a:lnTo>
                    <a:pt x="0" y="1188"/>
                  </a:lnTo>
                  <a:lnTo>
                    <a:pt x="8" y="1194"/>
                  </a:lnTo>
                  <a:lnTo>
                    <a:pt x="32" y="1206"/>
                  </a:lnTo>
                  <a:lnTo>
                    <a:pt x="70" y="1222"/>
                  </a:lnTo>
                  <a:lnTo>
                    <a:pt x="94" y="1228"/>
                  </a:lnTo>
                  <a:lnTo>
                    <a:pt x="120" y="1234"/>
                  </a:lnTo>
                  <a:lnTo>
                    <a:pt x="148" y="1240"/>
                  </a:lnTo>
                  <a:lnTo>
                    <a:pt x="178" y="1242"/>
                  </a:lnTo>
                  <a:lnTo>
                    <a:pt x="210" y="1244"/>
                  </a:lnTo>
                  <a:lnTo>
                    <a:pt x="242" y="1240"/>
                  </a:lnTo>
                  <a:lnTo>
                    <a:pt x="276" y="1234"/>
                  </a:lnTo>
                  <a:lnTo>
                    <a:pt x="312" y="1224"/>
                  </a:lnTo>
                  <a:lnTo>
                    <a:pt x="348" y="1208"/>
                  </a:lnTo>
                  <a:lnTo>
                    <a:pt x="366" y="1200"/>
                  </a:lnTo>
                  <a:lnTo>
                    <a:pt x="384" y="1188"/>
                  </a:lnTo>
                  <a:lnTo>
                    <a:pt x="38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4"/>
            <p:cNvSpPr/>
            <p:nvPr/>
          </p:nvSpPr>
          <p:spPr>
            <a:xfrm>
              <a:off x="4038480" y="2819520"/>
              <a:ext cx="1371240" cy="18864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384" h="128">
                  <a:moveTo>
                    <a:pt x="384" y="64"/>
                  </a:moveTo>
                  <a:lnTo>
                    <a:pt x="384" y="64"/>
                  </a:lnTo>
                  <a:lnTo>
                    <a:pt x="382" y="70"/>
                  </a:lnTo>
                  <a:lnTo>
                    <a:pt x="380" y="76"/>
                  </a:lnTo>
                  <a:lnTo>
                    <a:pt x="374" y="82"/>
                  </a:lnTo>
                  <a:lnTo>
                    <a:pt x="368" y="88"/>
                  </a:lnTo>
                  <a:lnTo>
                    <a:pt x="350" y="100"/>
                  </a:lnTo>
                  <a:lnTo>
                    <a:pt x="326" y="110"/>
                  </a:lnTo>
                  <a:lnTo>
                    <a:pt x="298" y="116"/>
                  </a:lnTo>
                  <a:lnTo>
                    <a:pt x="266" y="122"/>
                  </a:lnTo>
                  <a:lnTo>
                    <a:pt x="230" y="126"/>
                  </a:lnTo>
                  <a:lnTo>
                    <a:pt x="192" y="128"/>
                  </a:lnTo>
                  <a:lnTo>
                    <a:pt x="152" y="126"/>
                  </a:lnTo>
                  <a:lnTo>
                    <a:pt x="116" y="122"/>
                  </a:lnTo>
                  <a:lnTo>
                    <a:pt x="84" y="116"/>
                  </a:lnTo>
                  <a:lnTo>
                    <a:pt x="56" y="110"/>
                  </a:lnTo>
                  <a:lnTo>
                    <a:pt x="32" y="100"/>
                  </a:lnTo>
                  <a:lnTo>
                    <a:pt x="14" y="88"/>
                  </a:lnTo>
                  <a:lnTo>
                    <a:pt x="8" y="82"/>
                  </a:lnTo>
                  <a:lnTo>
                    <a:pt x="4" y="76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4" y="52"/>
                  </a:lnTo>
                  <a:lnTo>
                    <a:pt x="8" y="44"/>
                  </a:lnTo>
                  <a:lnTo>
                    <a:pt x="14" y="40"/>
                  </a:lnTo>
                  <a:lnTo>
                    <a:pt x="32" y="28"/>
                  </a:lnTo>
                  <a:lnTo>
                    <a:pt x="56" y="18"/>
                  </a:lnTo>
                  <a:lnTo>
                    <a:pt x="84" y="10"/>
                  </a:lnTo>
                  <a:lnTo>
                    <a:pt x="116" y="4"/>
                  </a:lnTo>
                  <a:lnTo>
                    <a:pt x="152" y="2"/>
                  </a:lnTo>
                  <a:lnTo>
                    <a:pt x="192" y="0"/>
                  </a:lnTo>
                  <a:lnTo>
                    <a:pt x="230" y="2"/>
                  </a:lnTo>
                  <a:lnTo>
                    <a:pt x="266" y="4"/>
                  </a:lnTo>
                  <a:lnTo>
                    <a:pt x="298" y="10"/>
                  </a:lnTo>
                  <a:lnTo>
                    <a:pt x="326" y="18"/>
                  </a:lnTo>
                  <a:lnTo>
                    <a:pt x="350" y="28"/>
                  </a:lnTo>
                  <a:lnTo>
                    <a:pt x="368" y="40"/>
                  </a:lnTo>
                  <a:lnTo>
                    <a:pt x="374" y="44"/>
                  </a:lnTo>
                  <a:lnTo>
                    <a:pt x="380" y="52"/>
                  </a:lnTo>
                  <a:lnTo>
                    <a:pt x="382" y="58"/>
                  </a:lnTo>
                  <a:lnTo>
                    <a:pt x="384" y="6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478" descr="ppt宝藏_www"/>
          <p:cNvPicPr/>
          <p:nvPr/>
        </p:nvPicPr>
        <p:blipFill>
          <a:blip r:embed="rId5"/>
          <a:stretch/>
        </p:blipFill>
        <p:spPr>
          <a:xfrm>
            <a:off x="7518240" y="52322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79" descr="ppt宝藏_www"/>
          <p:cNvPicPr/>
          <p:nvPr/>
        </p:nvPicPr>
        <p:blipFill>
          <a:blip r:embed="rId6"/>
          <a:stretch/>
        </p:blipFill>
        <p:spPr>
          <a:xfrm>
            <a:off x="0" y="5335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827360" y="40384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87640" y="33526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69080" y="21337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3000"/>
                            </p:stCondLst>
                            <p:childTnLst>
                              <p:par>
                                <p:cTn id="5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500"/>
                            </p:stCondLst>
                            <p:childTnLst>
                              <p:par>
                                <p:cTn id="5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60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8000"/>
                            </p:stCondLst>
                            <p:childTnLst>
                              <p:par>
                                <p:cTn id="5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24" descr="3.png"/>
          <p:cNvPicPr/>
          <p:nvPr/>
        </p:nvPicPr>
        <p:blipFill>
          <a:blip r:embed="rId3"/>
          <a:srcRect l="0" t="0" r="0" b="79469"/>
          <a:stretch/>
        </p:blipFill>
        <p:spPr>
          <a:xfrm>
            <a:off x="0" y="0"/>
            <a:ext cx="9360000" cy="137160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23" descr="3.png"/>
          <p:cNvPicPr/>
          <p:nvPr/>
        </p:nvPicPr>
        <p:blipFill>
          <a:blip r:embed="rId4"/>
          <a:srcRect l="0" t="79263" r="0" b="0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上"/>
          <p:cNvPicPr/>
          <p:nvPr/>
        </p:nvPicPr>
        <p:blipFill>
          <a:blip r:embed="rId5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4" descr="绿2"/>
          <p:cNvPicPr/>
          <p:nvPr/>
        </p:nvPicPr>
        <p:blipFill>
          <a:blip r:embed="rId6"/>
          <a:stretch/>
        </p:blipFill>
        <p:spPr>
          <a:xfrm>
            <a:off x="4572000" y="0"/>
            <a:ext cx="4572000" cy="1846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6" descr="本本 (165)"/>
          <p:cNvPicPr/>
          <p:nvPr/>
        </p:nvPicPr>
        <p:blipFill>
          <a:blip r:embed="rId7"/>
          <a:stretch/>
        </p:blipFill>
        <p:spPr>
          <a:xfrm rot="1981200">
            <a:off x="7238520" y="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57200" y="15192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上"/>
          <p:cNvPicPr/>
          <p:nvPr/>
        </p:nvPicPr>
        <p:blipFill>
          <a:blip r:embed="rId4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本本 (101)"/>
          <p:cNvPicPr/>
          <p:nvPr/>
        </p:nvPicPr>
        <p:blipFill>
          <a:blip r:embed="rId5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47" name="Oval 9"/>
          <p:cNvSpPr/>
          <p:nvPr/>
        </p:nvSpPr>
        <p:spPr>
          <a:xfrm>
            <a:off x="2373480" y="1414440"/>
            <a:ext cx="4090680" cy="40179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000000">
                  <a:alpha val="27058"/>
                </a:srgbClr>
              </a:gs>
              <a:gs pos="100000">
                <a:srgbClr val="ffffff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451760" y="1305000"/>
            <a:ext cx="2023920" cy="2138040"/>
            <a:chOff x="4451760" y="1305000"/>
            <a:chExt cx="2023920" cy="2138040"/>
          </a:xfrm>
        </p:grpSpPr>
        <p:sp>
          <p:nvSpPr>
            <p:cNvPr id="249" name="AutoShape 17"/>
            <p:cNvSpPr/>
            <p:nvPr/>
          </p:nvSpPr>
          <p:spPr>
            <a:xfrm flipV="1" rot="8983800">
              <a:off x="5604840" y="1581480"/>
              <a:ext cx="42480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18"/>
            <p:cNvSpPr/>
            <p:nvPr/>
          </p:nvSpPr>
          <p:spPr>
            <a:xfrm flipV="1" rot="8167800">
              <a:off x="5436000" y="1317240"/>
              <a:ext cx="42480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19"/>
            <p:cNvSpPr/>
            <p:nvPr/>
          </p:nvSpPr>
          <p:spPr>
            <a:xfrm flipV="1" rot="7872600">
              <a:off x="5307120" y="1191240"/>
              <a:ext cx="424800" cy="188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20"/>
            <p:cNvSpPr/>
            <p:nvPr/>
          </p:nvSpPr>
          <p:spPr>
            <a:xfrm flipV="1" rot="7340400">
              <a:off x="5148000" y="1045800"/>
              <a:ext cx="42480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887640" y="1316520"/>
            <a:ext cx="2470680" cy="1491120"/>
            <a:chOff x="3887640" y="1316520"/>
            <a:chExt cx="2470680" cy="1491120"/>
          </a:xfrm>
        </p:grpSpPr>
        <p:sp>
          <p:nvSpPr>
            <p:cNvPr id="254" name="AutoShape 22"/>
            <p:cNvSpPr/>
            <p:nvPr/>
          </p:nvSpPr>
          <p:spPr>
            <a:xfrm flipV="1" rot="7630200">
              <a:off x="5265360" y="1127160"/>
              <a:ext cx="42768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3"/>
            <p:cNvSpPr/>
            <p:nvPr/>
          </p:nvSpPr>
          <p:spPr>
            <a:xfrm flipV="1" rot="6814200">
              <a:off x="5007600" y="947520"/>
              <a:ext cx="42768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4"/>
            <p:cNvSpPr/>
            <p:nvPr/>
          </p:nvSpPr>
          <p:spPr>
            <a:xfrm flipV="1" rot="6518400">
              <a:off x="4840560" y="881280"/>
              <a:ext cx="42768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25"/>
            <p:cNvSpPr/>
            <p:nvPr/>
          </p:nvSpPr>
          <p:spPr>
            <a:xfrm flipV="1" rot="5986200">
              <a:off x="4637520" y="808560"/>
              <a:ext cx="42768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95720" y="3257280"/>
            <a:ext cx="1885320" cy="2263320"/>
            <a:chOff x="2295720" y="3257280"/>
            <a:chExt cx="1885320" cy="2263320"/>
          </a:xfrm>
        </p:grpSpPr>
        <p:sp>
          <p:nvSpPr>
            <p:cNvPr id="259" name="AutoShape 28"/>
            <p:cNvSpPr/>
            <p:nvPr/>
          </p:nvSpPr>
          <p:spPr>
            <a:xfrm flipV="1" rot="20112000">
              <a:off x="2691000" y="3259440"/>
              <a:ext cx="424800" cy="188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29"/>
            <p:cNvSpPr/>
            <p:nvPr/>
          </p:nvSpPr>
          <p:spPr>
            <a:xfrm flipV="1" rot="19296600">
              <a:off x="2834280" y="3537720"/>
              <a:ext cx="424800" cy="188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30"/>
            <p:cNvSpPr/>
            <p:nvPr/>
          </p:nvSpPr>
          <p:spPr>
            <a:xfrm flipV="1" rot="19000800">
              <a:off x="2949840" y="3675960"/>
              <a:ext cx="424800" cy="1881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31"/>
            <p:cNvSpPr/>
            <p:nvPr/>
          </p:nvSpPr>
          <p:spPr>
            <a:xfrm flipV="1" rot="18468600">
              <a:off x="3094920" y="3835080"/>
              <a:ext cx="424800" cy="188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360160" y="3889080"/>
            <a:ext cx="2395800" cy="1659600"/>
            <a:chOff x="2360160" y="3889080"/>
            <a:chExt cx="2395800" cy="1659600"/>
          </a:xfrm>
        </p:grpSpPr>
        <p:sp>
          <p:nvSpPr>
            <p:cNvPr id="264" name="AutoShape 33"/>
            <p:cNvSpPr/>
            <p:nvPr/>
          </p:nvSpPr>
          <p:spPr>
            <a:xfrm flipV="1" rot="18758400">
              <a:off x="2983680" y="3742200"/>
              <a:ext cx="42732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34"/>
            <p:cNvSpPr/>
            <p:nvPr/>
          </p:nvSpPr>
          <p:spPr>
            <a:xfrm flipV="1" rot="17943000">
              <a:off x="3222720" y="3945960"/>
              <a:ext cx="42732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35"/>
            <p:cNvSpPr/>
            <p:nvPr/>
          </p:nvSpPr>
          <p:spPr>
            <a:xfrm flipV="1" rot="17647200">
              <a:off x="3382560" y="4027680"/>
              <a:ext cx="42732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36"/>
            <p:cNvSpPr/>
            <p:nvPr/>
          </p:nvSpPr>
          <p:spPr>
            <a:xfrm flipV="1" rot="17115000">
              <a:off x="3577680" y="4119480"/>
              <a:ext cx="42732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Arc 13"/>
          <p:cNvSpPr/>
          <p:nvPr/>
        </p:nvSpPr>
        <p:spPr>
          <a:xfrm flipH="1" flipV="1" rot="5400000">
            <a:off x="1950840" y="1857960"/>
            <a:ext cx="2877840" cy="2057400"/>
          </a:xfrm>
          <a:custGeom>
            <a:avLst/>
            <a:gdLst/>
            <a:ahLst/>
            <a:rect l="l" t="t" r="r" b="b"/>
            <a:pathLst>
              <a:path fill="none" w="30745" h="21791">
                <a:moveTo>
                  <a:pt x="0" y="2031"/>
                </a:moveTo>
                <a:cubicBezTo>
                  <a:pt x="2863" y="693"/>
                  <a:pt x="5984" y="-1"/>
                  <a:pt x="9145" y="0"/>
                </a:cubicBezTo>
                <a:cubicBezTo>
                  <a:pt x="21074" y="0"/>
                  <a:pt x="30745" y="9670"/>
                  <a:pt x="30745" y="21600"/>
                </a:cubicBezTo>
                <a:cubicBezTo>
                  <a:pt x="30745" y="21663"/>
                  <a:pt x="30744" y="21727"/>
                  <a:pt x="30744" y="21791"/>
                </a:cubicBezTo>
              </a:path>
              <a:path stroke="0" w="30745" h="21791">
                <a:moveTo>
                  <a:pt x="0" y="2031"/>
                </a:moveTo>
                <a:cubicBezTo>
                  <a:pt x="2863" y="693"/>
                  <a:pt x="5984" y="-1"/>
                  <a:pt x="9145" y="0"/>
                </a:cubicBezTo>
                <a:cubicBezTo>
                  <a:pt x="21074" y="0"/>
                  <a:pt x="30745" y="9670"/>
                  <a:pt x="30745" y="21600"/>
                </a:cubicBezTo>
                <a:cubicBezTo>
                  <a:pt x="30745" y="21663"/>
                  <a:pt x="30744" y="21727"/>
                  <a:pt x="30744" y="21791"/>
                </a:cubicBezTo>
                <a:lnTo>
                  <a:pt x="9145" y="21600"/>
                </a:lnTo>
                <a:lnTo>
                  <a:pt x="0" y="2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rc 11"/>
          <p:cNvSpPr/>
          <p:nvPr/>
        </p:nvSpPr>
        <p:spPr>
          <a:xfrm>
            <a:off x="4419720" y="1447920"/>
            <a:ext cx="2003400" cy="2023920"/>
          </a:xfrm>
          <a:custGeom>
            <a:avLst/>
            <a:gdLst/>
            <a:ahLst/>
            <a:rect l="l" t="t" r="r" b="b"/>
            <a:pathLst>
              <a:path fill="none" w="21010" h="21600">
                <a:moveTo>
                  <a:pt x="-1" y="0"/>
                </a:moveTo>
                <a:cubicBezTo>
                  <a:pt x="9997" y="0"/>
                  <a:pt x="18688" y="6860"/>
                  <a:pt x="21009" y="16585"/>
                </a:cubicBezTo>
              </a:path>
              <a:path stroke="0" w="21010" h="21600">
                <a:moveTo>
                  <a:pt x="-1" y="0"/>
                </a:moveTo>
                <a:cubicBezTo>
                  <a:pt x="9997" y="0"/>
                  <a:pt x="18688" y="6860"/>
                  <a:pt x="21009" y="1658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rc 12"/>
          <p:cNvSpPr/>
          <p:nvPr/>
        </p:nvSpPr>
        <p:spPr>
          <a:xfrm rot="5400000">
            <a:off x="4546800" y="2921040"/>
            <a:ext cx="1807920" cy="2062080"/>
          </a:xfrm>
          <a:custGeom>
            <a:avLst/>
            <a:gdLst/>
            <a:ahLst/>
            <a:rect l="l" t="t" r="r" b="b"/>
            <a:pathLst>
              <a:path fill="none" w="19578" h="21600">
                <a:moveTo>
                  <a:pt x="0" y="548"/>
                </a:moveTo>
                <a:cubicBezTo>
                  <a:pt x="1586" y="183"/>
                  <a:pt x="3208" y="-1"/>
                  <a:pt x="4836" y="0"/>
                </a:cubicBezTo>
                <a:cubicBezTo>
                  <a:pt x="10308" y="0"/>
                  <a:pt x="15577" y="2077"/>
                  <a:pt x="19578" y="5812"/>
                </a:cubicBezTo>
              </a:path>
              <a:path stroke="0" w="19578" h="21600">
                <a:moveTo>
                  <a:pt x="0" y="548"/>
                </a:moveTo>
                <a:cubicBezTo>
                  <a:pt x="1586" y="183"/>
                  <a:pt x="3208" y="-1"/>
                  <a:pt x="4836" y="0"/>
                </a:cubicBezTo>
                <a:cubicBezTo>
                  <a:pt x="10308" y="0"/>
                  <a:pt x="15577" y="2077"/>
                  <a:pt x="19578" y="5812"/>
                </a:cubicBezTo>
                <a:lnTo>
                  <a:pt x="4836" y="21600"/>
                </a:lnTo>
                <a:lnTo>
                  <a:pt x="0" y="548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rc 14"/>
          <p:cNvSpPr/>
          <p:nvPr/>
        </p:nvSpPr>
        <p:spPr>
          <a:xfrm rot="10419000">
            <a:off x="2666160" y="3429000"/>
            <a:ext cx="3189240" cy="2008080"/>
          </a:xfrm>
          <a:custGeom>
            <a:avLst/>
            <a:gdLst/>
            <a:ahLst/>
            <a:rect l="l" t="t" r="r" b="b"/>
            <a:pathLst>
              <a:path fill="none" w="34053" h="21600">
                <a:moveTo>
                  <a:pt x="-1" y="5008"/>
                </a:moveTo>
                <a:cubicBezTo>
                  <a:pt x="3882" y="1772"/>
                  <a:pt x="8776" y="-1"/>
                  <a:pt x="13831" y="0"/>
                </a:cubicBezTo>
                <a:cubicBezTo>
                  <a:pt x="22831" y="0"/>
                  <a:pt x="30889" y="5581"/>
                  <a:pt x="34052" y="14008"/>
                </a:cubicBezTo>
              </a:path>
              <a:path stroke="0" w="34053" h="21600">
                <a:moveTo>
                  <a:pt x="-1" y="5008"/>
                </a:moveTo>
                <a:cubicBezTo>
                  <a:pt x="3882" y="1772"/>
                  <a:pt x="8776" y="-1"/>
                  <a:pt x="13831" y="0"/>
                </a:cubicBezTo>
                <a:cubicBezTo>
                  <a:pt x="22831" y="0"/>
                  <a:pt x="30889" y="5581"/>
                  <a:pt x="34052" y="14008"/>
                </a:cubicBezTo>
                <a:lnTo>
                  <a:pt x="13831" y="21600"/>
                </a:lnTo>
                <a:lnTo>
                  <a:pt x="-1" y="500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30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58" descr="本本 (106)"/>
          <p:cNvPicPr/>
          <p:nvPr/>
        </p:nvPicPr>
        <p:blipFill>
          <a:blip r:embed="rId6"/>
          <a:stretch/>
        </p:blipFill>
        <p:spPr>
          <a:xfrm>
            <a:off x="3505320" y="251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64"/>
          <p:cNvSpPr/>
          <p:nvPr/>
        </p:nvSpPr>
        <p:spPr>
          <a:xfrm>
            <a:off x="144792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8180000">
            <a:off x="2363760" y="22860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2460000">
            <a:off x="4494960" y="205704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7580000">
            <a:off x="5136840" y="3397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480000">
            <a:off x="3428640" y="434304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21480000">
            <a:off x="3580920" y="30481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ipe dir="d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500"/>
                            </p:stCondLst>
                            <p:childTnLst>
                              <p:par>
                                <p:cTn id="6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500"/>
                            </p:stCondLst>
                            <p:childTnLst>
                              <p:par>
                                <p:cTn id="6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4001"/>
                            </p:stCondLst>
                            <p:childTnLst>
                              <p:par>
                                <p:cTn id="6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4501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4502"/>
                            </p:stCondLst>
                            <p:childTnLst>
                              <p:par>
                                <p:cTn id="6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2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003"/>
                            </p:stCondLst>
                            <p:childTnLst>
                              <p:par>
                                <p:cTn id="6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503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504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上"/>
          <p:cNvPicPr/>
          <p:nvPr/>
        </p:nvPicPr>
        <p:blipFill>
          <a:blip r:embed="rId4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本本 (101)"/>
          <p:cNvPicPr/>
          <p:nvPr/>
        </p:nvPicPr>
        <p:blipFill>
          <a:blip r:embed="rId5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284" name=""/>
          <p:cNvGrpSpPr/>
          <p:nvPr/>
        </p:nvGrpSpPr>
        <p:grpSpPr>
          <a:xfrm>
            <a:off x="5716800" y="925560"/>
            <a:ext cx="2588400" cy="2137680"/>
            <a:chOff x="5716800" y="925560"/>
            <a:chExt cx="2588400" cy="2137680"/>
          </a:xfrm>
        </p:grpSpPr>
        <p:grpSp>
          <p:nvGrpSpPr>
            <p:cNvPr id="285" name=""/>
            <p:cNvGrpSpPr/>
            <p:nvPr/>
          </p:nvGrpSpPr>
          <p:grpSpPr>
            <a:xfrm>
              <a:off x="6281640" y="925560"/>
              <a:ext cx="2023560" cy="2137680"/>
              <a:chOff x="6281640" y="925560"/>
              <a:chExt cx="2023560" cy="2137680"/>
            </a:xfrm>
          </p:grpSpPr>
          <p:sp>
            <p:nvSpPr>
              <p:cNvPr id="286" name="AutoShape 12"/>
              <p:cNvSpPr/>
              <p:nvPr/>
            </p:nvSpPr>
            <p:spPr>
              <a:xfrm flipV="1" rot="8983800">
                <a:off x="7434720" y="1202400"/>
                <a:ext cx="42480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13"/>
              <p:cNvSpPr/>
              <p:nvPr/>
            </p:nvSpPr>
            <p:spPr>
              <a:xfrm flipV="1" rot="8167800">
                <a:off x="7265880" y="937440"/>
                <a:ext cx="42480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14"/>
              <p:cNvSpPr/>
              <p:nvPr/>
            </p:nvSpPr>
            <p:spPr>
              <a:xfrm flipV="1" rot="7872600">
                <a:off x="7137000" y="811440"/>
                <a:ext cx="42480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15"/>
              <p:cNvSpPr/>
              <p:nvPr/>
            </p:nvSpPr>
            <p:spPr>
              <a:xfrm flipV="1" rot="7340400">
                <a:off x="6977880" y="666720"/>
                <a:ext cx="42480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5716800" y="936360"/>
              <a:ext cx="2469960" cy="1491480"/>
              <a:chOff x="5716800" y="936360"/>
              <a:chExt cx="2469960" cy="1491480"/>
            </a:xfrm>
          </p:grpSpPr>
          <p:sp>
            <p:nvSpPr>
              <p:cNvPr id="291" name="AutoShape 17"/>
              <p:cNvSpPr/>
              <p:nvPr/>
            </p:nvSpPr>
            <p:spPr>
              <a:xfrm flipV="1" rot="7630800">
                <a:off x="7094520" y="747360"/>
                <a:ext cx="426960" cy="1882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AutoShape 18"/>
              <p:cNvSpPr/>
              <p:nvPr/>
            </p:nvSpPr>
            <p:spPr>
              <a:xfrm flipV="1" rot="6814800">
                <a:off x="6837480" y="566280"/>
                <a:ext cx="426960" cy="1882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AutoShape 19"/>
              <p:cNvSpPr/>
              <p:nvPr/>
            </p:nvSpPr>
            <p:spPr>
              <a:xfrm flipV="1" rot="6519600">
                <a:off x="6670800" y="500400"/>
                <a:ext cx="426960" cy="1882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AutoShape 20"/>
              <p:cNvSpPr/>
              <p:nvPr/>
            </p:nvSpPr>
            <p:spPr>
              <a:xfrm flipV="1" rot="5987400">
                <a:off x="6467040" y="428040"/>
                <a:ext cx="426960" cy="1882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4126320" y="2875320"/>
            <a:ext cx="2460240" cy="2293560"/>
            <a:chOff x="4126320" y="2875320"/>
            <a:chExt cx="2460240" cy="2293560"/>
          </a:xfrm>
        </p:grpSpPr>
        <p:grpSp>
          <p:nvGrpSpPr>
            <p:cNvPr id="296" name=""/>
            <p:cNvGrpSpPr/>
            <p:nvPr/>
          </p:nvGrpSpPr>
          <p:grpSpPr>
            <a:xfrm>
              <a:off x="4126320" y="2875320"/>
              <a:ext cx="1885320" cy="2264040"/>
              <a:chOff x="4126320" y="2875320"/>
              <a:chExt cx="1885320" cy="2264040"/>
            </a:xfrm>
          </p:grpSpPr>
          <p:sp>
            <p:nvSpPr>
              <p:cNvPr id="297" name="AutoShape 23"/>
              <p:cNvSpPr/>
              <p:nvPr/>
            </p:nvSpPr>
            <p:spPr>
              <a:xfrm flipV="1" rot="20112000">
                <a:off x="4521240" y="2877480"/>
                <a:ext cx="424800" cy="1881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AutoShape 24"/>
              <p:cNvSpPr/>
              <p:nvPr/>
            </p:nvSpPr>
            <p:spPr>
              <a:xfrm flipV="1" rot="19296600">
                <a:off x="4664520" y="3156840"/>
                <a:ext cx="424800" cy="1881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AutoShape 25"/>
              <p:cNvSpPr/>
              <p:nvPr/>
            </p:nvSpPr>
            <p:spPr>
              <a:xfrm flipV="1" rot="19000800">
                <a:off x="4780800" y="3295080"/>
                <a:ext cx="424800" cy="1881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AutoShape 26"/>
              <p:cNvSpPr/>
              <p:nvPr/>
            </p:nvSpPr>
            <p:spPr>
              <a:xfrm flipV="1" rot="18468600">
                <a:off x="4925520" y="3453840"/>
                <a:ext cx="424800" cy="1881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4192200" y="3508560"/>
              <a:ext cx="2394360" cy="1660320"/>
              <a:chOff x="4192200" y="3508560"/>
              <a:chExt cx="2394360" cy="1660320"/>
            </a:xfrm>
          </p:grpSpPr>
          <p:sp>
            <p:nvSpPr>
              <p:cNvPr id="302" name="AutoShape 28"/>
              <p:cNvSpPr/>
              <p:nvPr/>
            </p:nvSpPr>
            <p:spPr>
              <a:xfrm flipV="1" rot="18758400">
                <a:off x="4815000" y="3361680"/>
                <a:ext cx="426960" cy="1882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AutoShape 29"/>
              <p:cNvSpPr/>
              <p:nvPr/>
            </p:nvSpPr>
            <p:spPr>
              <a:xfrm flipV="1" rot="17943000">
                <a:off x="5054040" y="3565800"/>
                <a:ext cx="426960" cy="1881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AutoShape 30"/>
              <p:cNvSpPr/>
              <p:nvPr/>
            </p:nvSpPr>
            <p:spPr>
              <a:xfrm flipV="1" rot="17647800">
                <a:off x="5214240" y="3648240"/>
                <a:ext cx="42696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AutoShape 31"/>
              <p:cNvSpPr/>
              <p:nvPr/>
            </p:nvSpPr>
            <p:spPr>
              <a:xfrm flipV="1" rot="17115600">
                <a:off x="5409000" y="3740040"/>
                <a:ext cx="42696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06" name="Picture 50" descr="本本 (106)"/>
          <p:cNvPicPr/>
          <p:nvPr/>
        </p:nvPicPr>
        <p:blipFill>
          <a:blip r:embed="rId6"/>
          <a:stretch/>
        </p:blipFill>
        <p:spPr>
          <a:xfrm>
            <a:off x="2971800" y="9907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4" descr="本本 (106)"/>
          <p:cNvPicPr/>
          <p:nvPr/>
        </p:nvPicPr>
        <p:blipFill>
          <a:blip r:embed="rId7"/>
          <a:stretch/>
        </p:blipFill>
        <p:spPr>
          <a:xfrm>
            <a:off x="990720" y="38862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308" name="未知"/>
          <p:cNvSpPr/>
          <p:nvPr/>
        </p:nvSpPr>
        <p:spPr>
          <a:xfrm rot="11569800">
            <a:off x="1904760" y="2590560"/>
            <a:ext cx="83808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edfdf"/>
              </a:gs>
              <a:gs pos="100000">
                <a:srgbClr val="009999"/>
              </a:gs>
            </a:gsLst>
            <a:lin ang="208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9" descr="本本 (106)"/>
          <p:cNvPicPr/>
          <p:nvPr/>
        </p:nvPicPr>
        <p:blipFill>
          <a:blip r:embed="rId8"/>
          <a:stretch/>
        </p:blipFill>
        <p:spPr>
          <a:xfrm>
            <a:off x="6019920" y="38862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310" name="未知"/>
          <p:cNvSpPr/>
          <p:nvPr/>
        </p:nvSpPr>
        <p:spPr>
          <a:xfrm flipH="1" rot="11570400">
            <a:off x="6303600" y="2847600"/>
            <a:ext cx="914040" cy="86040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edfdf"/>
              </a:gs>
              <a:gs pos="100000">
                <a:srgbClr val="009999"/>
              </a:gs>
            </a:gsLst>
            <a:lin ang="7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62" descr="本本 (106)"/>
          <p:cNvPicPr/>
          <p:nvPr/>
        </p:nvPicPr>
        <p:blipFill>
          <a:blip r:embed="rId9"/>
          <a:stretch/>
        </p:blipFill>
        <p:spPr>
          <a:xfrm>
            <a:off x="3581280" y="434340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312" name="未知"/>
          <p:cNvSpPr/>
          <p:nvPr/>
        </p:nvSpPr>
        <p:spPr>
          <a:xfrm flipH="1" rot="11570400">
            <a:off x="4343040" y="3428640"/>
            <a:ext cx="457200" cy="93672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edfdf"/>
              </a:gs>
              <a:gs pos="100000">
                <a:srgbClr val="009999"/>
              </a:gs>
            </a:gsLst>
            <a:lin ang="7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7" descr="3"/>
          <p:cNvPicPr/>
          <p:nvPr/>
        </p:nvPicPr>
        <p:blipFill>
          <a:blip r:embed="rId1"/>
          <a:stretch/>
        </p:blipFill>
        <p:spPr>
          <a:xfrm>
            <a:off x="609480" y="4572000"/>
            <a:ext cx="5029200" cy="40226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3"/>
          <p:cNvPicPr/>
          <p:nvPr/>
        </p:nvPicPr>
        <p:blipFill>
          <a:blip r:embed="rId2"/>
          <a:stretch/>
        </p:blipFill>
        <p:spPr>
          <a:xfrm>
            <a:off x="4114800" y="4495680"/>
            <a:ext cx="5029200" cy="4023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4" descr="2"/>
          <p:cNvPicPr/>
          <p:nvPr/>
        </p:nvPicPr>
        <p:blipFill>
          <a:blip r:embed="rId3"/>
          <a:stretch/>
        </p:blipFill>
        <p:spPr>
          <a:xfrm>
            <a:off x="7467480" y="521172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5" descr="1"/>
          <p:cNvPicPr/>
          <p:nvPr/>
        </p:nvPicPr>
        <p:blipFill>
          <a:blip r:embed="rId4"/>
          <a:stretch/>
        </p:blipFill>
        <p:spPr>
          <a:xfrm>
            <a:off x="6934320" y="5881680"/>
            <a:ext cx="1218960" cy="976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中国风 (1)"/>
          <p:cNvPicPr/>
          <p:nvPr/>
        </p:nvPicPr>
        <p:blipFill>
          <a:blip r:embed="rId5"/>
          <a:stretch/>
        </p:blipFill>
        <p:spPr>
          <a:xfrm>
            <a:off x="0" y="4114800"/>
            <a:ext cx="2394000" cy="27432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6" descr="荷花 9_副本"/>
          <p:cNvPicPr/>
          <p:nvPr/>
        </p:nvPicPr>
        <p:blipFill>
          <a:blip r:embed="rId6"/>
          <a:stretch/>
        </p:blipFill>
        <p:spPr>
          <a:xfrm>
            <a:off x="1600200" y="2895480"/>
            <a:ext cx="2685960" cy="24861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0"/>
          <p:cNvSpPr/>
          <p:nvPr/>
        </p:nvSpPr>
        <p:spPr>
          <a:xfrm>
            <a:off x="3200400" y="2286000"/>
            <a:ext cx="3124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"/>
                <a:ea typeface="华文行楷"/>
              </a:rPr>
              <a:t>谢谢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20100511101053262_副本_副本"/>
          <p:cNvPicPr/>
          <p:nvPr/>
        </p:nvPicPr>
        <p:blipFill>
          <a:blip r:embed="rId3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上"/>
          <p:cNvPicPr/>
          <p:nvPr/>
        </p:nvPicPr>
        <p:blipFill>
          <a:blip r:embed="rId4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0" descr="1"/>
          <p:cNvPicPr/>
          <p:nvPr/>
        </p:nvPicPr>
        <p:blipFill>
          <a:blip r:embed="rId5"/>
          <a:srcRect l="42620" t="64489" r="19467" b="0"/>
          <a:stretch/>
        </p:blipFill>
        <p:spPr>
          <a:xfrm>
            <a:off x="-227160" y="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5"/>
          <p:cNvSpPr txBox="1"/>
          <p:nvPr/>
        </p:nvSpPr>
        <p:spPr>
          <a:xfrm>
            <a:off x="3733920" y="68580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cc0000"/>
                    </a:gs>
                    <a:gs pos="50000">
                      <a:srgbClr val="5e0000"/>
                    </a:gs>
                    <a:gs pos="100000">
                      <a:srgbClr val="cc0000"/>
                    </a:gs>
                  </a:gsLst>
                  <a:lin ang="5400000"/>
                </a:gradFill>
                <a:latin typeface="华文琥珀"/>
              </a:rPr>
              <a:t>目录导航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cc0000"/>
                  </a:gs>
                  <a:gs pos="50000">
                    <a:srgbClr val="5e0000"/>
                  </a:gs>
                  <a:gs pos="100000">
                    <a:srgbClr val="cc0000"/>
                  </a:gs>
                </a:gsLst>
                <a:lin ang="5400000"/>
              </a:gradFill>
              <a:latin typeface="华文琥珀"/>
              <a:ea typeface="华文琥珀"/>
            </a:endParaRPr>
          </a:p>
        </p:txBody>
      </p:sp>
      <p:pic>
        <p:nvPicPr>
          <p:cNvPr id="64" name="Picture 17" descr="4_副本"/>
          <p:cNvPicPr/>
          <p:nvPr/>
        </p:nvPicPr>
        <p:blipFill>
          <a:blip r:embed="rId6"/>
          <a:stretch/>
        </p:blipFill>
        <p:spPr>
          <a:xfrm>
            <a:off x="1981080" y="1600200"/>
            <a:ext cx="692280" cy="695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F:/我的下载/古典/清风绿荷/印章.png印章"/>
          <p:cNvPicPr/>
          <p:nvPr/>
        </p:nvPicPr>
        <p:blipFill>
          <a:blip r:embed="rId7"/>
          <a:stretch/>
        </p:blipFill>
        <p:spPr>
          <a:xfrm>
            <a:off x="8381880" y="6248520"/>
            <a:ext cx="478080" cy="45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4_副本"/>
          <p:cNvPicPr/>
          <p:nvPr/>
        </p:nvPicPr>
        <p:blipFill>
          <a:blip r:embed="rId8"/>
          <a:stretch/>
        </p:blipFill>
        <p:spPr>
          <a:xfrm>
            <a:off x="1905120" y="2438280"/>
            <a:ext cx="691920" cy="695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4_副本"/>
          <p:cNvPicPr/>
          <p:nvPr/>
        </p:nvPicPr>
        <p:blipFill>
          <a:blip r:embed="rId9"/>
          <a:stretch/>
        </p:blipFill>
        <p:spPr>
          <a:xfrm>
            <a:off x="1906560" y="3352680"/>
            <a:ext cx="692280" cy="69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4_副本"/>
          <p:cNvPicPr/>
          <p:nvPr/>
        </p:nvPicPr>
        <p:blipFill>
          <a:blip r:embed="rId10"/>
          <a:stretch/>
        </p:blipFill>
        <p:spPr>
          <a:xfrm>
            <a:off x="1906560" y="4191120"/>
            <a:ext cx="692280" cy="695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43200" y="1676520"/>
            <a:ext cx="50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2589120"/>
            <a:ext cx="50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44640" y="3505320"/>
            <a:ext cx="50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4344840"/>
            <a:ext cx="50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8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91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1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6">
                                          <p:stCondLst>
                                            <p:cond delay="66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2">
                                          <p:stCondLst>
                                            <p:cond delay="82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14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84" fill="hold">
                                          <p:stCondLst>
                                            <p:cond delay="337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14" fill="hold">
                                          <p:stCondLst>
                                            <p:cond delay="6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84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14" fill="hold">
                                          <p:stCondLst>
                                            <p:cond delay="82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84" fill="hold">
                                          <p:stCondLst>
                                            <p:cond delay="8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14" fill="hold">
                                          <p:stCondLst>
                                            <p:cond delay="90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84" fill="hold">
                                          <p:stCondLst>
                                            <p:cond delay="91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9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24" descr="3.png"/>
          <p:cNvPicPr/>
          <p:nvPr/>
        </p:nvPicPr>
        <p:blipFill>
          <a:blip r:embed="rId3"/>
          <a:srcRect l="0" t="0" r="0" b="79469"/>
          <a:stretch/>
        </p:blipFill>
        <p:spPr>
          <a:xfrm>
            <a:off x="0" y="0"/>
            <a:ext cx="93600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23" descr="3.png"/>
          <p:cNvPicPr/>
          <p:nvPr/>
        </p:nvPicPr>
        <p:blipFill>
          <a:blip r:embed="rId4"/>
          <a:srcRect l="0" t="79263" r="0" b="0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绿2"/>
          <p:cNvPicPr/>
          <p:nvPr/>
        </p:nvPicPr>
        <p:blipFill>
          <a:blip r:embed="rId5"/>
          <a:stretch/>
        </p:blipFill>
        <p:spPr>
          <a:xfrm>
            <a:off x="3352680" y="-379440"/>
            <a:ext cx="4572000" cy="1844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本本 (84)"/>
          <p:cNvPicPr/>
          <p:nvPr/>
        </p:nvPicPr>
        <p:blipFill>
          <a:blip r:embed="rId6"/>
          <a:stretch/>
        </p:blipFill>
        <p:spPr>
          <a:xfrm>
            <a:off x="7391520" y="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5" descr="本本 (106)"/>
          <p:cNvPicPr/>
          <p:nvPr/>
        </p:nvPicPr>
        <p:blipFill>
          <a:blip r:embed="rId7"/>
          <a:stretch/>
        </p:blipFill>
        <p:spPr>
          <a:xfrm>
            <a:off x="0" y="47242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上"/>
          <p:cNvPicPr/>
          <p:nvPr/>
        </p:nvPicPr>
        <p:blipFill>
          <a:blip r:embed="rId8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14400" y="2819520"/>
            <a:ext cx="789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1" descr="17_副本"/>
          <p:cNvPicPr/>
          <p:nvPr/>
        </p:nvPicPr>
        <p:blipFill>
          <a:blip r:embed="rId4"/>
          <a:srcRect l="0" t="0" r="50009" b="0"/>
          <a:stretch/>
        </p:blipFill>
        <p:spPr>
          <a:xfrm>
            <a:off x="685800" y="838080"/>
            <a:ext cx="896760" cy="188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2" descr="17_副本"/>
          <p:cNvPicPr/>
          <p:nvPr/>
        </p:nvPicPr>
        <p:blipFill>
          <a:blip r:embed="rId5"/>
          <a:srcRect l="50009" t="-1804" r="0" b="0"/>
          <a:stretch/>
        </p:blipFill>
        <p:spPr>
          <a:xfrm>
            <a:off x="1600200" y="819000"/>
            <a:ext cx="896760" cy="1924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9" descr="ppt宝藏_www"/>
          <p:cNvPicPr/>
          <p:nvPr/>
        </p:nvPicPr>
        <p:blipFill>
          <a:blip r:embed="rId6"/>
          <a:stretch/>
        </p:blipFill>
        <p:spPr>
          <a:xfrm>
            <a:off x="3352680" y="42670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上"/>
          <p:cNvPicPr/>
          <p:nvPr/>
        </p:nvPicPr>
        <p:blipFill>
          <a:blip r:embed="rId7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4" descr="17_副本"/>
          <p:cNvPicPr/>
          <p:nvPr/>
        </p:nvPicPr>
        <p:blipFill>
          <a:blip r:embed="rId8"/>
          <a:srcRect l="0" t="0" r="50009" b="0"/>
          <a:stretch/>
        </p:blipFill>
        <p:spPr>
          <a:xfrm>
            <a:off x="762120" y="3371760"/>
            <a:ext cx="896760" cy="1889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5" descr="17_副本"/>
          <p:cNvPicPr/>
          <p:nvPr/>
        </p:nvPicPr>
        <p:blipFill>
          <a:blip r:embed="rId9"/>
          <a:srcRect l="50009" t="-1804" r="0" b="0"/>
          <a:stretch/>
        </p:blipFill>
        <p:spPr>
          <a:xfrm>
            <a:off x="1676520" y="3352680"/>
            <a:ext cx="896760" cy="1924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6" descr="17_副本"/>
          <p:cNvPicPr/>
          <p:nvPr/>
        </p:nvPicPr>
        <p:blipFill>
          <a:blip r:embed="rId10"/>
          <a:srcRect l="0" t="0" r="50009" b="0"/>
          <a:stretch/>
        </p:blipFill>
        <p:spPr>
          <a:xfrm>
            <a:off x="6095880" y="933480"/>
            <a:ext cx="897120" cy="1888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7" descr="17_副本"/>
          <p:cNvPicPr/>
          <p:nvPr/>
        </p:nvPicPr>
        <p:blipFill>
          <a:blip r:embed="rId11"/>
          <a:srcRect l="50009" t="-1804" r="0" b="0"/>
          <a:stretch/>
        </p:blipFill>
        <p:spPr>
          <a:xfrm>
            <a:off x="7010280" y="914400"/>
            <a:ext cx="897120" cy="1924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8" descr="17_副本"/>
          <p:cNvPicPr/>
          <p:nvPr/>
        </p:nvPicPr>
        <p:blipFill>
          <a:blip r:embed="rId12"/>
          <a:srcRect l="0" t="0" r="50009" b="0"/>
          <a:stretch/>
        </p:blipFill>
        <p:spPr>
          <a:xfrm>
            <a:off x="6095880" y="3429000"/>
            <a:ext cx="897120" cy="1889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9" descr="17_副本"/>
          <p:cNvPicPr/>
          <p:nvPr/>
        </p:nvPicPr>
        <p:blipFill>
          <a:blip r:embed="rId13"/>
          <a:srcRect l="50009" t="-1804" r="0" b="0"/>
          <a:stretch/>
        </p:blipFill>
        <p:spPr>
          <a:xfrm>
            <a:off x="7010280" y="3409920"/>
            <a:ext cx="897120" cy="1924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14400" y="1295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39607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13716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38862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000"/>
                            </p:stCondLst>
                            <p:childTnLst>
                              <p:par>
                                <p:cTn id="203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7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9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7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9"/>
          <p:cNvSpPr/>
          <p:nvPr/>
        </p:nvSpPr>
        <p:spPr>
          <a:xfrm>
            <a:off x="228600" y="838080"/>
            <a:ext cx="3124080" cy="689040"/>
          </a:xfrm>
          <a:prstGeom prst="roundRect">
            <a:avLst>
              <a:gd name="adj" fmla="val 17509"/>
            </a:avLst>
          </a:prstGeom>
          <a:gradFill rotWithShape="0">
            <a:gsLst>
              <a:gs pos="0">
                <a:srgbClr val="cc3300"/>
              </a:gs>
              <a:gs pos="50000">
                <a:srgbClr val="ffffff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7" descr="本本 (106)"/>
          <p:cNvPicPr/>
          <p:nvPr/>
        </p:nvPicPr>
        <p:blipFill>
          <a:blip r:embed="rId4"/>
          <a:stretch/>
        </p:blipFill>
        <p:spPr>
          <a:xfrm>
            <a:off x="5486400" y="205740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0"/>
          <p:cNvSpPr/>
          <p:nvPr/>
        </p:nvSpPr>
        <p:spPr>
          <a:xfrm>
            <a:off x="5791320" y="3200400"/>
            <a:ext cx="2209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8" descr="本本 (106)"/>
          <p:cNvPicPr/>
          <p:nvPr/>
        </p:nvPicPr>
        <p:blipFill>
          <a:blip r:embed="rId5"/>
          <a:stretch/>
        </p:blipFill>
        <p:spPr>
          <a:xfrm>
            <a:off x="609480" y="205740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9" descr="锐普论坛实用商务PPT图片-中国传统 (50)"/>
          <p:cNvPicPr/>
          <p:nvPr/>
        </p:nvPicPr>
        <p:blipFill>
          <a:blip r:embed="rId6"/>
          <a:stretch/>
        </p:blipFill>
        <p:spPr>
          <a:xfrm>
            <a:off x="2514600" y="5965920"/>
            <a:ext cx="1219320" cy="892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0" descr="ppt宝藏_www"/>
          <p:cNvPicPr/>
          <p:nvPr/>
        </p:nvPicPr>
        <p:blipFill>
          <a:blip r:embed="rId7"/>
          <a:stretch/>
        </p:blipFill>
        <p:spPr>
          <a:xfrm>
            <a:off x="1371600" y="5562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1" descr="本本 (7)"/>
          <p:cNvPicPr/>
          <p:nvPr/>
        </p:nvPicPr>
        <p:blipFill>
          <a:blip r:embed="rId8"/>
          <a:stretch/>
        </p:blipFill>
        <p:spPr>
          <a:xfrm>
            <a:off x="0" y="5029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2973240"/>
            <a:ext cx="335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297324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500"/>
                            </p:stCondLst>
                            <p:childTnLst>
                              <p:par>
                                <p:cTn id="2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9"/>
          <p:cNvSpPr/>
          <p:nvPr/>
        </p:nvSpPr>
        <p:spPr>
          <a:xfrm>
            <a:off x="4267080" y="533520"/>
            <a:ext cx="3124440" cy="688680"/>
          </a:xfrm>
          <a:prstGeom prst="roundRect">
            <a:avLst>
              <a:gd name="adj" fmla="val 17509"/>
            </a:avLst>
          </a:prstGeom>
          <a:gradFill rotWithShape="0">
            <a:gsLst>
              <a:gs pos="0">
                <a:srgbClr val="cc3300"/>
              </a:gs>
              <a:gs pos="50000">
                <a:srgbClr val="ffffff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上"/>
          <p:cNvPicPr/>
          <p:nvPr/>
        </p:nvPicPr>
        <p:blipFill>
          <a:blip r:embed="rId3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栏杆"/>
          <p:cNvPicPr/>
          <p:nvPr/>
        </p:nvPicPr>
        <p:blipFill>
          <a:blip r:embed="rId4"/>
          <a:stretch/>
        </p:blipFill>
        <p:spPr>
          <a:xfrm>
            <a:off x="0" y="0"/>
            <a:ext cx="3781440" cy="5029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ppt宝藏_www"/>
          <p:cNvPicPr/>
          <p:nvPr/>
        </p:nvPicPr>
        <p:blipFill>
          <a:blip r:embed="rId5"/>
          <a:stretch/>
        </p:blipFill>
        <p:spPr>
          <a:xfrm rot="1674000">
            <a:off x="2437920" y="17524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0" descr="ppt宝藏_www"/>
          <p:cNvPicPr/>
          <p:nvPr/>
        </p:nvPicPr>
        <p:blipFill>
          <a:blip r:embed="rId6"/>
          <a:stretch/>
        </p:blipFill>
        <p:spPr>
          <a:xfrm rot="1505400">
            <a:off x="5943240" y="18288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2" descr="ppt宝藏_www"/>
          <p:cNvPicPr/>
          <p:nvPr/>
        </p:nvPicPr>
        <p:blipFill>
          <a:blip r:embed="rId7"/>
          <a:stretch/>
        </p:blipFill>
        <p:spPr>
          <a:xfrm>
            <a:off x="7620120" y="53341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114800" y="60804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ppt宝藏_www"/>
          <p:cNvPicPr/>
          <p:nvPr/>
        </p:nvPicPr>
        <p:blipFill>
          <a:blip r:embed="rId4"/>
          <a:stretch/>
        </p:blipFill>
        <p:spPr>
          <a:xfrm>
            <a:off x="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本本 (104)"/>
          <p:cNvPicPr/>
          <p:nvPr/>
        </p:nvPicPr>
        <p:blipFill>
          <a:blip r:embed="rId5"/>
          <a:stretch/>
        </p:blipFill>
        <p:spPr>
          <a:xfrm rot="19958400">
            <a:off x="7086600" y="41911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ppt宝藏_www"/>
          <p:cNvPicPr/>
          <p:nvPr/>
        </p:nvPicPr>
        <p:blipFill>
          <a:blip r:embed="rId6"/>
          <a:stretch/>
        </p:blipFill>
        <p:spPr>
          <a:xfrm>
            <a:off x="6629400" y="5105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荷花 19_副本"/>
          <p:cNvPicPr/>
          <p:nvPr/>
        </p:nvPicPr>
        <p:blipFill>
          <a:blip r:embed="rId7"/>
          <a:stretch/>
        </p:blipFill>
        <p:spPr>
          <a:xfrm>
            <a:off x="4114800" y="6113520"/>
            <a:ext cx="1143000" cy="744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荷花 19_副本"/>
          <p:cNvPicPr/>
          <p:nvPr/>
        </p:nvPicPr>
        <p:blipFill>
          <a:blip r:embed="rId8"/>
          <a:stretch/>
        </p:blipFill>
        <p:spPr>
          <a:xfrm>
            <a:off x="1143000" y="5638680"/>
            <a:ext cx="1371600" cy="893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荷花 10_副本"/>
          <p:cNvPicPr/>
          <p:nvPr/>
        </p:nvPicPr>
        <p:blipFill>
          <a:blip r:embed="rId9"/>
          <a:stretch/>
        </p:blipFill>
        <p:spPr>
          <a:xfrm>
            <a:off x="-531720" y="4495680"/>
            <a:ext cx="2287440" cy="2895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0" descr="荷花 9_副本"/>
          <p:cNvPicPr/>
          <p:nvPr/>
        </p:nvPicPr>
        <p:blipFill>
          <a:blip r:embed="rId10"/>
          <a:stretch/>
        </p:blipFill>
        <p:spPr>
          <a:xfrm>
            <a:off x="2362320" y="3581280"/>
            <a:ext cx="2685960" cy="2486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057400" y="990720"/>
            <a:ext cx="67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9"/>
          <p:cNvSpPr/>
          <p:nvPr/>
        </p:nvSpPr>
        <p:spPr>
          <a:xfrm>
            <a:off x="457200" y="1295280"/>
            <a:ext cx="3124080" cy="689040"/>
          </a:xfrm>
          <a:prstGeom prst="roundRect">
            <a:avLst>
              <a:gd name="adj" fmla="val 17509"/>
            </a:avLst>
          </a:prstGeom>
          <a:gradFill rotWithShape="0">
            <a:gsLst>
              <a:gs pos="0">
                <a:srgbClr val="cc3300"/>
              </a:gs>
              <a:gs pos="50000">
                <a:srgbClr val="ffffff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ppt宝藏_www"/>
          <p:cNvPicPr/>
          <p:nvPr/>
        </p:nvPicPr>
        <p:blipFill>
          <a:blip r:embed="rId4"/>
          <a:stretch/>
        </p:blipFill>
        <p:spPr>
          <a:xfrm>
            <a:off x="0" y="48769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藕粉"/>
          <p:cNvPicPr/>
          <p:nvPr/>
        </p:nvPicPr>
        <p:blipFill>
          <a:blip r:embed="rId5"/>
          <a:stretch/>
        </p:blipFill>
        <p:spPr>
          <a:xfrm>
            <a:off x="1600200" y="6019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藕粉"/>
          <p:cNvPicPr/>
          <p:nvPr/>
        </p:nvPicPr>
        <p:blipFill>
          <a:blip r:embed="rId6"/>
          <a:stretch/>
        </p:blipFill>
        <p:spPr>
          <a:xfrm>
            <a:off x="1981080" y="60199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藕粉"/>
          <p:cNvPicPr/>
          <p:nvPr/>
        </p:nvPicPr>
        <p:blipFill>
          <a:blip r:embed="rId7"/>
          <a:stretch/>
        </p:blipFill>
        <p:spPr>
          <a:xfrm>
            <a:off x="2286000" y="6019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藕粉"/>
          <p:cNvPicPr/>
          <p:nvPr/>
        </p:nvPicPr>
        <p:blipFill>
          <a:blip r:embed="rId8"/>
          <a:stretch/>
        </p:blipFill>
        <p:spPr>
          <a:xfrm>
            <a:off x="2666880" y="60199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书籍"/>
          <p:cNvPicPr/>
          <p:nvPr/>
        </p:nvPicPr>
        <p:blipFill>
          <a:blip r:embed="rId9"/>
          <a:stretch/>
        </p:blipFill>
        <p:spPr>
          <a:xfrm>
            <a:off x="3124080" y="5943600"/>
            <a:ext cx="770040" cy="914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7" descr="边框 便利贴"/>
          <p:cNvPicPr/>
          <p:nvPr/>
        </p:nvPicPr>
        <p:blipFill>
          <a:blip r:embed="rId10"/>
          <a:stretch/>
        </p:blipFill>
        <p:spPr>
          <a:xfrm>
            <a:off x="533520" y="2590920"/>
            <a:ext cx="1131840" cy="1535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0" descr="本本 (83)"/>
          <p:cNvPicPr/>
          <p:nvPr/>
        </p:nvPicPr>
        <p:blipFill>
          <a:blip r:embed="rId11"/>
          <a:stretch/>
        </p:blipFill>
        <p:spPr>
          <a:xfrm>
            <a:off x="7924680" y="152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07800" y="13716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7" descr="边框 便利贴"/>
          <p:cNvPicPr/>
          <p:nvPr/>
        </p:nvPicPr>
        <p:blipFill>
          <a:blip r:embed="rId12"/>
          <a:stretch/>
        </p:blipFill>
        <p:spPr>
          <a:xfrm>
            <a:off x="2211480" y="2590920"/>
            <a:ext cx="1131840" cy="1536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边框 便利贴"/>
          <p:cNvPicPr/>
          <p:nvPr/>
        </p:nvPicPr>
        <p:blipFill>
          <a:blip r:embed="rId13"/>
          <a:stretch/>
        </p:blipFill>
        <p:spPr>
          <a:xfrm>
            <a:off x="3809880" y="2590920"/>
            <a:ext cx="1133640" cy="1536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边框 便利贴"/>
          <p:cNvPicPr/>
          <p:nvPr/>
        </p:nvPicPr>
        <p:blipFill>
          <a:blip r:embed="rId14"/>
          <a:stretch/>
        </p:blipFill>
        <p:spPr>
          <a:xfrm>
            <a:off x="5562720" y="2590920"/>
            <a:ext cx="1133280" cy="1536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边框 便利贴"/>
          <p:cNvPicPr/>
          <p:nvPr/>
        </p:nvPicPr>
        <p:blipFill>
          <a:blip r:embed="rId15"/>
          <a:stretch/>
        </p:blipFill>
        <p:spPr>
          <a:xfrm>
            <a:off x="7391520" y="2592360"/>
            <a:ext cx="1133280" cy="1535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3019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请在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加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30481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请在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加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35360" y="30481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请在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加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86400" y="30481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请在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加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16640" y="304812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请在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加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500"/>
                            </p:stCondLst>
                            <p:childTnLst>
                              <p:par>
                                <p:cTn id="3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500"/>
                            </p:stCondLst>
                            <p:childTnLst>
                              <p:par>
                                <p:cTn id="3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500"/>
                            </p:stCondLst>
                            <p:childTnLst>
                              <p:par>
                                <p:cTn id="3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000"/>
                            </p:stCondLst>
                            <p:childTnLst>
                              <p:par>
                                <p:cTn id="3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7500"/>
                            </p:stCondLst>
                            <p:childTnLst>
                              <p:par>
                                <p:cTn id="3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8000"/>
                            </p:stCondLst>
                            <p:childTnLst>
                              <p:par>
                                <p:cTn id="3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8500"/>
                            </p:stCondLst>
                            <p:childTnLst>
                              <p:par>
                                <p:cTn id="3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9000"/>
                            </p:stCondLst>
                            <p:childTnLst>
                              <p:par>
                                <p:cTn id="3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9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24" descr="3.png"/>
          <p:cNvPicPr/>
          <p:nvPr/>
        </p:nvPicPr>
        <p:blipFill>
          <a:blip r:embed="rId3"/>
          <a:srcRect l="0" t="0" r="0" b="79469"/>
          <a:stretch/>
        </p:blipFill>
        <p:spPr>
          <a:xfrm>
            <a:off x="0" y="0"/>
            <a:ext cx="9360000" cy="137160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23" descr="3.png"/>
          <p:cNvPicPr/>
          <p:nvPr/>
        </p:nvPicPr>
        <p:blipFill>
          <a:blip r:embed="rId4"/>
          <a:srcRect l="0" t="79263" r="0" b="0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绿2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1846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上"/>
          <p:cNvPicPr/>
          <p:nvPr/>
        </p:nvPicPr>
        <p:blipFill>
          <a:blip r:embed="rId6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0" descr="ppt宝藏_www"/>
          <p:cNvPicPr/>
          <p:nvPr/>
        </p:nvPicPr>
        <p:blipFill>
          <a:blip r:embed="rId7"/>
          <a:stretch/>
        </p:blipFill>
        <p:spPr>
          <a:xfrm>
            <a:off x="7086600" y="44956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57200" y="15192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2:22:41Z</dcterms:created>
  <dc:creator/>
  <dc:description/>
  <dc:language>en-US</dc:language>
  <cp:lastModifiedBy>雨林木风</cp:lastModifiedBy>
  <dcterms:modified xsi:type="dcterms:W3CDTF">2015-10-21T15:09:32Z</dcterms:modified>
  <cp:revision>6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  <property fmtid="{D5CDD505-2E9C-101B-9397-08002B2CF9AE}" pid="3" name="Version">
    <vt:r8>1</vt:r8>
  </property>
</Properties>
</file>