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jpeg" ContentType="image/jpe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4.png" ContentType="image/png"/>
  <Override PartName="/ppt/media/image139.png" ContentType="image/png"/>
  <Override PartName="/ppt/media/image42.png" ContentType="image/png"/>
  <Override PartName="/ppt/media/image50.png" ContentType="image/png"/>
  <Override PartName="/ppt/media/image143.png" ContentType="image/png"/>
  <Override PartName="/ppt/media/image51.png" ContentType="image/png"/>
  <Override PartName="/ppt/media/image46.png" ContentType="image/png"/>
  <Override PartName="/ppt/media/image132.png" ContentType="image/png"/>
  <Override PartName="/ppt/media/image144.png" ContentType="image/png"/>
  <Override PartName="/ppt/media/image52.png" ContentType="image/png"/>
  <Override PartName="/ppt/media/image45.png" ContentType="image/png"/>
  <Override PartName="/ppt/media/image140.jpeg" ContentType="image/jpeg"/>
  <Override PartName="/ppt/media/image131.png" ContentType="image/png"/>
  <Override PartName="/ppt/media/image129.png" ContentType="image/png"/>
  <Override PartName="/ppt/media/image32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130.jpeg" ContentType="image/jpe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B8C-2149-4F66-84FB-44C9B712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FF4-68AF-49D6-B685-17C79D28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79AA7-C889-4B69-B41E-D175E814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0C1B7-7EBC-412E-9059-4878B1D4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442CF-5CB6-4BB4-BA60-84E8DBF7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A5130-29BB-4E9B-B729-CCACC31B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E4FDA-F89B-4374-90E4-608A61A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8ED45-1C5E-4407-85A6-CCD58344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A9748-D529-42FE-9335-4704785D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415C3-EC9E-4DFA-9EDA-D9B3E452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20A6B-B972-43DD-82B9-C3F4DD3F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41E7D-E558-4A23-8A67-D649EC74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23D-6667-4D30-9EFA-8FADF1D7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B4A9C-1EF0-4EAD-9C3A-789B9B71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A3579-9A2B-4371-B005-2D21F9B7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5F7EF-95D5-4140-9EBE-B2CD59BD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38EF0-8E44-4ABB-B3B2-1DA91212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5EA9A-506A-4DA2-BCB2-AFEDC43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5D068-1E3E-488D-8188-ADA79223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60881-983E-46CA-A7E7-06836B0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B6561-8E5D-416F-8A12-B7CFB049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28914-A968-492B-994F-511A8BC3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2862D-F41A-4AB2-9E44-DF428C82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DB8-27CB-42B3-A1C9-9C3B6604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56847-53CB-4651-9FAB-DBA55D7F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BA135-4C3A-4361-B8EE-642FEE89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F72C0-4325-49FD-90C9-FE6BEB02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CFBB9-4078-48E1-826E-330C6201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D2D74-06F8-41D5-B159-0E149E28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47202-FF71-4F6C-8A70-8077A691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44A1F-DE20-466E-A6E2-9618716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37DFE-A888-4364-8560-B6B5382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0D998-CB3E-4954-B7C3-2B272B7B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B49B9-412C-4030-A0E5-B59F459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BC71-4760-49DC-8276-EE626995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BC979-7A61-4CD0-B524-BCF6B834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F0569-3434-43BC-BBF3-BEF36D55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AC1E0-72A5-4918-9653-2C171823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90189-C27A-4A03-BA58-217C482F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24CF9-182C-4E94-A80E-003E39AB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2EB53-AB35-455B-AE95-01DE0481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7E3B0-6D42-49FF-8EB5-C2D31FA3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F0A96-7DB9-4AAF-8EB3-98ECF89C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5C444-F1EB-4B97-98EF-324A9FED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FA81E-7EA7-49C5-9076-7D50004B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6F88-13B9-4673-8064-702E8624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09AB6-BE8C-4531-A15C-03D9B315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9427A-366B-43BF-A31D-2CE2391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E66BD-3E23-4232-AA21-FA61655D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C0A80-D368-420D-A665-14BDAE85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D7E54-5661-43D9-A212-F6497185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197F9-2C05-4C35-82DC-F9737C46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FC8DF-B568-4820-8B8B-1DEFB03D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06DCB-2BF2-48AA-AAB6-820EB8DD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ED6D5-66C8-41D8-8438-8D39D3C4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AAEB9-21A1-4747-9327-109CFEE7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9974-1872-410A-9688-E59497D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E6923-D70F-43AB-B513-389EB39B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48BAA-C6E7-456D-A04D-3A91CD4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F3584-3B3D-4E71-BBA2-7F8E5026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7714A-DE1E-4F0F-A5F4-454C40C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C4B51-E201-44AB-9788-EE55EFF0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61247-6D36-4DC8-8D08-3ABA50BF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697C6-4991-4988-B0B1-6BD7E11B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ED35F-BD9C-4A97-8E5F-48396F61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07321-A904-4D88-A1B6-4A081B6F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8F7BB-6B2F-49D5-86E2-4079907B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16B-742A-4303-B2FB-1B33F31D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30C41-F297-4F81-9E47-A8F42AD4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140CB-791F-4DBD-8423-190799E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74E46-FFA2-4594-A6F0-58250F4F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66451-FF19-4B61-92AB-5C20135A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9FC8B-054D-4395-B7D4-3D806E5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3F388-7904-41D2-A589-1804ADBE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D7636-8B7A-411F-9620-B00BF808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3B637-91CE-49B2-A179-9FB5F6ED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4D1ED-7A52-44C0-B7FC-D7AC7EF9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76C9-6490-435A-B799-79BC4065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A95E-118A-4F87-8813-10003D52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7BFB-7C81-4561-A773-A77FDC7F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D4F-CA9B-45A1-8964-13DB18DD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7937-F2BE-4E93-90C6-3B030CA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49A7-0414-4C81-AF1D-A227C0E1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8146-0C90-4263-A27B-93544AA7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10AE-C3CC-4178-A2FB-6D7830D8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ADA9-3C57-4A13-B52E-0C37EBE7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D4E1-8F74-4346-9897-8E7A5559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0395-A7AB-40E1-8DD2-B88F2D6B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6077-6858-4A9D-90AC-0B2653F2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DE5B-7C9E-4249-83AF-28E04626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CD5B-4838-43CC-9D76-1A2ABA83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617-9FBA-40B8-B123-AA3C48BD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1A52-E88C-43D1-85C5-01D83B80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3A1D-F9A3-4E28-AFDC-6BE69D2E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5296-AA11-4D50-B96F-947087F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7E10-2B61-4892-ADA6-AC8CA3D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8563-D0A2-4EEE-8026-1C588EB9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5DA6-B175-4E77-BD8A-C0C91A8D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2994-186B-4BF0-936C-969A6578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637A-8186-45E7-ABDA-6F6AFA0B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2AF2-99F6-4159-9EC5-A85120EC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6BB8-84BE-4C84-A9ED-D744F9B7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808-B899-4D07-895B-D321B8CA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270F5-5A93-4F46-8839-3892FAD1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2357-8802-4063-84A2-DC8976C4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216A-A0E4-43D9-B48D-044BA508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BF9C-CA1E-4FC0-9DD3-4E24519D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7EF3A-00E1-4B88-9FEA-F813560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3376C-5792-4B81-AE79-EAE644EC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406C-33CA-4F45-A0BF-3A48EE92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8B0A-C7D0-410C-AF16-8F47C150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C705-5E4C-4CB3-9559-B30F05A1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83D85-0B88-4F32-87EB-6FEECCBF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913-92B3-410B-8425-D178E825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C20B-A53A-4E89-957B-FE143E0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5AAB5-7DD7-401F-8B07-9791A2F6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7F54-55AE-4A01-A01F-84C5ED22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A126-F1E5-4353-8F6C-D62B7C5C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57D7-3AF6-43E7-ABB1-8EE9F2E9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490C0-44A7-47BF-9136-898993C5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92C8-2C8F-4B0A-9F28-6B6620BE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324F7-6A0D-4939-BA29-59D59EEE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DCB44-0FE5-429B-B4EE-DCF0142B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CAD8D-4729-4F26-B2C9-C2EF0F92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348-5FDE-4C10-8687-C6D944B9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5A6E-72BE-407C-BB02-BE0C0E1B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039A2-7507-497D-9DD4-0291938D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C49EA-22EB-495A-8EA8-BD160488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AC47-F9B9-4C80-AC84-B2C3CE87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0B1A-E1CA-4C65-B88A-A2441819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6B206-3291-49B9-B0FA-6DC807A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A476-C293-41FD-ABBA-8AF24101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E4A02-E1EC-4162-B878-7C8FE366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34EF4-FBCC-4AF9-8385-EAC33E8F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4D496-299A-4DDD-AB6E-C1B4301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B75-B1C8-4039-A824-B646CB1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6305C-1737-4646-9740-239094FC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ED141-9BFD-4827-A2C1-E99A280A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ABE00-AACB-48C9-B31D-B8CD8FEA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E3308-C892-4B78-84F6-465A54A2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CD69F-D344-44F7-84F4-C4B155E7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BC91-0A20-4377-8A79-F88FA70F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05AA5-A044-4F60-9743-DF8580EC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C39AF-0988-471A-8A1C-C51F448F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FFF47-CC38-462D-A5E2-58864051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816F4-ABCA-4D6C-8816-64529B36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061-6A00-4B74-A71B-EB609B86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B1BC5-5801-400E-8068-6B90B18C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FBEC1-D5CC-4B8D-B428-72A5020D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C9ADF-26C4-48E0-856C-D3B6FDE8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93B85-C6DC-4FA8-A4A2-D1C8F7ED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BEDD-F2B8-478F-A53F-90E9EC5D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2A4BD-30A5-43AD-B2BC-A1AC75A3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9F3E-16B3-4848-B9D3-D39949D2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6830A-E9D0-43B9-9E25-55879B1A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17BA7-D55B-4A15-82D4-328DFE7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515EE-F446-4322-BFE6-0798CFE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ABC-2C58-45FB-B806-77F6636D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EBC2E-3ADA-4109-AED0-D313A4AD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6C925-8493-4264-BEEE-791F8BF1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9486E-D956-4293-A6DF-8AF4EA2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4AEAE-88CE-463A-B7C3-817DBB2C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57494-A869-464D-BC28-1D60C968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20382-B2C2-4B4C-8E9F-1D19BB8C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CF9A0-F868-4516-AA57-879817E6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8D51A-A602-4EAB-B343-75E901F3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3D0EF-ABFE-4526-9582-8FEDBE1D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FAE15-FC24-4E6E-AFAE-DDFB0D7E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86A8-4CA9-4A84-A379-BC49704EC8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820A-8593-47E8-A59B-0671234408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E2E6-D1A8-4414-B93F-E5A4285DCA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7D08-D794-43C1-A966-134140AAD5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BC8C-2891-45EC-B7FB-5C317498F2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10B2-BCB2-46D2-854C-C0676E3584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8F5-C7EA-4D49-9066-01F0C66A65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C5C3-1F50-4B8C-8432-5C9D84F38D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3483-43BA-4D49-9B3A-09DE8A1F4A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591E-B862-4539-8997-0C734E97A4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6B94-72A2-4DC2-972B-73CD0626F2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23BE-AB58-45C6-8511-B0614770EA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F6FE-ED97-4F04-A0D5-CBAF9C8AFF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958D-3DA2-4616-B68D-F2C77F66D7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image" Target="../media/image121.png"/><Relationship Id="rId4" Type="http://schemas.openxmlformats.org/officeDocument/2006/relationships/image" Target="../media/image122.png"/><Relationship Id="rId5" Type="http://schemas.openxmlformats.org/officeDocument/2006/relationships/image" Target="../media/image1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image" Target="../media/image13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pn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image" Target="../media/image49.png"/><Relationship Id="rId48" Type="http://schemas.openxmlformats.org/officeDocument/2006/relationships/image" Target="../media/image50.png"/><Relationship Id="rId49" Type="http://schemas.openxmlformats.org/officeDocument/2006/relationships/image" Target="../media/image51.png"/><Relationship Id="rId50" Type="http://schemas.openxmlformats.org/officeDocument/2006/relationships/image" Target="../media/image52.png"/><Relationship Id="rId51" Type="http://schemas.openxmlformats.org/officeDocument/2006/relationships/image" Target="../media/image53.png"/><Relationship Id="rId52" Type="http://schemas.openxmlformats.org/officeDocument/2006/relationships/image" Target="../media/image54.png"/><Relationship Id="rId53" Type="http://schemas.openxmlformats.org/officeDocument/2006/relationships/image" Target="../media/image55.png"/><Relationship Id="rId54" Type="http://schemas.openxmlformats.org/officeDocument/2006/relationships/image" Target="../media/image56.png"/><Relationship Id="rId55" Type="http://schemas.openxmlformats.org/officeDocument/2006/relationships/image" Target="../media/image57.png"/><Relationship Id="rId56" Type="http://schemas.openxmlformats.org/officeDocument/2006/relationships/image" Target="../media/image58.png"/><Relationship Id="rId57" Type="http://schemas.openxmlformats.org/officeDocument/2006/relationships/image" Target="../media/image59.png"/><Relationship Id="rId58" Type="http://schemas.openxmlformats.org/officeDocument/2006/relationships/image" Target="../media/image60.png"/><Relationship Id="rId59" Type="http://schemas.openxmlformats.org/officeDocument/2006/relationships/image" Target="../media/image61.png"/><Relationship Id="rId60" Type="http://schemas.openxmlformats.org/officeDocument/2006/relationships/image" Target="../media/image62.png"/><Relationship Id="rId61" Type="http://schemas.openxmlformats.org/officeDocument/2006/relationships/image" Target="../media/image63.png"/><Relationship Id="rId62" Type="http://schemas.openxmlformats.org/officeDocument/2006/relationships/image" Target="../media/image64.png"/><Relationship Id="rId63" Type="http://schemas.openxmlformats.org/officeDocument/2006/relationships/image" Target="../media/image65.png"/><Relationship Id="rId64" Type="http://schemas.openxmlformats.org/officeDocument/2006/relationships/image" Target="../media/image66.png"/><Relationship Id="rId65" Type="http://schemas.openxmlformats.org/officeDocument/2006/relationships/image" Target="../media/image67.png"/><Relationship Id="rId66" Type="http://schemas.openxmlformats.org/officeDocument/2006/relationships/image" Target="../media/image68.png"/><Relationship Id="rId67" Type="http://schemas.openxmlformats.org/officeDocument/2006/relationships/image" Target="../media/image69.png"/><Relationship Id="rId68" Type="http://schemas.openxmlformats.org/officeDocument/2006/relationships/image" Target="../media/image70.png"/><Relationship Id="rId69" Type="http://schemas.openxmlformats.org/officeDocument/2006/relationships/image" Target="../media/image71.png"/><Relationship Id="rId70" Type="http://schemas.openxmlformats.org/officeDocument/2006/relationships/image" Target="../media/image72.png"/><Relationship Id="rId71" Type="http://schemas.openxmlformats.org/officeDocument/2006/relationships/image" Target="../media/image73.png"/><Relationship Id="rId72" Type="http://schemas.openxmlformats.org/officeDocument/2006/relationships/image" Target="../media/image74.png"/><Relationship Id="rId73" Type="http://schemas.openxmlformats.org/officeDocument/2006/relationships/image" Target="../media/image75.png"/><Relationship Id="rId74" Type="http://schemas.openxmlformats.org/officeDocument/2006/relationships/image" Target="../media/image76.png"/><Relationship Id="rId75" Type="http://schemas.openxmlformats.org/officeDocument/2006/relationships/image" Target="../media/image77.png"/><Relationship Id="rId76" Type="http://schemas.openxmlformats.org/officeDocument/2006/relationships/image" Target="../media/image78.png"/><Relationship Id="rId77" Type="http://schemas.openxmlformats.org/officeDocument/2006/relationships/image" Target="../media/image79.png"/><Relationship Id="rId78" Type="http://schemas.openxmlformats.org/officeDocument/2006/relationships/image" Target="../media/image80.png"/><Relationship Id="rId79" Type="http://schemas.openxmlformats.org/officeDocument/2006/relationships/image" Target="../media/image81.png"/><Relationship Id="rId80" Type="http://schemas.openxmlformats.org/officeDocument/2006/relationships/image" Target="../media/image82.png"/><Relationship Id="rId81" Type="http://schemas.openxmlformats.org/officeDocument/2006/relationships/image" Target="../media/image83.png"/><Relationship Id="rId82" Type="http://schemas.openxmlformats.org/officeDocument/2006/relationships/image" Target="../media/image84.png"/><Relationship Id="rId83" Type="http://schemas.openxmlformats.org/officeDocument/2006/relationships/image" Target="../media/image85.png"/><Relationship Id="rId84" Type="http://schemas.openxmlformats.org/officeDocument/2006/relationships/image" Target="../media/image86.png"/><Relationship Id="rId85" Type="http://schemas.openxmlformats.org/officeDocument/2006/relationships/image" Target="../media/image87.png"/><Relationship Id="rId86" Type="http://schemas.openxmlformats.org/officeDocument/2006/relationships/image" Target="../media/image88.png"/><Relationship Id="rId87" Type="http://schemas.openxmlformats.org/officeDocument/2006/relationships/image" Target="../media/image89.png"/><Relationship Id="rId88" Type="http://schemas.openxmlformats.org/officeDocument/2006/relationships/image" Target="../media/image90.png"/><Relationship Id="rId89" Type="http://schemas.openxmlformats.org/officeDocument/2006/relationships/image" Target="../media/image91.png"/><Relationship Id="rId90" Type="http://schemas.openxmlformats.org/officeDocument/2006/relationships/image" Target="../media/image92.png"/><Relationship Id="rId91" Type="http://schemas.openxmlformats.org/officeDocument/2006/relationships/image" Target="../media/image93.png"/><Relationship Id="rId92" Type="http://schemas.openxmlformats.org/officeDocument/2006/relationships/image" Target="../media/image94.png"/><Relationship Id="rId93" Type="http://schemas.openxmlformats.org/officeDocument/2006/relationships/image" Target="../media/image95.png"/><Relationship Id="rId94" Type="http://schemas.openxmlformats.org/officeDocument/2006/relationships/image" Target="../media/image96.png"/><Relationship Id="rId95" Type="http://schemas.openxmlformats.org/officeDocument/2006/relationships/image" Target="../media/image97.png"/><Relationship Id="rId96" Type="http://schemas.openxmlformats.org/officeDocument/2006/relationships/image" Target="../media/image98.png"/><Relationship Id="rId97" Type="http://schemas.openxmlformats.org/officeDocument/2006/relationships/image" Target="../media/image99.png"/><Relationship Id="rId98" Type="http://schemas.openxmlformats.org/officeDocument/2006/relationships/image" Target="../media/image100.png"/><Relationship Id="rId99" Type="http://schemas.openxmlformats.org/officeDocument/2006/relationships/image" Target="../media/image101.png"/><Relationship Id="rId100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组合 10" descr=""/>
          <p:cNvPicPr/>
          <p:nvPr/>
        </p:nvPicPr>
        <p:blipFill>
          <a:blip r:embed="rId1"/>
          <a:stretch/>
        </p:blipFill>
        <p:spPr>
          <a:xfrm>
            <a:off x="457200" y="347760"/>
            <a:ext cx="811080" cy="334800"/>
          </a:xfrm>
          <a:prstGeom prst="rect">
            <a:avLst/>
          </a:prstGeom>
          <a:ln w="0">
            <a:noFill/>
          </a:ln>
        </p:spPr>
      </p:pic>
      <p:sp>
        <p:nvSpPr>
          <p:cNvPr id="580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32"/>
          <p:cNvSpPr/>
          <p:nvPr/>
        </p:nvSpPr>
        <p:spPr>
          <a:xfrm>
            <a:off x="1380600" y="336600"/>
            <a:ext cx="62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稻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8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69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1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972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3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974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4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985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8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989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5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2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13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14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6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7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18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19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1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23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24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6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7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28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29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1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33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34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6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7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6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1057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6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7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9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1070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3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97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1100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1101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1102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4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45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7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373062" y="1908175"/>
                </a:lnTo>
                <a:lnTo>
                  <a:pt x="0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371475" y="1906587"/>
                </a:lnTo>
                <a:lnTo>
                  <a:pt x="0" y="1906587"/>
                </a:ln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371475" y="1908175"/>
                </a:lnTo>
                <a:lnTo>
                  <a:pt x="0" y="1908175"/>
                </a:ln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373062" y="627062"/>
                </a:lnTo>
                <a:lnTo>
                  <a:pt x="0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371475" y="625475"/>
                </a:lnTo>
                <a:lnTo>
                  <a:pt x="0" y="625475"/>
                </a:ln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373063" y="627063"/>
                </a:lnTo>
                <a:lnTo>
                  <a:pt x="0" y="627063"/>
                </a:ln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6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177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9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10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2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213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4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225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7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228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0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231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3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34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6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4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4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4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4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4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25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25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25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25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26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26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16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图片 3" descr=""/>
          <p:cNvPicPr/>
          <p:nvPr/>
        </p:nvPicPr>
        <p:blipFill>
          <a:blip r:embed="rId1"/>
          <a:stretch/>
        </p:blipFill>
        <p:spPr>
          <a:xfrm>
            <a:off x="0" y="743040"/>
            <a:ext cx="12184200" cy="5724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0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1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2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3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4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285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286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4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295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296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9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10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2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0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321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322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8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329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330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2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9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370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371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372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0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81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2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7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408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0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1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5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446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447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448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449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5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4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465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466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8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9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470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471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3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4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475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476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8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9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480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481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3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4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485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486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8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9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8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509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510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2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523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5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526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52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0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541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8" name="Shape 21"/>
          <p:cNvCxnSpPr>
            <a:stCxn id="1547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549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0" name="Shape 11"/>
          <p:cNvCxnSpPr>
            <a:stCxn id="1549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551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2" name="Shape 16"/>
          <p:cNvCxnSpPr>
            <a:stCxn id="1551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553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4" name="Shape 19"/>
          <p:cNvCxnSpPr>
            <a:stCxn id="1553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555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3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564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6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585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589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590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591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592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593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594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596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598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601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605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607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609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610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611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613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615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616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617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620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625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626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627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628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629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630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631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633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634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635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636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641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643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644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645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646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647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648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649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651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652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658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659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660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663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666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667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668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669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670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671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673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675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676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677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678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680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681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682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688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689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693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694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695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696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697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698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700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701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702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703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705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706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709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710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712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713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714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717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718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719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724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725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729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730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731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736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738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739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740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741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742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743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744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8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582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6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587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9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610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文本框 8"/>
          <p:cNvSpPr/>
          <p:nvPr/>
        </p:nvSpPr>
        <p:spPr>
          <a:xfrm>
            <a:off x="9370080" y="387684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厦门向天歌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6" name="组合 10" descr=""/>
          <p:cNvPicPr/>
          <p:nvPr/>
        </p:nvPicPr>
        <p:blipFill>
          <a:blip r:embed="rId1"/>
          <a:stretch/>
        </p:blipFill>
        <p:spPr>
          <a:xfrm>
            <a:off x="457200" y="347760"/>
            <a:ext cx="811080" cy="334800"/>
          </a:xfrm>
          <a:prstGeom prst="rect">
            <a:avLst/>
          </a:prstGeom>
          <a:ln w="0">
            <a:noFill/>
          </a:ln>
        </p:spPr>
      </p:pic>
      <p:sp>
        <p:nvSpPr>
          <p:cNvPr id="1617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文本框 32"/>
          <p:cNvSpPr/>
          <p:nvPr/>
        </p:nvSpPr>
        <p:spPr>
          <a:xfrm>
            <a:off x="1380600" y="336600"/>
            <a:ext cx="62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稻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5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756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757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760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2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763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764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767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770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771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3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774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6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777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778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0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781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784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785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7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9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800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801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3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805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806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8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810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811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3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4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815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816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8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820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821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23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9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1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1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852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599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4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64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7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888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889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890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1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6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17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9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920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931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934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9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940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Mao</dc:creator>
  <dc:description/>
  <dc:language>en-US</dc:language>
  <cp:lastModifiedBy>Mao</cp:lastModifiedBy>
  <dcterms:modified xsi:type="dcterms:W3CDTF">2015-09-18T13:25:39Z</dcterms:modified>
  <cp:revision>1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