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jpeg" ContentType="image/jpe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4.png" ContentType="image/png"/>
  <Override PartName="/ppt/media/image139.png" ContentType="image/png"/>
  <Override PartName="/ppt/media/image42.png" ContentType="image/png"/>
  <Override PartName="/ppt/media/image50.png" ContentType="image/png"/>
  <Override PartName="/ppt/media/image143.png" ContentType="image/png"/>
  <Override PartName="/ppt/media/image51.png" ContentType="image/png"/>
  <Override PartName="/ppt/media/image46.png" ContentType="image/png"/>
  <Override PartName="/ppt/media/image132.png" ContentType="image/png"/>
  <Override PartName="/ppt/media/image144.png" ContentType="image/png"/>
  <Override PartName="/ppt/media/image52.png" ContentType="image/png"/>
  <Override PartName="/ppt/media/image45.png" ContentType="image/png"/>
  <Override PartName="/ppt/media/image140.jpeg" ContentType="image/jpeg"/>
  <Override PartName="/ppt/media/image131.png" ContentType="image/png"/>
  <Override PartName="/ppt/media/image129.png" ContentType="image/png"/>
  <Override PartName="/ppt/media/image32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6D3-B957-40B5-A108-3CC3990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06D-D53B-4285-89AA-E8EC2EC5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5870F-12E7-4EF2-9873-4D3969B3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350B-FC15-4FB7-A19B-CACCC36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304DF-A94B-4784-9E9B-A36147BF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4D7DE-C8BB-45B1-A28D-8214293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E343-8F5A-48E8-B536-0D4DD30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DEA4B-3EFD-477F-B53C-31DE8AA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56E2F-8433-4484-BBA9-891866A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D140-F147-48C2-A007-7FB3D1F5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4ADC6-6C16-4DC3-8EBD-5F30CEC4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BC9BA-6D2C-4409-8623-E2A32379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F6C-59E4-4D1D-99AF-87A289FD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0394F-01E2-408F-BA9E-33AC0A3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B3B4-B314-4FC1-8000-9221C25F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F9AA5-F9E5-497A-8FBB-91E1D56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C500B-5D85-4425-8651-2FD8289E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7CE2-8734-4D7E-A008-4701C4B5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B2916-9929-456D-9465-70F0E4F4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4A3C-B5B8-46D0-A62B-DD3905B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5EB39-6334-4B1B-AB25-8364F7E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3EC6-C09D-4958-AE8A-089A7AD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0EE9-748D-4636-9982-0E40523D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529-E427-4D26-8725-6C6C30EF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48DEB-94A3-466A-A4C5-D8FABC13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96D49-0A9D-4253-B53A-4D021BE3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A6C3C-B5FE-42E3-BA79-95C36D6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B4AA-AA86-4FD0-BEB1-00AE371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94A27-C1A4-4BEB-9873-63FDDFF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35DE9-0710-4B54-80EF-0B116168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A0DFF-6E02-43DC-A5B4-BDD84CA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E4EE-CA42-4852-86AD-5558B64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DAF0-64A9-418F-AAB3-7EBDB2E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E331F-B8AC-46C0-9618-2C22F49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36E-B926-459E-B536-DFD2C8AE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966F6-2FBF-4A40-8827-0790909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D381-3F78-46A6-BE8B-356B46D7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F9AE7-3A52-46B8-A1AD-8B0434DF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3935-FB0C-433B-A14E-98F8B7C8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E2897-EDC3-49C5-8DCF-FE796EF3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7B70E-BD83-4AE2-A485-381E018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7166-CDD4-4154-8EA6-A2FA0FD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C9199-BCEE-4184-A983-1071E41D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70C31-E7EF-4D96-BB9C-DD605F16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6D78A-A5A8-4BEE-90D4-FC36DE7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23B-9EAD-4AFC-8354-50A8694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0C824-06AA-44BA-B5F5-72D0650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E0B2E-7A60-4339-BF10-8615677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A7639-9DF4-40AA-B099-514B7DB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3DFB8-F16B-4623-B46E-E851780E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5669D-D0F8-4148-9E20-A707FF29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75FBF-30A7-4554-A22C-F72C3FB4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B1C48-069E-4D3B-9AC2-28C1A4B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0A69D-D2C8-4EDA-95B3-97CCFCB6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A1FDE-277E-4BE1-AAF4-6DE875E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2BC5D-D335-4863-AB28-82E36B9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9555-330E-4ED7-8A53-CC956AB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6B15B-2016-4BA4-AC15-B6AFA45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96216-0574-43BD-B582-D081474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006E1-B2D5-4343-BB32-F20C7B5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FBA74-79A7-424D-9B5D-979B352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D3EB8-D341-493F-9198-E3CE8409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C97DC-030D-4E62-9370-81B8C0CA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B3285-52F2-4CD9-9799-828A5BC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DE002-CF0F-4235-A7A8-C902001B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19892-D935-4038-A701-BCA671C6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9E8EF-D0E8-47F9-905E-6C5BC309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53D7-70EE-4D83-B228-4AC18237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675FE-E099-4C6B-ACE8-3AF70FF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AB224-44BA-4E1F-80D7-7F2A1645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E4E2D-BC77-4220-A2CF-C2111A77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5ADBA-A489-430E-9CFB-D0BDE89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4E084-583A-4431-860A-184F2FA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58C51-AC48-4D41-8424-2E00BD2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EC876-C9FE-4EC8-B33A-4001CF1E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11724-41F2-4232-AA77-5F86D1E2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507D7-3B00-4A9E-A8E3-BE73433C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D7AD-AEC0-4501-8C4B-6B0BF7FE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AC36-8CE4-4C56-83CF-36EDBBF5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54A-F4AF-4098-96AA-D3C09168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7E3-3F01-417A-B8C5-970347F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A94F-8BD8-4E55-9F02-435EC8D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3479-E595-4C97-BCA6-ADE288A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730-EC8A-43B3-8EAE-EADC62E6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9838-9154-41D0-AB6F-04825D4C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EAE0-4E69-4633-949D-13FF0F61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9980-9A5D-4751-9A47-66D225F4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CFF6-5696-4488-96B5-5BB5DF8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F97F-BA87-4FB6-8FEA-B4A38A7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B7A4-699D-4ECA-9159-DADA35D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F0D2-099D-49F6-9C8A-C35A87BB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EE1-2BFC-4055-A0A7-E926CD63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D5BB-38AD-4213-B57D-F2AF2A94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CB6A-79D6-43B5-997B-F3A1C43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D3E1-B0E4-4D3B-97D4-FD8601B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21A7-D1C7-4E1B-A914-CFE3E6F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F9D6-31E3-47E0-A6A1-11A8ADA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0BAA-3C29-46F0-A051-34CDE91E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353C-4AD0-4DD8-A39A-22BA6951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6F45-07D1-4B08-8140-61B74B29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016DC-2BC4-44AA-874F-1515E7E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44D8-2C3C-4F18-BBF0-426B632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E42-60F6-47AA-8331-F501898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DE18-2AB8-4B2F-8254-30D94D6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B975-8385-4DC7-AC43-DC34EF08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46CA-8D55-4347-A341-DF2C55C3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455E-8FA0-46EA-A276-1E8C9BD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6553-814D-4BE3-8854-6F1EF72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9470-2A18-491D-A108-F1CDB9C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971E-CCC8-4EFB-AD09-EA7CF9B6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F030-9E3E-48E6-9BE3-83704234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884A-4E2F-4F23-B659-0E0DE124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0197-91A5-458E-ADB3-E6A865C2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1D7-BC40-4C7D-A90C-7DE73658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D4ED-CF12-42AE-82EB-85BC26E9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15F6-6707-4320-862C-3B856DC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CB58-3DD3-4520-BE1B-8EEA1FC0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9A1E-80F8-49C3-A9C7-D2F1D717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A3E2-BDFF-4125-8357-5221FFD8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EAC4-FA8D-485B-9391-5C032A2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8F68-22C9-4D59-99C1-F86CA70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2452-F323-43E5-BEAC-1CB3D14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9ABF-01BA-411B-BA44-2BF22F55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9A28-2E9F-4364-89AF-1B032EEF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D2D-FCD9-4E3A-95D0-8D426B6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4D84-5B5B-42AD-9EA4-F2D9C208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4150-343E-4753-A9C3-6A472A94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4355-901A-4622-8E7A-AE923BAD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F718-F303-41F0-8EE1-8B3B4BE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F3850-1D0D-4BD9-97AC-1AED198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9949-CA65-495B-9EB2-D33B528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E0E5-054C-4473-992F-B6C1CAE7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FFBA-F8A3-425F-8556-C867B77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D523-A8E8-49CC-9381-0AC1FEC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107D-0149-419C-8D6D-2BE6A2C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647-9BE6-4726-A8F0-B8D2DE1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B61F8-DE41-4AF9-BD7D-719D0965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8A9C-4C2C-4C43-868C-FBD96DE1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DF1F-139D-4C95-9FB3-AF1732A1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F180B-9744-4A6E-AA7B-45FAB855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0906-74FB-4DDA-8941-5417B748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E287-6F68-4640-B849-DA731F18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686B-6D44-4D65-8C20-C87571A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7D54-29D6-43AB-9553-20485AE1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124EE-8B5F-49BC-B09B-291B330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1012-88AB-4C08-9209-CA5228B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B55-37E5-498F-A18B-C3861E5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C898A-1A4E-471A-A5B0-3862330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6083-53D0-4D6F-816A-B32EB53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B5A2-A7E7-4096-9E11-267C583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2268-B7E6-480F-A247-BF6C5238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26648-42A6-4D01-832C-7AC825A2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FF47-8D13-43D2-B103-3A603E15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49059-7285-4217-B5B1-F7BF5E6D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07EF3-10D6-4DE5-980A-F32E533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3347D-296B-4837-93F5-5ABD75B2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716A-A181-4D17-AB15-BFA04C8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B44-4391-46D5-A92F-FF17A40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613C-EF9B-4A5A-A846-09FBC64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AAC04-F39F-4602-8AE3-0100CF24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0494-B3B2-49AC-A2A7-5BB7B7D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C7959-500D-4A39-BA04-8661C47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BBA8B-72E5-4A35-953C-7D8885B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B657-FB51-4EBE-9806-8450B22E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C3B7-A53F-4C5A-8EC9-D0699910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BAD78-ABA7-4A8A-9F34-36F876E7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D84D6-5D9A-480D-B341-2C14955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BCFF9-2F83-4B0A-91C2-21AB1D6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7F1B-0BD6-48F7-B7A6-1CBBB6138F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2357-B374-4A4C-B499-AB3E91B9C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602-DB83-4D3B-A55E-B6F266E32B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44AF-0783-464A-BCA1-427E9DFE3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7FC3-819E-4348-80A0-99FF25B6C6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5695-D5A0-4556-B7CA-F2E5B5AF90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B8ED-34DA-466C-9F1F-445B4DCB20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55FC-C11E-46B1-A0D0-87ADB45CD2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8F3B-246E-48C7-A014-4B7CD73BC8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5232-684D-4C70-B107-C10D89B093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2D5-1EE3-40F8-8DA7-F78D23CD7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5CB0-38DD-444D-92C0-3E654192F6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8AAC-D9E7-4F92-8C3A-60C791307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C70-8EC4-4B80-83F3-0E2A6E733B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png"/><Relationship Id="rId4" Type="http://schemas.openxmlformats.org/officeDocument/2006/relationships/image" Target="../media/image122.png"/><Relationship Id="rId5" Type="http://schemas.openxmlformats.org/officeDocument/2006/relationships/image" Target="../media/image1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png"/><Relationship Id="rId51" Type="http://schemas.openxmlformats.org/officeDocument/2006/relationships/image" Target="../media/image53.png"/><Relationship Id="rId52" Type="http://schemas.openxmlformats.org/officeDocument/2006/relationships/image" Target="../media/image54.png"/><Relationship Id="rId53" Type="http://schemas.openxmlformats.org/officeDocument/2006/relationships/image" Target="../media/image55.png"/><Relationship Id="rId54" Type="http://schemas.openxmlformats.org/officeDocument/2006/relationships/image" Target="../media/image56.png"/><Relationship Id="rId55" Type="http://schemas.openxmlformats.org/officeDocument/2006/relationships/image" Target="../media/image57.png"/><Relationship Id="rId56" Type="http://schemas.openxmlformats.org/officeDocument/2006/relationships/image" Target="../media/image58.png"/><Relationship Id="rId57" Type="http://schemas.openxmlformats.org/officeDocument/2006/relationships/image" Target="../media/image59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62.png"/><Relationship Id="rId61" Type="http://schemas.openxmlformats.org/officeDocument/2006/relationships/image" Target="../media/image63.png"/><Relationship Id="rId62" Type="http://schemas.openxmlformats.org/officeDocument/2006/relationships/image" Target="../media/image64.png"/><Relationship Id="rId63" Type="http://schemas.openxmlformats.org/officeDocument/2006/relationships/image" Target="../media/image65.png"/><Relationship Id="rId64" Type="http://schemas.openxmlformats.org/officeDocument/2006/relationships/image" Target="../media/image66.png"/><Relationship Id="rId65" Type="http://schemas.openxmlformats.org/officeDocument/2006/relationships/image" Target="../media/image67.png"/><Relationship Id="rId66" Type="http://schemas.openxmlformats.org/officeDocument/2006/relationships/image" Target="../media/image68.png"/><Relationship Id="rId67" Type="http://schemas.openxmlformats.org/officeDocument/2006/relationships/image" Target="../media/image69.png"/><Relationship Id="rId68" Type="http://schemas.openxmlformats.org/officeDocument/2006/relationships/image" Target="../media/image70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png"/><Relationship Id="rId88" Type="http://schemas.openxmlformats.org/officeDocument/2006/relationships/image" Target="../media/image90.png"/><Relationship Id="rId89" Type="http://schemas.openxmlformats.org/officeDocument/2006/relationships/image" Target="../media/image91.pn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5.png"/><Relationship Id="rId94" Type="http://schemas.openxmlformats.org/officeDocument/2006/relationships/image" Target="../media/image96.png"/><Relationship Id="rId95" Type="http://schemas.openxmlformats.org/officeDocument/2006/relationships/image" Target="../media/image97.png"/><Relationship Id="rId96" Type="http://schemas.openxmlformats.org/officeDocument/2006/relationships/image" Target="../media/image98.png"/><Relationship Id="rId97" Type="http://schemas.openxmlformats.org/officeDocument/2006/relationships/image" Target="../media/image99.png"/><Relationship Id="rId98" Type="http://schemas.openxmlformats.org/officeDocument/2006/relationships/image" Target="../media/image100.png"/><Relationship Id="rId99" Type="http://schemas.openxmlformats.org/officeDocument/2006/relationships/image" Target="../media/image101.png"/><Relationship Id="rId10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组合 10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11080" cy="334800"/>
          </a:xfrm>
          <a:prstGeom prst="rect">
            <a:avLst/>
          </a:prstGeom>
          <a:ln w="0">
            <a:noFill/>
          </a:ln>
        </p:spPr>
      </p:pic>
      <p:sp>
        <p:nvSpPr>
          <p:cNvPr id="580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2"/>
          <p:cNvSpPr/>
          <p:nvPr/>
        </p:nvSpPr>
        <p:spPr>
          <a:xfrm>
            <a:off x="1380600" y="336600"/>
            <a:ext cx="62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稻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8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69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1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972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974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4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985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8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989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5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2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13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14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6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7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18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19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23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24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6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7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28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29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1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33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34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6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7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1057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6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7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9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1070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3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97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1100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1101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1102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4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45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7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373062" y="1908175"/>
                </a:lnTo>
                <a:lnTo>
                  <a:pt x="0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371475" y="1906587"/>
                </a:lnTo>
                <a:lnTo>
                  <a:pt x="0" y="1906587"/>
                </a:ln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371475" y="1908175"/>
                </a:lnTo>
                <a:lnTo>
                  <a:pt x="0" y="1908175"/>
                </a:ln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373062" y="627062"/>
                </a:lnTo>
                <a:lnTo>
                  <a:pt x="0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371475" y="625475"/>
                </a:lnTo>
                <a:lnTo>
                  <a:pt x="0" y="625475"/>
                </a:ln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373063" y="627063"/>
                </a:lnTo>
                <a:lnTo>
                  <a:pt x="0" y="627063"/>
                </a:ln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177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9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10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213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4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225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228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0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231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3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34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6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4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4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4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4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4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25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25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25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25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26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26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6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12184200" cy="5724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0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1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2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3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4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5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286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9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10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2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0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321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322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8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329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330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2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9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370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371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372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0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81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2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7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408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0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1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5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446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447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448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449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5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4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465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466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8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9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470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471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3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4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475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476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8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9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480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481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3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4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485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486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8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9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509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510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2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23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5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52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0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41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8" name="Shape 21"/>
          <p:cNvCxnSpPr>
            <a:stCxn id="1547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49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0" name="Shape 11"/>
          <p:cNvCxnSpPr>
            <a:stCxn id="1549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1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2" name="Shape 16"/>
          <p:cNvCxnSpPr>
            <a:stCxn id="1551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3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4" name="Shape 19"/>
          <p:cNvCxnSpPr>
            <a:stCxn id="1553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5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3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64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6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58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58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59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59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59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59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59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59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59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60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60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0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1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61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61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61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61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61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62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62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62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62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62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62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3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63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63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63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63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64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64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64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64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64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64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64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65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65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65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65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66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66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66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66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66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66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67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67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67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67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68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68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68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68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68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69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69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69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69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69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69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70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70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70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70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70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71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71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71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71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71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71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71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72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72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72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73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73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73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73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73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74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74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74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74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74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8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582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87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9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610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文本框 8"/>
          <p:cNvSpPr/>
          <p:nvPr/>
        </p:nvSpPr>
        <p:spPr>
          <a:xfrm>
            <a:off x="9370080" y="38768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厦门向天歌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6" name="组合 10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11080" cy="334800"/>
          </a:xfrm>
          <a:prstGeom prst="rect">
            <a:avLst/>
          </a:prstGeom>
          <a:ln w="0">
            <a:noFill/>
          </a:ln>
        </p:spPr>
      </p:pic>
      <p:sp>
        <p:nvSpPr>
          <p:cNvPr id="1617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文本框 32"/>
          <p:cNvSpPr/>
          <p:nvPr/>
        </p:nvSpPr>
        <p:spPr>
          <a:xfrm>
            <a:off x="1380600" y="336600"/>
            <a:ext cx="62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稻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5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756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757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760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2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763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764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767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770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771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3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774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6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777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778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0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781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784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785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7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800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801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3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805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806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8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810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811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3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815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816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8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820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821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3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9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1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852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4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4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888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889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890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1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6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17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9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931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934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9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940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Mao</dc:creator>
  <dc:description/>
  <dc:language>en-US</dc:language>
  <cp:lastModifiedBy>Mao</cp:lastModifiedBy>
  <dcterms:modified xsi:type="dcterms:W3CDTF">2015-09-18T13:25:39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