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C5F-089B-4978-AA66-839AE2C2C8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标题特殊字体为百度简综艺。可以自行下载使用或改为微软雅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FF4-3B2A-42CE-B72A-E2AB55BCEE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F9D-EF28-41FF-9224-5C879E97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544-980A-4355-90FA-EFCC6209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D0FF9-049C-4C94-B803-BA0C9C2D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1416-03A6-49E2-8073-54A4B9C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DAEDB-2C8A-4521-8ED5-16DA451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1A15-A6B6-4481-9176-3C2659B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D7BED-00EE-463A-A5ED-85523CA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7716D-3ABE-415B-8DBB-F9AA4C66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1EBA3-D1E3-41F0-92E3-4064221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AC417-41D5-43F3-B23A-B92517CE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8B12-8A1A-41F9-8C65-131F0BC3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12DBF-0F46-40FA-A3C6-74CFDAC4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90A-6D0D-4929-9FB8-AA7008BC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156A7-382B-4C35-9126-F83A072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C132-DA8A-4E7F-B160-91E7AE2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A2CB3-8323-467A-8087-C13188A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3CCD9-B7DB-42D5-A289-0E64404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F6429-1467-4892-B7F3-14EBEBA3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0274E-116B-4023-B20D-E53A9D1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52108-44C0-4FC9-AD34-17291FA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AB8DB-CB61-427A-B7ED-1D0B2BA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16004-575F-4D3E-846C-9C11BA8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A492B-1487-4F06-8368-B4B0AF38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69D-6114-4335-87F6-BF91A6DD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D01FC-0099-45F6-ACBC-96814C9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011A-790B-4582-BE5C-C6B7FC75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42D92-5125-4314-93A2-0627E41D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6C7D-EC68-4E46-A485-13BC51E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E912-1B47-4C73-BD9C-C983444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8DE4-9AE4-46A9-8F15-B666EFE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B170-6047-42B8-AF62-019D565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4EE93-D343-4662-B1F6-2F20616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A1F3-EA23-493E-B4BE-9A74EB0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4CC82-85F0-4E0A-9D5E-D3F32A8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A199-B120-4BD5-9E11-824BF2AC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2AB3C-7AA8-4E6A-94AC-BB22539F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BED33-292E-472F-8743-93FD1E10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BC3FB-81F7-46CA-84E2-6F2B64C0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7513C-B224-4FCF-A74D-319E4445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1B15-6573-4492-8013-9A72ED2E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7B7E-5C6D-4E80-84AC-461B9CC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5E08-560E-4B9E-B657-2CF2699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AA31B-1F10-4F11-B465-091204D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05D94-6B2B-4CB0-9A7E-128FEEF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D0677-0029-48DD-828E-0B48420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3176-1BA7-4187-A9C4-F95712A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584AF-B57A-4220-920F-BD4C0FA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21782-8900-4458-9C27-2BE4432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821A7-5B7D-4C44-A00E-02CA6F67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16496-A74A-44D3-AD87-5E023D9D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9965-0E58-4220-BE94-5A0B7ED5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A12F-E76A-4254-A1ED-8CC9C74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C678-1E19-4D0B-B243-75F1E1A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2956-84E8-416F-93D8-C620C42D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623-0ED6-4929-BF62-6591ACD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3E2F-45BC-4342-A2D2-4E20E63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BB1-9C62-4AAB-A2C3-EF914B9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7BC1-22F9-4189-900D-17FD5B9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E8C-B46D-4052-B25C-F135013E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B9AF-0E7D-4B7B-A08A-CBDFD2E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8974-CC1E-425F-AF87-4AA5861A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051-6B5B-4AEA-BB14-D02E93FF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CDD3-530C-47D0-A136-F5B46B98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D12A-56D7-4FD1-9C5D-BF84A279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B921-DCBB-4BD6-9889-2BF78868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A451-6340-4532-8360-6923026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9D9E-7912-4C12-B7D5-AD4FB32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5A9-EC13-4B73-8610-9320DA3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043E-6A88-417F-9268-A6B8064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B9EF-B550-400D-AAE3-D996B5A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347D-F6BB-401A-83F6-42B065C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1AAF-F16D-435C-9298-CA4CE1E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BE7D-4685-4384-812E-FF6D9B9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A3BB-D6E6-453D-AEDB-B113B26A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7B2D-EAC9-4518-A476-D9F2FF1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8AAC-A505-4F21-8C1B-076AE27D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10DA-1950-4C5F-A479-7279057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FA48-C786-4694-B2EB-E2898639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2AF-661D-47FC-A06C-6E403ACC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DF52-8D32-4314-965A-6CBB1F6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485B-870D-4C86-A7FD-292E9B0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11C5-8100-40A0-A7C6-BB8D31BE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9132-115A-47BC-90FC-3B88C99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0650-9F57-4423-A162-BEB9E9E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DA2A-0A62-4D15-ABA5-2FCF1DE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FA6B-8C48-4989-B3DF-8BFE4FC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8224-4453-4713-B38F-FA3C08E5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D6B1-5EE3-4BAA-B660-9652089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4BC5-D157-4608-9643-D3BB95C9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876-C7DD-4D31-BB7B-522DAB43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2805-491B-49DC-88CA-14AFDC62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5EE3-447C-443E-9169-E8984CA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B697-24E9-4DEF-BEF5-8C0DA79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1E7B-A7F1-4BF0-BA6C-3A0931C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DC31-41E8-4655-8C79-593ABB9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CEE6-A53E-4098-B913-93F8BF4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060F9-036B-4290-AD06-988BBB3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A205-A912-4534-A7F7-3B1D951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D72A-9999-4AA6-B49B-4348FED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8E309-9D92-4F6C-BC45-6167B45A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C15-C9EE-4CBE-B2D3-DA68125E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171BD-2BEF-4CB0-B71A-E76E802E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236F4-E485-46BD-9E73-CE1C7ADD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F2E2-B5BB-478F-BF5B-1F2BA28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96DB-ED4E-4895-924E-8A5F80BE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C6C1-347F-4FEE-ABA7-F986D84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75BA4-BFAF-454F-BD5E-DB4A96A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8A91A-1EDA-403C-B6D4-24EC65EF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8CC1D-E4A6-43A5-944D-B6CA574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92F9-4834-47E4-A824-820A04B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0795-7BA7-437D-94F1-201BD99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A87-B000-48A3-BDEC-24A74C7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598A-EFF3-44AD-8D76-4FDB4A53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58FF-0A21-4F39-ABA4-ADB66097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9BBC-8C49-4C30-A4B4-E3D3ECFB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B090-64F7-4D05-AE94-2E21E9FE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4DBD-1CE1-47F2-8756-E89B37A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A7A1-1EFA-4B88-B3CF-E83A647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3ACF2-EDE2-48CA-9342-0E54234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ECF07-BB9C-4B47-98C9-AC6330A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058CC-0E7A-4E02-AB36-2888886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18E8-74DB-4562-AF02-13DF6CC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A7C-98B8-4C63-8065-4333B1F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266E7-E1CC-4D5F-BC5D-D826C9C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45C4-DE1B-4561-ADED-A0A537D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61A7-44CB-4B6E-93E8-A230DE1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09A6A-6034-4AE5-94F8-DB491620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5D12-3CB3-4ADE-A124-A7F73E7F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4503-72A8-44C1-B602-FE683293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F5665-2A94-4934-8C78-5834CFE0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8E5DD-3A3A-4D28-AD7F-1C5D70E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8817-8F75-426D-A94B-6F1D9B6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8B0C-FADE-4C67-8564-D7AA08B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50F-28F6-4109-91C4-135AC18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E8207-6163-4AC8-93C3-5DEF15A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CBCB-620F-4BD8-9B4B-424C93B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9D4C-929F-4AF2-BF61-CE14A14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18364-08B7-4A61-80C8-B433A39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0BD1-4128-418B-A1D3-DDD0431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003B-81A8-48E3-8041-26D1F910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2C8A5-15DD-45C9-91D9-0C08B2A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86611-DBD3-4AF1-99E7-1FC9DB3C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07BE-15E9-4189-B2A6-1D222E29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BE184-B881-444B-B6A5-A0D77FA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527F-2AD3-4EC5-92B0-90A958D659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665-73E4-4E3C-8EE6-E8E50C8CD248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AF5-864B-4755-A333-5B14BCFC4768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800A-36DC-49E9-906A-9209A05138E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973F-CC03-434F-B6F9-752259BE576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53EC-A787-4873-9ED4-587F9971D8D3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4B7-F3A1-43B6-971F-DD9E180842E6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8A0-FB97-4DFA-A01F-4B6EDBA6408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B15-B90A-4CD1-BB4A-092538B50B4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E18-B2D7-4919-A834-5FBC5921A15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D9C-827B-4301-A26B-71EFEC067775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E96-D76F-4417-A6EA-DC25BD89EE7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7"/>
          <p:cNvSpPr/>
          <p:nvPr/>
        </p:nvSpPr>
        <p:spPr>
          <a:xfrm>
            <a:off x="4514760" y="3914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4"/>
          <p:cNvGrpSpPr/>
          <p:nvPr/>
        </p:nvGrpSpPr>
        <p:grpSpPr>
          <a:xfrm>
            <a:off x="2808720" y="2031840"/>
            <a:ext cx="6373080" cy="1419840"/>
            <a:chOff x="2808720" y="2031840"/>
            <a:chExt cx="6373080" cy="1419840"/>
          </a:xfrm>
        </p:grpSpPr>
        <p:sp>
          <p:nvSpPr>
            <p:cNvPr id="502" name="TextBox 1"/>
            <p:cNvSpPr/>
            <p:nvPr/>
          </p:nvSpPr>
          <p:spPr>
            <a:xfrm>
              <a:off x="2808720" y="203184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互联网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Box 2"/>
            <p:cNvSpPr/>
            <p:nvPr/>
          </p:nvSpPr>
          <p:spPr>
            <a:xfrm>
              <a:off x="5251680" y="2260440"/>
              <a:ext cx="63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Box 3"/>
            <p:cNvSpPr/>
            <p:nvPr/>
          </p:nvSpPr>
          <p:spPr>
            <a:xfrm>
              <a:off x="6562800" y="250992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电商创业策划方案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5"/>
          <p:cNvSpPr/>
          <p:nvPr/>
        </p:nvSpPr>
        <p:spPr>
          <a:xfrm>
            <a:off x="3726000" y="3395520"/>
            <a:ext cx="4660920" cy="339840"/>
          </a:xfrm>
          <a:prstGeom prst="rect">
            <a:avLst/>
          </a:prstGeom>
          <a:solidFill>
            <a:srgbClr val="3eb1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框架完整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扁平化呈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超值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专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6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92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93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94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5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7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8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0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701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704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7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10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72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73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1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3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2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3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4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5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6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7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9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8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40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7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8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6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8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60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0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8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8:05:20Z</dcterms:modified>
  <cp:revision>24</cp:revision>
  <dc:subject>12sc.taobao.com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