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AE8-EE72-41AC-878D-4333F580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22F-1D39-4C79-B948-7A475D1C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51488-7BD4-421F-84C8-19BCA69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815E5-D7D8-484F-B553-7844FAC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EA32D-0C90-40D4-98BE-E15351F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F39E3-57A9-446D-A835-6C16F83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C7828-9A48-4EC8-9E83-611BD90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B9EB4-3250-49E8-820F-D6780A5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365CC-D6DD-42F8-9087-EA835BE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486ED-28C3-43EE-AD58-FC013435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59309-87DA-4A51-B83E-3C99CC2B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CEFAD-98AD-4170-A598-D5530E1E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0EB-F51E-4941-9463-CDA37E64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36CA4-551D-434A-B0E0-4A82750C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5D2CA-CAD3-40F9-BC2C-79068D1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B14F-9E52-4802-8236-1A8726E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B6D39-1A9A-4391-93DB-0C08FA78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47689-EDD6-4698-9493-7EF1147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0145A-F9A7-4BDC-9F3E-6E7FB386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A4355-1BB0-460C-9288-7BF1B5D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FDAC3-5C31-4A67-8393-18D3F228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B7E76-8832-43A9-940B-57E9223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0E9F5-3DCB-4866-A89A-8D4431BA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7BC-2D1C-40FE-BFD2-FF531205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6143F-118D-4434-9332-F1195491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565E-134C-40E5-BC89-8B3357A0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3E91B-ECD1-4238-8492-68FD507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4E39-137A-445F-A418-38DB8DC5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66FE5-E960-447E-9C17-102FEB5B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D0DA6-D604-4B72-ACC7-E37C848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158C-DEAE-45C6-9463-0C1E7BC2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2861-BBAB-43FF-BE09-7858D74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6662B-B9A1-48BB-B197-B1C5B99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B0FE8-ACB3-4DA2-880E-3911A1B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ADB3-EE62-4FEF-97A9-713FB76B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32EE3-F233-4BB3-BA05-215167B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05F2-5BD9-41EA-ABD1-2B47262E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70DB2-5F97-48EE-96B5-A14F2102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DE25B-BD8A-4C1C-8623-E985E232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801A9-88EE-4A29-8DF0-6E6308C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4F236-F2F5-4CAF-90EA-8C5F23F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E1DF2-86CC-4AD5-8A43-C4C435CF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8CE23-CE2B-41E5-A449-E3B57B5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03F38-77EB-4131-8FBE-023B6EF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22896-0B92-44F4-AF0C-1D542C0A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0834-4147-4688-B62B-C7375940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E2D1F-7004-43B1-BCD9-289B4A9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FA56C-9025-40B6-90C6-170B2B56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BE045-084D-407C-9FCF-74A4FAF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370F1-57B0-44A3-AA71-B20878F9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B9A64-4894-4778-8BEA-56C30934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EFCF-C78D-4681-A351-3F404C54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E64B-5D9D-4CD2-AC89-1C23F62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4AB5-5CE0-4624-ABC5-01168044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B674-591B-4E4A-B766-6035125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0032-6157-4C21-A552-60523CA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9EA-1F29-4BF3-A2DA-249085E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E2AB-A7EE-43BF-939C-1E421FF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B1A-6B42-4349-99CF-E7E276B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BFD3-78B7-4C42-8FCC-C8965520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4AA-CB7A-4CF6-8155-FD599FCB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B9CB-4220-4B71-B2FE-83886BCC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4DBE-1B59-4FEC-8FD1-826384C5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5B31-60CD-45B3-9391-7906B14E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CB9D-017B-4EAD-B5A8-B12CE734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FDBF-7258-4D14-A4A1-340EB66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11C1-B19F-465C-90CE-B5EA62F1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622-C430-458C-BC16-69A232CE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660D-96CE-475D-BAD7-0F05D2A8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B6EC-97C5-4A46-A57B-F5E7376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D97C-2C32-466A-9099-26676EF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9F2F-D8B8-44BE-A6B6-91D5CE1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79C4-AFF3-48F5-914F-ABD947E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620E-F4C7-4E2D-81D9-DD340F89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D9E7-2DE3-4086-9CFD-272B9ED1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D7C0-3D38-4D48-88C7-C5DB9A9F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D552-DAFB-418B-811C-625FBBB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88E1-4925-46B8-BA95-91CDBA3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7EB-4878-486A-8178-415E27DC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1C6E-3338-457F-BE30-847ECDE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7240-82DB-450C-B711-EE409C4B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6949-FB3A-4FAA-B881-2EB8E100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7327-5A3D-465A-B387-627CABF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26F6-330F-4296-8EF1-E3A22A6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71C1-C94A-42FE-9765-9A634A4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B434-DE22-41E1-B8EC-DF843E54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77A2-A97D-4E5D-88F5-54E1F358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4DD6-E94B-43AD-BFF6-2523C61C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6DF7-A4E4-4661-BFDD-CE32D250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7BB-392B-453E-8864-A41E0AD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D9DB-898C-49E1-9F8C-58306F6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A74F-BF01-4396-B1B9-43EB3FC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C624-4D07-47B8-AE10-AA6DD8D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1FFE1-BFD1-40A0-BF7E-609CCF5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C154-0596-4773-92AC-4EBCA01C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A82F-4CD3-4DF4-A649-0A30171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FB8A-ADC5-429D-B78B-CEC2825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A6AD6-D024-45A5-B9C0-7FAF62C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F6D0-22A5-4451-A772-07FF846C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10AE-796A-4777-9B79-D437020D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6E8-90E3-4B0C-923E-F08F6960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BEE1D-0A0F-4496-B128-9F4D24B7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224C-0430-4EA8-82E3-D8638564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D6CA-A7F4-4A1C-B101-2DBFC9B9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6CE8-C612-4BBD-8EBD-0A8D597F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DA45-E8EB-4709-91A5-400BF698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B1E0-AA0B-4557-A2DF-5C9D75DA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AE3DD-91AB-46DB-86F0-86E5766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C198-6D06-49D1-A7EA-C164E48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B621-39EF-46A2-AF31-259D4A48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C83E-7D04-479F-AE3D-E7EB92D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858-7E6D-4478-B7A0-24A70C8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91C32-816A-40BB-923A-61039402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B4FA-83A9-44F0-A944-0DBC476A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305B-7A36-45AA-BD2D-07B6C6C6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54AE-06B5-4E65-980A-4E26C7CF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BA18-63C9-4BE3-9D83-3C7171C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E1EA-70A3-43E8-B60E-E4092A5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E4C5-5020-47E5-BEDD-54F3A9B7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25E3-C98F-491F-AFDF-FDC203C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3BD6C-E15B-4E3C-B4A5-0D523FF4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2057-A4F8-4DC7-958B-E2C7584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7D5-D79E-48CF-9663-5E02BA3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C0B8A-C362-4B8B-824B-EF87D52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43D90-5FC0-4C1F-B443-0EA8EB6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5911-7A80-406F-82E1-378C427E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9EC7-89ED-463E-91B0-7F6AF7CF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C654-4C79-4289-987A-DCC2A6BF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EC36B-63A4-4AB9-BF96-9E2322E8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9880A-8A3D-4E23-A0BC-80DE60E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C5FD5-CA7E-4F4E-85CF-CB876CC4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25D1-8304-4CBD-9E95-64BF26C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A6B9-7DF7-44CC-8A7A-4D8FD23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DB5-EFC4-4A71-8527-C129527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8B187-E261-4652-8465-7AC01D89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E914C-C23D-4EC3-950A-87FF754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ED1A-954B-4ACA-BDEC-91753F8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86EB-CE14-4B24-9F05-8A7E5FB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37FB9-37FE-4972-8900-8854A2A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27CCA-2944-479F-A21E-339FC6FF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E592-33BD-4C8A-89B0-8695C863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F29C-A271-4440-8E56-322D86E9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0490-C9A2-482C-9773-85BF2467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40BBB-9397-47E3-8A93-8A8C938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7E9-C287-4374-99C7-4079F2716B6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D4C-708B-4CD6-AD56-22BCA185F84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0F6F-AB08-413C-A016-739043C52ED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4824-180D-49DC-B79F-BAC66D32904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D27C-9AB3-4573-B4C9-04F634BD5FD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210-6E9C-4928-8DDC-CE82A09BA97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F48B-4F76-49E6-ADEA-B94D21A5EFA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153-EAFB-4138-B4F0-C618BE80112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E5E8-00D5-449C-871B-FF63F8E1A67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1E2-95E2-4B24-A70E-3892C4678B3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1B67-DEFE-42A7-A0EF-097728AA7B0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779-C72C-41DC-BDB2-A17965BB062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3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1986120" y="33498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3239640" y="119232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88"/>
          <p:cNvSpPr/>
          <p:nvPr/>
        </p:nvSpPr>
        <p:spPr>
          <a:xfrm>
            <a:off x="5388120" y="2163600"/>
            <a:ext cx="107640" cy="1890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2"/>
          <p:cNvSpPr/>
          <p:nvPr/>
        </p:nvSpPr>
        <p:spPr>
          <a:xfrm>
            <a:off x="2104920" y="2127240"/>
            <a:ext cx="1432080" cy="10731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37"/>
          <p:cNvSpPr/>
          <p:nvPr/>
        </p:nvSpPr>
        <p:spPr>
          <a:xfrm>
            <a:off x="3656160" y="1863720"/>
            <a:ext cx="895320" cy="6732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38"/>
          <p:cNvSpPr/>
          <p:nvPr/>
        </p:nvSpPr>
        <p:spPr>
          <a:xfrm>
            <a:off x="1092240" y="1863720"/>
            <a:ext cx="895320" cy="67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39"/>
          <p:cNvSpPr/>
          <p:nvPr/>
        </p:nvSpPr>
        <p:spPr>
          <a:xfrm>
            <a:off x="3656160" y="2884320"/>
            <a:ext cx="895320" cy="67176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1092240" y="2886120"/>
            <a:ext cx="895320" cy="67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traight Connector 5"/>
          <p:cNvSpPr/>
          <p:nvPr/>
        </p:nvSpPr>
        <p:spPr>
          <a:xfrm>
            <a:off x="1944720" y="2360520"/>
            <a:ext cx="21744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4"/>
          <p:cNvSpPr/>
          <p:nvPr/>
        </p:nvSpPr>
        <p:spPr>
          <a:xfrm flipV="1">
            <a:off x="1969920" y="2945880"/>
            <a:ext cx="25272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46"/>
          <p:cNvSpPr/>
          <p:nvPr/>
        </p:nvSpPr>
        <p:spPr>
          <a:xfrm flipV="1">
            <a:off x="3481560" y="2360520"/>
            <a:ext cx="23328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traight Connector 48"/>
          <p:cNvSpPr/>
          <p:nvPr/>
        </p:nvSpPr>
        <p:spPr>
          <a:xfrm>
            <a:off x="3427560" y="2946240"/>
            <a:ext cx="27936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2" descr=""/>
          <p:cNvPicPr/>
          <p:nvPr/>
        </p:nvPicPr>
        <p:blipFill>
          <a:blip r:embed="rId2"/>
          <a:stretch/>
        </p:blipFill>
        <p:spPr>
          <a:xfrm>
            <a:off x="2505240" y="2398680"/>
            <a:ext cx="618840" cy="517680"/>
          </a:xfrm>
          <a:prstGeom prst="rect">
            <a:avLst/>
          </a:prstGeom>
          <a:ln w="0">
            <a:noFill/>
          </a:ln>
        </p:spPr>
      </p:pic>
      <p:pic>
        <p:nvPicPr>
          <p:cNvPr id="654" name="组合 14" descr=""/>
          <p:cNvPicPr/>
          <p:nvPr/>
        </p:nvPicPr>
        <p:blipFill>
          <a:blip r:embed="rId3"/>
          <a:stretch/>
        </p:blipFill>
        <p:spPr>
          <a:xfrm>
            <a:off x="3932280" y="3086280"/>
            <a:ext cx="341280" cy="264960"/>
          </a:xfrm>
          <a:prstGeom prst="rect">
            <a:avLst/>
          </a:prstGeom>
          <a:ln w="0">
            <a:noFill/>
          </a:ln>
        </p:spPr>
      </p:pic>
      <p:pic>
        <p:nvPicPr>
          <p:cNvPr id="655" name="组合 18" descr=""/>
          <p:cNvPicPr/>
          <p:nvPr/>
        </p:nvPicPr>
        <p:blipFill>
          <a:blip r:embed="rId4"/>
          <a:stretch/>
        </p:blipFill>
        <p:spPr>
          <a:xfrm>
            <a:off x="3919680" y="2075040"/>
            <a:ext cx="334800" cy="25236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24"/>
          <p:cNvGrpSpPr/>
          <p:nvPr/>
        </p:nvGrpSpPr>
        <p:grpSpPr>
          <a:xfrm>
            <a:off x="1395360" y="3135240"/>
            <a:ext cx="271440" cy="206280"/>
            <a:chOff x="1395360" y="3135240"/>
            <a:chExt cx="271440" cy="206280"/>
          </a:xfrm>
        </p:grpSpPr>
        <p:sp>
          <p:nvSpPr>
            <p:cNvPr id="657" name="Oval 69"/>
            <p:cNvSpPr/>
            <p:nvPr/>
          </p:nvSpPr>
          <p:spPr>
            <a:xfrm>
              <a:off x="1395360" y="3135240"/>
              <a:ext cx="271440" cy="20628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0"/>
            <p:cNvSpPr/>
            <p:nvPr/>
          </p:nvSpPr>
          <p:spPr>
            <a:xfrm>
              <a:off x="1454400" y="3197520"/>
              <a:ext cx="128880" cy="98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Freeform 94"/>
          <p:cNvSpPr/>
          <p:nvPr/>
        </p:nvSpPr>
        <p:spPr>
          <a:xfrm>
            <a:off x="1395360" y="2075040"/>
            <a:ext cx="336600" cy="2617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5388120" y="2484360"/>
            <a:ext cx="107640" cy="1904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8"/>
          <p:cNvSpPr/>
          <p:nvPr/>
        </p:nvSpPr>
        <p:spPr>
          <a:xfrm>
            <a:off x="5388120" y="2819520"/>
            <a:ext cx="107640" cy="188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8"/>
          <p:cNvSpPr/>
          <p:nvPr/>
        </p:nvSpPr>
        <p:spPr>
          <a:xfrm>
            <a:off x="5388120" y="3156120"/>
            <a:ext cx="107640" cy="1886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5545080" y="21924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5545080" y="251136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5545080" y="28576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545080" y="317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8388000" cy="27115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4"/>
          <p:cNvSpPr/>
          <p:nvPr/>
        </p:nvSpPr>
        <p:spPr>
          <a:xfrm>
            <a:off x="2444760" y="3494160"/>
            <a:ext cx="1652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933560" y="3686040"/>
            <a:ext cx="1235160" cy="382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6"/>
          <p:cNvSpPr/>
          <p:nvPr/>
        </p:nvSpPr>
        <p:spPr>
          <a:xfrm flipH="1">
            <a:off x="2141640" y="397656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7"/>
          <p:cNvSpPr/>
          <p:nvPr/>
        </p:nvSpPr>
        <p:spPr>
          <a:xfrm>
            <a:off x="623880" y="1674720"/>
            <a:ext cx="3862440" cy="20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8"/>
          <p:cNvSpPr/>
          <p:nvPr/>
        </p:nvSpPr>
        <p:spPr>
          <a:xfrm flipH="1">
            <a:off x="623880" y="341640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9"/>
          <p:cNvSpPr/>
          <p:nvPr/>
        </p:nvSpPr>
        <p:spPr>
          <a:xfrm>
            <a:off x="774720" y="1795320"/>
            <a:ext cx="3560760" cy="14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4581360" y="1611360"/>
            <a:ext cx="3967200" cy="2125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3"/>
          <a:srcRect l="0" t="14215" r="0" b="6084"/>
          <a:stretch/>
        </p:blipFill>
        <p:spPr>
          <a:xfrm>
            <a:off x="760320" y="1797120"/>
            <a:ext cx="3575160" cy="1515960"/>
          </a:xfrm>
          <a:prstGeom prst="rect">
            <a:avLst/>
          </a:prstGeom>
          <a:ln w="0">
            <a:noFill/>
          </a:ln>
        </p:spPr>
      </p:pic>
      <p:sp>
        <p:nvSpPr>
          <p:cNvPr id="678" name="Line 18"/>
          <p:cNvSpPr/>
          <p:nvPr/>
        </p:nvSpPr>
        <p:spPr>
          <a:xfrm>
            <a:off x="4862520" y="198900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3"/>
          <p:cNvSpPr/>
          <p:nvPr/>
        </p:nvSpPr>
        <p:spPr>
          <a:xfrm>
            <a:off x="4862520" y="208764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4862520" y="17953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5"/>
          <p:cNvSpPr/>
          <p:nvPr/>
        </p:nvSpPr>
        <p:spPr>
          <a:xfrm>
            <a:off x="4849920" y="296244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utoShape 3"/>
          <p:cNvSpPr/>
          <p:nvPr/>
        </p:nvSpPr>
        <p:spPr>
          <a:xfrm>
            <a:off x="1519200" y="3360600"/>
            <a:ext cx="601560" cy="4525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4813200" y="2770200"/>
            <a:ext cx="60192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160800" y="306864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6435720" y="247032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1165320" y="31273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832120" y="28447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4498920" y="2560680"/>
            <a:ext cx="167184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161040" y="2278080"/>
            <a:ext cx="16732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6627960" y="2612880"/>
            <a:ext cx="242640" cy="162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27"/>
          <p:cNvSpPr/>
          <p:nvPr/>
        </p:nvSpPr>
        <p:spPr>
          <a:xfrm>
            <a:off x="1662120" y="3478320"/>
            <a:ext cx="304920" cy="22680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29"/>
          <p:cNvSpPr/>
          <p:nvPr/>
        </p:nvSpPr>
        <p:spPr>
          <a:xfrm>
            <a:off x="3363840" y="3187800"/>
            <a:ext cx="2016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30"/>
          <p:cNvSpPr/>
          <p:nvPr/>
        </p:nvSpPr>
        <p:spPr>
          <a:xfrm>
            <a:off x="3319560" y="3154320"/>
            <a:ext cx="290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31"/>
          <p:cNvSpPr/>
          <p:nvPr/>
        </p:nvSpPr>
        <p:spPr>
          <a:xfrm>
            <a:off x="3424320" y="3241800"/>
            <a:ext cx="889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3"/>
          <p:cNvSpPr/>
          <p:nvPr/>
        </p:nvSpPr>
        <p:spPr>
          <a:xfrm>
            <a:off x="5110200" y="2898720"/>
            <a:ext cx="46080" cy="185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34"/>
          <p:cNvSpPr/>
          <p:nvPr/>
        </p:nvSpPr>
        <p:spPr>
          <a:xfrm>
            <a:off x="5038560" y="2935440"/>
            <a:ext cx="44640" cy="1490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4962600" y="2965320"/>
            <a:ext cx="46080" cy="1191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5183280" y="2852640"/>
            <a:ext cx="46080" cy="2318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1158840" y="25606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162080" y="27417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2836800" y="2217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2840040" y="23986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503600" y="19350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506840" y="21160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6161040" y="162252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6164280" y="180324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"/>
          <p:cNvPicPr/>
          <p:nvPr/>
        </p:nvPicPr>
        <p:blipFill>
          <a:blip r:embed="rId1"/>
          <a:stretch/>
        </p:blipFill>
        <p:spPr>
          <a:xfrm>
            <a:off x="3902040" y="1733400"/>
            <a:ext cx="4773600" cy="23878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24"/>
          <p:cNvSpPr/>
          <p:nvPr/>
        </p:nvSpPr>
        <p:spPr>
          <a:xfrm>
            <a:off x="8729640" y="914400"/>
            <a:ext cx="380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6137D47C-60D7-44A7-A24E-920A07BAB040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649440" y="372744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23" descr=""/>
          <p:cNvPicPr/>
          <p:nvPr/>
        </p:nvPicPr>
        <p:blipFill>
          <a:blip r:embed="rId3"/>
          <a:stretch/>
        </p:blipFill>
        <p:spPr>
          <a:xfrm>
            <a:off x="785880" y="3840120"/>
            <a:ext cx="293760" cy="182520"/>
          </a:xfrm>
          <a:prstGeom prst="rect">
            <a:avLst/>
          </a:prstGeom>
          <a:ln w="0">
            <a:noFill/>
          </a:ln>
        </p:spPr>
      </p:pic>
      <p:sp>
        <p:nvSpPr>
          <p:cNvPr id="715" name="Oval 16"/>
          <p:cNvSpPr/>
          <p:nvPr/>
        </p:nvSpPr>
        <p:spPr>
          <a:xfrm>
            <a:off x="649440" y="3133800"/>
            <a:ext cx="533160" cy="40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Group 34" descr=""/>
          <p:cNvPicPr/>
          <p:nvPr/>
        </p:nvPicPr>
        <p:blipFill>
          <a:blip r:embed="rId4"/>
          <a:stretch/>
        </p:blipFill>
        <p:spPr>
          <a:xfrm>
            <a:off x="781200" y="3222720"/>
            <a:ext cx="279360" cy="210960"/>
          </a:xfrm>
          <a:prstGeom prst="rect">
            <a:avLst/>
          </a:prstGeom>
          <a:ln w="0">
            <a:noFill/>
          </a:ln>
        </p:spPr>
      </p:pic>
      <p:sp>
        <p:nvSpPr>
          <p:cNvPr id="717" name="Oval 10"/>
          <p:cNvSpPr/>
          <p:nvPr/>
        </p:nvSpPr>
        <p:spPr>
          <a:xfrm>
            <a:off x="649440" y="253836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82" descr=""/>
          <p:cNvPicPr/>
          <p:nvPr/>
        </p:nvPicPr>
        <p:blipFill>
          <a:blip r:embed="rId5"/>
          <a:stretch/>
        </p:blipFill>
        <p:spPr>
          <a:xfrm>
            <a:off x="792000" y="2629080"/>
            <a:ext cx="262080" cy="21420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1309680" y="25621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1312920" y="27226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1309680" y="31417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1312920" y="3303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1309680" y="3747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1312920" y="39085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6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图片 9" descr=""/>
          <p:cNvPicPr/>
          <p:nvPr/>
        </p:nvPicPr>
        <p:blipFill>
          <a:blip r:embed="rId2"/>
          <a:stretch/>
        </p:blipFill>
        <p:spPr>
          <a:xfrm>
            <a:off x="3371760" y="2290680"/>
            <a:ext cx="2395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1092240" y="2436840"/>
            <a:ext cx="1463760" cy="110016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871640" y="1855800"/>
            <a:ext cx="1463760" cy="95724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2647800" y="2436840"/>
            <a:ext cx="1465560" cy="110016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5"/>
          <p:cNvSpPr/>
          <p:nvPr/>
        </p:nvSpPr>
        <p:spPr>
          <a:xfrm>
            <a:off x="2356920" y="2217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76"/>
          <p:cNvSpPr/>
          <p:nvPr/>
        </p:nvSpPr>
        <p:spPr>
          <a:xfrm>
            <a:off x="1558440" y="281160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77"/>
          <p:cNvSpPr/>
          <p:nvPr/>
        </p:nvSpPr>
        <p:spPr>
          <a:xfrm>
            <a:off x="3104640" y="2811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4789440" y="1735200"/>
            <a:ext cx="0" cy="19238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5248440" y="159696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12"/>
          <p:cNvSpPr/>
          <p:nvPr/>
        </p:nvSpPr>
        <p:spPr>
          <a:xfrm>
            <a:off x="5248440" y="232092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15"/>
          <p:cNvSpPr/>
          <p:nvPr/>
        </p:nvSpPr>
        <p:spPr>
          <a:xfrm>
            <a:off x="5248440" y="3063960"/>
            <a:ext cx="761760" cy="7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5776920" y="17636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776920" y="195120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5776920" y="24955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5776920" y="26812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5776920" y="32497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5776920" y="34354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8" descr=""/>
          <p:cNvPicPr/>
          <p:nvPr/>
        </p:nvPicPr>
        <p:blipFill>
          <a:blip r:embed="rId1"/>
          <a:stretch/>
        </p:blipFill>
        <p:spPr>
          <a:xfrm>
            <a:off x="3932280" y="1511280"/>
            <a:ext cx="4340160" cy="2400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"/>
          <p:cNvSpPr/>
          <p:nvPr/>
        </p:nvSpPr>
        <p:spPr>
          <a:xfrm>
            <a:off x="453960" y="1909800"/>
            <a:ext cx="4354560" cy="84276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730080" y="20955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777960" y="31212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777960" y="29401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1144440" y="1755720"/>
            <a:ext cx="2106720" cy="200520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2077920" y="2055960"/>
            <a:ext cx="2653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1987560" y="2246400"/>
            <a:ext cx="4492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3660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508200" y="1727280"/>
            <a:ext cx="2106720" cy="200484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AutoShape 8"/>
          <p:cNvSpPr/>
          <p:nvPr/>
        </p:nvSpPr>
        <p:spPr>
          <a:xfrm>
            <a:off x="4103640" y="206388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4013280" y="2255760"/>
            <a:ext cx="44748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4789440" y="2066760"/>
            <a:ext cx="265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4699080" y="2259000"/>
            <a:ext cx="4474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4441680" y="209556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AutoShape 13"/>
          <p:cNvSpPr/>
          <p:nvPr/>
        </p:nvSpPr>
        <p:spPr>
          <a:xfrm>
            <a:off x="4351320" y="2287440"/>
            <a:ext cx="44784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ine 37"/>
          <p:cNvSpPr/>
          <p:nvPr/>
        </p:nvSpPr>
        <p:spPr>
          <a:xfrm>
            <a:off x="359892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872320" y="1727280"/>
            <a:ext cx="2104920" cy="20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32"/>
          <p:cNvGrpSpPr/>
          <p:nvPr/>
        </p:nvGrpSpPr>
        <p:grpSpPr>
          <a:xfrm>
            <a:off x="6176880" y="1932120"/>
            <a:ext cx="1495440" cy="623520"/>
            <a:chOff x="6176880" y="1932120"/>
            <a:chExt cx="1495440" cy="623520"/>
          </a:xfrm>
        </p:grpSpPr>
        <p:sp>
          <p:nvSpPr>
            <p:cNvPr id="773" name="AutoShape 14"/>
            <p:cNvSpPr/>
            <p:nvPr/>
          </p:nvSpPr>
          <p:spPr>
            <a:xfrm>
              <a:off x="6235200" y="227016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15"/>
            <p:cNvSpPr/>
            <p:nvPr/>
          </p:nvSpPr>
          <p:spPr>
            <a:xfrm>
              <a:off x="6176880" y="2395080"/>
              <a:ext cx="29088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utoShape 16"/>
            <p:cNvSpPr/>
            <p:nvPr/>
          </p:nvSpPr>
          <p:spPr>
            <a:xfrm>
              <a:off x="668160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AutoShape 17"/>
            <p:cNvSpPr/>
            <p:nvPr/>
          </p:nvSpPr>
          <p:spPr>
            <a:xfrm>
              <a:off x="662328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18"/>
            <p:cNvSpPr/>
            <p:nvPr/>
          </p:nvSpPr>
          <p:spPr>
            <a:xfrm>
              <a:off x="645552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utoShape 19"/>
            <p:cNvSpPr/>
            <p:nvPr/>
          </p:nvSpPr>
          <p:spPr>
            <a:xfrm>
              <a:off x="6396480" y="241596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AutoShape 20"/>
            <p:cNvSpPr/>
            <p:nvPr/>
          </p:nvSpPr>
          <p:spPr>
            <a:xfrm>
              <a:off x="6992280" y="22705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21"/>
            <p:cNvSpPr/>
            <p:nvPr/>
          </p:nvSpPr>
          <p:spPr>
            <a:xfrm>
              <a:off x="6933960" y="239508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22"/>
            <p:cNvSpPr/>
            <p:nvPr/>
          </p:nvSpPr>
          <p:spPr>
            <a:xfrm>
              <a:off x="743904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23"/>
            <p:cNvSpPr/>
            <p:nvPr/>
          </p:nvSpPr>
          <p:spPr>
            <a:xfrm>
              <a:off x="738072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24"/>
            <p:cNvSpPr/>
            <p:nvPr/>
          </p:nvSpPr>
          <p:spPr>
            <a:xfrm>
              <a:off x="721260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25"/>
            <p:cNvSpPr/>
            <p:nvPr/>
          </p:nvSpPr>
          <p:spPr>
            <a:xfrm>
              <a:off x="7153560" y="241596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26"/>
            <p:cNvSpPr/>
            <p:nvPr/>
          </p:nvSpPr>
          <p:spPr>
            <a:xfrm>
              <a:off x="6616080" y="19321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27"/>
            <p:cNvSpPr/>
            <p:nvPr/>
          </p:nvSpPr>
          <p:spPr>
            <a:xfrm>
              <a:off x="6557760" y="205632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28"/>
            <p:cNvSpPr/>
            <p:nvPr/>
          </p:nvSpPr>
          <p:spPr>
            <a:xfrm>
              <a:off x="7062840" y="193428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29"/>
            <p:cNvSpPr/>
            <p:nvPr/>
          </p:nvSpPr>
          <p:spPr>
            <a:xfrm>
              <a:off x="7004520" y="205848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30"/>
            <p:cNvSpPr/>
            <p:nvPr/>
          </p:nvSpPr>
          <p:spPr>
            <a:xfrm>
              <a:off x="6836400" y="19526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31"/>
            <p:cNvSpPr/>
            <p:nvPr/>
          </p:nvSpPr>
          <p:spPr>
            <a:xfrm>
              <a:off x="6777360" y="207720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Line 38"/>
          <p:cNvSpPr/>
          <p:nvPr/>
        </p:nvSpPr>
        <p:spPr>
          <a:xfrm>
            <a:off x="596268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1336680" y="2973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33812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3681360" y="2973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68460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6037200" y="2973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6040440" y="31370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"/>
          <p:cNvPicPr/>
          <p:nvPr/>
        </p:nvPicPr>
        <p:blipFill>
          <a:blip r:embed="rId1"/>
          <a:stretch/>
        </p:blipFill>
        <p:spPr>
          <a:xfrm>
            <a:off x="-1440" y="1763640"/>
            <a:ext cx="5675040" cy="194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矩形 4"/>
          <p:cNvSpPr/>
          <p:nvPr/>
        </p:nvSpPr>
        <p:spPr>
          <a:xfrm>
            <a:off x="6031080" y="1770120"/>
            <a:ext cx="3112920" cy="19368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5"/>
          <p:cNvSpPr/>
          <p:nvPr/>
        </p:nvSpPr>
        <p:spPr>
          <a:xfrm>
            <a:off x="6216480" y="232236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782640" y="2054160"/>
            <a:ext cx="7675560" cy="190188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428840" y="1662120"/>
            <a:ext cx="1339920" cy="10047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3100320" y="1662120"/>
            <a:ext cx="1339920" cy="10047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759200" y="1663560"/>
            <a:ext cx="1338480" cy="10051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6467400" y="1663560"/>
            <a:ext cx="1316160" cy="10051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32"/>
          <p:cNvSpPr/>
          <p:nvPr/>
        </p:nvSpPr>
        <p:spPr>
          <a:xfrm>
            <a:off x="3649680" y="2013120"/>
            <a:ext cx="239760" cy="2505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220"/>
          <p:cNvSpPr/>
          <p:nvPr/>
        </p:nvSpPr>
        <p:spPr>
          <a:xfrm>
            <a:off x="1925640" y="2013120"/>
            <a:ext cx="420840" cy="23652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组合 10" descr=""/>
          <p:cNvPicPr/>
          <p:nvPr/>
        </p:nvPicPr>
        <p:blipFill>
          <a:blip r:embed="rId2"/>
          <a:stretch/>
        </p:blipFill>
        <p:spPr>
          <a:xfrm>
            <a:off x="5254560" y="200808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813" name="Freeform 289"/>
          <p:cNvSpPr/>
          <p:nvPr/>
        </p:nvSpPr>
        <p:spPr>
          <a:xfrm>
            <a:off x="6975360" y="2046240"/>
            <a:ext cx="328680" cy="24912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144000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3"/>
          <p:cNvSpPr/>
          <p:nvPr/>
        </p:nvSpPr>
        <p:spPr>
          <a:xfrm>
            <a:off x="142884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3"/>
          <p:cNvSpPr/>
          <p:nvPr/>
        </p:nvSpPr>
        <p:spPr>
          <a:xfrm>
            <a:off x="316404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13"/>
          <p:cNvSpPr/>
          <p:nvPr/>
        </p:nvSpPr>
        <p:spPr>
          <a:xfrm>
            <a:off x="315288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4772160" y="2857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47610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645336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64422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手动输入 4"/>
          <p:cNvSpPr/>
          <p:nvPr/>
        </p:nvSpPr>
        <p:spPr>
          <a:xfrm rot="5400000">
            <a:off x="-862200" y="863280"/>
            <a:ext cx="5143680" cy="341640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514368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0"/>
          <p:cNvSpPr/>
          <p:nvPr/>
        </p:nvSpPr>
        <p:spPr>
          <a:xfrm>
            <a:off x="436680" y="19098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11"/>
          <p:cNvSpPr/>
          <p:nvPr/>
        </p:nvSpPr>
        <p:spPr>
          <a:xfrm>
            <a:off x="324000" y="25448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6222960" y="17366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5719680" y="16905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0"/>
          <p:cNvSpPr/>
          <p:nvPr/>
        </p:nvSpPr>
        <p:spPr>
          <a:xfrm>
            <a:off x="6222960" y="233676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1"/>
          <p:cNvSpPr/>
          <p:nvPr/>
        </p:nvSpPr>
        <p:spPr>
          <a:xfrm>
            <a:off x="5719680" y="22892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2"/>
          <p:cNvSpPr/>
          <p:nvPr/>
        </p:nvSpPr>
        <p:spPr>
          <a:xfrm>
            <a:off x="6222960" y="29844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3"/>
          <p:cNvSpPr/>
          <p:nvPr/>
        </p:nvSpPr>
        <p:spPr>
          <a:xfrm>
            <a:off x="5719680" y="2938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4"/>
          <p:cNvSpPr/>
          <p:nvPr/>
        </p:nvSpPr>
        <p:spPr>
          <a:xfrm>
            <a:off x="6222960" y="35845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5"/>
          <p:cNvSpPr/>
          <p:nvPr/>
        </p:nvSpPr>
        <p:spPr>
          <a:xfrm>
            <a:off x="5719680" y="35384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3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图片 9" descr=""/>
          <p:cNvPicPr/>
          <p:nvPr/>
        </p:nvPicPr>
        <p:blipFill>
          <a:blip r:embed="rId2"/>
          <a:stretch/>
        </p:blipFill>
        <p:spPr>
          <a:xfrm>
            <a:off x="3373560" y="2301840"/>
            <a:ext cx="23968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5"/>
          <p:cNvSpPr/>
          <p:nvPr/>
        </p:nvSpPr>
        <p:spPr>
          <a:xfrm flipH="1">
            <a:off x="4560840" y="1689120"/>
            <a:ext cx="23760" cy="28256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"/>
          <p:cNvSpPr/>
          <p:nvPr/>
        </p:nvSpPr>
        <p:spPr>
          <a:xfrm>
            <a:off x="2043000" y="3011400"/>
            <a:ext cx="2833920" cy="45576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4471920" y="3117960"/>
            <a:ext cx="246240" cy="22680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2043000" y="1650960"/>
            <a:ext cx="283392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7"/>
          <p:cNvSpPr/>
          <p:nvPr/>
        </p:nvSpPr>
        <p:spPr>
          <a:xfrm>
            <a:off x="4435560" y="1770120"/>
            <a:ext cx="276120" cy="1760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"/>
          <p:cNvSpPr/>
          <p:nvPr/>
        </p:nvSpPr>
        <p:spPr>
          <a:xfrm rot="10800000">
            <a:off x="4267080" y="3690720"/>
            <a:ext cx="2835360" cy="4554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4421160" y="3817800"/>
            <a:ext cx="304920" cy="2034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"/>
          <p:cNvSpPr/>
          <p:nvPr/>
        </p:nvSpPr>
        <p:spPr>
          <a:xfrm rot="10800000">
            <a:off x="4286160" y="2332080"/>
            <a:ext cx="283536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1"/>
          <p:cNvSpPr/>
          <p:nvPr/>
        </p:nvSpPr>
        <p:spPr>
          <a:xfrm>
            <a:off x="4421160" y="2465280"/>
            <a:ext cx="343080" cy="1987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14520" y="1770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17400" y="19303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614520" y="3117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617400" y="32796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7283520" y="24336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7286760" y="259380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7283520" y="38178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7286760" y="39783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Bent Arrow 5@|1FFC:0|FBC:0|LFC:9868950|LBC:16777215"/>
          <p:cNvSpPr/>
          <p:nvPr/>
        </p:nvSpPr>
        <p:spPr>
          <a:xfrm rot="2700000">
            <a:off x="3586680" y="1494360"/>
            <a:ext cx="1681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6@|1FFC:0|FBC:0|LFC:9868950|LBC:16777215"/>
          <p:cNvSpPr/>
          <p:nvPr/>
        </p:nvSpPr>
        <p:spPr>
          <a:xfrm flipV="1" rot="2700000">
            <a:off x="3246120" y="233316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Bent Arrow 8@|1FFC:0|FBC:0|LFC:9868950|LBC:16777215"/>
          <p:cNvSpPr/>
          <p:nvPr/>
        </p:nvSpPr>
        <p:spPr>
          <a:xfrm rot="18900000">
            <a:off x="3036960" y="336816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9@|1FFC:0|FBC:0|LFC:9868950|LBC:16777215"/>
          <p:cNvSpPr/>
          <p:nvPr/>
        </p:nvSpPr>
        <p:spPr>
          <a:xfrm flipV="1" rot="18900000">
            <a:off x="3983040" y="3750480"/>
            <a:ext cx="225360" cy="223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1880" bIns="-11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Bent Arrow 11@|1FFC:0|FBC:0|LFC:9868950|LBC:16777215"/>
          <p:cNvSpPr/>
          <p:nvPr/>
        </p:nvSpPr>
        <p:spPr>
          <a:xfrm flipH="1" flipV="1" rot="18900000">
            <a:off x="4826160" y="202680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12@|1FFC:0|FBC:0|LFC:9868950|LBC:16777215"/>
          <p:cNvSpPr/>
          <p:nvPr/>
        </p:nvSpPr>
        <p:spPr>
          <a:xfrm flipH="1" rot="18900000">
            <a:off x="4893120" y="1785960"/>
            <a:ext cx="223920" cy="237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0440" bIns="-10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Bent Arrow 14@|1FFC:0|FBC:0|LFC:9868950|LBC:16777215"/>
          <p:cNvSpPr/>
          <p:nvPr/>
        </p:nvSpPr>
        <p:spPr>
          <a:xfrm flipH="1" flipV="1" rot="2700000">
            <a:off x="5383440" y="2844000"/>
            <a:ext cx="168480" cy="12380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Rectangle 15@|1FFC:0|FBC:0|LFC:9868950|LBC:16777215"/>
          <p:cNvSpPr/>
          <p:nvPr/>
        </p:nvSpPr>
        <p:spPr>
          <a:xfrm flipH="1" rot="2700000">
            <a:off x="5874840" y="302220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ounded Rectangle 20@|1FFC:2381804|FBC:16777215|LFC:16777215|LBC:16777215"/>
          <p:cNvSpPr/>
          <p:nvPr/>
        </p:nvSpPr>
        <p:spPr>
          <a:xfrm flipV="1" rot="18900000">
            <a:off x="48412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Group 34" descr=""/>
          <p:cNvPicPr/>
          <p:nvPr/>
        </p:nvPicPr>
        <p:blipFill>
          <a:blip r:embed="rId2"/>
          <a:stretch/>
        </p:blipFill>
        <p:spPr>
          <a:xfrm>
            <a:off x="5162400" y="2638440"/>
            <a:ext cx="457200" cy="333360"/>
          </a:xfrm>
          <a:prstGeom prst="rect">
            <a:avLst/>
          </a:prstGeom>
          <a:ln w="0">
            <a:noFill/>
          </a:ln>
        </p:spPr>
      </p:pic>
      <p:sp>
        <p:nvSpPr>
          <p:cNvPr id="860" name="Rounded Rectangle 17@|1FFC:14657585|FBC:16777215|LFC:16777215|LBC:16777215"/>
          <p:cNvSpPr/>
          <p:nvPr/>
        </p:nvSpPr>
        <p:spPr>
          <a:xfrm flipV="1" rot="18900000">
            <a:off x="4014720" y="2993760"/>
            <a:ext cx="111384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719@|5FFC:16777215|FBC:16777215|LFC:16777215|LBC:16777215"/>
          <p:cNvSpPr/>
          <p:nvPr/>
        </p:nvSpPr>
        <p:spPr>
          <a:xfrm>
            <a:off x="4351320" y="3252960"/>
            <a:ext cx="441360" cy="2840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ounded Rectangle 23@|1FFC:0|FBC:0|LFC:16777215|LBC:16777215"/>
          <p:cNvSpPr/>
          <p:nvPr/>
        </p:nvSpPr>
        <p:spPr>
          <a:xfrm flipV="1" rot="18900000">
            <a:off x="31870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2102@|5FFC:16777215|FBC:16777215|LFC:16777215|LBC:16777215"/>
          <p:cNvSpPr/>
          <p:nvPr/>
        </p:nvSpPr>
        <p:spPr>
          <a:xfrm>
            <a:off x="3467160" y="2624040"/>
            <a:ext cx="539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Rounded Rectangle 26@|1FFC:4308095|FBC:16777215|LFC:16777215|LBC:16777215"/>
          <p:cNvSpPr/>
          <p:nvPr/>
        </p:nvSpPr>
        <p:spPr>
          <a:xfrm flipV="1" rot="18900000">
            <a:off x="4014720" y="1752120"/>
            <a:ext cx="111456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56@|5FFC:16777215|FBC:16777215|LFC:16777215|LBC:16777215"/>
          <p:cNvSpPr/>
          <p:nvPr/>
        </p:nvSpPr>
        <p:spPr>
          <a:xfrm>
            <a:off x="4352760" y="2030400"/>
            <a:ext cx="498600" cy="30636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6280200" y="183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283440" y="1992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280200" y="3294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6283440" y="34545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1031760" y="183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035000" y="1992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1031760" y="3294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1035000" y="345456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7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 Same Side Corner Rectangle 4"/>
          <p:cNvSpPr/>
          <p:nvPr/>
        </p:nvSpPr>
        <p:spPr>
          <a:xfrm rot="16200000">
            <a:off x="798480" y="1776600"/>
            <a:ext cx="1967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711360" y="2535120"/>
            <a:ext cx="214452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16"/>
          <p:cNvSpPr/>
          <p:nvPr/>
        </p:nvSpPr>
        <p:spPr>
          <a:xfrm>
            <a:off x="1576440" y="2041560"/>
            <a:ext cx="411120" cy="24912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155600" y="230832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ound Same Side Corner Rectangle 12"/>
          <p:cNvSpPr/>
          <p:nvPr/>
        </p:nvSpPr>
        <p:spPr>
          <a:xfrm flipH="1" rot="5400000">
            <a:off x="6360120" y="1776240"/>
            <a:ext cx="1967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3"/>
          <p:cNvSpPr/>
          <p:nvPr/>
        </p:nvSpPr>
        <p:spPr>
          <a:xfrm flipH="1">
            <a:off x="6270480" y="2535120"/>
            <a:ext cx="214488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2"/>
          <p:cNvSpPr/>
          <p:nvPr/>
        </p:nvSpPr>
        <p:spPr>
          <a:xfrm>
            <a:off x="7153200" y="2058840"/>
            <a:ext cx="379440" cy="22392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6716880" y="229068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108576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67872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图片 2" descr=""/>
          <p:cNvPicPr/>
          <p:nvPr/>
        </p:nvPicPr>
        <p:blipFill>
          <a:blip r:embed="rId2"/>
          <a:stretch/>
        </p:blipFill>
        <p:spPr>
          <a:xfrm>
            <a:off x="2782800" y="1471680"/>
            <a:ext cx="348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entagon 49"/>
          <p:cNvSpPr/>
          <p:nvPr/>
        </p:nvSpPr>
        <p:spPr>
          <a:xfrm>
            <a:off x="2824200" y="13748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entagon 51"/>
          <p:cNvSpPr/>
          <p:nvPr/>
        </p:nvSpPr>
        <p:spPr>
          <a:xfrm>
            <a:off x="2824200" y="250812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entagon 52"/>
          <p:cNvSpPr/>
          <p:nvPr/>
        </p:nvSpPr>
        <p:spPr>
          <a:xfrm flipH="1">
            <a:off x="4800600" y="1946160"/>
            <a:ext cx="1749600" cy="62712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entagon 53"/>
          <p:cNvSpPr/>
          <p:nvPr/>
        </p:nvSpPr>
        <p:spPr>
          <a:xfrm flipH="1">
            <a:off x="4800600" y="3094200"/>
            <a:ext cx="1749600" cy="62856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9"/>
          <p:cNvSpPr/>
          <p:nvPr/>
        </p:nvSpPr>
        <p:spPr>
          <a:xfrm>
            <a:off x="3451320" y="1544760"/>
            <a:ext cx="203040" cy="28548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23"/>
          <p:cNvSpPr/>
          <p:nvPr/>
        </p:nvSpPr>
        <p:spPr>
          <a:xfrm>
            <a:off x="3406680" y="2717640"/>
            <a:ext cx="292320" cy="20664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7"/>
          <p:cNvSpPr/>
          <p:nvPr/>
        </p:nvSpPr>
        <p:spPr>
          <a:xfrm>
            <a:off x="5616720" y="3292560"/>
            <a:ext cx="347400" cy="23004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6"/>
          <p:cNvSpPr/>
          <p:nvPr/>
        </p:nvSpPr>
        <p:spPr>
          <a:xfrm>
            <a:off x="5667480" y="2147760"/>
            <a:ext cx="257040" cy="225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34"/>
          <p:cNvSpPr/>
          <p:nvPr/>
        </p:nvSpPr>
        <p:spPr>
          <a:xfrm>
            <a:off x="4600440" y="1413000"/>
            <a:ext cx="200160" cy="563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35"/>
          <p:cNvSpPr/>
          <p:nvPr/>
        </p:nvSpPr>
        <p:spPr>
          <a:xfrm>
            <a:off x="4600440" y="197640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600440" y="2541600"/>
            <a:ext cx="200160" cy="561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600440" y="310356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600440" y="3660840"/>
            <a:ext cx="200160" cy="5652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entagon 31"/>
          <p:cNvSpPr/>
          <p:nvPr/>
        </p:nvSpPr>
        <p:spPr>
          <a:xfrm>
            <a:off x="2824200" y="36050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52"/>
          <p:cNvSpPr/>
          <p:nvPr/>
        </p:nvSpPr>
        <p:spPr>
          <a:xfrm>
            <a:off x="3349800" y="3786120"/>
            <a:ext cx="385560" cy="26676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898560" y="14796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901800" y="1639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"/>
          <p:cNvSpPr/>
          <p:nvPr/>
        </p:nvSpPr>
        <p:spPr>
          <a:xfrm>
            <a:off x="841320" y="2637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"/>
          <p:cNvSpPr/>
          <p:nvPr/>
        </p:nvSpPr>
        <p:spPr>
          <a:xfrm>
            <a:off x="844560" y="27972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901800" y="37353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905040" y="389556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6750000" y="2058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6753240" y="22208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692760" y="3216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96000" y="33782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5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10" descr=""/>
          <p:cNvPicPr/>
          <p:nvPr/>
        </p:nvPicPr>
        <p:blipFill>
          <a:blip r:embed="rId2"/>
          <a:stretch/>
        </p:blipFill>
        <p:spPr>
          <a:xfrm>
            <a:off x="3705120" y="1731960"/>
            <a:ext cx="1731960" cy="566640"/>
          </a:xfrm>
          <a:prstGeom prst="rect">
            <a:avLst/>
          </a:prstGeom>
          <a:ln w="0">
            <a:noFill/>
          </a:ln>
        </p:spPr>
      </p:pic>
      <p:sp>
        <p:nvSpPr>
          <p:cNvPr id="917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14"/>
          <p:cNvSpPr/>
          <p:nvPr/>
        </p:nvSpPr>
        <p:spPr>
          <a:xfrm>
            <a:off x="1311120" y="33084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4" descr=""/>
          <p:cNvPicPr/>
          <p:nvPr/>
        </p:nvPicPr>
        <p:blipFill>
          <a:blip r:embed="rId2"/>
          <a:stretch/>
        </p:blipFill>
        <p:spPr>
          <a:xfrm>
            <a:off x="3444840" y="2298600"/>
            <a:ext cx="2254320" cy="54468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空心弧 3"/>
          <p:cNvSpPr/>
          <p:nvPr/>
        </p:nvSpPr>
        <p:spPr>
          <a:xfrm rot="16921200">
            <a:off x="3545280" y="132336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空心弧 4"/>
          <p:cNvSpPr/>
          <p:nvPr/>
        </p:nvSpPr>
        <p:spPr>
          <a:xfrm rot="10221000">
            <a:off x="3214440" y="1674720"/>
            <a:ext cx="2789280" cy="206712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空心弧 5"/>
          <p:cNvSpPr/>
          <p:nvPr/>
        </p:nvSpPr>
        <p:spPr>
          <a:xfrm rot="850800">
            <a:off x="3185640" y="1655640"/>
            <a:ext cx="2787840" cy="206712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空心弧 6"/>
          <p:cNvSpPr/>
          <p:nvPr/>
        </p:nvSpPr>
        <p:spPr>
          <a:xfrm rot="4608000">
            <a:off x="3545280" y="132300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656160" y="2108160"/>
            <a:ext cx="363240" cy="239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64"/>
          <p:cNvSpPr/>
          <p:nvPr/>
        </p:nvSpPr>
        <p:spPr>
          <a:xfrm>
            <a:off x="3701880" y="3171960"/>
            <a:ext cx="327240" cy="23472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0"/>
          <p:cNvSpPr/>
          <p:nvPr/>
        </p:nvSpPr>
        <p:spPr>
          <a:xfrm>
            <a:off x="5354640" y="3233880"/>
            <a:ext cx="81000" cy="60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1"/>
          <p:cNvSpPr/>
          <p:nvPr/>
        </p:nvSpPr>
        <p:spPr>
          <a:xfrm>
            <a:off x="5335560" y="3218040"/>
            <a:ext cx="88920" cy="6804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2"/>
          <p:cNvSpPr/>
          <p:nvPr/>
        </p:nvSpPr>
        <p:spPr>
          <a:xfrm>
            <a:off x="5319720" y="3208320"/>
            <a:ext cx="84240" cy="619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3"/>
          <p:cNvSpPr/>
          <p:nvPr/>
        </p:nvSpPr>
        <p:spPr>
          <a:xfrm>
            <a:off x="5297400" y="3270240"/>
            <a:ext cx="57240" cy="4140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4"/>
          <p:cNvSpPr/>
          <p:nvPr/>
        </p:nvSpPr>
        <p:spPr>
          <a:xfrm>
            <a:off x="5283360" y="3303720"/>
            <a:ext cx="28440" cy="190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115"/>
          <p:cNvSpPr/>
          <p:nvPr/>
        </p:nvSpPr>
        <p:spPr>
          <a:xfrm>
            <a:off x="5402160" y="3192480"/>
            <a:ext cx="55800" cy="428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16"/>
          <p:cNvSpPr/>
          <p:nvPr/>
        </p:nvSpPr>
        <p:spPr>
          <a:xfrm>
            <a:off x="5145120" y="3171960"/>
            <a:ext cx="225360" cy="2044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17"/>
          <p:cNvSpPr/>
          <p:nvPr/>
        </p:nvSpPr>
        <p:spPr>
          <a:xfrm>
            <a:off x="5184720" y="324000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18"/>
          <p:cNvSpPr/>
          <p:nvPr/>
        </p:nvSpPr>
        <p:spPr>
          <a:xfrm>
            <a:off x="5184720" y="3265560"/>
            <a:ext cx="88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19"/>
          <p:cNvSpPr/>
          <p:nvPr/>
        </p:nvSpPr>
        <p:spPr>
          <a:xfrm>
            <a:off x="5184720" y="3292560"/>
            <a:ext cx="88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20"/>
          <p:cNvSpPr/>
          <p:nvPr/>
        </p:nvSpPr>
        <p:spPr>
          <a:xfrm>
            <a:off x="5184720" y="331632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6"/>
          <p:cNvSpPr/>
          <p:nvPr/>
        </p:nvSpPr>
        <p:spPr>
          <a:xfrm>
            <a:off x="5335560" y="2131920"/>
            <a:ext cx="163440" cy="19836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27"/>
          <p:cNvSpPr/>
          <p:nvPr/>
        </p:nvSpPr>
        <p:spPr>
          <a:xfrm>
            <a:off x="5153040" y="2131920"/>
            <a:ext cx="162000" cy="19836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8"/>
          <p:cNvSpPr/>
          <p:nvPr/>
        </p:nvSpPr>
        <p:spPr>
          <a:xfrm>
            <a:off x="5162400" y="2071800"/>
            <a:ext cx="333360" cy="9828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2104920" y="188280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270080" y="207648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035760" y="18828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6039000" y="2077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10492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270080" y="340992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576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039000" y="3409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0495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2754360" y="1635120"/>
            <a:ext cx="36464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5"/>
          <p:cNvSpPr/>
          <p:nvPr/>
        </p:nvSpPr>
        <p:spPr>
          <a:xfrm>
            <a:off x="3867120" y="1755720"/>
            <a:ext cx="1420920" cy="86688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6"/>
          <p:cNvSpPr/>
          <p:nvPr/>
        </p:nvSpPr>
        <p:spPr>
          <a:xfrm>
            <a:off x="3309840" y="2622600"/>
            <a:ext cx="2535480" cy="67932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7"/>
          <p:cNvSpPr/>
          <p:nvPr/>
        </p:nvSpPr>
        <p:spPr>
          <a:xfrm>
            <a:off x="2754360" y="3301920"/>
            <a:ext cx="3646440" cy="67788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4332960" y="23353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4338360" y="288288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338360" y="355140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1"/>
          <p:cNvGrpSpPr/>
          <p:nvPr/>
        </p:nvGrpSpPr>
        <p:grpSpPr>
          <a:xfrm>
            <a:off x="568440" y="2432160"/>
            <a:ext cx="2253960" cy="397440"/>
            <a:chOff x="568440" y="2432160"/>
            <a:chExt cx="2253960" cy="397440"/>
          </a:xfrm>
        </p:grpSpPr>
        <p:sp>
          <p:nvSpPr>
            <p:cNvPr id="558" name="矩形 12"/>
            <p:cNvSpPr/>
            <p:nvPr/>
          </p:nvSpPr>
          <p:spPr>
            <a:xfrm>
              <a:off x="568440" y="264672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3"/>
            <p:cNvSpPr/>
            <p:nvPr/>
          </p:nvSpPr>
          <p:spPr>
            <a:xfrm>
              <a:off x="56844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组合 14"/>
          <p:cNvGrpSpPr/>
          <p:nvPr/>
        </p:nvGrpSpPr>
        <p:grpSpPr>
          <a:xfrm>
            <a:off x="6502320" y="2432160"/>
            <a:ext cx="2254320" cy="397440"/>
            <a:chOff x="6502320" y="2432160"/>
            <a:chExt cx="2254320" cy="397440"/>
          </a:xfrm>
        </p:grpSpPr>
        <p:sp>
          <p:nvSpPr>
            <p:cNvPr id="561" name="矩形 15"/>
            <p:cNvSpPr/>
            <p:nvPr/>
          </p:nvSpPr>
          <p:spPr>
            <a:xfrm>
              <a:off x="6502320" y="264672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13"/>
            <p:cNvSpPr/>
            <p:nvPr/>
          </p:nvSpPr>
          <p:spPr>
            <a:xfrm>
              <a:off x="650232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1830240" y="1963800"/>
            <a:ext cx="1257480" cy="10476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2979720" y="1711440"/>
            <a:ext cx="1562040" cy="13017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6"/>
          <p:cNvSpPr/>
          <p:nvPr/>
        </p:nvSpPr>
        <p:spPr>
          <a:xfrm>
            <a:off x="4432320" y="1868400"/>
            <a:ext cx="1371600" cy="11430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traight Connector 11"/>
          <p:cNvSpPr/>
          <p:nvPr/>
        </p:nvSpPr>
        <p:spPr>
          <a:xfrm>
            <a:off x="1278000" y="314316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12"/>
          <p:cNvSpPr/>
          <p:nvPr/>
        </p:nvSpPr>
        <p:spPr>
          <a:xfrm>
            <a:off x="3716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2411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636264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694480" y="1817640"/>
            <a:ext cx="1431720" cy="11955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9"/>
          <p:cNvSpPr/>
          <p:nvPr/>
        </p:nvSpPr>
        <p:spPr>
          <a:xfrm>
            <a:off x="5070600" y="3106800"/>
            <a:ext cx="950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1"/>
          <p:cNvSpPr/>
          <p:nvPr/>
        </p:nvSpPr>
        <p:spPr>
          <a:xfrm>
            <a:off x="591516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2"/>
          <p:cNvSpPr/>
          <p:nvPr/>
        </p:nvSpPr>
        <p:spPr>
          <a:xfrm>
            <a:off x="462276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23"/>
          <p:cNvSpPr/>
          <p:nvPr/>
        </p:nvSpPr>
        <p:spPr>
          <a:xfrm>
            <a:off x="326880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96524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5"/>
          <p:cNvSpPr/>
          <p:nvPr/>
        </p:nvSpPr>
        <p:spPr>
          <a:xfrm>
            <a:off x="59151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4622760" y="217476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7"/>
          <p:cNvSpPr/>
          <p:nvPr/>
        </p:nvSpPr>
        <p:spPr>
          <a:xfrm>
            <a:off x="32655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8"/>
          <p:cNvSpPr/>
          <p:nvPr/>
        </p:nvSpPr>
        <p:spPr>
          <a:xfrm>
            <a:off x="1963800" y="222264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4897440" y="2222640"/>
            <a:ext cx="1454040" cy="10731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7"/>
          <p:cNvSpPr/>
          <p:nvPr/>
        </p:nvSpPr>
        <p:spPr>
          <a:xfrm>
            <a:off x="4148280" y="2355840"/>
            <a:ext cx="1110960" cy="82080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8"/>
          <p:cNvSpPr/>
          <p:nvPr/>
        </p:nvSpPr>
        <p:spPr>
          <a:xfrm>
            <a:off x="3457440" y="2424240"/>
            <a:ext cx="973440" cy="7128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2916360" y="2494080"/>
            <a:ext cx="771480" cy="58572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100"/>
          <p:cNvSpPr/>
          <p:nvPr/>
        </p:nvSpPr>
        <p:spPr>
          <a:xfrm>
            <a:off x="5899320" y="2448000"/>
            <a:ext cx="1911240" cy="162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8"/>
          <p:cNvSpPr/>
          <p:nvPr/>
        </p:nvSpPr>
        <p:spPr>
          <a:xfrm flipH="1">
            <a:off x="1212840" y="2622600"/>
            <a:ext cx="1914480" cy="1602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112"/>
          <p:cNvSpPr/>
          <p:nvPr/>
        </p:nvSpPr>
        <p:spPr>
          <a:xfrm>
            <a:off x="4703760" y="205416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113"/>
          <p:cNvSpPr/>
          <p:nvPr/>
        </p:nvSpPr>
        <p:spPr>
          <a:xfrm flipH="1">
            <a:off x="3419640" y="205092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3249720" y="2709720"/>
            <a:ext cx="169920" cy="1368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5645160" y="2711520"/>
            <a:ext cx="182520" cy="1411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442"/>
          <p:cNvSpPr/>
          <p:nvPr/>
        </p:nvSpPr>
        <p:spPr>
          <a:xfrm>
            <a:off x="3886200" y="2720880"/>
            <a:ext cx="193680" cy="12564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43"/>
          <p:cNvSpPr/>
          <p:nvPr/>
        </p:nvSpPr>
        <p:spPr>
          <a:xfrm>
            <a:off x="3941640" y="2741760"/>
            <a:ext cx="507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0" bIns="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444"/>
          <p:cNvSpPr/>
          <p:nvPr/>
        </p:nvSpPr>
        <p:spPr>
          <a:xfrm>
            <a:off x="4008600" y="274644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45"/>
          <p:cNvSpPr/>
          <p:nvPr/>
        </p:nvSpPr>
        <p:spPr>
          <a:xfrm>
            <a:off x="4008600" y="276552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46"/>
          <p:cNvSpPr/>
          <p:nvPr/>
        </p:nvSpPr>
        <p:spPr>
          <a:xfrm>
            <a:off x="3941640" y="2792520"/>
            <a:ext cx="109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47"/>
          <p:cNvSpPr/>
          <p:nvPr/>
        </p:nvSpPr>
        <p:spPr>
          <a:xfrm>
            <a:off x="3941640" y="2813040"/>
            <a:ext cx="109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7720" bIns="-27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56"/>
          <p:cNvSpPr/>
          <p:nvPr/>
        </p:nvSpPr>
        <p:spPr>
          <a:xfrm>
            <a:off x="4703760" y="2698920"/>
            <a:ext cx="227160" cy="1695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57"/>
          <p:cNvSpPr/>
          <p:nvPr/>
        </p:nvSpPr>
        <p:spPr>
          <a:xfrm>
            <a:off x="4738680" y="2720880"/>
            <a:ext cx="117360" cy="79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8"/>
          <p:cNvSpPr/>
          <p:nvPr/>
        </p:nvSpPr>
        <p:spPr>
          <a:xfrm>
            <a:off x="4800600" y="2782800"/>
            <a:ext cx="90360" cy="777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9"/>
          <p:cNvSpPr/>
          <p:nvPr/>
        </p:nvSpPr>
        <p:spPr>
          <a:xfrm>
            <a:off x="4848120" y="2703600"/>
            <a:ext cx="77760" cy="108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2814480" y="16714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281772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794120" y="167148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479736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818400" y="25830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6821640" y="27432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569880" y="269712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573120" y="28576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33"/>
          <p:cNvSpPr/>
          <p:nvPr/>
        </p:nvSpPr>
        <p:spPr>
          <a:xfrm>
            <a:off x="987480" y="370368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4" descr=""/>
          <p:cNvPicPr/>
          <p:nvPr/>
        </p:nvPicPr>
        <p:blipFill>
          <a:blip r:embed="rId1"/>
          <a:stretch/>
        </p:blipFill>
        <p:spPr>
          <a:xfrm>
            <a:off x="0" y="665280"/>
            <a:ext cx="4657680" cy="3855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">
            <a:hlinkClick r:id="" action="ppaction://hlinkshowjump?jump=nextslide"/>
          </p:cNvPr>
          <p:cNvSpPr/>
          <p:nvPr/>
        </p:nvSpPr>
        <p:spPr>
          <a:xfrm>
            <a:off x="714240" y="4297320"/>
            <a:ext cx="17172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eft Arrow">
            <a:hlinkClick r:id="" action="ppaction://hlinkshowjump?jump=previousslide"/>
          </p:cNvPr>
          <p:cNvSpPr/>
          <p:nvPr/>
        </p:nvSpPr>
        <p:spPr>
          <a:xfrm>
            <a:off x="457200" y="4297320"/>
            <a:ext cx="17136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5361120" y="2633760"/>
            <a:ext cx="438120" cy="3268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6"/>
          <p:cNvSpPr/>
          <p:nvPr/>
        </p:nvSpPr>
        <p:spPr>
          <a:xfrm>
            <a:off x="5361120" y="2725560"/>
            <a:ext cx="438120" cy="2350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21"/>
          <p:cNvSpPr/>
          <p:nvPr/>
        </p:nvSpPr>
        <p:spPr>
          <a:xfrm>
            <a:off x="5361120" y="3189240"/>
            <a:ext cx="438120" cy="33012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22"/>
          <p:cNvSpPr/>
          <p:nvPr/>
        </p:nvSpPr>
        <p:spPr>
          <a:xfrm>
            <a:off x="5361120" y="3375000"/>
            <a:ext cx="438120" cy="14436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23"/>
          <p:cNvSpPr/>
          <p:nvPr/>
        </p:nvSpPr>
        <p:spPr>
          <a:xfrm>
            <a:off x="5361120" y="3747960"/>
            <a:ext cx="438120" cy="3304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5361120" y="3855960"/>
            <a:ext cx="438120" cy="22248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2" descr=""/>
          <p:cNvPicPr/>
          <p:nvPr/>
        </p:nvPicPr>
        <p:blipFill>
          <a:blip r:embed="rId3"/>
          <a:stretch/>
        </p:blipFill>
        <p:spPr>
          <a:xfrm>
            <a:off x="457200" y="1386000"/>
            <a:ext cx="173196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矩形 13"/>
          <p:cNvSpPr/>
          <p:nvPr/>
        </p:nvSpPr>
        <p:spPr>
          <a:xfrm>
            <a:off x="628560" y="298440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628560" y="280188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15"/>
          <p:cNvSpPr/>
          <p:nvPr/>
        </p:nvSpPr>
        <p:spPr>
          <a:xfrm>
            <a:off x="4632480" y="15336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6035760" y="2592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039000" y="2754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6035760" y="31464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>
            <a:off x="6039000" y="33084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035760" y="3708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039000" y="3870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5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片 9" descr=""/>
          <p:cNvPicPr/>
          <p:nvPr/>
        </p:nvPicPr>
        <p:blipFill>
          <a:blip r:embed="rId2"/>
          <a:stretch/>
        </p:blipFill>
        <p:spPr>
          <a:xfrm>
            <a:off x="3379680" y="2295360"/>
            <a:ext cx="2384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</cp:lastModifiedBy>
  <dcterms:modified xsi:type="dcterms:W3CDTF">2017-05-30T10:18:10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