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EFAE-CF3B-43CA-BCA5-45FFA45B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FF09-C14C-4725-B703-3D4845B9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6F834-A11F-4A3B-AD67-C3FD3930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9A516-08D9-4984-BF9B-ABB0FB03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497A6-7CEA-4A0E-A242-FB4E0FB7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9F77E-0639-4C67-B4C0-10253E32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01C5D-2F33-48D4-B910-470EEA89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535E1-7957-492D-99AD-D16DF406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548EB-68A3-4B0C-9316-FC058F82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DE7BB-A921-492C-8A88-BCE54DAF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8D966-917E-41CB-9A8B-06B5F7E5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F7447-C3F7-4A7B-8C1D-7B9B89D9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445-C9F6-4B43-B2C7-875851B8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41418-9B99-4E5F-81AA-1DCEC2C5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66FDA-E7BE-4B77-B7F1-876359B0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28A58-6F88-4C13-A899-602ADC39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B9FFD-7666-4D5F-9412-BCF259DB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25787-7BCE-4091-A257-42CE872F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627AF-F150-45D0-9A76-0AB8EF3D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6E339-091B-441E-8A3A-DD83B8E2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D17BE-28AF-4EEA-B432-EBA79FC0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EAC10-970C-4040-8040-119E5BEF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0114B-4248-4782-9D5B-F67DA7A1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0692-8428-4A25-A3B1-8213CF66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C03BC-9D93-4532-B97C-751DFE1A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3C799-D4BD-4BB8-8A84-A993F02D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E72A4-2E40-49CC-9244-D97CA5B4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5DB8E-D5B5-4911-B5BB-4EA22FF0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9ED63-C903-4128-9766-21FAD985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22528-C66F-461D-91E0-A717049B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4BDCF-EDF8-4C85-B9A5-254DB9FF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C259E-7F86-4CBE-A591-884C9470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61271-0709-436B-A954-BD2BF7C6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6B250-FA95-42D2-B062-95043DAC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DA8B-6638-458F-A37C-AA97E2ED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2E768-188C-4F82-AC93-1C28B901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9F29B-C3EA-47F9-AB06-2DE74175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BB104-7A52-494F-B81D-67585CEC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35B7C-7049-476A-8970-0F695523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36428-F639-4A44-AA8A-000296CA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ABE77-D53A-4AAF-966A-101411FF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3DF21-17E0-49E0-8BB5-780BBB83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DE180-840E-4213-9B2C-85B53F38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78E99-A98F-4ED1-A968-4D9226DE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D45EE-E5A3-46B8-B54E-634AE0B4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DE94-08CB-4217-B95F-5CE0E4C8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D5175-2FBD-46B7-A3C2-C90FBDEF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0F674-F245-4F47-B1CA-1D2CC784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E477D-99A9-49A4-BCCD-981DE315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50385-0B0E-4F82-8D07-60AD76BC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1C6CE-082E-4DDA-B6E1-2B5E2152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3ED7D7-A693-4F56-9D14-AF4C7634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53A2A0-6D7C-4CDC-B49F-2BA7528B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C5FD10-B1F5-4591-8EE8-69470F61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2199D3-0B64-4298-A8CA-4DF26F11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DABEBE-4B23-4BBF-AF7B-DEFF7017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DCEF-8AB4-460C-8D49-F2DA17F5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795E8E-A946-4CC4-8802-51A07B4F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6F114-F44A-4BE2-B418-4FA47D7B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9B69D5-B722-45F5-AA84-763C32A6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EFBF2D-2AE6-4EA4-8420-FE32BCBE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C86F2-02BA-4500-9A1F-7E469AA4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F92D4D-6DE5-4EBC-A789-9418EB17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5F1B38-6134-44E4-874C-B678C2CF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E4A05E-63C1-47BE-B6E1-5F54ECCC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17A816-88B3-466D-8291-BD99993B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988AF3-E4D6-4B84-971B-E23E1515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EF27-2EBA-4714-B1C3-1E672838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0BEA70-49F2-44BB-A1D1-3C94F303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9CBBF8-90FD-4211-9D50-A394281B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F1653E-0F3B-49D2-9322-BC73BEFA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02793-5AB1-428F-93B5-3D312075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71446A-336C-4E4D-97F4-509CF1F9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7A65AF-602E-4074-B8AC-7609E992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B07016-E65A-4272-B6AD-60920A10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A6B434-7DF0-476B-ABC7-57B14913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E20F4E-2FDB-4379-946B-A48B2D2A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8FA84C-2E1C-45A0-8806-5D835C25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5CC7-8301-46A4-8D64-E6CD0216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10521B-901A-422A-8993-69083BA6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660964-BE40-4409-B9A7-90436191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5B74D5-5F06-4D4E-B5B8-4553025E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3EC31F-7A32-4C38-AE5B-7466F327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1AD9FD-4FD7-4ED0-8984-349943DE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BBD09B-2179-4DC7-ADEA-7CB3233C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6CB4CB-7D53-4C4F-8F1B-50C264AF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07FBA3-B586-455A-A332-42CD4AD1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C342B5-375D-4C5E-A599-04EC0082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4C4939-288A-4494-9282-A24CC929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305F-1F9C-445A-BDC2-0177B915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FCD50D-13A0-4BB5-9DB7-87CFC4FD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D49833-D63F-434D-8AE8-BBE31153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BB13E0-03A0-412C-BF7C-E75A613F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7A677A-D3A8-4DD5-8D33-46C0F2BB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F3CEC6-536A-42D9-8A1B-C0F61532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8658B9-628E-4599-AC88-570460E4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8FC77F-A1A9-4078-8EF1-F9901145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20D15C-511E-4485-B384-37187C7E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5F2B34-C3A6-4E30-83D6-FF0D7B52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517AC8-40E5-42A8-9535-1C1199D1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BA4A-39FC-4841-8458-15E9BA2C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D25C5A-B41E-4377-98CF-AFEF6C4E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E0B9E8-388F-42E1-910A-FC833F36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42E836-FEF7-41CC-8F9F-14B5BE8F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307754-88D1-45AC-8373-31A2A312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CBB283-F8C8-4F02-BFB5-CA6A23EF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C148B3-191A-4284-8FEE-E0431F47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E66F88-DC24-41C8-A9EC-9E04A07B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935971-B848-4F94-B037-47D04D14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D430E3-7F8F-46C8-AA4E-C48C7F6E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5E7506-3BD9-43FF-8EE0-41CC83F0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A9D0-7B68-414A-9EE1-ED8CF2FD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A5BF-09CF-47CE-BB0F-3BCE8B60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EF29C3-026A-41DE-913E-AE2149F1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B2174D-6752-4C75-B52F-AA10B453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7A5C81-A74F-40D9-9028-691A3D32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F854C5-5C0B-470E-8BA1-40B82BE6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92521A-32EA-46CB-8A2E-9D94934B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9FD686-479B-402B-8836-BEC5FB91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AFDBBC-3106-4BAD-933D-73DB415F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261A79-F137-4806-8139-EC36584A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8FD083-8AEB-416C-8FEA-466FFAB3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C8447D-34F4-413D-8EDD-754759BE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B269-C1DC-424D-AB38-2F35000E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11DB85-EE12-4D29-9F79-3E562736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9A7176-7D72-4FB6-975D-A802591B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4FEA7F-9E59-4A60-A96D-9F40B9CD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51E73E-9902-43C4-AF60-5D13727B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65F362-B861-4CB8-A589-F015D8FD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3D5052-17C2-49AC-8288-FB60852FB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1BF80A-7609-458B-9B55-B0DDC55F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873F29-337B-4814-9D44-1C521BDB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C2C590-12A4-40C4-B13D-06BE436A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E62D99-4EE6-4477-A072-5E3E7B44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4B2B-FCA2-485D-8523-1B1A8165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ADA828-6FE8-46BA-BBAD-B09DA5D7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70639D-307A-4B90-B851-E9160503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DB326F-05F6-42B7-9F5B-4F2D8341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17A4C7-CAE0-4CC7-A427-D758C815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C9300E-9DDD-436B-8914-89B82A70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055261-0E94-4B41-BA70-711532DA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99B28D-F464-4B24-A7E6-0B823C95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4353DB-CCCA-4647-AD25-1FDAEDAC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FA346C-5FCF-42E3-85A5-3B78DFCE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8D3101-68EF-4307-A9EA-A68575B9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7B47-91F3-4B90-BEB1-BB8C226A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E25A37-E16A-41EA-9DF2-17E7D47C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0FAE7F-EFC8-48E1-9BF2-11098F24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D900B9-5F2A-4D82-A544-358C2A43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DEDF3F-1138-4837-9F5E-C3CCAA2D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7A478A-309D-458A-8061-935B80BF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EFE140-CCC7-4ED1-868A-0C645CB1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C9D704-0B11-4EF1-8750-4AA66429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8DE746-8EA6-49D7-A414-B6D203E4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C9AFC0-353B-4317-A772-3D34FBE5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A370B0-687E-48A2-94A0-8EAF30B1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D386-F4C9-458B-9755-6E5290A5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B99636-CA8C-4842-A3A5-4A234988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34C045-2279-4875-88AD-64E0EE47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BB6096-E0E0-4FF3-8C1A-5169D16A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E7DAB8-55F8-4518-B712-9A10FBC5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6D0613-5890-4F0E-8048-39A5D7CA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2B62C1-001B-488A-87C5-EA15A0B7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E9CFF2-F78A-47C0-9372-B9EA53DE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AA5C8F-C4F0-4A87-AE29-5878A3C2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9EF817-C32D-49EF-A050-52693B2F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2CBD03-9F17-434E-BE53-BFC3730E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B5B51-A3D2-442C-AA17-285148E9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C6EB99-5BF1-4CE6-8507-2CFF8565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7C825A-4892-41C9-9A57-3B8DAEB9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C9829F-C063-44EB-B469-F0C6594C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9B388C-D380-470C-ABE2-D7B5504E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CD492F-3178-43D4-B312-3100B2F5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E99F06-3A47-4419-B5CD-6E55A81E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839982-1894-417C-B16D-B052CEB7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9BE312-2538-48BF-A149-E96251EC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8C7E9E-049B-4B11-ABF6-1F4904B2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7A91D0-AA68-4308-94C7-9CA17799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338E5-75EE-4C8A-B7E0-B1EF99CB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627772-794E-438A-A132-33ECE4EC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AAFADB-292A-425F-B769-539C6389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0EE9CF-7CD0-4AB2-A894-AA2BD5D3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690EBC-ADC1-4144-9891-979ADBC6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823017-6C46-4775-8397-15482FF2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B3CAB6-0579-443D-A996-61754E53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0C3008-95F2-4B0B-B8B4-BBCEF4C2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5DE29D-45DE-4BAA-97C3-3C257E08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FBDCCD-D125-4C4C-B30F-C1A81182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91235B-FC75-422C-B35B-9A8A6C87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02D1A-1A0A-4B54-AD6F-370731CD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7BC683-9549-4EEC-9E34-991B6EB7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F5A294-3EF6-4E91-BB20-EC6A68A4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36B6B0-EB6B-4A18-B212-1B297648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A7D133-93BB-4232-83EE-69C2562D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A49602-9513-4BCA-9310-16F6B9BD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4B0583-2115-49D2-9371-97AA45E3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DAB821-0AC0-44A2-A881-42A1698C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8B3C84-CBC4-4645-A662-0D64913F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CC0427-53FC-4318-982C-9B1A58FC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C1BAB5-7C02-4F47-A42E-FABE3357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72A6B-E0C8-4E0F-A746-3D5B5056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EE9268-9DF6-4F36-85D2-82E663AE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1B8296-BF5F-453E-AD18-92D12DF7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8414BE-66A8-4A81-BBA2-93D1FC17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4ABE8B-9E4D-4BFA-A3B3-23AD8EE7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8AF769-7545-44EC-BE30-A157B581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4A4885-F8FC-4847-A8EF-3799B5F1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30BEFA-5E19-4F5D-8541-28D58EB0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1E642B-6D85-4AA4-B9DD-377E899C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03E4F9-BFBF-4054-BD20-BB42AC2C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C5E61D-F804-44DF-BF2B-8EB1656D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3D3C6-E4DA-44FA-8F9B-8052288A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9E78E1-9DE0-406B-A2EA-CD26A6BB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E821B4-A367-4432-B000-DD9B0B66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7A4A69-C297-4617-A2C3-302EDA4C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AD47E5-D896-4239-BD4D-46F6E751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F8C693-5A25-471F-8A17-E148EC05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18671A-946E-48B0-8CF2-5E890A75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7E7D60-EED1-487A-A32E-57E8B69F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C983EA-BE1D-4388-8F7A-147E0BA0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350E7D-BFE8-4622-B13B-5532A5D8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35A162-B1EE-4D72-A408-2DE1B0562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1F06-8BD9-4077-9F52-B1D92A2E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B257C-2DE1-4F57-A14D-688BDD85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0C2E88-B1AC-4A7D-AB5C-F0722B5F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7F44C-3A04-4C20-B52C-1630FEAD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F9008-4980-422C-A25C-DA15E40F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CEAD0-11A8-4EAB-AB09-E4D51D83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20F81-F9FE-4818-A05B-328BDA67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DFE66-0808-49A1-B4C5-655EBE12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2E5B9-2B8F-47BC-B453-9F2B45BC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67644-25AF-4A11-B60B-56B10343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99091-C1A4-4A47-AEAC-C4006847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E4C65-4F7D-4209-9D1B-8BD7DF64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2608-7528-4A9D-B139-D7354D40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4F477-7A4D-4500-A732-44F2D3B6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BB69A-705A-402B-805C-B2C218C3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33B38-9711-4A49-8A79-44B1A1F3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1F359-6E5B-48DF-9D40-99F797FA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8C32F-FCBE-4480-9389-6F0D75F4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A157B-35D6-404C-8D30-4ABF8371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A40CF-DEBE-4F13-A32F-96D71A39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0BD9B-45B3-43EA-89F3-3E7C2530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1394C-3831-4F2F-8F37-A6EE4EFF6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73B25-7636-4E51-9DBA-7EA677F7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970C-21C0-41F8-9E7C-A66D3267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A6744-4575-4002-8BAC-46201AA2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C9AA8-E109-4CEF-A7E7-ADEA72B3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E83EB-0F97-4830-8B60-10654331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FA892-1E19-4C84-9ADF-C7EF87B6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D120A-402E-46D8-A16B-A1ABF86E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DA371-7CCF-45DE-8954-FCE862E3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D1C26-4B7A-43B3-BF72-D37B93B0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310D2-EC48-40EB-B3A0-EF90E5EA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24ED1-7AB7-42EA-ABB2-13A9A4D7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CA150-2CB0-4E48-8AEF-59EA532E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DFD2-5706-4851-A2C1-0E249A95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C6279-0AF3-40A1-B3DB-43685C04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A61F8-8B4B-4C6E-A444-2A6F25B5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94266-C413-4BAE-94B2-6175F03C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244CF-C964-4BBF-90EA-7579A2EE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E27E1-45F9-4108-930D-5364AD5C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4776E-21D5-457F-BF9A-55B0FDB8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06833-D843-4FE5-9282-3694705B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BB03F-98FB-44AC-B72A-34FA95BE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BF810-9A96-49B0-8D13-56318022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45AE9-C0CC-4551-AE9E-73F2A4B4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09A3-6C63-4484-A236-0E402D71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601A2-9ADF-4250-AABD-38565B49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58349-4951-423F-99D9-AE74CACD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BB300-4079-4595-A4FF-0FBBCA2F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983D2-45E7-4B73-A251-A4E55E8E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B122D-2B72-4628-A765-9FA73910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A1240-FF63-47BD-A7A8-1DBADFE3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03452-B4DD-4EF1-A69F-19269AA2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B1032-8060-4174-8395-F90F4D4D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00714-97C8-42E6-A411-00C6E02B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6E77E-E6C7-462E-88A2-966C3747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6F99-FE73-4E66-B6A9-6BCAE3C8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6C738-C0B5-4F42-8DE1-C2B1B371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C48CD-11BD-4641-9AAF-37A48F02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EF139-A2FD-479F-ABD7-92065484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56AEA-64B1-45AC-8951-4F28795A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9C13F-D4FD-4B59-8593-F4753D25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01CE8-7279-4757-918E-3082D01C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F13C2-DF60-4525-B203-D394EA38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5427A-8EE3-4DE4-ABE3-F62C849F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46823-E1ED-4963-951D-761DA046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2FDED-1D3F-4DB5-87A5-4A550237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E219-1E28-43DA-B05E-04A67ED2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F9D64-BBD5-467B-B641-4259AB28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7E585-2DF4-4510-BC60-A8E9E5D0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91501-9574-4807-A879-770AD041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86800-29AB-4925-B48A-5E370F04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8A33D-A5E9-4157-AACB-5619A7F7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4EACE-1857-4250-9A26-DA89D628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AB4B3-5F1B-4784-BBC1-183820B4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E14F7-214E-476C-AE98-9FAA057E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17A8B-A8F5-483C-BE0E-066B2F5C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15033-CBC7-4D04-B295-881B2D78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97CA-102A-407F-9F0E-A5823028B27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C1E1-849B-471F-810F-13FA36CC74A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0712-E506-4536-B21D-4E4886007D0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32A4-35F8-4D0C-9E99-C93BFD1481C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1B01-F916-43CE-8C2A-2FBAB3A3124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57C1-A682-4D63-90C8-E94522E6B21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44EE-F43C-4780-977F-7FE65D5FCF1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6BA8-45C4-4679-AEE4-C283D7BBE71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5876-1C6F-4E36-B0CF-067BFCCA39B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EB68-4CEB-487B-91BA-CBDF6FABD42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4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8E3C-D3E0-4345-8CB4-354751F544E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2BE5-6663-470C-81CB-3C548F8285A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7171-DE62-4A30-B1B2-2404F824E2D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9DB8-814C-4C54-8444-00730B00EB3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2B52-3B81-444F-94BC-0A0B02CE5E5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A464-5904-4FDA-8877-749D60FF072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407A-C137-473C-BE61-ECF1E4B7672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5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A954-4301-49CE-9063-70A350FD4E7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5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9733-A6E8-4209-9B79-9E1EA69A36C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5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D6C1-B116-4004-A16B-EF4ECE26166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5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FFB8-5072-4FBC-8A65-45904F21015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B399-69F4-424C-B5E9-885ECAB9600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F014-EE07-47FF-836D-4D89560DA18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33E7-D633-4A9A-9D70-1B433E8B0B0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5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9585-116A-4B28-BADB-14694CE5566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6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88A1-A7A8-4ECC-92F3-030D0389DDB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6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2160-640C-4559-9564-BD07FDE2441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6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0716-A44F-4227-95E1-B3BD36ED9B0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5CFC-73D7-4AD3-9548-75B6B068B30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157C-2CCF-4754-97DB-B30A0E18845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6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1640-4B76-48E7-9A78-FFE68489FA9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B0F4-DD29-43EB-B263-F66625D208A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7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CAF7-E57E-4BCD-BD55-68617D0E570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7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2B61-EA1B-45FE-B9E6-097FF4782DF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7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DDC5-464F-4EFF-A1DE-BD80062E3A7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7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8350-1034-4263-9154-B19659E8BE7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9183-09D9-40E9-8223-E1BB85E1DF5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8DD7-043E-4F9E-8A9C-AE618C38D80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0904-D460-4CC3-BA10-9AE69838069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4A29-CAB9-4CD1-BA52-42B157B60CF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8609-2CB0-4F35-A5D7-DC2392E9160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DA6D-5718-464F-B12C-5DFF01A5A3D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5C8D-C574-4BD5-BF7D-BB28E820815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59E2-2BE6-4425-A6D0-17D81884495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AD01-61B4-48A4-8004-21276951BAE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A370-6C85-4BCD-B704-5C2A4A29096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757D-9293-4547-BCC2-9318173BC35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7A4F-2744-410E-9FBD-1B9D90F795D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FF63-0393-49AA-A453-C3033F2C923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13E5-8FA9-4EBF-B6D4-EE5BD3FAA1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矩形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任意多边形 17"/>
          <p:cNvSpPr/>
          <p:nvPr/>
        </p:nvSpPr>
        <p:spPr>
          <a:xfrm rot="19488600">
            <a:off x="3338280" y="2676240"/>
            <a:ext cx="2930400" cy="553068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任意多边形 25"/>
          <p:cNvSpPr/>
          <p:nvPr/>
        </p:nvSpPr>
        <p:spPr>
          <a:xfrm rot="19488600">
            <a:off x="9272520" y="2766960"/>
            <a:ext cx="2928960" cy="460224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任意多边形 19"/>
          <p:cNvSpPr/>
          <p:nvPr/>
        </p:nvSpPr>
        <p:spPr>
          <a:xfrm rot="19488600">
            <a:off x="6051240" y="2766960"/>
            <a:ext cx="3081240" cy="547848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任意多边形 9"/>
          <p:cNvSpPr/>
          <p:nvPr/>
        </p:nvSpPr>
        <p:spPr>
          <a:xfrm>
            <a:off x="2013120" y="2330280"/>
            <a:ext cx="8597880" cy="1679760"/>
          </a:xfrm>
          <a:prstGeom prst="pie">
            <a:avLst/>
          </a:pr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文本框 10"/>
          <p:cNvSpPr/>
          <p:nvPr/>
        </p:nvSpPr>
        <p:spPr>
          <a:xfrm>
            <a:off x="2762280" y="2805120"/>
            <a:ext cx="71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XX201X</a:t>
            </a:r>
            <a:r>
              <a:rPr b="0" lang="zh-CN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年公司年终总结</a:t>
            </a: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文本框 11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矩形 1"/>
          <p:cNvSpPr/>
          <p:nvPr/>
        </p:nvSpPr>
        <p:spPr>
          <a:xfrm>
            <a:off x="1781280" y="1771560"/>
            <a:ext cx="181908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矩形 2"/>
          <p:cNvSpPr/>
          <p:nvPr/>
        </p:nvSpPr>
        <p:spPr>
          <a:xfrm>
            <a:off x="1781280" y="37609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直角三角形 3"/>
          <p:cNvSpPr/>
          <p:nvPr/>
        </p:nvSpPr>
        <p:spPr>
          <a:xfrm>
            <a:off x="1781280" y="37609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直角三角形 4"/>
          <p:cNvSpPr/>
          <p:nvPr/>
        </p:nvSpPr>
        <p:spPr>
          <a:xfrm>
            <a:off x="1781280" y="1771560"/>
            <a:ext cx="181908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矩形 5"/>
          <p:cNvSpPr/>
          <p:nvPr/>
        </p:nvSpPr>
        <p:spPr>
          <a:xfrm>
            <a:off x="3757680" y="1771560"/>
            <a:ext cx="6818400" cy="181944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矩形 6"/>
          <p:cNvSpPr/>
          <p:nvPr/>
        </p:nvSpPr>
        <p:spPr>
          <a:xfrm>
            <a:off x="3757680" y="3760920"/>
            <a:ext cx="6818400" cy="181908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4" name="Picture 5" descr="\\MAGNUM\Projects\Microsoft\Cloud Power FY12\Design\ICONS_PNG\Increase.pn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85880" y="1771560"/>
            <a:ext cx="1974960" cy="1714680"/>
          </a:xfrm>
          <a:prstGeom prst="rect">
            <a:avLst/>
          </a:prstGeom>
          <a:ln w="0">
            <a:noFill/>
          </a:ln>
        </p:spPr>
      </p:pic>
      <p:grpSp>
        <p:nvGrpSpPr>
          <p:cNvPr id="1215" name="组合 7"/>
          <p:cNvGrpSpPr/>
          <p:nvPr/>
        </p:nvGrpSpPr>
        <p:grpSpPr>
          <a:xfrm>
            <a:off x="1946160" y="4078440"/>
            <a:ext cx="1386000" cy="1263600"/>
            <a:chOff x="1946160" y="4078440"/>
            <a:chExt cx="1386000" cy="1263600"/>
          </a:xfrm>
        </p:grpSpPr>
        <p:pic>
          <p:nvPicPr>
            <p:cNvPr id="1216" name="Picture 3" descr="\\MAGNUM\Projects\Microsoft\Cloud Power FY12\Design\ICONS_PNG\User.png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1946160" y="4078440"/>
              <a:ext cx="126288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7" name="Picture 1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 flipH="1">
              <a:off x="2895120" y="4359240"/>
              <a:ext cx="437040" cy="64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8" name="文本框 15"/>
          <p:cNvSpPr/>
          <p:nvPr/>
        </p:nvSpPr>
        <p:spPr>
          <a:xfrm>
            <a:off x="4070520" y="217476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文本框 16"/>
          <p:cNvSpPr/>
          <p:nvPr/>
        </p:nvSpPr>
        <p:spPr>
          <a:xfrm>
            <a:off x="4070520" y="416232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文本框 17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椭圆 1"/>
          <p:cNvSpPr/>
          <p:nvPr/>
        </p:nvSpPr>
        <p:spPr>
          <a:xfrm>
            <a:off x="80964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任意多边形 2"/>
          <p:cNvSpPr/>
          <p:nvPr/>
        </p:nvSpPr>
        <p:spPr>
          <a:xfrm flipH="1">
            <a:off x="822240" y="2247840"/>
            <a:ext cx="10987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椭圆 3"/>
          <p:cNvSpPr/>
          <p:nvPr/>
        </p:nvSpPr>
        <p:spPr>
          <a:xfrm>
            <a:off x="3616200" y="2246400"/>
            <a:ext cx="221796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任意多边形 4"/>
          <p:cNvSpPr/>
          <p:nvPr/>
        </p:nvSpPr>
        <p:spPr>
          <a:xfrm flipH="1">
            <a:off x="3628440" y="2246400"/>
            <a:ext cx="10969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椭圆 5"/>
          <p:cNvSpPr/>
          <p:nvPr/>
        </p:nvSpPr>
        <p:spPr>
          <a:xfrm>
            <a:off x="641988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任意多边形 6"/>
          <p:cNvSpPr/>
          <p:nvPr/>
        </p:nvSpPr>
        <p:spPr>
          <a:xfrm flipH="1">
            <a:off x="6432480" y="2247840"/>
            <a:ext cx="10987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椭圆 7"/>
          <p:cNvSpPr/>
          <p:nvPr/>
        </p:nvSpPr>
        <p:spPr>
          <a:xfrm>
            <a:off x="9226440" y="2247840"/>
            <a:ext cx="2217960" cy="22194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任意多边形 8"/>
          <p:cNvSpPr/>
          <p:nvPr/>
        </p:nvSpPr>
        <p:spPr>
          <a:xfrm flipH="1">
            <a:off x="9238680" y="2247840"/>
            <a:ext cx="1096920" cy="221616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椭圆 12"/>
          <p:cNvSpPr/>
          <p:nvPr/>
        </p:nvSpPr>
        <p:spPr>
          <a:xfrm>
            <a:off x="1389240" y="5191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文本框 14"/>
          <p:cNvSpPr/>
          <p:nvPr/>
        </p:nvSpPr>
        <p:spPr>
          <a:xfrm>
            <a:off x="1541520" y="5102280"/>
            <a:ext cx="411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椭圆 15"/>
          <p:cNvSpPr/>
          <p:nvPr/>
        </p:nvSpPr>
        <p:spPr>
          <a:xfrm>
            <a:off x="6551640" y="5191200"/>
            <a:ext cx="152280" cy="1522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文本框 16"/>
          <p:cNvSpPr/>
          <p:nvPr/>
        </p:nvSpPr>
        <p:spPr>
          <a:xfrm>
            <a:off x="6703920" y="5102280"/>
            <a:ext cx="411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3" name="Group 416"/>
          <p:cNvGrpSpPr/>
          <p:nvPr/>
        </p:nvGrpSpPr>
        <p:grpSpPr>
          <a:xfrm>
            <a:off x="9745560" y="2568600"/>
            <a:ext cx="1071720" cy="1378080"/>
            <a:chOff x="9745560" y="2568600"/>
            <a:chExt cx="1071720" cy="1378080"/>
          </a:xfrm>
        </p:grpSpPr>
        <p:sp>
          <p:nvSpPr>
            <p:cNvPr id="1234" name="Freeform 19"/>
            <p:cNvSpPr/>
            <p:nvPr/>
          </p:nvSpPr>
          <p:spPr>
            <a:xfrm>
              <a:off x="10089720" y="2627280"/>
              <a:ext cx="255240" cy="2563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0"/>
            <p:cNvSpPr/>
            <p:nvPr/>
          </p:nvSpPr>
          <p:spPr>
            <a:xfrm>
              <a:off x="10318680" y="2568600"/>
              <a:ext cx="180720" cy="1814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Oval 21"/>
            <p:cNvSpPr/>
            <p:nvPr/>
          </p:nvSpPr>
          <p:spPr>
            <a:xfrm>
              <a:off x="10429200" y="2892600"/>
              <a:ext cx="68040" cy="684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Oval 22"/>
            <p:cNvSpPr/>
            <p:nvPr/>
          </p:nvSpPr>
          <p:spPr>
            <a:xfrm>
              <a:off x="10142280" y="3024720"/>
              <a:ext cx="46080" cy="47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23"/>
            <p:cNvSpPr/>
            <p:nvPr/>
          </p:nvSpPr>
          <p:spPr>
            <a:xfrm>
              <a:off x="9745560" y="2883960"/>
              <a:ext cx="1071720" cy="10627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Oval 24"/>
            <p:cNvSpPr/>
            <p:nvPr/>
          </p:nvSpPr>
          <p:spPr>
            <a:xfrm>
              <a:off x="10318680" y="3159360"/>
              <a:ext cx="30960" cy="316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25"/>
            <p:cNvSpPr/>
            <p:nvPr/>
          </p:nvSpPr>
          <p:spPr>
            <a:xfrm>
              <a:off x="10282680" y="2741040"/>
              <a:ext cx="353880" cy="1425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1" name="Freeform 18"/>
          <p:cNvSpPr/>
          <p:nvPr/>
        </p:nvSpPr>
        <p:spPr>
          <a:xfrm>
            <a:off x="4211640" y="2873520"/>
            <a:ext cx="1052640" cy="965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22"/>
          <p:cNvSpPr/>
          <p:nvPr/>
        </p:nvSpPr>
        <p:spPr>
          <a:xfrm>
            <a:off x="1382760" y="2797200"/>
            <a:ext cx="1074600" cy="1149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Picture 34" descr="Efficiency.png"/>
          <p:cNvPicPr/>
          <p:nvPr/>
        </p:nvPicPr>
        <p:blipFill>
          <a:blip r:embed="rId1"/>
          <a:stretch/>
        </p:blipFill>
        <p:spPr>
          <a:xfrm>
            <a:off x="6734160" y="2598840"/>
            <a:ext cx="1628640" cy="1479600"/>
          </a:xfrm>
          <a:prstGeom prst="rect">
            <a:avLst/>
          </a:prstGeom>
          <a:ln w="0">
            <a:noFill/>
          </a:ln>
        </p:spPr>
      </p:pic>
      <p:sp>
        <p:nvSpPr>
          <p:cNvPr id="1244" name="文本框 3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圆角矩形 21"/>
          <p:cNvSpPr/>
          <p:nvPr/>
        </p:nvSpPr>
        <p:spPr>
          <a:xfrm>
            <a:off x="2798640" y="1873080"/>
            <a:ext cx="2543400" cy="2543400"/>
          </a:xfrm>
          <a:prstGeom prst="roundRect">
            <a:avLst>
              <a:gd name="adj" fmla="val 7759"/>
            </a:avLst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任意多边形 23"/>
          <p:cNvSpPr/>
          <p:nvPr/>
        </p:nvSpPr>
        <p:spPr>
          <a:xfrm>
            <a:off x="3157560" y="2741760"/>
            <a:ext cx="2181240" cy="167292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文本框 13"/>
          <p:cNvSpPr/>
          <p:nvPr/>
        </p:nvSpPr>
        <p:spPr>
          <a:xfrm>
            <a:off x="6010200" y="1587600"/>
            <a:ext cx="1406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文本框 14"/>
          <p:cNvSpPr/>
          <p:nvPr/>
        </p:nvSpPr>
        <p:spPr>
          <a:xfrm>
            <a:off x="6865920" y="246204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文本框 15"/>
          <p:cNvSpPr/>
          <p:nvPr/>
        </p:nvSpPr>
        <p:spPr>
          <a:xfrm>
            <a:off x="800568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文本框 16"/>
          <p:cNvSpPr/>
          <p:nvPr/>
        </p:nvSpPr>
        <p:spPr>
          <a:xfrm>
            <a:off x="604044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直接连接符 18"/>
          <p:cNvSpPr/>
          <p:nvPr/>
        </p:nvSpPr>
        <p:spPr>
          <a:xfrm>
            <a:off x="6016680" y="34844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直接连接符 19"/>
          <p:cNvSpPr/>
          <p:nvPr/>
        </p:nvSpPr>
        <p:spPr>
          <a:xfrm>
            <a:off x="6016680" y="42800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Freeform 7"/>
          <p:cNvSpPr/>
          <p:nvPr/>
        </p:nvSpPr>
        <p:spPr>
          <a:xfrm>
            <a:off x="3044880" y="2494080"/>
            <a:ext cx="2041560" cy="1089000"/>
          </a:xfrm>
          <a:prstGeom prst="pie">
            <a:avLst/>
          </a:prstGeom>
          <a:solidFill>
            <a:srgbClr val="fff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文本框 1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矩形 1"/>
          <p:cNvSpPr/>
          <p:nvPr/>
        </p:nvSpPr>
        <p:spPr>
          <a:xfrm>
            <a:off x="124776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矩形 2"/>
          <p:cNvSpPr/>
          <p:nvPr/>
        </p:nvSpPr>
        <p:spPr>
          <a:xfrm>
            <a:off x="4543560" y="1973160"/>
            <a:ext cx="3152520" cy="5810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矩形 3"/>
          <p:cNvSpPr/>
          <p:nvPr/>
        </p:nvSpPr>
        <p:spPr>
          <a:xfrm>
            <a:off x="783900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8" name="Picture 10" descr="C:\Users\Jonahs\Dropbox\Projects SCOTT\MEET Windows Azure\source\Background\tile-icon-network.png"/>
          <p:cNvPicPr/>
          <p:nvPr/>
        </p:nvPicPr>
        <p:blipFill>
          <a:blip r:embed="rId1"/>
          <a:stretch/>
        </p:blipFill>
        <p:spPr>
          <a:xfrm>
            <a:off x="7981920" y="1968480"/>
            <a:ext cx="585720" cy="585720"/>
          </a:xfrm>
          <a:prstGeom prst="rect">
            <a:avLst/>
          </a:prstGeom>
          <a:ln w="0">
            <a:noFill/>
          </a:ln>
        </p:spPr>
      </p:pic>
      <p:pic>
        <p:nvPicPr>
          <p:cNvPr id="1259" name="Picture 5" descr="C:\Users\Jonahs\Dropbox\Projects SCOTT\MEET Windows Azure\source\Background\tile-icon-CDN.png"/>
          <p:cNvPicPr/>
          <p:nvPr/>
        </p:nvPicPr>
        <p:blipFill>
          <a:blip r:embed="rId2"/>
          <a:stretch/>
        </p:blipFill>
        <p:spPr>
          <a:xfrm>
            <a:off x="4686480" y="1928880"/>
            <a:ext cx="637920" cy="638280"/>
          </a:xfrm>
          <a:prstGeom prst="rect">
            <a:avLst/>
          </a:prstGeom>
          <a:ln w="0">
            <a:noFill/>
          </a:ln>
        </p:spPr>
      </p:pic>
      <p:pic>
        <p:nvPicPr>
          <p:cNvPr id="1260" name="Picture 7" descr="C:\Users\jonahs\Documents\Dropbox\Projects SCOTT\MEET Windows Azure\source\Background\Service-Icon-VM.png"/>
          <p:cNvPicPr/>
          <p:nvPr/>
        </p:nvPicPr>
        <p:blipFill>
          <a:blip r:embed="rId3"/>
          <a:stretch/>
        </p:blipFill>
        <p:spPr>
          <a:xfrm>
            <a:off x="1424160" y="2016000"/>
            <a:ext cx="496800" cy="497160"/>
          </a:xfrm>
          <a:prstGeom prst="rect">
            <a:avLst/>
          </a:prstGeom>
          <a:ln w="0">
            <a:noFill/>
          </a:ln>
        </p:spPr>
      </p:pic>
      <p:sp>
        <p:nvSpPr>
          <p:cNvPr id="1261" name="文本框 15"/>
          <p:cNvSpPr/>
          <p:nvPr/>
        </p:nvSpPr>
        <p:spPr>
          <a:xfrm>
            <a:off x="226224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文本框 16"/>
          <p:cNvSpPr/>
          <p:nvPr/>
        </p:nvSpPr>
        <p:spPr>
          <a:xfrm>
            <a:off x="565308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文本框 17"/>
          <p:cNvSpPr/>
          <p:nvPr/>
        </p:nvSpPr>
        <p:spPr>
          <a:xfrm>
            <a:off x="9042480" y="2063880"/>
            <a:ext cx="12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4" name="图片 18" descr=""/>
          <p:cNvPicPr/>
          <p:nvPr/>
        </p:nvPicPr>
        <p:blipFill>
          <a:blip r:embed="rId4"/>
          <a:srcRect l="6117" t="0" r="6117" b="0"/>
          <a:stretch/>
        </p:blipFill>
        <p:spPr>
          <a:xfrm>
            <a:off x="7839000" y="2697120"/>
            <a:ext cx="3171960" cy="2421000"/>
          </a:xfrm>
          <a:prstGeom prst="rect">
            <a:avLst/>
          </a:prstGeom>
          <a:ln w="0">
            <a:noFill/>
          </a:ln>
        </p:spPr>
      </p:pic>
      <p:pic>
        <p:nvPicPr>
          <p:cNvPr id="1265" name="图片 21" descr=""/>
          <p:cNvPicPr/>
          <p:nvPr/>
        </p:nvPicPr>
        <p:blipFill>
          <a:blip r:embed="rId5"/>
          <a:srcRect l="11913" t="4011" r="4555" b="0"/>
          <a:stretch/>
        </p:blipFill>
        <p:spPr>
          <a:xfrm>
            <a:off x="1247760" y="2697120"/>
            <a:ext cx="3143160" cy="2409840"/>
          </a:xfrm>
          <a:prstGeom prst="rect">
            <a:avLst/>
          </a:prstGeom>
          <a:ln w="0">
            <a:noFill/>
          </a:ln>
        </p:spPr>
      </p:pic>
      <p:pic>
        <p:nvPicPr>
          <p:cNvPr id="1266" name="图片 22" descr=""/>
          <p:cNvPicPr/>
          <p:nvPr/>
        </p:nvPicPr>
        <p:blipFill>
          <a:blip r:embed="rId6"/>
          <a:srcRect l="3160" t="0" r="9019" b="0"/>
          <a:stretch/>
        </p:blipFill>
        <p:spPr>
          <a:xfrm>
            <a:off x="4533840" y="2697120"/>
            <a:ext cx="3162240" cy="2421000"/>
          </a:xfrm>
          <a:prstGeom prst="rect">
            <a:avLst/>
          </a:prstGeom>
          <a:ln w="0">
            <a:noFill/>
          </a:ln>
        </p:spPr>
      </p:pic>
      <p:sp>
        <p:nvSpPr>
          <p:cNvPr id="1267" name="文本框 19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8" name="图表 8" descr=""/>
          <p:cNvPicPr/>
          <p:nvPr/>
        </p:nvPicPr>
        <p:blipFill>
          <a:blip r:embed="rId1"/>
          <a:stretch/>
        </p:blipFill>
        <p:spPr>
          <a:xfrm>
            <a:off x="11937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1269" name="文本框 9"/>
          <p:cNvSpPr/>
          <p:nvPr/>
        </p:nvSpPr>
        <p:spPr>
          <a:xfrm>
            <a:off x="1962000" y="2714760"/>
            <a:ext cx="1333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80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0" name="图表 10" descr=""/>
          <p:cNvPicPr/>
          <p:nvPr/>
        </p:nvPicPr>
        <p:blipFill>
          <a:blip r:embed="rId2"/>
          <a:stretch/>
        </p:blipFill>
        <p:spPr>
          <a:xfrm>
            <a:off x="4694400" y="1866960"/>
            <a:ext cx="2792160" cy="2571840"/>
          </a:xfrm>
          <a:prstGeom prst="rect">
            <a:avLst/>
          </a:prstGeom>
          <a:ln w="0">
            <a:noFill/>
          </a:ln>
        </p:spPr>
      </p:pic>
      <p:pic>
        <p:nvPicPr>
          <p:cNvPr id="1271" name="图表 12" descr=""/>
          <p:cNvPicPr/>
          <p:nvPr/>
        </p:nvPicPr>
        <p:blipFill>
          <a:blip r:embed="rId3"/>
          <a:stretch/>
        </p:blipFill>
        <p:spPr>
          <a:xfrm>
            <a:off x="81183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1272" name="文本框 14"/>
          <p:cNvSpPr/>
          <p:nvPr/>
        </p:nvSpPr>
        <p:spPr>
          <a:xfrm>
            <a:off x="544824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6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文本框 15"/>
          <p:cNvSpPr/>
          <p:nvPr/>
        </p:nvSpPr>
        <p:spPr>
          <a:xfrm>
            <a:off x="893448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4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椭圆 16"/>
          <p:cNvSpPr/>
          <p:nvPr/>
        </p:nvSpPr>
        <p:spPr>
          <a:xfrm>
            <a:off x="74124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文本框 17"/>
          <p:cNvSpPr/>
          <p:nvPr/>
        </p:nvSpPr>
        <p:spPr>
          <a:xfrm>
            <a:off x="89388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椭圆 18"/>
          <p:cNvSpPr/>
          <p:nvPr/>
        </p:nvSpPr>
        <p:spPr>
          <a:xfrm>
            <a:off x="4395960" y="4871880"/>
            <a:ext cx="152280" cy="15264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文本框 19"/>
          <p:cNvSpPr/>
          <p:nvPr/>
        </p:nvSpPr>
        <p:spPr>
          <a:xfrm>
            <a:off x="454824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椭圆 20"/>
          <p:cNvSpPr/>
          <p:nvPr/>
        </p:nvSpPr>
        <p:spPr>
          <a:xfrm>
            <a:off x="804852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文本框 21"/>
          <p:cNvSpPr/>
          <p:nvPr/>
        </p:nvSpPr>
        <p:spPr>
          <a:xfrm>
            <a:off x="820116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文本框 2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1" name=""/>
          <p:cNvGrpSpPr/>
          <p:nvPr/>
        </p:nvGrpSpPr>
        <p:grpSpPr>
          <a:xfrm>
            <a:off x="725040" y="3929040"/>
            <a:ext cx="9565200" cy="8280"/>
            <a:chOff x="725040" y="3929040"/>
            <a:chExt cx="9565200" cy="8280"/>
          </a:xfrm>
        </p:grpSpPr>
        <p:cxnSp>
          <p:nvCxnSpPr>
            <p:cNvPr id="1282" name="直接箭头连接符 6"/>
            <p:cNvCxnSpPr/>
            <p:nvPr/>
          </p:nvCxnSpPr>
          <p:spPr>
            <a:xfrm>
              <a:off x="725040" y="3929040"/>
              <a:ext cx="9565560" cy="8640"/>
            </a:xfrm>
            <a:prstGeom prst="straightConnector1">
              <a:avLst/>
            </a:prstGeom>
            <a:ln w="25560">
              <a:solidFill>
                <a:srgbClr val="3a87c5"/>
              </a:solidFill>
              <a:bevel/>
              <a:tailEnd len="med" type="triangle" w="med"/>
            </a:ln>
          </p:spPr>
        </p:cxnSp>
        <p:sp>
          <p:nvSpPr>
            <p:cNvPr id="1283" name=""/>
            <p:cNvSpPr txBox="1"/>
            <p:nvPr/>
          </p:nvSpPr>
          <p:spPr>
            <a:xfrm>
              <a:off x="725040" y="3929040"/>
              <a:ext cx="9564840" cy="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4" name="椭圆 8"/>
          <p:cNvSpPr/>
          <p:nvPr/>
        </p:nvSpPr>
        <p:spPr>
          <a:xfrm>
            <a:off x="1420920" y="3405240"/>
            <a:ext cx="1047600" cy="10476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任意多边形 9"/>
          <p:cNvSpPr/>
          <p:nvPr/>
        </p:nvSpPr>
        <p:spPr>
          <a:xfrm flipH="1">
            <a:off x="1433520" y="3405240"/>
            <a:ext cx="51768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椭圆 11"/>
          <p:cNvSpPr/>
          <p:nvPr/>
        </p:nvSpPr>
        <p:spPr>
          <a:xfrm>
            <a:off x="4098960" y="3414600"/>
            <a:ext cx="104760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任意多边形 12"/>
          <p:cNvSpPr/>
          <p:nvPr/>
        </p:nvSpPr>
        <p:spPr>
          <a:xfrm flipH="1">
            <a:off x="4111560" y="3414600"/>
            <a:ext cx="51768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椭圆 13"/>
          <p:cNvSpPr/>
          <p:nvPr/>
        </p:nvSpPr>
        <p:spPr>
          <a:xfrm>
            <a:off x="6765840" y="3414600"/>
            <a:ext cx="104616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任意多边形 14"/>
          <p:cNvSpPr/>
          <p:nvPr/>
        </p:nvSpPr>
        <p:spPr>
          <a:xfrm flipH="1">
            <a:off x="6778080" y="3414600"/>
            <a:ext cx="51732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文本框 33"/>
          <p:cNvSpPr/>
          <p:nvPr/>
        </p:nvSpPr>
        <p:spPr>
          <a:xfrm>
            <a:off x="138744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文本框 35"/>
          <p:cNvSpPr/>
          <p:nvPr/>
        </p:nvSpPr>
        <p:spPr>
          <a:xfrm>
            <a:off x="673092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文本框 36"/>
          <p:cNvSpPr/>
          <p:nvPr/>
        </p:nvSpPr>
        <p:spPr>
          <a:xfrm>
            <a:off x="4086360" y="366552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椭圆 37"/>
          <p:cNvSpPr/>
          <p:nvPr/>
        </p:nvSpPr>
        <p:spPr>
          <a:xfrm>
            <a:off x="9360000" y="3178080"/>
            <a:ext cx="1508040" cy="1509840"/>
          </a:xfrm>
          <a:prstGeom prst="ellipse">
            <a:avLst/>
          </a:prstGeom>
          <a:solidFill>
            <a:srgbClr val="f0d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椭圆 15"/>
          <p:cNvSpPr/>
          <p:nvPr/>
        </p:nvSpPr>
        <p:spPr>
          <a:xfrm>
            <a:off x="9585360" y="3409920"/>
            <a:ext cx="1046160" cy="10461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任意多边形 16"/>
          <p:cNvSpPr/>
          <p:nvPr/>
        </p:nvSpPr>
        <p:spPr>
          <a:xfrm flipH="1">
            <a:off x="9597960" y="3409920"/>
            <a:ext cx="517680" cy="104472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文本框 34"/>
          <p:cNvSpPr/>
          <p:nvPr/>
        </p:nvSpPr>
        <p:spPr>
          <a:xfrm>
            <a:off x="9569520" y="367020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文本框 26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8" name="组合 4"/>
          <p:cNvGrpSpPr/>
          <p:nvPr/>
        </p:nvGrpSpPr>
        <p:grpSpPr>
          <a:xfrm>
            <a:off x="3330720" y="1187280"/>
            <a:ext cx="1814400" cy="2143080"/>
            <a:chOff x="3330720" y="1187280"/>
            <a:chExt cx="1814400" cy="2143080"/>
          </a:xfrm>
        </p:grpSpPr>
        <p:sp>
          <p:nvSpPr>
            <p:cNvPr id="1299" name="矩形 2"/>
            <p:cNvSpPr/>
            <p:nvPr/>
          </p:nvSpPr>
          <p:spPr>
            <a:xfrm>
              <a:off x="3330720" y="1187280"/>
              <a:ext cx="1814400" cy="18144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等腰三角形 3"/>
            <p:cNvSpPr/>
            <p:nvPr/>
          </p:nvSpPr>
          <p:spPr>
            <a:xfrm rot="10800000">
              <a:off x="4398480" y="288648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组合 28"/>
          <p:cNvGrpSpPr/>
          <p:nvPr/>
        </p:nvGrpSpPr>
        <p:grpSpPr>
          <a:xfrm>
            <a:off x="1437840" y="4505400"/>
            <a:ext cx="1814760" cy="2142720"/>
            <a:chOff x="1437840" y="4505400"/>
            <a:chExt cx="1814760" cy="2142720"/>
          </a:xfrm>
        </p:grpSpPr>
        <p:sp>
          <p:nvSpPr>
            <p:cNvPr id="1302" name="矩形 38"/>
            <p:cNvSpPr/>
            <p:nvPr/>
          </p:nvSpPr>
          <p:spPr>
            <a:xfrm flipH="1" flipV="1">
              <a:off x="1437120" y="4833720"/>
              <a:ext cx="181476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等腰三角形 39"/>
            <p:cNvSpPr/>
            <p:nvPr/>
          </p:nvSpPr>
          <p:spPr>
            <a:xfrm flipH="1" flipV="1" rot="10800000">
              <a:off x="1706400" y="450504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4" name="组合 40"/>
          <p:cNvGrpSpPr/>
          <p:nvPr/>
        </p:nvGrpSpPr>
        <p:grpSpPr>
          <a:xfrm>
            <a:off x="8705880" y="660240"/>
            <a:ext cx="2081160" cy="2484360"/>
            <a:chOff x="8705880" y="660240"/>
            <a:chExt cx="2081160" cy="2484360"/>
          </a:xfrm>
        </p:grpSpPr>
        <p:sp>
          <p:nvSpPr>
            <p:cNvPr id="1305" name="矩形 41"/>
            <p:cNvSpPr/>
            <p:nvPr/>
          </p:nvSpPr>
          <p:spPr>
            <a:xfrm>
              <a:off x="8705880" y="660240"/>
              <a:ext cx="2081160" cy="2081160"/>
            </a:xfrm>
            <a:prstGeom prst="rect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等腰三角形 42"/>
            <p:cNvSpPr/>
            <p:nvPr/>
          </p:nvSpPr>
          <p:spPr>
            <a:xfrm rot="10800000">
              <a:off x="9739440" y="2429280"/>
              <a:ext cx="769680" cy="715320"/>
            </a:xfrm>
            <a:prstGeom prst="triangle">
              <a:avLst>
                <a:gd name="adj" fmla="val 50000"/>
              </a:avLst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7" name="组合 43"/>
          <p:cNvGrpSpPr/>
          <p:nvPr/>
        </p:nvGrpSpPr>
        <p:grpSpPr>
          <a:xfrm>
            <a:off x="6810480" y="4505400"/>
            <a:ext cx="1815840" cy="2142720"/>
            <a:chOff x="6810480" y="4505400"/>
            <a:chExt cx="1815840" cy="2142720"/>
          </a:xfrm>
        </p:grpSpPr>
        <p:sp>
          <p:nvSpPr>
            <p:cNvPr id="1308" name="矩形 44"/>
            <p:cNvSpPr/>
            <p:nvPr/>
          </p:nvSpPr>
          <p:spPr>
            <a:xfrm flipH="1" flipV="1">
              <a:off x="6810480" y="4833720"/>
              <a:ext cx="181584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等腰三角形 45"/>
            <p:cNvSpPr/>
            <p:nvPr/>
          </p:nvSpPr>
          <p:spPr>
            <a:xfrm flipH="1" flipV="1" rot="10800000">
              <a:off x="7079400" y="4505040"/>
              <a:ext cx="47808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文本框 46"/>
          <p:cNvSpPr/>
          <p:nvPr/>
        </p:nvSpPr>
        <p:spPr>
          <a:xfrm>
            <a:off x="3340080" y="1486080"/>
            <a:ext cx="180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文本框 47"/>
          <p:cNvSpPr/>
          <p:nvPr/>
        </p:nvSpPr>
        <p:spPr>
          <a:xfrm>
            <a:off x="144288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文本框 48"/>
          <p:cNvSpPr/>
          <p:nvPr/>
        </p:nvSpPr>
        <p:spPr>
          <a:xfrm>
            <a:off x="683244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文本框 49"/>
          <p:cNvSpPr/>
          <p:nvPr/>
        </p:nvSpPr>
        <p:spPr>
          <a:xfrm>
            <a:off x="8845560" y="1050840"/>
            <a:ext cx="18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"/>
          <p:cNvGrpSpPr/>
          <p:nvPr/>
        </p:nvGrpSpPr>
        <p:grpSpPr>
          <a:xfrm>
            <a:off x="10851840" y="3927600"/>
            <a:ext cx="670320" cy="1800"/>
            <a:chOff x="10851840" y="3927600"/>
            <a:chExt cx="670320" cy="1800"/>
          </a:xfrm>
        </p:grpSpPr>
        <p:cxnSp>
          <p:nvCxnSpPr>
            <p:cNvPr id="1315" name="直接箭头连接符 50"/>
            <p:cNvCxnSpPr/>
            <p:nvPr/>
          </p:nvCxnSpPr>
          <p:spPr>
            <a:xfrm>
              <a:off x="10851840" y="3927600"/>
              <a:ext cx="670680" cy="2160"/>
            </a:xfrm>
            <a:prstGeom prst="straightConnector1">
              <a:avLst/>
            </a:prstGeom>
            <a:ln w="25560">
              <a:solidFill>
                <a:srgbClr val="e1992f"/>
              </a:solidFill>
              <a:bevel/>
              <a:tailEnd len="med" type="triangle" w="med"/>
            </a:ln>
          </p:spPr>
        </p:cxnSp>
        <p:sp>
          <p:nvSpPr>
            <p:cNvPr id="1316" name=""/>
            <p:cNvSpPr txBox="1"/>
            <p:nvPr/>
          </p:nvSpPr>
          <p:spPr>
            <a:xfrm>
              <a:off x="10851840" y="3927600"/>
              <a:ext cx="6699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任意多边形 2"/>
          <p:cNvSpPr/>
          <p:nvPr/>
        </p:nvSpPr>
        <p:spPr>
          <a:xfrm>
            <a:off x="2013120" y="2330280"/>
            <a:ext cx="8597880" cy="1679760"/>
          </a:xfrm>
          <a:prstGeom prst="pie">
            <a:avLst/>
          </a:pr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文本框 3"/>
          <p:cNvSpPr/>
          <p:nvPr/>
        </p:nvSpPr>
        <p:spPr>
          <a:xfrm>
            <a:off x="2544840" y="2760840"/>
            <a:ext cx="71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a87c5"/>
                </a:solidFill>
                <a:latin typeface="微软雅黑"/>
                <a:ea typeface="微软雅黑"/>
              </a:rPr>
              <a:t>Thank 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文本框 4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文本框 13"/>
          <p:cNvSpPr/>
          <p:nvPr/>
        </p:nvSpPr>
        <p:spPr>
          <a:xfrm>
            <a:off x="6068880" y="158760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文本框 14"/>
          <p:cNvSpPr/>
          <p:nvPr/>
        </p:nvSpPr>
        <p:spPr>
          <a:xfrm>
            <a:off x="6926400" y="2462040"/>
            <a:ext cx="13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文本框 15"/>
          <p:cNvSpPr/>
          <p:nvPr/>
        </p:nvSpPr>
        <p:spPr>
          <a:xfrm>
            <a:off x="806616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文本框 16"/>
          <p:cNvSpPr/>
          <p:nvPr/>
        </p:nvSpPr>
        <p:spPr>
          <a:xfrm>
            <a:off x="610092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直接连接符 18"/>
          <p:cNvSpPr/>
          <p:nvPr/>
        </p:nvSpPr>
        <p:spPr>
          <a:xfrm>
            <a:off x="6076800" y="34844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直接连接符 19"/>
          <p:cNvSpPr/>
          <p:nvPr/>
        </p:nvSpPr>
        <p:spPr>
          <a:xfrm>
            <a:off x="6076800" y="42800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组合 7"/>
          <p:cNvGrpSpPr/>
          <p:nvPr/>
        </p:nvGrpSpPr>
        <p:grpSpPr>
          <a:xfrm>
            <a:off x="2817720" y="1854360"/>
            <a:ext cx="3026520" cy="3016800"/>
            <a:chOff x="2817720" y="1854360"/>
            <a:chExt cx="3026520" cy="3016800"/>
          </a:xfrm>
        </p:grpSpPr>
        <p:sp>
          <p:nvSpPr>
            <p:cNvPr id="1052" name="圆角矩形 6"/>
            <p:cNvSpPr/>
            <p:nvPr/>
          </p:nvSpPr>
          <p:spPr>
            <a:xfrm>
              <a:off x="2817720" y="1854360"/>
              <a:ext cx="2543400" cy="254340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任意多边形 12"/>
            <p:cNvSpPr/>
            <p:nvPr/>
          </p:nvSpPr>
          <p:spPr>
            <a:xfrm rot="2700000">
              <a:off x="3263760" y="2716560"/>
              <a:ext cx="2387160" cy="153504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文本框 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椭圆 4"/>
          <p:cNvSpPr/>
          <p:nvPr/>
        </p:nvSpPr>
        <p:spPr>
          <a:xfrm>
            <a:off x="906480" y="1714680"/>
            <a:ext cx="901800" cy="9014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椭圆 6"/>
          <p:cNvSpPr/>
          <p:nvPr/>
        </p:nvSpPr>
        <p:spPr>
          <a:xfrm>
            <a:off x="906480" y="336060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椭圆 7"/>
          <p:cNvSpPr/>
          <p:nvPr/>
        </p:nvSpPr>
        <p:spPr>
          <a:xfrm>
            <a:off x="906480" y="500688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文本框 11"/>
          <p:cNvSpPr/>
          <p:nvPr/>
        </p:nvSpPr>
        <p:spPr>
          <a:xfrm>
            <a:off x="865080" y="17575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文本框 12"/>
          <p:cNvSpPr/>
          <p:nvPr/>
        </p:nvSpPr>
        <p:spPr>
          <a:xfrm>
            <a:off x="865080" y="340848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文本框 13"/>
          <p:cNvSpPr/>
          <p:nvPr/>
        </p:nvSpPr>
        <p:spPr>
          <a:xfrm>
            <a:off x="865080" y="50767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直接连接符 15"/>
          <p:cNvSpPr/>
          <p:nvPr/>
        </p:nvSpPr>
        <p:spPr>
          <a:xfrm>
            <a:off x="1806480" y="292104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直接连接符 16"/>
          <p:cNvSpPr/>
          <p:nvPr/>
        </p:nvSpPr>
        <p:spPr>
          <a:xfrm>
            <a:off x="1806480" y="457200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直接连接符 17"/>
          <p:cNvSpPr/>
          <p:nvPr/>
        </p:nvSpPr>
        <p:spPr>
          <a:xfrm>
            <a:off x="1806480" y="6222960"/>
            <a:ext cx="4130640" cy="180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文本框 18"/>
          <p:cNvSpPr/>
          <p:nvPr/>
        </p:nvSpPr>
        <p:spPr>
          <a:xfrm>
            <a:off x="1932120" y="176364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文本框 19"/>
          <p:cNvSpPr/>
          <p:nvPr/>
        </p:nvSpPr>
        <p:spPr>
          <a:xfrm>
            <a:off x="1940040" y="2206800"/>
            <a:ext cx="41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20"/>
          <p:cNvSpPr/>
          <p:nvPr/>
        </p:nvSpPr>
        <p:spPr>
          <a:xfrm>
            <a:off x="1889280" y="33894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文本框 21"/>
          <p:cNvSpPr/>
          <p:nvPr/>
        </p:nvSpPr>
        <p:spPr>
          <a:xfrm>
            <a:off x="1895400" y="38307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文本框 22"/>
          <p:cNvSpPr/>
          <p:nvPr/>
        </p:nvSpPr>
        <p:spPr>
          <a:xfrm>
            <a:off x="1889280" y="50292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文本框 23"/>
          <p:cNvSpPr/>
          <p:nvPr/>
        </p:nvSpPr>
        <p:spPr>
          <a:xfrm>
            <a:off x="1895400" y="54705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直接连接符 24"/>
          <p:cNvSpPr/>
          <p:nvPr/>
        </p:nvSpPr>
        <p:spPr>
          <a:xfrm>
            <a:off x="7311960" y="2913120"/>
            <a:ext cx="4130640" cy="144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直接连接符 25"/>
          <p:cNvSpPr/>
          <p:nvPr/>
        </p:nvSpPr>
        <p:spPr>
          <a:xfrm>
            <a:off x="7311960" y="456552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直接连接符 26"/>
          <p:cNvSpPr/>
          <p:nvPr/>
        </p:nvSpPr>
        <p:spPr>
          <a:xfrm>
            <a:off x="7311960" y="621648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文本框 27"/>
          <p:cNvSpPr/>
          <p:nvPr/>
        </p:nvSpPr>
        <p:spPr>
          <a:xfrm>
            <a:off x="7394400" y="17575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文本框 28"/>
          <p:cNvSpPr/>
          <p:nvPr/>
        </p:nvSpPr>
        <p:spPr>
          <a:xfrm>
            <a:off x="7443720" y="219852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文本框 29"/>
          <p:cNvSpPr/>
          <p:nvPr/>
        </p:nvSpPr>
        <p:spPr>
          <a:xfrm>
            <a:off x="7394400" y="338148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文本框 30"/>
          <p:cNvSpPr/>
          <p:nvPr/>
        </p:nvSpPr>
        <p:spPr>
          <a:xfrm>
            <a:off x="7400880" y="38242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31"/>
          <p:cNvSpPr/>
          <p:nvPr/>
        </p:nvSpPr>
        <p:spPr>
          <a:xfrm>
            <a:off x="7394400" y="50227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文本框 32"/>
          <p:cNvSpPr/>
          <p:nvPr/>
        </p:nvSpPr>
        <p:spPr>
          <a:xfrm>
            <a:off x="7400880" y="54640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椭圆 33"/>
          <p:cNvSpPr/>
          <p:nvPr/>
        </p:nvSpPr>
        <p:spPr>
          <a:xfrm>
            <a:off x="6307200" y="1714680"/>
            <a:ext cx="901800" cy="9014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椭圆 34"/>
          <p:cNvSpPr/>
          <p:nvPr/>
        </p:nvSpPr>
        <p:spPr>
          <a:xfrm>
            <a:off x="6307200" y="336060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椭圆 35"/>
          <p:cNvSpPr/>
          <p:nvPr/>
        </p:nvSpPr>
        <p:spPr>
          <a:xfrm>
            <a:off x="6307200" y="500688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文本框 36"/>
          <p:cNvSpPr/>
          <p:nvPr/>
        </p:nvSpPr>
        <p:spPr>
          <a:xfrm>
            <a:off x="6265800" y="17575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37"/>
          <p:cNvSpPr/>
          <p:nvPr/>
        </p:nvSpPr>
        <p:spPr>
          <a:xfrm>
            <a:off x="6265800" y="340848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文本框 38"/>
          <p:cNvSpPr/>
          <p:nvPr/>
        </p:nvSpPr>
        <p:spPr>
          <a:xfrm>
            <a:off x="6265800" y="50767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矩形 2"/>
          <p:cNvSpPr/>
          <p:nvPr/>
        </p:nvSpPr>
        <p:spPr>
          <a:xfrm>
            <a:off x="1092240" y="1569960"/>
            <a:ext cx="6837480" cy="200520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矩形 3"/>
          <p:cNvSpPr/>
          <p:nvPr/>
        </p:nvSpPr>
        <p:spPr>
          <a:xfrm>
            <a:off x="1092240" y="3645000"/>
            <a:ext cx="33973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矩形 4"/>
          <p:cNvSpPr/>
          <p:nvPr/>
        </p:nvSpPr>
        <p:spPr>
          <a:xfrm>
            <a:off x="4572000" y="3645000"/>
            <a:ext cx="33577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矩形 5"/>
          <p:cNvSpPr/>
          <p:nvPr/>
        </p:nvSpPr>
        <p:spPr>
          <a:xfrm>
            <a:off x="8010360" y="1569960"/>
            <a:ext cx="3318120" cy="20052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6"/>
          <p:cNvSpPr/>
          <p:nvPr/>
        </p:nvSpPr>
        <p:spPr>
          <a:xfrm>
            <a:off x="8010360" y="3645000"/>
            <a:ext cx="33181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Picture 4" descr="\\MAGNUM\Projects\Microsoft\Cloud Power FY12\Design\ICONS_PNG\Private_Cloud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371600" y="12477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8" descr=""/>
          <p:cNvPicPr/>
          <p:nvPr/>
        </p:nvPicPr>
        <p:blipFill>
          <a:blip r:embed="rId2"/>
          <a:stretch/>
        </p:blipFill>
        <p:spPr>
          <a:xfrm>
            <a:off x="9175680" y="1784520"/>
            <a:ext cx="990720" cy="102708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25" descr=""/>
          <p:cNvPicPr/>
          <p:nvPr/>
        </p:nvPicPr>
        <p:blipFill>
          <a:blip r:embed="rId3"/>
          <a:stretch/>
        </p:blipFill>
        <p:spPr>
          <a:xfrm>
            <a:off x="2251080" y="3897360"/>
            <a:ext cx="1011240" cy="104616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7" descr="C:\Users\Jonahs\Dropbox\Projects SCOTT\MEET Windows Azure\source\Background\tile-icon-identity.png"/>
          <p:cNvPicPr/>
          <p:nvPr/>
        </p:nvPicPr>
        <p:blipFill>
          <a:blip r:embed="rId4"/>
          <a:stretch/>
        </p:blipFill>
        <p:spPr>
          <a:xfrm>
            <a:off x="5772240" y="3897360"/>
            <a:ext cx="957240" cy="95868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5" descr="C:\Users\Jonahs\Dropbox\Projects SCOTT\MEET Windows Azure\source\Background\tile-icon-CDN.png"/>
          <p:cNvPicPr/>
          <p:nvPr/>
        </p:nvPicPr>
        <p:blipFill>
          <a:blip r:embed="rId5"/>
          <a:stretch/>
        </p:blipFill>
        <p:spPr>
          <a:xfrm>
            <a:off x="9104400" y="3790800"/>
            <a:ext cx="1131840" cy="1130400"/>
          </a:xfrm>
          <a:prstGeom prst="rect">
            <a:avLst/>
          </a:prstGeom>
          <a:ln w="0">
            <a:noFill/>
          </a:ln>
        </p:spPr>
      </p:pic>
      <p:sp>
        <p:nvSpPr>
          <p:cNvPr id="1095" name="文本框 15"/>
          <p:cNvSpPr/>
          <p:nvPr/>
        </p:nvSpPr>
        <p:spPr>
          <a:xfrm>
            <a:off x="3871800" y="185580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文本框 16"/>
          <p:cNvSpPr/>
          <p:nvPr/>
        </p:nvSpPr>
        <p:spPr>
          <a:xfrm>
            <a:off x="3871800" y="2317680"/>
            <a:ext cx="34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晚上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，听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得还是不错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文本框 17"/>
          <p:cNvSpPr/>
          <p:nvPr/>
        </p:nvSpPr>
        <p:spPr>
          <a:xfrm>
            <a:off x="8796240" y="29811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文本框 18"/>
          <p:cNvSpPr/>
          <p:nvPr/>
        </p:nvSpPr>
        <p:spPr>
          <a:xfrm>
            <a:off x="8796240" y="49467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文本框 19"/>
          <p:cNvSpPr/>
          <p:nvPr/>
        </p:nvSpPr>
        <p:spPr>
          <a:xfrm>
            <a:off x="5349960" y="494676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文本框 20"/>
          <p:cNvSpPr/>
          <p:nvPr/>
        </p:nvSpPr>
        <p:spPr>
          <a:xfrm>
            <a:off x="1882800" y="494676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椭圆 6"/>
          <p:cNvSpPr/>
          <p:nvPr/>
        </p:nvSpPr>
        <p:spPr>
          <a:xfrm>
            <a:off x="144612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椭圆 7"/>
          <p:cNvSpPr/>
          <p:nvPr/>
        </p:nvSpPr>
        <p:spPr>
          <a:xfrm>
            <a:off x="4670280" y="1488960"/>
            <a:ext cx="3259440" cy="325908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椭圆 8"/>
          <p:cNvSpPr/>
          <p:nvPr/>
        </p:nvSpPr>
        <p:spPr>
          <a:xfrm>
            <a:off x="877716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任意多边形 17"/>
          <p:cNvSpPr/>
          <p:nvPr/>
        </p:nvSpPr>
        <p:spPr>
          <a:xfrm flipH="1">
            <a:off x="4669560" y="1488960"/>
            <a:ext cx="1629000" cy="325908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任意多边形 23"/>
          <p:cNvSpPr/>
          <p:nvPr/>
        </p:nvSpPr>
        <p:spPr>
          <a:xfrm flipH="1">
            <a:off x="1459080" y="1968480"/>
            <a:ext cx="1141200" cy="23036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任意多边形 24"/>
          <p:cNvSpPr/>
          <p:nvPr/>
        </p:nvSpPr>
        <p:spPr>
          <a:xfrm flipH="1">
            <a:off x="8776440" y="1965240"/>
            <a:ext cx="1141560" cy="23036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932360" y="2295360"/>
            <a:ext cx="2759040" cy="1540080"/>
          </a:xfrm>
          <a:prstGeom prst="rect">
            <a:avLst/>
          </a:prstGeom>
          <a:ln w="0">
            <a:noFill/>
          </a:ln>
        </p:spPr>
      </p:pic>
      <p:sp>
        <p:nvSpPr>
          <p:cNvPr id="1109" name="Freeform 86"/>
          <p:cNvSpPr/>
          <p:nvPr/>
        </p:nvSpPr>
        <p:spPr>
          <a:xfrm>
            <a:off x="2108160" y="2836800"/>
            <a:ext cx="663480" cy="668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88"/>
          <p:cNvSpPr/>
          <p:nvPr/>
        </p:nvSpPr>
        <p:spPr>
          <a:xfrm>
            <a:off x="2724120" y="2709720"/>
            <a:ext cx="393840" cy="424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Picture 23" descr=""/>
          <p:cNvPicPr/>
          <p:nvPr/>
        </p:nvPicPr>
        <p:blipFill>
          <a:blip r:embed="rId2"/>
          <a:stretch/>
        </p:blipFill>
        <p:spPr>
          <a:xfrm>
            <a:off x="9360000" y="2590920"/>
            <a:ext cx="1139760" cy="914400"/>
          </a:xfrm>
          <a:prstGeom prst="rect">
            <a:avLst/>
          </a:prstGeom>
          <a:ln w="0">
            <a:noFill/>
          </a:ln>
        </p:spPr>
      </p:pic>
      <p:sp>
        <p:nvSpPr>
          <p:cNvPr id="1112" name="圆角矩形 29"/>
          <p:cNvSpPr/>
          <p:nvPr/>
        </p:nvSpPr>
        <p:spPr>
          <a:xfrm>
            <a:off x="14461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12600">
            <a:solidFill>
              <a:srgbClr val="3b87c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圆角矩形 30"/>
          <p:cNvSpPr/>
          <p:nvPr/>
        </p:nvSpPr>
        <p:spPr>
          <a:xfrm>
            <a:off x="5165640" y="5057640"/>
            <a:ext cx="2292480" cy="430200"/>
          </a:xfrm>
          <a:prstGeom prst="roundRect">
            <a:avLst>
              <a:gd name="adj" fmla="val 16667"/>
            </a:avLst>
          </a:prstGeom>
          <a:solidFill>
            <a:srgbClr val="e9c38b"/>
          </a:solidFill>
          <a:ln w="19080">
            <a:solidFill>
              <a:srgbClr val="e9c38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圆角矩形 31"/>
          <p:cNvSpPr/>
          <p:nvPr/>
        </p:nvSpPr>
        <p:spPr>
          <a:xfrm>
            <a:off x="88837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文本框 32"/>
          <p:cNvSpPr/>
          <p:nvPr/>
        </p:nvSpPr>
        <p:spPr>
          <a:xfrm>
            <a:off x="992160" y="5692680"/>
            <a:ext cx="320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文本框 33"/>
          <p:cNvSpPr/>
          <p:nvPr/>
        </p:nvSpPr>
        <p:spPr>
          <a:xfrm>
            <a:off x="467028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文本框 34"/>
          <p:cNvSpPr/>
          <p:nvPr/>
        </p:nvSpPr>
        <p:spPr>
          <a:xfrm>
            <a:off x="834696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文本框 2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椭圆 1"/>
          <p:cNvSpPr/>
          <p:nvPr/>
        </p:nvSpPr>
        <p:spPr>
          <a:xfrm>
            <a:off x="3959280" y="1622520"/>
            <a:ext cx="3979800" cy="39812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任意多边形 2"/>
          <p:cNvSpPr/>
          <p:nvPr/>
        </p:nvSpPr>
        <p:spPr>
          <a:xfrm flipH="1">
            <a:off x="3958560" y="1622520"/>
            <a:ext cx="1989000" cy="39812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椭圆 3"/>
          <p:cNvSpPr/>
          <p:nvPr/>
        </p:nvSpPr>
        <p:spPr>
          <a:xfrm>
            <a:off x="2394000" y="1973160"/>
            <a:ext cx="1042920" cy="104292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椭圆 4"/>
          <p:cNvSpPr/>
          <p:nvPr/>
        </p:nvSpPr>
        <p:spPr>
          <a:xfrm>
            <a:off x="2149560" y="4314960"/>
            <a:ext cx="1287360" cy="12888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椭圆 8"/>
          <p:cNvSpPr/>
          <p:nvPr/>
        </p:nvSpPr>
        <p:spPr>
          <a:xfrm>
            <a:off x="7915320" y="1444680"/>
            <a:ext cx="674640" cy="676080"/>
          </a:xfrm>
          <a:prstGeom prst="ellipse">
            <a:avLst/>
          </a:prstGeom>
          <a:solidFill>
            <a:srgbClr val="519cd6"/>
          </a:solidFill>
          <a:ln w="1260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直接连接符 13"/>
          <p:cNvSpPr/>
          <p:nvPr/>
        </p:nvSpPr>
        <p:spPr>
          <a:xfrm>
            <a:off x="514440" y="250200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直接连接符 15"/>
          <p:cNvSpPr/>
          <p:nvPr/>
        </p:nvSpPr>
        <p:spPr>
          <a:xfrm>
            <a:off x="270000" y="494352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直接连接符 16"/>
          <p:cNvSpPr/>
          <p:nvPr/>
        </p:nvSpPr>
        <p:spPr>
          <a:xfrm>
            <a:off x="8589960" y="1782720"/>
            <a:ext cx="1879560" cy="180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直接连接符 17"/>
          <p:cNvSpPr/>
          <p:nvPr/>
        </p:nvSpPr>
        <p:spPr>
          <a:xfrm>
            <a:off x="9618840" y="352728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直接连接符 18"/>
          <p:cNvSpPr/>
          <p:nvPr/>
        </p:nvSpPr>
        <p:spPr>
          <a:xfrm>
            <a:off x="8966160" y="540864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文本框 19"/>
          <p:cNvSpPr/>
          <p:nvPr/>
        </p:nvSpPr>
        <p:spPr>
          <a:xfrm>
            <a:off x="9698040" y="123516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9cd6"/>
                </a:solidFill>
                <a:latin typeface="方正姚体"/>
                <a:ea typeface="方正姚体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文本框 29"/>
          <p:cNvSpPr/>
          <p:nvPr/>
        </p:nvSpPr>
        <p:spPr>
          <a:xfrm>
            <a:off x="10536120" y="2773440"/>
            <a:ext cx="15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b161"/>
                </a:solidFill>
                <a:latin typeface="方正姚体"/>
                <a:ea typeface="方正姚体"/>
              </a:rPr>
              <a:t>23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文本框 30"/>
          <p:cNvSpPr/>
          <p:nvPr/>
        </p:nvSpPr>
        <p:spPr>
          <a:xfrm>
            <a:off x="209520" y="422280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8b161"/>
                </a:solidFill>
                <a:latin typeface="方正姚体"/>
                <a:ea typeface="方正姚体"/>
              </a:rPr>
              <a:t>28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文本框 31"/>
          <p:cNvSpPr/>
          <p:nvPr/>
        </p:nvSpPr>
        <p:spPr>
          <a:xfrm>
            <a:off x="420840" y="1866960"/>
            <a:ext cx="13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19cd6"/>
                </a:solidFill>
                <a:latin typeface="方正姚体"/>
                <a:ea typeface="方正姚体"/>
              </a:rPr>
              <a:t>2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文本框 32"/>
          <p:cNvSpPr/>
          <p:nvPr/>
        </p:nvSpPr>
        <p:spPr>
          <a:xfrm>
            <a:off x="10023480" y="4746600"/>
            <a:ext cx="13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9cd6"/>
                </a:solidFill>
                <a:latin typeface="方正姚体"/>
                <a:ea typeface="方正姚体"/>
              </a:rPr>
              <a:t>16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右箭头 33"/>
          <p:cNvSpPr/>
          <p:nvPr/>
        </p:nvSpPr>
        <p:spPr>
          <a:xfrm rot="19231800">
            <a:off x="7559280" y="1926720"/>
            <a:ext cx="365040" cy="389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右箭头 34"/>
          <p:cNvSpPr/>
          <p:nvPr/>
        </p:nvSpPr>
        <p:spPr>
          <a:xfrm>
            <a:off x="8074080" y="3346560"/>
            <a:ext cx="365040" cy="390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右箭头 35"/>
          <p:cNvSpPr/>
          <p:nvPr/>
        </p:nvSpPr>
        <p:spPr>
          <a:xfrm rot="2368800">
            <a:off x="7664040" y="4857480"/>
            <a:ext cx="365040" cy="390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椭圆 6"/>
          <p:cNvSpPr/>
          <p:nvPr/>
        </p:nvSpPr>
        <p:spPr>
          <a:xfrm>
            <a:off x="8640720" y="2955960"/>
            <a:ext cx="1150920" cy="11494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椭圆 7"/>
          <p:cNvSpPr/>
          <p:nvPr/>
        </p:nvSpPr>
        <p:spPr>
          <a:xfrm>
            <a:off x="8074080" y="4959360"/>
            <a:ext cx="892080" cy="8920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右箭头 36"/>
          <p:cNvSpPr/>
          <p:nvPr/>
        </p:nvSpPr>
        <p:spPr>
          <a:xfrm rot="11932200">
            <a:off x="3579480" y="260676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右箭头 37"/>
          <p:cNvSpPr/>
          <p:nvPr/>
        </p:nvSpPr>
        <p:spPr>
          <a:xfrm rot="9061200">
            <a:off x="3634920" y="444348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1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462560" y="2738520"/>
            <a:ext cx="3039840" cy="169704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4" descr="C:\Users\Jonahs\Dropbox\Projects SCOTT\MEET Windows Azure\source\Background\tile-icon-cache.png"/>
          <p:cNvPicPr/>
          <p:nvPr/>
        </p:nvPicPr>
        <p:blipFill>
          <a:blip r:embed="rId2"/>
          <a:stretch/>
        </p:blipFill>
        <p:spPr>
          <a:xfrm>
            <a:off x="2584440" y="2174760"/>
            <a:ext cx="638280" cy="63828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2" descr=""/>
          <p:cNvPicPr/>
          <p:nvPr/>
        </p:nvPicPr>
        <p:blipFill>
          <a:blip r:embed="rId3"/>
          <a:stretch/>
        </p:blipFill>
        <p:spPr>
          <a:xfrm>
            <a:off x="8224920" y="512604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144" name="Freeform 18"/>
          <p:cNvSpPr/>
          <p:nvPr/>
        </p:nvSpPr>
        <p:spPr>
          <a:xfrm>
            <a:off x="8956800" y="3171960"/>
            <a:ext cx="574560" cy="69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5" name="Group 1"/>
          <p:cNvGrpSpPr/>
          <p:nvPr/>
        </p:nvGrpSpPr>
        <p:grpSpPr>
          <a:xfrm>
            <a:off x="2327400" y="4589640"/>
            <a:ext cx="930240" cy="677520"/>
            <a:chOff x="2327400" y="4589640"/>
            <a:chExt cx="930240" cy="677520"/>
          </a:xfrm>
        </p:grpSpPr>
        <p:sp>
          <p:nvSpPr>
            <p:cNvPr id="1146" name="Freeform 79"/>
            <p:cNvSpPr/>
            <p:nvPr/>
          </p:nvSpPr>
          <p:spPr>
            <a:xfrm>
              <a:off x="2327400" y="4940640"/>
              <a:ext cx="930240" cy="32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80"/>
            <p:cNvSpPr/>
            <p:nvPr/>
          </p:nvSpPr>
          <p:spPr>
            <a:xfrm>
              <a:off x="2327400" y="4589640"/>
              <a:ext cx="930240" cy="32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8" name="Picture 9" descr="\\MAGNUM\Projects\Microsoft\Cloud Power FY12\Design\Icons\PNGs\Optimized.pn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7974000" y="149868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1149" name="文本框 38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文本框 13"/>
          <p:cNvSpPr/>
          <p:nvPr/>
        </p:nvSpPr>
        <p:spPr>
          <a:xfrm>
            <a:off x="5937120" y="161136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文本框 14"/>
          <p:cNvSpPr/>
          <p:nvPr/>
        </p:nvSpPr>
        <p:spPr>
          <a:xfrm>
            <a:off x="6794640" y="2486160"/>
            <a:ext cx="141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文本框 15"/>
          <p:cNvSpPr/>
          <p:nvPr/>
        </p:nvSpPr>
        <p:spPr>
          <a:xfrm>
            <a:off x="7934400" y="178740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文本框 16"/>
          <p:cNvSpPr/>
          <p:nvPr/>
        </p:nvSpPr>
        <p:spPr>
          <a:xfrm>
            <a:off x="5969160" y="360684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直接连接符 18"/>
          <p:cNvSpPr/>
          <p:nvPr/>
        </p:nvSpPr>
        <p:spPr>
          <a:xfrm>
            <a:off x="5945040" y="3508200"/>
            <a:ext cx="29797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直接连接符 19"/>
          <p:cNvSpPr/>
          <p:nvPr/>
        </p:nvSpPr>
        <p:spPr>
          <a:xfrm>
            <a:off x="5945040" y="4302000"/>
            <a:ext cx="2979720" cy="180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组合 31"/>
          <p:cNvGrpSpPr/>
          <p:nvPr/>
        </p:nvGrpSpPr>
        <p:grpSpPr>
          <a:xfrm>
            <a:off x="2724120" y="1897200"/>
            <a:ext cx="2543040" cy="2543040"/>
            <a:chOff x="2724120" y="1897200"/>
            <a:chExt cx="2543040" cy="2543040"/>
          </a:xfrm>
        </p:grpSpPr>
        <p:sp>
          <p:nvSpPr>
            <p:cNvPr id="1157" name="圆角矩形 21"/>
            <p:cNvSpPr/>
            <p:nvPr/>
          </p:nvSpPr>
          <p:spPr>
            <a:xfrm>
              <a:off x="2724120" y="1897200"/>
              <a:ext cx="2543040" cy="254304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任意多边形 30"/>
            <p:cNvSpPr/>
            <p:nvPr/>
          </p:nvSpPr>
          <p:spPr>
            <a:xfrm>
              <a:off x="3095640" y="2534760"/>
              <a:ext cx="2171520" cy="1905480"/>
            </a:xfrm>
            <a:prstGeom prst="pie">
              <a:avLst/>
            </a:prstGeom>
            <a:solidFill>
              <a:srgbClr val="3b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9" name="组合 5"/>
            <p:cNvGrpSpPr/>
            <p:nvPr/>
          </p:nvGrpSpPr>
          <p:grpSpPr>
            <a:xfrm>
              <a:off x="3105000" y="2381040"/>
              <a:ext cx="1780920" cy="1662120"/>
              <a:chOff x="3105000" y="2381040"/>
              <a:chExt cx="1780920" cy="1662120"/>
            </a:xfrm>
          </p:grpSpPr>
          <p:sp>
            <p:nvSpPr>
              <p:cNvPr id="1160" name="圆角矩形 1"/>
              <p:cNvSpPr/>
              <p:nvPr/>
            </p:nvSpPr>
            <p:spPr>
              <a:xfrm>
                <a:off x="3105000" y="2381040"/>
                <a:ext cx="1780920" cy="1341000"/>
              </a:xfrm>
              <a:prstGeom prst="roundRect">
                <a:avLst>
                  <a:gd name="adj" fmla="val 9426"/>
                </a:avLst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直角三角形 4"/>
              <p:cNvSpPr/>
              <p:nvPr/>
            </p:nvSpPr>
            <p:spPr>
              <a:xfrm flipV="1">
                <a:off x="3548880" y="3606840"/>
                <a:ext cx="324720" cy="435960"/>
              </a:xfrm>
              <a:prstGeom prst="rtTriangle">
                <a:avLst/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2" name="组合 7"/>
          <p:cNvGrpSpPr/>
          <p:nvPr/>
        </p:nvGrpSpPr>
        <p:grpSpPr>
          <a:xfrm>
            <a:off x="4975200" y="2495520"/>
            <a:ext cx="2306520" cy="2306520"/>
            <a:chOff x="4975200" y="2495520"/>
            <a:chExt cx="2306520" cy="2306520"/>
          </a:xfrm>
        </p:grpSpPr>
        <p:sp>
          <p:nvSpPr>
            <p:cNvPr id="1163" name="椭圆 12"/>
            <p:cNvSpPr/>
            <p:nvPr/>
          </p:nvSpPr>
          <p:spPr>
            <a:xfrm>
              <a:off x="497520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任意多边形 13"/>
            <p:cNvSpPr/>
            <p:nvPr/>
          </p:nvSpPr>
          <p:spPr>
            <a:xfrm flipH="1">
              <a:off x="4987800" y="2498040"/>
              <a:ext cx="1140480" cy="230400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35"/>
            <p:cNvSpPr/>
            <p:nvPr/>
          </p:nvSpPr>
          <p:spPr>
            <a:xfrm>
              <a:off x="5536440" y="3004560"/>
              <a:ext cx="1252800" cy="128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组合 8"/>
          <p:cNvGrpSpPr/>
          <p:nvPr/>
        </p:nvGrpSpPr>
        <p:grpSpPr>
          <a:xfrm>
            <a:off x="1514520" y="2495520"/>
            <a:ext cx="2306520" cy="2306520"/>
            <a:chOff x="1514520" y="2495520"/>
            <a:chExt cx="2306520" cy="2306520"/>
          </a:xfrm>
        </p:grpSpPr>
        <p:sp>
          <p:nvSpPr>
            <p:cNvPr id="1167" name="椭圆 4"/>
            <p:cNvSpPr/>
            <p:nvPr/>
          </p:nvSpPr>
          <p:spPr>
            <a:xfrm>
              <a:off x="151452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任意多边形 5"/>
            <p:cNvSpPr/>
            <p:nvPr/>
          </p:nvSpPr>
          <p:spPr>
            <a:xfrm flipH="1">
              <a:off x="1527120" y="2498040"/>
              <a:ext cx="1140480" cy="230400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Rounded Rectangle 29"/>
            <p:cNvSpPr/>
            <p:nvPr/>
          </p:nvSpPr>
          <p:spPr>
            <a:xfrm>
              <a:off x="2326320" y="2903040"/>
              <a:ext cx="682560" cy="13899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组合 6"/>
          <p:cNvGrpSpPr/>
          <p:nvPr/>
        </p:nvGrpSpPr>
        <p:grpSpPr>
          <a:xfrm>
            <a:off x="8434440" y="2495520"/>
            <a:ext cx="2306520" cy="2306520"/>
            <a:chOff x="8434440" y="2495520"/>
            <a:chExt cx="2306520" cy="2306520"/>
          </a:xfrm>
        </p:grpSpPr>
        <p:sp>
          <p:nvSpPr>
            <p:cNvPr id="1171" name="椭圆 18"/>
            <p:cNvSpPr/>
            <p:nvPr/>
          </p:nvSpPr>
          <p:spPr>
            <a:xfrm>
              <a:off x="8434440" y="2495520"/>
              <a:ext cx="2306520" cy="2306520"/>
            </a:xfrm>
            <a:prstGeom prst="ellipse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任意多边形 19"/>
            <p:cNvSpPr/>
            <p:nvPr/>
          </p:nvSpPr>
          <p:spPr>
            <a:xfrm flipH="1">
              <a:off x="8447040" y="2498040"/>
              <a:ext cx="1140480" cy="2304000"/>
            </a:xfrm>
            <a:prstGeom prst="pie">
              <a:avLst/>
            </a:prstGeom>
            <a:solidFill>
              <a:srgbClr val="dda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3" name="Picture 7" descr="\\MAGNUM\Projects\Microsoft\Cloud Power FY12\Design\Icons\PNGs\Pooled.png"/>
            <p:cNvPicPr/>
            <p:nvPr/>
          </p:nvPicPr>
          <p:blipFill>
            <a:blip r:embed="rId1">
              <a:lum bright="100000"/>
            </a:blip>
            <a:stretch/>
          </p:blipFill>
          <p:spPr>
            <a:xfrm>
              <a:off x="8663040" y="2755800"/>
              <a:ext cx="1874520" cy="187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4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矩形 1"/>
          <p:cNvSpPr/>
          <p:nvPr/>
        </p:nvSpPr>
        <p:spPr>
          <a:xfrm rot="2703000">
            <a:off x="5219280" y="150444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2"/>
          <p:cNvSpPr/>
          <p:nvPr/>
        </p:nvSpPr>
        <p:spPr>
          <a:xfrm rot="2703000">
            <a:off x="3872160" y="2846160"/>
            <a:ext cx="1819080" cy="18194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直角三角形 3"/>
          <p:cNvSpPr/>
          <p:nvPr/>
        </p:nvSpPr>
        <p:spPr>
          <a:xfrm rot="2703000">
            <a:off x="3872160" y="2846160"/>
            <a:ext cx="1819080" cy="181944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直角三角形 4"/>
          <p:cNvSpPr/>
          <p:nvPr/>
        </p:nvSpPr>
        <p:spPr>
          <a:xfrm rot="2703000">
            <a:off x="5219280" y="150444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矩形 5"/>
          <p:cNvSpPr/>
          <p:nvPr/>
        </p:nvSpPr>
        <p:spPr>
          <a:xfrm rot="2703000">
            <a:off x="5219280" y="420012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直角三角形 6"/>
          <p:cNvSpPr/>
          <p:nvPr/>
        </p:nvSpPr>
        <p:spPr>
          <a:xfrm rot="2703000">
            <a:off x="5219280" y="420012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矩形 7"/>
          <p:cNvSpPr/>
          <p:nvPr/>
        </p:nvSpPr>
        <p:spPr>
          <a:xfrm rot="2703000">
            <a:off x="6565680" y="28465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直角三角形 8"/>
          <p:cNvSpPr/>
          <p:nvPr/>
        </p:nvSpPr>
        <p:spPr>
          <a:xfrm rot="2703000">
            <a:off x="6565680" y="28465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3" name="组合 13"/>
          <p:cNvGrpSpPr/>
          <p:nvPr/>
        </p:nvGrpSpPr>
        <p:grpSpPr>
          <a:xfrm>
            <a:off x="6426360" y="1499760"/>
            <a:ext cx="3352680" cy="344520"/>
            <a:chOff x="6426360" y="1499760"/>
            <a:chExt cx="3352680" cy="344520"/>
          </a:xfrm>
        </p:grpSpPr>
        <p:sp>
          <p:nvSpPr>
            <p:cNvPr id="1184" name="直接连接符 18"/>
            <p:cNvSpPr/>
            <p:nvPr/>
          </p:nvSpPr>
          <p:spPr>
            <a:xfrm flipV="1">
              <a:off x="6426360" y="149976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直接连接符 20"/>
            <p:cNvSpPr/>
            <p:nvPr/>
          </p:nvSpPr>
          <p:spPr>
            <a:xfrm>
              <a:off x="6950160" y="150012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组合 14"/>
          <p:cNvGrpSpPr/>
          <p:nvPr/>
        </p:nvGrpSpPr>
        <p:grpSpPr>
          <a:xfrm>
            <a:off x="8156520" y="3201480"/>
            <a:ext cx="3352680" cy="344520"/>
            <a:chOff x="8156520" y="3201480"/>
            <a:chExt cx="3352680" cy="344520"/>
          </a:xfrm>
        </p:grpSpPr>
        <p:sp>
          <p:nvSpPr>
            <p:cNvPr id="1187" name="直接连接符 21"/>
            <p:cNvSpPr/>
            <p:nvPr/>
          </p:nvSpPr>
          <p:spPr>
            <a:xfrm flipV="1">
              <a:off x="8156520" y="320148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直接连接符 22"/>
            <p:cNvSpPr/>
            <p:nvPr/>
          </p:nvSpPr>
          <p:spPr>
            <a:xfrm>
              <a:off x="8680320" y="3201840"/>
              <a:ext cx="282888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组合 16"/>
          <p:cNvGrpSpPr/>
          <p:nvPr/>
        </p:nvGrpSpPr>
        <p:grpSpPr>
          <a:xfrm>
            <a:off x="858960" y="4001760"/>
            <a:ext cx="3341520" cy="344880"/>
            <a:chOff x="858960" y="4001760"/>
            <a:chExt cx="3341520" cy="344880"/>
          </a:xfrm>
        </p:grpSpPr>
        <p:sp>
          <p:nvSpPr>
            <p:cNvPr id="1190" name="直接连接符 19"/>
            <p:cNvSpPr/>
            <p:nvPr/>
          </p:nvSpPr>
          <p:spPr>
            <a:xfrm flipV="1">
              <a:off x="3676680" y="400176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直接连接符 23"/>
            <p:cNvSpPr/>
            <p:nvPr/>
          </p:nvSpPr>
          <p:spPr>
            <a:xfrm>
              <a:off x="858960" y="4346640"/>
              <a:ext cx="282960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组合 15"/>
          <p:cNvGrpSpPr/>
          <p:nvPr/>
        </p:nvGrpSpPr>
        <p:grpSpPr>
          <a:xfrm>
            <a:off x="2417760" y="5824080"/>
            <a:ext cx="3352680" cy="344880"/>
            <a:chOff x="2417760" y="5824080"/>
            <a:chExt cx="3352680" cy="344880"/>
          </a:xfrm>
        </p:grpSpPr>
        <p:sp>
          <p:nvSpPr>
            <p:cNvPr id="1193" name="直接连接符 24"/>
            <p:cNvSpPr/>
            <p:nvPr/>
          </p:nvSpPr>
          <p:spPr>
            <a:xfrm flipV="1">
              <a:off x="5246640" y="582408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直接连接符 25"/>
            <p:cNvSpPr/>
            <p:nvPr/>
          </p:nvSpPr>
          <p:spPr>
            <a:xfrm>
              <a:off x="2417760" y="616896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5" name="Picture 5" descr=""/>
          <p:cNvPicPr/>
          <p:nvPr/>
        </p:nvPicPr>
        <p:blipFill>
          <a:blip r:embed="rId1"/>
          <a:stretch/>
        </p:blipFill>
        <p:spPr>
          <a:xfrm>
            <a:off x="4148280" y="3241800"/>
            <a:ext cx="1268280" cy="1046160"/>
          </a:xfrm>
          <a:prstGeom prst="rect">
            <a:avLst/>
          </a:prstGeom>
          <a:ln w="0">
            <a:noFill/>
          </a:ln>
        </p:spPr>
      </p:pic>
      <p:pic>
        <p:nvPicPr>
          <p:cNvPr id="1196" name="Picture 186" descr=""/>
          <p:cNvPicPr/>
          <p:nvPr/>
        </p:nvPicPr>
        <p:blipFill>
          <a:blip r:embed="rId2"/>
          <a:stretch/>
        </p:blipFill>
        <p:spPr>
          <a:xfrm rot="1200600">
            <a:off x="5689080" y="4597560"/>
            <a:ext cx="1049400" cy="985680"/>
          </a:xfrm>
          <a:prstGeom prst="rect">
            <a:avLst/>
          </a:prstGeom>
          <a:ln w="0">
            <a:noFill/>
          </a:ln>
        </p:spPr>
      </p:pic>
      <p:sp>
        <p:nvSpPr>
          <p:cNvPr id="1197" name="Freeform 15"/>
          <p:cNvSpPr/>
          <p:nvPr/>
        </p:nvSpPr>
        <p:spPr>
          <a:xfrm>
            <a:off x="6959520" y="3241800"/>
            <a:ext cx="965160" cy="95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9800" tIns="54720" bIns="54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Picture 30" descr="service-based.png"/>
          <p:cNvPicPr/>
          <p:nvPr/>
        </p:nvPicPr>
        <p:blipFill>
          <a:blip r:embed="rId3"/>
          <a:stretch/>
        </p:blipFill>
        <p:spPr>
          <a:xfrm>
            <a:off x="5411880" y="1793880"/>
            <a:ext cx="1398600" cy="1449360"/>
          </a:xfrm>
          <a:prstGeom prst="rect">
            <a:avLst/>
          </a:prstGeom>
          <a:ln w="0">
            <a:noFill/>
          </a:ln>
        </p:spPr>
      </p:pic>
      <p:sp>
        <p:nvSpPr>
          <p:cNvPr id="1199" name="椭圆 32"/>
          <p:cNvSpPr/>
          <p:nvPr/>
        </p:nvSpPr>
        <p:spPr>
          <a:xfrm>
            <a:off x="968400" y="3778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文本框 33"/>
          <p:cNvSpPr/>
          <p:nvPr/>
        </p:nvSpPr>
        <p:spPr>
          <a:xfrm>
            <a:off x="1120680" y="3651120"/>
            <a:ext cx="22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椭圆 34"/>
          <p:cNvSpPr/>
          <p:nvPr/>
        </p:nvSpPr>
        <p:spPr>
          <a:xfrm>
            <a:off x="2575080" y="557676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文本框 35"/>
          <p:cNvSpPr/>
          <p:nvPr/>
        </p:nvSpPr>
        <p:spPr>
          <a:xfrm>
            <a:off x="2727360" y="545004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椭圆 36"/>
          <p:cNvSpPr/>
          <p:nvPr/>
        </p:nvSpPr>
        <p:spPr>
          <a:xfrm>
            <a:off x="7042320" y="91908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文本框 37"/>
          <p:cNvSpPr/>
          <p:nvPr/>
        </p:nvSpPr>
        <p:spPr>
          <a:xfrm>
            <a:off x="7194600" y="79200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椭圆 38"/>
          <p:cNvSpPr/>
          <p:nvPr/>
        </p:nvSpPr>
        <p:spPr>
          <a:xfrm>
            <a:off x="8763120" y="26226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文本框 39"/>
          <p:cNvSpPr/>
          <p:nvPr/>
        </p:nvSpPr>
        <p:spPr>
          <a:xfrm>
            <a:off x="8915400" y="249552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文本框 4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4:40:00Z</dcterms:created>
  <dc:creator>Nee</dc:creator>
  <dc:description/>
  <cp:keywords/>
  <dc:language>en-US</dc:language>
  <cp:lastModifiedBy>USER-</cp:lastModifiedBy>
  <dcterms:modified xsi:type="dcterms:W3CDTF">2016-05-31T01:49:04Z</dcterms:modified>
  <cp:revision>8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