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DC4-3C36-4AC3-8DE0-E74DDDCB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B42-84CC-4D4D-9E67-953CC426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DEE-FBD6-429D-BD80-A86491F8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E9C-43FF-492A-97FF-DC4EEBEA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20A6-869A-4A7C-9AB9-DC5F496F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9BDE-F177-4BCD-B6FF-606A0317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E702-20C8-4630-B855-7DF13C6F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22FC-D67D-4FCF-B4A9-CFE159ED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B3EE-6591-484C-AE04-17CE4904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AE58-FC90-4CF3-B904-B0FB544A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9CB7-C697-4CFF-93DD-590F97B9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BE2-F552-443F-B729-A1709293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3624-7E82-4258-9A48-797875F2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F1E5-AF29-4CEA-9A43-9860BCD5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C160-2E4F-4751-80B1-447BF5A2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F65A-7D33-4553-A0C9-EDBDE013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0233-C6AA-4F04-8E64-977DF0BA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938F5-7A96-4745-B628-69447315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38798-87DC-437D-BE03-A5B5D16A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6A781-66CC-43F1-BD6E-4A433758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ADF7A-C2CD-44CA-A49B-720FA0DA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52075-83FF-493F-AF48-508DC2FC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A03-667A-4D67-BB98-C277C296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0114B-5FDC-4965-B734-4B8B6313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50567-9FDC-4ED3-88D0-13069636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D0EA-2263-4379-B517-138784E7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3C688-A85A-4F81-9FD6-4206AB55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D8D70-19FE-4935-93B4-59F71611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E0D9F-5499-4B1E-B85A-5169FA14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2EDAC-33C5-4DF7-BBA0-25F5CF75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D5E05-2CE3-47F6-8B16-42155FE6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44C04-FD58-4A15-9BC3-B18EE9AF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78B0A-C08A-4A3E-8BA8-7FF02844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418-FF14-4CC6-8D89-51559D0D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932D0-1BCF-4884-AF63-4B9F7090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AF972-396B-4958-9819-C10B13FA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E092F-FD1F-42EB-B7DA-1D4D656D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6322F-D3F3-4A5B-BB5A-8031271A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F865E-F8EA-4ED7-962D-D8B737CC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55D5C-B192-4312-8C4C-676102FD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611E2-698A-4B19-B1F9-48B697F3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8023E-E77A-414A-82D6-E57747D8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B541C-34AD-4A09-8619-B270AF03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A0E-1DF4-4BD5-9671-DCAA7A4A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069-FFC7-4BD8-92F6-4FFFDC69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C12-E15A-49E3-96F8-2DC7F73D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5DD-7BAA-4360-976B-0CE4D533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ABC-9269-4557-82CB-7E2E60CA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35DD-C230-4A11-90C8-B1E554CC525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4367-B326-4DCD-BB5E-55C991D1C0F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1BAE-3203-4883-89C7-95728BA4914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AA7C-0260-4142-87B9-F5EBB140D96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35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37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9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40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1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42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4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45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47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9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50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1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52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55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6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57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60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1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62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4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75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76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8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79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1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84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85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88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0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93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94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97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603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5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606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608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611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613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5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616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620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24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49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54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57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60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63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66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68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0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71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73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76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7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78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81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83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87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89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1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92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3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94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97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99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1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702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719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2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3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4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5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6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2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3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4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5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6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54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80040" cy="3419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2" descr=""/>
          <p:cNvPicPr/>
          <p:nvPr/>
        </p:nvPicPr>
        <p:blipFill>
          <a:blip r:embed="rId2"/>
          <a:stretch/>
        </p:blipFill>
        <p:spPr>
          <a:xfrm>
            <a:off x="6100920" y="792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3" descr=""/>
          <p:cNvPicPr/>
          <p:nvPr/>
        </p:nvPicPr>
        <p:blipFill>
          <a:blip r:embed="rId3"/>
          <a:stretch/>
        </p:blipFill>
        <p:spPr>
          <a:xfrm>
            <a:off x="9151920" y="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4" descr=""/>
          <p:cNvPicPr/>
          <p:nvPr/>
        </p:nvPicPr>
        <p:blipFill>
          <a:blip r:embed="rId4"/>
          <a:stretch/>
        </p:blipFill>
        <p:spPr>
          <a:xfrm>
            <a:off x="610236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5" descr=""/>
          <p:cNvPicPr/>
          <p:nvPr/>
        </p:nvPicPr>
        <p:blipFill>
          <a:blip r:embed="rId5"/>
          <a:stretch/>
        </p:blipFill>
        <p:spPr>
          <a:xfrm>
            <a:off x="915192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6" descr=""/>
          <p:cNvPicPr/>
          <p:nvPr/>
        </p:nvPicPr>
        <p:blipFill>
          <a:blip r:embed="rId6"/>
          <a:stretch/>
        </p:blipFill>
        <p:spPr>
          <a:xfrm>
            <a:off x="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7" descr=""/>
          <p:cNvPicPr/>
          <p:nvPr/>
        </p:nvPicPr>
        <p:blipFill>
          <a:blip r:embed="rId7"/>
          <a:stretch/>
        </p:blipFill>
        <p:spPr>
          <a:xfrm>
            <a:off x="305748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8" descr=""/>
          <p:cNvPicPr/>
          <p:nvPr/>
        </p:nvPicPr>
        <p:blipFill>
          <a:blip r:embed="rId8"/>
          <a:stretch/>
        </p:blipFill>
        <p:spPr>
          <a:xfrm>
            <a:off x="61117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9" descr=""/>
          <p:cNvPicPr/>
          <p:nvPr/>
        </p:nvPicPr>
        <p:blipFill>
          <a:blip r:embed="rId9"/>
          <a:stretch/>
        </p:blipFill>
        <p:spPr>
          <a:xfrm>
            <a:off x="91519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10" descr=""/>
          <p:cNvPicPr/>
          <p:nvPr/>
        </p:nvPicPr>
        <p:blipFill>
          <a:blip r:embed="rId10"/>
          <a:stretch/>
        </p:blipFill>
        <p:spPr>
          <a:xfrm>
            <a:off x="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11" descr=""/>
          <p:cNvPicPr/>
          <p:nvPr/>
        </p:nvPicPr>
        <p:blipFill>
          <a:blip r:embed="rId11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2" descr=""/>
          <p:cNvPicPr/>
          <p:nvPr/>
        </p:nvPicPr>
        <p:blipFill>
          <a:blip r:embed="rId12"/>
          <a:stretch/>
        </p:blipFill>
        <p:spPr>
          <a:xfrm>
            <a:off x="610092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13" descr=""/>
          <p:cNvPicPr/>
          <p:nvPr/>
        </p:nvPicPr>
        <p:blipFill>
          <a:blip r:embed="rId13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802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"/>
          <p:cNvPicPr/>
          <p:nvPr/>
        </p:nvPicPr>
        <p:blipFill>
          <a:blip r:embed="rId1"/>
          <a:stretch/>
        </p:blipFill>
        <p:spPr>
          <a:xfrm>
            <a:off x="6080040" y="-4680"/>
            <a:ext cx="6112080" cy="343836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2" descr=""/>
          <p:cNvPicPr/>
          <p:nvPr/>
        </p:nvPicPr>
        <p:blipFill>
          <a:blip r:embed="rId2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3" descr=""/>
          <p:cNvPicPr/>
          <p:nvPr/>
        </p:nvPicPr>
        <p:blipFill>
          <a:blip r:embed="rId3"/>
          <a:stretch/>
        </p:blipFill>
        <p:spPr>
          <a:xfrm>
            <a:off x="0" y="342108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4" descr=""/>
          <p:cNvPicPr/>
          <p:nvPr/>
        </p:nvPicPr>
        <p:blipFill>
          <a:blip r:embed="rId4"/>
          <a:stretch/>
        </p:blipFill>
        <p:spPr>
          <a:xfrm>
            <a:off x="302436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5" descr=""/>
          <p:cNvPicPr/>
          <p:nvPr/>
        </p:nvPicPr>
        <p:blipFill>
          <a:blip r:embed="rId5"/>
          <a:stretch/>
        </p:blipFill>
        <p:spPr>
          <a:xfrm>
            <a:off x="608652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6" descr=""/>
          <p:cNvPicPr/>
          <p:nvPr/>
        </p:nvPicPr>
        <p:blipFill>
          <a:blip r:embed="rId6"/>
          <a:stretch/>
        </p:blipFill>
        <p:spPr>
          <a:xfrm>
            <a:off x="9151920" y="3438360"/>
            <a:ext cx="3040200" cy="171000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7" descr=""/>
          <p:cNvPicPr/>
          <p:nvPr/>
        </p:nvPicPr>
        <p:blipFill>
          <a:blip r:embed="rId7"/>
          <a:stretch/>
        </p:blipFill>
        <p:spPr>
          <a:xfrm>
            <a:off x="0" y="5140440"/>
            <a:ext cx="3040200" cy="171108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8" descr=""/>
          <p:cNvPicPr/>
          <p:nvPr/>
        </p:nvPicPr>
        <p:blipFill>
          <a:blip r:embed="rId8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9" descr=""/>
          <p:cNvPicPr/>
          <p:nvPr/>
        </p:nvPicPr>
        <p:blipFill>
          <a:blip r:embed="rId9"/>
          <a:stretch/>
        </p:blipFill>
        <p:spPr>
          <a:xfrm>
            <a:off x="609588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10" descr=""/>
          <p:cNvPicPr/>
          <p:nvPr/>
        </p:nvPicPr>
        <p:blipFill>
          <a:blip r:embed="rId10"/>
          <a:stretch/>
        </p:blipFill>
        <p:spPr>
          <a:xfrm>
            <a:off x="0" y="0"/>
            <a:ext cx="6064200" cy="341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99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501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504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5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506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8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509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0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511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3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3-03T09:23:01Z</dcterms:modified>
  <cp:revision>78</cp:revision>
  <dc:subject/>
  <dc:title>PowerPoint 演示文稿</dc:title>
</cp:coreProperties>
</file>