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395E-D1CB-472C-9F99-49866EFA74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D38-C5AA-474F-AAB1-F2AB0BDA84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9EDD-07FF-4FB3-ACE8-25D29419C2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BE6-EA4F-4309-90CB-021515F7A2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5FDE-A75B-4BB1-96F5-703BA7A9C5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69F-05C4-4A3B-BF4E-73428EC1B4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71E-0E6A-4314-9B14-6E81FD097E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9AA0-478C-434A-9A00-41E7D4004D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2AD-CB59-4910-9AB5-E56C410C09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82D3-B500-4D05-A141-1A6318A710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5D5D-4804-4731-8125-EF656F5AB1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F65-0770-434D-A454-8A0F828C7C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AC25-DFDE-470D-A759-7DFAE28BE9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693-B1F1-4D66-B564-1E06BE5A56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E63A-AE22-4D79-97E8-ED3A166B11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6ADB-A267-4C48-A364-BE2E572E0B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DC3-2A0C-4B0D-8298-665AE8ECCA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3B2-580E-4910-8E7F-44ABF65900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ACBD-E452-49EB-9656-700F78D6B5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281-67EA-42C7-AA03-901E3F4F0B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25CE-09F5-41FE-9972-2777411198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44A-0D3D-4E0D-806D-E878F99D91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30B-676D-4CAD-81A8-B4409868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539-E6A4-4594-8AC3-D9F9024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0EFD5-A33C-4E87-BFB7-1B8F33E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0D334-9010-4F1E-ACA7-6363719F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AF9C7-A65E-4F62-96E1-45285A4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EBDBD-8617-444C-9EC7-E6CD6DC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833F0-A736-4239-BEC1-2268DD8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FBF08-98C2-4779-90CA-F0987A07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F7723-FC3E-4A24-B4A6-3C73FD1D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D93A-A9D1-4ADA-A3DD-81D40281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B43B0-8B3F-4BC5-BD6F-91E20A4D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98B2-C0B1-4F98-993A-95A63310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012-4824-49BE-99E8-F2DEDD87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EC971-5499-482A-A25F-76B0638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F400A-34C2-45E8-83A2-82773C4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CF99F-FA40-48C6-97DE-5DFE9758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72470-465B-4540-A27E-60F424E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CDD15-8520-41E4-90A9-88B2CC1B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6CBFC-F3F4-49F6-91CD-2A888F0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E9A61-C96A-49F4-9A24-E4FAB987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3E216-ED75-443A-9A7F-591B891B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DAF15-5898-4E6B-8060-6A514FD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2A8AC-1C9B-4F5B-89FC-E9CE6266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0D3-9911-4E67-BDB5-E8AB0E79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6239B-3941-4A85-AC5B-DA4671BF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9B20E-DD54-4A22-AD62-880A9B72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52548-5658-41CE-82FA-F53635F5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AE314-ACA0-4529-AE9A-67D39F51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49278-0D1A-417B-96C5-7DC1D8DE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7068B-D965-4261-8237-742D6119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12645-1B50-46E2-9F2B-44E7387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5489-546C-41E9-A025-1CDA61A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D375F-6F7F-47AE-96B4-BFE6ED7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12225-775D-451B-9390-7F90E9A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D8AB-4598-4B07-9353-5D65144C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F20D3-AEFB-4259-B42A-CFA3C14D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89C14-EAD3-42F9-A722-DC47DE72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2F98B-4336-4E34-9702-21DBB58E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03EC-A4BD-495B-8973-6E363872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88EA-F63B-476E-8255-EC73599A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930-FDDB-456A-8934-2C90EB3C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0CE0-8A31-4A4A-9151-688ED23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C66B-DD8A-4E62-99EE-548F6DB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3EE2-71D3-4413-B011-FF1C4B4A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C50-413C-4018-BCF7-71C12AB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BB1-5C37-42E6-B282-DBC7EF9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4B32-6BA8-4928-B683-D7F7C1A4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6F7B-A15F-4ECF-B19B-AF2AF839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1BF-179B-49E8-9376-B324FC75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A23B-E2C2-4CDD-B70B-67FFD8BC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B52C-F234-48CD-960F-232BECF0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34F5-DD8E-475D-A09E-9333E06D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D674-40CF-4928-A778-2A724FDD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02F7-6D19-4FA8-80C8-B954E69B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C16E-ACF5-4DDD-97C0-338A939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624-B331-483B-BA6E-9FF6C884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672C-DADA-48BC-BE97-258DA1A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5965-6DBB-4B63-893B-8447296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A4AE-90C3-45F0-A4E0-C713E24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610E-D568-4B0A-B1FA-348AE8EA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5180-E706-467B-958B-74F70E2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A114-0A79-4FDF-8FC6-CDF40861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CE21-0866-4DB2-B14F-8BD01899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43B3-2D88-4D2A-8913-A8456B22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71593-07BB-49D9-82B5-A63AE104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E71B-165F-459E-9E53-C103C96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53A-2D54-4016-B393-57901F6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FA7B-D30D-4444-B6C4-F27D5C7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31A8-C8E9-4AFD-BC3D-8A2F1D05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7EE2-AF01-4482-AAE5-8D225A3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6B9F-A418-4944-8B44-B29BD11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F03F-A0F8-4505-86DA-ADA7AE76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AC69-2BC0-42D3-AFA9-0CDB2FA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7C37-87CA-4776-A43D-DF1FA8E8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5304-0407-4565-8E76-24934AB6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8D2F-FB2C-46CA-AA28-2CC432C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BD833-71D8-4554-912D-0AB9B342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ED3-6260-4002-9B21-FA3B67A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28A6-8987-4D6E-8023-901698E2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A093-9FD1-4070-BEC1-26FAA8A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1A7A-69A8-416B-A29E-72FDDC42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473A-2B4E-4262-9062-DF4D5A2C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7747-C8E9-4F9E-90B7-D074BB5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DCB6-FCC9-4033-883D-02092EF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8470-1D4B-4FB6-85DB-4319595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D23F-7E1A-4AA1-857F-626BBC9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B31E-FA43-4EE0-91B7-B4CC6685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4973-DB31-4404-ADEB-D2B91475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532-62E6-4C88-8778-F35D8779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8C97-FEF1-47FC-85AA-666D0430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F9FE3-EC7D-4F51-A8A5-5F952AAD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2935-E0DC-499B-91A6-92DA090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E4EB-0FBE-4D6B-B56B-AA2A979D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976E-68CE-4C23-A93D-318AE3D3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0C4E-8246-499E-80B9-78876141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4795-0284-4769-92A9-8838B820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274B-E739-4877-A9F5-183AD34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E563-7351-4DE9-8D15-FF77BF6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60477-40AD-4356-8B50-E400A19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959-B6A2-4B3C-9760-2A2EF79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A511D-9F97-41D8-92BA-2CCB9518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27BF6-EEBA-464E-A03C-FDABAB65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3AD2-2646-43DF-816D-068FAE9C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3F7E-A48D-4231-A162-5AF2BFF6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840D7-6EA4-4820-916B-22C3CAF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0274-64CF-4DE2-8006-D3418077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0BC2A-4BBA-4CDA-82D0-BA83C64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95A3-6561-4FFB-B684-300C6F71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B717-5D67-471B-AF1F-0E47787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224F-B0CC-4A39-BE11-2113217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AC7-65C9-4F61-B4FE-0D65348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E360-2233-4C01-B7DE-0D62BDB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F30B4-B9AA-4E32-BA43-2AD08CE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4C04-C057-4CD9-B046-38F39A8C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2FF96-B54E-488F-A338-622CACA3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B9C9-4619-47B4-827F-CB04CF11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D572F-A0DC-40AB-BEA2-CBA628FE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5CD0-B922-44F0-B2AD-B727C591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C369D-6A4D-4585-918D-F5FCAD2A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FEB7A-1A5A-4374-B031-967ACE2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B82D9-B626-461A-99AE-A30C02BA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46F-E24A-457C-B2C2-9DCA2FB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2CFEE-9548-4CBE-A57F-3B7BCDD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FD42-AB29-4FBB-AD76-0FCACD8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28A35-7798-49B5-89DD-BC5BBE2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BE8F8-408F-4916-8E15-7AB60FC1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F33F-A7E8-45EB-AA32-F150A13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86F1-344B-459F-A10E-A6C02729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4117-0DAC-41A3-B9F3-F37E4C33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8467-A1AD-444F-8A9F-995891BB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FF9D-B1E2-4D13-8284-B43A214A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4EBF-33CA-47A0-8FE6-61D917D6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39FC-9DAF-46F9-9247-65FB8AA256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7A5-3B59-46EC-96A8-72BAAFB52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212-8B04-4AFF-B8B0-37B9285958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6CA-FEE3-451D-AC41-B961D601F8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5E8-C5CE-4310-B480-97FE061E9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17F4-4D52-4FCB-AE56-EEEBF438E6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BB83-D78B-49AF-916C-288BE60F99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BE89-8564-4404-AEAC-717885C8BF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5F94-E3F0-40D7-A4C9-E92E9A0F2F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C839-1527-4631-8684-80062BE8A1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C1A-0293-484F-945A-4D54E8716E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任意多边形 50"/>
          <p:cNvSpPr/>
          <p:nvPr/>
        </p:nvSpPr>
        <p:spPr>
          <a:xfrm>
            <a:off x="5456160" y="2419200"/>
            <a:ext cx="4492800" cy="2922840"/>
          </a:xfrm>
          <a:custGeom>
            <a:avLst/>
            <a:gdLst/>
            <a:ahLst/>
            <a:rect l="l" t="t" r="r" b="b"/>
            <a:pathLst>
              <a:path w="5057776" h="3290711">
                <a:moveTo>
                  <a:pt x="117284" y="0"/>
                </a:moveTo>
                <a:lnTo>
                  <a:pt x="4940492" y="0"/>
                </a:lnTo>
                <a:lnTo>
                  <a:pt x="4944082" y="9809"/>
                </a:lnTo>
                <a:cubicBezTo>
                  <a:pt x="5017972" y="247370"/>
                  <a:pt x="5057776" y="499948"/>
                  <a:pt x="5057776" y="761823"/>
                </a:cubicBezTo>
                <a:cubicBezTo>
                  <a:pt x="5057776" y="2158489"/>
                  <a:pt x="3925554" y="3290711"/>
                  <a:pt x="2528888" y="3290711"/>
                </a:cubicBezTo>
                <a:cubicBezTo>
                  <a:pt x="1132222" y="3290711"/>
                  <a:pt x="0" y="2158489"/>
                  <a:pt x="0" y="761823"/>
                </a:cubicBezTo>
                <a:cubicBezTo>
                  <a:pt x="0" y="499948"/>
                  <a:pt x="39805" y="247370"/>
                  <a:pt x="113694" y="9809"/>
                </a:cubicBezTo>
                <a:lnTo>
                  <a:pt x="117284" y="0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接连接符 8"/>
          <p:cNvSpPr/>
          <p:nvPr/>
        </p:nvSpPr>
        <p:spPr>
          <a:xfrm flipH="1">
            <a:off x="1314000" y="0"/>
            <a:ext cx="1752840" cy="175248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直接连接符 9"/>
          <p:cNvSpPr/>
          <p:nvPr/>
        </p:nvSpPr>
        <p:spPr>
          <a:xfrm flipH="1">
            <a:off x="1509840" y="-19080"/>
            <a:ext cx="1752480" cy="17524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接连接符 10"/>
          <p:cNvSpPr/>
          <p:nvPr/>
        </p:nvSpPr>
        <p:spPr>
          <a:xfrm flipH="1">
            <a:off x="914400" y="-57240"/>
            <a:ext cx="2720880" cy="2743200"/>
          </a:xfrm>
          <a:prstGeom prst="line">
            <a:avLst/>
          </a:prstGeom>
          <a:ln w="7632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接连接符 12"/>
          <p:cNvSpPr/>
          <p:nvPr/>
        </p:nvSpPr>
        <p:spPr>
          <a:xfrm flipH="1">
            <a:off x="2336760" y="-57240"/>
            <a:ext cx="1581120" cy="1581120"/>
          </a:xfrm>
          <a:prstGeom prst="line">
            <a:avLst/>
          </a:prstGeom>
          <a:ln w="38160">
            <a:solidFill>
              <a:srgbClr val="12b1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直接连接符 17"/>
          <p:cNvSpPr/>
          <p:nvPr/>
        </p:nvSpPr>
        <p:spPr>
          <a:xfrm flipH="1">
            <a:off x="3742920" y="-28440"/>
            <a:ext cx="2678040" cy="275400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19"/>
          <p:cNvSpPr/>
          <p:nvPr/>
        </p:nvSpPr>
        <p:spPr>
          <a:xfrm>
            <a:off x="1138320" y="2743200"/>
            <a:ext cx="743040" cy="743040"/>
          </a:xfrm>
          <a:prstGeom prst="ellipse">
            <a:avLst/>
          </a:prstGeom>
          <a:solidFill>
            <a:srgbClr val="45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 20"/>
          <p:cNvSpPr/>
          <p:nvPr/>
        </p:nvSpPr>
        <p:spPr>
          <a:xfrm>
            <a:off x="600120" y="3287880"/>
            <a:ext cx="371520" cy="371160"/>
          </a:xfrm>
          <a:prstGeom prst="ellipse">
            <a:avLst/>
          </a:prstGeom>
          <a:solidFill>
            <a:srgbClr val="3d0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直接连接符 23"/>
          <p:cNvSpPr/>
          <p:nvPr/>
        </p:nvSpPr>
        <p:spPr>
          <a:xfrm flipH="1">
            <a:off x="0" y="5246640"/>
            <a:ext cx="735120" cy="62856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直接连接符 25"/>
          <p:cNvSpPr/>
          <p:nvPr/>
        </p:nvSpPr>
        <p:spPr>
          <a:xfrm flipH="1">
            <a:off x="-86040" y="4672080"/>
            <a:ext cx="1041480" cy="8841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接连接符 26"/>
          <p:cNvSpPr/>
          <p:nvPr/>
        </p:nvSpPr>
        <p:spPr>
          <a:xfrm flipH="1">
            <a:off x="450720" y="5661000"/>
            <a:ext cx="1446480" cy="125424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角三角形 28"/>
          <p:cNvSpPr/>
          <p:nvPr/>
        </p:nvSpPr>
        <p:spPr>
          <a:xfrm flipH="1" rot="1223400">
            <a:off x="2452320" y="5208480"/>
            <a:ext cx="364680" cy="447840"/>
          </a:xfrm>
          <a:prstGeom prst="rtTriangle">
            <a:avLst/>
          </a:prstGeom>
          <a:solidFill>
            <a:srgbClr val="33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直角三角形 29"/>
          <p:cNvSpPr/>
          <p:nvPr/>
        </p:nvSpPr>
        <p:spPr>
          <a:xfrm rot="3958800">
            <a:off x="3271320" y="4135320"/>
            <a:ext cx="218880" cy="3459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直接连接符 32"/>
          <p:cNvSpPr/>
          <p:nvPr/>
        </p:nvSpPr>
        <p:spPr>
          <a:xfrm flipH="1">
            <a:off x="10526760" y="-71280"/>
            <a:ext cx="1125360" cy="111420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接连接符 34"/>
          <p:cNvSpPr/>
          <p:nvPr/>
        </p:nvSpPr>
        <p:spPr>
          <a:xfrm flipH="1">
            <a:off x="9890280" y="-28440"/>
            <a:ext cx="2063520" cy="21412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接连接符 36"/>
          <p:cNvSpPr/>
          <p:nvPr/>
        </p:nvSpPr>
        <p:spPr>
          <a:xfrm flipH="1">
            <a:off x="11552040" y="0"/>
            <a:ext cx="655560" cy="66996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38"/>
          <p:cNvSpPr/>
          <p:nvPr/>
        </p:nvSpPr>
        <p:spPr>
          <a:xfrm flipH="1">
            <a:off x="11174040" y="206280"/>
            <a:ext cx="1033560" cy="103212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42"/>
          <p:cNvGrpSpPr/>
          <p:nvPr/>
        </p:nvGrpSpPr>
        <p:grpSpPr>
          <a:xfrm>
            <a:off x="1834920" y="4383000"/>
            <a:ext cx="1028880" cy="905400"/>
            <a:chOff x="1834920" y="4383000"/>
            <a:chExt cx="1028880" cy="905400"/>
          </a:xfrm>
        </p:grpSpPr>
        <p:sp>
          <p:nvSpPr>
            <p:cNvPr id="514" name="直角三角形 40"/>
            <p:cNvSpPr/>
            <p:nvPr/>
          </p:nvSpPr>
          <p:spPr>
            <a:xfrm rot="4251600">
              <a:off x="2235600" y="4558320"/>
              <a:ext cx="331200" cy="86364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直角三角形 41"/>
            <p:cNvSpPr/>
            <p:nvPr/>
          </p:nvSpPr>
          <p:spPr>
            <a:xfrm flipH="1" rot="4251600">
              <a:off x="2131560" y="4249080"/>
              <a:ext cx="331200" cy="86364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组合 43"/>
          <p:cNvGrpSpPr/>
          <p:nvPr/>
        </p:nvGrpSpPr>
        <p:grpSpPr>
          <a:xfrm>
            <a:off x="9539640" y="533520"/>
            <a:ext cx="826560" cy="781920"/>
            <a:chOff x="9539640" y="533520"/>
            <a:chExt cx="826560" cy="781920"/>
          </a:xfrm>
        </p:grpSpPr>
        <p:sp>
          <p:nvSpPr>
            <p:cNvPr id="517" name="直角三角形 44"/>
            <p:cNvSpPr/>
            <p:nvPr/>
          </p:nvSpPr>
          <p:spPr>
            <a:xfrm rot="3506400">
              <a:off x="9892440" y="703080"/>
              <a:ext cx="250560" cy="66348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直角三角形 45"/>
            <p:cNvSpPr/>
            <p:nvPr/>
          </p:nvSpPr>
          <p:spPr>
            <a:xfrm flipH="1" rot="3506400">
              <a:off x="9761760" y="482760"/>
              <a:ext cx="252360" cy="66348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组合 60"/>
          <p:cNvGrpSpPr/>
          <p:nvPr/>
        </p:nvGrpSpPr>
        <p:grpSpPr>
          <a:xfrm>
            <a:off x="4681440" y="3543480"/>
            <a:ext cx="6335640" cy="2212560"/>
            <a:chOff x="4681440" y="3543480"/>
            <a:chExt cx="6335640" cy="2212560"/>
          </a:xfrm>
        </p:grpSpPr>
        <p:sp>
          <p:nvSpPr>
            <p:cNvPr id="520" name="文本框 61"/>
            <p:cNvSpPr/>
            <p:nvPr/>
          </p:nvSpPr>
          <p:spPr>
            <a:xfrm>
              <a:off x="4681440" y="3543480"/>
              <a:ext cx="6335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简约商务风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文本框 62"/>
            <p:cNvSpPr/>
            <p:nvPr/>
          </p:nvSpPr>
          <p:spPr>
            <a:xfrm>
              <a:off x="4705920" y="4839120"/>
              <a:ext cx="616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实用</a:t>
              </a:r>
              <a:r>
                <a:rPr b="1" lang="en-US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模板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文本框 62"/>
          <p:cNvSpPr/>
          <p:nvPr/>
        </p:nvSpPr>
        <p:spPr>
          <a:xfrm>
            <a:off x="6978600" y="1733400"/>
            <a:ext cx="1316160" cy="5205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 Light"/>
                <a:ea typeface="微软雅黑 Light"/>
              </a:rPr>
              <a:t>千库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62"/>
          <p:cNvSpPr/>
          <p:nvPr/>
        </p:nvSpPr>
        <p:spPr>
          <a:xfrm>
            <a:off x="6605640" y="263988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4096"/>
          <p:cNvSpPr/>
          <p:nvPr/>
        </p:nvSpPr>
        <p:spPr>
          <a:xfrm>
            <a:off x="4114800" y="2127240"/>
            <a:ext cx="169236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4113"/>
          <p:cNvSpPr/>
          <p:nvPr/>
        </p:nvSpPr>
        <p:spPr>
          <a:xfrm>
            <a:off x="1835280" y="2127240"/>
            <a:ext cx="169056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4114"/>
          <p:cNvSpPr/>
          <p:nvPr/>
        </p:nvSpPr>
        <p:spPr>
          <a:xfrm>
            <a:off x="8618400" y="2127240"/>
            <a:ext cx="169092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4115"/>
          <p:cNvSpPr/>
          <p:nvPr/>
        </p:nvSpPr>
        <p:spPr>
          <a:xfrm>
            <a:off x="6353280" y="2127240"/>
            <a:ext cx="169200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24"/>
          <p:cNvSpPr/>
          <p:nvPr/>
        </p:nvSpPr>
        <p:spPr>
          <a:xfrm>
            <a:off x="2230560" y="2546280"/>
            <a:ext cx="90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25"/>
          <p:cNvSpPr/>
          <p:nvPr/>
        </p:nvSpPr>
        <p:spPr>
          <a:xfrm>
            <a:off x="4510080" y="2546280"/>
            <a:ext cx="90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26"/>
          <p:cNvSpPr/>
          <p:nvPr/>
        </p:nvSpPr>
        <p:spPr>
          <a:xfrm>
            <a:off x="6740640" y="2546280"/>
            <a:ext cx="90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7"/>
          <p:cNvSpPr/>
          <p:nvPr/>
        </p:nvSpPr>
        <p:spPr>
          <a:xfrm>
            <a:off x="9021600" y="2546280"/>
            <a:ext cx="90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11"/>
          <p:cNvGrpSpPr/>
          <p:nvPr/>
        </p:nvGrpSpPr>
        <p:grpSpPr>
          <a:xfrm>
            <a:off x="1511280" y="4164120"/>
            <a:ext cx="2338560" cy="714600"/>
            <a:chOff x="1511280" y="4164120"/>
            <a:chExt cx="2338560" cy="714600"/>
          </a:xfrm>
        </p:grpSpPr>
        <p:sp>
          <p:nvSpPr>
            <p:cNvPr id="696" name="TextBox 13@|17FFC:16777215|FBC:16777215|LFC:16777215|LBC:16777215"/>
            <p:cNvSpPr/>
            <p:nvPr/>
          </p:nvSpPr>
          <p:spPr>
            <a:xfrm>
              <a:off x="1511280" y="416412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@|17FFC:16777215|FBC:16777215|LFC:16777215|LBC:16777215"/>
            <p:cNvSpPr/>
            <p:nvPr/>
          </p:nvSpPr>
          <p:spPr>
            <a:xfrm>
              <a:off x="2062080" y="4513320"/>
              <a:ext cx="1384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4"/>
          <p:cNvGrpSpPr/>
          <p:nvPr/>
        </p:nvGrpSpPr>
        <p:grpSpPr>
          <a:xfrm>
            <a:off x="3792600" y="4164120"/>
            <a:ext cx="2338200" cy="714600"/>
            <a:chOff x="3792600" y="4164120"/>
            <a:chExt cx="2338200" cy="714600"/>
          </a:xfrm>
        </p:grpSpPr>
        <p:sp>
          <p:nvSpPr>
            <p:cNvPr id="699" name="TextBox 13@|17FFC:16777215|FBC:16777215|LFC:16777215|LBC:16777215"/>
            <p:cNvSpPr/>
            <p:nvPr/>
          </p:nvSpPr>
          <p:spPr>
            <a:xfrm>
              <a:off x="3792600" y="416412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@|17FFC:16777215|FBC:16777215|LFC:16777215|LBC:16777215"/>
            <p:cNvSpPr/>
            <p:nvPr/>
          </p:nvSpPr>
          <p:spPr>
            <a:xfrm>
              <a:off x="4343400" y="4513320"/>
              <a:ext cx="1384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17"/>
          <p:cNvGrpSpPr/>
          <p:nvPr/>
        </p:nvGrpSpPr>
        <p:grpSpPr>
          <a:xfrm>
            <a:off x="6022800" y="4164120"/>
            <a:ext cx="2337120" cy="714600"/>
            <a:chOff x="6022800" y="4164120"/>
            <a:chExt cx="2337120" cy="714600"/>
          </a:xfrm>
        </p:grpSpPr>
        <p:sp>
          <p:nvSpPr>
            <p:cNvPr id="702" name="TextBox 13@|17FFC:16777215|FBC:16777215|LFC:16777215|LBC:16777215"/>
            <p:cNvSpPr/>
            <p:nvPr/>
          </p:nvSpPr>
          <p:spPr>
            <a:xfrm>
              <a:off x="6022800" y="4164120"/>
              <a:ext cx="233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@|17FFC:16777215|FBC:16777215|LFC:16777215|LBC:16777215"/>
            <p:cNvSpPr/>
            <p:nvPr/>
          </p:nvSpPr>
          <p:spPr>
            <a:xfrm>
              <a:off x="6572160" y="4513320"/>
              <a:ext cx="1384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20"/>
          <p:cNvGrpSpPr/>
          <p:nvPr/>
        </p:nvGrpSpPr>
        <p:grpSpPr>
          <a:xfrm>
            <a:off x="8302680" y="4164120"/>
            <a:ext cx="2338200" cy="714600"/>
            <a:chOff x="8302680" y="4164120"/>
            <a:chExt cx="2338200" cy="714600"/>
          </a:xfrm>
        </p:grpSpPr>
        <p:sp>
          <p:nvSpPr>
            <p:cNvPr id="705" name="TextBox 13@|17FFC:16777215|FBC:16777215|LFC:16777215|LBC:16777215"/>
            <p:cNvSpPr/>
            <p:nvPr/>
          </p:nvSpPr>
          <p:spPr>
            <a:xfrm>
              <a:off x="8302680" y="416412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关键词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@|17FFC:16777215|FBC:16777215|LFC:16777215|LBC:16777215"/>
            <p:cNvSpPr/>
            <p:nvPr/>
          </p:nvSpPr>
          <p:spPr>
            <a:xfrm>
              <a:off x="8853480" y="4513320"/>
              <a:ext cx="1384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2"/>
          <p:cNvSpPr/>
          <p:nvPr/>
        </p:nvSpPr>
        <p:spPr>
          <a:xfrm>
            <a:off x="0" y="3130560"/>
            <a:ext cx="12179160" cy="290340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Hexagon 43"/>
          <p:cNvSpPr/>
          <p:nvPr/>
        </p:nvSpPr>
        <p:spPr>
          <a:xfrm>
            <a:off x="619200" y="3575160"/>
            <a:ext cx="1319040" cy="1136520"/>
          </a:xfrm>
          <a:prstGeom prst="hexagon">
            <a:avLst>
              <a:gd name="adj" fmla="val 25001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13"/>
          <p:cNvSpPr/>
          <p:nvPr/>
        </p:nvSpPr>
        <p:spPr>
          <a:xfrm>
            <a:off x="927000" y="3917880"/>
            <a:ext cx="703440" cy="42084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Hexagon 46"/>
          <p:cNvSpPr/>
          <p:nvPr/>
        </p:nvSpPr>
        <p:spPr>
          <a:xfrm>
            <a:off x="2984400" y="3575160"/>
            <a:ext cx="1317600" cy="1136520"/>
          </a:xfrm>
          <a:prstGeom prst="hexagon">
            <a:avLst>
              <a:gd name="adj" fmla="val 25001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76"/>
          <p:cNvSpPr/>
          <p:nvPr/>
        </p:nvSpPr>
        <p:spPr>
          <a:xfrm>
            <a:off x="3446640" y="3811680"/>
            <a:ext cx="393480" cy="527040"/>
          </a:xfrm>
          <a:custGeom>
            <a:avLst/>
            <a:gdLst/>
            <a:ahLst/>
            <a:rect l="l" t="t" r="r" b="b"/>
            <a:pathLst>
              <a:path w="199" h="268">
                <a:moveTo>
                  <a:pt x="166" y="135"/>
                </a:moveTo>
                <a:cubicBezTo>
                  <a:pt x="166" y="65"/>
                  <a:pt x="166" y="65"/>
                  <a:pt x="166" y="65"/>
                </a:cubicBezTo>
                <a:cubicBezTo>
                  <a:pt x="166" y="33"/>
                  <a:pt x="143" y="0"/>
                  <a:pt x="99" y="0"/>
                </a:cubicBezTo>
                <a:cubicBezTo>
                  <a:pt x="55" y="0"/>
                  <a:pt x="32" y="33"/>
                  <a:pt x="32" y="65"/>
                </a:cubicBezTo>
                <a:cubicBezTo>
                  <a:pt x="32" y="108"/>
                  <a:pt x="32" y="108"/>
                  <a:pt x="32" y="108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65"/>
                  <a:pt x="60" y="65"/>
                  <a:pt x="60" y="65"/>
                </a:cubicBezTo>
                <a:cubicBezTo>
                  <a:pt x="60" y="47"/>
                  <a:pt x="73" y="28"/>
                  <a:pt x="99" y="28"/>
                </a:cubicBezTo>
                <a:cubicBezTo>
                  <a:pt x="125" y="28"/>
                  <a:pt x="138" y="47"/>
                  <a:pt x="138" y="65"/>
                </a:cubicBezTo>
                <a:cubicBezTo>
                  <a:pt x="138" y="135"/>
                  <a:pt x="138" y="135"/>
                  <a:pt x="138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0" y="268"/>
                  <a:pt x="0" y="268"/>
                  <a:pt x="0" y="268"/>
                </a:cubicBezTo>
                <a:cubicBezTo>
                  <a:pt x="199" y="268"/>
                  <a:pt x="199" y="268"/>
                  <a:pt x="199" y="268"/>
                </a:cubicBezTo>
                <a:cubicBezTo>
                  <a:pt x="199" y="135"/>
                  <a:pt x="199" y="135"/>
                  <a:pt x="199" y="135"/>
                </a:cubicBezTo>
                <a:lnTo>
                  <a:pt x="166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Hexagon 49"/>
          <p:cNvSpPr/>
          <p:nvPr/>
        </p:nvSpPr>
        <p:spPr>
          <a:xfrm>
            <a:off x="5348160" y="3575160"/>
            <a:ext cx="1317600" cy="1136520"/>
          </a:xfrm>
          <a:prstGeom prst="hexagon">
            <a:avLst>
              <a:gd name="adj" fmla="val 25001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14"/>
          <p:cNvSpPr/>
          <p:nvPr/>
        </p:nvSpPr>
        <p:spPr>
          <a:xfrm>
            <a:off x="5872320" y="3851280"/>
            <a:ext cx="303120" cy="5857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Hexagon 50"/>
          <p:cNvSpPr/>
          <p:nvPr/>
        </p:nvSpPr>
        <p:spPr>
          <a:xfrm>
            <a:off x="7711920" y="3575160"/>
            <a:ext cx="1317960" cy="1136520"/>
          </a:xfrm>
          <a:prstGeom prst="hexagon">
            <a:avLst>
              <a:gd name="adj" fmla="val 25007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84"/>
          <p:cNvSpPr/>
          <p:nvPr/>
        </p:nvSpPr>
        <p:spPr>
          <a:xfrm>
            <a:off x="8124840" y="3882960"/>
            <a:ext cx="492120" cy="49068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3" y="223"/>
                </a:moveTo>
                <a:cubicBezTo>
                  <a:pt x="276" y="219"/>
                  <a:pt x="275" y="213"/>
                  <a:pt x="272" y="209"/>
                </a:cubicBezTo>
                <a:cubicBezTo>
                  <a:pt x="271" y="209"/>
                  <a:pt x="271" y="209"/>
                  <a:pt x="270" y="208"/>
                </a:cubicBezTo>
                <a:cubicBezTo>
                  <a:pt x="270" y="208"/>
                  <a:pt x="270" y="208"/>
                  <a:pt x="270" y="208"/>
                </a:cubicBezTo>
                <a:cubicBezTo>
                  <a:pt x="212" y="167"/>
                  <a:pt x="212" y="167"/>
                  <a:pt x="212" y="167"/>
                </a:cubicBezTo>
                <a:cubicBezTo>
                  <a:pt x="212" y="167"/>
                  <a:pt x="212" y="167"/>
                  <a:pt x="212" y="167"/>
                </a:cubicBezTo>
                <a:cubicBezTo>
                  <a:pt x="208" y="164"/>
                  <a:pt x="203" y="164"/>
                  <a:pt x="199" y="168"/>
                </a:cubicBezTo>
                <a:cubicBezTo>
                  <a:pt x="199" y="168"/>
                  <a:pt x="199" y="168"/>
                  <a:pt x="198" y="169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98" y="169"/>
                  <a:pt x="198" y="169"/>
                  <a:pt x="198" y="170"/>
                </a:cubicBezTo>
                <a:cubicBezTo>
                  <a:pt x="194" y="175"/>
                  <a:pt x="194" y="176"/>
                  <a:pt x="191" y="181"/>
                </a:cubicBezTo>
                <a:cubicBezTo>
                  <a:pt x="186" y="188"/>
                  <a:pt x="181" y="199"/>
                  <a:pt x="176" y="211"/>
                </a:cubicBezTo>
                <a:cubicBezTo>
                  <a:pt x="160" y="208"/>
                  <a:pt x="135" y="194"/>
                  <a:pt x="108" y="168"/>
                </a:cubicBezTo>
                <a:cubicBezTo>
                  <a:pt x="82" y="141"/>
                  <a:pt x="68" y="116"/>
                  <a:pt x="65" y="100"/>
                </a:cubicBezTo>
                <a:cubicBezTo>
                  <a:pt x="77" y="95"/>
                  <a:pt x="88" y="90"/>
                  <a:pt x="95" y="85"/>
                </a:cubicBezTo>
                <a:cubicBezTo>
                  <a:pt x="100" y="82"/>
                  <a:pt x="101" y="82"/>
                  <a:pt x="107" y="7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77"/>
                  <a:pt x="108" y="77"/>
                  <a:pt x="108" y="77"/>
                </a:cubicBezTo>
                <a:cubicBezTo>
                  <a:pt x="112" y="73"/>
                  <a:pt x="112" y="68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68" y="6"/>
                  <a:pt x="68" y="6"/>
                  <a:pt x="68" y="6"/>
                </a:cubicBezTo>
                <a:cubicBezTo>
                  <a:pt x="68" y="6"/>
                  <a:pt x="68" y="6"/>
                  <a:pt x="68" y="6"/>
                </a:cubicBezTo>
                <a:cubicBezTo>
                  <a:pt x="67" y="5"/>
                  <a:pt x="67" y="5"/>
                  <a:pt x="67" y="4"/>
                </a:cubicBezTo>
                <a:cubicBezTo>
                  <a:pt x="63" y="1"/>
                  <a:pt x="57" y="0"/>
                  <a:pt x="53" y="3"/>
                </a:cubicBezTo>
                <a:cubicBezTo>
                  <a:pt x="26" y="23"/>
                  <a:pt x="0" y="44"/>
                  <a:pt x="4" y="68"/>
                </a:cubicBezTo>
                <a:cubicBezTo>
                  <a:pt x="7" y="95"/>
                  <a:pt x="39" y="154"/>
                  <a:pt x="81" y="195"/>
                </a:cubicBezTo>
                <a:cubicBezTo>
                  <a:pt x="122" y="237"/>
                  <a:pt x="181" y="269"/>
                  <a:pt x="208" y="272"/>
                </a:cubicBezTo>
                <a:cubicBezTo>
                  <a:pt x="233" y="276"/>
                  <a:pt x="254" y="250"/>
                  <a:pt x="273" y="2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Hexagon 51"/>
          <p:cNvSpPr/>
          <p:nvPr/>
        </p:nvSpPr>
        <p:spPr>
          <a:xfrm>
            <a:off x="10152000" y="3643200"/>
            <a:ext cx="1317600" cy="1136880"/>
          </a:xfrm>
          <a:prstGeom prst="hexagon">
            <a:avLst>
              <a:gd name="adj" fmla="val 2499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229"/>
          <p:cNvSpPr/>
          <p:nvPr/>
        </p:nvSpPr>
        <p:spPr>
          <a:xfrm flipV="1">
            <a:off x="10601280" y="4005360"/>
            <a:ext cx="417600" cy="41256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7" y="24"/>
                </a:moveTo>
                <a:cubicBezTo>
                  <a:pt x="186" y="24"/>
                  <a:pt x="169" y="23"/>
                  <a:pt x="157" y="20"/>
                </a:cubicBezTo>
                <a:cubicBezTo>
                  <a:pt x="139" y="12"/>
                  <a:pt x="115" y="7"/>
                  <a:pt x="97" y="5"/>
                </a:cubicBezTo>
                <a:cubicBezTo>
                  <a:pt x="64" y="0"/>
                  <a:pt x="50" y="2"/>
                  <a:pt x="40" y="4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6"/>
                  <a:pt x="30" y="10"/>
                  <a:pt x="28" y="17"/>
                </a:cubicBezTo>
                <a:cubicBezTo>
                  <a:pt x="26" y="23"/>
                  <a:pt x="27" y="27"/>
                  <a:pt x="31" y="29"/>
                </a:cubicBezTo>
                <a:cubicBezTo>
                  <a:pt x="28" y="30"/>
                  <a:pt x="28" y="30"/>
                  <a:pt x="28" y="30"/>
                </a:cubicBezTo>
                <a:cubicBezTo>
                  <a:pt x="19" y="31"/>
                  <a:pt x="13" y="36"/>
                  <a:pt x="12" y="46"/>
                </a:cubicBezTo>
                <a:cubicBezTo>
                  <a:pt x="11" y="54"/>
                  <a:pt x="13" y="59"/>
                  <a:pt x="18" y="61"/>
                </a:cubicBezTo>
                <a:cubicBezTo>
                  <a:pt x="9" y="61"/>
                  <a:pt x="2" y="65"/>
                  <a:pt x="1" y="76"/>
                </a:cubicBezTo>
                <a:cubicBezTo>
                  <a:pt x="0" y="86"/>
                  <a:pt x="6" y="93"/>
                  <a:pt x="15" y="94"/>
                </a:cubicBezTo>
                <a:cubicBezTo>
                  <a:pt x="7" y="95"/>
                  <a:pt x="1" y="100"/>
                  <a:pt x="1" y="110"/>
                </a:cubicBezTo>
                <a:cubicBezTo>
                  <a:pt x="1" y="121"/>
                  <a:pt x="9" y="128"/>
                  <a:pt x="19" y="129"/>
                </a:cubicBezTo>
                <a:cubicBezTo>
                  <a:pt x="19" y="128"/>
                  <a:pt x="19" y="128"/>
                  <a:pt x="19" y="128"/>
                </a:cubicBezTo>
                <a:cubicBezTo>
                  <a:pt x="32" y="130"/>
                  <a:pt x="53" y="131"/>
                  <a:pt x="66" y="132"/>
                </a:cubicBezTo>
                <a:cubicBezTo>
                  <a:pt x="68" y="140"/>
                  <a:pt x="67" y="143"/>
                  <a:pt x="64" y="151"/>
                </a:cubicBezTo>
                <a:cubicBezTo>
                  <a:pt x="52" y="164"/>
                  <a:pt x="46" y="177"/>
                  <a:pt x="48" y="195"/>
                </a:cubicBezTo>
                <a:cubicBezTo>
                  <a:pt x="48" y="201"/>
                  <a:pt x="54" y="211"/>
                  <a:pt x="59" y="212"/>
                </a:cubicBezTo>
                <a:cubicBezTo>
                  <a:pt x="67" y="213"/>
                  <a:pt x="69" y="207"/>
                  <a:pt x="75" y="198"/>
                </a:cubicBezTo>
                <a:cubicBezTo>
                  <a:pt x="81" y="188"/>
                  <a:pt x="83" y="185"/>
                  <a:pt x="90" y="173"/>
                </a:cubicBezTo>
                <a:cubicBezTo>
                  <a:pt x="97" y="162"/>
                  <a:pt x="98" y="159"/>
                  <a:pt x="123" y="141"/>
                </a:cubicBezTo>
                <a:cubicBezTo>
                  <a:pt x="146" y="125"/>
                  <a:pt x="143" y="119"/>
                  <a:pt x="169" y="114"/>
                </a:cubicBezTo>
                <a:cubicBezTo>
                  <a:pt x="174" y="114"/>
                  <a:pt x="188" y="111"/>
                  <a:pt x="207" y="111"/>
                </a:cubicBezTo>
                <a:cubicBezTo>
                  <a:pt x="211" y="111"/>
                  <a:pt x="215" y="101"/>
                  <a:pt x="215" y="68"/>
                </a:cubicBezTo>
                <a:cubicBezTo>
                  <a:pt x="215" y="34"/>
                  <a:pt x="211" y="24"/>
                  <a:pt x="20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109440" y="49608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28584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2473200" y="49608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264960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4834080" y="4960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501012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7197840" y="4960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13"/>
          <p:cNvSpPr/>
          <p:nvPr/>
        </p:nvSpPr>
        <p:spPr>
          <a:xfrm>
            <a:off x="737388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9642600" y="49608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3"/>
          <p:cNvSpPr/>
          <p:nvPr/>
        </p:nvSpPr>
        <p:spPr>
          <a:xfrm>
            <a:off x="9817200" y="5264280"/>
            <a:ext cx="198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25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矩形 14"/>
          <p:cNvSpPr/>
          <p:nvPr/>
        </p:nvSpPr>
        <p:spPr>
          <a:xfrm>
            <a:off x="2216160" y="1787400"/>
            <a:ext cx="7935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469"/>
                </a:solidFill>
                <a:latin typeface="微软雅黑"/>
                <a:ea typeface="微软雅黑"/>
              </a:rPr>
              <a:t>          </a:t>
            </a:r>
            <a:r>
              <a:rPr b="0" lang="en-US" sz="1600" spc="-1" strike="noStrike">
                <a:solidFill>
                  <a:srgbClr val="445469"/>
                </a:solidFill>
                <a:latin typeface="微软雅黑"/>
                <a:ea typeface="微软雅黑"/>
              </a:rPr>
              <a:t>We have many PowerPoint template that specially designed to help you. We have many PowerPoint template that specially designed to help yo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矩形 15"/>
          <p:cNvSpPr/>
          <p:nvPr/>
        </p:nvSpPr>
        <p:spPr>
          <a:xfrm>
            <a:off x="5425920" y="1312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Content Placeholder 2"/>
          <p:cNvSpPr/>
          <p:nvPr/>
        </p:nvSpPr>
        <p:spPr>
          <a:xfrm>
            <a:off x="1027080" y="5334120"/>
            <a:ext cx="10145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               </a:t>
            </a:r>
            <a:r>
              <a:rPr b="0" lang="en-US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We have many PowerPoint template that specially designed to help you. We have many PowerPoint template that specially designed to help yo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组合 50"/>
          <p:cNvGrpSpPr/>
          <p:nvPr/>
        </p:nvGrpSpPr>
        <p:grpSpPr>
          <a:xfrm>
            <a:off x="1006560" y="1695600"/>
            <a:ext cx="10088640" cy="3283920"/>
            <a:chOff x="1006560" y="1695600"/>
            <a:chExt cx="10088640" cy="3283920"/>
          </a:xfrm>
        </p:grpSpPr>
        <p:grpSp>
          <p:nvGrpSpPr>
            <p:cNvPr id="737" name="组合 51"/>
            <p:cNvGrpSpPr/>
            <p:nvPr/>
          </p:nvGrpSpPr>
          <p:grpSpPr>
            <a:xfrm>
              <a:off x="1114920" y="1695600"/>
              <a:ext cx="9857520" cy="1583280"/>
              <a:chOff x="1114920" y="1695600"/>
              <a:chExt cx="9857520" cy="1583280"/>
            </a:xfrm>
          </p:grpSpPr>
          <p:sp>
            <p:nvSpPr>
              <p:cNvPr id="738" name="任意多边形 76"/>
              <p:cNvSpPr/>
              <p:nvPr/>
            </p:nvSpPr>
            <p:spPr>
              <a:xfrm>
                <a:off x="1114920" y="1695600"/>
                <a:ext cx="1582560" cy="1583280"/>
              </a:xfrm>
              <a:custGeom>
                <a:avLst/>
                <a:gdLst/>
                <a:ahLst/>
                <a:rect l="l" t="t" r="r" b="b"/>
                <a:pathLst>
                  <a:path w="1583117" h="1583117">
                    <a:moveTo>
                      <a:pt x="0" y="791559"/>
                    </a:moveTo>
                    <a:cubicBezTo>
                      <a:pt x="0" y="354393"/>
                      <a:pt x="354393" y="0"/>
                      <a:pt x="791559" y="0"/>
                    </a:cubicBezTo>
                    <a:cubicBezTo>
                      <a:pt x="1228725" y="0"/>
                      <a:pt x="1583118" y="354393"/>
                      <a:pt x="1583118" y="791559"/>
                    </a:cubicBezTo>
                    <a:cubicBezTo>
                      <a:pt x="1583118" y="1228725"/>
                      <a:pt x="1228725" y="1583118"/>
                      <a:pt x="791559" y="1583118"/>
                    </a:cubicBezTo>
                    <a:cubicBezTo>
                      <a:pt x="354393" y="1583118"/>
                      <a:pt x="0" y="1228725"/>
                      <a:pt x="0" y="791559"/>
                    </a:cubicBezTo>
                    <a:close/>
                  </a:path>
                </a:pathLst>
              </a:custGeom>
              <a:solidFill>
                <a:srgbClr val="9ad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任意多边形 77"/>
              <p:cNvSpPr/>
              <p:nvPr/>
            </p:nvSpPr>
            <p:spPr>
              <a:xfrm>
                <a:off x="2826000" y="2027520"/>
                <a:ext cx="919080" cy="919440"/>
              </a:xfrm>
              <a:custGeom>
                <a:avLst/>
                <a:gdLst/>
                <a:ahLst/>
                <a:rect l="l" t="t" r="r" b="b"/>
                <a:pathLst>
                  <a:path w="918207" h="918207">
                    <a:moveTo>
                      <a:pt x="121708" y="351122"/>
                    </a:moveTo>
                    <a:lnTo>
                      <a:pt x="351122" y="351122"/>
                    </a:lnTo>
                    <a:lnTo>
                      <a:pt x="351122" y="121708"/>
                    </a:lnTo>
                    <a:lnTo>
                      <a:pt x="567085" y="121708"/>
                    </a:lnTo>
                    <a:lnTo>
                      <a:pt x="567085" y="351122"/>
                    </a:lnTo>
                    <a:lnTo>
                      <a:pt x="796499" y="351122"/>
                    </a:lnTo>
                    <a:lnTo>
                      <a:pt x="796499" y="567085"/>
                    </a:lnTo>
                    <a:lnTo>
                      <a:pt x="567085" y="567085"/>
                    </a:lnTo>
                    <a:lnTo>
                      <a:pt x="567085" y="796499"/>
                    </a:lnTo>
                    <a:lnTo>
                      <a:pt x="351122" y="796499"/>
                    </a:lnTo>
                    <a:lnTo>
                      <a:pt x="351122" y="567085"/>
                    </a:lnTo>
                    <a:lnTo>
                      <a:pt x="121708" y="567085"/>
                    </a:lnTo>
                    <a:lnTo>
                      <a:pt x="121708" y="351122"/>
                    </a:lnTo>
                    <a:close/>
                  </a:path>
                </a:pathLst>
              </a:custGeom>
              <a:solidFill>
                <a:srgbClr val="84cb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351000" bIns="351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任意多边形 78"/>
              <p:cNvSpPr/>
              <p:nvPr/>
            </p:nvSpPr>
            <p:spPr>
              <a:xfrm>
                <a:off x="3873600" y="1695600"/>
                <a:ext cx="1582560" cy="1583280"/>
              </a:xfrm>
              <a:prstGeom prst="pie">
                <a:avLst/>
              </a:prstGeom>
              <a:solidFill>
                <a:srgbClr val="fad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任意多边形 79"/>
              <p:cNvSpPr/>
              <p:nvPr/>
            </p:nvSpPr>
            <p:spPr>
              <a:xfrm>
                <a:off x="5585040" y="2027520"/>
                <a:ext cx="917280" cy="919440"/>
              </a:xfrm>
              <a:custGeom>
                <a:avLst/>
                <a:gdLst/>
                <a:ahLst/>
                <a:rect l="l" t="t" r="r" b="b"/>
                <a:pathLst>
                  <a:path w="918207" h="918207">
                    <a:moveTo>
                      <a:pt x="121708" y="351122"/>
                    </a:moveTo>
                    <a:lnTo>
                      <a:pt x="351122" y="351122"/>
                    </a:lnTo>
                    <a:lnTo>
                      <a:pt x="351122" y="121708"/>
                    </a:lnTo>
                    <a:lnTo>
                      <a:pt x="567085" y="121708"/>
                    </a:lnTo>
                    <a:lnTo>
                      <a:pt x="567085" y="351122"/>
                    </a:lnTo>
                    <a:lnTo>
                      <a:pt x="796499" y="351122"/>
                    </a:lnTo>
                    <a:lnTo>
                      <a:pt x="796499" y="567085"/>
                    </a:lnTo>
                    <a:lnTo>
                      <a:pt x="567085" y="567085"/>
                    </a:lnTo>
                    <a:lnTo>
                      <a:pt x="567085" y="796499"/>
                    </a:lnTo>
                    <a:lnTo>
                      <a:pt x="351122" y="796499"/>
                    </a:lnTo>
                    <a:lnTo>
                      <a:pt x="351122" y="567085"/>
                    </a:lnTo>
                    <a:lnTo>
                      <a:pt x="121708" y="567085"/>
                    </a:lnTo>
                    <a:lnTo>
                      <a:pt x="121708" y="351122"/>
                    </a:lnTo>
                    <a:close/>
                  </a:path>
                </a:pathLst>
              </a:custGeom>
              <a:solidFill>
                <a:srgbClr val="f8d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351000" bIns="351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任意多边形 80"/>
              <p:cNvSpPr/>
              <p:nvPr/>
            </p:nvSpPr>
            <p:spPr>
              <a:xfrm>
                <a:off x="6631200" y="1695600"/>
                <a:ext cx="1582560" cy="1583280"/>
              </a:xfrm>
              <a:prstGeom prst="pie">
                <a:avLst/>
              </a:prstGeom>
              <a:solidFill>
                <a:srgbClr val="f28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任意多边形 81"/>
              <p:cNvSpPr/>
              <p:nvPr/>
            </p:nvSpPr>
            <p:spPr>
              <a:xfrm>
                <a:off x="8342280" y="2027520"/>
                <a:ext cx="919080" cy="919440"/>
              </a:xfrm>
              <a:custGeom>
                <a:avLst/>
                <a:gdLst/>
                <a:ahLst/>
                <a:rect l="l" t="t" r="r" b="b"/>
                <a:pathLst>
                  <a:path w="918207" h="918207">
                    <a:moveTo>
                      <a:pt x="121708" y="189151"/>
                    </a:moveTo>
                    <a:lnTo>
                      <a:pt x="796499" y="189151"/>
                    </a:lnTo>
                    <a:lnTo>
                      <a:pt x="796499" y="405113"/>
                    </a:lnTo>
                    <a:lnTo>
                      <a:pt x="121708" y="405113"/>
                    </a:lnTo>
                    <a:lnTo>
                      <a:pt x="121708" y="189151"/>
                    </a:lnTo>
                    <a:close/>
                    <a:moveTo>
                      <a:pt x="121708" y="513094"/>
                    </a:moveTo>
                    <a:lnTo>
                      <a:pt x="796499" y="513094"/>
                    </a:lnTo>
                    <a:lnTo>
                      <a:pt x="796499" y="729056"/>
                    </a:lnTo>
                    <a:lnTo>
                      <a:pt x="121708" y="729056"/>
                    </a:lnTo>
                    <a:lnTo>
                      <a:pt x="121708" y="513094"/>
                    </a:lnTo>
                    <a:close/>
                  </a:path>
                </a:pathLst>
              </a:custGeom>
              <a:solidFill>
                <a:srgbClr val="f28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189000" bIns="18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82"/>
              <p:cNvSpPr/>
              <p:nvPr/>
            </p:nvSpPr>
            <p:spPr>
              <a:xfrm>
                <a:off x="9389880" y="1695600"/>
                <a:ext cx="1582560" cy="1583280"/>
              </a:xfrm>
              <a:prstGeom prst="pie">
                <a:avLst/>
              </a:prstGeom>
              <a:solidFill>
                <a:srgbClr val="b6d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3440" rIns="241920" tIns="241920" bIns="24192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spcAft>
                    <a:spcPts val="349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Freeform 6"/>
            <p:cNvSpPr/>
            <p:nvPr/>
          </p:nvSpPr>
          <p:spPr>
            <a:xfrm>
              <a:off x="1709640" y="2139840"/>
              <a:ext cx="352440" cy="376200"/>
            </a:xfrm>
            <a:custGeom>
              <a:avLst/>
              <a:gdLst/>
              <a:ahLst/>
              <a:rect l="l" t="t" r="r" b="b"/>
              <a:pathLst>
                <a:path w="376" h="401">
                  <a:moveTo>
                    <a:pt x="67" y="3"/>
                  </a:moveTo>
                  <a:cubicBezTo>
                    <a:pt x="67" y="0"/>
                    <a:pt x="62" y="0"/>
                    <a:pt x="62" y="3"/>
                  </a:cubicBezTo>
                  <a:cubicBezTo>
                    <a:pt x="52" y="85"/>
                    <a:pt x="0" y="102"/>
                    <a:pt x="0" y="159"/>
                  </a:cubicBezTo>
                  <a:cubicBezTo>
                    <a:pt x="0" y="195"/>
                    <a:pt x="29" y="223"/>
                    <a:pt x="65" y="223"/>
                  </a:cubicBezTo>
                  <a:cubicBezTo>
                    <a:pt x="100" y="223"/>
                    <a:pt x="129" y="195"/>
                    <a:pt x="129" y="159"/>
                  </a:cubicBezTo>
                  <a:cubicBezTo>
                    <a:pt x="129" y="102"/>
                    <a:pt x="77" y="85"/>
                    <a:pt x="67" y="3"/>
                  </a:cubicBezTo>
                  <a:close/>
                  <a:moveTo>
                    <a:pt x="313" y="3"/>
                  </a:moveTo>
                  <a:cubicBezTo>
                    <a:pt x="313" y="0"/>
                    <a:pt x="309" y="0"/>
                    <a:pt x="309" y="3"/>
                  </a:cubicBezTo>
                  <a:cubicBezTo>
                    <a:pt x="298" y="85"/>
                    <a:pt x="246" y="102"/>
                    <a:pt x="246" y="159"/>
                  </a:cubicBezTo>
                  <a:cubicBezTo>
                    <a:pt x="246" y="195"/>
                    <a:pt x="276" y="223"/>
                    <a:pt x="311" y="223"/>
                  </a:cubicBezTo>
                  <a:cubicBezTo>
                    <a:pt x="346" y="223"/>
                    <a:pt x="376" y="195"/>
                    <a:pt x="376" y="159"/>
                  </a:cubicBezTo>
                  <a:cubicBezTo>
                    <a:pt x="376" y="102"/>
                    <a:pt x="324" y="85"/>
                    <a:pt x="313" y="3"/>
                  </a:cubicBezTo>
                  <a:close/>
                  <a:moveTo>
                    <a:pt x="185" y="180"/>
                  </a:moveTo>
                  <a:cubicBezTo>
                    <a:pt x="175" y="263"/>
                    <a:pt x="123" y="280"/>
                    <a:pt x="123" y="337"/>
                  </a:cubicBezTo>
                  <a:cubicBezTo>
                    <a:pt x="123" y="372"/>
                    <a:pt x="153" y="401"/>
                    <a:pt x="188" y="401"/>
                  </a:cubicBezTo>
                  <a:cubicBezTo>
                    <a:pt x="223" y="401"/>
                    <a:pt x="253" y="372"/>
                    <a:pt x="253" y="337"/>
                  </a:cubicBezTo>
                  <a:cubicBezTo>
                    <a:pt x="253" y="280"/>
                    <a:pt x="200" y="263"/>
                    <a:pt x="190" y="180"/>
                  </a:cubicBezTo>
                  <a:cubicBezTo>
                    <a:pt x="190" y="178"/>
                    <a:pt x="186" y="178"/>
                    <a:pt x="185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1"/>
            <p:cNvSpPr/>
            <p:nvPr/>
          </p:nvSpPr>
          <p:spPr>
            <a:xfrm>
              <a:off x="4438800" y="2063880"/>
              <a:ext cx="455400" cy="455400"/>
            </a:xfrm>
            <a:custGeom>
              <a:avLst/>
              <a:gdLst/>
              <a:ahLst/>
              <a:rect l="l" t="t" r="r" b="b"/>
              <a:pathLst>
                <a:path w="400" h="400">
                  <a:moveTo>
                    <a:pt x="380" y="184"/>
                  </a:moveTo>
                  <a:cubicBezTo>
                    <a:pt x="376" y="184"/>
                    <a:pt x="364" y="184"/>
                    <a:pt x="360" y="184"/>
                  </a:cubicBezTo>
                  <a:cubicBezTo>
                    <a:pt x="349" y="184"/>
                    <a:pt x="340" y="191"/>
                    <a:pt x="340" y="200"/>
                  </a:cubicBezTo>
                  <a:cubicBezTo>
                    <a:pt x="340" y="209"/>
                    <a:pt x="349" y="216"/>
                    <a:pt x="360" y="216"/>
                  </a:cubicBezTo>
                  <a:cubicBezTo>
                    <a:pt x="364" y="216"/>
                    <a:pt x="376" y="216"/>
                    <a:pt x="380" y="216"/>
                  </a:cubicBezTo>
                  <a:cubicBezTo>
                    <a:pt x="391" y="216"/>
                    <a:pt x="400" y="209"/>
                    <a:pt x="400" y="200"/>
                  </a:cubicBezTo>
                  <a:cubicBezTo>
                    <a:pt x="400" y="191"/>
                    <a:pt x="391" y="184"/>
                    <a:pt x="380" y="184"/>
                  </a:cubicBezTo>
                  <a:close/>
                  <a:moveTo>
                    <a:pt x="200" y="90"/>
                  </a:moveTo>
                  <a:cubicBezTo>
                    <a:pt x="139" y="90"/>
                    <a:pt x="90" y="139"/>
                    <a:pt x="90" y="200"/>
                  </a:cubicBezTo>
                  <a:cubicBezTo>
                    <a:pt x="90" y="261"/>
                    <a:pt x="139" y="310"/>
                    <a:pt x="200" y="310"/>
                  </a:cubicBezTo>
                  <a:cubicBezTo>
                    <a:pt x="261" y="310"/>
                    <a:pt x="310" y="261"/>
                    <a:pt x="310" y="200"/>
                  </a:cubicBezTo>
                  <a:cubicBezTo>
                    <a:pt x="310" y="139"/>
                    <a:pt x="261" y="90"/>
                    <a:pt x="200" y="90"/>
                  </a:cubicBezTo>
                  <a:close/>
                  <a:moveTo>
                    <a:pt x="200" y="280"/>
                  </a:moveTo>
                  <a:cubicBezTo>
                    <a:pt x="156" y="280"/>
                    <a:pt x="120" y="244"/>
                    <a:pt x="120" y="200"/>
                  </a:cubicBezTo>
                  <a:cubicBezTo>
                    <a:pt x="120" y="156"/>
                    <a:pt x="156" y="120"/>
                    <a:pt x="200" y="120"/>
                  </a:cubicBezTo>
                  <a:cubicBezTo>
                    <a:pt x="244" y="120"/>
                    <a:pt x="280" y="156"/>
                    <a:pt x="280" y="200"/>
                  </a:cubicBezTo>
                  <a:cubicBezTo>
                    <a:pt x="280" y="244"/>
                    <a:pt x="244" y="280"/>
                    <a:pt x="200" y="280"/>
                  </a:cubicBezTo>
                  <a:close/>
                  <a:moveTo>
                    <a:pt x="59" y="200"/>
                  </a:moveTo>
                  <a:cubicBezTo>
                    <a:pt x="59" y="191"/>
                    <a:pt x="51" y="184"/>
                    <a:pt x="40" y="184"/>
                  </a:cubicBezTo>
                  <a:cubicBezTo>
                    <a:pt x="36" y="184"/>
                    <a:pt x="23" y="184"/>
                    <a:pt x="20" y="184"/>
                  </a:cubicBezTo>
                  <a:cubicBezTo>
                    <a:pt x="9" y="184"/>
                    <a:pt x="0" y="191"/>
                    <a:pt x="0" y="200"/>
                  </a:cubicBezTo>
                  <a:cubicBezTo>
                    <a:pt x="0" y="209"/>
                    <a:pt x="9" y="216"/>
                    <a:pt x="20" y="216"/>
                  </a:cubicBezTo>
                  <a:cubicBezTo>
                    <a:pt x="23" y="216"/>
                    <a:pt x="36" y="216"/>
                    <a:pt x="40" y="216"/>
                  </a:cubicBezTo>
                  <a:cubicBezTo>
                    <a:pt x="51" y="216"/>
                    <a:pt x="59" y="209"/>
                    <a:pt x="59" y="200"/>
                  </a:cubicBezTo>
                  <a:close/>
                  <a:moveTo>
                    <a:pt x="200" y="60"/>
                  </a:moveTo>
                  <a:cubicBezTo>
                    <a:pt x="209" y="60"/>
                    <a:pt x="216" y="51"/>
                    <a:pt x="216" y="40"/>
                  </a:cubicBezTo>
                  <a:cubicBezTo>
                    <a:pt x="216" y="36"/>
                    <a:pt x="216" y="24"/>
                    <a:pt x="216" y="20"/>
                  </a:cubicBezTo>
                  <a:cubicBezTo>
                    <a:pt x="216" y="9"/>
                    <a:pt x="209" y="0"/>
                    <a:pt x="200" y="0"/>
                  </a:cubicBezTo>
                  <a:cubicBezTo>
                    <a:pt x="191" y="0"/>
                    <a:pt x="184" y="9"/>
                    <a:pt x="184" y="20"/>
                  </a:cubicBezTo>
                  <a:cubicBezTo>
                    <a:pt x="184" y="24"/>
                    <a:pt x="184" y="36"/>
                    <a:pt x="184" y="40"/>
                  </a:cubicBezTo>
                  <a:cubicBezTo>
                    <a:pt x="184" y="51"/>
                    <a:pt x="191" y="60"/>
                    <a:pt x="200" y="60"/>
                  </a:cubicBezTo>
                  <a:close/>
                  <a:moveTo>
                    <a:pt x="200" y="340"/>
                  </a:moveTo>
                  <a:cubicBezTo>
                    <a:pt x="191" y="340"/>
                    <a:pt x="184" y="349"/>
                    <a:pt x="184" y="360"/>
                  </a:cubicBezTo>
                  <a:cubicBezTo>
                    <a:pt x="184" y="364"/>
                    <a:pt x="184" y="376"/>
                    <a:pt x="184" y="380"/>
                  </a:cubicBezTo>
                  <a:cubicBezTo>
                    <a:pt x="184" y="391"/>
                    <a:pt x="191" y="400"/>
                    <a:pt x="200" y="400"/>
                  </a:cubicBezTo>
                  <a:cubicBezTo>
                    <a:pt x="209" y="400"/>
                    <a:pt x="216" y="391"/>
                    <a:pt x="216" y="380"/>
                  </a:cubicBezTo>
                  <a:cubicBezTo>
                    <a:pt x="216" y="376"/>
                    <a:pt x="216" y="364"/>
                    <a:pt x="216" y="360"/>
                  </a:cubicBezTo>
                  <a:cubicBezTo>
                    <a:pt x="216" y="349"/>
                    <a:pt x="209" y="340"/>
                    <a:pt x="200" y="340"/>
                  </a:cubicBezTo>
                  <a:close/>
                  <a:moveTo>
                    <a:pt x="347" y="75"/>
                  </a:moveTo>
                  <a:cubicBezTo>
                    <a:pt x="355" y="67"/>
                    <a:pt x="356" y="56"/>
                    <a:pt x="350" y="50"/>
                  </a:cubicBezTo>
                  <a:cubicBezTo>
                    <a:pt x="344" y="44"/>
                    <a:pt x="332" y="45"/>
                    <a:pt x="324" y="53"/>
                  </a:cubicBezTo>
                  <a:cubicBezTo>
                    <a:pt x="322" y="55"/>
                    <a:pt x="313" y="64"/>
                    <a:pt x="310" y="67"/>
                  </a:cubicBezTo>
                  <a:cubicBezTo>
                    <a:pt x="303" y="74"/>
                    <a:pt x="301" y="86"/>
                    <a:pt x="308" y="92"/>
                  </a:cubicBezTo>
                  <a:cubicBezTo>
                    <a:pt x="314" y="98"/>
                    <a:pt x="325" y="97"/>
                    <a:pt x="333" y="89"/>
                  </a:cubicBezTo>
                  <a:cubicBezTo>
                    <a:pt x="335" y="87"/>
                    <a:pt x="345" y="77"/>
                    <a:pt x="347" y="75"/>
                  </a:cubicBezTo>
                  <a:close/>
                  <a:moveTo>
                    <a:pt x="66" y="311"/>
                  </a:moveTo>
                  <a:cubicBezTo>
                    <a:pt x="64" y="313"/>
                    <a:pt x="55" y="322"/>
                    <a:pt x="52" y="325"/>
                  </a:cubicBezTo>
                  <a:cubicBezTo>
                    <a:pt x="45" y="332"/>
                    <a:pt x="43" y="344"/>
                    <a:pt x="50" y="350"/>
                  </a:cubicBezTo>
                  <a:cubicBezTo>
                    <a:pt x="56" y="356"/>
                    <a:pt x="67" y="355"/>
                    <a:pt x="75" y="347"/>
                  </a:cubicBezTo>
                  <a:cubicBezTo>
                    <a:pt x="77" y="345"/>
                    <a:pt x="87" y="335"/>
                    <a:pt x="89" y="333"/>
                  </a:cubicBezTo>
                  <a:cubicBezTo>
                    <a:pt x="97" y="325"/>
                    <a:pt x="98" y="314"/>
                    <a:pt x="92" y="308"/>
                  </a:cubicBezTo>
                  <a:cubicBezTo>
                    <a:pt x="86" y="302"/>
                    <a:pt x="74" y="303"/>
                    <a:pt x="66" y="311"/>
                  </a:cubicBezTo>
                  <a:close/>
                  <a:moveTo>
                    <a:pt x="75" y="53"/>
                  </a:moveTo>
                  <a:cubicBezTo>
                    <a:pt x="67" y="45"/>
                    <a:pt x="56" y="44"/>
                    <a:pt x="50" y="50"/>
                  </a:cubicBezTo>
                  <a:cubicBezTo>
                    <a:pt x="43" y="56"/>
                    <a:pt x="45" y="67"/>
                    <a:pt x="52" y="75"/>
                  </a:cubicBezTo>
                  <a:cubicBezTo>
                    <a:pt x="55" y="77"/>
                    <a:pt x="64" y="87"/>
                    <a:pt x="66" y="89"/>
                  </a:cubicBezTo>
                  <a:cubicBezTo>
                    <a:pt x="74" y="97"/>
                    <a:pt x="86" y="98"/>
                    <a:pt x="92" y="92"/>
                  </a:cubicBezTo>
                  <a:cubicBezTo>
                    <a:pt x="98" y="86"/>
                    <a:pt x="97" y="74"/>
                    <a:pt x="89" y="67"/>
                  </a:cubicBezTo>
                  <a:cubicBezTo>
                    <a:pt x="87" y="64"/>
                    <a:pt x="77" y="55"/>
                    <a:pt x="75" y="53"/>
                  </a:cubicBezTo>
                  <a:close/>
                  <a:moveTo>
                    <a:pt x="310" y="333"/>
                  </a:moveTo>
                  <a:cubicBezTo>
                    <a:pt x="313" y="335"/>
                    <a:pt x="322" y="345"/>
                    <a:pt x="324" y="347"/>
                  </a:cubicBezTo>
                  <a:cubicBezTo>
                    <a:pt x="332" y="355"/>
                    <a:pt x="344" y="356"/>
                    <a:pt x="350" y="350"/>
                  </a:cubicBezTo>
                  <a:cubicBezTo>
                    <a:pt x="356" y="344"/>
                    <a:pt x="355" y="332"/>
                    <a:pt x="347" y="325"/>
                  </a:cubicBezTo>
                  <a:cubicBezTo>
                    <a:pt x="345" y="322"/>
                    <a:pt x="335" y="313"/>
                    <a:pt x="333" y="311"/>
                  </a:cubicBezTo>
                  <a:cubicBezTo>
                    <a:pt x="325" y="303"/>
                    <a:pt x="314" y="302"/>
                    <a:pt x="308" y="308"/>
                  </a:cubicBezTo>
                  <a:cubicBezTo>
                    <a:pt x="301" y="314"/>
                    <a:pt x="303" y="325"/>
                    <a:pt x="310" y="3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7194600" y="2077920"/>
              <a:ext cx="425160" cy="426960"/>
            </a:xfrm>
            <a:custGeom>
              <a:avLst/>
              <a:gdLst/>
              <a:ahLst/>
              <a:rect l="l" t="t" r="r" b="b"/>
              <a:pathLst>
                <a:path w="403" h="404">
                  <a:moveTo>
                    <a:pt x="390" y="150"/>
                  </a:moveTo>
                  <a:cubicBezTo>
                    <a:pt x="241" y="110"/>
                    <a:pt x="241" y="110"/>
                    <a:pt x="241" y="110"/>
                  </a:cubicBezTo>
                  <a:cubicBezTo>
                    <a:pt x="215" y="13"/>
                    <a:pt x="215" y="13"/>
                    <a:pt x="215" y="13"/>
                  </a:cubicBezTo>
                  <a:cubicBezTo>
                    <a:pt x="213" y="5"/>
                    <a:pt x="204" y="0"/>
                    <a:pt x="195" y="2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5" y="53"/>
                    <a:pt x="0" y="62"/>
                    <a:pt x="2" y="70"/>
                  </a:cubicBezTo>
                  <a:cubicBezTo>
                    <a:pt x="67" y="311"/>
                    <a:pt x="67" y="311"/>
                    <a:pt x="67" y="311"/>
                  </a:cubicBezTo>
                  <a:cubicBezTo>
                    <a:pt x="69" y="319"/>
                    <a:pt x="78" y="324"/>
                    <a:pt x="86" y="322"/>
                  </a:cubicBezTo>
                  <a:cubicBezTo>
                    <a:pt x="159" y="302"/>
                    <a:pt x="159" y="302"/>
                    <a:pt x="159" y="302"/>
                  </a:cubicBezTo>
                  <a:cubicBezTo>
                    <a:pt x="149" y="339"/>
                    <a:pt x="149" y="339"/>
                    <a:pt x="149" y="339"/>
                  </a:cubicBezTo>
                  <a:cubicBezTo>
                    <a:pt x="147" y="347"/>
                    <a:pt x="152" y="356"/>
                    <a:pt x="160" y="358"/>
                  </a:cubicBezTo>
                  <a:cubicBezTo>
                    <a:pt x="322" y="401"/>
                    <a:pt x="322" y="401"/>
                    <a:pt x="322" y="401"/>
                  </a:cubicBezTo>
                  <a:cubicBezTo>
                    <a:pt x="331" y="404"/>
                    <a:pt x="340" y="399"/>
                    <a:pt x="342" y="391"/>
                  </a:cubicBezTo>
                  <a:cubicBezTo>
                    <a:pt x="401" y="169"/>
                    <a:pt x="401" y="169"/>
                    <a:pt x="401" y="169"/>
                  </a:cubicBezTo>
                  <a:cubicBezTo>
                    <a:pt x="403" y="161"/>
                    <a:pt x="398" y="152"/>
                    <a:pt x="390" y="150"/>
                  </a:cubicBezTo>
                  <a:close/>
                  <a:moveTo>
                    <a:pt x="34" y="75"/>
                  </a:moveTo>
                  <a:cubicBezTo>
                    <a:pt x="191" y="33"/>
                    <a:pt x="191" y="33"/>
                    <a:pt x="191" y="33"/>
                  </a:cubicBezTo>
                  <a:cubicBezTo>
                    <a:pt x="249" y="249"/>
                    <a:pt x="249" y="249"/>
                    <a:pt x="249" y="249"/>
                  </a:cubicBezTo>
                  <a:cubicBezTo>
                    <a:pt x="92" y="291"/>
                    <a:pt x="92" y="291"/>
                    <a:pt x="92" y="291"/>
                  </a:cubicBezTo>
                  <a:lnTo>
                    <a:pt x="34" y="75"/>
                  </a:lnTo>
                  <a:close/>
                  <a:moveTo>
                    <a:pt x="315" y="371"/>
                  </a:moveTo>
                  <a:cubicBezTo>
                    <a:pt x="179" y="334"/>
                    <a:pt x="179" y="334"/>
                    <a:pt x="179" y="334"/>
                  </a:cubicBezTo>
                  <a:cubicBezTo>
                    <a:pt x="190" y="294"/>
                    <a:pt x="190" y="294"/>
                    <a:pt x="190" y="294"/>
                  </a:cubicBezTo>
                  <a:cubicBezTo>
                    <a:pt x="268" y="273"/>
                    <a:pt x="268" y="273"/>
                    <a:pt x="268" y="273"/>
                  </a:cubicBezTo>
                  <a:cubicBezTo>
                    <a:pt x="276" y="271"/>
                    <a:pt x="282" y="262"/>
                    <a:pt x="279" y="254"/>
                  </a:cubicBezTo>
                  <a:cubicBezTo>
                    <a:pt x="249" y="142"/>
                    <a:pt x="249" y="142"/>
                    <a:pt x="249" y="142"/>
                  </a:cubicBezTo>
                  <a:cubicBezTo>
                    <a:pt x="368" y="174"/>
                    <a:pt x="368" y="174"/>
                    <a:pt x="368" y="174"/>
                  </a:cubicBezTo>
                  <a:lnTo>
                    <a:pt x="315" y="3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10025280" y="2162160"/>
              <a:ext cx="318960" cy="33012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03" y="284"/>
                  </a:moveTo>
                  <a:cubicBezTo>
                    <a:pt x="94" y="284"/>
                    <a:pt x="86" y="280"/>
                    <a:pt x="80" y="273"/>
                  </a:cubicBezTo>
                  <a:cubicBezTo>
                    <a:pt x="9" y="178"/>
                    <a:pt x="9" y="178"/>
                    <a:pt x="9" y="178"/>
                  </a:cubicBezTo>
                  <a:cubicBezTo>
                    <a:pt x="0" y="166"/>
                    <a:pt x="2" y="149"/>
                    <a:pt x="14" y="139"/>
                  </a:cubicBezTo>
                  <a:cubicBezTo>
                    <a:pt x="27" y="130"/>
                    <a:pt x="44" y="133"/>
                    <a:pt x="53" y="145"/>
                  </a:cubicBezTo>
                  <a:cubicBezTo>
                    <a:pt x="100" y="207"/>
                    <a:pt x="100" y="207"/>
                    <a:pt x="100" y="207"/>
                  </a:cubicBezTo>
                  <a:cubicBezTo>
                    <a:pt x="219" y="17"/>
                    <a:pt x="219" y="17"/>
                    <a:pt x="219" y="17"/>
                  </a:cubicBezTo>
                  <a:cubicBezTo>
                    <a:pt x="227" y="4"/>
                    <a:pt x="244" y="0"/>
                    <a:pt x="257" y="8"/>
                  </a:cubicBezTo>
                  <a:cubicBezTo>
                    <a:pt x="270" y="16"/>
                    <a:pt x="274" y="33"/>
                    <a:pt x="266" y="47"/>
                  </a:cubicBezTo>
                  <a:cubicBezTo>
                    <a:pt x="126" y="271"/>
                    <a:pt x="126" y="271"/>
                    <a:pt x="126" y="271"/>
                  </a:cubicBezTo>
                  <a:cubicBezTo>
                    <a:pt x="121" y="279"/>
                    <a:pt x="113" y="283"/>
                    <a:pt x="104" y="284"/>
                  </a:cubicBezTo>
                  <a:cubicBezTo>
                    <a:pt x="104" y="284"/>
                    <a:pt x="103" y="284"/>
                    <a:pt x="103" y="2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Content Placeholder 2"/>
            <p:cNvSpPr/>
            <p:nvPr/>
          </p:nvSpPr>
          <p:spPr>
            <a:xfrm>
              <a:off x="1006560" y="341496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4cbc5"/>
                  </a:solidFill>
                  <a:latin typeface="Source Sans Pro Black"/>
                </a:rPr>
                <a:t>$96,453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Content Placeholder 2"/>
            <p:cNvSpPr/>
            <p:nvPr/>
          </p:nvSpPr>
          <p:spPr>
            <a:xfrm>
              <a:off x="3755880" y="341496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8d35e"/>
                  </a:solidFill>
                  <a:latin typeface="Source Sans Pro Black"/>
                </a:rPr>
                <a:t>$96,453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Content Placeholder 2"/>
            <p:cNvSpPr/>
            <p:nvPr/>
          </p:nvSpPr>
          <p:spPr>
            <a:xfrm>
              <a:off x="6540480" y="341496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47264"/>
                  </a:solidFill>
                  <a:latin typeface="Source Sans Pro Black"/>
                </a:rPr>
                <a:t>$30,000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Content Placeholder 2"/>
            <p:cNvSpPr/>
            <p:nvPr/>
          </p:nvSpPr>
          <p:spPr>
            <a:xfrm>
              <a:off x="9274320" y="3414960"/>
              <a:ext cx="1820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b6db86"/>
                  </a:solidFill>
                  <a:latin typeface="Source Sans Pro Black"/>
                </a:rPr>
                <a:t>$100,000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文本框 60"/>
            <p:cNvSpPr/>
            <p:nvPr/>
          </p:nvSpPr>
          <p:spPr>
            <a:xfrm>
              <a:off x="141660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前期筹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文本框 61"/>
            <p:cNvSpPr/>
            <p:nvPr/>
          </p:nvSpPr>
          <p:spPr>
            <a:xfrm>
              <a:off x="416412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动执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2"/>
            <p:cNvSpPr/>
            <p:nvPr/>
          </p:nvSpPr>
          <p:spPr>
            <a:xfrm>
              <a:off x="695124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评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文本框 63"/>
            <p:cNvSpPr/>
            <p:nvPr/>
          </p:nvSpPr>
          <p:spPr>
            <a:xfrm>
              <a:off x="9680760" y="2662920"/>
              <a:ext cx="10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评价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7" name="组合 64"/>
            <p:cNvGrpSpPr/>
            <p:nvPr/>
          </p:nvGrpSpPr>
          <p:grpSpPr>
            <a:xfrm>
              <a:off x="1375920" y="4089240"/>
              <a:ext cx="1097280" cy="890280"/>
              <a:chOff x="1375920" y="4089240"/>
              <a:chExt cx="1097280" cy="890280"/>
            </a:xfrm>
          </p:grpSpPr>
          <p:sp>
            <p:nvSpPr>
              <p:cNvPr id="758" name="文本框 74"/>
              <p:cNvSpPr/>
              <p:nvPr/>
            </p:nvSpPr>
            <p:spPr>
              <a:xfrm>
                <a:off x="144396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文本框 75"/>
              <p:cNvSpPr/>
              <p:nvPr/>
            </p:nvSpPr>
            <p:spPr>
              <a:xfrm>
                <a:off x="137592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0" name="组合 65"/>
            <p:cNvGrpSpPr/>
            <p:nvPr/>
          </p:nvGrpSpPr>
          <p:grpSpPr>
            <a:xfrm>
              <a:off x="4115880" y="4089240"/>
              <a:ext cx="1097280" cy="890280"/>
              <a:chOff x="4115880" y="4089240"/>
              <a:chExt cx="1097280" cy="890280"/>
            </a:xfrm>
          </p:grpSpPr>
          <p:sp>
            <p:nvSpPr>
              <p:cNvPr id="761" name="文本框 72"/>
              <p:cNvSpPr/>
              <p:nvPr/>
            </p:nvSpPr>
            <p:spPr>
              <a:xfrm>
                <a:off x="418392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文本框 73"/>
              <p:cNvSpPr/>
              <p:nvPr/>
            </p:nvSpPr>
            <p:spPr>
              <a:xfrm>
                <a:off x="411588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3" name="组合 66"/>
            <p:cNvGrpSpPr/>
            <p:nvPr/>
          </p:nvGrpSpPr>
          <p:grpSpPr>
            <a:xfrm>
              <a:off x="6951240" y="4089240"/>
              <a:ext cx="1097280" cy="890280"/>
              <a:chOff x="6951240" y="4089240"/>
              <a:chExt cx="1097280" cy="890280"/>
            </a:xfrm>
          </p:grpSpPr>
          <p:sp>
            <p:nvSpPr>
              <p:cNvPr id="764" name="文本框 70"/>
              <p:cNvSpPr/>
              <p:nvPr/>
            </p:nvSpPr>
            <p:spPr>
              <a:xfrm>
                <a:off x="701928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文本框 71"/>
              <p:cNvSpPr/>
              <p:nvPr/>
            </p:nvSpPr>
            <p:spPr>
              <a:xfrm>
                <a:off x="695124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67"/>
            <p:cNvGrpSpPr/>
            <p:nvPr/>
          </p:nvGrpSpPr>
          <p:grpSpPr>
            <a:xfrm>
              <a:off x="9691200" y="4089240"/>
              <a:ext cx="1097280" cy="890280"/>
              <a:chOff x="9691200" y="4089240"/>
              <a:chExt cx="1097280" cy="890280"/>
            </a:xfrm>
          </p:grpSpPr>
          <p:sp>
            <p:nvSpPr>
              <p:cNvPr id="767" name="文本框 68"/>
              <p:cNvSpPr/>
              <p:nvPr/>
            </p:nvSpPr>
            <p:spPr>
              <a:xfrm>
                <a:off x="9759240" y="4089240"/>
                <a:ext cx="94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关键词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文本框 69"/>
              <p:cNvSpPr/>
              <p:nvPr/>
            </p:nvSpPr>
            <p:spPr>
              <a:xfrm>
                <a:off x="9691200" y="4459320"/>
                <a:ext cx="1097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简要描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030400" y="1773360"/>
            <a:ext cx="3781440" cy="37828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772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3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5" name="图片 4" descr=""/>
          <p:cNvPicPr/>
          <p:nvPr/>
        </p:nvPicPr>
        <p:blipFill>
          <a:blip r:embed="rId1"/>
          <a:stretch/>
        </p:blipFill>
        <p:spPr>
          <a:xfrm>
            <a:off x="2128680" y="2287440"/>
            <a:ext cx="357516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6357960" y="1946160"/>
            <a:ext cx="3759120" cy="375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8593200" y="3432240"/>
            <a:ext cx="2741400" cy="2741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15"/>
          <p:cNvSpPr/>
          <p:nvPr/>
        </p:nvSpPr>
        <p:spPr>
          <a:xfrm>
            <a:off x="6357960" y="1946160"/>
            <a:ext cx="3759120" cy="375948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6"/>
          <p:cNvSpPr/>
          <p:nvPr/>
        </p:nvSpPr>
        <p:spPr>
          <a:xfrm>
            <a:off x="8593200" y="3432240"/>
            <a:ext cx="2741400" cy="274140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17"/>
          <p:cNvSpPr/>
          <p:nvPr/>
        </p:nvSpPr>
        <p:spPr>
          <a:xfrm>
            <a:off x="10044000" y="2004840"/>
            <a:ext cx="1395360" cy="13939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8"/>
          <p:cNvSpPr/>
          <p:nvPr/>
        </p:nvSpPr>
        <p:spPr>
          <a:xfrm>
            <a:off x="6989760" y="5127480"/>
            <a:ext cx="865080" cy="865440"/>
          </a:xfrm>
          <a:prstGeom prst="ellipse">
            <a:avLst/>
          </a:prstGeom>
          <a:solidFill>
            <a:srgbClr val="ffd9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9"/>
          <p:cNvSpPr/>
          <p:nvPr/>
        </p:nvSpPr>
        <p:spPr>
          <a:xfrm>
            <a:off x="5659560" y="687240"/>
            <a:ext cx="2995560" cy="2997360"/>
          </a:xfrm>
          <a:prstGeom prst="ellipse">
            <a:avLst/>
          </a:prstGeom>
          <a:solidFill>
            <a:srgbClr val="ffd9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0"/>
          <p:cNvSpPr/>
          <p:nvPr/>
        </p:nvSpPr>
        <p:spPr>
          <a:xfrm>
            <a:off x="1309680" y="2468520"/>
            <a:ext cx="1469880" cy="1470240"/>
          </a:xfrm>
          <a:prstGeom prst="ellips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组合 11" descr=""/>
          <p:cNvPicPr/>
          <p:nvPr/>
        </p:nvPicPr>
        <p:blipFill>
          <a:blip r:embed="rId2"/>
          <a:stretch/>
        </p:blipFill>
        <p:spPr>
          <a:xfrm>
            <a:off x="1646280" y="2852640"/>
            <a:ext cx="798480" cy="701640"/>
          </a:xfrm>
          <a:prstGeom prst="rect">
            <a:avLst/>
          </a:prstGeom>
          <a:ln w="0">
            <a:noFill/>
          </a:ln>
        </p:spPr>
      </p:pic>
      <p:sp>
        <p:nvSpPr>
          <p:cNvPr id="788" name="矩形 15"/>
          <p:cNvSpPr/>
          <p:nvPr/>
        </p:nvSpPr>
        <p:spPr>
          <a:xfrm>
            <a:off x="1495440" y="4745160"/>
            <a:ext cx="36432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1495440" y="4422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"/>
          <p:cNvSpPr/>
          <p:nvPr/>
        </p:nvSpPr>
        <p:spPr>
          <a:xfrm>
            <a:off x="1805040" y="1897200"/>
            <a:ext cx="1377720" cy="13795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0"/>
          <p:cNvSpPr/>
          <p:nvPr/>
        </p:nvSpPr>
        <p:spPr>
          <a:xfrm>
            <a:off x="1812960" y="4156200"/>
            <a:ext cx="1374840" cy="1376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traight Connector 38"/>
          <p:cNvSpPr/>
          <p:nvPr/>
        </p:nvSpPr>
        <p:spPr>
          <a:xfrm>
            <a:off x="1812960" y="3692520"/>
            <a:ext cx="88297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71"/>
          <p:cNvSpPr/>
          <p:nvPr/>
        </p:nvSpPr>
        <p:spPr>
          <a:xfrm>
            <a:off x="2244600" y="2340000"/>
            <a:ext cx="498600" cy="477720"/>
          </a:xfrm>
          <a:custGeom>
            <a:avLst/>
            <a:gdLst/>
            <a:ahLst/>
            <a:rect l="l" t="t" r="r" b="b"/>
            <a:pathLst>
              <a:path w="308" h="296">
                <a:moveTo>
                  <a:pt x="228" y="218"/>
                </a:moveTo>
                <a:cubicBezTo>
                  <a:pt x="224" y="215"/>
                  <a:pt x="224" y="215"/>
                  <a:pt x="224" y="215"/>
                </a:cubicBezTo>
                <a:cubicBezTo>
                  <a:pt x="228" y="212"/>
                  <a:pt x="228" y="212"/>
                  <a:pt x="228" y="212"/>
                </a:cubicBezTo>
                <a:cubicBezTo>
                  <a:pt x="230" y="212"/>
                  <a:pt x="230" y="212"/>
                  <a:pt x="230" y="212"/>
                </a:cubicBezTo>
                <a:cubicBezTo>
                  <a:pt x="232" y="212"/>
                  <a:pt x="263" y="210"/>
                  <a:pt x="278" y="209"/>
                </a:cubicBezTo>
                <a:cubicBezTo>
                  <a:pt x="295" y="197"/>
                  <a:pt x="292" y="183"/>
                  <a:pt x="288" y="176"/>
                </a:cubicBezTo>
                <a:cubicBezTo>
                  <a:pt x="287" y="176"/>
                  <a:pt x="285" y="176"/>
                  <a:pt x="284" y="176"/>
                </a:cubicBezTo>
                <a:cubicBezTo>
                  <a:pt x="283" y="176"/>
                  <a:pt x="283" y="176"/>
                  <a:pt x="283" y="176"/>
                </a:cubicBezTo>
                <a:cubicBezTo>
                  <a:pt x="283" y="176"/>
                  <a:pt x="283" y="176"/>
                  <a:pt x="283" y="176"/>
                </a:cubicBezTo>
                <a:cubicBezTo>
                  <a:pt x="278" y="176"/>
                  <a:pt x="231" y="174"/>
                  <a:pt x="229" y="174"/>
                </a:cubicBezTo>
                <a:cubicBezTo>
                  <a:pt x="226" y="174"/>
                  <a:pt x="226" y="174"/>
                  <a:pt x="226" y="174"/>
                </a:cubicBezTo>
                <a:cubicBezTo>
                  <a:pt x="222" y="171"/>
                  <a:pt x="222" y="171"/>
                  <a:pt x="222" y="171"/>
                </a:cubicBezTo>
                <a:cubicBezTo>
                  <a:pt x="226" y="168"/>
                  <a:pt x="226" y="168"/>
                  <a:pt x="226" y="168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31" y="168"/>
                  <a:pt x="280" y="164"/>
                  <a:pt x="284" y="164"/>
                </a:cubicBezTo>
                <a:cubicBezTo>
                  <a:pt x="290" y="164"/>
                  <a:pt x="292" y="164"/>
                  <a:pt x="292" y="164"/>
                </a:cubicBezTo>
                <a:cubicBezTo>
                  <a:pt x="292" y="164"/>
                  <a:pt x="292" y="164"/>
                  <a:pt x="292" y="164"/>
                </a:cubicBezTo>
                <a:cubicBezTo>
                  <a:pt x="302" y="155"/>
                  <a:pt x="308" y="144"/>
                  <a:pt x="296" y="133"/>
                </a:cubicBezTo>
                <a:cubicBezTo>
                  <a:pt x="285" y="123"/>
                  <a:pt x="243" y="125"/>
                  <a:pt x="214" y="124"/>
                </a:cubicBezTo>
                <a:cubicBezTo>
                  <a:pt x="213" y="124"/>
                  <a:pt x="213" y="124"/>
                  <a:pt x="213" y="124"/>
                </a:cubicBezTo>
                <a:cubicBezTo>
                  <a:pt x="212" y="124"/>
                  <a:pt x="212" y="124"/>
                  <a:pt x="212" y="124"/>
                </a:cubicBezTo>
                <a:cubicBezTo>
                  <a:pt x="212" y="124"/>
                  <a:pt x="219" y="124"/>
                  <a:pt x="217" y="124"/>
                </a:cubicBezTo>
                <a:cubicBezTo>
                  <a:pt x="213" y="124"/>
                  <a:pt x="209" y="124"/>
                  <a:pt x="206" y="124"/>
                </a:cubicBezTo>
                <a:cubicBezTo>
                  <a:pt x="192" y="123"/>
                  <a:pt x="167" y="123"/>
                  <a:pt x="165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0" y="121"/>
                  <a:pt x="160" y="121"/>
                  <a:pt x="160" y="121"/>
                </a:cubicBezTo>
                <a:cubicBezTo>
                  <a:pt x="165" y="120"/>
                  <a:pt x="165" y="120"/>
                  <a:pt x="165" y="120"/>
                </a:cubicBezTo>
                <a:cubicBezTo>
                  <a:pt x="165" y="120"/>
                  <a:pt x="165" y="120"/>
                  <a:pt x="165" y="120"/>
                </a:cubicBezTo>
                <a:cubicBezTo>
                  <a:pt x="166" y="120"/>
                  <a:pt x="169" y="120"/>
                  <a:pt x="179" y="119"/>
                </a:cubicBezTo>
                <a:cubicBezTo>
                  <a:pt x="165" y="90"/>
                  <a:pt x="188" y="73"/>
                  <a:pt x="192" y="58"/>
                </a:cubicBezTo>
                <a:cubicBezTo>
                  <a:pt x="206" y="5"/>
                  <a:pt x="178" y="0"/>
                  <a:pt x="178" y="0"/>
                </a:cubicBezTo>
                <a:cubicBezTo>
                  <a:pt x="178" y="0"/>
                  <a:pt x="108" y="96"/>
                  <a:pt x="101" y="126"/>
                </a:cubicBezTo>
                <a:cubicBezTo>
                  <a:pt x="96" y="148"/>
                  <a:pt x="67" y="146"/>
                  <a:pt x="58" y="146"/>
                </a:cubicBezTo>
                <a:cubicBezTo>
                  <a:pt x="10" y="144"/>
                  <a:pt x="0" y="264"/>
                  <a:pt x="53" y="275"/>
                </a:cubicBezTo>
                <a:cubicBezTo>
                  <a:pt x="64" y="277"/>
                  <a:pt x="76" y="265"/>
                  <a:pt x="99" y="275"/>
                </a:cubicBezTo>
                <a:cubicBezTo>
                  <a:pt x="149" y="296"/>
                  <a:pt x="192" y="287"/>
                  <a:pt x="232" y="286"/>
                </a:cubicBezTo>
                <a:cubicBezTo>
                  <a:pt x="259" y="285"/>
                  <a:pt x="257" y="266"/>
                  <a:pt x="255" y="256"/>
                </a:cubicBezTo>
                <a:cubicBezTo>
                  <a:pt x="242" y="256"/>
                  <a:pt x="229" y="255"/>
                  <a:pt x="227" y="255"/>
                </a:cubicBezTo>
                <a:cubicBezTo>
                  <a:pt x="225" y="255"/>
                  <a:pt x="225" y="255"/>
                  <a:pt x="225" y="255"/>
                </a:cubicBezTo>
                <a:cubicBezTo>
                  <a:pt x="221" y="252"/>
                  <a:pt x="221" y="252"/>
                  <a:pt x="221" y="252"/>
                </a:cubicBezTo>
                <a:cubicBezTo>
                  <a:pt x="225" y="249"/>
                  <a:pt x="225" y="249"/>
                  <a:pt x="225" y="249"/>
                </a:cubicBezTo>
                <a:cubicBezTo>
                  <a:pt x="227" y="249"/>
                  <a:pt x="227" y="249"/>
                  <a:pt x="227" y="249"/>
                </a:cubicBezTo>
                <a:cubicBezTo>
                  <a:pt x="229" y="249"/>
                  <a:pt x="247" y="248"/>
                  <a:pt x="262" y="247"/>
                </a:cubicBezTo>
                <a:cubicBezTo>
                  <a:pt x="275" y="237"/>
                  <a:pt x="272" y="227"/>
                  <a:pt x="269" y="220"/>
                </a:cubicBezTo>
                <a:cubicBezTo>
                  <a:pt x="253" y="219"/>
                  <a:pt x="232" y="218"/>
                  <a:pt x="230" y="218"/>
                </a:cubicBezTo>
                <a:lnTo>
                  <a:pt x="228" y="2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73"/>
          <p:cNvSpPr/>
          <p:nvPr/>
        </p:nvSpPr>
        <p:spPr>
          <a:xfrm>
            <a:off x="2252520" y="4605480"/>
            <a:ext cx="497160" cy="477720"/>
          </a:xfrm>
          <a:custGeom>
            <a:avLst/>
            <a:gdLst/>
            <a:ahLst/>
            <a:rect l="l" t="t" r="r" b="b"/>
            <a:pathLst>
              <a:path w="308" h="296">
                <a:moveTo>
                  <a:pt x="80" y="78"/>
                </a:moveTo>
                <a:cubicBezTo>
                  <a:pt x="84" y="81"/>
                  <a:pt x="84" y="81"/>
                  <a:pt x="84" y="81"/>
                </a:cubicBezTo>
                <a:cubicBezTo>
                  <a:pt x="80" y="84"/>
                  <a:pt x="80" y="84"/>
                  <a:pt x="80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45" y="86"/>
                  <a:pt x="30" y="87"/>
                </a:cubicBezTo>
                <a:cubicBezTo>
                  <a:pt x="12" y="99"/>
                  <a:pt x="16" y="112"/>
                  <a:pt x="20" y="120"/>
                </a:cubicBezTo>
                <a:cubicBezTo>
                  <a:pt x="21" y="120"/>
                  <a:pt x="23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30" y="120"/>
                  <a:pt x="77" y="122"/>
                  <a:pt x="79" y="122"/>
                </a:cubicBezTo>
                <a:cubicBezTo>
                  <a:pt x="81" y="122"/>
                  <a:pt x="81" y="122"/>
                  <a:pt x="81" y="122"/>
                </a:cubicBezTo>
                <a:cubicBezTo>
                  <a:pt x="86" y="125"/>
                  <a:pt x="86" y="125"/>
                  <a:pt x="86" y="125"/>
                </a:cubicBezTo>
                <a:cubicBezTo>
                  <a:pt x="82" y="128"/>
                  <a:pt x="82" y="128"/>
                  <a:pt x="82" y="128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77" y="128"/>
                  <a:pt x="28" y="132"/>
                  <a:pt x="24" y="132"/>
                </a:cubicBezTo>
                <a:cubicBezTo>
                  <a:pt x="18" y="132"/>
                  <a:pt x="16" y="132"/>
                  <a:pt x="15" y="132"/>
                </a:cubicBezTo>
                <a:cubicBezTo>
                  <a:pt x="15" y="132"/>
                  <a:pt x="15" y="132"/>
                  <a:pt x="15" y="132"/>
                </a:cubicBezTo>
                <a:cubicBezTo>
                  <a:pt x="6" y="141"/>
                  <a:pt x="0" y="152"/>
                  <a:pt x="12" y="163"/>
                </a:cubicBezTo>
                <a:cubicBezTo>
                  <a:pt x="23" y="173"/>
                  <a:pt x="65" y="171"/>
                  <a:pt x="94" y="172"/>
                </a:cubicBezTo>
                <a:cubicBezTo>
                  <a:pt x="95" y="172"/>
                  <a:pt x="95" y="172"/>
                  <a:pt x="95" y="172"/>
                </a:cubicBezTo>
                <a:cubicBezTo>
                  <a:pt x="95" y="172"/>
                  <a:pt x="95" y="172"/>
                  <a:pt x="95" y="172"/>
                </a:cubicBezTo>
                <a:cubicBezTo>
                  <a:pt x="96" y="172"/>
                  <a:pt x="89" y="172"/>
                  <a:pt x="91" y="172"/>
                </a:cubicBezTo>
                <a:cubicBezTo>
                  <a:pt x="95" y="172"/>
                  <a:pt x="99" y="172"/>
                  <a:pt x="102" y="172"/>
                </a:cubicBezTo>
                <a:cubicBezTo>
                  <a:pt x="116" y="173"/>
                  <a:pt x="141" y="173"/>
                  <a:pt x="142" y="173"/>
                </a:cubicBezTo>
                <a:cubicBezTo>
                  <a:pt x="143" y="173"/>
                  <a:pt x="143" y="173"/>
                  <a:pt x="143" y="173"/>
                </a:cubicBezTo>
                <a:cubicBezTo>
                  <a:pt x="148" y="175"/>
                  <a:pt x="148" y="175"/>
                  <a:pt x="148" y="175"/>
                </a:cubicBezTo>
                <a:cubicBezTo>
                  <a:pt x="143" y="176"/>
                  <a:pt x="143" y="176"/>
                  <a:pt x="143" y="176"/>
                </a:cubicBezTo>
                <a:cubicBezTo>
                  <a:pt x="142" y="176"/>
                  <a:pt x="142" y="176"/>
                  <a:pt x="142" y="176"/>
                </a:cubicBezTo>
                <a:cubicBezTo>
                  <a:pt x="142" y="176"/>
                  <a:pt x="139" y="176"/>
                  <a:pt x="129" y="177"/>
                </a:cubicBezTo>
                <a:cubicBezTo>
                  <a:pt x="143" y="206"/>
                  <a:pt x="119" y="223"/>
                  <a:pt x="115" y="238"/>
                </a:cubicBezTo>
                <a:cubicBezTo>
                  <a:pt x="101" y="291"/>
                  <a:pt x="129" y="296"/>
                  <a:pt x="129" y="296"/>
                </a:cubicBezTo>
                <a:cubicBezTo>
                  <a:pt x="129" y="296"/>
                  <a:pt x="200" y="200"/>
                  <a:pt x="207" y="169"/>
                </a:cubicBezTo>
                <a:cubicBezTo>
                  <a:pt x="212" y="148"/>
                  <a:pt x="240" y="150"/>
                  <a:pt x="250" y="150"/>
                </a:cubicBezTo>
                <a:cubicBezTo>
                  <a:pt x="298" y="152"/>
                  <a:pt x="308" y="31"/>
                  <a:pt x="255" y="21"/>
                </a:cubicBezTo>
                <a:cubicBezTo>
                  <a:pt x="244" y="19"/>
                  <a:pt x="232" y="31"/>
                  <a:pt x="209" y="21"/>
                </a:cubicBezTo>
                <a:cubicBezTo>
                  <a:pt x="159" y="0"/>
                  <a:pt x="116" y="9"/>
                  <a:pt x="76" y="10"/>
                </a:cubicBezTo>
                <a:cubicBezTo>
                  <a:pt x="49" y="11"/>
                  <a:pt x="51" y="30"/>
                  <a:pt x="53" y="40"/>
                </a:cubicBezTo>
                <a:cubicBezTo>
                  <a:pt x="66" y="40"/>
                  <a:pt x="79" y="41"/>
                  <a:pt x="80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7" y="44"/>
                  <a:pt x="87" y="44"/>
                  <a:pt x="87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81" y="47"/>
                  <a:pt x="81" y="47"/>
                  <a:pt x="81" y="47"/>
                </a:cubicBezTo>
                <a:cubicBezTo>
                  <a:pt x="79" y="47"/>
                  <a:pt x="61" y="48"/>
                  <a:pt x="46" y="49"/>
                </a:cubicBezTo>
                <a:cubicBezTo>
                  <a:pt x="32" y="59"/>
                  <a:pt x="36" y="69"/>
                  <a:pt x="39" y="76"/>
                </a:cubicBezTo>
                <a:cubicBezTo>
                  <a:pt x="55" y="77"/>
                  <a:pt x="76" y="78"/>
                  <a:pt x="77" y="78"/>
                </a:cubicBezTo>
                <a:lnTo>
                  <a:pt x="8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矩形 34"/>
          <p:cNvSpPr/>
          <p:nvPr/>
        </p:nvSpPr>
        <p:spPr>
          <a:xfrm>
            <a:off x="3492360" y="2428920"/>
            <a:ext cx="73915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13"/>
          <p:cNvSpPr/>
          <p:nvPr/>
        </p:nvSpPr>
        <p:spPr>
          <a:xfrm>
            <a:off x="3492360" y="21495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矩形 36"/>
          <p:cNvSpPr/>
          <p:nvPr/>
        </p:nvSpPr>
        <p:spPr>
          <a:xfrm>
            <a:off x="3492360" y="4718160"/>
            <a:ext cx="73915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13"/>
          <p:cNvSpPr/>
          <p:nvPr/>
        </p:nvSpPr>
        <p:spPr>
          <a:xfrm>
            <a:off x="3492360" y="44388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"/>
          <p:cNvSpPr/>
          <p:nvPr/>
        </p:nvSpPr>
        <p:spPr>
          <a:xfrm>
            <a:off x="2660760" y="1982880"/>
            <a:ext cx="3116160" cy="31161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805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4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8" name="图片 2" descr=""/>
          <p:cNvPicPr/>
          <p:nvPr/>
        </p:nvPicPr>
        <p:blipFill>
          <a:blip r:embed="rId1"/>
          <a:stretch/>
        </p:blipFill>
        <p:spPr>
          <a:xfrm>
            <a:off x="3306600" y="1623960"/>
            <a:ext cx="1824120" cy="318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10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Group 10" descr=""/>
          <p:cNvPicPr/>
          <p:nvPr/>
        </p:nvPicPr>
        <p:blipFill>
          <a:blip r:embed="rId2"/>
          <a:stretch/>
        </p:blipFill>
        <p:spPr>
          <a:xfrm>
            <a:off x="1920960" y="2992320"/>
            <a:ext cx="1230120" cy="542880"/>
          </a:xfrm>
          <a:prstGeom prst="rect">
            <a:avLst/>
          </a:prstGeom>
          <a:ln w="0">
            <a:noFill/>
          </a:ln>
        </p:spPr>
      </p:pic>
      <p:pic>
        <p:nvPicPr>
          <p:cNvPr id="813" name="Group 11" descr=""/>
          <p:cNvPicPr/>
          <p:nvPr/>
        </p:nvPicPr>
        <p:blipFill>
          <a:blip r:embed="rId3"/>
          <a:stretch/>
        </p:blipFill>
        <p:spPr>
          <a:xfrm>
            <a:off x="2517840" y="3578400"/>
            <a:ext cx="1225440" cy="542880"/>
          </a:xfrm>
          <a:prstGeom prst="rect">
            <a:avLst/>
          </a:prstGeom>
          <a:ln w="0">
            <a:noFill/>
          </a:ln>
        </p:spPr>
      </p:pic>
      <p:pic>
        <p:nvPicPr>
          <p:cNvPr id="814" name="Group 18" descr=""/>
          <p:cNvPicPr/>
          <p:nvPr/>
        </p:nvPicPr>
        <p:blipFill>
          <a:blip r:embed="rId4"/>
          <a:stretch/>
        </p:blipFill>
        <p:spPr>
          <a:xfrm>
            <a:off x="3790800" y="2998800"/>
            <a:ext cx="1341720" cy="592200"/>
          </a:xfrm>
          <a:prstGeom prst="rect">
            <a:avLst/>
          </a:prstGeom>
          <a:ln w="0">
            <a:noFill/>
          </a:ln>
        </p:spPr>
      </p:pic>
      <p:pic>
        <p:nvPicPr>
          <p:cNvPr id="815" name="Group 25" descr=""/>
          <p:cNvPicPr/>
          <p:nvPr/>
        </p:nvPicPr>
        <p:blipFill>
          <a:blip r:embed="rId5"/>
          <a:stretch/>
        </p:blipFill>
        <p:spPr>
          <a:xfrm>
            <a:off x="4383000" y="3554280"/>
            <a:ext cx="1341360" cy="590760"/>
          </a:xfrm>
          <a:prstGeom prst="rect">
            <a:avLst/>
          </a:prstGeom>
          <a:ln w="0">
            <a:noFill/>
          </a:ln>
        </p:spPr>
      </p:pic>
      <p:pic>
        <p:nvPicPr>
          <p:cNvPr id="816" name="Group 32" descr=""/>
          <p:cNvPicPr/>
          <p:nvPr/>
        </p:nvPicPr>
        <p:blipFill>
          <a:blip r:embed="rId6"/>
          <a:stretch/>
        </p:blipFill>
        <p:spPr>
          <a:xfrm>
            <a:off x="5510160" y="2846520"/>
            <a:ext cx="1500120" cy="658800"/>
          </a:xfrm>
          <a:prstGeom prst="rect">
            <a:avLst/>
          </a:prstGeom>
          <a:ln w="0">
            <a:noFill/>
          </a:ln>
        </p:spPr>
      </p:pic>
      <p:pic>
        <p:nvPicPr>
          <p:cNvPr id="817" name="Group 39" descr=""/>
          <p:cNvPicPr/>
          <p:nvPr/>
        </p:nvPicPr>
        <p:blipFill>
          <a:blip r:embed="rId7"/>
          <a:stretch/>
        </p:blipFill>
        <p:spPr>
          <a:xfrm>
            <a:off x="6235560" y="3560760"/>
            <a:ext cx="1500480" cy="663480"/>
          </a:xfrm>
          <a:prstGeom prst="rect">
            <a:avLst/>
          </a:prstGeom>
          <a:ln w="0">
            <a:noFill/>
          </a:ln>
        </p:spPr>
      </p:pic>
      <p:pic>
        <p:nvPicPr>
          <p:cNvPr id="818" name="Group 46" descr=""/>
          <p:cNvPicPr/>
          <p:nvPr/>
        </p:nvPicPr>
        <p:blipFill>
          <a:blip r:embed="rId8"/>
          <a:stretch/>
        </p:blipFill>
        <p:spPr>
          <a:xfrm>
            <a:off x="7534440" y="2779560"/>
            <a:ext cx="1688760" cy="749520"/>
          </a:xfrm>
          <a:prstGeom prst="rect">
            <a:avLst/>
          </a:prstGeom>
          <a:ln w="0">
            <a:noFill/>
          </a:ln>
        </p:spPr>
      </p:pic>
      <p:pic>
        <p:nvPicPr>
          <p:cNvPr id="819" name="Group 53" descr=""/>
          <p:cNvPicPr/>
          <p:nvPr/>
        </p:nvPicPr>
        <p:blipFill>
          <a:blip r:embed="rId9"/>
          <a:stretch/>
        </p:blipFill>
        <p:spPr>
          <a:xfrm>
            <a:off x="8352000" y="3591000"/>
            <a:ext cx="1693800" cy="749160"/>
          </a:xfrm>
          <a:prstGeom prst="rect">
            <a:avLst/>
          </a:prstGeom>
          <a:ln w="0">
            <a:noFill/>
          </a:ln>
        </p:spPr>
      </p:pic>
      <p:sp>
        <p:nvSpPr>
          <p:cNvPr id="820" name="Straight Connector 61"/>
          <p:cNvSpPr/>
          <p:nvPr/>
        </p:nvSpPr>
        <p:spPr>
          <a:xfrm>
            <a:off x="3192480" y="4145040"/>
            <a:ext cx="0" cy="60948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traight Connector 64"/>
          <p:cNvSpPr/>
          <p:nvPr/>
        </p:nvSpPr>
        <p:spPr>
          <a:xfrm flipV="1">
            <a:off x="2664000" y="2420640"/>
            <a:ext cx="0" cy="50940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traight Connector 67"/>
          <p:cNvSpPr/>
          <p:nvPr/>
        </p:nvSpPr>
        <p:spPr>
          <a:xfrm>
            <a:off x="5089680" y="4227480"/>
            <a:ext cx="0" cy="54144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traight Connector 70"/>
          <p:cNvSpPr/>
          <p:nvPr/>
        </p:nvSpPr>
        <p:spPr>
          <a:xfrm flipV="1">
            <a:off x="4560840" y="2420640"/>
            <a:ext cx="0" cy="50796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traight Connector 73"/>
          <p:cNvSpPr/>
          <p:nvPr/>
        </p:nvSpPr>
        <p:spPr>
          <a:xfrm>
            <a:off x="6875640" y="4255920"/>
            <a:ext cx="0" cy="50508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traight Connector 76"/>
          <p:cNvSpPr/>
          <p:nvPr/>
        </p:nvSpPr>
        <p:spPr>
          <a:xfrm flipV="1">
            <a:off x="6346800" y="2406600"/>
            <a:ext cx="0" cy="39528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traight Connector 79"/>
          <p:cNvSpPr/>
          <p:nvPr/>
        </p:nvSpPr>
        <p:spPr>
          <a:xfrm>
            <a:off x="9028080" y="4354560"/>
            <a:ext cx="0" cy="39672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traight Connector 82"/>
          <p:cNvSpPr/>
          <p:nvPr/>
        </p:nvSpPr>
        <p:spPr>
          <a:xfrm flipV="1">
            <a:off x="8499600" y="2420640"/>
            <a:ext cx="0" cy="323640"/>
          </a:xfrm>
          <a:prstGeom prst="line">
            <a:avLst/>
          </a:prstGeom>
          <a:ln w="12600">
            <a:solidFill>
              <a:srgbClr val="adbaca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61"/>
          <p:cNvSpPr/>
          <p:nvPr/>
        </p:nvSpPr>
        <p:spPr>
          <a:xfrm>
            <a:off x="1724040" y="200484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61"/>
          <p:cNvSpPr/>
          <p:nvPr/>
        </p:nvSpPr>
        <p:spPr>
          <a:xfrm>
            <a:off x="3552840" y="199548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61"/>
          <p:cNvSpPr/>
          <p:nvPr/>
        </p:nvSpPr>
        <p:spPr>
          <a:xfrm>
            <a:off x="5353200" y="198612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61"/>
          <p:cNvSpPr/>
          <p:nvPr/>
        </p:nvSpPr>
        <p:spPr>
          <a:xfrm>
            <a:off x="7500960" y="1986120"/>
            <a:ext cx="19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61"/>
          <p:cNvSpPr/>
          <p:nvPr/>
        </p:nvSpPr>
        <p:spPr>
          <a:xfrm>
            <a:off x="2198520" y="4946760"/>
            <a:ext cx="19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61"/>
          <p:cNvSpPr/>
          <p:nvPr/>
        </p:nvSpPr>
        <p:spPr>
          <a:xfrm>
            <a:off x="4094280" y="4946760"/>
            <a:ext cx="19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61"/>
          <p:cNvSpPr/>
          <p:nvPr/>
        </p:nvSpPr>
        <p:spPr>
          <a:xfrm>
            <a:off x="5881680" y="494676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61"/>
          <p:cNvSpPr/>
          <p:nvPr/>
        </p:nvSpPr>
        <p:spPr>
          <a:xfrm>
            <a:off x="8029440" y="4935600"/>
            <a:ext cx="19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E:\Work\Private\Image Bank\IMG_5778.jpg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sp>
        <p:nvSpPr>
          <p:cNvPr id="837" name="矩形 1"/>
          <p:cNvSpPr/>
          <p:nvPr/>
        </p:nvSpPr>
        <p:spPr>
          <a:xfrm>
            <a:off x="-9360" y="0"/>
            <a:ext cx="12201480" cy="6858000"/>
          </a:xfrm>
          <a:prstGeom prst="rect">
            <a:avLst/>
          </a:prstGeom>
          <a:solidFill>
            <a:srgbClr val="7f7f7f">
              <a:alpha val="5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2"/>
          <p:cNvSpPr/>
          <p:nvPr/>
        </p:nvSpPr>
        <p:spPr>
          <a:xfrm>
            <a:off x="7839000" y="2432160"/>
            <a:ext cx="811440" cy="654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5"/>
          <p:cNvSpPr/>
          <p:nvPr/>
        </p:nvSpPr>
        <p:spPr>
          <a:xfrm>
            <a:off x="6431040" y="3914640"/>
            <a:ext cx="3636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7080120" y="35100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12"/>
          <p:cNvSpPr/>
          <p:nvPr/>
        </p:nvSpPr>
        <p:spPr>
          <a:xfrm>
            <a:off x="3392640" y="2432160"/>
            <a:ext cx="811080" cy="654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5"/>
          <p:cNvSpPr/>
          <p:nvPr/>
        </p:nvSpPr>
        <p:spPr>
          <a:xfrm>
            <a:off x="1984320" y="3914640"/>
            <a:ext cx="36370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2633760" y="35100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椭圆 7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椭圆 8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椭圆 9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椭圆 10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1"/>
          <p:cNvSpPr/>
          <p:nvPr/>
        </p:nvSpPr>
        <p:spPr>
          <a:xfrm>
            <a:off x="1967040" y="3860640"/>
            <a:ext cx="5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2"/>
          <p:cNvSpPr/>
          <p:nvPr/>
        </p:nvSpPr>
        <p:spPr>
          <a:xfrm>
            <a:off x="4519440" y="38768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3"/>
          <p:cNvSpPr/>
          <p:nvPr/>
        </p:nvSpPr>
        <p:spPr>
          <a:xfrm>
            <a:off x="7064280" y="387504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4"/>
          <p:cNvSpPr/>
          <p:nvPr/>
        </p:nvSpPr>
        <p:spPr>
          <a:xfrm>
            <a:off x="9590040" y="388476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任意多边形 44"/>
          <p:cNvSpPr/>
          <p:nvPr/>
        </p:nvSpPr>
        <p:spPr>
          <a:xfrm>
            <a:off x="0" y="744480"/>
            <a:ext cx="3692520" cy="5438880"/>
          </a:xfrm>
          <a:custGeom>
            <a:avLst/>
            <a:gdLst/>
            <a:ahLst/>
            <a:rect l="l" t="t" r="r" b="b"/>
            <a:pathLst>
              <a:path w="3693107" h="5439190">
                <a:moveTo>
                  <a:pt x="973512" y="0"/>
                </a:moveTo>
                <a:cubicBezTo>
                  <a:pt x="2475503" y="0"/>
                  <a:pt x="3693107" y="1217604"/>
                  <a:pt x="3693107" y="2719595"/>
                </a:cubicBezTo>
                <a:cubicBezTo>
                  <a:pt x="3693107" y="4221586"/>
                  <a:pt x="2475503" y="5439190"/>
                  <a:pt x="973512" y="5439190"/>
                </a:cubicBezTo>
                <a:cubicBezTo>
                  <a:pt x="691889" y="5439190"/>
                  <a:pt x="420264" y="5396384"/>
                  <a:pt x="164788" y="5316923"/>
                </a:cubicBezTo>
                <a:lnTo>
                  <a:pt x="0" y="5256610"/>
                </a:lnTo>
                <a:lnTo>
                  <a:pt x="0" y="182581"/>
                </a:lnTo>
                <a:lnTo>
                  <a:pt x="164788" y="122268"/>
                </a:lnTo>
                <a:cubicBezTo>
                  <a:pt x="420264" y="42807"/>
                  <a:pt x="691889" y="0"/>
                  <a:pt x="973512" y="0"/>
                </a:cubicBez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4"/>
          <p:cNvSpPr/>
          <p:nvPr/>
        </p:nvSpPr>
        <p:spPr>
          <a:xfrm flipH="1" rot="1223400">
            <a:off x="2090520" y="5237280"/>
            <a:ext cx="364680" cy="447480"/>
          </a:xfrm>
          <a:prstGeom prst="rtTriangl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角三角形 5"/>
          <p:cNvSpPr/>
          <p:nvPr/>
        </p:nvSpPr>
        <p:spPr>
          <a:xfrm rot="3958800">
            <a:off x="2665440" y="1468440"/>
            <a:ext cx="217800" cy="3441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9"/>
          <p:cNvSpPr/>
          <p:nvPr/>
        </p:nvSpPr>
        <p:spPr>
          <a:xfrm flipH="1">
            <a:off x="-39600" y="2044800"/>
            <a:ext cx="1249200" cy="106812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接连接符 10"/>
          <p:cNvSpPr/>
          <p:nvPr/>
        </p:nvSpPr>
        <p:spPr>
          <a:xfrm flipH="1">
            <a:off x="-39600" y="1400040"/>
            <a:ext cx="1598400" cy="13590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1"/>
          <p:cNvSpPr/>
          <p:nvPr/>
        </p:nvSpPr>
        <p:spPr>
          <a:xfrm flipH="1">
            <a:off x="-28440" y="744480"/>
            <a:ext cx="3092400" cy="2681280"/>
          </a:xfrm>
          <a:prstGeom prst="line">
            <a:avLst/>
          </a:prstGeom>
          <a:ln w="7632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13"/>
          <p:cNvSpPr/>
          <p:nvPr/>
        </p:nvSpPr>
        <p:spPr>
          <a:xfrm>
            <a:off x="693720" y="305748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4"/>
          <p:cNvSpPr/>
          <p:nvPr/>
        </p:nvSpPr>
        <p:spPr>
          <a:xfrm>
            <a:off x="693720" y="373680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椭圆 19"/>
          <p:cNvSpPr/>
          <p:nvPr/>
        </p:nvSpPr>
        <p:spPr>
          <a:xfrm>
            <a:off x="5327640" y="2044800"/>
            <a:ext cx="442800" cy="46188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20"/>
          <p:cNvSpPr/>
          <p:nvPr/>
        </p:nvSpPr>
        <p:spPr>
          <a:xfrm>
            <a:off x="5272200" y="207504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17"/>
          <p:cNvSpPr/>
          <p:nvPr/>
        </p:nvSpPr>
        <p:spPr>
          <a:xfrm flipH="1">
            <a:off x="5874840" y="2114640"/>
            <a:ext cx="117720" cy="32364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18"/>
          <p:cNvSpPr/>
          <p:nvPr/>
        </p:nvSpPr>
        <p:spPr>
          <a:xfrm>
            <a:off x="5973840" y="206676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25"/>
          <p:cNvSpPr/>
          <p:nvPr/>
        </p:nvSpPr>
        <p:spPr>
          <a:xfrm>
            <a:off x="5327640" y="2849400"/>
            <a:ext cx="442800" cy="46224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26"/>
          <p:cNvSpPr/>
          <p:nvPr/>
        </p:nvSpPr>
        <p:spPr>
          <a:xfrm>
            <a:off x="5272200" y="287964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接连接符 23"/>
          <p:cNvSpPr/>
          <p:nvPr/>
        </p:nvSpPr>
        <p:spPr>
          <a:xfrm flipH="1">
            <a:off x="5874840" y="2919240"/>
            <a:ext cx="117720" cy="32400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24"/>
          <p:cNvSpPr/>
          <p:nvPr/>
        </p:nvSpPr>
        <p:spPr>
          <a:xfrm>
            <a:off x="5973840" y="287172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31"/>
          <p:cNvSpPr/>
          <p:nvPr/>
        </p:nvSpPr>
        <p:spPr>
          <a:xfrm>
            <a:off x="5327640" y="3632040"/>
            <a:ext cx="442800" cy="46044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32"/>
          <p:cNvSpPr/>
          <p:nvPr/>
        </p:nvSpPr>
        <p:spPr>
          <a:xfrm>
            <a:off x="5272200" y="3662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29"/>
          <p:cNvSpPr/>
          <p:nvPr/>
        </p:nvSpPr>
        <p:spPr>
          <a:xfrm flipH="1">
            <a:off x="5874840" y="3701880"/>
            <a:ext cx="117720" cy="32400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30"/>
          <p:cNvSpPr/>
          <p:nvPr/>
        </p:nvSpPr>
        <p:spPr>
          <a:xfrm>
            <a:off x="5973840" y="365436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椭圆 37"/>
          <p:cNvSpPr/>
          <p:nvPr/>
        </p:nvSpPr>
        <p:spPr>
          <a:xfrm>
            <a:off x="5327640" y="4443480"/>
            <a:ext cx="442800" cy="461880"/>
          </a:xfrm>
          <a:prstGeom prst="ellipse">
            <a:avLst/>
          </a:prstGeom>
          <a:noFill/>
          <a:ln w="190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38"/>
          <p:cNvSpPr/>
          <p:nvPr/>
        </p:nvSpPr>
        <p:spPr>
          <a:xfrm>
            <a:off x="5272200" y="447372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接连接符 35"/>
          <p:cNvSpPr/>
          <p:nvPr/>
        </p:nvSpPr>
        <p:spPr>
          <a:xfrm flipH="1">
            <a:off x="5874840" y="4513320"/>
            <a:ext cx="117720" cy="32364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36"/>
          <p:cNvSpPr/>
          <p:nvPr/>
        </p:nvSpPr>
        <p:spPr>
          <a:xfrm>
            <a:off x="5973840" y="446580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此处添加标题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直接连接符 48"/>
          <p:cNvSpPr/>
          <p:nvPr/>
        </p:nvSpPr>
        <p:spPr>
          <a:xfrm flipH="1">
            <a:off x="-28800" y="5803920"/>
            <a:ext cx="479160" cy="40968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接连接符 50"/>
          <p:cNvSpPr/>
          <p:nvPr/>
        </p:nvSpPr>
        <p:spPr>
          <a:xfrm flipH="1">
            <a:off x="-19440" y="5560920"/>
            <a:ext cx="871560" cy="7462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42"/>
          <p:cNvGrpSpPr/>
          <p:nvPr/>
        </p:nvGrpSpPr>
        <p:grpSpPr>
          <a:xfrm>
            <a:off x="2842200" y="1621800"/>
            <a:ext cx="1062360" cy="1083960"/>
            <a:chOff x="2842200" y="1621800"/>
            <a:chExt cx="1062360" cy="1083960"/>
          </a:xfrm>
        </p:grpSpPr>
        <p:sp>
          <p:nvSpPr>
            <p:cNvPr id="551" name="直角三角形 49"/>
            <p:cNvSpPr/>
            <p:nvPr/>
          </p:nvSpPr>
          <p:spPr>
            <a:xfrm rot="2505600">
              <a:off x="3328560" y="1842480"/>
              <a:ext cx="330480" cy="86292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51"/>
            <p:cNvSpPr/>
            <p:nvPr/>
          </p:nvSpPr>
          <p:spPr>
            <a:xfrm flipH="1" rot="2505000">
              <a:off x="3087000" y="1621800"/>
              <a:ext cx="330480" cy="86292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任意多边形 50"/>
          <p:cNvSpPr/>
          <p:nvPr/>
        </p:nvSpPr>
        <p:spPr>
          <a:xfrm>
            <a:off x="5416560" y="3033720"/>
            <a:ext cx="4492440" cy="2922480"/>
          </a:xfrm>
          <a:custGeom>
            <a:avLst/>
            <a:gdLst/>
            <a:ahLst/>
            <a:rect l="l" t="t" r="r" b="b"/>
            <a:pathLst>
              <a:path w="5057776" h="3290711">
                <a:moveTo>
                  <a:pt x="117284" y="0"/>
                </a:moveTo>
                <a:lnTo>
                  <a:pt x="4940492" y="0"/>
                </a:lnTo>
                <a:lnTo>
                  <a:pt x="4944082" y="9809"/>
                </a:lnTo>
                <a:cubicBezTo>
                  <a:pt x="5017972" y="247370"/>
                  <a:pt x="5057776" y="499948"/>
                  <a:pt x="5057776" y="761823"/>
                </a:cubicBezTo>
                <a:cubicBezTo>
                  <a:pt x="5057776" y="2158489"/>
                  <a:pt x="3925554" y="3290711"/>
                  <a:pt x="2528888" y="3290711"/>
                </a:cubicBezTo>
                <a:cubicBezTo>
                  <a:pt x="1132222" y="3290711"/>
                  <a:pt x="0" y="2158489"/>
                  <a:pt x="0" y="761823"/>
                </a:cubicBezTo>
                <a:cubicBezTo>
                  <a:pt x="0" y="499948"/>
                  <a:pt x="39805" y="247370"/>
                  <a:pt x="113694" y="9809"/>
                </a:cubicBezTo>
                <a:lnTo>
                  <a:pt x="117284" y="0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直接连接符 8"/>
          <p:cNvSpPr/>
          <p:nvPr/>
        </p:nvSpPr>
        <p:spPr>
          <a:xfrm flipH="1">
            <a:off x="1314000" y="0"/>
            <a:ext cx="1752840" cy="1752480"/>
          </a:xfrm>
          <a:prstGeom prst="line">
            <a:avLst/>
          </a:prstGeom>
          <a:ln w="64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直接连接符 9"/>
          <p:cNvSpPr/>
          <p:nvPr/>
        </p:nvSpPr>
        <p:spPr>
          <a:xfrm flipH="1">
            <a:off x="1509840" y="-19080"/>
            <a:ext cx="1752480" cy="17524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10"/>
          <p:cNvSpPr/>
          <p:nvPr/>
        </p:nvSpPr>
        <p:spPr>
          <a:xfrm flipH="1">
            <a:off x="914400" y="-57240"/>
            <a:ext cx="2720880" cy="2743200"/>
          </a:xfrm>
          <a:prstGeom prst="line">
            <a:avLst/>
          </a:prstGeom>
          <a:ln w="7632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12"/>
          <p:cNvSpPr/>
          <p:nvPr/>
        </p:nvSpPr>
        <p:spPr>
          <a:xfrm flipH="1">
            <a:off x="2336760" y="-57240"/>
            <a:ext cx="1581120" cy="1581120"/>
          </a:xfrm>
          <a:prstGeom prst="line">
            <a:avLst/>
          </a:prstGeom>
          <a:ln w="38160">
            <a:solidFill>
              <a:srgbClr val="12b1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17"/>
          <p:cNvSpPr/>
          <p:nvPr/>
        </p:nvSpPr>
        <p:spPr>
          <a:xfrm flipH="1">
            <a:off x="3742920" y="-28440"/>
            <a:ext cx="2678040" cy="275400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椭圆 19"/>
          <p:cNvSpPr/>
          <p:nvPr/>
        </p:nvSpPr>
        <p:spPr>
          <a:xfrm>
            <a:off x="1138320" y="2743200"/>
            <a:ext cx="743040" cy="743040"/>
          </a:xfrm>
          <a:prstGeom prst="ellipse">
            <a:avLst/>
          </a:prstGeom>
          <a:solidFill>
            <a:srgbClr val="45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椭圆 20"/>
          <p:cNvSpPr/>
          <p:nvPr/>
        </p:nvSpPr>
        <p:spPr>
          <a:xfrm>
            <a:off x="600120" y="3287880"/>
            <a:ext cx="371520" cy="371160"/>
          </a:xfrm>
          <a:prstGeom prst="ellipse">
            <a:avLst/>
          </a:prstGeom>
          <a:solidFill>
            <a:srgbClr val="3d0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直接连接符 23"/>
          <p:cNvSpPr/>
          <p:nvPr/>
        </p:nvSpPr>
        <p:spPr>
          <a:xfrm flipH="1">
            <a:off x="0" y="5246640"/>
            <a:ext cx="735120" cy="62856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直接连接符 25"/>
          <p:cNvSpPr/>
          <p:nvPr/>
        </p:nvSpPr>
        <p:spPr>
          <a:xfrm flipH="1">
            <a:off x="-86040" y="4672080"/>
            <a:ext cx="1041480" cy="8841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26"/>
          <p:cNvSpPr/>
          <p:nvPr/>
        </p:nvSpPr>
        <p:spPr>
          <a:xfrm flipH="1">
            <a:off x="450720" y="5661000"/>
            <a:ext cx="1446480" cy="125424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直角三角形 28"/>
          <p:cNvSpPr/>
          <p:nvPr/>
        </p:nvSpPr>
        <p:spPr>
          <a:xfrm flipH="1" rot="1223400">
            <a:off x="2452320" y="5208480"/>
            <a:ext cx="364680" cy="447840"/>
          </a:xfrm>
          <a:prstGeom prst="rtTriangle">
            <a:avLst/>
          </a:prstGeom>
          <a:solidFill>
            <a:srgbClr val="33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直角三角形 29"/>
          <p:cNvSpPr/>
          <p:nvPr/>
        </p:nvSpPr>
        <p:spPr>
          <a:xfrm rot="3958800">
            <a:off x="3271320" y="4135320"/>
            <a:ext cx="218880" cy="3459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32"/>
          <p:cNvSpPr/>
          <p:nvPr/>
        </p:nvSpPr>
        <p:spPr>
          <a:xfrm flipH="1">
            <a:off x="10526760" y="-71280"/>
            <a:ext cx="1125360" cy="1114200"/>
          </a:xfrm>
          <a:prstGeom prst="line">
            <a:avLst/>
          </a:prstGeom>
          <a:ln w="76320">
            <a:solidFill>
              <a:srgbClr val="adb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直接连接符 34"/>
          <p:cNvSpPr/>
          <p:nvPr/>
        </p:nvSpPr>
        <p:spPr>
          <a:xfrm flipH="1">
            <a:off x="9890280" y="-28440"/>
            <a:ext cx="2063520" cy="2141280"/>
          </a:xfrm>
          <a:prstGeom prst="line">
            <a:avLst/>
          </a:prstGeom>
          <a:ln w="6480">
            <a:solidFill>
              <a:srgbClr val="9ad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直接连接符 36"/>
          <p:cNvSpPr/>
          <p:nvPr/>
        </p:nvSpPr>
        <p:spPr>
          <a:xfrm flipH="1">
            <a:off x="11552040" y="0"/>
            <a:ext cx="655560" cy="66996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直接连接符 38"/>
          <p:cNvSpPr/>
          <p:nvPr/>
        </p:nvSpPr>
        <p:spPr>
          <a:xfrm flipH="1">
            <a:off x="11174040" y="206280"/>
            <a:ext cx="1033560" cy="103212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42"/>
          <p:cNvGrpSpPr/>
          <p:nvPr/>
        </p:nvGrpSpPr>
        <p:grpSpPr>
          <a:xfrm>
            <a:off x="1834920" y="4383000"/>
            <a:ext cx="1028880" cy="905400"/>
            <a:chOff x="1834920" y="4383000"/>
            <a:chExt cx="1028880" cy="905400"/>
          </a:xfrm>
        </p:grpSpPr>
        <p:sp>
          <p:nvSpPr>
            <p:cNvPr id="891" name="直角三角形 40"/>
            <p:cNvSpPr/>
            <p:nvPr/>
          </p:nvSpPr>
          <p:spPr>
            <a:xfrm rot="4251600">
              <a:off x="2235600" y="4558320"/>
              <a:ext cx="331200" cy="86364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角三角形 41"/>
            <p:cNvSpPr/>
            <p:nvPr/>
          </p:nvSpPr>
          <p:spPr>
            <a:xfrm flipH="1" rot="4251600">
              <a:off x="2131560" y="4249080"/>
              <a:ext cx="331200" cy="86364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组合 43"/>
          <p:cNvGrpSpPr/>
          <p:nvPr/>
        </p:nvGrpSpPr>
        <p:grpSpPr>
          <a:xfrm>
            <a:off x="9539640" y="533520"/>
            <a:ext cx="826560" cy="781920"/>
            <a:chOff x="9539640" y="533520"/>
            <a:chExt cx="826560" cy="781920"/>
          </a:xfrm>
        </p:grpSpPr>
        <p:sp>
          <p:nvSpPr>
            <p:cNvPr id="894" name="直角三角形 44"/>
            <p:cNvSpPr/>
            <p:nvPr/>
          </p:nvSpPr>
          <p:spPr>
            <a:xfrm rot="3506400">
              <a:off x="9892440" y="703080"/>
              <a:ext cx="250560" cy="663480"/>
            </a:xfrm>
            <a:prstGeom prst="rtTriangl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角三角形 45"/>
            <p:cNvSpPr/>
            <p:nvPr/>
          </p:nvSpPr>
          <p:spPr>
            <a:xfrm flipH="1" rot="3506400">
              <a:off x="9761760" y="482760"/>
              <a:ext cx="252360" cy="663480"/>
            </a:xfrm>
            <a:prstGeom prst="rtTriangle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62"/>
          <p:cNvSpPr/>
          <p:nvPr/>
        </p:nvSpPr>
        <p:spPr>
          <a:xfrm>
            <a:off x="6939000" y="2346480"/>
            <a:ext cx="1316160" cy="5205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 Light"/>
                <a:ea typeface="微软雅黑 Light"/>
              </a:rPr>
              <a:t>千库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61"/>
          <p:cNvSpPr/>
          <p:nvPr/>
        </p:nvSpPr>
        <p:spPr>
          <a:xfrm>
            <a:off x="4799160" y="3425760"/>
            <a:ext cx="57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d7d31"/>
                </a:solidFill>
                <a:latin typeface="Impact"/>
                <a:ea typeface="微软雅黑"/>
              </a:rPr>
              <a:t>THANK</a:t>
            </a:r>
            <a:r>
              <a:rPr b="0" lang="en-US" sz="9600" spc="-1" strike="noStrike">
                <a:solidFill>
                  <a:srgbClr val="00b0f0"/>
                </a:solidFill>
                <a:latin typeface="Impact"/>
                <a:ea typeface="微软雅黑"/>
              </a:rPr>
              <a:t> </a:t>
            </a: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文本框 3"/>
          <p:cNvSpPr/>
          <p:nvPr/>
        </p:nvSpPr>
        <p:spPr>
          <a:xfrm>
            <a:off x="1654200" y="1170000"/>
            <a:ext cx="9021600" cy="23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83e6"/>
                </a:solidFill>
                <a:latin typeface="微软雅黑"/>
                <a:ea typeface="微软雅黑"/>
              </a:rPr>
              <a:t>版权声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感谢您下载千库网平台上提供的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作品，为了您和千库网以及原创作者的利益，请勿复制、传播、销售，否则将承担法律责任！千库网将对作品进行维权，按照传播下载次数进行十倍的索取赔偿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在千库网出售的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模板是免版税类（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RF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Royalty-Free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）正版受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中国人民共和国著作法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》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和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世界版权公约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》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的保护，作品的所有权、版权和著作权归千库网所有，您下载的是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模板素材的使用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不得将千库网的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83e6"/>
                </a:solidFill>
                <a:latin typeface="微软雅黑"/>
                <a:ea typeface="微软雅黑"/>
              </a:rPr>
              <a:t>素材，本身用于再出售，或者出租、出借、转让、分销、发布或者作为礼物供他人使用，不得转授权、出卖、转让本协议或者本协议中的权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8"/>
          <p:cNvSpPr/>
          <p:nvPr/>
        </p:nvSpPr>
        <p:spPr>
          <a:xfrm>
            <a:off x="1654200" y="4719600"/>
            <a:ext cx="7294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83e6"/>
                </a:solidFill>
                <a:latin typeface="Calibri"/>
              </a:rPr>
              <a:t>更多精品</a:t>
            </a:r>
            <a:r>
              <a:rPr b="1" lang="en-US" sz="2300" spc="-1" strike="noStrike">
                <a:solidFill>
                  <a:srgbClr val="0083e6"/>
                </a:solidFill>
                <a:latin typeface="Calibri"/>
              </a:rPr>
              <a:t>PPT</a:t>
            </a:r>
            <a:r>
              <a:rPr b="1" lang="zh-CN" sz="2300" spc="-1" strike="noStrike">
                <a:solidFill>
                  <a:srgbClr val="0083e6"/>
                </a:solidFill>
                <a:latin typeface="Calibri"/>
              </a:rPr>
              <a:t>模板：</a:t>
            </a:r>
            <a:r>
              <a:rPr b="1" lang="en-US" sz="2300" spc="-1" strike="noStrike">
                <a:solidFill>
                  <a:srgbClr val="0083e6"/>
                </a:solidFill>
                <a:latin typeface="Calibri"/>
              </a:rPr>
              <a:t>http://588ku.com/ppt/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7" descr=""/>
          <p:cNvPicPr/>
          <p:nvPr/>
        </p:nvPicPr>
        <p:blipFill>
          <a:blip r:embed="rId1"/>
          <a:stretch/>
        </p:blipFill>
        <p:spPr>
          <a:xfrm>
            <a:off x="947880" y="1414440"/>
            <a:ext cx="4829040" cy="4500720"/>
          </a:xfrm>
          <a:prstGeom prst="rect">
            <a:avLst/>
          </a:prstGeom>
          <a:ln w="0">
            <a:noFill/>
          </a:ln>
        </p:spPr>
      </p:pic>
      <p:grpSp>
        <p:nvGrpSpPr>
          <p:cNvPr id="555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556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1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12168360" cy="6851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2"/>
          <a:stretch/>
        </p:blipFill>
        <p:spPr>
          <a:xfrm>
            <a:off x="3381480" y="1081080"/>
            <a:ext cx="2490840" cy="2760840"/>
          </a:xfrm>
          <a:prstGeom prst="rect">
            <a:avLst/>
          </a:prstGeom>
          <a:ln w="0">
            <a:noFill/>
          </a:ln>
        </p:spPr>
      </p:pic>
      <p:sp>
        <p:nvSpPr>
          <p:cNvPr id="561" name="矩形 10"/>
          <p:cNvSpPr/>
          <p:nvPr/>
        </p:nvSpPr>
        <p:spPr>
          <a:xfrm>
            <a:off x="-33480" y="6480"/>
            <a:ext cx="12201840" cy="6858000"/>
          </a:xfrm>
          <a:prstGeom prst="rect">
            <a:avLst/>
          </a:prstGeom>
          <a:solidFill>
            <a:srgbClr val="7f7f7f">
              <a:alpha val="5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641920" y="452520"/>
            <a:ext cx="6526440" cy="6405480"/>
          </a:xfrm>
          <a:prstGeom prst="rect">
            <a:avLst/>
          </a:prstGeom>
          <a:ln w="0">
            <a:noFill/>
          </a:ln>
        </p:spPr>
      </p:pic>
      <p:grpSp>
        <p:nvGrpSpPr>
          <p:cNvPr id="565" name="组合 1"/>
          <p:cNvGrpSpPr/>
          <p:nvPr/>
        </p:nvGrpSpPr>
        <p:grpSpPr>
          <a:xfrm>
            <a:off x="7332840" y="2244600"/>
            <a:ext cx="4314600" cy="3463920"/>
            <a:chOff x="7332840" y="2244600"/>
            <a:chExt cx="4314600" cy="3463920"/>
          </a:xfrm>
        </p:grpSpPr>
        <p:sp>
          <p:nvSpPr>
            <p:cNvPr id="566" name="矩形 6"/>
            <p:cNvSpPr/>
            <p:nvPr/>
          </p:nvSpPr>
          <p:spPr>
            <a:xfrm>
              <a:off x="7332840" y="3948480"/>
              <a:ext cx="4314600" cy="17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800" spc="-1" strike="noStrike">
                  <a:solidFill>
                    <a:srgbClr val="445469"/>
                  </a:solidFill>
                  <a:latin typeface="微软雅黑"/>
                  <a:ea typeface="微软雅黑"/>
                </a:rPr>
                <a:t>We have many PowerPoint template that specially designed to help you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800" spc="-1" strike="noStrike">
                  <a:solidFill>
                    <a:srgbClr val="445469"/>
                  </a:solidFill>
                  <a:latin typeface="微软雅黑"/>
                  <a:ea typeface="微软雅黑"/>
                </a:rPr>
                <a:t>We have many PowerPoint template that specially designed to help you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TextBox 13"/>
            <p:cNvSpPr/>
            <p:nvPr/>
          </p:nvSpPr>
          <p:spPr>
            <a:xfrm>
              <a:off x="7565040" y="3413880"/>
              <a:ext cx="337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2000" spc="-1" strike="noStrike">
                  <a:solidFill>
                    <a:srgbClr val="445469"/>
                  </a:solidFill>
                  <a:latin typeface="Arial"/>
                  <a:ea typeface="微软雅黑"/>
                </a:rPr>
                <a:t>单击编辑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8736840" y="2244600"/>
              <a:ext cx="1171440" cy="9421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44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traight Connector 15"/>
          <p:cNvSpPr/>
          <p:nvPr/>
        </p:nvSpPr>
        <p:spPr>
          <a:xfrm>
            <a:off x="974880" y="3692520"/>
            <a:ext cx="9928080" cy="0"/>
          </a:xfrm>
          <a:prstGeom prst="line">
            <a:avLst/>
          </a:prstGeom>
          <a:ln w="2844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20"/>
          <p:cNvSpPr/>
          <p:nvPr/>
        </p:nvSpPr>
        <p:spPr>
          <a:xfrm flipV="1">
            <a:off x="3741840" y="4254480"/>
            <a:ext cx="1123920" cy="11239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Isosceles Triangle 21"/>
          <p:cNvSpPr/>
          <p:nvPr/>
        </p:nvSpPr>
        <p:spPr>
          <a:xfrm>
            <a:off x="4181400" y="4100400"/>
            <a:ext cx="243000" cy="231840"/>
          </a:xfrm>
          <a:prstGeom prst="triangle">
            <a:avLst>
              <a:gd name="adj" fmla="val 500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traight Connector 22"/>
          <p:cNvSpPr/>
          <p:nvPr/>
        </p:nvSpPr>
        <p:spPr>
          <a:xfrm flipV="1">
            <a:off x="4303800" y="3686040"/>
            <a:ext cx="0" cy="471600"/>
          </a:xfrm>
          <a:prstGeom prst="line">
            <a:avLst/>
          </a:prstGeom>
          <a:ln w="6480">
            <a:solidFill>
              <a:srgbClr val="9ad3dc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6"/>
          <p:cNvSpPr/>
          <p:nvPr/>
        </p:nvSpPr>
        <p:spPr>
          <a:xfrm>
            <a:off x="4084560" y="4597560"/>
            <a:ext cx="436680" cy="436320"/>
          </a:xfrm>
          <a:custGeom>
            <a:avLst/>
            <a:gdLst/>
            <a:ahLst/>
            <a:rect l="l" t="t" r="r" b="b"/>
            <a:pathLst>
              <a:path w="371" h="370">
                <a:moveTo>
                  <a:pt x="183" y="1"/>
                </a:moveTo>
                <a:cubicBezTo>
                  <a:pt x="82" y="2"/>
                  <a:pt x="0" y="86"/>
                  <a:pt x="2" y="187"/>
                </a:cubicBezTo>
                <a:cubicBezTo>
                  <a:pt x="3" y="289"/>
                  <a:pt x="87" y="370"/>
                  <a:pt x="188" y="369"/>
                </a:cubicBezTo>
                <a:cubicBezTo>
                  <a:pt x="290" y="368"/>
                  <a:pt x="371" y="284"/>
                  <a:pt x="370" y="182"/>
                </a:cubicBezTo>
                <a:cubicBezTo>
                  <a:pt x="368" y="81"/>
                  <a:pt x="285" y="0"/>
                  <a:pt x="183" y="1"/>
                </a:cubicBezTo>
                <a:close/>
                <a:moveTo>
                  <a:pt x="184" y="25"/>
                </a:moveTo>
                <a:cubicBezTo>
                  <a:pt x="211" y="25"/>
                  <a:pt x="237" y="31"/>
                  <a:pt x="260" y="43"/>
                </a:cubicBezTo>
                <a:cubicBezTo>
                  <a:pt x="235" y="84"/>
                  <a:pt x="235" y="84"/>
                  <a:pt x="235" y="84"/>
                </a:cubicBezTo>
                <a:cubicBezTo>
                  <a:pt x="220" y="77"/>
                  <a:pt x="203" y="73"/>
                  <a:pt x="186" y="73"/>
                </a:cubicBezTo>
                <a:cubicBezTo>
                  <a:pt x="168" y="73"/>
                  <a:pt x="151" y="77"/>
                  <a:pt x="137" y="84"/>
                </a:cubicBezTo>
                <a:cubicBezTo>
                  <a:pt x="112" y="43"/>
                  <a:pt x="112" y="43"/>
                  <a:pt x="112" y="43"/>
                </a:cubicBezTo>
                <a:cubicBezTo>
                  <a:pt x="133" y="32"/>
                  <a:pt x="158" y="25"/>
                  <a:pt x="184" y="25"/>
                </a:cubicBezTo>
                <a:close/>
                <a:moveTo>
                  <a:pt x="85" y="234"/>
                </a:moveTo>
                <a:cubicBezTo>
                  <a:pt x="44" y="259"/>
                  <a:pt x="44" y="259"/>
                  <a:pt x="44" y="259"/>
                </a:cubicBezTo>
                <a:cubicBezTo>
                  <a:pt x="33" y="237"/>
                  <a:pt x="26" y="213"/>
                  <a:pt x="26" y="187"/>
                </a:cubicBezTo>
                <a:cubicBezTo>
                  <a:pt x="25" y="160"/>
                  <a:pt x="32" y="134"/>
                  <a:pt x="44" y="111"/>
                </a:cubicBezTo>
                <a:cubicBezTo>
                  <a:pt x="85" y="136"/>
                  <a:pt x="85" y="136"/>
                  <a:pt x="85" y="136"/>
                </a:cubicBezTo>
                <a:cubicBezTo>
                  <a:pt x="78" y="151"/>
                  <a:pt x="74" y="167"/>
                  <a:pt x="74" y="185"/>
                </a:cubicBezTo>
                <a:cubicBezTo>
                  <a:pt x="74" y="203"/>
                  <a:pt x="78" y="219"/>
                  <a:pt x="85" y="234"/>
                </a:cubicBezTo>
                <a:close/>
                <a:moveTo>
                  <a:pt x="188" y="345"/>
                </a:moveTo>
                <a:cubicBezTo>
                  <a:pt x="161" y="345"/>
                  <a:pt x="135" y="339"/>
                  <a:pt x="112" y="327"/>
                </a:cubicBezTo>
                <a:cubicBezTo>
                  <a:pt x="137" y="286"/>
                  <a:pt x="137" y="286"/>
                  <a:pt x="137" y="286"/>
                </a:cubicBezTo>
                <a:cubicBezTo>
                  <a:pt x="151" y="293"/>
                  <a:pt x="168" y="297"/>
                  <a:pt x="186" y="297"/>
                </a:cubicBezTo>
                <a:cubicBezTo>
                  <a:pt x="203" y="297"/>
                  <a:pt x="220" y="293"/>
                  <a:pt x="235" y="286"/>
                </a:cubicBezTo>
                <a:cubicBezTo>
                  <a:pt x="260" y="327"/>
                  <a:pt x="260" y="327"/>
                  <a:pt x="260" y="327"/>
                </a:cubicBezTo>
                <a:cubicBezTo>
                  <a:pt x="238" y="338"/>
                  <a:pt x="214" y="345"/>
                  <a:pt x="188" y="345"/>
                </a:cubicBezTo>
                <a:close/>
                <a:moveTo>
                  <a:pt x="186" y="273"/>
                </a:moveTo>
                <a:cubicBezTo>
                  <a:pt x="137" y="273"/>
                  <a:pt x="98" y="233"/>
                  <a:pt x="98" y="185"/>
                </a:cubicBezTo>
                <a:cubicBezTo>
                  <a:pt x="98" y="136"/>
                  <a:pt x="137" y="97"/>
                  <a:pt x="186" y="97"/>
                </a:cubicBezTo>
                <a:cubicBezTo>
                  <a:pt x="234" y="97"/>
                  <a:pt x="274" y="136"/>
                  <a:pt x="274" y="185"/>
                </a:cubicBezTo>
                <a:cubicBezTo>
                  <a:pt x="274" y="233"/>
                  <a:pt x="234" y="273"/>
                  <a:pt x="186" y="273"/>
                </a:cubicBezTo>
                <a:close/>
                <a:moveTo>
                  <a:pt x="286" y="234"/>
                </a:moveTo>
                <a:cubicBezTo>
                  <a:pt x="294" y="219"/>
                  <a:pt x="298" y="203"/>
                  <a:pt x="298" y="185"/>
                </a:cubicBezTo>
                <a:cubicBezTo>
                  <a:pt x="298" y="167"/>
                  <a:pt x="294" y="151"/>
                  <a:pt x="286" y="136"/>
                </a:cubicBezTo>
                <a:cubicBezTo>
                  <a:pt x="328" y="111"/>
                  <a:pt x="328" y="111"/>
                  <a:pt x="328" y="111"/>
                </a:cubicBezTo>
                <a:cubicBezTo>
                  <a:pt x="339" y="133"/>
                  <a:pt x="345" y="157"/>
                  <a:pt x="346" y="183"/>
                </a:cubicBezTo>
                <a:cubicBezTo>
                  <a:pt x="346" y="210"/>
                  <a:pt x="340" y="236"/>
                  <a:pt x="328" y="259"/>
                </a:cubicBezTo>
                <a:lnTo>
                  <a:pt x="286" y="2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27"/>
          <p:cNvSpPr/>
          <p:nvPr/>
        </p:nvSpPr>
        <p:spPr>
          <a:xfrm flipV="1">
            <a:off x="7149960" y="4254480"/>
            <a:ext cx="1123920" cy="112392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Isosceles Triangle 29"/>
          <p:cNvSpPr/>
          <p:nvPr/>
        </p:nvSpPr>
        <p:spPr>
          <a:xfrm>
            <a:off x="7591320" y="4100400"/>
            <a:ext cx="243000" cy="231840"/>
          </a:xfrm>
          <a:prstGeom prst="triangle">
            <a:avLst>
              <a:gd name="adj" fmla="val 50000"/>
            </a:avLst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traight Connector 30"/>
          <p:cNvSpPr/>
          <p:nvPr/>
        </p:nvSpPr>
        <p:spPr>
          <a:xfrm flipV="1">
            <a:off x="7711920" y="3686040"/>
            <a:ext cx="0" cy="471600"/>
          </a:xfrm>
          <a:prstGeom prst="line">
            <a:avLst/>
          </a:prstGeom>
          <a:ln w="6480">
            <a:solidFill>
              <a:srgbClr val="a5ca36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26"/>
          <p:cNvSpPr/>
          <p:nvPr/>
        </p:nvSpPr>
        <p:spPr>
          <a:xfrm>
            <a:off x="7551720" y="4626000"/>
            <a:ext cx="320760" cy="401760"/>
          </a:xfrm>
          <a:custGeom>
            <a:avLst/>
            <a:gdLst/>
            <a:ahLst/>
            <a:rect l="l" t="t" r="r" b="b"/>
            <a:pathLst>
              <a:path w="321" h="402">
                <a:moveTo>
                  <a:pt x="311" y="99"/>
                </a:moveTo>
                <a:cubicBezTo>
                  <a:pt x="301" y="40"/>
                  <a:pt x="246" y="0"/>
                  <a:pt x="189" y="11"/>
                </a:cubicBezTo>
                <a:cubicBezTo>
                  <a:pt x="132" y="21"/>
                  <a:pt x="84" y="67"/>
                  <a:pt x="94" y="126"/>
                </a:cubicBezTo>
                <a:cubicBezTo>
                  <a:pt x="96" y="139"/>
                  <a:pt x="102" y="159"/>
                  <a:pt x="109" y="174"/>
                </a:cubicBezTo>
                <a:cubicBezTo>
                  <a:pt x="6" y="328"/>
                  <a:pt x="6" y="328"/>
                  <a:pt x="6" y="328"/>
                </a:cubicBezTo>
                <a:cubicBezTo>
                  <a:pt x="2" y="334"/>
                  <a:pt x="0" y="344"/>
                  <a:pt x="1" y="351"/>
                </a:cubicBezTo>
                <a:cubicBezTo>
                  <a:pt x="8" y="390"/>
                  <a:pt x="8" y="390"/>
                  <a:pt x="8" y="390"/>
                </a:cubicBezTo>
                <a:cubicBezTo>
                  <a:pt x="9" y="397"/>
                  <a:pt x="15" y="402"/>
                  <a:pt x="22" y="401"/>
                </a:cubicBezTo>
                <a:cubicBezTo>
                  <a:pt x="52" y="395"/>
                  <a:pt x="52" y="395"/>
                  <a:pt x="52" y="395"/>
                </a:cubicBezTo>
                <a:cubicBezTo>
                  <a:pt x="59" y="394"/>
                  <a:pt x="67" y="388"/>
                  <a:pt x="71" y="382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12" y="316"/>
                  <a:pt x="112" y="316"/>
                  <a:pt x="112" y="316"/>
                </a:cubicBezTo>
                <a:cubicBezTo>
                  <a:pt x="140" y="311"/>
                  <a:pt x="140" y="311"/>
                  <a:pt x="140" y="311"/>
                </a:cubicBezTo>
                <a:cubicBezTo>
                  <a:pt x="187" y="233"/>
                  <a:pt x="187" y="233"/>
                  <a:pt x="187" y="233"/>
                </a:cubicBezTo>
                <a:cubicBezTo>
                  <a:pt x="203" y="236"/>
                  <a:pt x="226" y="235"/>
                  <a:pt x="239" y="232"/>
                </a:cubicBezTo>
                <a:cubicBezTo>
                  <a:pt x="296" y="222"/>
                  <a:pt x="321" y="159"/>
                  <a:pt x="311" y="99"/>
                </a:cubicBezTo>
                <a:close/>
                <a:moveTo>
                  <a:pt x="260" y="130"/>
                </a:moveTo>
                <a:cubicBezTo>
                  <a:pt x="244" y="153"/>
                  <a:pt x="228" y="137"/>
                  <a:pt x="206" y="120"/>
                </a:cubicBezTo>
                <a:cubicBezTo>
                  <a:pt x="184" y="104"/>
                  <a:pt x="163" y="94"/>
                  <a:pt x="179" y="71"/>
                </a:cubicBezTo>
                <a:cubicBezTo>
                  <a:pt x="195" y="47"/>
                  <a:pt x="226" y="42"/>
                  <a:pt x="248" y="58"/>
                </a:cubicBezTo>
                <a:cubicBezTo>
                  <a:pt x="270" y="74"/>
                  <a:pt x="276" y="107"/>
                  <a:pt x="260" y="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Oval 35"/>
          <p:cNvSpPr/>
          <p:nvPr/>
        </p:nvSpPr>
        <p:spPr>
          <a:xfrm>
            <a:off x="1987560" y="1998720"/>
            <a:ext cx="1123920" cy="1123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Isosceles Triangle 36"/>
          <p:cNvSpPr/>
          <p:nvPr/>
        </p:nvSpPr>
        <p:spPr>
          <a:xfrm flipV="1">
            <a:off x="2414520" y="3044880"/>
            <a:ext cx="243000" cy="231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traight Connector 37"/>
          <p:cNvSpPr/>
          <p:nvPr/>
        </p:nvSpPr>
        <p:spPr>
          <a:xfrm>
            <a:off x="2535120" y="3219480"/>
            <a:ext cx="0" cy="471600"/>
          </a:xfrm>
          <a:prstGeom prst="line">
            <a:avLst/>
          </a:prstGeom>
          <a:ln w="64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6"/>
          <p:cNvSpPr/>
          <p:nvPr/>
        </p:nvSpPr>
        <p:spPr>
          <a:xfrm>
            <a:off x="2354400" y="2351160"/>
            <a:ext cx="384120" cy="42048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5472000" y="1998720"/>
            <a:ext cx="1123920" cy="1123920"/>
          </a:xfrm>
          <a:prstGeom prst="ellipse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Isosceles Triangle 44"/>
          <p:cNvSpPr/>
          <p:nvPr/>
        </p:nvSpPr>
        <p:spPr>
          <a:xfrm flipV="1">
            <a:off x="5911920" y="3044880"/>
            <a:ext cx="244440" cy="231840"/>
          </a:xfrm>
          <a:prstGeom prst="triangle">
            <a:avLst>
              <a:gd name="adj" fmla="val 50000"/>
            </a:avLst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traight Connector 45"/>
          <p:cNvSpPr/>
          <p:nvPr/>
        </p:nvSpPr>
        <p:spPr>
          <a:xfrm>
            <a:off x="6033960" y="3219480"/>
            <a:ext cx="0" cy="471600"/>
          </a:xfrm>
          <a:prstGeom prst="line">
            <a:avLst/>
          </a:prstGeom>
          <a:ln w="6480">
            <a:solidFill>
              <a:srgbClr val="f2895c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1"/>
          <p:cNvSpPr/>
          <p:nvPr/>
        </p:nvSpPr>
        <p:spPr>
          <a:xfrm>
            <a:off x="5803920" y="2408400"/>
            <a:ext cx="473040" cy="306360"/>
          </a:xfrm>
          <a:custGeom>
            <a:avLst/>
            <a:gdLst/>
            <a:ahLst/>
            <a:rect l="l" t="t" r="r" b="b"/>
            <a:pathLst>
              <a:path w="400" h="260">
                <a:moveTo>
                  <a:pt x="304" y="73"/>
                </a:moveTo>
                <a:cubicBezTo>
                  <a:pt x="298" y="73"/>
                  <a:pt x="293" y="73"/>
                  <a:pt x="288" y="74"/>
                </a:cubicBezTo>
                <a:cubicBezTo>
                  <a:pt x="275" y="31"/>
                  <a:pt x="234" y="0"/>
                  <a:pt x="186" y="0"/>
                </a:cubicBezTo>
                <a:cubicBezTo>
                  <a:pt x="127" y="0"/>
                  <a:pt x="80" y="46"/>
                  <a:pt x="80" y="104"/>
                </a:cubicBezTo>
                <a:cubicBezTo>
                  <a:pt x="80" y="109"/>
                  <a:pt x="80" y="114"/>
                  <a:pt x="81" y="119"/>
                </a:cubicBezTo>
                <a:cubicBezTo>
                  <a:pt x="78" y="119"/>
                  <a:pt x="75" y="118"/>
                  <a:pt x="72" y="118"/>
                </a:cubicBezTo>
                <a:cubicBezTo>
                  <a:pt x="32" y="118"/>
                  <a:pt x="0" y="150"/>
                  <a:pt x="0" y="189"/>
                </a:cubicBezTo>
                <a:cubicBezTo>
                  <a:pt x="0" y="228"/>
                  <a:pt x="32" y="260"/>
                  <a:pt x="72" y="260"/>
                </a:cubicBezTo>
                <a:cubicBezTo>
                  <a:pt x="172" y="260"/>
                  <a:pt x="172" y="260"/>
                  <a:pt x="172" y="260"/>
                </a:cubicBezTo>
                <a:cubicBezTo>
                  <a:pt x="172" y="184"/>
                  <a:pt x="172" y="184"/>
                  <a:pt x="172" y="184"/>
                </a:cubicBezTo>
                <a:cubicBezTo>
                  <a:pt x="130" y="184"/>
                  <a:pt x="130" y="184"/>
                  <a:pt x="130" y="184"/>
                </a:cubicBezTo>
                <a:cubicBezTo>
                  <a:pt x="200" y="92"/>
                  <a:pt x="200" y="92"/>
                  <a:pt x="200" y="92"/>
                </a:cubicBezTo>
                <a:cubicBezTo>
                  <a:pt x="270" y="184"/>
                  <a:pt x="270" y="184"/>
                  <a:pt x="270" y="184"/>
                </a:cubicBezTo>
                <a:cubicBezTo>
                  <a:pt x="228" y="184"/>
                  <a:pt x="228" y="184"/>
                  <a:pt x="228" y="184"/>
                </a:cubicBezTo>
                <a:cubicBezTo>
                  <a:pt x="228" y="260"/>
                  <a:pt x="228" y="260"/>
                  <a:pt x="228" y="260"/>
                </a:cubicBezTo>
                <a:cubicBezTo>
                  <a:pt x="304" y="260"/>
                  <a:pt x="304" y="260"/>
                  <a:pt x="304" y="260"/>
                </a:cubicBezTo>
                <a:cubicBezTo>
                  <a:pt x="357" y="260"/>
                  <a:pt x="400" y="218"/>
                  <a:pt x="400" y="166"/>
                </a:cubicBezTo>
                <a:cubicBezTo>
                  <a:pt x="400" y="115"/>
                  <a:pt x="357" y="73"/>
                  <a:pt x="304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50"/>
          <p:cNvSpPr/>
          <p:nvPr/>
        </p:nvSpPr>
        <p:spPr>
          <a:xfrm>
            <a:off x="8818560" y="1998720"/>
            <a:ext cx="1123920" cy="11239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Isosceles Triangle 51"/>
          <p:cNvSpPr/>
          <p:nvPr/>
        </p:nvSpPr>
        <p:spPr>
          <a:xfrm flipV="1">
            <a:off x="9258480" y="3044880"/>
            <a:ext cx="244440" cy="231840"/>
          </a:xfrm>
          <a:prstGeom prst="triangle">
            <a:avLst>
              <a:gd name="adj" fmla="val 500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traight Connector 52"/>
          <p:cNvSpPr/>
          <p:nvPr/>
        </p:nvSpPr>
        <p:spPr>
          <a:xfrm>
            <a:off x="9380520" y="3219480"/>
            <a:ext cx="0" cy="471600"/>
          </a:xfrm>
          <a:prstGeom prst="line">
            <a:avLst/>
          </a:prstGeom>
          <a:ln w="6480">
            <a:solidFill>
              <a:srgbClr val="9ad3dc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21"/>
          <p:cNvSpPr/>
          <p:nvPr/>
        </p:nvSpPr>
        <p:spPr>
          <a:xfrm>
            <a:off x="9167760" y="2378160"/>
            <a:ext cx="434880" cy="387360"/>
          </a:xfrm>
          <a:custGeom>
            <a:avLst/>
            <a:gdLst/>
            <a:ahLst/>
            <a:rect l="l" t="t" r="r" b="b"/>
            <a:pathLst>
              <a:path w="401" h="357">
                <a:moveTo>
                  <a:pt x="62" y="116"/>
                </a:moveTo>
                <a:cubicBezTo>
                  <a:pt x="81" y="101"/>
                  <a:pt x="97" y="111"/>
                  <a:pt x="117" y="135"/>
                </a:cubicBezTo>
                <a:cubicBezTo>
                  <a:pt x="120" y="138"/>
                  <a:pt x="123" y="135"/>
                  <a:pt x="124" y="133"/>
                </a:cubicBezTo>
                <a:cubicBezTo>
                  <a:pt x="126" y="132"/>
                  <a:pt x="154" y="107"/>
                  <a:pt x="155" y="106"/>
                </a:cubicBezTo>
                <a:cubicBezTo>
                  <a:pt x="156" y="105"/>
                  <a:pt x="158" y="102"/>
                  <a:pt x="156" y="100"/>
                </a:cubicBezTo>
                <a:cubicBezTo>
                  <a:pt x="154" y="98"/>
                  <a:pt x="146" y="88"/>
                  <a:pt x="141" y="81"/>
                </a:cubicBezTo>
                <a:cubicBezTo>
                  <a:pt x="105" y="34"/>
                  <a:pt x="240" y="2"/>
                  <a:pt x="219" y="1"/>
                </a:cubicBezTo>
                <a:cubicBezTo>
                  <a:pt x="208" y="1"/>
                  <a:pt x="166" y="0"/>
                  <a:pt x="160" y="1"/>
                </a:cubicBezTo>
                <a:cubicBezTo>
                  <a:pt x="134" y="4"/>
                  <a:pt x="102" y="28"/>
                  <a:pt x="86" y="39"/>
                </a:cubicBezTo>
                <a:cubicBezTo>
                  <a:pt x="64" y="53"/>
                  <a:pt x="57" y="62"/>
                  <a:pt x="55" y="63"/>
                </a:cubicBezTo>
                <a:cubicBezTo>
                  <a:pt x="49" y="68"/>
                  <a:pt x="54" y="80"/>
                  <a:pt x="43" y="90"/>
                </a:cubicBezTo>
                <a:cubicBezTo>
                  <a:pt x="32" y="100"/>
                  <a:pt x="25" y="92"/>
                  <a:pt x="18" y="98"/>
                </a:cubicBezTo>
                <a:cubicBezTo>
                  <a:pt x="15" y="101"/>
                  <a:pt x="5" y="108"/>
                  <a:pt x="3" y="110"/>
                </a:cubicBezTo>
                <a:cubicBezTo>
                  <a:pt x="0" y="113"/>
                  <a:pt x="0" y="117"/>
                  <a:pt x="2" y="120"/>
                </a:cubicBezTo>
                <a:cubicBezTo>
                  <a:pt x="2" y="120"/>
                  <a:pt x="28" y="148"/>
                  <a:pt x="30" y="150"/>
                </a:cubicBezTo>
                <a:cubicBezTo>
                  <a:pt x="32" y="153"/>
                  <a:pt x="38" y="155"/>
                  <a:pt x="41" y="152"/>
                </a:cubicBezTo>
                <a:cubicBezTo>
                  <a:pt x="45" y="149"/>
                  <a:pt x="54" y="141"/>
                  <a:pt x="55" y="139"/>
                </a:cubicBezTo>
                <a:cubicBezTo>
                  <a:pt x="57" y="138"/>
                  <a:pt x="54" y="122"/>
                  <a:pt x="62" y="116"/>
                </a:cubicBezTo>
                <a:close/>
                <a:moveTo>
                  <a:pt x="177" y="126"/>
                </a:moveTo>
                <a:cubicBezTo>
                  <a:pt x="174" y="123"/>
                  <a:pt x="171" y="123"/>
                  <a:pt x="169" y="125"/>
                </a:cubicBezTo>
                <a:cubicBezTo>
                  <a:pt x="140" y="150"/>
                  <a:pt x="140" y="150"/>
                  <a:pt x="140" y="150"/>
                </a:cubicBezTo>
                <a:cubicBezTo>
                  <a:pt x="138" y="152"/>
                  <a:pt x="137" y="156"/>
                  <a:pt x="139" y="158"/>
                </a:cubicBezTo>
                <a:cubicBezTo>
                  <a:pt x="305" y="347"/>
                  <a:pt x="305" y="347"/>
                  <a:pt x="305" y="347"/>
                </a:cubicBezTo>
                <a:cubicBezTo>
                  <a:pt x="309" y="352"/>
                  <a:pt x="316" y="352"/>
                  <a:pt x="320" y="348"/>
                </a:cubicBezTo>
                <a:cubicBezTo>
                  <a:pt x="340" y="332"/>
                  <a:pt x="340" y="332"/>
                  <a:pt x="340" y="332"/>
                </a:cubicBezTo>
                <a:cubicBezTo>
                  <a:pt x="344" y="328"/>
                  <a:pt x="345" y="321"/>
                  <a:pt x="341" y="317"/>
                </a:cubicBezTo>
                <a:lnTo>
                  <a:pt x="177" y="126"/>
                </a:lnTo>
                <a:close/>
                <a:moveTo>
                  <a:pt x="398" y="46"/>
                </a:moveTo>
                <a:cubicBezTo>
                  <a:pt x="396" y="36"/>
                  <a:pt x="391" y="38"/>
                  <a:pt x="389" y="42"/>
                </a:cubicBezTo>
                <a:cubicBezTo>
                  <a:pt x="386" y="46"/>
                  <a:pt x="374" y="64"/>
                  <a:pt x="369" y="72"/>
                </a:cubicBezTo>
                <a:cubicBezTo>
                  <a:pt x="364" y="80"/>
                  <a:pt x="353" y="96"/>
                  <a:pt x="331" y="80"/>
                </a:cubicBezTo>
                <a:cubicBezTo>
                  <a:pt x="308" y="64"/>
                  <a:pt x="316" y="53"/>
                  <a:pt x="320" y="45"/>
                </a:cubicBezTo>
                <a:cubicBezTo>
                  <a:pt x="324" y="38"/>
                  <a:pt x="336" y="16"/>
                  <a:pt x="338" y="13"/>
                </a:cubicBezTo>
                <a:cubicBezTo>
                  <a:pt x="340" y="11"/>
                  <a:pt x="338" y="3"/>
                  <a:pt x="330" y="6"/>
                </a:cubicBezTo>
                <a:cubicBezTo>
                  <a:pt x="323" y="9"/>
                  <a:pt x="280" y="27"/>
                  <a:pt x="274" y="51"/>
                </a:cubicBezTo>
                <a:cubicBezTo>
                  <a:pt x="268" y="76"/>
                  <a:pt x="279" y="99"/>
                  <a:pt x="257" y="121"/>
                </a:cubicBezTo>
                <a:cubicBezTo>
                  <a:pt x="230" y="149"/>
                  <a:pt x="230" y="149"/>
                  <a:pt x="230" y="149"/>
                </a:cubicBezTo>
                <a:cubicBezTo>
                  <a:pt x="257" y="181"/>
                  <a:pt x="257" y="181"/>
                  <a:pt x="257" y="181"/>
                </a:cubicBezTo>
                <a:cubicBezTo>
                  <a:pt x="290" y="149"/>
                  <a:pt x="290" y="149"/>
                  <a:pt x="290" y="149"/>
                </a:cubicBezTo>
                <a:cubicBezTo>
                  <a:pt x="298" y="141"/>
                  <a:pt x="315" y="134"/>
                  <a:pt x="330" y="137"/>
                </a:cubicBezTo>
                <a:cubicBezTo>
                  <a:pt x="363" y="144"/>
                  <a:pt x="381" y="132"/>
                  <a:pt x="391" y="112"/>
                </a:cubicBezTo>
                <a:cubicBezTo>
                  <a:pt x="401" y="94"/>
                  <a:pt x="399" y="56"/>
                  <a:pt x="398" y="46"/>
                </a:cubicBezTo>
                <a:close/>
                <a:moveTo>
                  <a:pt x="55" y="319"/>
                </a:moveTo>
                <a:cubicBezTo>
                  <a:pt x="50" y="323"/>
                  <a:pt x="50" y="330"/>
                  <a:pt x="55" y="334"/>
                </a:cubicBezTo>
                <a:cubicBezTo>
                  <a:pt x="74" y="353"/>
                  <a:pt x="74" y="353"/>
                  <a:pt x="74" y="353"/>
                </a:cubicBezTo>
                <a:cubicBezTo>
                  <a:pt x="78" y="357"/>
                  <a:pt x="84" y="355"/>
                  <a:pt x="89" y="351"/>
                </a:cubicBezTo>
                <a:cubicBezTo>
                  <a:pt x="187" y="254"/>
                  <a:pt x="187" y="254"/>
                  <a:pt x="187" y="254"/>
                </a:cubicBezTo>
                <a:cubicBezTo>
                  <a:pt x="157" y="220"/>
                  <a:pt x="157" y="220"/>
                  <a:pt x="157" y="220"/>
                </a:cubicBezTo>
                <a:lnTo>
                  <a:pt x="5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3173400" y="2540160"/>
            <a:ext cx="233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3176640" y="2825640"/>
            <a:ext cx="2333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1465200" y="402264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1469880" y="4309920"/>
            <a:ext cx="233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4956120" y="402264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4960800" y="4309920"/>
            <a:ext cx="233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8271000" y="4022640"/>
            <a:ext cx="233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8273880" y="4309920"/>
            <a:ext cx="2335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6537240" y="254016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6541920" y="2825640"/>
            <a:ext cx="233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2"/>
          <a:stretch/>
        </p:blipFill>
        <p:spPr>
          <a:xfrm>
            <a:off x="4834080" y="4164120"/>
            <a:ext cx="6748200" cy="357192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9"/>
          <p:cNvSpPr/>
          <p:nvPr/>
        </p:nvSpPr>
        <p:spPr>
          <a:xfrm>
            <a:off x="5405400" y="4240080"/>
            <a:ext cx="5670720" cy="1455840"/>
          </a:xfrm>
          <a:custGeom>
            <a:avLst/>
            <a:gdLst/>
            <a:ahLst/>
            <a:rect l="l" t="t" r="r" b="b"/>
            <a:pathLst>
              <a:path w="4991100" h="1740693">
                <a:moveTo>
                  <a:pt x="0" y="869156"/>
                </a:moveTo>
                <a:lnTo>
                  <a:pt x="2747963" y="0"/>
                </a:lnTo>
                <a:lnTo>
                  <a:pt x="4991100" y="557211"/>
                </a:lnTo>
                <a:lnTo>
                  <a:pt x="2333626" y="1740693"/>
                </a:lnTo>
                <a:lnTo>
                  <a:pt x="0" y="869156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Oval Callout 31"/>
          <p:cNvSpPr/>
          <p:nvPr/>
        </p:nvSpPr>
        <p:spPr>
          <a:xfrm flipH="1">
            <a:off x="6822360" y="3672000"/>
            <a:ext cx="1182600" cy="1109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6db86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val Callout 32"/>
          <p:cNvSpPr/>
          <p:nvPr/>
        </p:nvSpPr>
        <p:spPr>
          <a:xfrm>
            <a:off x="8080200" y="3139920"/>
            <a:ext cx="1746360" cy="1559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895c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Oval Callout 33"/>
          <p:cNvSpPr/>
          <p:nvPr/>
        </p:nvSpPr>
        <p:spPr>
          <a:xfrm>
            <a:off x="9953640" y="3646440"/>
            <a:ext cx="1147680" cy="9064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Callout 35"/>
          <p:cNvSpPr/>
          <p:nvPr/>
        </p:nvSpPr>
        <p:spPr>
          <a:xfrm flipH="1">
            <a:off x="6822360" y="2246400"/>
            <a:ext cx="1700280" cy="1317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Oval Callout 36"/>
          <p:cNvSpPr/>
          <p:nvPr/>
        </p:nvSpPr>
        <p:spPr>
          <a:xfrm>
            <a:off x="8350200" y="1922400"/>
            <a:ext cx="1206720" cy="952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Oval Callout 37"/>
          <p:cNvSpPr/>
          <p:nvPr/>
        </p:nvSpPr>
        <p:spPr>
          <a:xfrm>
            <a:off x="9443880" y="2235240"/>
            <a:ext cx="1454400" cy="1379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Oval Callout 38"/>
          <p:cNvSpPr/>
          <p:nvPr/>
        </p:nvSpPr>
        <p:spPr>
          <a:xfrm flipH="1">
            <a:off x="5417280" y="2909880"/>
            <a:ext cx="1489320" cy="1197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Callout 39"/>
          <p:cNvSpPr/>
          <p:nvPr/>
        </p:nvSpPr>
        <p:spPr>
          <a:xfrm flipH="1">
            <a:off x="5700600" y="1922400"/>
            <a:ext cx="1206720" cy="952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1"/>
          <p:cNvSpPr/>
          <p:nvPr/>
        </p:nvSpPr>
        <p:spPr>
          <a:xfrm>
            <a:off x="10449000" y="3941640"/>
            <a:ext cx="155520" cy="40824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13"/>
          <p:cNvSpPr/>
          <p:nvPr/>
        </p:nvSpPr>
        <p:spPr>
          <a:xfrm>
            <a:off x="8707320" y="3686040"/>
            <a:ext cx="490680" cy="60336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4"/>
          <p:cNvSpPr/>
          <p:nvPr/>
        </p:nvSpPr>
        <p:spPr>
          <a:xfrm>
            <a:off x="7151760" y="4067280"/>
            <a:ext cx="523800" cy="44136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2"/>
          <p:cNvSpPr/>
          <p:nvPr/>
        </p:nvSpPr>
        <p:spPr>
          <a:xfrm>
            <a:off x="5843520" y="3433680"/>
            <a:ext cx="638280" cy="31140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6"/>
          <p:cNvSpPr/>
          <p:nvPr/>
        </p:nvSpPr>
        <p:spPr>
          <a:xfrm>
            <a:off x="7192800" y="2698920"/>
            <a:ext cx="960480" cy="525240"/>
          </a:xfrm>
          <a:custGeom>
            <a:avLst/>
            <a:gdLst/>
            <a:ahLst/>
            <a:rect l="l" t="t" r="r" b="b"/>
            <a:pathLst>
              <a:path w="3678" h="1647">
                <a:moveTo>
                  <a:pt x="2388" y="605"/>
                </a:moveTo>
                <a:lnTo>
                  <a:pt x="2397" y="605"/>
                </a:lnTo>
                <a:lnTo>
                  <a:pt x="2426" y="609"/>
                </a:lnTo>
                <a:lnTo>
                  <a:pt x="2452" y="617"/>
                </a:lnTo>
                <a:lnTo>
                  <a:pt x="2475" y="630"/>
                </a:lnTo>
                <a:lnTo>
                  <a:pt x="2495" y="651"/>
                </a:lnTo>
                <a:lnTo>
                  <a:pt x="2512" y="676"/>
                </a:lnTo>
                <a:lnTo>
                  <a:pt x="2527" y="706"/>
                </a:lnTo>
                <a:lnTo>
                  <a:pt x="2538" y="743"/>
                </a:lnTo>
                <a:lnTo>
                  <a:pt x="2546" y="785"/>
                </a:lnTo>
                <a:lnTo>
                  <a:pt x="2546" y="802"/>
                </a:lnTo>
                <a:lnTo>
                  <a:pt x="2544" y="838"/>
                </a:lnTo>
                <a:lnTo>
                  <a:pt x="2536" y="871"/>
                </a:lnTo>
                <a:lnTo>
                  <a:pt x="2523" y="902"/>
                </a:lnTo>
                <a:lnTo>
                  <a:pt x="2505" y="930"/>
                </a:lnTo>
                <a:lnTo>
                  <a:pt x="2483" y="955"/>
                </a:lnTo>
                <a:lnTo>
                  <a:pt x="2456" y="978"/>
                </a:lnTo>
                <a:lnTo>
                  <a:pt x="2424" y="987"/>
                </a:lnTo>
                <a:lnTo>
                  <a:pt x="2393" y="990"/>
                </a:lnTo>
                <a:lnTo>
                  <a:pt x="2365" y="988"/>
                </a:lnTo>
                <a:lnTo>
                  <a:pt x="2340" y="980"/>
                </a:lnTo>
                <a:lnTo>
                  <a:pt x="2316" y="967"/>
                </a:lnTo>
                <a:lnTo>
                  <a:pt x="2296" y="948"/>
                </a:lnTo>
                <a:lnTo>
                  <a:pt x="2279" y="923"/>
                </a:lnTo>
                <a:lnTo>
                  <a:pt x="2265" y="895"/>
                </a:lnTo>
                <a:lnTo>
                  <a:pt x="2253" y="860"/>
                </a:lnTo>
                <a:lnTo>
                  <a:pt x="2244" y="820"/>
                </a:lnTo>
                <a:lnTo>
                  <a:pt x="2244" y="785"/>
                </a:lnTo>
                <a:lnTo>
                  <a:pt x="2247" y="752"/>
                </a:lnTo>
                <a:lnTo>
                  <a:pt x="2252" y="721"/>
                </a:lnTo>
                <a:lnTo>
                  <a:pt x="2262" y="694"/>
                </a:lnTo>
                <a:lnTo>
                  <a:pt x="2276" y="670"/>
                </a:lnTo>
                <a:lnTo>
                  <a:pt x="2295" y="649"/>
                </a:lnTo>
                <a:lnTo>
                  <a:pt x="2316" y="630"/>
                </a:lnTo>
                <a:lnTo>
                  <a:pt x="2343" y="614"/>
                </a:lnTo>
                <a:lnTo>
                  <a:pt x="2367" y="608"/>
                </a:lnTo>
                <a:lnTo>
                  <a:pt x="2388" y="605"/>
                </a:lnTo>
                <a:close/>
                <a:moveTo>
                  <a:pt x="3058" y="592"/>
                </a:moveTo>
                <a:lnTo>
                  <a:pt x="3078" y="592"/>
                </a:lnTo>
                <a:lnTo>
                  <a:pt x="3105" y="594"/>
                </a:lnTo>
                <a:lnTo>
                  <a:pt x="3130" y="601"/>
                </a:lnTo>
                <a:lnTo>
                  <a:pt x="3153" y="613"/>
                </a:lnTo>
                <a:lnTo>
                  <a:pt x="3173" y="629"/>
                </a:lnTo>
                <a:lnTo>
                  <a:pt x="3191" y="651"/>
                </a:lnTo>
                <a:lnTo>
                  <a:pt x="3205" y="677"/>
                </a:lnTo>
                <a:lnTo>
                  <a:pt x="3218" y="708"/>
                </a:lnTo>
                <a:lnTo>
                  <a:pt x="3222" y="733"/>
                </a:lnTo>
                <a:lnTo>
                  <a:pt x="3221" y="735"/>
                </a:lnTo>
                <a:lnTo>
                  <a:pt x="2921" y="735"/>
                </a:lnTo>
                <a:lnTo>
                  <a:pt x="2916" y="730"/>
                </a:lnTo>
                <a:lnTo>
                  <a:pt x="2920" y="710"/>
                </a:lnTo>
                <a:lnTo>
                  <a:pt x="2929" y="686"/>
                </a:lnTo>
                <a:lnTo>
                  <a:pt x="2943" y="660"/>
                </a:lnTo>
                <a:lnTo>
                  <a:pt x="2965" y="630"/>
                </a:lnTo>
                <a:lnTo>
                  <a:pt x="2989" y="613"/>
                </a:lnTo>
                <a:lnTo>
                  <a:pt x="3013" y="601"/>
                </a:lnTo>
                <a:lnTo>
                  <a:pt x="3035" y="594"/>
                </a:lnTo>
                <a:lnTo>
                  <a:pt x="3058" y="592"/>
                </a:lnTo>
                <a:close/>
                <a:moveTo>
                  <a:pt x="592" y="447"/>
                </a:moveTo>
                <a:lnTo>
                  <a:pt x="542" y="449"/>
                </a:lnTo>
                <a:lnTo>
                  <a:pt x="496" y="455"/>
                </a:lnTo>
                <a:lnTo>
                  <a:pt x="455" y="465"/>
                </a:lnTo>
                <a:lnTo>
                  <a:pt x="417" y="478"/>
                </a:lnTo>
                <a:lnTo>
                  <a:pt x="383" y="495"/>
                </a:lnTo>
                <a:lnTo>
                  <a:pt x="354" y="517"/>
                </a:lnTo>
                <a:lnTo>
                  <a:pt x="328" y="542"/>
                </a:lnTo>
                <a:lnTo>
                  <a:pt x="308" y="571"/>
                </a:lnTo>
                <a:lnTo>
                  <a:pt x="290" y="604"/>
                </a:lnTo>
                <a:lnTo>
                  <a:pt x="282" y="660"/>
                </a:lnTo>
                <a:lnTo>
                  <a:pt x="286" y="692"/>
                </a:lnTo>
                <a:lnTo>
                  <a:pt x="295" y="720"/>
                </a:lnTo>
                <a:lnTo>
                  <a:pt x="310" y="747"/>
                </a:lnTo>
                <a:lnTo>
                  <a:pt x="332" y="771"/>
                </a:lnTo>
                <a:lnTo>
                  <a:pt x="360" y="794"/>
                </a:lnTo>
                <a:lnTo>
                  <a:pt x="394" y="814"/>
                </a:lnTo>
                <a:lnTo>
                  <a:pt x="435" y="833"/>
                </a:lnTo>
                <a:lnTo>
                  <a:pt x="480" y="848"/>
                </a:lnTo>
                <a:lnTo>
                  <a:pt x="528" y="864"/>
                </a:lnTo>
                <a:lnTo>
                  <a:pt x="568" y="879"/>
                </a:lnTo>
                <a:lnTo>
                  <a:pt x="600" y="892"/>
                </a:lnTo>
                <a:lnTo>
                  <a:pt x="627" y="903"/>
                </a:lnTo>
                <a:lnTo>
                  <a:pt x="647" y="912"/>
                </a:lnTo>
                <a:lnTo>
                  <a:pt x="661" y="921"/>
                </a:lnTo>
                <a:lnTo>
                  <a:pt x="669" y="928"/>
                </a:lnTo>
                <a:lnTo>
                  <a:pt x="672" y="940"/>
                </a:lnTo>
                <a:lnTo>
                  <a:pt x="672" y="948"/>
                </a:lnTo>
                <a:lnTo>
                  <a:pt x="670" y="963"/>
                </a:lnTo>
                <a:lnTo>
                  <a:pt x="663" y="976"/>
                </a:lnTo>
                <a:lnTo>
                  <a:pt x="651" y="985"/>
                </a:lnTo>
                <a:lnTo>
                  <a:pt x="635" y="990"/>
                </a:lnTo>
                <a:lnTo>
                  <a:pt x="614" y="995"/>
                </a:lnTo>
                <a:lnTo>
                  <a:pt x="588" y="996"/>
                </a:lnTo>
                <a:lnTo>
                  <a:pt x="559" y="994"/>
                </a:lnTo>
                <a:lnTo>
                  <a:pt x="526" y="988"/>
                </a:lnTo>
                <a:lnTo>
                  <a:pt x="491" y="977"/>
                </a:lnTo>
                <a:lnTo>
                  <a:pt x="452" y="962"/>
                </a:lnTo>
                <a:lnTo>
                  <a:pt x="410" y="943"/>
                </a:lnTo>
                <a:lnTo>
                  <a:pt x="392" y="938"/>
                </a:lnTo>
                <a:lnTo>
                  <a:pt x="376" y="936"/>
                </a:lnTo>
                <a:lnTo>
                  <a:pt x="364" y="935"/>
                </a:lnTo>
                <a:lnTo>
                  <a:pt x="347" y="935"/>
                </a:lnTo>
                <a:lnTo>
                  <a:pt x="323" y="937"/>
                </a:lnTo>
                <a:lnTo>
                  <a:pt x="302" y="946"/>
                </a:lnTo>
                <a:lnTo>
                  <a:pt x="283" y="960"/>
                </a:lnTo>
                <a:lnTo>
                  <a:pt x="269" y="979"/>
                </a:lnTo>
                <a:lnTo>
                  <a:pt x="256" y="1003"/>
                </a:lnTo>
                <a:lnTo>
                  <a:pt x="254" y="1013"/>
                </a:lnTo>
                <a:lnTo>
                  <a:pt x="256" y="1035"/>
                </a:lnTo>
                <a:lnTo>
                  <a:pt x="267" y="1054"/>
                </a:lnTo>
                <a:lnTo>
                  <a:pt x="282" y="1072"/>
                </a:lnTo>
                <a:lnTo>
                  <a:pt x="305" y="1089"/>
                </a:lnTo>
                <a:lnTo>
                  <a:pt x="334" y="1105"/>
                </a:lnTo>
                <a:lnTo>
                  <a:pt x="368" y="1120"/>
                </a:lnTo>
                <a:lnTo>
                  <a:pt x="410" y="1132"/>
                </a:lnTo>
                <a:lnTo>
                  <a:pt x="458" y="1144"/>
                </a:lnTo>
                <a:lnTo>
                  <a:pt x="512" y="1155"/>
                </a:lnTo>
                <a:lnTo>
                  <a:pt x="562" y="1157"/>
                </a:lnTo>
                <a:lnTo>
                  <a:pt x="576" y="1157"/>
                </a:lnTo>
                <a:lnTo>
                  <a:pt x="623" y="1155"/>
                </a:lnTo>
                <a:lnTo>
                  <a:pt x="668" y="1149"/>
                </a:lnTo>
                <a:lnTo>
                  <a:pt x="709" y="1139"/>
                </a:lnTo>
                <a:lnTo>
                  <a:pt x="747" y="1126"/>
                </a:lnTo>
                <a:lnTo>
                  <a:pt x="782" y="1107"/>
                </a:lnTo>
                <a:lnTo>
                  <a:pt x="813" y="1085"/>
                </a:lnTo>
                <a:lnTo>
                  <a:pt x="841" y="1059"/>
                </a:lnTo>
                <a:lnTo>
                  <a:pt x="866" y="1029"/>
                </a:lnTo>
                <a:lnTo>
                  <a:pt x="878" y="998"/>
                </a:lnTo>
                <a:lnTo>
                  <a:pt x="886" y="969"/>
                </a:lnTo>
                <a:lnTo>
                  <a:pt x="888" y="939"/>
                </a:lnTo>
                <a:lnTo>
                  <a:pt x="885" y="909"/>
                </a:lnTo>
                <a:lnTo>
                  <a:pt x="876" y="880"/>
                </a:lnTo>
                <a:lnTo>
                  <a:pt x="860" y="854"/>
                </a:lnTo>
                <a:lnTo>
                  <a:pt x="838" y="830"/>
                </a:lnTo>
                <a:lnTo>
                  <a:pt x="810" y="809"/>
                </a:lnTo>
                <a:lnTo>
                  <a:pt x="775" y="788"/>
                </a:lnTo>
                <a:lnTo>
                  <a:pt x="735" y="770"/>
                </a:lnTo>
                <a:lnTo>
                  <a:pt x="688" y="754"/>
                </a:lnTo>
                <a:lnTo>
                  <a:pt x="643" y="739"/>
                </a:lnTo>
                <a:lnTo>
                  <a:pt x="605" y="726"/>
                </a:lnTo>
                <a:lnTo>
                  <a:pt x="572" y="713"/>
                </a:lnTo>
                <a:lnTo>
                  <a:pt x="545" y="702"/>
                </a:lnTo>
                <a:lnTo>
                  <a:pt x="525" y="693"/>
                </a:lnTo>
                <a:lnTo>
                  <a:pt x="511" y="684"/>
                </a:lnTo>
                <a:lnTo>
                  <a:pt x="503" y="677"/>
                </a:lnTo>
                <a:lnTo>
                  <a:pt x="497" y="660"/>
                </a:lnTo>
                <a:lnTo>
                  <a:pt x="497" y="653"/>
                </a:lnTo>
                <a:lnTo>
                  <a:pt x="504" y="637"/>
                </a:lnTo>
                <a:lnTo>
                  <a:pt x="513" y="625"/>
                </a:lnTo>
                <a:lnTo>
                  <a:pt x="528" y="616"/>
                </a:lnTo>
                <a:lnTo>
                  <a:pt x="545" y="610"/>
                </a:lnTo>
                <a:lnTo>
                  <a:pt x="567" y="609"/>
                </a:lnTo>
                <a:lnTo>
                  <a:pt x="579" y="609"/>
                </a:lnTo>
                <a:lnTo>
                  <a:pt x="595" y="610"/>
                </a:lnTo>
                <a:lnTo>
                  <a:pt x="615" y="613"/>
                </a:lnTo>
                <a:lnTo>
                  <a:pt x="638" y="619"/>
                </a:lnTo>
                <a:lnTo>
                  <a:pt x="668" y="628"/>
                </a:lnTo>
                <a:lnTo>
                  <a:pt x="699" y="638"/>
                </a:lnTo>
                <a:lnTo>
                  <a:pt x="736" y="652"/>
                </a:lnTo>
                <a:lnTo>
                  <a:pt x="756" y="658"/>
                </a:lnTo>
                <a:lnTo>
                  <a:pt x="774" y="660"/>
                </a:lnTo>
                <a:lnTo>
                  <a:pt x="785" y="660"/>
                </a:lnTo>
                <a:lnTo>
                  <a:pt x="805" y="658"/>
                </a:lnTo>
                <a:lnTo>
                  <a:pt x="823" y="651"/>
                </a:lnTo>
                <a:lnTo>
                  <a:pt x="838" y="639"/>
                </a:lnTo>
                <a:lnTo>
                  <a:pt x="851" y="622"/>
                </a:lnTo>
                <a:lnTo>
                  <a:pt x="862" y="602"/>
                </a:lnTo>
                <a:lnTo>
                  <a:pt x="867" y="585"/>
                </a:lnTo>
                <a:lnTo>
                  <a:pt x="867" y="580"/>
                </a:lnTo>
                <a:lnTo>
                  <a:pt x="864" y="559"/>
                </a:lnTo>
                <a:lnTo>
                  <a:pt x="856" y="539"/>
                </a:lnTo>
                <a:lnTo>
                  <a:pt x="841" y="521"/>
                </a:lnTo>
                <a:lnTo>
                  <a:pt x="821" y="505"/>
                </a:lnTo>
                <a:lnTo>
                  <a:pt x="795" y="492"/>
                </a:lnTo>
                <a:lnTo>
                  <a:pt x="763" y="478"/>
                </a:lnTo>
                <a:lnTo>
                  <a:pt x="726" y="467"/>
                </a:lnTo>
                <a:lnTo>
                  <a:pt x="682" y="458"/>
                </a:lnTo>
                <a:lnTo>
                  <a:pt x="633" y="450"/>
                </a:lnTo>
                <a:lnTo>
                  <a:pt x="592" y="447"/>
                </a:lnTo>
                <a:close/>
                <a:moveTo>
                  <a:pt x="3496" y="433"/>
                </a:moveTo>
                <a:lnTo>
                  <a:pt x="3496" y="525"/>
                </a:lnTo>
                <a:lnTo>
                  <a:pt x="3500" y="528"/>
                </a:lnTo>
                <a:lnTo>
                  <a:pt x="3515" y="528"/>
                </a:lnTo>
                <a:lnTo>
                  <a:pt x="3515" y="459"/>
                </a:lnTo>
                <a:lnTo>
                  <a:pt x="3519" y="459"/>
                </a:lnTo>
                <a:lnTo>
                  <a:pt x="3524" y="484"/>
                </a:lnTo>
                <a:lnTo>
                  <a:pt x="3527" y="503"/>
                </a:lnTo>
                <a:lnTo>
                  <a:pt x="3530" y="518"/>
                </a:lnTo>
                <a:lnTo>
                  <a:pt x="3534" y="526"/>
                </a:lnTo>
                <a:lnTo>
                  <a:pt x="3536" y="528"/>
                </a:lnTo>
                <a:lnTo>
                  <a:pt x="3553" y="528"/>
                </a:lnTo>
                <a:lnTo>
                  <a:pt x="3568" y="454"/>
                </a:lnTo>
                <a:lnTo>
                  <a:pt x="3572" y="454"/>
                </a:lnTo>
                <a:lnTo>
                  <a:pt x="3572" y="528"/>
                </a:lnTo>
                <a:lnTo>
                  <a:pt x="3588" y="528"/>
                </a:lnTo>
                <a:lnTo>
                  <a:pt x="3588" y="433"/>
                </a:lnTo>
                <a:lnTo>
                  <a:pt x="3564" y="433"/>
                </a:lnTo>
                <a:lnTo>
                  <a:pt x="3562" y="436"/>
                </a:lnTo>
                <a:lnTo>
                  <a:pt x="3558" y="444"/>
                </a:lnTo>
                <a:lnTo>
                  <a:pt x="3555" y="458"/>
                </a:lnTo>
                <a:lnTo>
                  <a:pt x="3549" y="478"/>
                </a:lnTo>
                <a:lnTo>
                  <a:pt x="3544" y="503"/>
                </a:lnTo>
                <a:lnTo>
                  <a:pt x="3539" y="503"/>
                </a:lnTo>
                <a:lnTo>
                  <a:pt x="3526" y="433"/>
                </a:lnTo>
                <a:lnTo>
                  <a:pt x="3496" y="433"/>
                </a:lnTo>
                <a:close/>
                <a:moveTo>
                  <a:pt x="3407" y="433"/>
                </a:moveTo>
                <a:lnTo>
                  <a:pt x="3407" y="447"/>
                </a:lnTo>
                <a:lnTo>
                  <a:pt x="3433" y="447"/>
                </a:lnTo>
                <a:lnTo>
                  <a:pt x="3437" y="451"/>
                </a:lnTo>
                <a:lnTo>
                  <a:pt x="3437" y="528"/>
                </a:lnTo>
                <a:lnTo>
                  <a:pt x="3455" y="528"/>
                </a:lnTo>
                <a:lnTo>
                  <a:pt x="3455" y="451"/>
                </a:lnTo>
                <a:lnTo>
                  <a:pt x="3460" y="447"/>
                </a:lnTo>
                <a:lnTo>
                  <a:pt x="3484" y="447"/>
                </a:lnTo>
                <a:lnTo>
                  <a:pt x="3484" y="433"/>
                </a:lnTo>
                <a:lnTo>
                  <a:pt x="3407" y="433"/>
                </a:lnTo>
                <a:close/>
                <a:moveTo>
                  <a:pt x="988" y="176"/>
                </a:moveTo>
                <a:lnTo>
                  <a:pt x="964" y="178"/>
                </a:lnTo>
                <a:lnTo>
                  <a:pt x="943" y="185"/>
                </a:lnTo>
                <a:lnTo>
                  <a:pt x="926" y="198"/>
                </a:lnTo>
                <a:lnTo>
                  <a:pt x="911" y="215"/>
                </a:lnTo>
                <a:lnTo>
                  <a:pt x="899" y="237"/>
                </a:lnTo>
                <a:lnTo>
                  <a:pt x="894" y="253"/>
                </a:lnTo>
                <a:lnTo>
                  <a:pt x="893" y="270"/>
                </a:lnTo>
                <a:lnTo>
                  <a:pt x="893" y="1073"/>
                </a:lnTo>
                <a:lnTo>
                  <a:pt x="898" y="1102"/>
                </a:lnTo>
                <a:lnTo>
                  <a:pt x="908" y="1124"/>
                </a:lnTo>
                <a:lnTo>
                  <a:pt x="921" y="1143"/>
                </a:lnTo>
                <a:lnTo>
                  <a:pt x="937" y="1156"/>
                </a:lnTo>
                <a:lnTo>
                  <a:pt x="958" y="1163"/>
                </a:lnTo>
                <a:lnTo>
                  <a:pt x="981" y="1167"/>
                </a:lnTo>
                <a:lnTo>
                  <a:pt x="990" y="1168"/>
                </a:lnTo>
                <a:lnTo>
                  <a:pt x="1015" y="1165"/>
                </a:lnTo>
                <a:lnTo>
                  <a:pt x="1037" y="1157"/>
                </a:lnTo>
                <a:lnTo>
                  <a:pt x="1055" y="1144"/>
                </a:lnTo>
                <a:lnTo>
                  <a:pt x="1070" y="1126"/>
                </a:lnTo>
                <a:lnTo>
                  <a:pt x="1081" y="1102"/>
                </a:lnTo>
                <a:lnTo>
                  <a:pt x="1084" y="1092"/>
                </a:lnTo>
                <a:lnTo>
                  <a:pt x="1086" y="1078"/>
                </a:lnTo>
                <a:lnTo>
                  <a:pt x="1086" y="1061"/>
                </a:lnTo>
                <a:lnTo>
                  <a:pt x="1086" y="918"/>
                </a:lnTo>
                <a:lnTo>
                  <a:pt x="1092" y="913"/>
                </a:lnTo>
                <a:lnTo>
                  <a:pt x="1101" y="905"/>
                </a:lnTo>
                <a:lnTo>
                  <a:pt x="1114" y="895"/>
                </a:lnTo>
                <a:lnTo>
                  <a:pt x="1131" y="881"/>
                </a:lnTo>
                <a:lnTo>
                  <a:pt x="1154" y="865"/>
                </a:lnTo>
                <a:lnTo>
                  <a:pt x="1332" y="1123"/>
                </a:lnTo>
                <a:lnTo>
                  <a:pt x="1356" y="1146"/>
                </a:lnTo>
                <a:lnTo>
                  <a:pt x="1379" y="1162"/>
                </a:lnTo>
                <a:lnTo>
                  <a:pt x="1400" y="1171"/>
                </a:lnTo>
                <a:lnTo>
                  <a:pt x="1419" y="1174"/>
                </a:lnTo>
                <a:lnTo>
                  <a:pt x="1429" y="1174"/>
                </a:lnTo>
                <a:lnTo>
                  <a:pt x="1449" y="1173"/>
                </a:lnTo>
                <a:lnTo>
                  <a:pt x="1467" y="1167"/>
                </a:lnTo>
                <a:lnTo>
                  <a:pt x="1482" y="1156"/>
                </a:lnTo>
                <a:lnTo>
                  <a:pt x="1495" y="1143"/>
                </a:lnTo>
                <a:lnTo>
                  <a:pt x="1505" y="1124"/>
                </a:lnTo>
                <a:lnTo>
                  <a:pt x="1514" y="1102"/>
                </a:lnTo>
                <a:lnTo>
                  <a:pt x="1516" y="1089"/>
                </a:lnTo>
                <a:lnTo>
                  <a:pt x="1514" y="1072"/>
                </a:lnTo>
                <a:lnTo>
                  <a:pt x="1506" y="1053"/>
                </a:lnTo>
                <a:lnTo>
                  <a:pt x="1494" y="1030"/>
                </a:lnTo>
                <a:lnTo>
                  <a:pt x="1477" y="1005"/>
                </a:lnTo>
                <a:lnTo>
                  <a:pt x="1455" y="978"/>
                </a:lnTo>
                <a:lnTo>
                  <a:pt x="1297" y="743"/>
                </a:lnTo>
                <a:lnTo>
                  <a:pt x="1327" y="705"/>
                </a:lnTo>
                <a:lnTo>
                  <a:pt x="1355" y="672"/>
                </a:lnTo>
                <a:lnTo>
                  <a:pt x="1379" y="644"/>
                </a:lnTo>
                <a:lnTo>
                  <a:pt x="1399" y="620"/>
                </a:lnTo>
                <a:lnTo>
                  <a:pt x="1415" y="602"/>
                </a:lnTo>
                <a:lnTo>
                  <a:pt x="1427" y="587"/>
                </a:lnTo>
                <a:lnTo>
                  <a:pt x="1437" y="578"/>
                </a:lnTo>
                <a:lnTo>
                  <a:pt x="1440" y="578"/>
                </a:lnTo>
                <a:lnTo>
                  <a:pt x="1670" y="1209"/>
                </a:lnTo>
                <a:lnTo>
                  <a:pt x="1670" y="1215"/>
                </a:lnTo>
                <a:lnTo>
                  <a:pt x="1668" y="1229"/>
                </a:lnTo>
                <a:lnTo>
                  <a:pt x="1659" y="1241"/>
                </a:lnTo>
                <a:lnTo>
                  <a:pt x="1643" y="1254"/>
                </a:lnTo>
                <a:lnTo>
                  <a:pt x="1623" y="1265"/>
                </a:lnTo>
                <a:lnTo>
                  <a:pt x="1597" y="1262"/>
                </a:lnTo>
                <a:lnTo>
                  <a:pt x="1569" y="1262"/>
                </a:lnTo>
                <a:lnTo>
                  <a:pt x="1547" y="1264"/>
                </a:lnTo>
                <a:lnTo>
                  <a:pt x="1529" y="1272"/>
                </a:lnTo>
                <a:lnTo>
                  <a:pt x="1513" y="1284"/>
                </a:lnTo>
                <a:lnTo>
                  <a:pt x="1501" y="1301"/>
                </a:lnTo>
                <a:lnTo>
                  <a:pt x="1493" y="1322"/>
                </a:lnTo>
                <a:lnTo>
                  <a:pt x="1493" y="1351"/>
                </a:lnTo>
                <a:lnTo>
                  <a:pt x="1495" y="1372"/>
                </a:lnTo>
                <a:lnTo>
                  <a:pt x="1503" y="1390"/>
                </a:lnTo>
                <a:lnTo>
                  <a:pt x="1515" y="1406"/>
                </a:lnTo>
                <a:lnTo>
                  <a:pt x="1532" y="1419"/>
                </a:lnTo>
                <a:lnTo>
                  <a:pt x="1555" y="1429"/>
                </a:lnTo>
                <a:lnTo>
                  <a:pt x="1598" y="1437"/>
                </a:lnTo>
                <a:lnTo>
                  <a:pt x="1637" y="1435"/>
                </a:lnTo>
                <a:lnTo>
                  <a:pt x="1673" y="1427"/>
                </a:lnTo>
                <a:lnTo>
                  <a:pt x="1705" y="1415"/>
                </a:lnTo>
                <a:lnTo>
                  <a:pt x="1733" y="1399"/>
                </a:lnTo>
                <a:lnTo>
                  <a:pt x="1756" y="1378"/>
                </a:lnTo>
                <a:lnTo>
                  <a:pt x="1776" y="1353"/>
                </a:lnTo>
                <a:lnTo>
                  <a:pt x="1793" y="1322"/>
                </a:lnTo>
                <a:lnTo>
                  <a:pt x="2047" y="635"/>
                </a:lnTo>
                <a:lnTo>
                  <a:pt x="2051" y="635"/>
                </a:lnTo>
                <a:lnTo>
                  <a:pt x="2051" y="1327"/>
                </a:lnTo>
                <a:lnTo>
                  <a:pt x="2053" y="1352"/>
                </a:lnTo>
                <a:lnTo>
                  <a:pt x="2059" y="1373"/>
                </a:lnTo>
                <a:lnTo>
                  <a:pt x="2068" y="1391"/>
                </a:lnTo>
                <a:lnTo>
                  <a:pt x="2080" y="1407"/>
                </a:lnTo>
                <a:lnTo>
                  <a:pt x="2096" y="1419"/>
                </a:lnTo>
                <a:lnTo>
                  <a:pt x="2116" y="1428"/>
                </a:lnTo>
                <a:lnTo>
                  <a:pt x="2138" y="1433"/>
                </a:lnTo>
                <a:lnTo>
                  <a:pt x="2148" y="1433"/>
                </a:lnTo>
                <a:lnTo>
                  <a:pt x="2172" y="1431"/>
                </a:lnTo>
                <a:lnTo>
                  <a:pt x="2192" y="1423"/>
                </a:lnTo>
                <a:lnTo>
                  <a:pt x="2210" y="1411"/>
                </a:lnTo>
                <a:lnTo>
                  <a:pt x="2225" y="1393"/>
                </a:lnTo>
                <a:lnTo>
                  <a:pt x="2237" y="1370"/>
                </a:lnTo>
                <a:lnTo>
                  <a:pt x="2242" y="1341"/>
                </a:lnTo>
                <a:lnTo>
                  <a:pt x="2244" y="1307"/>
                </a:lnTo>
                <a:lnTo>
                  <a:pt x="2244" y="1103"/>
                </a:lnTo>
                <a:lnTo>
                  <a:pt x="2248" y="1099"/>
                </a:lnTo>
                <a:lnTo>
                  <a:pt x="2280" y="1122"/>
                </a:lnTo>
                <a:lnTo>
                  <a:pt x="2313" y="1140"/>
                </a:lnTo>
                <a:lnTo>
                  <a:pt x="2348" y="1153"/>
                </a:lnTo>
                <a:lnTo>
                  <a:pt x="2384" y="1161"/>
                </a:lnTo>
                <a:lnTo>
                  <a:pt x="2421" y="1163"/>
                </a:lnTo>
                <a:lnTo>
                  <a:pt x="2466" y="1161"/>
                </a:lnTo>
                <a:lnTo>
                  <a:pt x="2509" y="1152"/>
                </a:lnTo>
                <a:lnTo>
                  <a:pt x="2548" y="1136"/>
                </a:lnTo>
                <a:lnTo>
                  <a:pt x="2584" y="1114"/>
                </a:lnTo>
                <a:lnTo>
                  <a:pt x="2619" y="1087"/>
                </a:lnTo>
                <a:lnTo>
                  <a:pt x="2650" y="1054"/>
                </a:lnTo>
                <a:lnTo>
                  <a:pt x="2679" y="1014"/>
                </a:lnTo>
                <a:lnTo>
                  <a:pt x="2705" y="969"/>
                </a:lnTo>
                <a:lnTo>
                  <a:pt x="2731" y="887"/>
                </a:lnTo>
                <a:lnTo>
                  <a:pt x="2732" y="887"/>
                </a:lnTo>
                <a:lnTo>
                  <a:pt x="2746" y="931"/>
                </a:lnTo>
                <a:lnTo>
                  <a:pt x="2762" y="971"/>
                </a:lnTo>
                <a:lnTo>
                  <a:pt x="2782" y="1006"/>
                </a:lnTo>
                <a:lnTo>
                  <a:pt x="2803" y="1037"/>
                </a:lnTo>
                <a:lnTo>
                  <a:pt x="2828" y="1064"/>
                </a:lnTo>
                <a:lnTo>
                  <a:pt x="2855" y="1086"/>
                </a:lnTo>
                <a:lnTo>
                  <a:pt x="2887" y="1110"/>
                </a:lnTo>
                <a:lnTo>
                  <a:pt x="2923" y="1129"/>
                </a:lnTo>
                <a:lnTo>
                  <a:pt x="2960" y="1144"/>
                </a:lnTo>
                <a:lnTo>
                  <a:pt x="3000" y="1155"/>
                </a:lnTo>
                <a:lnTo>
                  <a:pt x="3042" y="1161"/>
                </a:lnTo>
                <a:lnTo>
                  <a:pt x="3086" y="1163"/>
                </a:lnTo>
                <a:lnTo>
                  <a:pt x="3142" y="1160"/>
                </a:lnTo>
                <a:lnTo>
                  <a:pt x="3196" y="1149"/>
                </a:lnTo>
                <a:lnTo>
                  <a:pt x="3251" y="1132"/>
                </a:lnTo>
                <a:lnTo>
                  <a:pt x="3304" y="1109"/>
                </a:lnTo>
                <a:lnTo>
                  <a:pt x="3357" y="1078"/>
                </a:lnTo>
                <a:lnTo>
                  <a:pt x="3376" y="1057"/>
                </a:lnTo>
                <a:lnTo>
                  <a:pt x="3389" y="1039"/>
                </a:lnTo>
                <a:lnTo>
                  <a:pt x="3397" y="1021"/>
                </a:lnTo>
                <a:lnTo>
                  <a:pt x="3400" y="1003"/>
                </a:lnTo>
                <a:lnTo>
                  <a:pt x="3397" y="982"/>
                </a:lnTo>
                <a:lnTo>
                  <a:pt x="3390" y="964"/>
                </a:lnTo>
                <a:lnTo>
                  <a:pt x="3377" y="948"/>
                </a:lnTo>
                <a:lnTo>
                  <a:pt x="3359" y="935"/>
                </a:lnTo>
                <a:lnTo>
                  <a:pt x="3335" y="923"/>
                </a:lnTo>
                <a:lnTo>
                  <a:pt x="3323" y="922"/>
                </a:lnTo>
                <a:lnTo>
                  <a:pt x="3314" y="923"/>
                </a:lnTo>
                <a:lnTo>
                  <a:pt x="3302" y="927"/>
                </a:lnTo>
                <a:lnTo>
                  <a:pt x="3285" y="934"/>
                </a:lnTo>
                <a:lnTo>
                  <a:pt x="3263" y="943"/>
                </a:lnTo>
                <a:lnTo>
                  <a:pt x="3237" y="954"/>
                </a:lnTo>
                <a:lnTo>
                  <a:pt x="3207" y="969"/>
                </a:lnTo>
                <a:lnTo>
                  <a:pt x="3172" y="986"/>
                </a:lnTo>
                <a:lnTo>
                  <a:pt x="3163" y="990"/>
                </a:lnTo>
                <a:lnTo>
                  <a:pt x="3148" y="994"/>
                </a:lnTo>
                <a:lnTo>
                  <a:pt x="3128" y="996"/>
                </a:lnTo>
                <a:lnTo>
                  <a:pt x="3102" y="1000"/>
                </a:lnTo>
                <a:lnTo>
                  <a:pt x="3095" y="996"/>
                </a:lnTo>
                <a:lnTo>
                  <a:pt x="3086" y="996"/>
                </a:lnTo>
                <a:lnTo>
                  <a:pt x="3053" y="994"/>
                </a:lnTo>
                <a:lnTo>
                  <a:pt x="3023" y="986"/>
                </a:lnTo>
                <a:lnTo>
                  <a:pt x="2995" y="972"/>
                </a:lnTo>
                <a:lnTo>
                  <a:pt x="2969" y="954"/>
                </a:lnTo>
                <a:lnTo>
                  <a:pt x="2947" y="930"/>
                </a:lnTo>
                <a:lnTo>
                  <a:pt x="2936" y="911"/>
                </a:lnTo>
                <a:lnTo>
                  <a:pt x="2928" y="893"/>
                </a:lnTo>
                <a:lnTo>
                  <a:pt x="2922" y="877"/>
                </a:lnTo>
                <a:lnTo>
                  <a:pt x="2921" y="863"/>
                </a:lnTo>
                <a:lnTo>
                  <a:pt x="2922" y="862"/>
                </a:lnTo>
                <a:lnTo>
                  <a:pt x="3323" y="862"/>
                </a:lnTo>
                <a:lnTo>
                  <a:pt x="3348" y="860"/>
                </a:lnTo>
                <a:lnTo>
                  <a:pt x="3368" y="855"/>
                </a:lnTo>
                <a:lnTo>
                  <a:pt x="3386" y="847"/>
                </a:lnTo>
                <a:lnTo>
                  <a:pt x="3398" y="835"/>
                </a:lnTo>
                <a:lnTo>
                  <a:pt x="3408" y="820"/>
                </a:lnTo>
                <a:lnTo>
                  <a:pt x="3414" y="802"/>
                </a:lnTo>
                <a:lnTo>
                  <a:pt x="3416" y="780"/>
                </a:lnTo>
                <a:lnTo>
                  <a:pt x="3416" y="777"/>
                </a:lnTo>
                <a:lnTo>
                  <a:pt x="3413" y="734"/>
                </a:lnTo>
                <a:lnTo>
                  <a:pt x="3404" y="691"/>
                </a:lnTo>
                <a:lnTo>
                  <a:pt x="3389" y="650"/>
                </a:lnTo>
                <a:lnTo>
                  <a:pt x="3368" y="610"/>
                </a:lnTo>
                <a:lnTo>
                  <a:pt x="3341" y="571"/>
                </a:lnTo>
                <a:lnTo>
                  <a:pt x="3307" y="534"/>
                </a:lnTo>
                <a:lnTo>
                  <a:pt x="3269" y="499"/>
                </a:lnTo>
                <a:lnTo>
                  <a:pt x="3231" y="476"/>
                </a:lnTo>
                <a:lnTo>
                  <a:pt x="3193" y="458"/>
                </a:lnTo>
                <a:lnTo>
                  <a:pt x="3158" y="444"/>
                </a:lnTo>
                <a:lnTo>
                  <a:pt x="3124" y="437"/>
                </a:lnTo>
                <a:lnTo>
                  <a:pt x="3090" y="434"/>
                </a:lnTo>
                <a:lnTo>
                  <a:pt x="3078" y="434"/>
                </a:lnTo>
                <a:lnTo>
                  <a:pt x="3069" y="433"/>
                </a:lnTo>
                <a:lnTo>
                  <a:pt x="3060" y="434"/>
                </a:lnTo>
                <a:lnTo>
                  <a:pt x="3049" y="434"/>
                </a:lnTo>
                <a:lnTo>
                  <a:pt x="3004" y="438"/>
                </a:lnTo>
                <a:lnTo>
                  <a:pt x="2958" y="451"/>
                </a:lnTo>
                <a:lnTo>
                  <a:pt x="2913" y="472"/>
                </a:lnTo>
                <a:lnTo>
                  <a:pt x="2868" y="502"/>
                </a:lnTo>
                <a:lnTo>
                  <a:pt x="2824" y="539"/>
                </a:lnTo>
                <a:lnTo>
                  <a:pt x="2791" y="582"/>
                </a:lnTo>
                <a:lnTo>
                  <a:pt x="2765" y="625"/>
                </a:lnTo>
                <a:lnTo>
                  <a:pt x="2745" y="669"/>
                </a:lnTo>
                <a:lnTo>
                  <a:pt x="2732" y="716"/>
                </a:lnTo>
                <a:lnTo>
                  <a:pt x="2731" y="716"/>
                </a:lnTo>
                <a:lnTo>
                  <a:pt x="2716" y="664"/>
                </a:lnTo>
                <a:lnTo>
                  <a:pt x="2698" y="618"/>
                </a:lnTo>
                <a:lnTo>
                  <a:pt x="2677" y="577"/>
                </a:lnTo>
                <a:lnTo>
                  <a:pt x="2652" y="541"/>
                </a:lnTo>
                <a:lnTo>
                  <a:pt x="2625" y="510"/>
                </a:lnTo>
                <a:lnTo>
                  <a:pt x="2591" y="483"/>
                </a:lnTo>
                <a:lnTo>
                  <a:pt x="2555" y="461"/>
                </a:lnTo>
                <a:lnTo>
                  <a:pt x="2518" y="446"/>
                </a:lnTo>
                <a:lnTo>
                  <a:pt x="2479" y="437"/>
                </a:lnTo>
                <a:lnTo>
                  <a:pt x="2438" y="434"/>
                </a:lnTo>
                <a:lnTo>
                  <a:pt x="2430" y="434"/>
                </a:lnTo>
                <a:lnTo>
                  <a:pt x="2427" y="433"/>
                </a:lnTo>
                <a:lnTo>
                  <a:pt x="2426" y="434"/>
                </a:lnTo>
                <a:lnTo>
                  <a:pt x="2415" y="434"/>
                </a:lnTo>
                <a:lnTo>
                  <a:pt x="2381" y="436"/>
                </a:lnTo>
                <a:lnTo>
                  <a:pt x="2349" y="444"/>
                </a:lnTo>
                <a:lnTo>
                  <a:pt x="2320" y="455"/>
                </a:lnTo>
                <a:lnTo>
                  <a:pt x="2292" y="471"/>
                </a:lnTo>
                <a:lnTo>
                  <a:pt x="2267" y="493"/>
                </a:lnTo>
                <a:lnTo>
                  <a:pt x="2244" y="519"/>
                </a:lnTo>
                <a:lnTo>
                  <a:pt x="2234" y="495"/>
                </a:lnTo>
                <a:lnTo>
                  <a:pt x="2223" y="476"/>
                </a:lnTo>
                <a:lnTo>
                  <a:pt x="2210" y="461"/>
                </a:lnTo>
                <a:lnTo>
                  <a:pt x="2195" y="451"/>
                </a:lnTo>
                <a:lnTo>
                  <a:pt x="2172" y="444"/>
                </a:lnTo>
                <a:lnTo>
                  <a:pt x="2147" y="442"/>
                </a:lnTo>
                <a:lnTo>
                  <a:pt x="2122" y="445"/>
                </a:lnTo>
                <a:lnTo>
                  <a:pt x="2098" y="454"/>
                </a:lnTo>
                <a:lnTo>
                  <a:pt x="2075" y="471"/>
                </a:lnTo>
                <a:lnTo>
                  <a:pt x="2072" y="471"/>
                </a:lnTo>
                <a:lnTo>
                  <a:pt x="2054" y="453"/>
                </a:lnTo>
                <a:lnTo>
                  <a:pt x="2035" y="440"/>
                </a:lnTo>
                <a:lnTo>
                  <a:pt x="2016" y="432"/>
                </a:lnTo>
                <a:lnTo>
                  <a:pt x="1996" y="428"/>
                </a:lnTo>
                <a:lnTo>
                  <a:pt x="1984" y="428"/>
                </a:lnTo>
                <a:lnTo>
                  <a:pt x="1961" y="430"/>
                </a:lnTo>
                <a:lnTo>
                  <a:pt x="1942" y="438"/>
                </a:lnTo>
                <a:lnTo>
                  <a:pt x="1925" y="451"/>
                </a:lnTo>
                <a:lnTo>
                  <a:pt x="1911" y="468"/>
                </a:lnTo>
                <a:lnTo>
                  <a:pt x="1898" y="490"/>
                </a:lnTo>
                <a:lnTo>
                  <a:pt x="1888" y="517"/>
                </a:lnTo>
                <a:lnTo>
                  <a:pt x="1880" y="549"/>
                </a:lnTo>
                <a:lnTo>
                  <a:pt x="1775" y="958"/>
                </a:lnTo>
                <a:lnTo>
                  <a:pt x="1771" y="958"/>
                </a:lnTo>
                <a:lnTo>
                  <a:pt x="1746" y="884"/>
                </a:lnTo>
                <a:lnTo>
                  <a:pt x="1724" y="817"/>
                </a:lnTo>
                <a:lnTo>
                  <a:pt x="1702" y="755"/>
                </a:lnTo>
                <a:lnTo>
                  <a:pt x="1684" y="700"/>
                </a:lnTo>
                <a:lnTo>
                  <a:pt x="1668" y="650"/>
                </a:lnTo>
                <a:lnTo>
                  <a:pt x="1652" y="605"/>
                </a:lnTo>
                <a:lnTo>
                  <a:pt x="1640" y="568"/>
                </a:lnTo>
                <a:lnTo>
                  <a:pt x="1628" y="536"/>
                </a:lnTo>
                <a:lnTo>
                  <a:pt x="1618" y="510"/>
                </a:lnTo>
                <a:lnTo>
                  <a:pt x="1612" y="490"/>
                </a:lnTo>
                <a:lnTo>
                  <a:pt x="1606" y="476"/>
                </a:lnTo>
                <a:lnTo>
                  <a:pt x="1588" y="455"/>
                </a:lnTo>
                <a:lnTo>
                  <a:pt x="1569" y="441"/>
                </a:lnTo>
                <a:lnTo>
                  <a:pt x="1547" y="432"/>
                </a:lnTo>
                <a:lnTo>
                  <a:pt x="1522" y="428"/>
                </a:lnTo>
                <a:lnTo>
                  <a:pt x="1509" y="428"/>
                </a:lnTo>
                <a:lnTo>
                  <a:pt x="1491" y="432"/>
                </a:lnTo>
                <a:lnTo>
                  <a:pt x="1474" y="440"/>
                </a:lnTo>
                <a:lnTo>
                  <a:pt x="1455" y="453"/>
                </a:lnTo>
                <a:lnTo>
                  <a:pt x="1437" y="471"/>
                </a:lnTo>
                <a:lnTo>
                  <a:pt x="1434" y="471"/>
                </a:lnTo>
                <a:lnTo>
                  <a:pt x="1416" y="455"/>
                </a:lnTo>
                <a:lnTo>
                  <a:pt x="1396" y="446"/>
                </a:lnTo>
                <a:lnTo>
                  <a:pt x="1374" y="443"/>
                </a:lnTo>
                <a:lnTo>
                  <a:pt x="1370" y="443"/>
                </a:lnTo>
                <a:lnTo>
                  <a:pt x="1344" y="446"/>
                </a:lnTo>
                <a:lnTo>
                  <a:pt x="1318" y="457"/>
                </a:lnTo>
                <a:lnTo>
                  <a:pt x="1292" y="475"/>
                </a:lnTo>
                <a:lnTo>
                  <a:pt x="1268" y="500"/>
                </a:lnTo>
                <a:lnTo>
                  <a:pt x="1242" y="532"/>
                </a:lnTo>
                <a:lnTo>
                  <a:pt x="1090" y="704"/>
                </a:lnTo>
                <a:lnTo>
                  <a:pt x="1086" y="704"/>
                </a:lnTo>
                <a:lnTo>
                  <a:pt x="1086" y="283"/>
                </a:lnTo>
                <a:lnTo>
                  <a:pt x="1084" y="256"/>
                </a:lnTo>
                <a:lnTo>
                  <a:pt x="1079" y="233"/>
                </a:lnTo>
                <a:lnTo>
                  <a:pt x="1067" y="212"/>
                </a:lnTo>
                <a:lnTo>
                  <a:pt x="1052" y="196"/>
                </a:lnTo>
                <a:lnTo>
                  <a:pt x="1032" y="184"/>
                </a:lnTo>
                <a:lnTo>
                  <a:pt x="1011" y="177"/>
                </a:lnTo>
                <a:lnTo>
                  <a:pt x="988" y="176"/>
                </a:lnTo>
                <a:close/>
                <a:moveTo>
                  <a:pt x="988" y="0"/>
                </a:moveTo>
                <a:lnTo>
                  <a:pt x="1021" y="3"/>
                </a:lnTo>
                <a:lnTo>
                  <a:pt x="1054" y="15"/>
                </a:lnTo>
                <a:lnTo>
                  <a:pt x="1084" y="34"/>
                </a:lnTo>
                <a:lnTo>
                  <a:pt x="1113" y="60"/>
                </a:lnTo>
                <a:lnTo>
                  <a:pt x="1142" y="94"/>
                </a:lnTo>
                <a:lnTo>
                  <a:pt x="1159" y="121"/>
                </a:lnTo>
                <a:lnTo>
                  <a:pt x="1174" y="156"/>
                </a:lnTo>
                <a:lnTo>
                  <a:pt x="1186" y="195"/>
                </a:lnTo>
                <a:lnTo>
                  <a:pt x="1195" y="241"/>
                </a:lnTo>
                <a:lnTo>
                  <a:pt x="1243" y="227"/>
                </a:lnTo>
                <a:lnTo>
                  <a:pt x="1289" y="217"/>
                </a:lnTo>
                <a:lnTo>
                  <a:pt x="1332" y="209"/>
                </a:lnTo>
                <a:lnTo>
                  <a:pt x="1371" y="204"/>
                </a:lnTo>
                <a:lnTo>
                  <a:pt x="1408" y="202"/>
                </a:lnTo>
                <a:lnTo>
                  <a:pt x="1453" y="204"/>
                </a:lnTo>
                <a:lnTo>
                  <a:pt x="1494" y="210"/>
                </a:lnTo>
                <a:lnTo>
                  <a:pt x="1531" y="219"/>
                </a:lnTo>
                <a:lnTo>
                  <a:pt x="1565" y="232"/>
                </a:lnTo>
                <a:lnTo>
                  <a:pt x="1596" y="248"/>
                </a:lnTo>
                <a:lnTo>
                  <a:pt x="1623" y="268"/>
                </a:lnTo>
                <a:lnTo>
                  <a:pt x="1646" y="291"/>
                </a:lnTo>
                <a:lnTo>
                  <a:pt x="1667" y="318"/>
                </a:lnTo>
                <a:lnTo>
                  <a:pt x="1669" y="318"/>
                </a:lnTo>
                <a:lnTo>
                  <a:pt x="1696" y="278"/>
                </a:lnTo>
                <a:lnTo>
                  <a:pt x="1726" y="243"/>
                </a:lnTo>
                <a:lnTo>
                  <a:pt x="1760" y="211"/>
                </a:lnTo>
                <a:lnTo>
                  <a:pt x="1796" y="184"/>
                </a:lnTo>
                <a:lnTo>
                  <a:pt x="1836" y="161"/>
                </a:lnTo>
                <a:lnTo>
                  <a:pt x="1879" y="142"/>
                </a:lnTo>
                <a:lnTo>
                  <a:pt x="1925" y="127"/>
                </a:lnTo>
                <a:lnTo>
                  <a:pt x="1975" y="117"/>
                </a:lnTo>
                <a:lnTo>
                  <a:pt x="2027" y="110"/>
                </a:lnTo>
                <a:lnTo>
                  <a:pt x="2083" y="108"/>
                </a:lnTo>
                <a:lnTo>
                  <a:pt x="2134" y="111"/>
                </a:lnTo>
                <a:lnTo>
                  <a:pt x="2182" y="119"/>
                </a:lnTo>
                <a:lnTo>
                  <a:pt x="2228" y="133"/>
                </a:lnTo>
                <a:lnTo>
                  <a:pt x="2271" y="153"/>
                </a:lnTo>
                <a:lnTo>
                  <a:pt x="2312" y="178"/>
                </a:lnTo>
                <a:lnTo>
                  <a:pt x="2350" y="209"/>
                </a:lnTo>
                <a:lnTo>
                  <a:pt x="2386" y="245"/>
                </a:lnTo>
                <a:lnTo>
                  <a:pt x="2419" y="287"/>
                </a:lnTo>
                <a:lnTo>
                  <a:pt x="2448" y="338"/>
                </a:lnTo>
                <a:lnTo>
                  <a:pt x="2486" y="327"/>
                </a:lnTo>
                <a:lnTo>
                  <a:pt x="2523" y="319"/>
                </a:lnTo>
                <a:lnTo>
                  <a:pt x="2558" y="317"/>
                </a:lnTo>
                <a:lnTo>
                  <a:pt x="2576" y="317"/>
                </a:lnTo>
                <a:lnTo>
                  <a:pt x="2607" y="319"/>
                </a:lnTo>
                <a:lnTo>
                  <a:pt x="2636" y="326"/>
                </a:lnTo>
                <a:lnTo>
                  <a:pt x="2666" y="337"/>
                </a:lnTo>
                <a:lnTo>
                  <a:pt x="2694" y="353"/>
                </a:lnTo>
                <a:lnTo>
                  <a:pt x="2719" y="375"/>
                </a:lnTo>
                <a:lnTo>
                  <a:pt x="2722" y="375"/>
                </a:lnTo>
                <a:lnTo>
                  <a:pt x="2787" y="342"/>
                </a:lnTo>
                <a:lnTo>
                  <a:pt x="2850" y="317"/>
                </a:lnTo>
                <a:lnTo>
                  <a:pt x="2912" y="299"/>
                </a:lnTo>
                <a:lnTo>
                  <a:pt x="2975" y="287"/>
                </a:lnTo>
                <a:lnTo>
                  <a:pt x="3035" y="284"/>
                </a:lnTo>
                <a:lnTo>
                  <a:pt x="3067" y="284"/>
                </a:lnTo>
                <a:lnTo>
                  <a:pt x="3119" y="287"/>
                </a:lnTo>
                <a:lnTo>
                  <a:pt x="3173" y="299"/>
                </a:lnTo>
                <a:lnTo>
                  <a:pt x="3226" y="317"/>
                </a:lnTo>
                <a:lnTo>
                  <a:pt x="3278" y="342"/>
                </a:lnTo>
                <a:lnTo>
                  <a:pt x="3331" y="375"/>
                </a:lnTo>
                <a:lnTo>
                  <a:pt x="3332" y="375"/>
                </a:lnTo>
                <a:lnTo>
                  <a:pt x="3376" y="346"/>
                </a:lnTo>
                <a:lnTo>
                  <a:pt x="3420" y="326"/>
                </a:lnTo>
                <a:lnTo>
                  <a:pt x="3464" y="313"/>
                </a:lnTo>
                <a:lnTo>
                  <a:pt x="3509" y="310"/>
                </a:lnTo>
                <a:lnTo>
                  <a:pt x="3538" y="312"/>
                </a:lnTo>
                <a:lnTo>
                  <a:pt x="3566" y="321"/>
                </a:lnTo>
                <a:lnTo>
                  <a:pt x="3592" y="335"/>
                </a:lnTo>
                <a:lnTo>
                  <a:pt x="3615" y="355"/>
                </a:lnTo>
                <a:lnTo>
                  <a:pt x="3638" y="382"/>
                </a:lnTo>
                <a:lnTo>
                  <a:pt x="3657" y="412"/>
                </a:lnTo>
                <a:lnTo>
                  <a:pt x="3668" y="446"/>
                </a:lnTo>
                <a:lnTo>
                  <a:pt x="3676" y="478"/>
                </a:lnTo>
                <a:lnTo>
                  <a:pt x="3678" y="510"/>
                </a:lnTo>
                <a:lnTo>
                  <a:pt x="3678" y="527"/>
                </a:lnTo>
                <a:lnTo>
                  <a:pt x="3676" y="557"/>
                </a:lnTo>
                <a:lnTo>
                  <a:pt x="3668" y="585"/>
                </a:lnTo>
                <a:lnTo>
                  <a:pt x="3656" y="610"/>
                </a:lnTo>
                <a:lnTo>
                  <a:pt x="3639" y="634"/>
                </a:lnTo>
                <a:lnTo>
                  <a:pt x="3618" y="654"/>
                </a:lnTo>
                <a:lnTo>
                  <a:pt x="3591" y="674"/>
                </a:lnTo>
                <a:lnTo>
                  <a:pt x="3559" y="691"/>
                </a:lnTo>
                <a:lnTo>
                  <a:pt x="3560" y="726"/>
                </a:lnTo>
                <a:lnTo>
                  <a:pt x="3560" y="760"/>
                </a:lnTo>
                <a:lnTo>
                  <a:pt x="3558" y="828"/>
                </a:lnTo>
                <a:lnTo>
                  <a:pt x="3550" y="892"/>
                </a:lnTo>
                <a:lnTo>
                  <a:pt x="3538" y="952"/>
                </a:lnTo>
                <a:lnTo>
                  <a:pt x="3520" y="1009"/>
                </a:lnTo>
                <a:lnTo>
                  <a:pt x="3497" y="1061"/>
                </a:lnTo>
                <a:lnTo>
                  <a:pt x="3469" y="1111"/>
                </a:lnTo>
                <a:lnTo>
                  <a:pt x="3435" y="1156"/>
                </a:lnTo>
                <a:lnTo>
                  <a:pt x="3397" y="1198"/>
                </a:lnTo>
                <a:lnTo>
                  <a:pt x="3353" y="1236"/>
                </a:lnTo>
                <a:lnTo>
                  <a:pt x="3314" y="1263"/>
                </a:lnTo>
                <a:lnTo>
                  <a:pt x="3269" y="1287"/>
                </a:lnTo>
                <a:lnTo>
                  <a:pt x="3221" y="1307"/>
                </a:lnTo>
                <a:lnTo>
                  <a:pt x="3168" y="1323"/>
                </a:lnTo>
                <a:lnTo>
                  <a:pt x="3118" y="1335"/>
                </a:lnTo>
                <a:lnTo>
                  <a:pt x="3071" y="1341"/>
                </a:lnTo>
                <a:lnTo>
                  <a:pt x="3026" y="1344"/>
                </a:lnTo>
                <a:lnTo>
                  <a:pt x="2967" y="1340"/>
                </a:lnTo>
                <a:lnTo>
                  <a:pt x="2908" y="1330"/>
                </a:lnTo>
                <a:lnTo>
                  <a:pt x="2848" y="1313"/>
                </a:lnTo>
                <a:lnTo>
                  <a:pt x="2790" y="1289"/>
                </a:lnTo>
                <a:lnTo>
                  <a:pt x="2732" y="1257"/>
                </a:lnTo>
                <a:lnTo>
                  <a:pt x="2697" y="1287"/>
                </a:lnTo>
                <a:lnTo>
                  <a:pt x="2660" y="1312"/>
                </a:lnTo>
                <a:lnTo>
                  <a:pt x="2619" y="1332"/>
                </a:lnTo>
                <a:lnTo>
                  <a:pt x="2574" y="1347"/>
                </a:lnTo>
                <a:lnTo>
                  <a:pt x="2527" y="1358"/>
                </a:lnTo>
                <a:lnTo>
                  <a:pt x="2476" y="1365"/>
                </a:lnTo>
                <a:lnTo>
                  <a:pt x="2421" y="1368"/>
                </a:lnTo>
                <a:lnTo>
                  <a:pt x="2392" y="1365"/>
                </a:lnTo>
                <a:lnTo>
                  <a:pt x="2381" y="1397"/>
                </a:lnTo>
                <a:lnTo>
                  <a:pt x="2365" y="1429"/>
                </a:lnTo>
                <a:lnTo>
                  <a:pt x="2344" y="1461"/>
                </a:lnTo>
                <a:lnTo>
                  <a:pt x="2317" y="1494"/>
                </a:lnTo>
                <a:lnTo>
                  <a:pt x="2292" y="1519"/>
                </a:lnTo>
                <a:lnTo>
                  <a:pt x="2262" y="1539"/>
                </a:lnTo>
                <a:lnTo>
                  <a:pt x="2229" y="1555"/>
                </a:lnTo>
                <a:lnTo>
                  <a:pt x="2193" y="1566"/>
                </a:lnTo>
                <a:lnTo>
                  <a:pt x="2154" y="1573"/>
                </a:lnTo>
                <a:lnTo>
                  <a:pt x="2110" y="1575"/>
                </a:lnTo>
                <a:lnTo>
                  <a:pt x="2092" y="1578"/>
                </a:lnTo>
                <a:lnTo>
                  <a:pt x="2059" y="1575"/>
                </a:lnTo>
                <a:lnTo>
                  <a:pt x="2027" y="1566"/>
                </a:lnTo>
                <a:lnTo>
                  <a:pt x="1997" y="1553"/>
                </a:lnTo>
                <a:lnTo>
                  <a:pt x="1968" y="1532"/>
                </a:lnTo>
                <a:lnTo>
                  <a:pt x="1941" y="1506"/>
                </a:lnTo>
                <a:lnTo>
                  <a:pt x="1915" y="1475"/>
                </a:lnTo>
                <a:lnTo>
                  <a:pt x="1891" y="1438"/>
                </a:lnTo>
                <a:lnTo>
                  <a:pt x="1889" y="1438"/>
                </a:lnTo>
                <a:lnTo>
                  <a:pt x="1879" y="1457"/>
                </a:lnTo>
                <a:lnTo>
                  <a:pt x="1866" y="1480"/>
                </a:lnTo>
                <a:lnTo>
                  <a:pt x="1848" y="1504"/>
                </a:lnTo>
                <a:lnTo>
                  <a:pt x="1827" y="1530"/>
                </a:lnTo>
                <a:lnTo>
                  <a:pt x="1802" y="1558"/>
                </a:lnTo>
                <a:lnTo>
                  <a:pt x="1773" y="1585"/>
                </a:lnTo>
                <a:lnTo>
                  <a:pt x="1740" y="1607"/>
                </a:lnTo>
                <a:lnTo>
                  <a:pt x="1706" y="1624"/>
                </a:lnTo>
                <a:lnTo>
                  <a:pt x="1667" y="1637"/>
                </a:lnTo>
                <a:lnTo>
                  <a:pt x="1625" y="1644"/>
                </a:lnTo>
                <a:lnTo>
                  <a:pt x="1580" y="1647"/>
                </a:lnTo>
                <a:lnTo>
                  <a:pt x="1559" y="1647"/>
                </a:lnTo>
                <a:lnTo>
                  <a:pt x="1522" y="1644"/>
                </a:lnTo>
                <a:lnTo>
                  <a:pt x="1485" y="1632"/>
                </a:lnTo>
                <a:lnTo>
                  <a:pt x="1450" y="1615"/>
                </a:lnTo>
                <a:lnTo>
                  <a:pt x="1417" y="1591"/>
                </a:lnTo>
                <a:lnTo>
                  <a:pt x="1383" y="1561"/>
                </a:lnTo>
                <a:lnTo>
                  <a:pt x="1352" y="1522"/>
                </a:lnTo>
                <a:lnTo>
                  <a:pt x="1335" y="1493"/>
                </a:lnTo>
                <a:lnTo>
                  <a:pt x="1320" y="1464"/>
                </a:lnTo>
                <a:lnTo>
                  <a:pt x="1309" y="1437"/>
                </a:lnTo>
                <a:lnTo>
                  <a:pt x="1307" y="1438"/>
                </a:lnTo>
                <a:lnTo>
                  <a:pt x="1305" y="1438"/>
                </a:lnTo>
                <a:lnTo>
                  <a:pt x="1248" y="1435"/>
                </a:lnTo>
                <a:lnTo>
                  <a:pt x="1194" y="1427"/>
                </a:lnTo>
                <a:lnTo>
                  <a:pt x="1144" y="1413"/>
                </a:lnTo>
                <a:lnTo>
                  <a:pt x="1095" y="1393"/>
                </a:lnTo>
                <a:lnTo>
                  <a:pt x="1052" y="1368"/>
                </a:lnTo>
                <a:lnTo>
                  <a:pt x="1010" y="1337"/>
                </a:lnTo>
                <a:lnTo>
                  <a:pt x="972" y="1299"/>
                </a:lnTo>
                <a:lnTo>
                  <a:pt x="937" y="1257"/>
                </a:lnTo>
                <a:lnTo>
                  <a:pt x="883" y="1291"/>
                </a:lnTo>
                <a:lnTo>
                  <a:pt x="827" y="1318"/>
                </a:lnTo>
                <a:lnTo>
                  <a:pt x="772" y="1337"/>
                </a:lnTo>
                <a:lnTo>
                  <a:pt x="716" y="1348"/>
                </a:lnTo>
                <a:lnTo>
                  <a:pt x="660" y="1352"/>
                </a:lnTo>
                <a:lnTo>
                  <a:pt x="600" y="1351"/>
                </a:lnTo>
                <a:lnTo>
                  <a:pt x="545" y="1346"/>
                </a:lnTo>
                <a:lnTo>
                  <a:pt x="494" y="1338"/>
                </a:lnTo>
                <a:lnTo>
                  <a:pt x="446" y="1327"/>
                </a:lnTo>
                <a:lnTo>
                  <a:pt x="403" y="1312"/>
                </a:lnTo>
                <a:lnTo>
                  <a:pt x="363" y="1294"/>
                </a:lnTo>
                <a:lnTo>
                  <a:pt x="328" y="1273"/>
                </a:lnTo>
                <a:lnTo>
                  <a:pt x="296" y="1249"/>
                </a:lnTo>
                <a:lnTo>
                  <a:pt x="270" y="1230"/>
                </a:lnTo>
                <a:lnTo>
                  <a:pt x="242" y="1203"/>
                </a:lnTo>
                <a:lnTo>
                  <a:pt x="213" y="1170"/>
                </a:lnTo>
                <a:lnTo>
                  <a:pt x="181" y="1129"/>
                </a:lnTo>
                <a:lnTo>
                  <a:pt x="156" y="1081"/>
                </a:lnTo>
                <a:lnTo>
                  <a:pt x="132" y="1030"/>
                </a:lnTo>
                <a:lnTo>
                  <a:pt x="113" y="978"/>
                </a:lnTo>
                <a:lnTo>
                  <a:pt x="102" y="935"/>
                </a:lnTo>
                <a:lnTo>
                  <a:pt x="92" y="886"/>
                </a:lnTo>
                <a:lnTo>
                  <a:pt x="83" y="831"/>
                </a:lnTo>
                <a:lnTo>
                  <a:pt x="75" y="771"/>
                </a:lnTo>
                <a:lnTo>
                  <a:pt x="48" y="727"/>
                </a:lnTo>
                <a:lnTo>
                  <a:pt x="27" y="683"/>
                </a:lnTo>
                <a:lnTo>
                  <a:pt x="12" y="637"/>
                </a:lnTo>
                <a:lnTo>
                  <a:pt x="3" y="591"/>
                </a:lnTo>
                <a:lnTo>
                  <a:pt x="0" y="544"/>
                </a:lnTo>
                <a:lnTo>
                  <a:pt x="0" y="510"/>
                </a:lnTo>
                <a:lnTo>
                  <a:pt x="2" y="477"/>
                </a:lnTo>
                <a:lnTo>
                  <a:pt x="10" y="445"/>
                </a:lnTo>
                <a:lnTo>
                  <a:pt x="22" y="415"/>
                </a:lnTo>
                <a:lnTo>
                  <a:pt x="39" y="387"/>
                </a:lnTo>
                <a:lnTo>
                  <a:pt x="62" y="360"/>
                </a:lnTo>
                <a:lnTo>
                  <a:pt x="90" y="336"/>
                </a:lnTo>
                <a:lnTo>
                  <a:pt x="121" y="312"/>
                </a:lnTo>
                <a:lnTo>
                  <a:pt x="161" y="296"/>
                </a:lnTo>
                <a:lnTo>
                  <a:pt x="204" y="286"/>
                </a:lnTo>
                <a:lnTo>
                  <a:pt x="249" y="283"/>
                </a:lnTo>
                <a:lnTo>
                  <a:pt x="286" y="285"/>
                </a:lnTo>
                <a:lnTo>
                  <a:pt x="326" y="291"/>
                </a:lnTo>
                <a:lnTo>
                  <a:pt x="368" y="301"/>
                </a:lnTo>
                <a:lnTo>
                  <a:pt x="430" y="284"/>
                </a:lnTo>
                <a:lnTo>
                  <a:pt x="491" y="271"/>
                </a:lnTo>
                <a:lnTo>
                  <a:pt x="549" y="263"/>
                </a:lnTo>
                <a:lnTo>
                  <a:pt x="605" y="261"/>
                </a:lnTo>
                <a:lnTo>
                  <a:pt x="614" y="261"/>
                </a:lnTo>
                <a:lnTo>
                  <a:pt x="653" y="263"/>
                </a:lnTo>
                <a:lnTo>
                  <a:pt x="689" y="269"/>
                </a:lnTo>
                <a:lnTo>
                  <a:pt x="721" y="279"/>
                </a:lnTo>
                <a:lnTo>
                  <a:pt x="719" y="263"/>
                </a:lnTo>
                <a:lnTo>
                  <a:pt x="718" y="245"/>
                </a:lnTo>
                <a:lnTo>
                  <a:pt x="718" y="223"/>
                </a:lnTo>
                <a:lnTo>
                  <a:pt x="719" y="186"/>
                </a:lnTo>
                <a:lnTo>
                  <a:pt x="726" y="152"/>
                </a:lnTo>
                <a:lnTo>
                  <a:pt x="735" y="121"/>
                </a:lnTo>
                <a:lnTo>
                  <a:pt x="748" y="94"/>
                </a:lnTo>
                <a:lnTo>
                  <a:pt x="766" y="70"/>
                </a:lnTo>
                <a:lnTo>
                  <a:pt x="787" y="49"/>
                </a:lnTo>
                <a:lnTo>
                  <a:pt x="812" y="32"/>
                </a:lnTo>
                <a:lnTo>
                  <a:pt x="841" y="17"/>
                </a:lnTo>
                <a:lnTo>
                  <a:pt x="861" y="10"/>
                </a:lnTo>
                <a:lnTo>
                  <a:pt x="885" y="6"/>
                </a:lnTo>
                <a:lnTo>
                  <a:pt x="915" y="2"/>
                </a:lnTo>
                <a:lnTo>
                  <a:pt x="949" y="0"/>
                </a:lnTo>
                <a:lnTo>
                  <a:pt x="9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4"/>
          <p:cNvSpPr/>
          <p:nvPr/>
        </p:nvSpPr>
        <p:spPr>
          <a:xfrm>
            <a:off x="6093000" y="2273400"/>
            <a:ext cx="422280" cy="35712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2"/>
          <p:cNvSpPr/>
          <p:nvPr/>
        </p:nvSpPr>
        <p:spPr>
          <a:xfrm>
            <a:off x="9761400" y="2825640"/>
            <a:ext cx="819360" cy="39852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8807400" y="2273400"/>
            <a:ext cx="290520" cy="35712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Oval Callout 52"/>
          <p:cNvSpPr/>
          <p:nvPr/>
        </p:nvSpPr>
        <p:spPr>
          <a:xfrm flipH="1">
            <a:off x="7449480" y="1817640"/>
            <a:ext cx="711000" cy="5619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7738920" y="1982880"/>
            <a:ext cx="133560" cy="28260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33"/>
          <p:cNvSpPr/>
          <p:nvPr/>
        </p:nvSpPr>
        <p:spPr>
          <a:xfrm>
            <a:off x="1276200" y="2128680"/>
            <a:ext cx="30895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26"/>
          <p:cNvSpPr/>
          <p:nvPr/>
        </p:nvSpPr>
        <p:spPr>
          <a:xfrm>
            <a:off x="1290600" y="3884760"/>
            <a:ext cx="3090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3" descr=""/>
          <p:cNvPicPr/>
          <p:nvPr/>
        </p:nvPicPr>
        <p:blipFill>
          <a:blip r:embed="rId2"/>
          <a:stretch/>
        </p:blipFill>
        <p:spPr>
          <a:xfrm>
            <a:off x="6173640" y="1587600"/>
            <a:ext cx="2065320" cy="43815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29"/>
          <p:cNvSpPr/>
          <p:nvPr/>
        </p:nvSpPr>
        <p:spPr>
          <a:xfrm>
            <a:off x="8310600" y="3808440"/>
            <a:ext cx="2185920" cy="2160720"/>
          </a:xfrm>
          <a:prstGeom prst="rect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Placeholder 32"/>
          <p:cNvSpPr/>
          <p:nvPr/>
        </p:nvSpPr>
        <p:spPr>
          <a:xfrm>
            <a:off x="8604360" y="4064040"/>
            <a:ext cx="16383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162720" indent="-162720">
              <a:lnSpc>
                <a:spcPct val="15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Lato Light"/>
              </a:rPr>
              <a:t>Lemon drops oat cake oat cake sugar plum swee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15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Lato Light"/>
              </a:rPr>
              <a:t>Chocolate cake sweet pastry candy canes chocolate cake sesam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15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Lato Light"/>
              </a:rPr>
              <a:t>Oreo cake lollipop sw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8310600" y="1581120"/>
            <a:ext cx="2185920" cy="2158920"/>
          </a:xfrm>
          <a:prstGeom prst="rect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15"/>
          <p:cNvSpPr/>
          <p:nvPr/>
        </p:nvSpPr>
        <p:spPr>
          <a:xfrm>
            <a:off x="838080" y="2819520"/>
            <a:ext cx="586080" cy="585720"/>
          </a:xfrm>
          <a:prstGeom prst="ellipse">
            <a:avLst/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8"/>
          <p:cNvSpPr/>
          <p:nvPr/>
        </p:nvSpPr>
        <p:spPr>
          <a:xfrm>
            <a:off x="838080" y="3679920"/>
            <a:ext cx="586080" cy="585720"/>
          </a:xfrm>
          <a:prstGeom prst="ellipse">
            <a:avLst/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21"/>
          <p:cNvSpPr/>
          <p:nvPr/>
        </p:nvSpPr>
        <p:spPr>
          <a:xfrm>
            <a:off x="838080" y="4540320"/>
            <a:ext cx="586080" cy="585720"/>
          </a:xfrm>
          <a:prstGeom prst="ellipse">
            <a:avLst/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27"/>
          <p:cNvSpPr/>
          <p:nvPr/>
        </p:nvSpPr>
        <p:spPr>
          <a:xfrm>
            <a:off x="838080" y="5383080"/>
            <a:ext cx="586080" cy="586080"/>
          </a:xfrm>
          <a:prstGeom prst="ellipse">
            <a:avLst/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247"/>
          <p:cNvSpPr/>
          <p:nvPr/>
        </p:nvSpPr>
        <p:spPr>
          <a:xfrm>
            <a:off x="9475920" y="2711520"/>
            <a:ext cx="333360" cy="344520"/>
          </a:xfrm>
          <a:custGeom>
            <a:avLst/>
            <a:gdLst/>
            <a:ahLst/>
            <a:rect l="l" t="t" r="r" b="b"/>
            <a:pathLst>
              <a:path w="119" h="121">
                <a:moveTo>
                  <a:pt x="0" y="40"/>
                </a:moveTo>
                <a:cubicBezTo>
                  <a:pt x="46" y="85"/>
                  <a:pt x="46" y="85"/>
                  <a:pt x="46" y="85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83" y="121"/>
                  <a:pt x="83" y="121"/>
                  <a:pt x="83" y="121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83" y="48"/>
                  <a:pt x="83" y="48"/>
                  <a:pt x="83" y="4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6"/>
                  <a:pt x="1" y="38"/>
                  <a:pt x="0" y="40"/>
                </a:cubicBezTo>
                <a:close/>
                <a:moveTo>
                  <a:pt x="80" y="67"/>
                </a:moveTo>
                <a:cubicBezTo>
                  <a:pt x="88" y="67"/>
                  <a:pt x="95" y="73"/>
                  <a:pt x="95" y="82"/>
                </a:cubicBezTo>
                <a:cubicBezTo>
                  <a:pt x="95" y="90"/>
                  <a:pt x="88" y="97"/>
                  <a:pt x="80" y="97"/>
                </a:cubicBezTo>
                <a:cubicBezTo>
                  <a:pt x="71" y="97"/>
                  <a:pt x="65" y="90"/>
                  <a:pt x="65" y="82"/>
                </a:cubicBezTo>
                <a:cubicBezTo>
                  <a:pt x="65" y="73"/>
                  <a:pt x="71" y="67"/>
                  <a:pt x="80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248"/>
          <p:cNvSpPr/>
          <p:nvPr/>
        </p:nvSpPr>
        <p:spPr>
          <a:xfrm>
            <a:off x="8991720" y="2236680"/>
            <a:ext cx="428400" cy="425520"/>
          </a:xfrm>
          <a:custGeom>
            <a:avLst/>
            <a:gdLst/>
            <a:ahLst/>
            <a:rect l="l" t="t" r="r" b="b"/>
            <a:pathLst>
              <a:path w="151" h="149">
                <a:moveTo>
                  <a:pt x="151" y="114"/>
                </a:moveTo>
                <a:cubicBezTo>
                  <a:pt x="124" y="87"/>
                  <a:pt x="124" y="87"/>
                  <a:pt x="124" y="87"/>
                </a:cubicBezTo>
                <a:cubicBezTo>
                  <a:pt x="128" y="80"/>
                  <a:pt x="130" y="74"/>
                  <a:pt x="130" y="67"/>
                </a:cubicBezTo>
                <a:cubicBezTo>
                  <a:pt x="130" y="33"/>
                  <a:pt x="97" y="0"/>
                  <a:pt x="62" y="0"/>
                </a:cubicBezTo>
                <a:cubicBezTo>
                  <a:pt x="62" y="0"/>
                  <a:pt x="58" y="4"/>
                  <a:pt x="56" y="6"/>
                </a:cubicBezTo>
                <a:cubicBezTo>
                  <a:pt x="84" y="34"/>
                  <a:pt x="82" y="29"/>
                  <a:pt x="82" y="46"/>
                </a:cubicBezTo>
                <a:cubicBezTo>
                  <a:pt x="82" y="60"/>
                  <a:pt x="60" y="81"/>
                  <a:pt x="46" y="81"/>
                </a:cubicBezTo>
                <a:cubicBezTo>
                  <a:pt x="29" y="81"/>
                  <a:pt x="34" y="84"/>
                  <a:pt x="6" y="56"/>
                </a:cubicBezTo>
                <a:cubicBezTo>
                  <a:pt x="4" y="58"/>
                  <a:pt x="0" y="62"/>
                  <a:pt x="0" y="62"/>
                </a:cubicBezTo>
                <a:cubicBezTo>
                  <a:pt x="1" y="97"/>
                  <a:pt x="33" y="130"/>
                  <a:pt x="67" y="130"/>
                </a:cubicBezTo>
                <a:cubicBezTo>
                  <a:pt x="74" y="130"/>
                  <a:pt x="80" y="128"/>
                  <a:pt x="87" y="124"/>
                </a:cubicBezTo>
                <a:cubicBezTo>
                  <a:pt x="111" y="149"/>
                  <a:pt x="111" y="149"/>
                  <a:pt x="111" y="149"/>
                </a:cubicBezTo>
                <a:cubicBezTo>
                  <a:pt x="113" y="148"/>
                  <a:pt x="115" y="148"/>
                  <a:pt x="117" y="148"/>
                </a:cubicBezTo>
                <a:lnTo>
                  <a:pt x="151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249"/>
          <p:cNvSpPr/>
          <p:nvPr/>
        </p:nvSpPr>
        <p:spPr>
          <a:xfrm>
            <a:off x="9045720" y="2236680"/>
            <a:ext cx="809640" cy="819360"/>
          </a:xfrm>
          <a:custGeom>
            <a:avLst/>
            <a:gdLst/>
            <a:ahLst/>
            <a:rect l="l" t="t" r="r" b="b"/>
            <a:pathLst>
              <a:path w="285" h="289">
                <a:moveTo>
                  <a:pt x="240" y="172"/>
                </a:moveTo>
                <a:cubicBezTo>
                  <a:pt x="259" y="190"/>
                  <a:pt x="259" y="190"/>
                  <a:pt x="259" y="190"/>
                </a:cubicBezTo>
                <a:cubicBezTo>
                  <a:pt x="259" y="190"/>
                  <a:pt x="285" y="117"/>
                  <a:pt x="254" y="86"/>
                </a:cubicBezTo>
                <a:cubicBezTo>
                  <a:pt x="242" y="74"/>
                  <a:pt x="226" y="58"/>
                  <a:pt x="213" y="45"/>
                </a:cubicBezTo>
                <a:cubicBezTo>
                  <a:pt x="210" y="42"/>
                  <a:pt x="202" y="44"/>
                  <a:pt x="200" y="42"/>
                </a:cubicBezTo>
                <a:cubicBezTo>
                  <a:pt x="194" y="34"/>
                  <a:pt x="192" y="27"/>
                  <a:pt x="191" y="26"/>
                </a:cubicBezTo>
                <a:cubicBezTo>
                  <a:pt x="190" y="20"/>
                  <a:pt x="184" y="14"/>
                  <a:pt x="178" y="9"/>
                </a:cubicBezTo>
                <a:cubicBezTo>
                  <a:pt x="177" y="7"/>
                  <a:pt x="177" y="7"/>
                  <a:pt x="177" y="7"/>
                </a:cubicBezTo>
                <a:cubicBezTo>
                  <a:pt x="172" y="2"/>
                  <a:pt x="170" y="0"/>
                  <a:pt x="167" y="0"/>
                </a:cubicBezTo>
                <a:cubicBezTo>
                  <a:pt x="165" y="0"/>
                  <a:pt x="163" y="2"/>
                  <a:pt x="159" y="6"/>
                </a:cubicBezTo>
                <a:cubicBezTo>
                  <a:pt x="133" y="31"/>
                  <a:pt x="133" y="31"/>
                  <a:pt x="133" y="31"/>
                </a:cubicBezTo>
                <a:cubicBezTo>
                  <a:pt x="124" y="40"/>
                  <a:pt x="126" y="41"/>
                  <a:pt x="134" y="49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42" y="57"/>
                  <a:pt x="149" y="64"/>
                  <a:pt x="155" y="64"/>
                </a:cubicBezTo>
                <a:cubicBezTo>
                  <a:pt x="156" y="64"/>
                  <a:pt x="156" y="64"/>
                  <a:pt x="156" y="64"/>
                </a:cubicBezTo>
                <a:cubicBezTo>
                  <a:pt x="161" y="65"/>
                  <a:pt x="172" y="68"/>
                  <a:pt x="177" y="77"/>
                </a:cubicBezTo>
                <a:cubicBezTo>
                  <a:pt x="182" y="89"/>
                  <a:pt x="174" y="97"/>
                  <a:pt x="171" y="102"/>
                </a:cubicBezTo>
                <a:cubicBezTo>
                  <a:pt x="104" y="169"/>
                  <a:pt x="104" y="169"/>
                  <a:pt x="104" y="169"/>
                </a:cubicBezTo>
                <a:cubicBezTo>
                  <a:pt x="102" y="168"/>
                  <a:pt x="100" y="168"/>
                  <a:pt x="98" y="168"/>
                </a:cubicBezTo>
                <a:cubicBezTo>
                  <a:pt x="94" y="168"/>
                  <a:pt x="91" y="169"/>
                  <a:pt x="88" y="172"/>
                </a:cubicBezTo>
                <a:cubicBezTo>
                  <a:pt x="87" y="172"/>
                  <a:pt x="87" y="173"/>
                  <a:pt x="86" y="174"/>
                </a:cubicBezTo>
                <a:cubicBezTo>
                  <a:pt x="86" y="174"/>
                  <a:pt x="30" y="229"/>
                  <a:pt x="16" y="244"/>
                </a:cubicBezTo>
                <a:cubicBezTo>
                  <a:pt x="15" y="245"/>
                  <a:pt x="14" y="245"/>
                  <a:pt x="14" y="246"/>
                </a:cubicBezTo>
                <a:cubicBezTo>
                  <a:pt x="0" y="259"/>
                  <a:pt x="25" y="289"/>
                  <a:pt x="43" y="289"/>
                </a:cubicBezTo>
                <a:cubicBezTo>
                  <a:pt x="47" y="289"/>
                  <a:pt x="50" y="288"/>
                  <a:pt x="53" y="285"/>
                </a:cubicBezTo>
                <a:cubicBezTo>
                  <a:pt x="54" y="285"/>
                  <a:pt x="54" y="284"/>
                  <a:pt x="55" y="283"/>
                </a:cubicBezTo>
                <a:cubicBezTo>
                  <a:pt x="70" y="268"/>
                  <a:pt x="125" y="213"/>
                  <a:pt x="125" y="213"/>
                </a:cubicBezTo>
                <a:cubicBezTo>
                  <a:pt x="126" y="212"/>
                  <a:pt x="127" y="212"/>
                  <a:pt x="127" y="211"/>
                </a:cubicBezTo>
                <a:cubicBezTo>
                  <a:pt x="131" y="207"/>
                  <a:pt x="132" y="201"/>
                  <a:pt x="130" y="195"/>
                </a:cubicBezTo>
                <a:cubicBezTo>
                  <a:pt x="205" y="120"/>
                  <a:pt x="205" y="120"/>
                  <a:pt x="205" y="120"/>
                </a:cubicBezTo>
                <a:cubicBezTo>
                  <a:pt x="210" y="116"/>
                  <a:pt x="215" y="112"/>
                  <a:pt x="217" y="112"/>
                </a:cubicBezTo>
                <a:cubicBezTo>
                  <a:pt x="218" y="112"/>
                  <a:pt x="218" y="112"/>
                  <a:pt x="218" y="112"/>
                </a:cubicBezTo>
                <a:cubicBezTo>
                  <a:pt x="246" y="128"/>
                  <a:pt x="240" y="172"/>
                  <a:pt x="240" y="1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15"/>
          <p:cNvSpPr/>
          <p:nvPr/>
        </p:nvSpPr>
        <p:spPr>
          <a:xfrm>
            <a:off x="1055520" y="4694400"/>
            <a:ext cx="150840" cy="276120"/>
          </a:xfrm>
          <a:custGeom>
            <a:avLst/>
            <a:gdLst/>
            <a:ahLst/>
            <a:rect l="l" t="t" r="r" b="b"/>
            <a:pathLst>
              <a:path w="159" h="287">
                <a:moveTo>
                  <a:pt x="159" y="80"/>
                </a:moveTo>
                <a:cubicBezTo>
                  <a:pt x="159" y="80"/>
                  <a:pt x="159" y="80"/>
                  <a:pt x="159" y="80"/>
                </a:cubicBezTo>
                <a:cubicBezTo>
                  <a:pt x="159" y="80"/>
                  <a:pt x="159" y="80"/>
                  <a:pt x="159" y="80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3" y="80"/>
                  <a:pt x="143" y="80"/>
                  <a:pt x="143" y="80"/>
                </a:cubicBezTo>
                <a:cubicBezTo>
                  <a:pt x="143" y="208"/>
                  <a:pt x="143" y="208"/>
                  <a:pt x="143" y="208"/>
                </a:cubicBezTo>
                <a:cubicBezTo>
                  <a:pt x="143" y="208"/>
                  <a:pt x="143" y="208"/>
                  <a:pt x="143" y="208"/>
                </a:cubicBezTo>
                <a:cubicBezTo>
                  <a:pt x="143" y="208"/>
                  <a:pt x="143" y="208"/>
                  <a:pt x="143" y="208"/>
                </a:cubicBezTo>
                <a:cubicBezTo>
                  <a:pt x="143" y="243"/>
                  <a:pt x="114" y="271"/>
                  <a:pt x="79" y="271"/>
                </a:cubicBezTo>
                <a:cubicBezTo>
                  <a:pt x="45" y="271"/>
                  <a:pt x="16" y="243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37"/>
                  <a:pt x="37" y="16"/>
                  <a:pt x="62" y="16"/>
                </a:cubicBezTo>
                <a:cubicBezTo>
                  <a:pt x="88" y="16"/>
                  <a:pt x="109" y="37"/>
                  <a:pt x="109" y="62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09" y="101"/>
                  <a:pt x="109" y="207"/>
                  <a:pt x="109" y="207"/>
                </a:cubicBezTo>
                <a:cubicBezTo>
                  <a:pt x="109" y="207"/>
                  <a:pt x="109" y="207"/>
                  <a:pt x="109" y="207"/>
                </a:cubicBezTo>
                <a:cubicBezTo>
                  <a:pt x="109" y="207"/>
                  <a:pt x="109" y="207"/>
                  <a:pt x="109" y="207"/>
                </a:cubicBezTo>
                <a:cubicBezTo>
                  <a:pt x="109" y="207"/>
                  <a:pt x="109" y="207"/>
                  <a:pt x="109" y="208"/>
                </a:cubicBezTo>
                <a:cubicBezTo>
                  <a:pt x="109" y="208"/>
                  <a:pt x="109" y="208"/>
                  <a:pt x="109" y="208"/>
                </a:cubicBezTo>
                <a:cubicBezTo>
                  <a:pt x="109" y="209"/>
                  <a:pt x="109" y="209"/>
                  <a:pt x="109" y="209"/>
                </a:cubicBezTo>
                <a:cubicBezTo>
                  <a:pt x="109" y="209"/>
                  <a:pt x="109" y="209"/>
                  <a:pt x="109" y="209"/>
                </a:cubicBezTo>
                <a:cubicBezTo>
                  <a:pt x="109" y="210"/>
                  <a:pt x="109" y="210"/>
                  <a:pt x="109" y="210"/>
                </a:cubicBezTo>
                <a:cubicBezTo>
                  <a:pt x="109" y="209"/>
                  <a:pt x="109" y="209"/>
                  <a:pt x="109" y="209"/>
                </a:cubicBezTo>
                <a:cubicBezTo>
                  <a:pt x="108" y="224"/>
                  <a:pt x="96" y="236"/>
                  <a:pt x="80" y="236"/>
                </a:cubicBezTo>
                <a:cubicBezTo>
                  <a:pt x="65" y="236"/>
                  <a:pt x="53" y="224"/>
                  <a:pt x="52" y="209"/>
                </a:cubicBezTo>
                <a:cubicBezTo>
                  <a:pt x="52" y="209"/>
                  <a:pt x="52" y="209"/>
                  <a:pt x="52" y="210"/>
                </a:cubicBezTo>
                <a:cubicBezTo>
                  <a:pt x="52" y="208"/>
                  <a:pt x="52" y="208"/>
                  <a:pt x="52" y="208"/>
                </a:cubicBezTo>
                <a:cubicBezTo>
                  <a:pt x="52" y="208"/>
                  <a:pt x="52" y="208"/>
                  <a:pt x="52" y="208"/>
                </a:cubicBezTo>
                <a:cubicBezTo>
                  <a:pt x="52" y="208"/>
                  <a:pt x="52" y="208"/>
                  <a:pt x="52" y="208"/>
                </a:cubicBezTo>
                <a:cubicBezTo>
                  <a:pt x="52" y="207"/>
                  <a:pt x="52" y="207"/>
                  <a:pt x="52" y="207"/>
                </a:cubicBezTo>
                <a:cubicBezTo>
                  <a:pt x="52" y="80"/>
                  <a:pt x="52" y="80"/>
                  <a:pt x="52" y="80"/>
                </a:cubicBezTo>
                <a:cubicBezTo>
                  <a:pt x="36" y="80"/>
                  <a:pt x="36" y="80"/>
                  <a:pt x="36" y="80"/>
                </a:cubicBezTo>
                <a:cubicBezTo>
                  <a:pt x="36" y="207"/>
                  <a:pt x="36" y="207"/>
                  <a:pt x="36" y="207"/>
                </a:cubicBezTo>
                <a:cubicBezTo>
                  <a:pt x="36" y="207"/>
                  <a:pt x="36" y="208"/>
                  <a:pt x="36" y="208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6" y="210"/>
                  <a:pt x="36" y="210"/>
                  <a:pt x="36" y="210"/>
                </a:cubicBezTo>
                <a:cubicBezTo>
                  <a:pt x="36" y="210"/>
                  <a:pt x="36" y="210"/>
                  <a:pt x="36" y="210"/>
                </a:cubicBezTo>
                <a:cubicBezTo>
                  <a:pt x="37" y="233"/>
                  <a:pt x="57" y="252"/>
                  <a:pt x="80" y="252"/>
                </a:cubicBezTo>
                <a:cubicBezTo>
                  <a:pt x="104" y="252"/>
                  <a:pt x="124" y="233"/>
                  <a:pt x="125" y="210"/>
                </a:cubicBezTo>
                <a:cubicBezTo>
                  <a:pt x="125" y="210"/>
                  <a:pt x="125" y="210"/>
                  <a:pt x="125" y="210"/>
                </a:cubicBezTo>
                <a:cubicBezTo>
                  <a:pt x="125" y="209"/>
                  <a:pt x="125" y="209"/>
                  <a:pt x="125" y="209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125" y="207"/>
                  <a:pt x="125" y="207"/>
                  <a:pt x="125" y="20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62"/>
                  <a:pt x="125" y="62"/>
                  <a:pt x="125" y="62"/>
                </a:cubicBezTo>
                <a:cubicBezTo>
                  <a:pt x="125" y="62"/>
                  <a:pt x="125" y="62"/>
                  <a:pt x="125" y="62"/>
                </a:cubicBezTo>
                <a:cubicBezTo>
                  <a:pt x="125" y="62"/>
                  <a:pt x="125" y="62"/>
                  <a:pt x="125" y="62"/>
                </a:cubicBez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1" y="253"/>
                  <a:pt x="36" y="287"/>
                  <a:pt x="79" y="287"/>
                </a:cubicBezTo>
                <a:cubicBezTo>
                  <a:pt x="123" y="287"/>
                  <a:pt x="158" y="252"/>
                  <a:pt x="159" y="208"/>
                </a:cubicBezTo>
                <a:cubicBezTo>
                  <a:pt x="159" y="208"/>
                  <a:pt x="159" y="208"/>
                  <a:pt x="159" y="208"/>
                </a:cubicBezTo>
                <a:cubicBezTo>
                  <a:pt x="159" y="208"/>
                  <a:pt x="159" y="208"/>
                  <a:pt x="159" y="208"/>
                </a:cubicBezTo>
                <a:cubicBezTo>
                  <a:pt x="159" y="207"/>
                  <a:pt x="159" y="207"/>
                  <a:pt x="159" y="207"/>
                </a:cubicBezTo>
                <a:cubicBezTo>
                  <a:pt x="159" y="207"/>
                  <a:pt x="159" y="207"/>
                  <a:pt x="159" y="207"/>
                </a:cubicBezTo>
                <a:lnTo>
                  <a:pt x="159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304"/>
          <p:cNvSpPr/>
          <p:nvPr/>
        </p:nvSpPr>
        <p:spPr>
          <a:xfrm>
            <a:off x="1003320" y="3824280"/>
            <a:ext cx="285840" cy="287280"/>
          </a:xfrm>
          <a:custGeom>
            <a:avLst/>
            <a:gdLst/>
            <a:ahLst/>
            <a:rect l="l" t="t" r="r" b="b"/>
            <a:pathLst>
              <a:path w="297" h="297">
                <a:moveTo>
                  <a:pt x="293" y="232"/>
                </a:moveTo>
                <a:cubicBezTo>
                  <a:pt x="230" y="195"/>
                  <a:pt x="230" y="195"/>
                  <a:pt x="230" y="195"/>
                </a:cubicBezTo>
                <a:cubicBezTo>
                  <a:pt x="227" y="193"/>
                  <a:pt x="222" y="194"/>
                  <a:pt x="220" y="196"/>
                </a:cubicBezTo>
                <a:cubicBezTo>
                  <a:pt x="201" y="215"/>
                  <a:pt x="201" y="215"/>
                  <a:pt x="201" y="215"/>
                </a:cubicBezTo>
                <a:cubicBezTo>
                  <a:pt x="198" y="217"/>
                  <a:pt x="193" y="220"/>
                  <a:pt x="190" y="220"/>
                </a:cubicBezTo>
                <a:cubicBezTo>
                  <a:pt x="190" y="220"/>
                  <a:pt x="166" y="220"/>
                  <a:pt x="122" y="176"/>
                </a:cubicBezTo>
                <a:cubicBezTo>
                  <a:pt x="77" y="132"/>
                  <a:pt x="78" y="108"/>
                  <a:pt x="78" y="108"/>
                </a:cubicBezTo>
                <a:cubicBezTo>
                  <a:pt x="78" y="104"/>
                  <a:pt x="80" y="99"/>
                  <a:pt x="82" y="96"/>
                </a:cubicBezTo>
                <a:cubicBezTo>
                  <a:pt x="98" y="80"/>
                  <a:pt x="98" y="80"/>
                  <a:pt x="98" y="80"/>
                </a:cubicBezTo>
                <a:cubicBezTo>
                  <a:pt x="101" y="78"/>
                  <a:pt x="102" y="73"/>
                  <a:pt x="100" y="70"/>
                </a:cubicBezTo>
                <a:cubicBezTo>
                  <a:pt x="65" y="4"/>
                  <a:pt x="65" y="4"/>
                  <a:pt x="65" y="4"/>
                </a:cubicBezTo>
                <a:cubicBezTo>
                  <a:pt x="64" y="1"/>
                  <a:pt x="60" y="0"/>
                  <a:pt x="58" y="3"/>
                </a:cubicBezTo>
                <a:cubicBezTo>
                  <a:pt x="14" y="46"/>
                  <a:pt x="14" y="46"/>
                  <a:pt x="14" y="46"/>
                </a:cubicBezTo>
                <a:cubicBezTo>
                  <a:pt x="12" y="48"/>
                  <a:pt x="9" y="53"/>
                  <a:pt x="9" y="57"/>
                </a:cubicBezTo>
                <a:cubicBezTo>
                  <a:pt x="9" y="57"/>
                  <a:pt x="0" y="120"/>
                  <a:pt x="89" y="209"/>
                </a:cubicBezTo>
                <a:cubicBezTo>
                  <a:pt x="177" y="297"/>
                  <a:pt x="240" y="288"/>
                  <a:pt x="240" y="288"/>
                </a:cubicBezTo>
                <a:cubicBezTo>
                  <a:pt x="244" y="288"/>
                  <a:pt x="249" y="285"/>
                  <a:pt x="252" y="283"/>
                </a:cubicBezTo>
                <a:cubicBezTo>
                  <a:pt x="295" y="240"/>
                  <a:pt x="295" y="240"/>
                  <a:pt x="295" y="240"/>
                </a:cubicBezTo>
                <a:cubicBezTo>
                  <a:pt x="297" y="237"/>
                  <a:pt x="297" y="233"/>
                  <a:pt x="293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389"/>
          <p:cNvSpPr/>
          <p:nvPr/>
        </p:nvSpPr>
        <p:spPr>
          <a:xfrm>
            <a:off x="993600" y="5559480"/>
            <a:ext cx="276480" cy="24120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03" y="61"/>
                </a:moveTo>
                <a:lnTo>
                  <a:pt x="128" y="61"/>
                </a:lnTo>
                <a:lnTo>
                  <a:pt x="103" y="37"/>
                </a:lnTo>
                <a:lnTo>
                  <a:pt x="103" y="0"/>
                </a:lnTo>
                <a:lnTo>
                  <a:pt x="84" y="0"/>
                </a:lnTo>
                <a:lnTo>
                  <a:pt x="84" y="19"/>
                </a:lnTo>
                <a:lnTo>
                  <a:pt x="64" y="0"/>
                </a:lnTo>
                <a:lnTo>
                  <a:pt x="0" y="61"/>
                </a:lnTo>
                <a:lnTo>
                  <a:pt x="23" y="61"/>
                </a:lnTo>
                <a:lnTo>
                  <a:pt x="23" y="112"/>
                </a:lnTo>
                <a:lnTo>
                  <a:pt x="52" y="112"/>
                </a:lnTo>
                <a:lnTo>
                  <a:pt x="52" y="76"/>
                </a:lnTo>
                <a:lnTo>
                  <a:pt x="76" y="76"/>
                </a:lnTo>
                <a:lnTo>
                  <a:pt x="76" y="112"/>
                </a:lnTo>
                <a:lnTo>
                  <a:pt x="103" y="112"/>
                </a:lnTo>
                <a:lnTo>
                  <a:pt x="10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451"/>
          <p:cNvSpPr/>
          <p:nvPr/>
        </p:nvSpPr>
        <p:spPr>
          <a:xfrm>
            <a:off x="1003320" y="2975040"/>
            <a:ext cx="276120" cy="276120"/>
          </a:xfrm>
          <a:custGeom>
            <a:avLst/>
            <a:gdLst/>
            <a:ahLst/>
            <a:rect l="l" t="t" r="r" b="b"/>
            <a:pathLst>
              <a:path w="287" h="288">
                <a:moveTo>
                  <a:pt x="283" y="234"/>
                </a:moveTo>
                <a:cubicBezTo>
                  <a:pt x="247" y="208"/>
                  <a:pt x="247" y="208"/>
                  <a:pt x="247" y="208"/>
                </a:cubicBezTo>
                <a:cubicBezTo>
                  <a:pt x="136" y="96"/>
                  <a:pt x="136" y="96"/>
                  <a:pt x="136" y="96"/>
                </a:cubicBezTo>
                <a:cubicBezTo>
                  <a:pt x="140" y="89"/>
                  <a:pt x="142" y="81"/>
                  <a:pt x="142" y="74"/>
                </a:cubicBezTo>
                <a:cubicBezTo>
                  <a:pt x="142" y="37"/>
                  <a:pt x="106" y="0"/>
                  <a:pt x="68" y="0"/>
                </a:cubicBezTo>
                <a:cubicBezTo>
                  <a:pt x="68" y="0"/>
                  <a:pt x="64" y="5"/>
                  <a:pt x="61" y="7"/>
                </a:cubicBezTo>
                <a:cubicBezTo>
                  <a:pt x="92" y="37"/>
                  <a:pt x="89" y="32"/>
                  <a:pt x="89" y="51"/>
                </a:cubicBezTo>
                <a:cubicBezTo>
                  <a:pt x="89" y="66"/>
                  <a:pt x="65" y="90"/>
                  <a:pt x="50" y="90"/>
                </a:cubicBezTo>
                <a:cubicBezTo>
                  <a:pt x="31" y="90"/>
                  <a:pt x="37" y="93"/>
                  <a:pt x="6" y="62"/>
                </a:cubicBezTo>
                <a:cubicBezTo>
                  <a:pt x="4" y="65"/>
                  <a:pt x="0" y="69"/>
                  <a:pt x="0" y="69"/>
                </a:cubicBezTo>
                <a:cubicBezTo>
                  <a:pt x="0" y="107"/>
                  <a:pt x="36" y="143"/>
                  <a:pt x="74" y="143"/>
                </a:cubicBezTo>
                <a:cubicBezTo>
                  <a:pt x="80" y="143"/>
                  <a:pt x="88" y="141"/>
                  <a:pt x="95" y="137"/>
                </a:cubicBezTo>
                <a:cubicBezTo>
                  <a:pt x="207" y="249"/>
                  <a:pt x="207" y="249"/>
                  <a:pt x="207" y="249"/>
                </a:cubicBezTo>
                <a:cubicBezTo>
                  <a:pt x="233" y="284"/>
                  <a:pt x="233" y="284"/>
                  <a:pt x="233" y="284"/>
                </a:cubicBezTo>
                <a:cubicBezTo>
                  <a:pt x="247" y="288"/>
                  <a:pt x="247" y="288"/>
                  <a:pt x="247" y="288"/>
                </a:cubicBezTo>
                <a:cubicBezTo>
                  <a:pt x="287" y="249"/>
                  <a:pt x="287" y="249"/>
                  <a:pt x="287" y="249"/>
                </a:cubicBezTo>
                <a:lnTo>
                  <a:pt x="283" y="234"/>
                </a:lnTo>
                <a:close/>
                <a:moveTo>
                  <a:pt x="244" y="261"/>
                </a:moveTo>
                <a:cubicBezTo>
                  <a:pt x="234" y="261"/>
                  <a:pt x="227" y="254"/>
                  <a:pt x="227" y="244"/>
                </a:cubicBezTo>
                <a:cubicBezTo>
                  <a:pt x="227" y="235"/>
                  <a:pt x="234" y="228"/>
                  <a:pt x="244" y="228"/>
                </a:cubicBezTo>
                <a:cubicBezTo>
                  <a:pt x="253" y="228"/>
                  <a:pt x="260" y="235"/>
                  <a:pt x="260" y="244"/>
                </a:cubicBezTo>
                <a:cubicBezTo>
                  <a:pt x="260" y="254"/>
                  <a:pt x="253" y="261"/>
                  <a:pt x="244" y="2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158904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1592280" y="316692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1589040" y="36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1592280" y="397836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1589040" y="459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1592280" y="488484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13"/>
          <p:cNvSpPr/>
          <p:nvPr/>
        </p:nvSpPr>
        <p:spPr>
          <a:xfrm>
            <a:off x="1589040" y="5429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1592280" y="5715000"/>
            <a:ext cx="393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矩形 29"/>
          <p:cNvSpPr/>
          <p:nvPr/>
        </p:nvSpPr>
        <p:spPr>
          <a:xfrm>
            <a:off x="-9360" y="209520"/>
            <a:ext cx="142560" cy="4953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0"/>
          <p:cNvSpPr/>
          <p:nvPr/>
        </p:nvSpPr>
        <p:spPr>
          <a:xfrm>
            <a:off x="227160" y="22716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725" h="1644650">
                <a:moveTo>
                  <a:pt x="0" y="822325"/>
                </a:moveTo>
                <a:cubicBezTo>
                  <a:pt x="0" y="368167"/>
                  <a:pt x="360349" y="0"/>
                  <a:pt x="804863" y="0"/>
                </a:cubicBezTo>
                <a:lnTo>
                  <a:pt x="1609725" y="0"/>
                </a:lnTo>
                <a:lnTo>
                  <a:pt x="1609725" y="822325"/>
                </a:lnTo>
                <a:cubicBezTo>
                  <a:pt x="1609725" y="1276483"/>
                  <a:pt x="1249376" y="1644650"/>
                  <a:pt x="804862" y="1644650"/>
                </a:cubicBezTo>
                <a:cubicBezTo>
                  <a:pt x="360348" y="1644650"/>
                  <a:pt x="-1" y="1276483"/>
                  <a:pt x="-1" y="822325"/>
                </a:cubicBezTo>
                <a:lnTo>
                  <a:pt x="0" y="822325"/>
                </a:lnTo>
                <a:close/>
              </a:path>
            </a:pathLst>
          </a:cu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650" h="1609725">
                <a:moveTo>
                  <a:pt x="0" y="804863"/>
                </a:moveTo>
                <a:cubicBezTo>
                  <a:pt x="0" y="360349"/>
                  <a:pt x="368167" y="0"/>
                  <a:pt x="822325" y="0"/>
                </a:cubicBezTo>
                <a:lnTo>
                  <a:pt x="1644650" y="0"/>
                </a:lnTo>
                <a:lnTo>
                  <a:pt x="1644650" y="804863"/>
                </a:lnTo>
                <a:cubicBezTo>
                  <a:pt x="1644650" y="1249377"/>
                  <a:pt x="1276483" y="1609726"/>
                  <a:pt x="822325" y="1609726"/>
                </a:cubicBezTo>
                <a:cubicBezTo>
                  <a:pt x="368167" y="1609726"/>
                  <a:pt x="0" y="1249377"/>
                  <a:pt x="0" y="804863"/>
                </a:cubicBezTo>
                <a:close/>
              </a:path>
            </a:pathLst>
          </a:cu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650" h="1609725">
                <a:moveTo>
                  <a:pt x="0" y="804863"/>
                </a:moveTo>
                <a:cubicBezTo>
                  <a:pt x="0" y="360349"/>
                  <a:pt x="368167" y="0"/>
                  <a:pt x="822325" y="0"/>
                </a:cubicBezTo>
                <a:lnTo>
                  <a:pt x="1644650" y="0"/>
                </a:lnTo>
                <a:lnTo>
                  <a:pt x="1644650" y="804863"/>
                </a:lnTo>
                <a:cubicBezTo>
                  <a:pt x="1644650" y="1249377"/>
                  <a:pt x="1276483" y="1609726"/>
                  <a:pt x="822325" y="1609726"/>
                </a:cubicBezTo>
                <a:cubicBezTo>
                  <a:pt x="368167" y="1609726"/>
                  <a:pt x="0" y="1249377"/>
                  <a:pt x="0" y="804863"/>
                </a:cubicBezTo>
                <a:close/>
              </a:path>
            </a:pathLst>
          </a:cu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725" h="1644650">
                <a:moveTo>
                  <a:pt x="0" y="822325"/>
                </a:moveTo>
                <a:cubicBezTo>
                  <a:pt x="0" y="368167"/>
                  <a:pt x="360349" y="0"/>
                  <a:pt x="804863" y="0"/>
                </a:cubicBezTo>
                <a:lnTo>
                  <a:pt x="1609725" y="0"/>
                </a:lnTo>
                <a:lnTo>
                  <a:pt x="1609725" y="822325"/>
                </a:lnTo>
                <a:cubicBezTo>
                  <a:pt x="1609725" y="1276483"/>
                  <a:pt x="1249376" y="1644650"/>
                  <a:pt x="804862" y="1644650"/>
                </a:cubicBezTo>
                <a:cubicBezTo>
                  <a:pt x="360348" y="1644650"/>
                  <a:pt x="-1" y="1276483"/>
                  <a:pt x="-1" y="822325"/>
                </a:cubicBezTo>
                <a:lnTo>
                  <a:pt x="0" y="822325"/>
                </a:lnTo>
                <a:close/>
              </a:path>
            </a:pathLst>
          </a:cu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a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b6d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f28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fad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4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f7f7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3"/>
          <p:cNvSpPr/>
          <p:nvPr/>
        </p:nvSpPr>
        <p:spPr>
          <a:xfrm>
            <a:off x="4932360" y="2249640"/>
            <a:ext cx="7259760" cy="2582640"/>
          </a:xfrm>
          <a:prstGeom prst="rect">
            <a:avLst/>
          </a:prstGeom>
          <a:solidFill>
            <a:srgbClr val="dce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8"/>
          <p:cNvSpPr/>
          <p:nvPr/>
        </p:nvSpPr>
        <p:spPr>
          <a:xfrm>
            <a:off x="2092320" y="1752480"/>
            <a:ext cx="3824280" cy="3824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11"/>
          <p:cNvGrpSpPr/>
          <p:nvPr/>
        </p:nvGrpSpPr>
        <p:grpSpPr>
          <a:xfrm>
            <a:off x="5916600" y="2579760"/>
            <a:ext cx="6647040" cy="1667160"/>
            <a:chOff x="5916600" y="2579760"/>
            <a:chExt cx="6647040" cy="1667160"/>
          </a:xfrm>
        </p:grpSpPr>
        <p:sp>
          <p:nvSpPr>
            <p:cNvPr id="680" name="文本框 8"/>
            <p:cNvSpPr/>
            <p:nvPr/>
          </p:nvSpPr>
          <p:spPr>
            <a:xfrm>
              <a:off x="5916600" y="2579760"/>
              <a:ext cx="613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02 </a:t>
              </a:r>
              <a:r>
                <a:rPr b="1" lang="zh-CN" sz="5400" spc="-1" strike="noStrike">
                  <a:solidFill>
                    <a:srgbClr val="ed7d31"/>
                  </a:solidFill>
                  <a:latin typeface="微软雅黑"/>
                  <a:ea typeface="微软雅黑"/>
                </a:rPr>
                <a:t>请添加文本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文本框 9"/>
            <p:cNvSpPr/>
            <p:nvPr/>
          </p:nvSpPr>
          <p:spPr>
            <a:xfrm>
              <a:off x="7154640" y="3665520"/>
              <a:ext cx="54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直接连接符 10"/>
            <p:cNvSpPr/>
            <p:nvPr/>
          </p:nvSpPr>
          <p:spPr>
            <a:xfrm>
              <a:off x="6095880" y="3567240"/>
              <a:ext cx="5858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3" name="图片 2" descr=""/>
          <p:cNvPicPr/>
          <p:nvPr/>
        </p:nvPicPr>
        <p:blipFill>
          <a:blip r:embed="rId1"/>
          <a:stretch/>
        </p:blipFill>
        <p:spPr>
          <a:xfrm>
            <a:off x="2271600" y="2538360"/>
            <a:ext cx="3824280" cy="2665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2T03:32:16Z</dcterms:created>
  <dc:creator/>
  <dc:description>www.33ppt.com</dc:description>
  <cp:keywords>588</cp:keywords>
  <dc:language>en-US</dc:language>
  <cp:lastModifiedBy/>
  <dcterms:modified xsi:type="dcterms:W3CDTF">2018-06-07T06:29:33Z</dcterms:modified>
  <cp:revision>1</cp:revision>
  <dc:subject>www.33ppt.com</dc:subject>
  <dc:title>588</dc:title>
</cp:coreProperties>
</file>