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414-9018-4CD4-9258-0D114428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6CB-7FEB-4CF7-92AC-C1693F50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EA6-4D1D-42D5-8A5B-455A063D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02C-41AA-45C9-9F7C-717E0050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72F-7EA0-4111-BB36-58160520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530-DD3A-412D-BA12-59DC56BC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C21-8938-47B4-94D4-B8A6A0A4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DE9-B404-40C9-A361-C41A5491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23D-0AAD-42FD-A8B5-592B2D15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0C3-1076-4FAC-9D06-4BE6B8D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845-C7BA-4B08-A709-0FF1649B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82E-1350-47E6-95D9-CA351E1E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09EA-CF50-46D3-8032-A9B338FED46C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F82D-8443-4FF6-8859-9CB146EA2A8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560520"/>
            <a:chOff x="2916360" y="1522440"/>
            <a:chExt cx="1206360" cy="56052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60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85184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104472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曹阳</cp:lastModifiedBy>
  <dcterms:modified xsi:type="dcterms:W3CDTF">2016-09-28T09:19:59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